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28F-949E-4F37-AB59-024FB525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B22-CB24-4BAB-AE7B-79D5439F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D49-CA99-4E08-958D-430A3D16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949-C4A6-4F8C-A187-634F3851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71AC-53AC-4519-B3F3-3C72FBD5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EF17-8E7F-42FC-8CBC-1B8B0CDD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F812-B754-42D3-BA61-85A72330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9A33-BA4F-45E9-A8FF-F3BDA145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17D3-6F03-45E4-BB73-7B824428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EC7F-2FEF-4BDD-959A-BE689034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7F4A-2BF4-4396-BA03-F4411755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299-5E71-4D3F-9E50-1EDB9C45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3B1E-5F22-46B8-9D5C-36AFB4C3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4830-E5B8-47BB-B557-14CEE56C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D803-0C09-4ED5-8387-89E106F5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6C7F-94F4-4393-AEF3-6642FD3C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821F-33EA-4ED7-86E2-3AF4C4A8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31F-C258-454A-A70C-25359EAB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687-B227-4C18-BA23-B813F372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1A9-6AF2-4EE5-ABD4-47DB8B39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B935-5664-4BF1-AF67-EAFB68D1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FE7-FC4D-4F5C-86F0-060221E7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205-FA2D-4F0C-A45E-E84B50AB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DBA-1A70-4D5B-BC8A-A5A06F94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5E4C-EDF6-4BEC-B742-0662EC707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98FD-87AF-4CF6-97C2-9E7671BAFC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12.com.cn/teacher/resource/sucai/scinfo.php3?id=13467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12.com.cn/teacher/resource/sucai/scinfo.php3?id=13450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鲁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矩形 1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8993160" cy="74448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BJ_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762120" y="5335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5562720" y="1523880"/>
            <a:ext cx="1371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　蝉　　　　黄蜂　　　　叫天子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  <a:ea typeface="华文楷体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211640" y="1628640"/>
            <a:ext cx="446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鸣　　　　　　　　　　长 吟　　　　　　　　　　　　　　　肥胖　　　　　　　　　  伏　　　　　　　　　　　　　　　　　　　　　　　　　　　　　轻捷　　　　　　　　　  窜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80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也不必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8" descr="图片3"/>
          <p:cNvPicPr/>
          <p:nvPr/>
        </p:nvPicPr>
        <p:blipFill>
          <a:blip r:embed="rId1"/>
          <a:stretch/>
        </p:blipFill>
        <p:spPr>
          <a:xfrm>
            <a:off x="0" y="-439560"/>
            <a:ext cx="9361440" cy="8777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380880" y="6858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ff"/>
                </a:solidFill>
                <a:latin typeface="Times New Roman"/>
              </a:rPr>
              <a:t>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843280" y="1125360"/>
            <a:ext cx="240984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油蛉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蟋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蜈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斑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019920" y="1066680"/>
            <a:ext cx="1463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Times New Roman"/>
              </a:rPr>
              <a:t>何首乌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Times New Roman"/>
              </a:rPr>
              <a:t>木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Times New Roman"/>
              </a:rPr>
              <a:t>覆盆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0" y="251460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单是 泥墙根一代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有无限趣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2" descr="BJ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380880" y="6858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冬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800600" y="9907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66"/>
                </a:solidFill>
                <a:latin typeface="Times New Roman"/>
              </a:rPr>
              <a:t>捕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676520" y="2666880"/>
            <a:ext cx="67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（     ）开一块雪，（   ）出地面，用短棒（  ）起一面竹筛，下面（  ）些秕谷，棒上（  ）一条长绳，人远远地（ ）着， （ ）鸟雀下来（ ）食，（ ）到竹筛底下的时候，将绳子一（ ），便（ ）住了。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2" descr="Cre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0" y="1295280"/>
          <a:ext cx="9144000" cy="6238800"/>
        </p:xfrm>
        <a:graphic>
          <a:graphicData uri="http://schemas.openxmlformats.org/drawingml/2006/table">
            <a:tbl>
              <a:tblPr/>
              <a:tblGrid>
                <a:gridCol w="4627440"/>
                <a:gridCol w="4516560"/>
              </a:tblGrid>
              <a:tr h="3206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3333cc"/>
                          </a:solidFill>
                          <a:latin typeface="Times New Roman"/>
                          <a:ea typeface="华文行楷"/>
                        </a:rPr>
                        <a:t>冬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4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捕鸟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cc99"/>
                          </a:solidFill>
                          <a:latin typeface="Times New Roman"/>
                          <a:ea typeface="华文行楷"/>
                        </a:rPr>
                        <a:t>春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zh-CN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菜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zh-CN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石井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zh-CN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皂荚树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0" lang="zh-CN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桑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不必说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7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9966"/>
                          </a:solidFill>
                          <a:latin typeface="Times New Roman"/>
                          <a:ea typeface="华文行楷"/>
                        </a:rPr>
                        <a:t>秋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（   单是  就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24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油蛉  何首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zh-CN" sz="24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蟋蟀  木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zh-CN" sz="24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蜈蚣  覆盆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zh-CN" sz="24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斑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3300"/>
                          </a:solidFill>
                          <a:latin typeface="Times New Roman"/>
                          <a:ea typeface="华文行楷"/>
                        </a:rPr>
                        <a:t>夏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（也不必说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zh-CN" sz="32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鸣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zh-CN" sz="32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黄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zh-CN" sz="32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叫天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3352680" y="38088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幼圆"/>
              </a:rPr>
              <a:t>我的乐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文本框 8199"/>
          <p:cNvSpPr/>
          <p:nvPr/>
        </p:nvSpPr>
        <p:spPr>
          <a:xfrm>
            <a:off x="2411280" y="18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zh-CN" sz="5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"/>
              </a:rPr>
              <a:t>鲁迅的塾师寿镜吾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先生是一位极方正、质朴、博学的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4574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shoujingwu"/>
          <p:cNvPicPr/>
          <p:nvPr/>
        </p:nvPicPr>
        <p:blipFill>
          <a:blip r:embed="rId2"/>
          <a:stretch/>
        </p:blipFill>
        <p:spPr>
          <a:xfrm>
            <a:off x="4648320" y="1871640"/>
            <a:ext cx="38098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7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7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66F4-21D5-4099-8A2E-CD37BF602A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2" descr="BJ_0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1143000" y="7621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幼圆"/>
              </a:rPr>
              <a:t>作业布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484360" y="2205000"/>
            <a:ext cx="556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熟读课文第二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完成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学法指导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练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9"/>
          <p:cNvSpPr/>
          <p:nvPr/>
        </p:nvSpPr>
        <p:spPr>
          <a:xfrm>
            <a:off x="6184800" y="278136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鲁 迅 简 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幼圆"/>
              </a:rPr>
              <a:t>鲁迅（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幼圆"/>
              </a:rPr>
              <a:t>1881——1936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幼圆"/>
              </a:rPr>
              <a:t>）原名周树人，字豫才，浙江绍兴人，现代伟大的文学家、思想家、革命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14784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鲁迅在1909年"/>
          <p:cNvPicPr/>
          <p:nvPr/>
        </p:nvPicPr>
        <p:blipFill>
          <a:blip r:embed="rId1"/>
          <a:stretch/>
        </p:blipFill>
        <p:spPr>
          <a:xfrm>
            <a:off x="4876920" y="1981080"/>
            <a:ext cx="3276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幼圆"/>
              </a:rPr>
              <a:t>鲁 迅 简 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ccccff"/>
                </a:solidFill>
                <a:uFillTx/>
                <a:latin typeface="Times New Roman"/>
                <a:ea typeface="幼圆"/>
                <a:hlinkClick r:id="rId1"/>
              </a:rPr>
              <a:t>鲁迅的父亲周伯宜，母亲鲁瑞</a:t>
            </a:r>
            <a:br>
              <a:rPr sz="5400"/>
            </a:br>
            <a:r>
              <a:rPr b="1" lang="zh-CN" sz="5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7432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LUxunmuqinlirui"/>
          <p:cNvPicPr/>
          <p:nvPr/>
        </p:nvPicPr>
        <p:blipFill>
          <a:blip r:embed="rId2"/>
          <a:stretch/>
        </p:blipFill>
        <p:spPr>
          <a:xfrm>
            <a:off x="4648320" y="259092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鲁迅简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鲁迅幼时上学的三味书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14316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sanweishuwu"/>
          <p:cNvPicPr/>
          <p:nvPr/>
        </p:nvPicPr>
        <p:blipFill>
          <a:blip r:embed="rId1"/>
          <a:stretch/>
        </p:blipFill>
        <p:spPr>
          <a:xfrm>
            <a:off x="4648320" y="2352600"/>
            <a:ext cx="380988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Cre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143000" y="6094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思考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143000" y="1523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１、用“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——”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划出全文的中心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295280" y="25909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、课文按春、夏、秋、冬四季顺序描写了哪　　　些景物？用“～～”划出。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">
            <a:hlinkClick r:id="" action="ppaction://hlinkshowjump?jump=firstslide"/>
          </p:cNvPr>
          <p:cNvSpPr/>
          <p:nvPr/>
        </p:nvSpPr>
        <p:spPr>
          <a:xfrm>
            <a:off x="8305920" y="6248520"/>
            <a:ext cx="838080" cy="30456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隶书"/>
              </a:rPr>
              <a:t>百草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我家的后面有一个很大的园，相传叫作百草园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“┅┅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其中似乎确凿只有一些野草；但那时却是我的乐园。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1384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bcw22"/>
          <p:cNvPicPr/>
          <p:nvPr/>
        </p:nvPicPr>
        <p:blipFill>
          <a:blip r:embed="rId1"/>
          <a:stretch/>
        </p:blipFill>
        <p:spPr>
          <a:xfrm>
            <a:off x="4648320" y="2505240"/>
            <a:ext cx="38098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隶书"/>
              </a:rPr>
              <a:t>百 草 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不必说碧绿的菜畦，光滑的石井栏，高大的皂荚树，紫红的桑椹；也不必说鸣蝉在树叶间长吟，肥胖的黄蜂伏在菜花上，轻捷的叫天子（云雀）忽然从草间直窜向云霄里去了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20976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bcw23"/>
          <p:cNvPicPr/>
          <p:nvPr/>
        </p:nvPicPr>
        <p:blipFill>
          <a:blip r:embed="rId1"/>
          <a:stretch/>
        </p:blipFill>
        <p:spPr>
          <a:xfrm>
            <a:off x="4876920" y="2476440"/>
            <a:ext cx="3504960" cy="270504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8199"/>
          <p:cNvSpPr/>
          <p:nvPr/>
        </p:nvSpPr>
        <p:spPr>
          <a:xfrm>
            <a:off x="2916360" y="18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TNPHOT002"/>
          <p:cNvPicPr/>
          <p:nvPr/>
        </p:nvPicPr>
        <p:blipFill>
          <a:blip r:embed="rId1"/>
          <a:stretch/>
        </p:blipFill>
        <p:spPr>
          <a:xfrm>
            <a:off x="0" y="-297000"/>
            <a:ext cx="9539280" cy="7155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380880" y="609480"/>
            <a:ext cx="12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867280" y="609480"/>
            <a:ext cx="18003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菜    畦　　石井栏　皂荚树　桑    椹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780000" y="620640"/>
            <a:ext cx="198108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碧绿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　　　　　　　　　　　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光滑　　　　　　　　高大　　　　　　　　　　　　　紫红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04920" y="2708280"/>
            <a:ext cx="24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（不必说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隶书"/>
              </a:rPr>
              <a:t>百草园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何首乌根是有像人形的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吃了便可以成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我于是常常拔它起来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牵连不断地拔起来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也曾因此弄坏了泥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却从未见过有一块像人样。如果不怕刺，还可以摘到覆盆子┅┅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2004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bcw24"/>
          <p:cNvPicPr/>
          <p:nvPr/>
        </p:nvPicPr>
        <p:blipFill>
          <a:blip r:embed="rId1"/>
          <a:stretch/>
        </p:blipFill>
        <p:spPr>
          <a:xfrm>
            <a:off x="4648320" y="2400480"/>
            <a:ext cx="380988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7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7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7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7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02:27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54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