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gif" ContentType="image/gif"/>
  <Override PartName="/ppt/media/image17.jpeg" ContentType="image/jpeg"/>
  <Override PartName="/ppt/media/image3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6.gif" ContentType="image/gif"/>
  <Override PartName="/ppt/media/image4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122-F0D8-45F8-8B59-7966B8A9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3FC-BF45-4426-B078-45ABE8D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DF9-1FC1-4268-9AE7-DC60FEBC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052-CBF1-46C8-9FA7-E23AD6AF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5B54-D7AB-478F-8C0A-0942BD94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F66-05C7-4043-ADFE-05A0A24D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6B24-DF43-4CC6-AC20-44E4799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3C46-0973-4CD6-9908-52765B1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F2A6-B69D-4A94-B1E3-C676867F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A5FE-D4AF-41A2-A884-882BE91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B90C-09EA-411D-A0C5-FD62708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1DF-B9A2-46C8-8340-19AF275A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E49B-4722-4F55-814E-5680CA2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9650-5E5F-415D-80DE-0A8D2527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C18-721E-4809-AB3C-B51273DC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69B-4E86-41AE-B048-D15395FE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D077-B0E7-43EE-B357-12508266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E76-723F-4EDE-AB88-6909AF3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2A9-417E-41B0-B5B5-75EB8AA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65B-4114-420C-B3D4-3D34FA1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126-2412-4CD8-A1E2-C241EF4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650-FDC6-4BBD-BF64-1D68034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A6D-5C04-4F09-B5B1-7771B594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7F5-41AA-4698-AB08-9CD7B51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98E-E76A-459B-B774-D7D12908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4626-860B-4FA4-8655-80368AEBBA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271,2,&#24187;&#28783;&#29255; 2" TargetMode="External"/><Relationship Id="rId4" Type="http://schemas.openxmlformats.org/officeDocument/2006/relationships/hyperlink" Target="273,4,&#24187;&#28783;&#29255; 4" TargetMode="External"/><Relationship Id="rId5" Type="http://schemas.openxmlformats.org/officeDocument/2006/relationships/hyperlink" Target="278,5,&#24187;&#28783;&#29255; 5" TargetMode="External"/><Relationship Id="rId6" Type="http://schemas.openxmlformats.org/officeDocument/2006/relationships/hyperlink" Target="274,6,&#24187;&#28783;&#29255; 6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264,14,&#24187;&#28783;&#29255; 14" TargetMode="External"/><Relationship Id="rId3" Type="http://schemas.openxmlformats.org/officeDocument/2006/relationships/hyperlink" Target="266,11,&#24187;&#28783;&#29255; 11" TargetMode="External"/><Relationship Id="rId4" Type="http://schemas.openxmlformats.org/officeDocument/2006/relationships/hyperlink" Target="268,15,&#24187;&#28783;&#29255; 15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hyperlink" Target="275,6,&#24187;&#28783;&#29255; 6" TargetMode="External"/><Relationship Id="rId4" Type="http://schemas.openxmlformats.org/officeDocument/2006/relationships/hyperlink" Target="265,8,&#24187;&#28783;&#29255; 8" TargetMode="External"/><Relationship Id="rId5" Type="http://schemas.openxmlformats.org/officeDocument/2006/relationships/hyperlink" Target="265,8,&#24187;&#28783;&#29255; 8" TargetMode="External"/><Relationship Id="rId6" Type="http://schemas.openxmlformats.org/officeDocument/2006/relationships/hyperlink" Target="269,15,&#24187;&#28783;&#29255; 15" TargetMode="External"/><Relationship Id="rId7" Type="http://schemas.openxmlformats.org/officeDocument/2006/relationships/hyperlink" Target="269,15,&#24187;&#28783;&#29255; 15" TargetMode="External"/><Relationship Id="rId8" Type="http://schemas.openxmlformats.org/officeDocument/2006/relationships/hyperlink" Target="277,17,&#24187;&#28783;&#29255; 17" TargetMode="External"/><Relationship Id="rId9" Type="http://schemas.openxmlformats.org/officeDocument/2006/relationships/hyperlink" Target="277,17,&#24187;&#28783;&#29255; 17" TargetMode="External"/><Relationship Id="rId10" Type="http://schemas.openxmlformats.org/officeDocument/2006/relationships/hyperlink" Target="267,18,&#24187;&#28783;&#29255; 18" TargetMode="External"/><Relationship Id="rId11" Type="http://schemas.openxmlformats.org/officeDocument/2006/relationships/hyperlink" Target="267,18,&#24187;&#28783;&#29255; 18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2"/>
          <a:stretch/>
        </p:blipFill>
        <p:spPr>
          <a:xfrm>
            <a:off x="608040" y="822240"/>
            <a:ext cx="6742080" cy="646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195640" y="31417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33280" y="2982960"/>
            <a:ext cx="201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说教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33280" y="3990960"/>
            <a:ext cx="1657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说教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3280" y="4998960"/>
            <a:ext cx="18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/>
              </a:rPr>
              <a:t>说学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33280" y="5935680"/>
            <a:ext cx="2844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6"/>
              </a:rPr>
              <a:t>说教学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9"/>
          <p:cNvSpPr/>
          <p:nvPr/>
        </p:nvSpPr>
        <p:spPr>
          <a:xfrm>
            <a:off x="135396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bject 102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27"/>
          <p:cNvSpPr/>
          <p:nvPr/>
        </p:nvSpPr>
        <p:spPr>
          <a:xfrm>
            <a:off x="0" y="6021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知天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8"/>
          <p:cNvSpPr/>
          <p:nvPr/>
        </p:nvSpPr>
        <p:spPr>
          <a:xfrm>
            <a:off x="3100680" y="6093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熟人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29"/>
          <p:cNvSpPr/>
          <p:nvPr/>
        </p:nvSpPr>
        <p:spPr>
          <a:xfrm>
            <a:off x="4500720" y="602136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有计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1"/>
          <p:cNvSpPr/>
          <p:nvPr/>
        </p:nvSpPr>
        <p:spPr>
          <a:xfrm>
            <a:off x="1332000" y="609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识地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62064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品读感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8305920" y="5791320"/>
            <a:ext cx="533160" cy="53316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26920" y="1700280"/>
            <a:ext cx="741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诸葛亮说：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过这事不能让都督知道。他要是知道了，我的计划就完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鲁肃答应了。他不知道诸葛亮借了船有什么用，回来报告周瑜，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果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提借船的事，只说诸葛亮用不用竹子、翎毛、胶漆这些材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鲁肃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私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拨了二十条船，每条船上配三十名军士，照诸葛亮说的，布置好青布幔子和草把子，等诸葛亮调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3" descr="112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j121"/>
          <p:cNvPicPr/>
          <p:nvPr/>
        </p:nvPicPr>
        <p:blipFill>
          <a:blip r:embed="rId3"/>
          <a:stretch/>
        </p:blipFill>
        <p:spPr>
          <a:xfrm>
            <a:off x="7667640" y="501336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5"/>
          <p:cNvSpPr/>
          <p:nvPr/>
        </p:nvSpPr>
        <p:spPr>
          <a:xfrm>
            <a:off x="7236000" y="5734080"/>
            <a:ext cx="380880" cy="3808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539640" y="836640"/>
            <a:ext cx="820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诸葛亮笑着说：“雾这么大，曹操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定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敢派兵出来。我们只管饮酒取乐，天亮了就回去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曹操听到鼓声和呐喊声，就下令说：“江上雾很大，敌人来攻，我们看不清虚实，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不要轻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出动，只叫弓驽手朝他们射箭，不让他们近前。”他派人去旱寨调来六千多名弓驽手一齐朝江中放箭，箭好像下雨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042920" y="33336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84360" y="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品读感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2771640" y="19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116000" y="2133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boat"/>
          <p:cNvPicPr/>
          <p:nvPr/>
        </p:nvPicPr>
        <p:blipFill>
          <a:blip r:embed="rId2"/>
          <a:stretch/>
        </p:blipFill>
        <p:spPr>
          <a:xfrm>
            <a:off x="-71280" y="455436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83059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763640" y="155736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84360" y="134136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这时候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大雾漫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江上连面对面都看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曹操听到鼓声和呐喊声，就下令说：“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江上雾很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敌人忽然来攻，我们看不清虚实，不要轻易出动，只叫弓弩手朝他们射箭，不让他们近前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84360" y="69228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39640" y="26028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品读感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24000" y="907920"/>
            <a:ext cx="82296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诸葛亮说：“你借给我二十条船，每条船上要三十名军士。船用青布幔子遮起来，还要一千多个草把子，排在船两边，我自有妙用。第三天管保有十万支箭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诸葛亮吩咐把二十条船用绳索</a:t>
            </a:r>
            <a:r>
              <a:rPr b="1" lang="zh-CN" sz="2800" spc="-1" strike="noStrike">
                <a:solidFill>
                  <a:srgbClr val="ff0066"/>
                </a:solidFill>
                <a:latin typeface="Sylfaen"/>
              </a:rPr>
              <a:t>连接起</a:t>
            </a: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来，朝北岸开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诸葛亮下令把</a:t>
            </a:r>
            <a:r>
              <a:rPr b="1" lang="zh-CN" sz="2800" spc="-1" strike="noStrike">
                <a:solidFill>
                  <a:srgbClr val="ff0066"/>
                </a:solidFill>
                <a:latin typeface="Sylfaen"/>
              </a:rPr>
              <a:t>船头朝西，船尾朝东，一字儿摆开</a:t>
            </a: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，又叫船上的军士一边</a:t>
            </a:r>
            <a:r>
              <a:rPr b="1" lang="zh-CN" sz="2800" spc="-1" strike="noStrike">
                <a:solidFill>
                  <a:srgbClr val="ff0066"/>
                </a:solidFill>
                <a:latin typeface="Sylfaen"/>
              </a:rPr>
              <a:t>擂鼓</a:t>
            </a: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一边大声</a:t>
            </a:r>
            <a:r>
              <a:rPr b="1" lang="zh-CN" sz="2800" spc="-1" strike="noStrike">
                <a:solidFill>
                  <a:srgbClr val="ff0066"/>
                </a:solidFill>
                <a:latin typeface="Sylfaen"/>
              </a:rPr>
              <a:t>呐喊</a:t>
            </a: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　诸葛亮</a:t>
            </a:r>
            <a:r>
              <a:rPr b="1" lang="zh-CN" sz="2800" spc="-1" strike="noStrike">
                <a:solidFill>
                  <a:srgbClr val="ff0066"/>
                </a:solidFill>
                <a:latin typeface="Sylfaen"/>
              </a:rPr>
              <a:t>又下令把船掉过来，船头朝东，船尾朝西，</a:t>
            </a: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仍旧擂鼓呐喊，逼近曹军水寨去受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恋"/>
          <p:cNvPicPr/>
          <p:nvPr/>
        </p:nvPicPr>
        <p:blipFill>
          <a:blip r:embed="rId1"/>
          <a:stretch/>
        </p:blipFill>
        <p:spPr>
          <a:xfrm>
            <a:off x="7524720" y="5705640"/>
            <a:ext cx="161928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/>
          <p:cNvSpPr/>
          <p:nvPr/>
        </p:nvSpPr>
        <p:spPr>
          <a:xfrm>
            <a:off x="8244000" y="6276960"/>
            <a:ext cx="647640" cy="58104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79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84360" y="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品读感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26"/>
          <p:cNvSpPr/>
          <p:nvPr/>
        </p:nvSpPr>
        <p:spPr>
          <a:xfrm>
            <a:off x="304920" y="0"/>
            <a:ext cx="88390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Sylfaen"/>
                <a:ea typeface="黑体"/>
              </a:rPr>
              <a:t>设计意图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lfae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、出示专题探究是本节阅读课的关键，我用课件出示困扰心中的那个问题，（诸葛亮神机妙算表现在什么地方？）其实就确立本节课重点探究专题，因为这个问题有以下几个特点，第一，它涵盖了课文的最大内容；第二，它有一定的难度，学生需要花一番精力研究、探索；第三它具有一定的开放性，因为它的答案是多元的，能充分展示学生的学习个性。第四，它是逆向性，因为它必须根据文中已知内容去推断未知，训练学生逆向思维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、在学生合作探究专题的过程中，老师深入课堂巡视、点拨，以及要求学生按照定规则来交流汇报，这些指导都是为了引导学生更好地解决研究专题，提高探究性阅读的效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、在学生汇报过程中，适时适度出示重点语段课件，让学生品读感悟，进一步深化对诸葛亮人物形象的认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27"/>
          <p:cNvSpPr/>
          <p:nvPr/>
        </p:nvSpPr>
        <p:spPr>
          <a:xfrm>
            <a:off x="900000" y="177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29"/>
          <p:cNvSpPr/>
          <p:nvPr/>
        </p:nvSpPr>
        <p:spPr>
          <a:xfrm>
            <a:off x="539640" y="3357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0"/>
          <p:cNvSpPr/>
          <p:nvPr/>
        </p:nvSpPr>
        <p:spPr>
          <a:xfrm>
            <a:off x="539640" y="18446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031" descr="恋"/>
          <p:cNvPicPr/>
          <p:nvPr/>
        </p:nvPicPr>
        <p:blipFill>
          <a:blip r:embed="rId1"/>
          <a:stretch/>
        </p:blipFill>
        <p:spPr>
          <a:xfrm>
            <a:off x="7010280" y="0"/>
            <a:ext cx="1187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24000" y="549360"/>
            <a:ext cx="882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Sylfae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Sylfaen"/>
              </a:rPr>
              <a:t>四）、巧设疑问，深化探究</a:t>
            </a:r>
            <a:r>
              <a:rPr b="0" lang="zh-CN" sz="3600" spc="-1" strike="noStrike">
                <a:solidFill>
                  <a:srgbClr val="ff0066"/>
                </a:solidFill>
                <a:latin typeface="Sylfaen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Sylfae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 了解文中主要人物的性格特点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lfae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、老师设疑：文中描写诸葛亮语言时，只有一处提示语的中间用了一个修饰限制的词语，那就是一个笑字，请联系课文，想想诸葛亮在笑谁，为什么而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lfae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、让学生在读文思考的同时，用课件出示回答格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诸葛亮在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（谁），笑他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（什么性格），这是一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的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lfae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、师小结，相机引出第二个问题：周瑜倒底哪些地方不如诸葛亮？请你把想到的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lfae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Sylfaen"/>
              </a:rPr>
              <a:t>、相机对学生进行思想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981080" y="45720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Sylfaen"/>
                <a:ea typeface="黑体"/>
              </a:rPr>
              <a:t>设计意图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00000" y="177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向日葵"/>
          <p:cNvPicPr/>
          <p:nvPr/>
        </p:nvPicPr>
        <p:blipFill>
          <a:blip r:embed="rId1"/>
          <a:stretch/>
        </p:blipFill>
        <p:spPr>
          <a:xfrm>
            <a:off x="0" y="5692680"/>
            <a:ext cx="9144000" cy="1165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学生潜心探究了诸葛亮妙算的基础上，抓住诸葛亮的神秘一笑，和周瑜到底哪些地方不如诸葛亮，这两个关键点进行启发点拨，以便引导学生感悟文中主要人物性格的深刻内涵，使学生对课文内容的理解更透彻，对人物的形象把握更加准确，并相机进行思想教育，进一步深化了探究的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00000" y="177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向日葵"/>
          <p:cNvPicPr/>
          <p:nvPr/>
        </p:nvPicPr>
        <p:blipFill>
          <a:blip r:embed="rId1"/>
          <a:stretch/>
        </p:blipFill>
        <p:spPr>
          <a:xfrm>
            <a:off x="0" y="5229360"/>
            <a:ext cx="889308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39640" y="3357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39640" y="18446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620640"/>
            <a:ext cx="91440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（五）、回顾课文，提出不懂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师总结本文学习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师引导学生提出上课伊始时提出的问题还有哪些不理解，然后引导其他学生帮助释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8199"/>
          <p:cNvSpPr/>
          <p:nvPr/>
        </p:nvSpPr>
        <p:spPr>
          <a:xfrm>
            <a:off x="1116000" y="40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457200"/>
            <a:ext cx="9144000" cy="40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（六）、课外排演，拓展延伸：</a:t>
            </a:r>
            <a:r>
              <a:rPr b="0" lang="zh-CN" sz="5400" spc="-1" strike="noStrike">
                <a:solidFill>
                  <a:srgbClr val="ff3399"/>
                </a:solidFill>
                <a:latin typeface="Sylfaen"/>
                <a:ea typeface="黑体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Sylfae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Sylfaen"/>
                <a:ea typeface="黑体"/>
              </a:rPr>
              <a:t>认真读课文，小组合作排演课本剧，特别要注意人物说话的语气</a:t>
            </a:r>
            <a:r>
              <a:rPr b="0" lang="zh-CN" sz="5400" spc="-1" strike="noStrike">
                <a:solidFill>
                  <a:srgbClr val="000000"/>
                </a:solidFill>
                <a:latin typeface="Sylfaen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00000" y="177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向日葵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5229360"/>
            <a:ext cx="8820000" cy="1628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539640" y="3357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9640" y="18446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4640"/>
            <a:ext cx="9144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、说教材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、说课文内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篇课文选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国演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课文主要写了周瑜妒忌诸葛亮的才干，用十天造十万枝箭的任务来为难他，诸葛亮同周瑜斗智，用草船借箭的方法向曹操借到十万多枝箭，最后令周瑜不得不自叹不如。文中人物形象性格鲜明，宜引导学生品读，体会人物性格，同时，课文的思考练习主要设计了引导学生提出有价值的问题这样的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11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669D-15AD-4A73-BC3D-7486A4D3D3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2700360" y="1268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Sylfaen"/>
                <a:ea typeface="黑体"/>
              </a:rPr>
              <a:t>草船借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58920" y="2349360"/>
            <a:ext cx="68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接受任务          诸葛亮            知天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借箭准备                                   识地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草船借箭         神机妙算            熟人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如期交箭                                     有计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987640" y="2565360"/>
            <a:ext cx="863640" cy="1511280"/>
            <a:chOff x="2987640" y="2565360"/>
            <a:chExt cx="863640" cy="1511280"/>
          </a:xfrm>
        </p:grpSpPr>
        <p:sp>
          <p:nvSpPr>
            <p:cNvPr id="187" name="Line 4"/>
            <p:cNvSpPr/>
            <p:nvPr/>
          </p:nvSpPr>
          <p:spPr>
            <a:xfrm>
              <a:off x="2987640" y="2565360"/>
              <a:ext cx="863640" cy="151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987640" y="2565360"/>
              <a:ext cx="86364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843280" y="3429000"/>
            <a:ext cx="1008000" cy="647640"/>
            <a:chOff x="2843280" y="3429000"/>
            <a:chExt cx="1008000" cy="647640"/>
          </a:xfrm>
        </p:grpSpPr>
        <p:sp>
          <p:nvSpPr>
            <p:cNvPr id="190" name="Line 5"/>
            <p:cNvSpPr/>
            <p:nvPr/>
          </p:nvSpPr>
          <p:spPr>
            <a:xfrm>
              <a:off x="2843280" y="342900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843280" y="3429000"/>
              <a:ext cx="1008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58920" y="4076280"/>
            <a:ext cx="865440" cy="73080"/>
            <a:chOff x="3058920" y="4076280"/>
            <a:chExt cx="865440" cy="73080"/>
          </a:xfrm>
        </p:grpSpPr>
        <p:sp>
          <p:nvSpPr>
            <p:cNvPr id="193" name="Line 6"/>
            <p:cNvSpPr/>
            <p:nvPr/>
          </p:nvSpPr>
          <p:spPr>
            <a:xfrm flipV="1">
              <a:off x="3059280" y="4076280"/>
              <a:ext cx="86508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 rot="10800000">
              <a:off x="3058920" y="4076280"/>
              <a:ext cx="86508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987280" y="4076640"/>
            <a:ext cx="864000" cy="720720"/>
            <a:chOff x="2987280" y="4076640"/>
            <a:chExt cx="864000" cy="720720"/>
          </a:xfrm>
        </p:grpSpPr>
        <p:sp>
          <p:nvSpPr>
            <p:cNvPr id="196" name="Line 7"/>
            <p:cNvSpPr/>
            <p:nvPr/>
          </p:nvSpPr>
          <p:spPr>
            <a:xfrm flipV="1">
              <a:off x="2987640" y="4076640"/>
              <a:ext cx="86364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 rot="10800000">
              <a:off x="2987280" y="4076640"/>
              <a:ext cx="86364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508360" y="2636640"/>
            <a:ext cx="1151280" cy="1368360"/>
            <a:chOff x="5508360" y="2636640"/>
            <a:chExt cx="1151280" cy="1368360"/>
          </a:xfrm>
        </p:grpSpPr>
        <p:sp>
          <p:nvSpPr>
            <p:cNvPr id="199" name="Line 8"/>
            <p:cNvSpPr/>
            <p:nvPr/>
          </p:nvSpPr>
          <p:spPr>
            <a:xfrm flipV="1">
              <a:off x="5508720" y="2636640"/>
              <a:ext cx="115092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5508360" y="2636640"/>
              <a:ext cx="115092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508360" y="3428640"/>
            <a:ext cx="1151280" cy="576360"/>
            <a:chOff x="5508360" y="3428640"/>
            <a:chExt cx="1151280" cy="576360"/>
          </a:xfrm>
        </p:grpSpPr>
        <p:sp>
          <p:nvSpPr>
            <p:cNvPr id="202" name="Line 9"/>
            <p:cNvSpPr/>
            <p:nvPr/>
          </p:nvSpPr>
          <p:spPr>
            <a:xfrm flipV="1">
              <a:off x="5508720" y="3428640"/>
              <a:ext cx="115092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10800000">
              <a:off x="5508360" y="3428640"/>
              <a:ext cx="11509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508720" y="4005360"/>
            <a:ext cx="1079280" cy="144360"/>
            <a:chOff x="5508720" y="4005360"/>
            <a:chExt cx="1079280" cy="144360"/>
          </a:xfrm>
        </p:grpSpPr>
        <p:sp>
          <p:nvSpPr>
            <p:cNvPr id="205" name="Line 10"/>
            <p:cNvSpPr/>
            <p:nvPr/>
          </p:nvSpPr>
          <p:spPr>
            <a:xfrm>
              <a:off x="5508720" y="4005360"/>
              <a:ext cx="1079280" cy="14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5508720" y="4005360"/>
              <a:ext cx="107928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508720" y="4005360"/>
            <a:ext cx="1150920" cy="792000"/>
            <a:chOff x="5508720" y="4005360"/>
            <a:chExt cx="1150920" cy="792000"/>
          </a:xfrm>
        </p:grpSpPr>
        <p:sp>
          <p:nvSpPr>
            <p:cNvPr id="208" name="Line 11"/>
            <p:cNvSpPr/>
            <p:nvPr/>
          </p:nvSpPr>
          <p:spPr>
            <a:xfrm>
              <a:off x="5508720" y="4005360"/>
              <a:ext cx="115092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5508720" y="4005360"/>
              <a:ext cx="115092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572000" y="2781360"/>
            <a:ext cx="360" cy="1081080"/>
            <a:chOff x="4572000" y="2781360"/>
            <a:chExt cx="360" cy="1081080"/>
          </a:xfrm>
        </p:grpSpPr>
        <p:sp>
          <p:nvSpPr>
            <p:cNvPr id="211" name="Line 12"/>
            <p:cNvSpPr/>
            <p:nvPr/>
          </p:nvSpPr>
          <p:spPr>
            <a:xfrm>
              <a:off x="4572000" y="27813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4572000" y="2781360"/>
              <a:ext cx="36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Picture 13" descr="112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j121"/>
          <p:cNvPicPr/>
          <p:nvPr/>
        </p:nvPicPr>
        <p:blipFill>
          <a:blip r:embed="rId2"/>
          <a:stretch/>
        </p:blipFill>
        <p:spPr>
          <a:xfrm>
            <a:off x="7920000" y="26028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395280" y="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说板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116000" y="2133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、说教学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初读课文，引导学生大胆提出感兴趣的问题，并互相解决。（这是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能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培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理解课文内容，品读课文，总结出诸葛亮草船借箭成功的原因。（这是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过程与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培养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从故事中具体的人和事中得到启示，激发学生的求知欲和创新意识，以及教育学生要有广阔的胸襟。（这是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情感态度与价值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培养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、说重难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学习课文，从文中体会诸葛亮的“神机妙算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引导学生大胆提出感兴趣或不懂的问题，互相解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112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121"/>
          <p:cNvPicPr/>
          <p:nvPr/>
        </p:nvPicPr>
        <p:blipFill>
          <a:blip r:embed="rId2"/>
          <a:stretch/>
        </p:blipFill>
        <p:spPr>
          <a:xfrm>
            <a:off x="8307360" y="592128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1440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恋"/>
          <p:cNvPicPr/>
          <p:nvPr/>
        </p:nvPicPr>
        <p:blipFill>
          <a:blip r:embed="rId1"/>
          <a:stretch/>
        </p:blipFill>
        <p:spPr>
          <a:xfrm>
            <a:off x="7956720" y="6013440"/>
            <a:ext cx="1187280" cy="844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0" y="260280"/>
            <a:ext cx="91440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二、说教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主、合作、探究的教学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设计意图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课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出：提倡多角度的有创意的阅读，逐步培养学生探究阅读能力。再加上课后思考题中有训练学生的提问能力，我将本文的教学方法设计为自主、合作、探究，以此来培养学生的学习兴趣及探究问题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91440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恋"/>
          <p:cNvPicPr/>
          <p:nvPr/>
        </p:nvPicPr>
        <p:blipFill>
          <a:blip r:embed="rId1"/>
          <a:stretch/>
        </p:blipFill>
        <p:spPr>
          <a:xfrm>
            <a:off x="7780320" y="260280"/>
            <a:ext cx="1363680" cy="970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55640" y="836640"/>
            <a:ext cx="80643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三、说学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以品读感悟为主，采用猜一猜，画一画，议一议，说一说，写一写、演一演的方法，培养学生探究问题能力及听说读写等基本的语文素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112"/>
          <p:cNvPicPr/>
          <p:nvPr/>
        </p:nvPicPr>
        <p:blipFill>
          <a:blip r:embed="rId2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26" descr="112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7" descr="j121"/>
          <p:cNvPicPr/>
          <p:nvPr/>
        </p:nvPicPr>
        <p:blipFill>
          <a:blip r:embed="rId2"/>
          <a:stretch/>
        </p:blipFill>
        <p:spPr>
          <a:xfrm>
            <a:off x="7740720" y="26028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28"/>
          <p:cNvSpPr/>
          <p:nvPr/>
        </p:nvSpPr>
        <p:spPr>
          <a:xfrm>
            <a:off x="971640" y="907920"/>
            <a:ext cx="6769080" cy="48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四、说教学过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复习课文，引入新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设境质疑，触发探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3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  <a:hlinkClick r:id="rId5"/>
              </a:rPr>
              <a:t>、出示专题，重点探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Times New Roman"/>
                <a:hlinkClick r:id="rId6"/>
              </a:rPr>
              <a:t>4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  <a:hlinkClick r:id="rId7"/>
              </a:rPr>
              <a:t>、巧问设疑，深化探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Times New Roman"/>
                <a:hlinkClick r:id="rId8"/>
              </a:rPr>
              <a:t>5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  <a:hlinkClick r:id="rId9"/>
              </a:rPr>
              <a:t>、总结课文，疑难探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Times New Roman"/>
                <a:hlinkClick r:id="rId10"/>
              </a:rPr>
              <a:t>6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  <a:hlinkClick r:id="rId11"/>
              </a:rPr>
              <a:t>、课外扮演，拓展延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199"/>
          <p:cNvSpPr/>
          <p:nvPr/>
        </p:nvSpPr>
        <p:spPr>
          <a:xfrm>
            <a:off x="176364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Arial"/>
                <a:hlinkClick r:id="rId1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8"/>
          <p:cNvSpPr/>
          <p:nvPr/>
        </p:nvSpPr>
        <p:spPr>
          <a:xfrm flipV="1">
            <a:off x="0" y="-384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9" descr="a23"/>
          <p:cNvPicPr/>
          <p:nvPr/>
        </p:nvPicPr>
        <p:blipFill>
          <a:blip r:embed="rId1"/>
          <a:stretch/>
        </p:blipFill>
        <p:spPr>
          <a:xfrm>
            <a:off x="6732720" y="1773360"/>
            <a:ext cx="501480" cy="57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0" descr="a23"/>
          <p:cNvPicPr/>
          <p:nvPr/>
        </p:nvPicPr>
        <p:blipFill>
          <a:blip r:embed="rId2"/>
          <a:stretch/>
        </p:blipFill>
        <p:spPr>
          <a:xfrm>
            <a:off x="8329680" y="1844640"/>
            <a:ext cx="814320" cy="64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1" descr="mei"/>
          <p:cNvPicPr/>
          <p:nvPr/>
        </p:nvPicPr>
        <p:blipFill>
          <a:blip r:embed="rId3"/>
          <a:stretch/>
        </p:blipFill>
        <p:spPr>
          <a:xfrm>
            <a:off x="6012000" y="1341360"/>
            <a:ext cx="2771640" cy="1844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32"/>
          <p:cNvSpPr/>
          <p:nvPr/>
        </p:nvSpPr>
        <p:spPr>
          <a:xfrm>
            <a:off x="0" y="0"/>
            <a:ext cx="878364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、设境质疑，触发探究。（提出有价值的问题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老师设境：让学生猜一猜，困扰老师的是文中的一个什么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学生读文，猜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设计意图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苏霍姆林斯基曾说过：“兴趣的源泉藏在深处，你得去挖掘，才能发现它。这一环节，我通过创设猜问题的情景，激发了学生初读探究的强烈兴趣，能较好地发挥学生探究的自主性、主动性。同时这一初读环节的实施，还有助于学生感知课文的“语表层”，形成初步的整体印象，为学生深入探究课文，打下扎实的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26" descr=""/>
          <p:cNvPicPr/>
          <p:nvPr/>
        </p:nvPicPr>
        <p:blipFill>
          <a:blip r:embed="rId1"/>
          <a:stretch/>
        </p:blipFill>
        <p:spPr>
          <a:xfrm>
            <a:off x="-1620720" y="-1684440"/>
            <a:ext cx="11809440" cy="8858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27"/>
          <p:cNvSpPr/>
          <p:nvPr/>
        </p:nvSpPr>
        <p:spPr>
          <a:xfrm>
            <a:off x="324000" y="620640"/>
            <a:ext cx="83534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三）、出示专题，重点探究。（品读课文，体会诸葛亮的神机妙算。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老师公布心中困扰的那个问题，并用课件显示本节课的重点探究专题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诸葛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神机妙算”表现在什么地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布置学生边读课文，边想课文中的哪些材料与这个问题有关，画出有关语句，并在旁边写感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教师用课件出示回答问题格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979640" y="333360"/>
            <a:ext cx="54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汇报形式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17576_2003121323154661789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013360"/>
            <a:ext cx="291636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0880" y="184464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      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我认为诸葛亮神机妙算表现在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———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（什么），我的根据是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——————</a:t>
            </a: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  </a:t>
            </a: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(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读一读文中的材料），然后再具体说说我是怎么根据这个材料想到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                                                               </a:t>
            </a:r>
            <a:r>
              <a:rPr b="0" lang="zh-CN" sz="3200" spc="-1" strike="noStrike" u="sng">
                <a:solidFill>
                  <a:srgbClr val="6666ff"/>
                </a:solidFill>
                <a:uFillTx/>
                <a:latin typeface="Sylfaen"/>
              </a:rPr>
              <a:t>     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Sylfaen"/>
              </a:rPr>
              <a:t>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Sylfaen"/>
              </a:rPr>
              <a:t>        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Sylfae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5:45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7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