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gif" ContentType="image/gif"/>
  <Override PartName="/ppt/media/image12.jpeg" ContentType="image/jpeg"/>
  <Override PartName="/ppt/media/image10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5C2-6DA4-41A6-A744-D6DF1D88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D8A-EE14-44B6-8E46-BBA7E8E0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87604-D828-4676-B92A-9841B3B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E0115-19B6-4989-A80D-A49416A2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06698-A0D1-4C3C-86A5-EA393C3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7A046-571D-4810-B852-07EAFDD9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38997-17EC-454D-BBCC-95531AF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BB43-47F4-4D5F-87AD-D6DCF33B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288F4-FB60-418E-8069-1AA6E0DB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97D4-18AB-41F7-9A44-B515ADF9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C092E-6A8C-4EDF-AF28-0D990C2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FBD2A-2E50-4944-A074-C65A4489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3ED-E52A-40F0-81EE-3FF8BEBF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92977-CF1E-49CE-BCC8-3585025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2DE0D-AC7F-4049-B773-8710286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63D89-9926-4E17-A137-E37C5326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BDCE8-56AA-4528-8298-EDECF44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09FBE-CBEC-4E20-8E4B-3CEC71F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18675-95FD-442B-B566-DE88C93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09E31-8321-41B5-998B-335A376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1E50E-37E5-4775-8023-4BAB7F3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BB16-DF47-4BD3-9A1C-C784594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180E8-6A99-4CCD-AE1E-E6987CD5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A31-01AB-47DA-8362-566C7052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A06E5-5EE2-4E36-82FF-D43DE92D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0913-B4EB-4E62-AF87-0DE304B0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E15A4-79AA-4F23-9CFF-FEC8AA98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32512-A928-4513-817B-20ED19A9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19FEF-859E-49DC-91C5-A809FB2A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56EC6-9846-4210-B315-B830202F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7E162-17C9-474D-9799-E82A8655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2CFA3-2995-4132-9C7E-DA136C9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BB641-5BCC-428A-A6CD-9C43C44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CF95F-70E1-4855-B7D1-0E6A3B92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7BFD-EB8A-4421-AACA-969D7691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B2B3E-126A-452B-AF92-9D39409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C7E2B-D57E-4857-9431-2360D935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832B-71D9-4BF6-B946-2CCF12C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993C8-7E44-4FA6-B554-A6A3755C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5DCF2-9DEC-4BCD-9046-31C868B3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80978-8D9D-4123-A872-4A6F72D7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0E8D6-6A8C-4B29-8530-68ABB307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15794-2211-45B4-9F5A-C2195E7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FD153-1FC8-47F5-BB56-D387615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2BE8-B4B8-42E9-88EC-3F1C18D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50A-0665-4CDE-B7D4-B03052AD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A9CF2-D031-4A80-A1E4-0532A33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EFAC2-503A-4A58-920A-7BF4CC1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95AE0-5C81-4204-A5F2-BC1C894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6BA3E-4408-4013-BAA1-FB0DF24B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6D4E8-FC6F-4B31-8FD7-B4D89A88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F1794-45DF-4A5F-B32F-0FA28402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76A18-8A20-40D2-8BBD-46DA2998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AD011-0148-4FBC-86F1-78FED1EF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CBB77-E69F-4039-867F-C57A83B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613FF-6DD8-4A96-98F4-FFE81C32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0DED-F9D1-4E0E-8981-4F2214B0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824E7-27A1-44AC-B81A-4C4A4D22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EF8BD-FFAC-4897-88F4-91EEC3A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9BE4A-890C-487D-B90D-C3353C6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74BCC-26F4-4697-B05A-F9CDEDE8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12C68-B798-48B5-BEF0-78ADAB98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78665-7898-402B-BF19-93B780CB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6539C-521C-46E6-9D86-74B575E5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9F4BC-D02B-4AA8-8D6E-B84FA9B5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19D86-07AA-4EE5-9AC8-E359DA51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5CA97-104E-458E-B4EA-DA365F27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40C0-7859-4570-8540-1863E4E1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F1CD1-6205-41E5-92FB-7F41B90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7E49C-EC2D-48F4-980E-7021D65D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BDA82-EB9F-49D0-82AE-7B5DF3E7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9A985-92F6-4D13-92B7-F013297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DE920-DB66-450B-9737-966ADC5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D8804-F9BC-4039-B2A3-D3E81FE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604EF-1D4F-4CAF-8B3B-9EC7612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5964F-E5BD-4EBA-8169-2F67E5AF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CBC4D-5415-4A28-BE04-7AFA2A50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69B33-D335-4B3E-A410-6A4BB536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98D1-157A-4605-9534-E1E9221F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E84E0-82E4-47F8-AC24-8527259A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E3648-1157-4740-8E9C-C533643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9B085-38B7-4ED6-9EC4-BFC6A20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5C701-24BA-4A83-ADC8-553E7C70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EFDBA-46DA-41EE-A087-31A027D3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79689-09CB-40CF-A157-72E9EA4E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B87F4-4F3D-41EA-B456-9E035B0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2C0EF-F080-40C1-870B-373FD54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0BFF5-F1A7-4E11-BF7D-364F3FC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1BF51-E7F7-460A-96D5-03345527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8467-5257-4A3C-B7C4-7F5E1B5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091DB-BB1F-461C-AD20-C90B935B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C3C5D-AEBC-416F-B010-55EB7BE7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4A06F-3AA0-493E-800A-A0B8F91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D19C7-8726-44A4-950C-F2280B34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AE42A-C541-42AC-8483-ACAEF719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DA3A3-FCA1-4F88-808E-093CD70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0F0B1-15FE-4CDD-8B04-3A699CDE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801D2-0B18-4473-8927-D1F8CDF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7ADAE-57C3-4382-B5EC-C8B7133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90F71-4792-42FC-80C5-A055C42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E680-A855-4582-918B-E59253A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E7138-8B47-491C-962B-7EA0DB8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6916C-2651-4CAC-81C0-4618A0F3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4160A-F2AB-4184-83D4-40D6E51F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C16-C3ED-428E-8B5B-9D3E9DC0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4580-7705-46B8-92C9-31B301C1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B52E-2A94-4FFC-90D5-22BE78C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41F6-6736-47E2-AE14-C4DDDFC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629-8D1D-4E48-AAAF-D4AB54B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B9C-B763-40B6-BC7B-5C455B72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73C6-2DB4-4163-9841-C123708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ABB6-4D70-447F-9788-AE0720ED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8B6F-97AA-4E51-B016-F3B939EF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DD1D-F619-4019-9F10-2F397543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5BF4-1F95-4583-9074-F0F4259B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DF8-CA06-41FB-91FC-C302409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722D-0168-4FCF-9D26-6132791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43EF-CFDD-41A2-9C10-DE72A31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7DF1-FD92-4A4C-9535-527FAF1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FD95-3013-4631-ADA4-7AD1245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A20A-8776-43A4-8381-5A8296B1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6173-4B86-48AE-BC09-8316A1B0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4B3E-9213-4BD4-BEC1-307CB69C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15F4-6244-45DE-893A-5248BF8C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8AE7-A563-4963-9BDE-0F024C3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B3BC-6158-4056-B9F6-CE4F6711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1D6-0DF8-422E-8C2E-A0A2F5E9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4058-0136-4C36-844D-C4ACA7D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DFB3-71C8-410D-9049-8076C2D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C974-0F39-4B4B-86E1-3349A79C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5B67-45C1-45A6-B067-75C1CB3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2AAA-CF2B-456A-8607-6A38047F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39FA-6BE9-412F-AAEA-30FD396F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6AB8-390B-47B2-ABD9-CCCCB1E5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250D-C010-4149-9F9E-CB9B73B4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31B3-7CA6-4A00-BD9C-5A85E093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85A7-F0E0-49E5-BE36-434B8C5D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B9D-AED6-4866-A2B8-4187932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5922-46AB-4D86-AE7E-12C5988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FF7C-81F8-4CD0-A79E-B0FCEF43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C402-4686-468E-8320-9E9408A2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CBFC-F866-4FA3-92D8-E7632B4A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18AA-EFFF-473F-A812-B0E82CF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A50A-72D0-4E2E-ABF3-6C8393D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5C5D-A3C4-4ACC-9A72-4691069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F3D8-6E0F-456C-B7B5-C27BF5A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CEF3-2E70-4880-8496-B01CB699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3A22-D4D4-451C-8DBB-4C08C144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1E9-A423-48BE-8188-9D866480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93AC-C92C-4D38-8B36-5D5300E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08AE-8931-4A24-B5D8-A7E53F3E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8BD7-7499-42AC-A12C-A91DE87D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B336-E886-4230-87A0-7C19178E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4717-702A-4EE8-877F-56981B27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06D6-6C81-40AC-81B2-3FC14F0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8F1C1-14EF-4D22-AFDF-ED7FF9AD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1DF3-E194-4934-94DD-C5BAD728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52563-5DA1-48B0-B79A-6467EF4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5C3F-57DC-49DA-A85D-B98259E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A0E-922E-4423-B446-DAB655C3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78E4-2E09-4A6D-AB20-90636D9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2BB2-4D86-443F-9CD9-4E012F76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BBF1-DE38-4ECF-A9A9-4123DE6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B997-E528-4ED4-882F-B2D6331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60E05-2BF8-4821-BCF1-5401CD7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DF56-B59C-43BC-834A-CE87F472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903F-98A0-4D92-B1EF-FF07E528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BF12-4EA5-458B-907D-50897740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8E504-4841-410A-9F69-97972CB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F59D-18AC-472A-9AA2-9A47820B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07F-ABBC-4FA0-9B59-5A1E6AD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FD41-3D72-4EAB-92A0-AECBD90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28DE-4104-4940-974F-D6747C28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36B3-9AE1-4BF9-9BD1-58BE44C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D6F2-E02D-4AA4-B0AA-88D381C5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11E3-69BE-43CE-BC12-ACF0D97F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FD53-E889-42B3-A79A-EF0A650B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E123-5DC8-4153-B319-54D3051A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4C82-9F30-47D7-BAFA-A20CD7D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DF3F1-D3B3-4793-8B32-ED3C73C4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80A8-6CB7-4BBA-B538-F597280B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F93-0223-4096-BBFE-11E5A16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1A2B-0194-489A-B311-3DE6A02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BC3D3-3EC8-4746-9CBF-2FAC68E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5C4A-CDC8-420C-9732-CB798A7F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C816-290F-4058-9242-D6769C7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C01BB-90F2-426E-9BE7-DEFF0CEA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F1F18-F518-4ACC-878C-F0365EE8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A80B8-1975-4BD6-9D16-A55D77F4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07AA9-793C-48E2-8EB4-F9DEAF96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7B2E4-E265-42C6-861B-8D2A2F9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C55C-7019-4C8D-999A-919C8DDB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3A1-6249-4812-95CE-5B19C83D08CE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736F-5145-4BB8-BE6A-CEC5174A43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5730-4DF3-4845-A42A-E295F233A6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CF8-C668-4094-8CF2-A9C4061669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8F43-AB1D-4461-A6EB-4F5DFA5BDD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EB8-A731-4342-A353-998502788B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7831-6FF8-4533-916C-BF229BD971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1DE-4674-4BC6-BD68-35B615B57F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DCE1-543C-48FB-8637-73625CBB36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A35D-F0AE-47FF-8755-F6C5F7D0DC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090-FAE9-4FF2-8D85-B856221007C7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C903-BC49-4242-9CE5-CFE8C2A7D312}" type="slidenum">
              <a:rPr b="0" lang="en-US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290D-1626-4A1A-AD37-90B05B5B21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9FC-BE91-4CB5-9E3A-72EA129A0B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AF4-BF91-443B-977A-02B5F5E8C8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9499-B4EF-4375-AC2C-E4FBB69E76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4"/>
          <p:cNvSpPr/>
          <p:nvPr/>
        </p:nvSpPr>
        <p:spPr>
          <a:xfrm>
            <a:off x="3330720" y="620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4747"/>
                </a:solidFill>
                <a:latin typeface="黑体"/>
                <a:ea typeface="黑体"/>
              </a:rPr>
              <a:t>人教新课标五年级品德与社会下册课件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4747"/>
                </a:solidFill>
                <a:latin typeface="黑体"/>
                <a:ea typeface="黑体"/>
              </a:rPr>
              <a:t>第一单元  成长的快乐与烦恼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2" name="WordArt 5"/>
          <p:cNvSpPr txBox="1"/>
          <p:nvPr/>
        </p:nvSpPr>
        <p:spPr>
          <a:xfrm>
            <a:off x="1571760" y="1676520"/>
            <a:ext cx="652464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474747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尝尝苦滋味</a:t>
            </a:r>
            <a:r>
              <a:rPr b="1" lang="en-US" sz="4000" spc="-1" strike="noStrike">
                <a:ln w="0">
                  <a:noFill/>
                </a:ln>
                <a:solidFill>
                  <a:srgbClr val="474747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474747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打包下载</a:t>
            </a:r>
            <a:endParaRPr b="1" lang="en-US" sz="4000" spc="-1" strike="noStrike">
              <a:ln w="0">
                <a:noFill/>
              </a:ln>
              <a:solidFill>
                <a:srgbClr val="474747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0430cadf84ba5236632798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20080130031418270"/>
          <p:cNvPicPr/>
          <p:nvPr/>
        </p:nvPicPr>
        <p:blipFill>
          <a:blip r:embed="rId2"/>
          <a:stretch/>
        </p:blipFill>
        <p:spPr>
          <a:xfrm>
            <a:off x="7164360" y="98100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8"/>
          <p:cNvSpPr/>
          <p:nvPr/>
        </p:nvSpPr>
        <p:spPr>
          <a:xfrm>
            <a:off x="1116000" y="112536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66cc"/>
                </a:solidFill>
                <a:latin typeface="Arial"/>
              </a:rPr>
              <a:t>二</a:t>
            </a:r>
            <a:r>
              <a:rPr b="1" i="1" lang="en-US" sz="2800" spc="-1" strike="noStrike">
                <a:solidFill>
                  <a:srgbClr val="ff66cc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ff66cc"/>
                </a:solidFill>
                <a:latin typeface="Arial"/>
              </a:rPr>
              <a:t>包公断案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187280" y="1700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失败是成功之母，所以我们可以永远失败                                    </a:t>
            </a: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187280" y="2492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困难、挫折对我们只有坏处，没有好处                                     （   ）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140328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Text Box 16"/>
          <p:cNvSpPr/>
          <p:nvPr/>
        </p:nvSpPr>
        <p:spPr>
          <a:xfrm>
            <a:off x="1187280" y="3213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所有成就辉煌的人都经历过坎坷和挫折                                     （    ）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1" name="Text Box 17"/>
          <p:cNvSpPr/>
          <p:nvPr/>
        </p:nvSpPr>
        <p:spPr>
          <a:xfrm>
            <a:off x="1187280" y="3933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毅力是可以磨练出来的                                                              （    ）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1187280" y="465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在学习中遇到难题时，我们应该不假思索的借鉴别人的方法  （    ）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Text Box 20"/>
          <p:cNvSpPr/>
          <p:nvPr/>
        </p:nvSpPr>
        <p:spPr>
          <a:xfrm>
            <a:off x="1187280" y="558972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不同的人对待挫折和失败的态度不同，结果就不同                    （    ）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1547640" y="28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161928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161928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262728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1547640" y="602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741-EBD4-4A82-8195-94B3C347E664}" type="slidenum"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5" descr="5d0648a8-8bcb-411e-ba48-9ccf726024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6"/>
          <p:cNvSpPr/>
          <p:nvPr/>
        </p:nvSpPr>
        <p:spPr>
          <a:xfrm>
            <a:off x="611280" y="40464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不同的人对待挫折和失败的态度不同，有的人把它当作前进中的阶梯；有的人却面对挫折和失败，灰心丧气，失去了信心。那些最后取得了胜利的人，就是每次跌倒都爬起来继续往前走的人。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35" name="Picture 8" descr="8f97b899d3710b1e6f068c5e"/>
          <p:cNvPicPr/>
          <p:nvPr/>
        </p:nvPicPr>
        <p:blipFill>
          <a:blip r:embed="rId2"/>
          <a:stretch/>
        </p:blipFill>
        <p:spPr>
          <a:xfrm>
            <a:off x="3781440" y="3051000"/>
            <a:ext cx="1905120" cy="20196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9"/>
          <p:cNvSpPr/>
          <p:nvPr/>
        </p:nvSpPr>
        <p:spPr>
          <a:xfrm>
            <a:off x="3492360" y="5211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挫折和失败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6"/>
          <p:cNvSpPr/>
          <p:nvPr/>
        </p:nvSpPr>
        <p:spPr>
          <a:xfrm>
            <a:off x="1908000" y="62064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2484360" y="155736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1619280" y="83664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1979640" y="1700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1476360" y="1844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1403280" y="476280"/>
            <a:ext cx="4321080" cy="825120"/>
          </a:xfrm>
          <a:prstGeom prst="rect">
            <a:avLst/>
          </a:prstGeom>
          <a:solidFill>
            <a:srgbClr val="5f5f5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尝尝苦滋味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403280" y="1989000"/>
            <a:ext cx="684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活中的酸甜苦辣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挫折、失败和逆境也是一笔财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同的态度，不同的结果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磨练毅力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1ac341d35d0c3919960a16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6"/>
          <p:cNvSpPr/>
          <p:nvPr/>
        </p:nvSpPr>
        <p:spPr>
          <a:xfrm>
            <a:off x="395280" y="476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728720" y="8431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活中的酸甜苦辣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015920" y="2565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舒适美满、事事如意的生活自然能给我们带来欢乐。但是，生活不可能总是一帆风顺，也有困难、挫折和失败，甚至身处逆境</a:t>
            </a:r>
            <a:r>
              <a:rPr b="1" lang="en-US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……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75" name="Picture 13" descr="ktmj051"/>
          <p:cNvPicPr/>
          <p:nvPr/>
        </p:nvPicPr>
        <p:blipFill>
          <a:blip r:embed="rId2"/>
          <a:stretch/>
        </p:blipFill>
        <p:spPr>
          <a:xfrm>
            <a:off x="7380360" y="1700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5" descr="20081270214243957"/>
          <p:cNvPicPr/>
          <p:nvPr/>
        </p:nvPicPr>
        <p:blipFill>
          <a:blip r:embed="rId1"/>
          <a:stretch/>
        </p:blipFill>
        <p:spPr>
          <a:xfrm>
            <a:off x="0" y="0"/>
            <a:ext cx="9175680" cy="684540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6"/>
          <p:cNvSpPr/>
          <p:nvPr/>
        </p:nvSpPr>
        <p:spPr>
          <a:xfrm>
            <a:off x="1835280" y="333360"/>
            <a:ext cx="6397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霍金的故事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科学家霍金小时候的学习能力似乎并不强，他很晚才学会阅读，上学后在班级里的成绩从来没有进过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名，而且因为作业总是“很不整洁”，老师们觉得他已经“无可救药”了，同学们也把他当成了嘲弄的对象。在霍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岁时，他班上有两个男孩子用一袋糖果打赌，说他永远不能成材，同学们还带有讽刺意味地给他起了个外号叫“爱因斯坦”。谁知，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多年后，当年毫不出众的小男孩真的成了物理界一位大师级人物。这究竟是什么原因呢？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78" name="Picture 12" descr="c3b71c9ec7a26c41e6922f24ef2d74d3"/>
          <p:cNvPicPr/>
          <p:nvPr/>
        </p:nvPicPr>
        <p:blipFill>
          <a:blip r:embed="rId2"/>
          <a:stretch/>
        </p:blipFill>
        <p:spPr>
          <a:xfrm>
            <a:off x="539640" y="47628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6"/>
          <p:cNvSpPr/>
          <p:nvPr/>
        </p:nvSpPr>
        <p:spPr>
          <a:xfrm>
            <a:off x="370368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80" name="Picture 5" descr="68f97231d327ea30ebc4afb3"/>
          <p:cNvPicPr/>
          <p:nvPr/>
        </p:nvPicPr>
        <p:blipFill>
          <a:blip r:embed="rId1"/>
          <a:stretch/>
        </p:blipFill>
        <p:spPr>
          <a:xfrm>
            <a:off x="179280" y="260280"/>
            <a:ext cx="8675640" cy="59770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1619280" y="76500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f7f7f"/>
                </a:solidFill>
                <a:latin typeface="Arial"/>
              </a:rPr>
              <a:t>关于挫折的故事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1547640" y="1773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贝利成名后，有个记者采访他。“你的儿子以后是否也会同你一样，成为一代球王呢？”贝利回答：“不会。因为他与我的生活环境不同。我童年时的生活环境十分差，但我却正是在这种恶劣的环境中磨练我坚强斗志，使我有条件成为球王，而他生活安逸，没有经受困难的磨练，他不可能成为球王。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83" name="Picture 10" descr="c3b71c9ec7a26c41e6922f24ef2d74d3"/>
          <p:cNvPicPr/>
          <p:nvPr/>
        </p:nvPicPr>
        <p:blipFill>
          <a:blip r:embed="rId2"/>
          <a:stretch/>
        </p:blipFill>
        <p:spPr>
          <a:xfrm>
            <a:off x="7236000" y="260280"/>
            <a:ext cx="1368360" cy="16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幼圆"/>
              </a:rPr>
              <a:t>名人名言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19040" y="917640"/>
            <a:ext cx="829152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每一种挫折或不利的突变，是带着同样或较大的有利的种子。 </a:t>
            </a:r>
            <a:r>
              <a:rPr b="1" lang="en-US" sz="2400" spc="-1" strike="noStrike">
                <a:solidFill>
                  <a:srgbClr val="657b3e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爱默生</a:t>
            </a:r>
            <a:r>
              <a:rPr b="1" lang="en-US" sz="2400" spc="-1" strike="noStrike">
                <a:solidFill>
                  <a:srgbClr val="657b3e"/>
                </a:solidFill>
                <a:latin typeface="幼圆"/>
              </a:rPr>
              <a:t>【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美</a:t>
            </a:r>
            <a:r>
              <a:rPr b="1" lang="en-US" sz="2400" spc="-1" strike="noStrike">
                <a:solidFill>
                  <a:srgbClr val="657b3e"/>
                </a:solidFill>
                <a:latin typeface="幼圆"/>
              </a:rPr>
              <a:t>】 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短时期的挫折比短时间的成功好。 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   </a:t>
            </a:r>
            <a:r>
              <a:rPr b="1" lang="en-US" sz="2400" spc="-1" strike="noStrike">
                <a:solidFill>
                  <a:srgbClr val="657b3e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毕达哥拉斯</a:t>
            </a:r>
            <a:r>
              <a:rPr b="1" lang="en-US" sz="2400" spc="-1" strike="noStrike">
                <a:solidFill>
                  <a:srgbClr val="657b3e"/>
                </a:solidFill>
                <a:latin typeface="幼圆"/>
              </a:rPr>
              <a:t>【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古希腊</a:t>
            </a:r>
            <a:r>
              <a:rPr b="1" lang="en-US" sz="2400" spc="-1" strike="noStrike">
                <a:solidFill>
                  <a:srgbClr val="657b3e"/>
                </a:solidFill>
                <a:latin typeface="幼圆"/>
              </a:rPr>
              <a:t>】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不耻最后</a:t>
            </a:r>
            <a:r>
              <a:rPr b="1" lang="zh-CN" sz="2400" spc="-1" strike="noStrike">
                <a:solidFill>
                  <a:srgbClr val="657b3e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。即使慢，弛而不息，纵会落后，纵会失败，但一定可以达到他所向的目标。 </a:t>
            </a:r>
            <a:r>
              <a:rPr b="1" lang="en-US" sz="2400" spc="-1" strike="noStrike">
                <a:solidFill>
                  <a:srgbClr val="657b3e"/>
                </a:solidFill>
                <a:latin typeface="幼圆"/>
              </a:rPr>
              <a:t>----- 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鲁 迅 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幼圆"/>
              </a:rPr>
              <a:t>什么是挫折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24000" y="1944360"/>
            <a:ext cx="82915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幼圆"/>
              </a:rPr>
              <a:t>失败挫折可以锻炼一般优秀的人物：它挑出一批心灵，把纯洁与强壮的放在一边，使它们变得更纯洁更强壮；但它使其余的心灵加速堕落，或是斩断它们飞跃的力量 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pic>
        <p:nvPicPr>
          <p:cNvPr id="688" name="Picture 4" descr="ktmj051"/>
          <p:cNvPicPr/>
          <p:nvPr/>
        </p:nvPicPr>
        <p:blipFill>
          <a:blip r:embed="rId1"/>
          <a:stretch/>
        </p:blipFill>
        <p:spPr>
          <a:xfrm>
            <a:off x="680400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b898"/>
                </a:solidFill>
                <a:latin typeface="幼圆"/>
              </a:rPr>
              <a:t>挫折的力量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5280" y="1766880"/>
            <a:ext cx="8291520" cy="27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挫折是坚韧之石，擦出希望之火；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   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是希望之火，点燃理想之灯；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   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是理想之灯，照亮前进之路；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  </a:t>
            </a:r>
            <a:r>
              <a:rPr b="1" lang="zh-CN" sz="2400" spc="-1" strike="noStrike">
                <a:solidFill>
                  <a:srgbClr val="657b3e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是前进之路，给人积极向上的力量！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是挫折，使他们平静的理想之湖激荡起壮美的浪花。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是挫折，使他们和缓的心灵之曲奏鸣出雄壮的旋律！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pic>
        <p:nvPicPr>
          <p:cNvPr id="691" name="Picture 4" descr="20080130031418270"/>
          <p:cNvPicPr/>
          <p:nvPr/>
        </p:nvPicPr>
        <p:blipFill>
          <a:blip r:embed="rId1"/>
          <a:stretch/>
        </p:blipFill>
        <p:spPr>
          <a:xfrm>
            <a:off x="1042920" y="62064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8199"/>
          <p:cNvSpPr/>
          <p:nvPr/>
        </p:nvSpPr>
        <p:spPr>
          <a:xfrm>
            <a:off x="2936880" y="1319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7a452"/>
              </a:solidFill>
              <a:latin typeface="幼圆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411280" y="1557360"/>
          <a:ext cx="720720" cy="11066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110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挫折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5" name="Picture 5" descr="085c3980fc3d39f1bd3e1e21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57596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6"/>
          <p:cNvSpPr/>
          <p:nvPr/>
        </p:nvSpPr>
        <p:spPr>
          <a:xfrm>
            <a:off x="1692360" y="404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一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精卫填海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1763640" y="19890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1476360" y="1484280"/>
            <a:ext cx="41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324000" y="1052640"/>
            <a:ext cx="7920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生活不可能总是一帆风顺，也会有（     ）、（     ）和（      ），（                     ）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       ）和（      ）是成长所需要的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        ）和（      ）往往会使我们感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沮丧，这并不一定是坏事，（       ）和（       ）是我们成长中不可缺少的经历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      ）、（       ）和（      ）也是一笔财富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      ）获得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年度世界最著名的科普图书奖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安万特科学图书奖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0" name="Text Box 74"/>
          <p:cNvSpPr/>
          <p:nvPr/>
        </p:nvSpPr>
        <p:spPr>
          <a:xfrm>
            <a:off x="6372360" y="1125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困难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1" name="Text Box 75"/>
          <p:cNvSpPr/>
          <p:nvPr/>
        </p:nvSpPr>
        <p:spPr>
          <a:xfrm>
            <a:off x="61128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2" name="Text Box 76"/>
          <p:cNvSpPr/>
          <p:nvPr/>
        </p:nvSpPr>
        <p:spPr>
          <a:xfrm>
            <a:off x="4427640" y="155736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甚至身处逆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3" name="Text Box 78"/>
          <p:cNvSpPr/>
          <p:nvPr/>
        </p:nvSpPr>
        <p:spPr>
          <a:xfrm>
            <a:off x="1042920" y="220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挫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4" name="Text Box 80"/>
          <p:cNvSpPr/>
          <p:nvPr/>
        </p:nvSpPr>
        <p:spPr>
          <a:xfrm>
            <a:off x="2771640" y="2205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5" name="Text Box 88"/>
          <p:cNvSpPr/>
          <p:nvPr/>
        </p:nvSpPr>
        <p:spPr>
          <a:xfrm>
            <a:off x="111600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挫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Text Box 89"/>
          <p:cNvSpPr/>
          <p:nvPr/>
        </p:nvSpPr>
        <p:spPr>
          <a:xfrm>
            <a:off x="284328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7" name="Text Box 90"/>
          <p:cNvSpPr/>
          <p:nvPr/>
        </p:nvSpPr>
        <p:spPr>
          <a:xfrm>
            <a:off x="5148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挫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8" name="Text Box 91"/>
          <p:cNvSpPr/>
          <p:nvPr/>
        </p:nvSpPr>
        <p:spPr>
          <a:xfrm>
            <a:off x="6732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9" name="Text Box 92"/>
          <p:cNvSpPr/>
          <p:nvPr/>
        </p:nvSpPr>
        <p:spPr>
          <a:xfrm>
            <a:off x="1042920" y="45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挫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0" name="Text Box 93"/>
          <p:cNvSpPr/>
          <p:nvPr/>
        </p:nvSpPr>
        <p:spPr>
          <a:xfrm>
            <a:off x="2771640" y="45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Text Box 94"/>
          <p:cNvSpPr/>
          <p:nvPr/>
        </p:nvSpPr>
        <p:spPr>
          <a:xfrm>
            <a:off x="450072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逆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2" name="Text Box 95"/>
          <p:cNvSpPr/>
          <p:nvPr/>
        </p:nvSpPr>
        <p:spPr>
          <a:xfrm>
            <a:off x="1042920" y="522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霍金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13" name="Picture 97" descr="090104210551403"/>
          <p:cNvPicPr/>
          <p:nvPr/>
        </p:nvPicPr>
        <p:blipFill>
          <a:blip r:embed="rId2"/>
          <a:stretch/>
        </p:blipFill>
        <p:spPr>
          <a:xfrm>
            <a:off x="788508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3:50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9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