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6226-3EF3-4758-8916-DA5C37FCB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1986-281D-4583-AE27-28FDE885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46AE-F65E-4DD3-B14F-BEF226036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16AC-E9F7-4ECE-9B78-70B1FADA8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A5E1-710A-4E97-B8E0-FA7C108D7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ABDA-48D6-4050-A642-8C144E40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F061-5220-4A8B-9AD3-27DC6F0F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7451-492A-4BA6-A41F-EC83E8F8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760B-9409-4D0E-B50F-B0EF92DA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02BA-18BB-4616-84C0-4282C16B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5CE6-626F-4BDD-A775-B8B98641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C4F6-3E1F-4604-A8A4-14DAC5B7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871A-4EA5-4F9B-90BC-A5FF7316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8DF1-0BA1-496B-A7EB-80B35ACB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BE30-5257-4E23-BA0E-57049FC8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E066-98BC-4A40-B7C9-06FA5DAFD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42A7-23A8-4F2F-A120-134F8D117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CFC7-DBFD-4B0C-A947-CD2BBE7A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FE49-A172-4E60-922B-BF78E95E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0D5A-0465-46A5-8A77-49AC4282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6735-D35C-4D00-8F15-0C987AA3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B2F2-BEA8-405C-A730-B6C51B70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72B0-7EDB-4533-B9A8-22DF7413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AC15-42DA-4863-A5CC-E07DEF8D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38E8-FB60-46E8-A95C-5A4EB2817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77F8-1483-4A0F-AE35-BF4629BCB5B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p_large_ulhN_3eff00000e952d0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财产留给谁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"/>
          <p:cNvSpPr/>
          <p:nvPr/>
        </p:nvSpPr>
        <p:spPr>
          <a:xfrm>
            <a:off x="3125160" y="990720"/>
            <a:ext cx="293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七课   拥有财产的权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Oval 2"/>
          <p:cNvSpPr/>
          <p:nvPr/>
        </p:nvSpPr>
        <p:spPr>
          <a:xfrm>
            <a:off x="1042920" y="2708280"/>
            <a:ext cx="3889440" cy="2521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835280" y="314172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法定继承人范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916360" y="1700280"/>
            <a:ext cx="3527280" cy="360"/>
            <a:chOff x="2916360" y="1700280"/>
            <a:chExt cx="3527280" cy="360"/>
          </a:xfrm>
        </p:grpSpPr>
        <p:sp>
          <p:nvSpPr>
            <p:cNvPr id="116" name="Line 4"/>
            <p:cNvSpPr/>
            <p:nvPr/>
          </p:nvSpPr>
          <p:spPr>
            <a:xfrm>
              <a:off x="2916360" y="1700280"/>
              <a:ext cx="35272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2916360" y="1700280"/>
              <a:ext cx="3527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Oval 5"/>
          <p:cNvSpPr/>
          <p:nvPr/>
        </p:nvSpPr>
        <p:spPr>
          <a:xfrm>
            <a:off x="5219640" y="2852640"/>
            <a:ext cx="2879640" cy="158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5364000" y="3357720"/>
            <a:ext cx="25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法定继承人以外的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1835280" y="69228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 产 处 理 方 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979640" y="3645000"/>
            <a:ext cx="1800360" cy="360"/>
            <a:chOff x="1979640" y="3645000"/>
            <a:chExt cx="1800360" cy="360"/>
          </a:xfrm>
        </p:grpSpPr>
        <p:sp>
          <p:nvSpPr>
            <p:cNvPr id="122" name="Line 8"/>
            <p:cNvSpPr/>
            <p:nvPr/>
          </p:nvSpPr>
          <p:spPr>
            <a:xfrm>
              <a:off x="1979640" y="3645000"/>
              <a:ext cx="180036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1979640" y="3645000"/>
              <a:ext cx="180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AutoShape 9"/>
          <p:cNvSpPr/>
          <p:nvPr/>
        </p:nvSpPr>
        <p:spPr>
          <a:xfrm>
            <a:off x="2916360" y="1700280"/>
            <a:ext cx="71280" cy="1081080"/>
          </a:xfrm>
          <a:prstGeom prst="downArrow">
            <a:avLst>
              <a:gd name="adj1" fmla="val 50000"/>
              <a:gd name="adj2" fmla="val 3789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0"/>
          <p:cNvSpPr/>
          <p:nvPr/>
        </p:nvSpPr>
        <p:spPr>
          <a:xfrm>
            <a:off x="6443640" y="1700280"/>
            <a:ext cx="73080" cy="1152360"/>
          </a:xfrm>
          <a:prstGeom prst="downArrow">
            <a:avLst>
              <a:gd name="adj1" fmla="val 50000"/>
              <a:gd name="adj2" fmla="val 39399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979640" y="3645000"/>
            <a:ext cx="360" cy="504720"/>
            <a:chOff x="1979640" y="3645000"/>
            <a:chExt cx="360" cy="504720"/>
          </a:xfrm>
        </p:grpSpPr>
        <p:sp>
          <p:nvSpPr>
            <p:cNvPr id="127" name="Line 11"/>
            <p:cNvSpPr/>
            <p:nvPr/>
          </p:nvSpPr>
          <p:spPr>
            <a:xfrm>
              <a:off x="1979640" y="3645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1979640" y="3645000"/>
              <a:ext cx="36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780000" y="3645000"/>
            <a:ext cx="360" cy="431640"/>
            <a:chOff x="3780000" y="3645000"/>
            <a:chExt cx="360" cy="431640"/>
          </a:xfrm>
        </p:grpSpPr>
        <p:sp>
          <p:nvSpPr>
            <p:cNvPr id="130" name="Line 12"/>
            <p:cNvSpPr/>
            <p:nvPr/>
          </p:nvSpPr>
          <p:spPr>
            <a:xfrm>
              <a:off x="3780000" y="3645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3780000" y="3645000"/>
              <a:ext cx="360" cy="43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 Box 13"/>
          <p:cNvSpPr/>
          <p:nvPr/>
        </p:nvSpPr>
        <p:spPr>
          <a:xfrm>
            <a:off x="1403280" y="4221000"/>
            <a:ext cx="11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1547640" y="4221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黑体"/>
              </a:rPr>
              <a:t>法定继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3132000" y="4221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黑体"/>
              </a:rPr>
              <a:t>遗嘱继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6300720" y="3933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黑体"/>
              </a:rPr>
              <a:t>遗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843280" y="3500280"/>
            <a:ext cx="360" cy="144720"/>
            <a:chOff x="2843280" y="3500280"/>
            <a:chExt cx="360" cy="144720"/>
          </a:xfrm>
        </p:grpSpPr>
        <p:sp>
          <p:nvSpPr>
            <p:cNvPr id="137" name="Line 17"/>
            <p:cNvSpPr/>
            <p:nvPr/>
          </p:nvSpPr>
          <p:spPr>
            <a:xfrm>
              <a:off x="2843280" y="3500280"/>
              <a:ext cx="0" cy="1447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2843280" y="3500280"/>
              <a:ext cx="360" cy="1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659640" y="3789360"/>
            <a:ext cx="360" cy="144360"/>
            <a:chOff x="6659640" y="3789360"/>
            <a:chExt cx="360" cy="144360"/>
          </a:xfrm>
        </p:grpSpPr>
        <p:sp>
          <p:nvSpPr>
            <p:cNvPr id="140" name="Line 18"/>
            <p:cNvSpPr/>
            <p:nvPr/>
          </p:nvSpPr>
          <p:spPr>
            <a:xfrm>
              <a:off x="6659640" y="3789360"/>
              <a:ext cx="0" cy="144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6659640" y="3789360"/>
              <a:ext cx="360" cy="14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659640" y="3716280"/>
            <a:ext cx="360" cy="289080"/>
            <a:chOff x="6659640" y="3716280"/>
            <a:chExt cx="360" cy="289080"/>
          </a:xfrm>
        </p:grpSpPr>
        <p:sp>
          <p:nvSpPr>
            <p:cNvPr id="143" name="Line 19"/>
            <p:cNvSpPr/>
            <p:nvPr/>
          </p:nvSpPr>
          <p:spPr>
            <a:xfrm>
              <a:off x="6659640" y="371628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6659640" y="3716280"/>
              <a:ext cx="360" cy="28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文本框 8194"/>
          <p:cNvSpPr/>
          <p:nvPr/>
        </p:nvSpPr>
        <p:spPr>
          <a:xfrm>
            <a:off x="1908000" y="5816520"/>
            <a:ext cx="5328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矩形 26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本节知识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-193680" y="2438280"/>
            <a:ext cx="10335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财产留给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755640" y="1700280"/>
            <a:ext cx="431640" cy="3744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97200 h 3744720"/>
              <a:gd name="textAreaBottom" fmla="*/ 3647520 h 37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258920" y="1484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们享有财产继承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7"/>
          <p:cNvSpPr/>
          <p:nvPr/>
        </p:nvSpPr>
        <p:spPr>
          <a:xfrm>
            <a:off x="3419640" y="1052640"/>
            <a:ext cx="360360" cy="1942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50400 h 1942920"/>
              <a:gd name="textAreaBottom" fmla="*/ 1892520 h 194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3924360" y="620640"/>
            <a:ext cx="5219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被继承人的含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遗产的含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及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3708360" y="162864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继承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继承权的含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法定继承人的范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3995640" y="270828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遗产继承顺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1187280" y="5300640"/>
            <a:ext cx="4249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继承权发生争议的时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1116000" y="357336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继承权的实现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3"/>
          <p:cNvSpPr/>
          <p:nvPr/>
        </p:nvSpPr>
        <p:spPr>
          <a:xfrm>
            <a:off x="4211640" y="3357720"/>
            <a:ext cx="216000" cy="1295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427640" y="321300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法定继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4500720" y="3716280"/>
            <a:ext cx="194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遗嘱继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1403280" y="494172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5032440" y="5084640"/>
            <a:ext cx="45864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8"/>
          <p:cNvSpPr/>
          <p:nvPr/>
        </p:nvSpPr>
        <p:spPr>
          <a:xfrm>
            <a:off x="5435640" y="5157720"/>
            <a:ext cx="73080" cy="1224000"/>
          </a:xfrm>
          <a:custGeom>
            <a:avLst/>
            <a:gdLst>
              <a:gd name="textAreaLeft" fmla="*/ 46800 w 73080"/>
              <a:gd name="textAreaRight" fmla="*/ 73440 w 730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9"/>
          <p:cNvSpPr/>
          <p:nvPr/>
        </p:nvSpPr>
        <p:spPr>
          <a:xfrm>
            <a:off x="5796000" y="5229360"/>
            <a:ext cx="10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0"/>
          <p:cNvSpPr/>
          <p:nvPr/>
        </p:nvSpPr>
        <p:spPr>
          <a:xfrm>
            <a:off x="7303680" y="515772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重情重义、互谅互让、积极协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1"/>
          <p:cNvSpPr/>
          <p:nvPr/>
        </p:nvSpPr>
        <p:spPr>
          <a:xfrm>
            <a:off x="5724360" y="595008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运用法律的武器维护自己的正当利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2"/>
          <p:cNvSpPr/>
          <p:nvPr/>
        </p:nvSpPr>
        <p:spPr>
          <a:xfrm>
            <a:off x="4984920" y="4586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3"/>
          <p:cNvSpPr/>
          <p:nvPr/>
        </p:nvSpPr>
        <p:spPr>
          <a:xfrm>
            <a:off x="5187960" y="4221000"/>
            <a:ext cx="2238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受遗赠人依据遗赠人（立遗嘱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的遗赠取得财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500"/>
                            </p:stCondLst>
                            <p:childTnLst>
                              <p:par>
                                <p:cTn id="30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000"/>
                            </p:stCondLst>
                            <p:childTnLst>
                              <p:par>
                                <p:cTn id="30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500"/>
                            </p:stCondLst>
                            <p:childTnLst>
                              <p:par>
                                <p:cTn id="31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4000"/>
                            </p:stCondLst>
                            <p:childTnLst>
                              <p:par>
                                <p:cTn id="31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500"/>
                            </p:stCondLst>
                            <p:childTnLst>
                              <p:par>
                                <p:cTn id="31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0"/>
                            </p:stCondLst>
                            <p:childTnLst>
                              <p:par>
                                <p:cTn id="32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隶书"/>
              </a:rPr>
              <a:t>遗赠和遗嘱继承区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701360"/>
            <a:ext cx="40384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什么是遗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指公民用遗嘱将个人财产的一部分或全部赠给国家、集体或者法定继承人以外的人，而于遗嘱人死后生效的单方法律行为。遗赠是遗嘱人以遗嘱处分其遗产的方法之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48320" y="1771200"/>
            <a:ext cx="40384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二者相同之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都是通过遗嘱的方式，都是必须由立遗嘱人亲自进行意思的表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二者的不同之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遗嘱继承人只能是法定继承人，而受遗赠人却是法定继承人以外的人 或者国家、集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WordArt 6"/>
          <p:cNvSpPr txBox="1"/>
          <p:nvPr/>
        </p:nvSpPr>
        <p:spPr>
          <a:xfrm>
            <a:off x="3505320" y="5943600"/>
            <a:ext cx="2089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要记住哟！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8F73-25AB-4187-8CAA-41EBDC4461D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457200" y="274680"/>
            <a:ext cx="3295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相关链接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66280" y="1752120"/>
            <a:ext cx="8037720" cy="36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Arial"/>
                <a:ea typeface="楷体_GB2312"/>
              </a:rPr>
              <a:t>继承人有下列行为之一的，丧失继承权：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故意杀害被继承人的；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为争夺遗产而杀害其他继承人的；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遗弃被继承人的，或者虐待被继承人情节严重的 ；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伪造、篡改或销毁遗嘱，情节严重的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juio087"/>
          <p:cNvPicPr/>
          <p:nvPr/>
        </p:nvPicPr>
        <p:blipFill>
          <a:blip r:embed="rId1"/>
          <a:stretch/>
        </p:blipFill>
        <p:spPr>
          <a:xfrm>
            <a:off x="7451640" y="5229360"/>
            <a:ext cx="1305000" cy="123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有关继承的概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被继承人：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法律上将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</a:rPr>
              <a:t>遗留财产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的死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继承人：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继承死者合法财产的所有人（受遗者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法定继承人：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在法律上依法继承死者遗产的人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也就是法定继承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继承权：继承人依法取得被继承人遗产的权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继承权的取得依据：根据血缘关系、婚姻关系和抚养关系确立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遗产：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被继承人遗留的个人合法财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-360" y="990720"/>
            <a:ext cx="89154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学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晓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家庭是个典型的联合家庭，全家共六口人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爸爸、妈妈、爷爷、叔叔、姑姑和自己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属于其父所有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人财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稿酬存款、图书字画、宝石古玩等，此外，他们家还有公共财产：五间私房、彩电、冰箱等。因晓军父亲病情恶化，晓军的母亲、爷爷、叔叔、姑姑都在谈论财产继承问题。爷爷认为，晓军父亲的财产都能讲明来源，即便来源不明，人过世了，财产自然归家人所有。对此，晓军也觉得似乎有道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问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晓军父亲尚未辞世，财产能继承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是否所有的财产都可以继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）何为遗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0"/>
            <a:ext cx="8305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我们享有财产继承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4876920"/>
            <a:ext cx="9144000" cy="167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必须是公民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死亡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遗留的财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必须是公民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个人所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必须是公民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合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财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5867280" y="5105520"/>
            <a:ext cx="76320" cy="1295280"/>
          </a:xfrm>
          <a:custGeom>
            <a:avLst/>
            <a:gdLst>
              <a:gd name="textAreaLeft" fmla="*/ 0 w 76320"/>
              <a:gd name="textAreaRight" fmla="*/ 27360 w 763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5943600" y="53341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遗产具备的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活动二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生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剧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143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久，晓军的父亲因病去世，晓军的家人召开了家庭会议，准备继承遗产，可是在谁能继承，继承多少这些问题上争执不下。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叔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觉得：晓军的爷爷、妈妈、姑姑、晓军和自己都是晓军爸爸的亲人，都应该继承爸爸的遗产。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姑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却说：晓军是小孩子，没有继承权。而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妈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认为：姑姑迟早是要嫁出去的，不能继承父亲的遗产。对此，晓军感到很困惑，究竟谁说的对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你根据课本的知识帮晓军对家人的观点进行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判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55674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国继承法第二章规定：被继承人的配偶、子女、父母、兄弟姐妹、祖父母、外祖父母为法定继承人，享有继承权。因此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本案中晓军的爷爷、妈妈、叔叔、姑姑和晓军都有继承权。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8194"/>
          <p:cNvSpPr/>
          <p:nvPr/>
        </p:nvSpPr>
        <p:spPr>
          <a:xfrm>
            <a:off x="1908000" y="808200"/>
            <a:ext cx="5328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法定继承人范围、确立依据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继承顺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137124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法定继承人范围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国继承法第二章规定：被继承人的配偶、子女、父母、兄弟姐妹、祖父母、外祖父母为法定继承人，享有继承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确立依据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血缘关系、婚姻关系和抚养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继承顺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第一顺序：配偶、子女、父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二顺序：兄弟姐妹、祖父母、外祖父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注：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我国继承法规定，继承开始后，第一顺序继承人继承，第二顺序继承人不继承，如果没有第一顺序继承人或第一顺序继承人放弃继承权的，由第二顺序继承人继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895480" y="4114800"/>
            <a:ext cx="360" cy="380880"/>
            <a:chOff x="2895480" y="4114800"/>
            <a:chExt cx="360" cy="380880"/>
          </a:xfrm>
        </p:grpSpPr>
        <p:sp>
          <p:nvSpPr>
            <p:cNvPr id="100" name="Line 5"/>
            <p:cNvSpPr/>
            <p:nvPr/>
          </p:nvSpPr>
          <p:spPr>
            <a:xfrm>
              <a:off x="2895480" y="4114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2895480" y="411480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请学生阅读教材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8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页，了解遗产分配原则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遗产分配原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2819520" y="762120"/>
            <a:ext cx="75960" cy="2133360"/>
          </a:xfrm>
          <a:custGeom>
            <a:avLst/>
            <a:gdLst>
              <a:gd name="textAreaLeft" fmla="*/ 48600 w 75960"/>
              <a:gd name="textAreaRight" fmla="*/ 76320 w 7596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124080" y="838080"/>
            <a:ext cx="20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9"/>
                </a:solidFill>
                <a:latin typeface="Arial"/>
              </a:rPr>
              <a:t>均等分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3048120" y="16002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9"/>
                </a:solidFill>
                <a:latin typeface="Arial"/>
              </a:rPr>
              <a:t>特殊情况下，继承人协商同意的，也可不均等（未成年人、老人、失去劳动能力的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0" y="4253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案中晓军父亲遗留的遗产有稿酬、图书字画、宝石古玩和其他财产中属于他的那份，他的法定继承人有爷爷、妈妈、叔叔、姑姑和晓军五人，其中属于第一顺序的有爷爷、妈妈和晓军，遗产应该由他们来继承，而作为第二顺序的叔叔和姑姑则不能继承一般来说爷爷、妈妈和晓军应该平均分配遗产份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同学们参照课本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想一想，晓军家依据的这种继承方式是什么继承方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继承权的实现方式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在我国，公民的遗产继承方式有两种，一种是法定继承，一种是遗嘱继承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动三：律师到我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正当晓军的家人准备分割遗产的时候，晓军父亲的律师来到晓军家，拿出了晓军父亲生前的遗嘱，遗嘱中提到：晓军是未成年人，要把遗产的二分之一留给晓军，父亲年老体弱，四分之一留给父亲，另外四分只一给晓军的母亲。晓军继承的份额暂时由爷爷和母亲共同管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问：晓军父亲立遗嘱确定继承人的继承方式叫什么？ </a:t>
            </a:r>
            <a:br>
              <a:rPr sz="2800"/>
            </a:b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遗嘱继承：继承人依照被继承人所立遗嘱，继承被继承人遗产的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遗嘱继承最大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优点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在于被继承人能够充分按照自己的意愿处分财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遗嘱有效的必备条件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立遗嘱人必须有遗嘱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立遗嘱人的意思表示必须真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内容和形式都合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继承人必须是法定继承的范围内的一人或数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注：遗嘱继承优先于法定继承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动四：家庭纷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年后，晓军的叔叔结婚后分出去过了，对爷爷的生活不闻不问，姑姑也远嫁他乡，很少回来。晓军母亲一个女人家既要抚养教育晓军，又要照顾年迈的爷爷，生活十分的艰辛，好在邻居阿山一家心地好，经常帮衬着，才能够正常的生活。又过了一年，爷爷去世了，临终前，爷爷立下遗嘱并办理了公证：死后，存款由晓军继承，房产送给照顾他们的邻居阿山。晓军的叔叔和姑姑知道父亲去世，都回家要求继承遗产，要求晓军交出爷爷奶奶的存款，，并要把邻居的房产收回。几个人为了多继承遗产闹得不可开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0" y="146088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探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现在这个阿山不是晓军爷爷的法定继承人，这个遗嘱还有效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效。这是叫遗赠，公民可以将自己的财产待死后不留给亲属，而赠给法定继承人外的人，这是法律允许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叔叔和姑姑的做法正确吗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面对叔叔和姑姑，假如你是晓军，你会怎么做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同学阅读教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7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例子思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当继承权发生争议时 ，应采取的正确态度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我们应尽量本着互谅互让的精神，积极协商解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当自己的合法继承权受到侵害时，要勇敢拿起法律武器维护自己的继承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2T09:00:5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1:44Z</dcterms:modified>
  <cp:revision>1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