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28.png" ContentType="image/png"/>
  <Override PartName="/ppt/media/image3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9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applause.wav" ContentType="audio/x-wav"/>
  <Override PartName="/ppt/media/image43.jpeg" ContentType="image/jpeg"/>
  <Override PartName="/ppt/media/image8.jpeg" ContentType="image/jpeg"/>
  <Override PartName="/ppt/media/image3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E7F-1C26-46F6-B162-0A9B0F8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BCD-1B19-4449-9175-D53184F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D40-F719-4402-8963-9579A56F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5D6-1B65-4067-881A-E2A60D7B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7462-4535-48DB-A6C9-42F2E816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24E-2E04-42A2-8AC3-AE65BB0F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82B1-AEED-4BD1-B47F-579F239D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3F9-94D7-47B0-BE10-671A959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7587-009C-4478-8E6D-051BC98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40A7-C517-4D53-8C46-3D88ED0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EEF-D358-4072-B633-6F5EC2C3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DB3-9A12-4BE2-A458-82B0FC6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431-EA1D-4C3A-84E0-278D25A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775-E7D4-4C2B-815A-F6F7154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B5D1-B558-4198-B9DB-0F8C3FC2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168-780F-4B2A-8EBD-FD6B784E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6802-48EE-46D7-BB7E-D3F64A50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CF3-7B03-4E2E-8278-01F9F6B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487-EF1B-494C-8050-FF52E3C7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3D2-F56D-4851-BF33-76F907D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23E-41E0-43FC-835C-747340D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B45-5ACD-493F-B5AC-1254916C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94C-BD19-407A-843A-5C8D67D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714-1B3F-4400-87CA-1D024EB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D13-1740-4325-A4E6-7997B2944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AEB-D507-4512-A513-E1D45BE72D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3187800" y="3338640"/>
            <a:ext cx="3213000" cy="21654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365120" y="1052640"/>
            <a:ext cx="66312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吃穿用哪里来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3"/>
          <a:stretch/>
        </p:blipFill>
        <p:spPr>
          <a:xfrm>
            <a:off x="17640" y="2859120"/>
            <a:ext cx="3574800" cy="2725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"/>
          <p:cNvPicPr/>
          <p:nvPr/>
        </p:nvPicPr>
        <p:blipFill>
          <a:blip r:embed="rId4"/>
          <a:stretch/>
        </p:blipFill>
        <p:spPr>
          <a:xfrm>
            <a:off x="6300720" y="3213000"/>
            <a:ext cx="2578320" cy="18748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179280" y="26028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468360" y="692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渔民在捕鱼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01360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0" y="549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牧民在放牧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333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茶农在采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964720" cy="52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476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果农在采摘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6"/>
          <p:cNvSpPr/>
          <p:nvPr/>
        </p:nvSpPr>
        <p:spPr>
          <a:xfrm>
            <a:off x="2855880" y="717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9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348000" y="645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林业工人造林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27"/>
          <p:cNvSpPr/>
          <p:nvPr/>
        </p:nvSpPr>
        <p:spPr>
          <a:xfrm>
            <a:off x="0" y="333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1028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菜农在种菜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4" name="Picture 1029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2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农产品来自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2843280" y="692280"/>
            <a:ext cx="504720" cy="4392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114120 h 4392360"/>
              <a:gd name="textAreaBottom" fmla="*/ 4278240 h 43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564000" y="692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农业（种植业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41964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林业（植树造林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76720" y="3068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牧业（养殖业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16360" y="4724280"/>
            <a:ext cx="57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3640" y="1916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渔业（水产养殖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189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971640" y="1954080"/>
            <a:ext cx="7200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看我们当地农村主要生产哪些农产品？我们餐桌上的食品，哪些是本地产的，哪些是外地产的？再了解家乡的一种农作物，在什么季节播种，什么季节收获？ 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-181080" y="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0" y="260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二、水稻种植过程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752480" y="5334120"/>
            <a:ext cx="5639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育秧：农民利用保温的塑料地膜，精心培育和护理秧苗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404640"/>
            <a:ext cx="5975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52480" y="5334120"/>
            <a:ext cx="5639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犁地：春天，农民把土地犁得疏松，以便播种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1187280" y="404640"/>
            <a:ext cx="266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童谣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258920" y="1628640"/>
            <a:ext cx="691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大饼哪里来？面粉做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面粉哪里来？小麦磨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小麦哪里来？农民伯伯种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STH70040.WAV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5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-181080" y="549360"/>
            <a:ext cx="600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52480" y="5334120"/>
            <a:ext cx="6275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插秧：秧田里长出了绿油油的秧苗，农民忙着把秧苗插到水田里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476280"/>
            <a:ext cx="600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58920" y="5229360"/>
            <a:ext cx="6622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田间管理：农民为了让水稻茁壮成长，还需要喷药、施肥、排水、灌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0" y="549360"/>
            <a:ext cx="600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92360" y="5300640"/>
            <a:ext cx="6348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收割：沉甸甸的稻穗低着头，收获的季节到了。农民开始起早贪黑地忙着收割。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8196"/>
          <p:cNvSpPr/>
          <p:nvPr/>
        </p:nvSpPr>
        <p:spPr>
          <a:xfrm>
            <a:off x="1419120" y="933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u=2515839533,3115804859&amp;fm=51&amp;gp=0"/>
          <p:cNvPicPr/>
          <p:nvPr/>
        </p:nvPicPr>
        <p:blipFill>
          <a:blip r:embed="rId1"/>
          <a:stretch/>
        </p:blipFill>
        <p:spPr>
          <a:xfrm>
            <a:off x="450072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u=2243025141,1797779548&amp;fm=52&amp;gp=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u=2913385439,2970708341&amp;fm=52&amp;gp=0"/>
          <p:cNvPicPr/>
          <p:nvPr/>
        </p:nvPicPr>
        <p:blipFill>
          <a:blip r:embed="rId3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2771640" y="2222640"/>
            <a:ext cx="3841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的生产过程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5013360"/>
            <a:ext cx="914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耕地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播种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田间管理（锄草、浇水、灭虫、施肥）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收割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脱粒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晾晒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619280" y="836640"/>
            <a:ext cx="5184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悯    农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唐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李绅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锄 禾 日 当 午，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汗 滴 禾 下 土。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谁 知 盘 中 餐，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粒 粒 皆 辛 苦。 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59DD-51A0-4B7C-A697-423277A402C6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A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铁矿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0040" y="2859120"/>
            <a:ext cx="23209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冶炼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763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锻造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5364000" y="59500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饮食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2665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蔬菜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3" name="Picture 4" descr="1111"/>
          <p:cNvPicPr/>
          <p:nvPr/>
        </p:nvPicPr>
        <p:blipFill>
          <a:blip r:embed="rId1"/>
          <a:stretch/>
        </p:blipFill>
        <p:spPr>
          <a:xfrm>
            <a:off x="4716360" y="1052640"/>
            <a:ext cx="35989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222"/>
          <p:cNvPicPr/>
          <p:nvPr/>
        </p:nvPicPr>
        <p:blipFill>
          <a:blip r:embed="rId2"/>
          <a:stretch/>
        </p:blipFill>
        <p:spPr>
          <a:xfrm>
            <a:off x="755640" y="98100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3333"/>
          <p:cNvPicPr/>
          <p:nvPr/>
        </p:nvPicPr>
        <p:blipFill>
          <a:blip r:embed="rId3"/>
          <a:stretch/>
        </p:blipFill>
        <p:spPr>
          <a:xfrm>
            <a:off x="4643280" y="3933720"/>
            <a:ext cx="388800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4444"/>
          <p:cNvPicPr/>
          <p:nvPr/>
        </p:nvPicPr>
        <p:blipFill>
          <a:blip r:embed="rId4"/>
          <a:stretch/>
        </p:blipFill>
        <p:spPr>
          <a:xfrm>
            <a:off x="684360" y="4005360"/>
            <a:ext cx="3311280" cy="2016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 rot="21390600">
            <a:off x="6226200" y="335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水果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835280" y="616572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肉类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72360" y="6237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粮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050920" y="260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起　居　方　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1" name="Picture 3" descr="1111"/>
          <p:cNvPicPr/>
          <p:nvPr/>
        </p:nvPicPr>
        <p:blipFill>
          <a:blip r:embed="rId1"/>
          <a:stretch/>
        </p:blipFill>
        <p:spPr>
          <a:xfrm>
            <a:off x="900000" y="981000"/>
            <a:ext cx="262584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4444"/>
          <p:cNvPicPr/>
          <p:nvPr/>
        </p:nvPicPr>
        <p:blipFill>
          <a:blip r:embed="rId2"/>
          <a:stretch/>
        </p:blipFill>
        <p:spPr>
          <a:xfrm>
            <a:off x="4859280" y="907920"/>
            <a:ext cx="3075120" cy="230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555"/>
          <p:cNvPicPr/>
          <p:nvPr/>
        </p:nvPicPr>
        <p:blipFill>
          <a:blip r:embed="rId3"/>
          <a:stretch/>
        </p:blipFill>
        <p:spPr>
          <a:xfrm>
            <a:off x="900000" y="3500280"/>
            <a:ext cx="2664000" cy="261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3333"/>
          <p:cNvPicPr/>
          <p:nvPr/>
        </p:nvPicPr>
        <p:blipFill>
          <a:blip r:embed="rId4"/>
          <a:stretch/>
        </p:blipFill>
        <p:spPr>
          <a:xfrm>
            <a:off x="4788000" y="3500280"/>
            <a:ext cx="3008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348000" y="33336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习方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6" name="Picture 3" descr="111"/>
          <p:cNvPicPr/>
          <p:nvPr/>
        </p:nvPicPr>
        <p:blipFill>
          <a:blip r:embed="rId1"/>
          <a:stretch/>
        </p:blipFill>
        <p:spPr>
          <a:xfrm>
            <a:off x="4500720" y="907920"/>
            <a:ext cx="316692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2222"/>
          <p:cNvPicPr/>
          <p:nvPr/>
        </p:nvPicPr>
        <p:blipFill>
          <a:blip r:embed="rId2"/>
          <a:stretch/>
        </p:blipFill>
        <p:spPr>
          <a:xfrm>
            <a:off x="900000" y="1052640"/>
            <a:ext cx="2664000" cy="19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22"/>
          <p:cNvPicPr/>
          <p:nvPr/>
        </p:nvPicPr>
        <p:blipFill>
          <a:blip r:embed="rId3"/>
          <a:stretch/>
        </p:blipFill>
        <p:spPr>
          <a:xfrm>
            <a:off x="4932360" y="357336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444"/>
          <p:cNvPicPr/>
          <p:nvPr/>
        </p:nvPicPr>
        <p:blipFill>
          <a:blip r:embed="rId4"/>
          <a:stretch/>
        </p:blipFill>
        <p:spPr>
          <a:xfrm>
            <a:off x="900000" y="3716280"/>
            <a:ext cx="302436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196"/>
          <p:cNvSpPr/>
          <p:nvPr/>
        </p:nvSpPr>
        <p:spPr>
          <a:xfrm>
            <a:off x="1163520" y="323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3780000" y="29988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069080" y="4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行方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3" name="Picture 3" descr="00000"/>
          <p:cNvPicPr/>
          <p:nvPr/>
        </p:nvPicPr>
        <p:blipFill>
          <a:blip r:embed="rId1"/>
          <a:stretch/>
        </p:blipFill>
        <p:spPr>
          <a:xfrm>
            <a:off x="5724360" y="98100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0000"/>
          <p:cNvPicPr/>
          <p:nvPr/>
        </p:nvPicPr>
        <p:blipFill>
          <a:blip r:embed="rId2"/>
          <a:stretch/>
        </p:blipFill>
        <p:spPr>
          <a:xfrm>
            <a:off x="572436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"/>
          <p:cNvPicPr/>
          <p:nvPr/>
        </p:nvPicPr>
        <p:blipFill>
          <a:blip r:embed="rId3"/>
          <a:stretch/>
        </p:blipFill>
        <p:spPr>
          <a:xfrm>
            <a:off x="1332000" y="981000"/>
            <a:ext cx="175572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0"/>
          <p:cNvPicPr/>
          <p:nvPr/>
        </p:nvPicPr>
        <p:blipFill>
          <a:blip r:embed="rId4"/>
          <a:stretch/>
        </p:blipFill>
        <p:spPr>
          <a:xfrm>
            <a:off x="1042920" y="3933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0"/>
          <p:cNvPicPr/>
          <p:nvPr/>
        </p:nvPicPr>
        <p:blipFill>
          <a:blip r:embed="rId5"/>
          <a:stretch/>
        </p:blipFill>
        <p:spPr>
          <a:xfrm>
            <a:off x="3276720" y="2421000"/>
            <a:ext cx="21603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50CAN5JM1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小蜜蜂"/>
          <p:cNvPicPr/>
          <p:nvPr/>
        </p:nvPicPr>
        <p:blipFill>
          <a:blip r:embed="rId2"/>
          <a:stretch/>
        </p:blipFill>
        <p:spPr>
          <a:xfrm>
            <a:off x="7451640" y="5516640"/>
            <a:ext cx="1457280" cy="1717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971640" y="260280"/>
            <a:ext cx="74167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工业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：来自工厂，由工人叔叔通过对原材料加工而成的产品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971640" y="2781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农产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：来自农村，由农民伯伯通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植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饲养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捕捞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得来的产品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1187280" y="620640"/>
            <a:ext cx="7425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到农村去看看！</a:t>
            </a:r>
            <a:endParaRPr b="1" lang="en-US" sz="54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4000">
    <p:split dir="out" orient="vert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179280" y="18900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1"/>
          <p:cNvSpPr/>
          <p:nvPr/>
        </p:nvSpPr>
        <p:spPr>
          <a:xfrm>
            <a:off x="0" y="62064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、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203640" y="5950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农民在田间耕种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9" name="Picture 23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5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49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7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fa0e000000000001024120</vt:lpwstr>
  </property>
</Properties>
</file>