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gif" ContentType="image/gif"/>
  <Override PartName="/ppt/media/image18.jpeg" ContentType="image/jpeg"/>
  <Override PartName="/ppt/media/image16.jpeg" ContentType="image/jpeg"/>
  <Override PartName="/ppt/media/image10.png" ContentType="image/png"/>
  <Override PartName="/ppt/media/applause.wav" ContentType="audio/x-wav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F39-0FB2-414C-B6F3-844EE299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AA0-4504-454F-9F41-7D692032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1CB-74D6-464F-BC9E-1F91556A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8EF-C28E-44F0-92C4-E0ABFCF9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39A4-0EDA-4894-B0D3-37C799B3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DD5E-36BA-446C-8F49-FED71002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2E6-4091-4C00-8D85-C00113C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CB07-AAAB-4962-B02C-68446045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986E-FE27-4FED-AA4C-D27C54D6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3136-8EDE-4235-BAC4-64E507E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C4D5-1219-4DB0-89E2-C964516B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F09-3D10-4F67-802E-4394E760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988-7388-4F56-A018-617B0A3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9D23-CE2A-4C94-8694-044B75B0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0B15-4C47-41ED-8003-F026F85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6712-8797-47EB-8728-0596C7D0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513D-2E2F-4BD0-80CE-B2DF4F20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B4C98-A3AF-45E4-A8E4-75BA3F46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A816-4A0E-4DE1-A8FD-CA484286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9000-8D4F-42A5-9093-778A12A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F57C-50ED-47D7-99C1-2D4E912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5001-89EC-4297-856A-E268C7BC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D08-B131-4BBA-9F47-67E43794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6A28-E32B-4BFF-94DF-0EE2B23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3218-CBE9-4FF4-B402-B1FE57E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18C3-C0B0-408E-8B1A-29BFC8F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865D-C583-4CB5-9113-F84F9FD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489A-787C-4BC1-9C86-D18321A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62970-1783-47C9-93FE-B20B3786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1ACF-3B2D-4913-AAD6-3D6C93AA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9731-DA0F-4ED7-961F-95AC32DF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E790-817C-4960-A898-E65BC0B8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C75B-A23B-4528-97F2-F18375FA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32A-6471-4747-B87F-71D1F2B7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CA0B-BB56-4122-AD47-912A8C2F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9968-863C-4135-9EEE-F18B8BE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C6E2-3E11-4FC7-AFE4-BF35091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5F8B-AD46-4D8A-B829-97F149C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22D00-40FD-4BEE-8D97-963E18FE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C2424-6C4D-4A78-BB66-2058669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160D-2233-4144-993A-11D9E72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13F6-FBB8-4A73-9DB3-B2B85689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CC2A-F4A3-40D6-BE3E-D22E4643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DE4B-D2FC-4713-B725-F22C52AA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C7E-BC69-479E-A0D7-9434FBF9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3AE54-A7CF-40EE-902D-A30F9ECA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355C-293B-4D81-AC4C-93A3F6CF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810C-77BF-474E-8A71-2BE34615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866F-DA94-451A-8F42-3BA7BDDB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99F26-3C08-4E4E-87D4-9C69B7F3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D8DE-39B7-4D1F-9848-B9A2405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57EE-1FF0-4826-A339-CDDA857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2CA0-35C8-4E8A-AA60-B34FDAF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C6DB-A8FA-4183-9B59-DB87A27B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D46A-A725-4424-A51C-A70510A5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15F-493C-4D44-8A23-C079C95D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872A1-3D39-4119-AD9E-D9AEBF06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61A67-429F-4AFF-B8D5-4C1A491B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0A94-C48D-4D59-926A-D7C8961A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B587-A77F-4767-AFDB-C87037E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E437-0255-4535-B301-14E9EFA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11D77-8332-4FBA-A771-52A7AAB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C2877-6942-4ECE-8AB6-045A423B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B9571-C863-4F45-8B99-2B684BA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ABC75-71DC-4F7F-B31B-211A4571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956A-5AD9-4747-8636-4D42875A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6FA-2633-49F8-B6E7-515D496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9B08-6EDA-4ACA-832A-324A7D86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97B1-94B1-4C57-B94B-F67ED726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FDCB-8702-4AD6-A443-6888731E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7D6-56C9-4EC4-86F2-9DC9DB35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F96-1D2D-4DC2-9130-9E9D6E9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D28-0746-449D-9F0F-AC8467A2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5040"/>
                <a:ext cx="1833480" cy="1663920"/>
                <a:chOff x="852840" y="4055040"/>
                <a:chExt cx="183348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4680" y="3943440"/>
                  <a:ext cx="47412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7760" y="4972320"/>
                  <a:ext cx="108720" cy="5000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BFC-C603-427C-9841-32F7767476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EB6D-2C73-47C7-B416-99BABE14BA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A9FA-65C3-4BAD-8883-1E1B389094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14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15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7"/>
            <p:cNvGrpSpPr/>
            <p:nvPr/>
          </p:nvGrpSpPr>
          <p:grpSpPr>
            <a:xfrm>
              <a:off x="4137480" y="1036080"/>
              <a:ext cx="1017000" cy="1263240"/>
              <a:chOff x="4137480" y="1036080"/>
              <a:chExt cx="1017000" cy="1263240"/>
            </a:xfrm>
          </p:grpSpPr>
          <p:sp>
            <p:nvSpPr>
              <p:cNvPr id="229" name="Freeform 18"/>
              <p:cNvSpPr/>
              <p:nvPr/>
            </p:nvSpPr>
            <p:spPr>
              <a:xfrm rot="3220200">
                <a:off x="4553280" y="107388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"/>
              <p:cNvSpPr/>
              <p:nvPr/>
            </p:nvSpPr>
            <p:spPr>
              <a:xfrm rot="3220200">
                <a:off x="4637880" y="160704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"/>
              <p:cNvSpPr/>
              <p:nvPr/>
            </p:nvSpPr>
            <p:spPr>
              <a:xfrm rot="3220200">
                <a:off x="4097880" y="196560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5642280" y="294840"/>
              <a:ext cx="888120" cy="833760"/>
              <a:chOff x="5642280" y="294840"/>
              <a:chExt cx="888120" cy="833760"/>
            </a:xfrm>
          </p:grpSpPr>
          <p:sp>
            <p:nvSpPr>
              <p:cNvPr id="233" name="Freeform 22"/>
              <p:cNvSpPr/>
              <p:nvPr/>
            </p:nvSpPr>
            <p:spPr>
              <a:xfrm rot="14908200">
                <a:off x="5753520" y="7984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"/>
              <p:cNvSpPr/>
              <p:nvPr/>
            </p:nvSpPr>
            <p:spPr>
              <a:xfrm rot="14908200">
                <a:off x="5702400" y="4780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4"/>
              <p:cNvSpPr/>
              <p:nvPr/>
            </p:nvSpPr>
            <p:spPr>
              <a:xfrm rot="14908200">
                <a:off x="6240600" y="39528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37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29"/>
            <p:cNvGrpSpPr/>
            <p:nvPr/>
          </p:nvGrpSpPr>
          <p:grpSpPr>
            <a:xfrm>
              <a:off x="356400" y="430920"/>
              <a:ext cx="1692720" cy="1147320"/>
              <a:chOff x="356400" y="430920"/>
              <a:chExt cx="1692720" cy="1147320"/>
            </a:xfrm>
          </p:grpSpPr>
          <p:sp>
            <p:nvSpPr>
              <p:cNvPr id="241" name="Freeform 30"/>
              <p:cNvSpPr/>
              <p:nvPr/>
            </p:nvSpPr>
            <p:spPr>
              <a:xfrm flipH="1" rot="4107000">
                <a:off x="1558440" y="10497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1"/>
              <p:cNvSpPr/>
              <p:nvPr/>
            </p:nvSpPr>
            <p:spPr>
              <a:xfrm flipH="1" rot="4107000">
                <a:off x="1004760" y="57420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2"/>
              <p:cNvSpPr/>
              <p:nvPr/>
            </p:nvSpPr>
            <p:spPr>
              <a:xfrm flipH="1" rot="4107000">
                <a:off x="259200" y="10886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5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921D-2CFF-419F-A353-D0911240CF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69F-AFBB-4A89-965A-F540BF060A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E:\&#20061;&#24180;&#32423;\&#31532;&#20108;&#35838;\&#25215;  &#25285; &#20851; &#29233; &#38598; &#20307; &#30340; &#36131; &#20219;wdj\&#19977;&#20010;&#21644;&#23578;.swf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07j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479520" y="2411280"/>
            <a:ext cx="80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承担关爱集体的责任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2604240" y="113508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课   在承担责任中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7"/>
          <p:cNvSpPr/>
          <p:nvPr/>
        </p:nvSpPr>
        <p:spPr>
          <a:xfrm>
            <a:off x="1908000" y="522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FR7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集体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是我们每一个人的集体，只有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人人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都主动关心、爱护集体，为集体建设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出力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，集体才会真正成为我们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依恋的家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4" name="Picture 4" descr="xc1"/>
          <p:cNvPicPr/>
          <p:nvPr/>
        </p:nvPicPr>
        <p:blipFill>
          <a:blip r:embed="rId2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回复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98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WordArt 29"/>
          <p:cNvSpPr txBox="1"/>
          <p:nvPr/>
        </p:nvSpPr>
        <p:spPr>
          <a:xfrm>
            <a:off x="2124000" y="2133720"/>
            <a:ext cx="6408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关爱集体，人人有责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困惑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05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9">
            <a:hlinkClick r:id="rId2"/>
          </p:cNvPr>
          <p:cNvSpPr/>
          <p:nvPr/>
        </p:nvSpPr>
        <p:spPr>
          <a:xfrm>
            <a:off x="8101080" y="573408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301"/>
                </a:moveTo>
                <a:lnTo>
                  <a:pt x="5151" y="7301"/>
                </a:lnTo>
                <a:lnTo>
                  <a:pt x="5534" y="7667"/>
                </a:lnTo>
                <a:lnTo>
                  <a:pt x="14742" y="7667"/>
                </a:lnTo>
                <a:lnTo>
                  <a:pt x="15299" y="8224"/>
                </a:lnTo>
                <a:lnTo>
                  <a:pt x="15299" y="8772"/>
                </a:lnTo>
                <a:lnTo>
                  <a:pt x="17145" y="8772"/>
                </a:lnTo>
                <a:lnTo>
                  <a:pt x="17510" y="8224"/>
                </a:lnTo>
                <a:lnTo>
                  <a:pt x="18250" y="8224"/>
                </a:lnTo>
                <a:lnTo>
                  <a:pt x="18250" y="13376"/>
                </a:lnTo>
                <a:lnTo>
                  <a:pt x="17510" y="13376"/>
                </a:lnTo>
                <a:lnTo>
                  <a:pt x="17145" y="12828"/>
                </a:lnTo>
                <a:lnTo>
                  <a:pt x="15299" y="12828"/>
                </a:lnTo>
                <a:lnTo>
                  <a:pt x="15299" y="14107"/>
                </a:lnTo>
                <a:lnTo>
                  <a:pt x="5717" y="14107"/>
                </a:lnTo>
                <a:lnTo>
                  <a:pt x="5717" y="9877"/>
                </a:lnTo>
                <a:lnTo>
                  <a:pt x="5534" y="9877"/>
                </a:lnTo>
                <a:lnTo>
                  <a:pt x="5151" y="10243"/>
                </a:lnTo>
                <a:lnTo>
                  <a:pt x="4237" y="10243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143000" y="1522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人 多 力 量 一定 大 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80880" y="5029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为什么众人拾柴会火焰高，而三个和尚去没水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419040" y="1125360"/>
            <a:ext cx="8458200" cy="3716280"/>
            <a:chOff x="419040" y="1125360"/>
            <a:chExt cx="8458200" cy="3716280"/>
          </a:xfrm>
        </p:grpSpPr>
        <p:pic>
          <p:nvPicPr>
            <p:cNvPr id="412" name="Picture 5" descr="三个和尚"/>
            <p:cNvPicPr/>
            <p:nvPr/>
          </p:nvPicPr>
          <p:blipFill>
            <a:blip r:embed="rId1"/>
            <a:stretch/>
          </p:blipFill>
          <p:spPr>
            <a:xfrm>
              <a:off x="4838760" y="1782720"/>
              <a:ext cx="3962160" cy="30002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413" name="Text Box 6"/>
            <p:cNvSpPr/>
            <p:nvPr/>
          </p:nvSpPr>
          <p:spPr>
            <a:xfrm>
              <a:off x="876240" y="11253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众人拾柴火焰高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610160" y="12016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一个和尚有水喝，三个和尚没水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8" descr="fire"/>
            <p:cNvPicPr/>
            <p:nvPr/>
          </p:nvPicPr>
          <p:blipFill>
            <a:blip r:embed="rId2"/>
            <a:stretch/>
          </p:blipFill>
          <p:spPr>
            <a:xfrm>
              <a:off x="419040" y="1734840"/>
              <a:ext cx="4038480" cy="310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那么，集体的力量取决于什么？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P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仅仅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数量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更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之间的组织和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心齐，泰山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团结的集体才有凝聚力和战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未命名"/>
          <p:cNvPicPr/>
          <p:nvPr/>
        </p:nvPicPr>
        <p:blipFill>
          <a:blip r:embed="rId1"/>
          <a:stretch/>
        </p:blipFill>
        <p:spPr>
          <a:xfrm>
            <a:off x="2286000" y="2971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152280" y="33336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在集体中能求大同存小异，善于团结他人，让集体发挥出更大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200452595250809"/>
          <p:cNvPicPr/>
          <p:nvPr/>
        </p:nvPicPr>
        <p:blipFill>
          <a:blip r:embed="rId1"/>
          <a:stretch/>
        </p:blipFill>
        <p:spPr>
          <a:xfrm>
            <a:off x="324000" y="407664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image067"/>
          <p:cNvPicPr/>
          <p:nvPr/>
        </p:nvPicPr>
        <p:blipFill>
          <a:blip r:embed="rId2"/>
          <a:stretch/>
        </p:blipFill>
        <p:spPr>
          <a:xfrm>
            <a:off x="2700360" y="148428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0" descr="军训1"/>
          <p:cNvPicPr/>
          <p:nvPr/>
        </p:nvPicPr>
        <p:blipFill>
          <a:blip r:embed="rId3"/>
          <a:stretch/>
        </p:blipFill>
        <p:spPr>
          <a:xfrm>
            <a:off x="5148360" y="1484280"/>
            <a:ext cx="3481200" cy="51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关注生活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8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你班还有关爱集体的例子吗</a:t>
                      </a:r>
                      <a:r>
                        <a:rPr b="1" lang="en-US" sz="8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6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900000" y="83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自觉维护集体的荣誉和利益，服从集体的安排，积极主动地为集体建设贡献才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224520" y="510552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校运动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0" descr="showimg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还表现为发扬集体的好作风，通过自己的努力解决集体遇到的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1905120"/>
            <a:ext cx="8686800" cy="4952880"/>
            <a:chOff x="0" y="1905120"/>
            <a:chExt cx="8686800" cy="4952880"/>
          </a:xfrm>
        </p:grpSpPr>
        <p:grpSp>
          <p:nvGrpSpPr>
            <p:cNvPr id="434" name="Group 4"/>
            <p:cNvGrpSpPr/>
            <p:nvPr/>
          </p:nvGrpSpPr>
          <p:grpSpPr>
            <a:xfrm>
              <a:off x="1098720" y="2766960"/>
              <a:ext cx="6946560" cy="1062000"/>
              <a:chOff x="1098720" y="2766960"/>
              <a:chExt cx="6946560" cy="10620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1098720" y="2766960"/>
                <a:ext cx="6946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6"/>
              <p:cNvGrpSpPr/>
              <p:nvPr/>
            </p:nvGrpSpPr>
            <p:grpSpPr>
              <a:xfrm>
                <a:off x="1098720" y="2766960"/>
                <a:ext cx="5276520" cy="1062000"/>
                <a:chOff x="1098720" y="2766960"/>
                <a:chExt cx="5276520" cy="1062000"/>
              </a:xfrm>
            </p:grpSpPr>
            <p:sp>
              <p:nvSpPr>
                <p:cNvPr id="437" name="Rectangle 7"/>
                <p:cNvSpPr/>
                <p:nvPr/>
              </p:nvSpPr>
              <p:spPr>
                <a:xfrm>
                  <a:off x="1098720" y="2766960"/>
                  <a:ext cx="5276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8"/>
                <p:cNvSpPr/>
                <p:nvPr/>
              </p:nvSpPr>
              <p:spPr>
                <a:xfrm>
                  <a:off x="1098720" y="2766960"/>
                  <a:ext cx="5276520" cy="106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9" name="Picture 9" descr="DSC05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0" descr="05040721205532s"/>
            <p:cNvPicPr/>
            <p:nvPr/>
          </p:nvPicPr>
          <p:blipFill>
            <a:blip r:embed="rId2"/>
            <a:stretch/>
          </p:blipFill>
          <p:spPr>
            <a:xfrm>
              <a:off x="3255840" y="4191120"/>
              <a:ext cx="3241800" cy="26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11"/>
            <p:cNvSpPr/>
            <p:nvPr/>
          </p:nvSpPr>
          <p:spPr>
            <a:xfrm>
              <a:off x="3124080" y="6568920"/>
              <a:ext cx="350532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12" descr="0930wtt01"/>
            <p:cNvPicPr/>
            <p:nvPr/>
          </p:nvPicPr>
          <p:blipFill>
            <a:blip r:embed="rId3"/>
            <a:stretch/>
          </p:blipFill>
          <p:spPr>
            <a:xfrm>
              <a:off x="0" y="2819520"/>
              <a:ext cx="3657600" cy="2487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FR7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5" name="Picture 4" descr="xc1"/>
          <p:cNvPicPr/>
          <p:nvPr/>
        </p:nvPicPr>
        <p:blipFill>
          <a:blip r:embed="rId2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2441520" y="1871640"/>
            <a:ext cx="55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关爱集体，从自我做起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从小事做起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28600" y="1905120"/>
            <a:ext cx="8534520" cy="49528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914400" y="23623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个温馨的词语，它不能离开个体而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1295280" y="21337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集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51" name="Picture 5" descr="02"/>
          <p:cNvPicPr/>
          <p:nvPr/>
        </p:nvPicPr>
        <p:blipFill>
          <a:blip r:embed="rId1"/>
          <a:stretch/>
        </p:blipFill>
        <p:spPr>
          <a:xfrm>
            <a:off x="457200" y="365760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352" name="WordArt 7" descr=""/>
          <p:cNvPicPr/>
          <p:nvPr/>
        </p:nvPicPr>
        <p:blipFill>
          <a:blip r:embed="rId2"/>
          <a:stretch/>
        </p:blipFill>
        <p:spPr>
          <a:xfrm>
            <a:off x="179280" y="615960"/>
            <a:ext cx="6802560" cy="1044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广播操比赛"/>
          <p:cNvPicPr/>
          <p:nvPr/>
        </p:nvPicPr>
        <p:blipFill>
          <a:blip r:embed="rId3"/>
          <a:stretch/>
        </p:blipFill>
        <p:spPr>
          <a:xfrm>
            <a:off x="4427640" y="3068640"/>
            <a:ext cx="450036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1547640" y="260280"/>
            <a:ext cx="6096240" cy="1067040"/>
            <a:chOff x="1547640" y="260280"/>
            <a:chExt cx="6096240" cy="1067040"/>
          </a:xfrm>
        </p:grpSpPr>
        <p:sp>
          <p:nvSpPr>
            <p:cNvPr id="448" name="Oval 3"/>
            <p:cNvSpPr/>
            <p:nvPr/>
          </p:nvSpPr>
          <p:spPr>
            <a:xfrm>
              <a:off x="1547640" y="260280"/>
              <a:ext cx="6096240" cy="1067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你该怎么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9" name="Picture 4" descr="q6"/>
            <p:cNvPicPr/>
            <p:nvPr/>
          </p:nvPicPr>
          <p:blipFill>
            <a:blip r:embed="rId1"/>
            <a:stretch/>
          </p:blipFill>
          <p:spPr>
            <a:xfrm>
              <a:off x="6012000" y="476280"/>
              <a:ext cx="4316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Rectangle 5"/>
          <p:cNvSpPr/>
          <p:nvPr/>
        </p:nvSpPr>
        <p:spPr>
          <a:xfrm>
            <a:off x="250920" y="148428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离校广播操比赛只有三天了，可是你发现自己做操很不到位，如果去参赛，很有可能影响班级的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午修时你正在教室里做作业，这时其他班级的几个同学到你班级来捣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一天早晨，你第一个来到学校，你发现有小偷正在偷学校的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38088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细黑"/>
                <a:ea typeface="华文细黑"/>
              </a:rPr>
              <a:t>承担关爱集体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人与集体相互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是集体的一员               个人利益与集体利益相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人应该关心和维护集体的利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承担关爱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责任                                                    关爱集体，建设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关爱集体  人人有责       自觉维护集体的荣誉和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发扬集体的好作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善于团结他人，让集体发挥更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力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2057400" y="32004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4572000" y="26668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4648320" y="47242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91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  <a:ea typeface="华文新魏"/>
              </a:rPr>
              <a:t>课堂练习：</a:t>
            </a:r>
            <a:br>
              <a:rPr sz="48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一．是非判断题（对的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，错的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）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78920" y="22050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心齐，泰山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明了团结的集体才有凝聚力和战斗力的道理。（   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一个人生活在集体中，所以，我们每一个人都应主动关心集体，建设集体。（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2272680" y="335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066120" y="5013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250920" y="182520"/>
            <a:ext cx="43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谋划策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24000" y="1484280"/>
            <a:ext cx="86421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66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一个良好的班集体总是会激励着学生主动、健康地成长，使学生能心情愉快，充满激情地投入到学习生活中。你能为如何增强班级凝聚力提一些建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7268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0000"/>
                </a:solidFill>
                <a:latin typeface="Verdana"/>
                <a:ea typeface="华文新魏"/>
              </a:rPr>
              <a:t>堂上练习：单选</a:t>
            </a:r>
            <a:endParaRPr b="0" lang="en-US" sz="5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Verdana"/>
                <a:ea typeface="华文新魏"/>
              </a:rPr>
              <a:t>     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68360" y="1523880"/>
            <a:ext cx="800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河有水小河满，大河无水小河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整体利益必须服从局部利益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利益与集体利益是相互依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维护集体利益就不能追求个人利益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要服从个人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6112080" y="4137120"/>
            <a:ext cx="1599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457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了，可今天轮到小明的小组打扫卫生，因为想着要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赛，于是随便扫了一下地，把垃圾堆在一边就走了。对于小明的行为，你认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不倒垃圾是错误的，我们生活在集体中，就应对集体负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为了看向往已久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赛，而没倒垃圾这是情理之中的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倒垃圾是每个人的责任，不一定非要小明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个人都不能离开社会而生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466960" y="4005360"/>
            <a:ext cx="2670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en-US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108000" y="1035000"/>
            <a:ext cx="871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问别人能为自己做些什么，而要问自己能为别人做些什么；不要问国家能为我们做些什么，而要问事处我们能为国家做些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表明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人生价值的实现体现在我得到了什么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人人有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、他人利益高于个人利益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必须以社会对个人的尊重为满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011480" y="3914640"/>
            <a:ext cx="1888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15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A386-BEEA-4199-B819-8B037AE7CF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76176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家科研机构招聘人才时的首项要求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关爱集体的人坚决不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对此，说法不正确的是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应成为衡量现代人才的标准之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才可能为集体贡献才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人关爱集体，集体才有凝聚力和战斗力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才招聘应主要看学历，其它无关紧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671280" y="4543560"/>
            <a:ext cx="249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en-US" sz="1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838080" y="304920"/>
            <a:ext cx="7391520" cy="65530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042920" y="549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只有紧紧地依靠集体，才能有无穷的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187280" y="2637000"/>
            <a:ext cx="6849720" cy="2722320"/>
            <a:chOff x="1187280" y="2637000"/>
            <a:chExt cx="6849720" cy="2722320"/>
          </a:xfrm>
        </p:grpSpPr>
        <p:sp>
          <p:nvSpPr>
            <p:cNvPr id="357" name="Text Box 5"/>
            <p:cNvSpPr/>
            <p:nvPr/>
          </p:nvSpPr>
          <p:spPr>
            <a:xfrm>
              <a:off x="1187280" y="3246480"/>
              <a:ext cx="4554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滴水只有放进大海，才能永不干涸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雷 锋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6" descr="leifeng"/>
            <p:cNvPicPr/>
            <p:nvPr/>
          </p:nvPicPr>
          <p:blipFill>
            <a:blip r:embed="rId1"/>
            <a:stretch/>
          </p:blipFill>
          <p:spPr>
            <a:xfrm>
              <a:off x="5904000" y="2637000"/>
              <a:ext cx="2133000" cy="27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WordArt 7"/>
          <p:cNvSpPr txBox="1"/>
          <p:nvPr/>
        </p:nvSpPr>
        <p:spPr>
          <a:xfrm>
            <a:off x="1295280" y="5335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个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难题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龙，你好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刚才我接到几年没见的表哥打来电话，说他明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左右到达火车站，半小时后就要转乘飞机离开，希望我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能够到火车站见一面。我很想见表哥，但明天我们班要进行暑假社会实践活动，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准时从学校出发，小龙，你说我该怎么办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3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4"/>
          <p:cNvSpPr/>
          <p:nvPr/>
        </p:nvSpPr>
        <p:spPr>
          <a:xfrm>
            <a:off x="1908000" y="3213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1763640" y="3716280"/>
            <a:ext cx="676908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你们认为王小明应该怎么办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395280" y="1916280"/>
            <a:ext cx="85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集体利益与个人利益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互依存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一旦集体利益受损，个体利益也难以保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；只有维护集体利益，个人利益才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保障个人利益是集体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责任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而集体利益是集体中每个成员努力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3"/>
          <p:cNvSpPr txBox="1"/>
          <p:nvPr/>
        </p:nvSpPr>
        <p:spPr>
          <a:xfrm>
            <a:off x="209520" y="620640"/>
            <a:ext cx="86011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2</a:t>
            </a:r>
            <a:r>
              <a:rPr b="0" i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）、集体利益与个人利益的关系：</a:t>
            </a:r>
            <a:endParaRPr b="0" i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971640" y="522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0" y="54936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  <a:ea typeface="宋体"/>
              </a:rPr>
              <a:t>3)</a:t>
            </a: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正确处理集体利益与个人利益的原则</a:t>
            </a:r>
            <a:r>
              <a:rPr b="1" i="1" lang="en-US" sz="4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09760" y="242100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集体应充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尊重和保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个人利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e0d11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个人更应该积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关心和维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  <a:ea typeface="宋体"/>
              </a:rPr>
              <a:t>集体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1042920" y="47656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当个人利益与集体利益相冲突时，个人利益要服从集体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  <a:ea typeface="宋体"/>
                        </a:rPr>
                        <a:t>我的回复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明，你好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你应该去参加班级的暑期社会实践活动。因为这是集体利益，而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见你表哥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则是个人利益，当个人利益与集体利益相冲突时，个人利益要服从集体利益。同时我衷心的希望你在今后的日子里能够多去关爱集体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76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做所为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龙，我是班级里一名普通学生，大家都叫我“管事大王”。为了美化教室，我动员大家从家里带来花卉；邻班同学来借卫生用具，我记在心里及时要回；我一天往公布成绩的布告栏跑好几趟，然后在第一时间向全班发布本班的参赛成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方正舒体"/>
                        </a:rPr>
                        <a:t>……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次，我要求值日马虎的同学重新打扫教室，值日生气呼呼地冲着我大嚷：“你是卫生委员吗？真是多管闲事！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82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问题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小龙，遇到这种情况，我该怎么办？你遇到到过这种类似的现象吗？假如让这种现象延续下去，我们的班级将会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88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6:28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5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