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chimes.wav" ContentType="audio/x-wav"/>
  <Override PartName="/ppt/media/image16.jpeg" ContentType="image/jpeg"/>
  <Override PartName="/ppt/media/image15.jpeg" ContentType="image/jpeg"/>
  <Override PartName="/ppt/media/image28.jpeg" ContentType="image/jpeg"/>
  <Override PartName="/ppt/media/image13.jpeg" ContentType="image/jpeg"/>
  <Override PartName="/ppt/media/image11.jpeg" ContentType="image/jpeg"/>
  <Override PartName="/ppt/media/image36.jpeg" ContentType="image/jpeg"/>
  <Override PartName="/ppt/media/image29.jpeg" ContentType="image/jpeg"/>
  <Override PartName="/ppt/media/image14.png" ContentType="image/png"/>
  <Override PartName="/ppt/media/image10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suction.wav" ContentType="audio/x-wav"/>
  <Override PartName="/ppt/media/image8.png" ContentType="image/png"/>
  <Override PartName="/ppt/media/image39.jpeg" ContentType="image/jpeg"/>
  <Override PartName="/ppt/media/image33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2.png" ContentType="image/png"/>
  <Override PartName="/ppt/media/image32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3.jpeg" ContentType="image/jpeg"/>
  <Override PartName="/ppt/media/image3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1A7F-A3A6-45C5-9314-31B96457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5DC5-B089-4B74-A8B9-37599BB7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E952-5896-4492-9B6A-DA1EBEEA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F33C-27CC-4A34-A0AC-12108F75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E13D-0C1A-4485-9A36-9EA5CFF9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9730-5AEF-4A43-B590-1341B0A5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61ED-F33F-4F1A-9CE9-1B6C7F8B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CCC5-7FDB-41C2-A787-37D1693F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B2A6-30E7-45B3-9A82-1C3AE4F8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8242-F7F8-421B-964C-641D2D53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3396-22B0-427F-B683-D488B2CC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C711-0870-46D8-890E-8A1F0C62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D551-D459-48B1-A692-0CE997A2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5881-71BD-4FCF-A8CD-F1F1056E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5FC6-4803-4109-AFFE-CDC84117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A0AD-A204-434A-B595-C7A01060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ECC7-4173-468C-8F58-3A62EB60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F413B-8C58-4BE7-9CFE-A7C70080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ECC8B-CC89-4602-9F3F-DD9A8618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8465D-27EF-4406-9675-3A97A4E7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D7C15-ABDD-46A2-96BD-173036F3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4FC83-2D43-46D7-9D9C-CCF3F10F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EDFD-E2CF-48EE-9327-0A71D39D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623E4-7FCF-4398-9CF1-792E436C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0DE22-AF48-4E01-B9E0-B56B0247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38661-B586-48F9-B7F8-E65DBD82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D25A6-1315-431A-BF27-13E74E97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E26B0-0BDD-454B-81A8-113B5040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6042F-68D8-4599-9D49-A8AEC0CE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D1F97-1B55-49AC-A8DF-14675D84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EF6B-D2EB-458E-BCDF-5B83BB2E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1D07-06DF-4DD2-9D36-04DDE757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65F-7118-4C37-9200-0B83D6E5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C50-CC13-4180-BBA8-81DCE2A1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215-F703-43BC-8755-1B88BC5B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9EB4-8714-4B59-8BE5-ECB4BDC6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289B-D50C-4E79-851E-1495C2EBD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687A-39B4-49A0-AC86-52C9E096FBE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7"/>
          <p:cNvSpPr/>
          <p:nvPr/>
        </p:nvSpPr>
        <p:spPr>
          <a:xfrm>
            <a:off x="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AB81-1CC6-4A75-A7D1-5DF902F6E6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260,5,&#24187;&#28783;&#29255; 5" TargetMode="External"/><Relationship Id="rId3" Type="http://schemas.openxmlformats.org/officeDocument/2006/relationships/hyperlink" Target="261,6,&#24187;&#28783;&#29255; 6" TargetMode="External"/><Relationship Id="rId4" Type="http://schemas.openxmlformats.org/officeDocument/2006/relationships/hyperlink" Target="261,6,&#24187;&#28783;&#29255; 6" TargetMode="External"/><Relationship Id="rId5" Type="http://schemas.openxmlformats.org/officeDocument/2006/relationships/hyperlink" Target="260,5,&#24187;&#28783;&#29255; 5" TargetMode="External"/><Relationship Id="rId6" Type="http://schemas.openxmlformats.org/officeDocument/2006/relationships/hyperlink" Target="260,5,&#24187;&#28783;&#29255; 5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286,8,&#34453;&#30340;&#22836;&#37096;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260,15,&#24187;&#28783;&#29255; 15" TargetMode="External"/><Relationship Id="rId2" Type="http://schemas.openxmlformats.org/officeDocument/2006/relationships/hyperlink" Target="261,11,&#24187;&#28783;&#29255; 11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5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258,3,&#24187;&#28783;&#29255; 3" TargetMode="External"/><Relationship Id="rId2" Type="http://schemas.openxmlformats.org/officeDocument/2006/relationships/hyperlink" Target="260,5,&#24187;&#28783;&#29255; 5" TargetMode="External"/><Relationship Id="rId3" Type="http://schemas.openxmlformats.org/officeDocument/2006/relationships/hyperlink" Target="261,6,&#24187;&#28783;&#29255; 6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4"/>
          <p:cNvSpPr txBox="1"/>
          <p:nvPr/>
        </p:nvSpPr>
        <p:spPr>
          <a:xfrm>
            <a:off x="1523880" y="1676520"/>
            <a:ext cx="64008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蚕的生长变化课件</a:t>
            </a:r>
            <a:r>
              <a:rPr b="1" lang="en-US" sz="40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模板免费下载</a:t>
            </a:r>
            <a:endParaRPr b="1" lang="en-US" sz="4000" spc="-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95280" y="404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经一日左右，蚕体开始蠕动收缩，并从头部的后面的裂口中爬出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2325600" y="1593720"/>
            <a:ext cx="449280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332000" y="692280"/>
            <a:ext cx="59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蜕下来的皮是米黄色的、薄薄的，皱缩成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3529080" cy="3503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332000" y="692280"/>
            <a:ext cx="599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蜕皮以后一段时间内，蚕一动不动，直到皮肤硬化以后才开始吃桑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2" descr=""/>
          <p:cNvPicPr/>
          <p:nvPr/>
        </p:nvPicPr>
        <p:blipFill>
          <a:blip r:embed="rId1"/>
          <a:stretch/>
        </p:blipFill>
        <p:spPr>
          <a:xfrm>
            <a:off x="1778040" y="2430360"/>
            <a:ext cx="5607000" cy="4119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6"/>
          <p:cNvSpPr/>
          <p:nvPr/>
        </p:nvSpPr>
        <p:spPr>
          <a:xfrm>
            <a:off x="3049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蚕体是长圆筒形，由头、胸、腹三个明显体段构成 ，青白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3018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380880" y="4724280"/>
            <a:ext cx="360" cy="914400"/>
            <a:chOff x="380880" y="4724280"/>
            <a:chExt cx="360" cy="914400"/>
          </a:xfrm>
        </p:grpSpPr>
        <p:sp>
          <p:nvSpPr>
            <p:cNvPr id="172" name="Line 8"/>
            <p:cNvSpPr/>
            <p:nvPr/>
          </p:nvSpPr>
          <p:spPr>
            <a:xfrm>
              <a:off x="380880" y="4724280"/>
              <a:ext cx="0" cy="91440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380880" y="472428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9"/>
          <p:cNvSpPr/>
          <p:nvPr/>
        </p:nvSpPr>
        <p:spPr>
          <a:xfrm>
            <a:off x="152280" y="5638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304920" y="2286000"/>
            <a:ext cx="1676160" cy="281952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71600" y="5029200"/>
            <a:ext cx="360" cy="914400"/>
            <a:chOff x="1371600" y="5029200"/>
            <a:chExt cx="360" cy="914400"/>
          </a:xfrm>
        </p:grpSpPr>
        <p:sp>
          <p:nvSpPr>
            <p:cNvPr id="177" name="Line 11"/>
            <p:cNvSpPr/>
            <p:nvPr/>
          </p:nvSpPr>
          <p:spPr>
            <a:xfrm>
              <a:off x="1371600" y="5029200"/>
              <a:ext cx="0" cy="91440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1371600" y="502920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2"/>
          <p:cNvSpPr/>
          <p:nvPr/>
        </p:nvSpPr>
        <p:spPr>
          <a:xfrm>
            <a:off x="914400" y="601992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胸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2438280" y="1905120"/>
            <a:ext cx="6477120" cy="34290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172200" y="5334120"/>
            <a:ext cx="360" cy="609480"/>
            <a:chOff x="6172200" y="5334120"/>
            <a:chExt cx="360" cy="609480"/>
          </a:xfrm>
        </p:grpSpPr>
        <p:sp>
          <p:nvSpPr>
            <p:cNvPr id="182" name="Line 14"/>
            <p:cNvSpPr/>
            <p:nvPr/>
          </p:nvSpPr>
          <p:spPr>
            <a:xfrm>
              <a:off x="6172200" y="5334120"/>
              <a:ext cx="0" cy="60948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6172200" y="533412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15"/>
          <p:cNvSpPr/>
          <p:nvPr/>
        </p:nvSpPr>
        <p:spPr>
          <a:xfrm>
            <a:off x="5791320" y="601992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腹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447920" y="4876920"/>
            <a:ext cx="685800" cy="761760"/>
            <a:chOff x="1447920" y="4876920"/>
            <a:chExt cx="685800" cy="761760"/>
          </a:xfrm>
        </p:grpSpPr>
        <p:sp>
          <p:nvSpPr>
            <p:cNvPr id="186" name="Line 17"/>
            <p:cNvSpPr/>
            <p:nvPr/>
          </p:nvSpPr>
          <p:spPr>
            <a:xfrm>
              <a:off x="1447920" y="4876920"/>
              <a:ext cx="685800" cy="76176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1447920" y="4876920"/>
              <a:ext cx="685800" cy="76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9880" y="4952880"/>
            <a:ext cx="76320" cy="914400"/>
            <a:chOff x="3809880" y="4952880"/>
            <a:chExt cx="76320" cy="914400"/>
          </a:xfrm>
        </p:grpSpPr>
        <p:sp>
          <p:nvSpPr>
            <p:cNvPr id="189" name="Line 18"/>
            <p:cNvSpPr/>
            <p:nvPr/>
          </p:nvSpPr>
          <p:spPr>
            <a:xfrm>
              <a:off x="3809880" y="4952880"/>
              <a:ext cx="76320" cy="91440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3809880" y="4952880"/>
              <a:ext cx="763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19"/>
          <p:cNvSpPr/>
          <p:nvPr/>
        </p:nvSpPr>
        <p:spPr>
          <a:xfrm>
            <a:off x="1905120" y="56386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胸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3352680" y="571500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腹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458200" y="4648320"/>
            <a:ext cx="360" cy="1447560"/>
            <a:chOff x="8458200" y="4648320"/>
            <a:chExt cx="360" cy="1447560"/>
          </a:xfrm>
        </p:grpSpPr>
        <p:sp>
          <p:nvSpPr>
            <p:cNvPr id="194" name="Line 21"/>
            <p:cNvSpPr/>
            <p:nvPr/>
          </p:nvSpPr>
          <p:spPr>
            <a:xfrm>
              <a:off x="8458200" y="4648320"/>
              <a:ext cx="0" cy="144756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8458200" y="464832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22"/>
          <p:cNvSpPr/>
          <p:nvPr/>
        </p:nvSpPr>
        <p:spPr>
          <a:xfrm>
            <a:off x="7848720" y="60958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尾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85800" y="5335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头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较小，位于蚕体的最前方，呈扁圆形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68580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蚕如何吃桑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09480" y="51055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若蚕的口器和蚊子的口器一样，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332000" y="458136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咀嚼式口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16282036721"/>
          <p:cNvPicPr/>
          <p:nvPr/>
        </p:nvPicPr>
        <p:blipFill>
          <a:blip r:embed="rId1"/>
          <a:stretch/>
        </p:blipFill>
        <p:spPr>
          <a:xfrm>
            <a:off x="4876920" y="2057400"/>
            <a:ext cx="3276360" cy="21686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"/>
          <p:cNvSpPr/>
          <p:nvPr/>
        </p:nvSpPr>
        <p:spPr>
          <a:xfrm>
            <a:off x="5410080" y="43434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刺吸式口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8" descr="200831422455814758[1]"/>
          <p:cNvPicPr/>
          <p:nvPr/>
        </p:nvPicPr>
        <p:blipFill>
          <a:blip r:embed="rId2"/>
          <a:stretch/>
        </p:blipFill>
        <p:spPr>
          <a:xfrm>
            <a:off x="1116000" y="1773360"/>
            <a:ext cx="2879640" cy="27241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9"/>
          <p:cNvSpPr/>
          <p:nvPr/>
        </p:nvSpPr>
        <p:spPr>
          <a:xfrm>
            <a:off x="7093080" y="6165720"/>
            <a:ext cx="64764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3016"/>
          <p:cNvPicPr/>
          <p:nvPr/>
        </p:nvPicPr>
        <p:blipFill>
          <a:blip r:embed="rId1"/>
          <a:stretch/>
        </p:blipFill>
        <p:spPr>
          <a:xfrm>
            <a:off x="4788000" y="3213000"/>
            <a:ext cx="3200400" cy="3429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6659640" y="60213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755640" y="333360"/>
            <a:ext cx="746748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胸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由三个环节组成 。每一胸节的腹面有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胸足共三对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胸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39640" y="155736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050920" y="1557360"/>
            <a:ext cx="6705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协助口器把持桑叶取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吐丝时用于结茧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对爬行仅起辅助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xiongzu"/>
          <p:cNvPicPr/>
          <p:nvPr/>
        </p:nvPicPr>
        <p:blipFill>
          <a:blip r:embed="rId2"/>
          <a:stretch/>
        </p:blipFill>
        <p:spPr>
          <a:xfrm>
            <a:off x="1332000" y="2852640"/>
            <a:ext cx="3254400" cy="38894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8172360" y="6237360"/>
            <a:ext cx="64764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4191120" y="380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腹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4191120" y="1295280"/>
            <a:ext cx="47242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环节组成 ，第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各节各生有一对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腹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腹足为蚕的运动器官，使身体前行。第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有一对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尾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用来夹持物体。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足，第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背后面生有一个尖形肉质突起，称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尾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在胸部第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和腹部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两侧各生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小黑点，这些小黑点有什么作用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0" y="318924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971640" y="2346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尾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94920" y="2993760"/>
            <a:ext cx="864000" cy="1152360"/>
            <a:chOff x="394920" y="2993760"/>
            <a:chExt cx="864000" cy="1152360"/>
          </a:xfrm>
        </p:grpSpPr>
        <p:sp>
          <p:nvSpPr>
            <p:cNvPr id="217" name="Line 6"/>
            <p:cNvSpPr/>
            <p:nvPr/>
          </p:nvSpPr>
          <p:spPr>
            <a:xfrm flipV="1">
              <a:off x="395280" y="2993760"/>
              <a:ext cx="863640" cy="1152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 rot="10800000">
              <a:off x="394920" y="2993760"/>
              <a:ext cx="86364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742840" y="3065400"/>
            <a:ext cx="173520" cy="1571760"/>
            <a:chOff x="2742840" y="3065400"/>
            <a:chExt cx="173520" cy="1571760"/>
          </a:xfrm>
        </p:grpSpPr>
        <p:sp>
          <p:nvSpPr>
            <p:cNvPr id="220" name="Line 7"/>
            <p:cNvSpPr/>
            <p:nvPr/>
          </p:nvSpPr>
          <p:spPr>
            <a:xfrm flipV="1">
              <a:off x="2743200" y="3065400"/>
              <a:ext cx="173160" cy="15717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 rot="10800000">
              <a:off x="2742840" y="3065400"/>
              <a:ext cx="173160" cy="157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8"/>
          <p:cNvSpPr/>
          <p:nvPr/>
        </p:nvSpPr>
        <p:spPr>
          <a:xfrm>
            <a:off x="2340000" y="2346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2195640" y="61628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403280" y="4867200"/>
            <a:ext cx="720720" cy="1582920"/>
            <a:chOff x="1403280" y="4867200"/>
            <a:chExt cx="720720" cy="1582920"/>
          </a:xfrm>
        </p:grpSpPr>
        <p:sp>
          <p:nvSpPr>
            <p:cNvPr id="225" name="Line 10"/>
            <p:cNvSpPr/>
            <p:nvPr/>
          </p:nvSpPr>
          <p:spPr>
            <a:xfrm>
              <a:off x="1403280" y="4867200"/>
              <a:ext cx="720720" cy="1582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1403280" y="4867200"/>
              <a:ext cx="720720" cy="158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11"/>
          <p:cNvSpPr/>
          <p:nvPr/>
        </p:nvSpPr>
        <p:spPr>
          <a:xfrm>
            <a:off x="755640" y="61628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尾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50920" y="5010120"/>
            <a:ext cx="504720" cy="1224000"/>
            <a:chOff x="250920" y="5010120"/>
            <a:chExt cx="504720" cy="1224000"/>
          </a:xfrm>
        </p:grpSpPr>
        <p:sp>
          <p:nvSpPr>
            <p:cNvPr id="229" name="Line 12"/>
            <p:cNvSpPr/>
            <p:nvPr/>
          </p:nvSpPr>
          <p:spPr>
            <a:xfrm>
              <a:off x="250920" y="5010120"/>
              <a:ext cx="504720" cy="1224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250920" y="5010120"/>
              <a:ext cx="50472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13"/>
          <p:cNvSpPr/>
          <p:nvPr/>
        </p:nvSpPr>
        <p:spPr>
          <a:xfrm>
            <a:off x="8172360" y="6237360"/>
            <a:ext cx="64764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4"/>
          <p:cNvGrpSpPr/>
          <p:nvPr/>
        </p:nvGrpSpPr>
        <p:grpSpPr>
          <a:xfrm>
            <a:off x="395280" y="0"/>
            <a:ext cx="3239640" cy="2160720"/>
            <a:chOff x="395280" y="0"/>
            <a:chExt cx="3239640" cy="2160720"/>
          </a:xfrm>
        </p:grpSpPr>
        <p:pic>
          <p:nvPicPr>
            <p:cNvPr id="233" name="Picture 15" descr="DSCN0994"/>
            <p:cNvPicPr/>
            <p:nvPr/>
          </p:nvPicPr>
          <p:blipFill>
            <a:blip r:embed="rId2"/>
            <a:stretch/>
          </p:blipFill>
          <p:spPr>
            <a:xfrm>
              <a:off x="400680" y="0"/>
              <a:ext cx="323424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6" descr="BPIC0072"/>
            <p:cNvPicPr/>
            <p:nvPr/>
          </p:nvPicPr>
          <p:blipFill>
            <a:blip r:embed="rId3"/>
            <a:stretch/>
          </p:blipFill>
          <p:spPr>
            <a:xfrm>
              <a:off x="395280" y="965520"/>
              <a:ext cx="3187440" cy="94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17"/>
            <p:cNvSpPr/>
            <p:nvPr/>
          </p:nvSpPr>
          <p:spPr>
            <a:xfrm>
              <a:off x="400680" y="1946520"/>
              <a:ext cx="323424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蚕的腹足及其钩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trips dir="lu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蚕身体两侧共有几对小黑点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别在什么部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29840" y="4508280"/>
            <a:ext cx="8713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呼吸器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身体两侧的小黑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气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气门和蚕体内的气管相连，是体内外气体交换的进出口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372360" y="333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851280" y="90792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胸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对，腹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114800" cy="297180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900000" y="3068640"/>
            <a:ext cx="4176720" cy="936720"/>
            <a:chOff x="900000" y="3068640"/>
            <a:chExt cx="4176720" cy="936720"/>
          </a:xfrm>
        </p:grpSpPr>
        <p:sp>
          <p:nvSpPr>
            <p:cNvPr id="242" name="Line 7"/>
            <p:cNvSpPr/>
            <p:nvPr/>
          </p:nvSpPr>
          <p:spPr>
            <a:xfrm>
              <a:off x="900000" y="3068640"/>
              <a:ext cx="4176720" cy="936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900000" y="3068640"/>
              <a:ext cx="417672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8"/>
          <p:cNvSpPr/>
          <p:nvPr/>
        </p:nvSpPr>
        <p:spPr>
          <a:xfrm>
            <a:off x="5148360" y="3645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282920" y="2637000"/>
            <a:ext cx="1297080" cy="1008000"/>
            <a:chOff x="4282920" y="2637000"/>
            <a:chExt cx="1297080" cy="1008000"/>
          </a:xfrm>
        </p:grpSpPr>
        <p:sp>
          <p:nvSpPr>
            <p:cNvPr id="246" name="Line 9"/>
            <p:cNvSpPr/>
            <p:nvPr/>
          </p:nvSpPr>
          <p:spPr>
            <a:xfrm>
              <a:off x="4282920" y="2637000"/>
              <a:ext cx="1297080" cy="1008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4282920" y="2637000"/>
              <a:ext cx="129708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250920" y="981000"/>
            <a:ext cx="864216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的外形：白色，呈圆筒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较小，呈扁圆形，位于蚕体的最前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胸：是头部后面的三个环节，每个环节腹面长有一对足，称为胸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腹：胸部后面的十个环节。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及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各有一对腹足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腹足因为在尾部，因此也叫尾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0" y="40464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科学知识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蚕的头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2007410214814597"/>
          <p:cNvPicPr/>
          <p:nvPr/>
        </p:nvPicPr>
        <p:blipFill>
          <a:blip r:embed="rId1"/>
          <a:stretch/>
        </p:blipFill>
        <p:spPr>
          <a:xfrm>
            <a:off x="0" y="1125360"/>
            <a:ext cx="867564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9144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☆</a:t>
            </a:r>
            <a:r>
              <a:rPr b="0" lang="zh-TW" sz="3200" spc="-1" strike="noStrike">
                <a:solidFill>
                  <a:srgbClr val="000099"/>
                </a:solidFill>
                <a:latin typeface="PMingLiU"/>
                <a:ea typeface="楷体_GB2312"/>
              </a:rPr>
              <a:t>   </a:t>
            </a:r>
            <a:r>
              <a:rPr b="0" lang="zh-TW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蚕</a:t>
            </a:r>
            <a:r>
              <a:rPr b="0" lang="zh-TW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蛻皮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＊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蚕宝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吃不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抬得高高的時候，叫做「眠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＊蚕「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眠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」后，蚕开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始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头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尾</a:t>
            </a:r>
            <a:r>
              <a:rPr b="0" lang="zh-TW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「蛻皮」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＊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蚕宝宝时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期，一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支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龄蚕总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蛻皮四次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image006"/>
          <p:cNvPicPr/>
          <p:nvPr/>
        </p:nvPicPr>
        <p:blipFill>
          <a:blip r:embed="rId1"/>
          <a:stretch/>
        </p:blipFill>
        <p:spPr>
          <a:xfrm>
            <a:off x="1908000" y="4129200"/>
            <a:ext cx="2133720" cy="1993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image008"/>
          <p:cNvPicPr/>
          <p:nvPr/>
        </p:nvPicPr>
        <p:blipFill>
          <a:blip r:embed="rId2"/>
          <a:stretch/>
        </p:blipFill>
        <p:spPr>
          <a:xfrm>
            <a:off x="5335560" y="4221000"/>
            <a:ext cx="1565280" cy="1584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2045880" y="607752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眠中的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蚕</a:t>
            </a:r>
            <a:r>
              <a:rPr b="0" lang="zh-TW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顏色也改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</a:t>
            </a:r>
            <a:r>
              <a:rPr b="0" lang="zh-TW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5425560" y="607140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蛻下的皮和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旧头骨</a:t>
            </a:r>
            <a:r>
              <a:rPr b="0" lang="zh-TW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蚕是怎么吃桑叶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胸部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足能够把持桑叶帮助进食，腹部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足能够使身体前进，腹部最后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尾足可以和腹足附着在物体上，使身体的前半部分抬起来，进行各种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8199"/>
          <p:cNvSpPr/>
          <p:nvPr/>
        </p:nvSpPr>
        <p:spPr>
          <a:xfrm>
            <a:off x="860400" y="4245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_t2-1479-2a272_w200h259"/>
          <p:cNvPicPr/>
          <p:nvPr/>
        </p:nvPicPr>
        <p:blipFill>
          <a:blip r:embed="rId1"/>
          <a:stretch/>
        </p:blipFill>
        <p:spPr>
          <a:xfrm>
            <a:off x="0" y="1773360"/>
            <a:ext cx="2502000" cy="3240000"/>
          </a:xfrm>
          <a:prstGeom prst="rect">
            <a:avLst/>
          </a:prstGeom>
          <a:ln w="0">
            <a:noFill/>
          </a:ln>
        </p:spPr>
      </p:pic>
      <p:sp>
        <p:nvSpPr>
          <p:cNvPr id="258" name="WordArt 4"/>
          <p:cNvSpPr txBox="1"/>
          <p:nvPr/>
        </p:nvSpPr>
        <p:spPr>
          <a:xfrm>
            <a:off x="2700360" y="2276640"/>
            <a:ext cx="4840200" cy="21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蚕　的　一　生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2967120" y="49798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3708000" y="4869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蚕宝宝还会怎么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200512301017306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阅读教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2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关内容</a:t>
            </a:r>
            <a:r>
              <a:rPr b="0" lang="zh-CN" sz="4800" spc="-1" strike="noStrike">
                <a:solidFill>
                  <a:srgbClr val="a50021"/>
                </a:solidFill>
                <a:latin typeface="Arial"/>
              </a:rPr>
              <a:t>猜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33520" y="18284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、为什么蚕开始不怎么吃叶子了，身体也发黄发亮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990720" y="365760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990720" y="2819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蚕准备吐丝了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533520" y="37339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蚕吐丝前，蚕农应该做些什么准备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914400" y="449568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蚕吐丝前，应该为它搭个小架子，或用纸做些小格子，以便它在那里结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39280" y="404640"/>
            <a:ext cx="37450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</a:rPr>
              <a:t>吐丝结茧了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01300000164151122182206547853[1]"/>
          <p:cNvPicPr/>
          <p:nvPr/>
        </p:nvPicPr>
        <p:blipFill>
          <a:blip r:embed="rId1"/>
          <a:stretch/>
        </p:blipFill>
        <p:spPr>
          <a:xfrm>
            <a:off x="4427640" y="1197000"/>
            <a:ext cx="4392360" cy="3294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4"/>
          <p:cNvSpPr/>
          <p:nvPr/>
        </p:nvSpPr>
        <p:spPr>
          <a:xfrm>
            <a:off x="1091520" y="1125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症状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162080" y="16336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身体变黄变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1941480" y="21337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皮肤紧绷、缩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176480" y="2637000"/>
            <a:ext cx="17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不爱吃桑叶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353240" y="3213000"/>
            <a:ext cx="261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排出的粪便由硬变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由墨绿色变成叶绿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1884600" y="4149720"/>
            <a:ext cx="335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蚕体头胸部昂起，口吐丝缕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左右上下摆动寻找营茧场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457200" y="1066680"/>
            <a:ext cx="838836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胸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节组成，最下端有黑褐色钩爪，作用是把持桑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腹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是柔软无节的肉质突起，先端圆盘状，内缘密生黑褐色钩爪，作用是使身体前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身体两侧的小黑点：是气门，呼吸用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：呈波浪式重复前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吐丝前的蚕：不吃桑叶，身体发黄发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吐丝后的蚕：身体变小，藏在茧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吐丝：身体运动，头来回晃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50920" y="426960"/>
            <a:ext cx="29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科学知识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3014"/>
          <p:cNvPicPr/>
          <p:nvPr/>
        </p:nvPicPr>
        <p:blipFill>
          <a:blip r:embed="rId1"/>
          <a:stretch/>
        </p:blipFill>
        <p:spPr>
          <a:xfrm>
            <a:off x="3962520" y="3124080"/>
            <a:ext cx="2614320" cy="3124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3016"/>
          <p:cNvPicPr/>
          <p:nvPr/>
        </p:nvPicPr>
        <p:blipFill>
          <a:blip r:embed="rId2"/>
          <a:stretch/>
        </p:blipFill>
        <p:spPr>
          <a:xfrm>
            <a:off x="6581880" y="3124080"/>
            <a:ext cx="2562120" cy="312444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6095880" y="2590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762120" y="762120"/>
            <a:ext cx="746748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胸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由三个环节组成 。每一胸节的腹面有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胸足共三对胸足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762120" y="22096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1981080" y="22096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助口器把持桑叶取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3124080" y="304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腹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4114800" y="0"/>
            <a:ext cx="50292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环节组成 ，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节各节各生有一对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足。为蚕的运动器官，使身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前行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有一对尾足，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来夹持物体。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腹足，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后面生有尖形肉质突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尾角。在胸部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和腹部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两侧各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小黑点是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门，是蚕的呼吸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3020"/>
          <p:cNvPicPr/>
          <p:nvPr/>
        </p:nvPicPr>
        <p:blipFill>
          <a:blip r:embed="rId1"/>
          <a:stretch/>
        </p:blipFill>
        <p:spPr>
          <a:xfrm>
            <a:off x="0" y="0"/>
            <a:ext cx="2971800" cy="17906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8"/>
          <p:cNvSpPr/>
          <p:nvPr/>
        </p:nvSpPr>
        <p:spPr>
          <a:xfrm>
            <a:off x="838080" y="19810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2"/>
          <a:stretch/>
        </p:blipFill>
        <p:spPr>
          <a:xfrm>
            <a:off x="0" y="274320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0"/>
          <p:cNvSpPr/>
          <p:nvPr/>
        </p:nvSpPr>
        <p:spPr>
          <a:xfrm>
            <a:off x="838080" y="6019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尾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33520" y="4038480"/>
            <a:ext cx="380880" cy="2057400"/>
            <a:chOff x="533520" y="4038480"/>
            <a:chExt cx="380880" cy="2057400"/>
          </a:xfrm>
        </p:grpSpPr>
        <p:sp>
          <p:nvSpPr>
            <p:cNvPr id="291" name="Line 11"/>
            <p:cNvSpPr/>
            <p:nvPr/>
          </p:nvSpPr>
          <p:spPr>
            <a:xfrm>
              <a:off x="533520" y="4038480"/>
              <a:ext cx="380880" cy="20574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533520" y="4038480"/>
              <a:ext cx="38088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819520" y="4191120"/>
            <a:ext cx="75960" cy="1752480"/>
            <a:chOff x="2819520" y="4191120"/>
            <a:chExt cx="75960" cy="1752480"/>
          </a:xfrm>
        </p:grpSpPr>
        <p:sp>
          <p:nvSpPr>
            <p:cNvPr id="294" name="Line 12"/>
            <p:cNvSpPr/>
            <p:nvPr/>
          </p:nvSpPr>
          <p:spPr>
            <a:xfrm>
              <a:off x="2819520" y="4191120"/>
              <a:ext cx="75960" cy="17524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2819520" y="4191120"/>
              <a:ext cx="75960" cy="1752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13"/>
          <p:cNvSpPr/>
          <p:nvPr/>
        </p:nvSpPr>
        <p:spPr>
          <a:xfrm>
            <a:off x="2209680" y="5943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蚕身体两侧的小黑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蚕的呼吸器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身体两侧的小黑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气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气门和蚕体内的气管相连，是体内外气体交换的进出口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685800" y="4952880"/>
            <a:ext cx="9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研究者做过实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228600" y="13716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仅把蚕的头部放入水中，身体留在外面，蚕不会死。相反，如果把蚕的身体放入水中，头部留在外面，蚕就会死掉。这样做比较残忍，不提倡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990720" y="1219320"/>
            <a:ext cx="5616000" cy="4680000"/>
            <a:chOff x="990720" y="1219320"/>
            <a:chExt cx="5616000" cy="4680000"/>
          </a:xfrm>
        </p:grpSpPr>
        <p:pic>
          <p:nvPicPr>
            <p:cNvPr id="302" name="Picture 3" descr="DSCN0994"/>
            <p:cNvPicPr/>
            <p:nvPr/>
          </p:nvPicPr>
          <p:blipFill>
            <a:blip r:embed="rId1"/>
            <a:stretch/>
          </p:blipFill>
          <p:spPr>
            <a:xfrm>
              <a:off x="1000440" y="1219320"/>
              <a:ext cx="5606280" cy="205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4" descr="BPIC0072"/>
            <p:cNvPicPr/>
            <p:nvPr/>
          </p:nvPicPr>
          <p:blipFill>
            <a:blip r:embed="rId2"/>
            <a:stretch/>
          </p:blipFill>
          <p:spPr>
            <a:xfrm>
              <a:off x="990720" y="3310560"/>
              <a:ext cx="5525280" cy="204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ectangle 5"/>
            <p:cNvSpPr/>
            <p:nvPr/>
          </p:nvSpPr>
          <p:spPr>
            <a:xfrm>
              <a:off x="1000440" y="5435280"/>
              <a:ext cx="5606280" cy="46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蚕的腹足及其钩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6"/>
          <p:cNvSpPr/>
          <p:nvPr/>
        </p:nvSpPr>
        <p:spPr>
          <a:xfrm>
            <a:off x="7328520" y="1557360"/>
            <a:ext cx="11552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的腹足及其钩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4516515661"/>
          <p:cNvPicPr/>
          <p:nvPr/>
        </p:nvPicPr>
        <p:blipFill>
          <a:blip r:embed="rId1"/>
          <a:stretch/>
        </p:blipFill>
        <p:spPr>
          <a:xfrm>
            <a:off x="2209680" y="1351080"/>
            <a:ext cx="4392720" cy="33289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042920" y="508464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宝宝每蜕皮一次就会长长一些，长一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4"/>
          <p:cNvSpPr/>
          <p:nvPr/>
        </p:nvSpPr>
        <p:spPr>
          <a:xfrm>
            <a:off x="228600" y="1143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熟的蚕食欲下降，前部消化器官空虚，胸部呈透明状；继而完全停食，体躯缩短，腹部也趋向透明，蚕体头胸部昂起，口吐丝缕，左右上下摆动寻找营蚕场所。吐丝后，观察到蚕身体变小，潜伏在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2438280" cy="23288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2971800" y="39654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宝宝用腹足抓住眠的场所，抬起身体的前半部分静止不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蚕还会长成什么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68000" y="3322800"/>
            <a:ext cx="80773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蜕皮四次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成了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五龄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一般经过五到八天，它就会表现出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老熟的特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食欲减退，胸部呈透明状，随后完全停食，腹部也趋向透明，蚕体头部昂起，口吐丝缕，左右上下摆动寻找结茧场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539640" y="170028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成为五龄蚕后，蚕将很快表现出熟蚕的哪些特征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蚕吐丝结茧做准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就要吐丝了，我们应该为它准备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755640" y="3284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蚕准备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吐丝的场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用稻草扎小架子、用纸做圆筒或格子房。一旦发现蚕成熟了，就可以把它放在格子房或架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71640" y="105264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 </a:t>
            </a: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S </a:t>
            </a:r>
            <a:r>
              <a:rPr b="1" lang="zh-TW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型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及</a:t>
            </a: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8 </a:t>
            </a:r>
            <a:r>
              <a:rPr b="1" lang="zh-TW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字型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式吐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丝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cbbts"/>
          <p:cNvPicPr/>
          <p:nvPr/>
        </p:nvPicPr>
        <p:blipFill>
          <a:blip r:embed="rId1"/>
          <a:stretch/>
        </p:blipFill>
        <p:spPr>
          <a:xfrm>
            <a:off x="2627280" y="2286000"/>
            <a:ext cx="424836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3" descr="4516453531"/>
          <p:cNvPicPr/>
          <p:nvPr/>
        </p:nvPicPr>
        <p:blipFill>
          <a:blip r:embed="rId1"/>
          <a:stretch/>
        </p:blipFill>
        <p:spPr>
          <a:xfrm>
            <a:off x="4788000" y="950760"/>
            <a:ext cx="2952720" cy="22370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451645353"/>
          <p:cNvPicPr/>
          <p:nvPr/>
        </p:nvPicPr>
        <p:blipFill>
          <a:blip r:embed="rId2"/>
          <a:stretch/>
        </p:blipFill>
        <p:spPr>
          <a:xfrm>
            <a:off x="1547640" y="879480"/>
            <a:ext cx="3024360" cy="22906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503280" y="3429000"/>
            <a:ext cx="8136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将五龄蚕移入纸做成的方格中时， 蚕就开吐丝，大约经两昼夜就完成了。一只蚕所吐的丝，其长度可达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1000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至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1500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米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451645355"/>
          <p:cNvPicPr/>
          <p:nvPr/>
        </p:nvPicPr>
        <p:blipFill>
          <a:blip r:embed="rId1"/>
          <a:stretch/>
        </p:blipFill>
        <p:spPr>
          <a:xfrm>
            <a:off x="4716360" y="1628640"/>
            <a:ext cx="2016360" cy="15098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451645356"/>
          <p:cNvPicPr/>
          <p:nvPr/>
        </p:nvPicPr>
        <p:blipFill>
          <a:blip r:embed="rId2"/>
          <a:stretch/>
        </p:blipFill>
        <p:spPr>
          <a:xfrm>
            <a:off x="6948360" y="1628640"/>
            <a:ext cx="1871640" cy="14256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451645353"/>
          <p:cNvPicPr/>
          <p:nvPr/>
        </p:nvPicPr>
        <p:blipFill>
          <a:blip r:embed="rId3"/>
          <a:stretch/>
        </p:blipFill>
        <p:spPr>
          <a:xfrm>
            <a:off x="324000" y="1628640"/>
            <a:ext cx="2016000" cy="1527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45164535311"/>
          <p:cNvPicPr/>
          <p:nvPr/>
        </p:nvPicPr>
        <p:blipFill>
          <a:blip r:embed="rId4"/>
          <a:stretch/>
        </p:blipFill>
        <p:spPr>
          <a:xfrm>
            <a:off x="2484360" y="1628640"/>
            <a:ext cx="2016360" cy="15084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324000" y="3276720"/>
            <a:ext cx="84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开始吐丝的五龄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吐丝中的蚕宝宝，最初在方格的周围吐丝，以固定茧的位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蚕宝宝以八字形吐丝，已略具雏形的蚕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成形的蚕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533520" y="83808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吐丝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食欲下降，躯体发黄发亮，变透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吐丝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身体运动，头来回晃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吐丝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蚕身体变小，潜伏在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2590920" cy="24750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"/>
          <p:cNvSpPr/>
          <p:nvPr/>
        </p:nvSpPr>
        <p:spPr>
          <a:xfrm>
            <a:off x="3276720" y="405756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蚕用腹足抓住眠的场所，抬起身体的前半部分静止不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600120" y="316224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蚕花较多时间寻找适合做茧的地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8199"/>
          <p:cNvSpPr/>
          <p:nvPr/>
        </p:nvSpPr>
        <p:spPr>
          <a:xfrm>
            <a:off x="1351080" y="326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4190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目标检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560" y="10663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填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蚕生长过程中，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体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颜色、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吃食情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排便、活动等方面都在不断地发生变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蚕生长到一定的阶段，会长出新皮，换下旧皮，这叫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蜕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蚕的外形是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长圆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形，身体分为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（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）三部分；用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口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吃桑叶，用（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腹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爬行，用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气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呼吸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当蚕身体发黄发亮、不吃食时，它将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吐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809880" y="1600200"/>
            <a:ext cx="762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6629400" y="16002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1752480" y="304812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124080" y="3429000"/>
            <a:ext cx="10670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7010280" y="342900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1066680" y="39625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2743200" y="388620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5867280" y="38862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1143000" y="441972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4114800" y="43434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7086600" y="48006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发现蚕蜕了几次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蜕一次皮用了多少时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蜕皮前蚕有什么反常的情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蜕皮前和蜕皮后的蚕有什么不一样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认为你的蚕还会蜕皮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认为蚕为什么要蜕皮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91D8-9C82-43BE-AF70-6A5DE8F7A09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4" descr="cd305282e4c4d0f99023d9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3581280" y="1676520"/>
            <a:ext cx="1447920" cy="360"/>
            <a:chOff x="3581280" y="1676520"/>
            <a:chExt cx="1447920" cy="360"/>
          </a:xfrm>
        </p:grpSpPr>
        <p:sp>
          <p:nvSpPr>
            <p:cNvPr id="137" name="Line 6"/>
            <p:cNvSpPr/>
            <p:nvPr/>
          </p:nvSpPr>
          <p:spPr>
            <a:xfrm>
              <a:off x="3581280" y="1676520"/>
              <a:ext cx="1447920" cy="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3581280" y="167652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Picture 7" descr=""/>
          <p:cNvPicPr/>
          <p:nvPr/>
        </p:nvPicPr>
        <p:blipFill>
          <a:blip r:embed="rId2"/>
          <a:stretch/>
        </p:blipFill>
        <p:spPr>
          <a:xfrm>
            <a:off x="5181480" y="3951360"/>
            <a:ext cx="2971800" cy="199224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6477120" y="2743200"/>
            <a:ext cx="360" cy="1143000"/>
            <a:chOff x="6477120" y="2743200"/>
            <a:chExt cx="360" cy="1143000"/>
          </a:xfrm>
        </p:grpSpPr>
        <p:sp>
          <p:nvSpPr>
            <p:cNvPr id="141" name="Line 8"/>
            <p:cNvSpPr/>
            <p:nvPr/>
          </p:nvSpPr>
          <p:spPr>
            <a:xfrm>
              <a:off x="6477120" y="2743200"/>
              <a:ext cx="0" cy="114300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6477120" y="2743200"/>
              <a:ext cx="36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9" descr=""/>
          <p:cNvPicPr/>
          <p:nvPr/>
        </p:nvPicPr>
        <p:blipFill>
          <a:blip r:embed="rId3"/>
          <a:stretch/>
        </p:blipFill>
        <p:spPr>
          <a:xfrm>
            <a:off x="609480" y="3975120"/>
            <a:ext cx="2819520" cy="196848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3428640" y="4723920"/>
            <a:ext cx="1676520" cy="360"/>
            <a:chOff x="3428640" y="4723920"/>
            <a:chExt cx="1676520" cy="360"/>
          </a:xfrm>
        </p:grpSpPr>
        <p:sp>
          <p:nvSpPr>
            <p:cNvPr id="145" name="Line 10"/>
            <p:cNvSpPr/>
            <p:nvPr/>
          </p:nvSpPr>
          <p:spPr>
            <a:xfrm flipH="1">
              <a:off x="3428640" y="4724280"/>
              <a:ext cx="1676520" cy="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 rot="10800000">
              <a:off x="3428640" y="472392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11" descr="L011[1]"/>
          <p:cNvPicPr/>
          <p:nvPr/>
        </p:nvPicPr>
        <p:blipFill>
          <a:blip r:embed="rId4"/>
          <a:stretch/>
        </p:blipFill>
        <p:spPr>
          <a:xfrm>
            <a:off x="5105520" y="457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L010"/>
          <p:cNvPicPr/>
          <p:nvPr/>
        </p:nvPicPr>
        <p:blipFill>
          <a:blip r:embed="rId5"/>
          <a:stretch/>
        </p:blipFill>
        <p:spPr>
          <a:xfrm>
            <a:off x="457200" y="457200"/>
            <a:ext cx="3048120" cy="2271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0" y="0"/>
          <a:ext cx="9144000" cy="5867280"/>
        </p:xfrm>
        <a:graphic>
          <a:graphicData uri="http://schemas.openxmlformats.org/drawingml/2006/table">
            <a:tbl>
              <a:tblPr/>
              <a:tblGrid>
                <a:gridCol w="1828800"/>
                <a:gridCol w="1752480"/>
                <a:gridCol w="1905120"/>
                <a:gridCol w="1905120"/>
                <a:gridCol w="1752480"/>
              </a:tblGrid>
              <a:tr h="103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Text Box 40"/>
          <p:cNvSpPr/>
          <p:nvPr/>
        </p:nvSpPr>
        <p:spPr>
          <a:xfrm>
            <a:off x="1828800" y="304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外形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5715000" y="304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食   物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7315200" y="304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    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3"/>
          <p:cNvSpPr/>
          <p:nvPr/>
        </p:nvSpPr>
        <p:spPr>
          <a:xfrm>
            <a:off x="380880" y="1219320"/>
            <a:ext cx="2057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卵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4"/>
          <p:cNvSpPr/>
          <p:nvPr/>
        </p:nvSpPr>
        <p:spPr>
          <a:xfrm>
            <a:off x="533520" y="2590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5"/>
          <p:cNvSpPr/>
          <p:nvPr/>
        </p:nvSpPr>
        <p:spPr>
          <a:xfrm>
            <a:off x="457200" y="3733920"/>
            <a:ext cx="2057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6"/>
          <p:cNvSpPr/>
          <p:nvPr/>
        </p:nvSpPr>
        <p:spPr>
          <a:xfrm>
            <a:off x="304920" y="5029200"/>
            <a:ext cx="2057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蚕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7"/>
          <p:cNvSpPr/>
          <p:nvPr/>
        </p:nvSpPr>
        <p:spPr>
          <a:xfrm>
            <a:off x="0" y="6019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共记多少天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8"/>
          <p:cNvSpPr/>
          <p:nvPr/>
        </p:nvSpPr>
        <p:spPr>
          <a:xfrm>
            <a:off x="1905120" y="9907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椭圆形，紫黑色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9"/>
          <p:cNvSpPr/>
          <p:nvPr/>
        </p:nvSpPr>
        <p:spPr>
          <a:xfrm>
            <a:off x="3962520" y="1219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0"/>
          <p:cNvSpPr/>
          <p:nvPr/>
        </p:nvSpPr>
        <p:spPr>
          <a:xfrm>
            <a:off x="5943600" y="1219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1"/>
          <p:cNvSpPr/>
          <p:nvPr/>
        </p:nvSpPr>
        <p:spPr>
          <a:xfrm>
            <a:off x="1752480" y="2057400"/>
            <a:ext cx="2057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圆筒形，有环节，青白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467120" y="1066680"/>
            <a:ext cx="1676880" cy="990720"/>
            <a:chOff x="7467120" y="1066680"/>
            <a:chExt cx="1676880" cy="990720"/>
          </a:xfrm>
        </p:grpSpPr>
        <p:sp>
          <p:nvSpPr>
            <p:cNvPr id="362" name="Line 52"/>
            <p:cNvSpPr/>
            <p:nvPr/>
          </p:nvSpPr>
          <p:spPr>
            <a:xfrm flipV="1">
              <a:off x="7467480" y="1066680"/>
              <a:ext cx="1676520" cy="990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 rot="10800000">
              <a:off x="7467120" y="1066320"/>
              <a:ext cx="167652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53"/>
          <p:cNvSpPr/>
          <p:nvPr/>
        </p:nvSpPr>
        <p:spPr>
          <a:xfrm>
            <a:off x="3962520" y="2362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爬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4"/>
          <p:cNvSpPr/>
          <p:nvPr/>
        </p:nvSpPr>
        <p:spPr>
          <a:xfrm>
            <a:off x="5638680" y="2362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吃桑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5"/>
          <p:cNvSpPr/>
          <p:nvPr/>
        </p:nvSpPr>
        <p:spPr>
          <a:xfrm>
            <a:off x="754380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6"/>
          <p:cNvSpPr/>
          <p:nvPr/>
        </p:nvSpPr>
        <p:spPr>
          <a:xfrm>
            <a:off x="167652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纺锤形、褐色、有环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7"/>
          <p:cNvSpPr/>
          <p:nvPr/>
        </p:nvSpPr>
        <p:spPr>
          <a:xfrm>
            <a:off x="4343400" y="60199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8"/>
          <p:cNvSpPr/>
          <p:nvPr/>
        </p:nvSpPr>
        <p:spPr>
          <a:xfrm>
            <a:off x="5867280" y="3657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不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9"/>
          <p:cNvSpPr/>
          <p:nvPr/>
        </p:nvSpPr>
        <p:spPr>
          <a:xfrm>
            <a:off x="74674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0"/>
          <p:cNvSpPr/>
          <p:nvPr/>
        </p:nvSpPr>
        <p:spPr>
          <a:xfrm>
            <a:off x="3733920" y="3505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受刺激才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1"/>
          <p:cNvSpPr/>
          <p:nvPr/>
        </p:nvSpPr>
        <p:spPr>
          <a:xfrm>
            <a:off x="3505320" y="48006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会飞，但会振动翅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2"/>
          <p:cNvSpPr/>
          <p:nvPr/>
        </p:nvSpPr>
        <p:spPr>
          <a:xfrm>
            <a:off x="5867280" y="4952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不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3"/>
          <p:cNvSpPr/>
          <p:nvPr/>
        </p:nvSpPr>
        <p:spPr>
          <a:xfrm>
            <a:off x="7696080" y="5029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0" y="5867280"/>
          <a:ext cx="9144000" cy="990720"/>
        </p:xfrm>
        <a:graphic>
          <a:graphicData uri="http://schemas.openxmlformats.org/drawingml/2006/table">
            <a:tbl>
              <a:tblPr/>
              <a:tblGrid>
                <a:gridCol w="1828800"/>
                <a:gridCol w="7315200"/>
              </a:tblGrid>
              <a:tr h="99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Text Box 72"/>
          <p:cNvSpPr/>
          <p:nvPr/>
        </p:nvSpPr>
        <p:spPr>
          <a:xfrm>
            <a:off x="1828800" y="4572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白色，分头、胸、 腹三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73"/>
          <p:cNvSpPr/>
          <p:nvPr/>
        </p:nvSpPr>
        <p:spPr>
          <a:xfrm>
            <a:off x="3581280" y="0"/>
            <a:ext cx="1905120" cy="1066680"/>
          </a:xfrm>
          <a:custGeom>
            <a:avLst/>
            <a:gdLst>
              <a:gd name="textAreaLeft" fmla="*/ 69120 w 1905120"/>
              <a:gd name="textAreaRight" fmla="*/ 1836000 w 19051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8572" h="21600">
                <a:moveTo>
                  <a:pt x="0" y="0"/>
                </a:moveTo>
                <a:lnTo>
                  <a:pt x="38572" y="0"/>
                </a:lnTo>
                <a:lnTo>
                  <a:pt x="38572" y="21600"/>
                </a:lnTo>
                <a:lnTo>
                  <a:pt x="0" y="21600"/>
                </a:lnTo>
                <a:close/>
              </a:path>
              <a:path fill="lightenLess" w="38572" h="21600">
                <a:moveTo>
                  <a:pt x="0" y="0"/>
                </a:moveTo>
                <a:lnTo>
                  <a:pt x="38572" y="0"/>
                </a:lnTo>
                <a:lnTo>
                  <a:pt x="37173" y="1400"/>
                </a:lnTo>
                <a:lnTo>
                  <a:pt x="1400" y="1400"/>
                </a:lnTo>
                <a:close/>
              </a:path>
              <a:path fill="darken" w="38572" h="21600">
                <a:moveTo>
                  <a:pt x="38572" y="0"/>
                </a:moveTo>
                <a:lnTo>
                  <a:pt x="38572" y="21600"/>
                </a:lnTo>
                <a:lnTo>
                  <a:pt x="37173" y="20200"/>
                </a:lnTo>
                <a:lnTo>
                  <a:pt x="37173" y="1400"/>
                </a:lnTo>
                <a:close/>
              </a:path>
              <a:path fill="darkenLess" w="38572" h="21600">
                <a:moveTo>
                  <a:pt x="38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73" y="20200"/>
                </a:lnTo>
                <a:close/>
              </a:path>
              <a:path fill="lighten" w="38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4"/>
          <p:cNvSpPr/>
          <p:nvPr/>
        </p:nvSpPr>
        <p:spPr>
          <a:xfrm>
            <a:off x="3809880" y="304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    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cd305282e4c4d0f99023d9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蚕生长到一定的阶段，会长出新皮，换下旧皮，这叫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蜕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蚕蜕皮是因为蚕的身体要长大了，表皮限制了身体的生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cd305282e4c4d0f99023d9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蚁蚕到吐丝结茧共蜕皮四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蚁蚕摄食后称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龄蚕，第一次眠后称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龄蚕，依次类推，第四次眠后称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龄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眠期的幼虫不吃不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幼虫发育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龄末期，逐渐停止取食，蚕体收缩，排空消化道，呈透明状，此时叫熟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L011[1]"/>
          <p:cNvPicPr/>
          <p:nvPr/>
        </p:nvPicPr>
        <p:blipFill>
          <a:blip r:embed="rId2"/>
          <a:stretch/>
        </p:blipFill>
        <p:spPr>
          <a:xfrm>
            <a:off x="685800" y="152280"/>
            <a:ext cx="2666880" cy="2210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3"/>
          <a:stretch/>
        </p:blipFill>
        <p:spPr>
          <a:xfrm>
            <a:off x="3581280" y="152280"/>
            <a:ext cx="373392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600" y="17521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在蜕皮过程中，吐出少量的丝，将腹足固定在蚕座上，头胸部昂起，不再运动好象睡着了一样称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8199"/>
          <p:cNvSpPr/>
          <p:nvPr/>
        </p:nvSpPr>
        <p:spPr>
          <a:xfrm>
            <a:off x="1338120" y="4221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new_p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4726080" y="4118040"/>
            <a:ext cx="43099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蚕宝宝用腹足抓住眠的场所，抬起身体的前半部分静止不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1332000" y="692280"/>
            <a:ext cx="59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经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时，在第一胸节上出现灰白色的三角形斑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70160" y="2133720"/>
            <a:ext cx="5616720" cy="4392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03:23:4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55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