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DF9-713C-4347-83F8-6118785D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B206-D995-4DEA-B044-6781E924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388-7266-4DC0-A5C2-88E637E1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B12D-BCE0-4F2D-BAC3-65173F1F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EC77-100D-4061-8663-F3982A50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D174-42DD-43FF-B53A-856089FC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6A02-46FA-40A0-9056-3257A03C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A5E9-5B0B-48FD-A278-FF577AB2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1248-5C67-4935-B4D7-BC4BBEB7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FB6A-2928-4898-952D-3EE45ADA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3D26-062D-4626-829D-561BB118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EB6-8626-4E0F-96A0-05AF9CBA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4707-F4DE-4B32-8366-214B4F08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6711-9B40-4018-9F25-F3CF9B15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F2E3-C49F-44BC-B4C1-B89A0BF4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EE0A-5226-42F4-9E04-5B2CFB98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9C2C-CC92-4F07-849D-900786A4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BC5-D084-4397-906A-6F9AFD0A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B477-F4FE-4C2C-9370-BFE1C959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A920-9A88-4F82-98E1-4A71A3F0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0AF-741A-42C6-8A8A-6DA63EE9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A72-E4FC-4A02-AC97-DAD35E72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49C-BF58-439D-B345-AE2DA2BD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DDC-04B6-4624-AB1C-62D09392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A211-4685-400F-BE41-29AA3C999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5908-812E-4F8B-B47B-60D00EED62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838080" y="866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教科版）三年级科学下册课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27"/>
          <p:cNvSpPr txBox="1"/>
          <p:nvPr/>
        </p:nvSpPr>
        <p:spPr>
          <a:xfrm>
            <a:off x="1295280" y="2006640"/>
            <a:ext cx="6934320" cy="19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92d050"/>
                </a:solidFill>
                <a:latin typeface="宋体"/>
              </a:rPr>
              <a:t>蚕的生命周期课件</a:t>
            </a:r>
            <a:r>
              <a:rPr b="1" lang="en-US" sz="1800" spc="-1" strike="noStrike">
                <a:ln w="0">
                  <a:noFill/>
                </a:ln>
                <a:solidFill>
                  <a:srgbClr val="92d050"/>
                </a:solidFill>
                <a:latin typeface="宋体"/>
              </a:rPr>
              <a:t>PPT</a:t>
            </a:r>
            <a:r>
              <a:rPr b="1" lang="zh-CN" sz="1800" spc="-1" strike="noStrike">
                <a:ln w="0">
                  <a:noFill/>
                </a:ln>
                <a:solidFill>
                  <a:srgbClr val="92d050"/>
                </a:solidFill>
                <a:latin typeface="宋体"/>
              </a:rPr>
              <a:t>模板下载</a:t>
            </a:r>
            <a:endParaRPr b="1" lang="en-US" sz="1800" spc="-1" strike="noStrike">
              <a:ln w="0">
                <a:noFill/>
              </a:ln>
              <a:solidFill>
                <a:srgbClr val="92d050"/>
              </a:solidFill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5638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经过一次脱皮后，就是二龄幼虫。她脱一次皮就算增加一岁，共要脱皮四次，成为五龄幼虫才开始吐丝结茧。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DSC01749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5333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533520" y="5867280"/>
            <a:ext cx="69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0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1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l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dur="indefinite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DSC01797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54100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228600" y="56386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这时的蚕宝宝快要开始吐丝了，蚕宝宝食欲减退，食桑量下降；蚕体、头、胸部昂起，口吐丝缕，左右上下摆动寻找营茧场所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8288280" y="6400800"/>
            <a:ext cx="855720" cy="457200"/>
          </a:xfrm>
          <a:custGeom>
            <a:avLst/>
            <a:gdLst>
              <a:gd name="textAreaLeft" fmla="*/ 29520 w 855720"/>
              <a:gd name="textAreaRight" fmla="*/ 826200 w 855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0413" h="21600">
                <a:moveTo>
                  <a:pt x="0" y="0"/>
                </a:moveTo>
                <a:lnTo>
                  <a:pt x="40413" y="0"/>
                </a:lnTo>
                <a:lnTo>
                  <a:pt x="40413" y="21600"/>
                </a:lnTo>
                <a:lnTo>
                  <a:pt x="0" y="21600"/>
                </a:lnTo>
                <a:close/>
              </a:path>
              <a:path fill="lightenLess" w="40413" h="21600">
                <a:moveTo>
                  <a:pt x="0" y="0"/>
                </a:moveTo>
                <a:lnTo>
                  <a:pt x="40413" y="0"/>
                </a:lnTo>
                <a:lnTo>
                  <a:pt x="39013" y="1400"/>
                </a:lnTo>
                <a:lnTo>
                  <a:pt x="1400" y="1400"/>
                </a:lnTo>
                <a:close/>
              </a:path>
              <a:path fill="darken" w="40413" h="21600">
                <a:moveTo>
                  <a:pt x="40413" y="0"/>
                </a:moveTo>
                <a:lnTo>
                  <a:pt x="40413" y="21600"/>
                </a:lnTo>
                <a:lnTo>
                  <a:pt x="39013" y="20200"/>
                </a:lnTo>
                <a:lnTo>
                  <a:pt x="39013" y="1400"/>
                </a:lnTo>
                <a:close/>
              </a:path>
              <a:path fill="darkenLess" w="40413" h="21600">
                <a:moveTo>
                  <a:pt x="40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13" y="20200"/>
                </a:lnTo>
                <a:close/>
              </a:path>
              <a:path fill="lighten" w="40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13" h="21600">
                <a:moveTo>
                  <a:pt x="20206" y="3837"/>
                </a:moveTo>
                <a:lnTo>
                  <a:pt x="22783" y="6448"/>
                </a:lnTo>
                <a:lnTo>
                  <a:pt x="22783" y="4707"/>
                </a:lnTo>
                <a:lnTo>
                  <a:pt x="24558" y="4707"/>
                </a:lnTo>
                <a:lnTo>
                  <a:pt x="24558" y="8224"/>
                </a:lnTo>
                <a:lnTo>
                  <a:pt x="27169" y="10800"/>
                </a:lnTo>
                <a:lnTo>
                  <a:pt x="25516" y="10800"/>
                </a:lnTo>
                <a:lnTo>
                  <a:pt x="25516" y="17989"/>
                </a:lnTo>
                <a:lnTo>
                  <a:pt x="14897" y="17989"/>
                </a:lnTo>
                <a:lnTo>
                  <a:pt x="14897" y="10800"/>
                </a:lnTo>
                <a:lnTo>
                  <a:pt x="13243" y="10800"/>
                </a:lnTo>
                <a:close/>
              </a:path>
              <a:path fill="darkenLess" w="40413" h="21600">
                <a:moveTo>
                  <a:pt x="22783" y="6448"/>
                </a:moveTo>
                <a:lnTo>
                  <a:pt x="22783" y="4707"/>
                </a:lnTo>
                <a:lnTo>
                  <a:pt x="24558" y="4707"/>
                </a:lnTo>
                <a:lnTo>
                  <a:pt x="24558" y="8224"/>
                </a:lnTo>
                <a:close/>
              </a:path>
              <a:path fill="darkenLess" w="40413" h="21600">
                <a:moveTo>
                  <a:pt x="19284" y="14299"/>
                </a:moveTo>
                <a:lnTo>
                  <a:pt x="21129" y="14299"/>
                </a:lnTo>
                <a:lnTo>
                  <a:pt x="21129" y="17989"/>
                </a:lnTo>
                <a:lnTo>
                  <a:pt x="25516" y="17989"/>
                </a:lnTo>
                <a:lnTo>
                  <a:pt x="25516" y="10800"/>
                </a:lnTo>
                <a:lnTo>
                  <a:pt x="14897" y="10800"/>
                </a:lnTo>
                <a:lnTo>
                  <a:pt x="14897" y="17989"/>
                </a:lnTo>
                <a:lnTo>
                  <a:pt x="1928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2005629191826341"/>
          <p:cNvPicPr/>
          <p:nvPr/>
        </p:nvPicPr>
        <p:blipFill>
          <a:blip r:embed="rId1"/>
          <a:stretch/>
        </p:blipFill>
        <p:spPr>
          <a:xfrm>
            <a:off x="228600" y="285840"/>
            <a:ext cx="8686800" cy="53528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228600" y="5657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茧衣形成后，茧腔逐渐变小，蚕体前后两端向背方弯曲，成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字型，蚕继续吐出茧丝，吐丝方式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形改变成∞形，这就开始了结茧层的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240" y="56383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蚕上蔟结茧后经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左右，就会变成蛹。蚕蛹的体形像一个纺棰，分头、胸、腹三个体段。 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DSC01829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51814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8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9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amond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DSC01831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4100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285840" y="57913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哇！这只超级蚕茧，很漂亮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trips dir="l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DSC01966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54104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304920" y="5943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是蚕蜕的最后一次皮，和蚕蛹变成飞蛾后的蛹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8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9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DSC01968"/>
          <p:cNvPicPr/>
          <p:nvPr/>
        </p:nvPicPr>
        <p:blipFill>
          <a:blip r:embed="rId1"/>
          <a:stretch/>
        </p:blipFill>
        <p:spPr>
          <a:xfrm>
            <a:off x="484200" y="228600"/>
            <a:ext cx="8534520" cy="56386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484200" y="6019920"/>
            <a:ext cx="75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只蛹壳更漂亮吧，一个非常完整、丝毫未损的蛹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lus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DSC01964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5638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304920" y="58881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是两只空茧子，飞蛾破茧而出后留下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8288280" y="6400800"/>
            <a:ext cx="855720" cy="457200"/>
          </a:xfrm>
          <a:custGeom>
            <a:avLst/>
            <a:gdLst>
              <a:gd name="textAreaLeft" fmla="*/ 29520 w 855720"/>
              <a:gd name="textAreaRight" fmla="*/ 826200 w 855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0413" h="21600">
                <a:moveTo>
                  <a:pt x="0" y="0"/>
                </a:moveTo>
                <a:lnTo>
                  <a:pt x="40413" y="0"/>
                </a:lnTo>
                <a:lnTo>
                  <a:pt x="40413" y="21600"/>
                </a:lnTo>
                <a:lnTo>
                  <a:pt x="0" y="21600"/>
                </a:lnTo>
                <a:close/>
              </a:path>
              <a:path fill="lightenLess" w="40413" h="21600">
                <a:moveTo>
                  <a:pt x="0" y="0"/>
                </a:moveTo>
                <a:lnTo>
                  <a:pt x="40413" y="0"/>
                </a:lnTo>
                <a:lnTo>
                  <a:pt x="39013" y="1400"/>
                </a:lnTo>
                <a:lnTo>
                  <a:pt x="1400" y="1400"/>
                </a:lnTo>
                <a:close/>
              </a:path>
              <a:path fill="darken" w="40413" h="21600">
                <a:moveTo>
                  <a:pt x="40413" y="0"/>
                </a:moveTo>
                <a:lnTo>
                  <a:pt x="40413" y="21600"/>
                </a:lnTo>
                <a:lnTo>
                  <a:pt x="39013" y="20200"/>
                </a:lnTo>
                <a:lnTo>
                  <a:pt x="39013" y="1400"/>
                </a:lnTo>
                <a:close/>
              </a:path>
              <a:path fill="darkenLess" w="40413" h="21600">
                <a:moveTo>
                  <a:pt x="40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13" y="20200"/>
                </a:lnTo>
                <a:close/>
              </a:path>
              <a:path fill="lighten" w="40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13" h="21600">
                <a:moveTo>
                  <a:pt x="20206" y="3837"/>
                </a:moveTo>
                <a:lnTo>
                  <a:pt x="22783" y="6448"/>
                </a:lnTo>
                <a:lnTo>
                  <a:pt x="22783" y="4707"/>
                </a:lnTo>
                <a:lnTo>
                  <a:pt x="24558" y="4707"/>
                </a:lnTo>
                <a:lnTo>
                  <a:pt x="24558" y="8224"/>
                </a:lnTo>
                <a:lnTo>
                  <a:pt x="27169" y="10800"/>
                </a:lnTo>
                <a:lnTo>
                  <a:pt x="25516" y="10800"/>
                </a:lnTo>
                <a:lnTo>
                  <a:pt x="25516" y="17989"/>
                </a:lnTo>
                <a:lnTo>
                  <a:pt x="14897" y="17989"/>
                </a:lnTo>
                <a:lnTo>
                  <a:pt x="14897" y="10800"/>
                </a:lnTo>
                <a:lnTo>
                  <a:pt x="13243" y="10800"/>
                </a:lnTo>
                <a:close/>
              </a:path>
              <a:path fill="darkenLess" w="40413" h="21600">
                <a:moveTo>
                  <a:pt x="22783" y="6448"/>
                </a:moveTo>
                <a:lnTo>
                  <a:pt x="22783" y="4707"/>
                </a:lnTo>
                <a:lnTo>
                  <a:pt x="24558" y="4707"/>
                </a:lnTo>
                <a:lnTo>
                  <a:pt x="24558" y="8224"/>
                </a:lnTo>
                <a:close/>
              </a:path>
              <a:path fill="darkenLess" w="40413" h="21600">
                <a:moveTo>
                  <a:pt x="19284" y="14299"/>
                </a:moveTo>
                <a:lnTo>
                  <a:pt x="21129" y="14299"/>
                </a:lnTo>
                <a:lnTo>
                  <a:pt x="21129" y="17989"/>
                </a:lnTo>
                <a:lnTo>
                  <a:pt x="25516" y="17989"/>
                </a:lnTo>
                <a:lnTo>
                  <a:pt x="25516" y="10800"/>
                </a:lnTo>
                <a:lnTo>
                  <a:pt x="14897" y="10800"/>
                </a:lnTo>
                <a:lnTo>
                  <a:pt x="14897" y="17989"/>
                </a:lnTo>
                <a:lnTo>
                  <a:pt x="1928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8199"/>
          <p:cNvSpPr/>
          <p:nvPr/>
        </p:nvSpPr>
        <p:spPr>
          <a:xfrm>
            <a:off x="1222200" y="274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in" orient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5638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蚕宝宝破茧而出约十天后，羽化成为蚕蛾，雌蛾尾部发出一种气味引诱雄蛾来交尾，交尾后雄蛾慢慢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DSC01971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2578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9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edg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IMG_0382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44956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479520" y="6316560"/>
            <a:ext cx="706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609480" y="52578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蚕蛾的形状像蝴蝶，全身披着白色鳞毛，但由于两对翅较小，已失去飞翔能力。蚕蛾的头部呈小球状，长有鼓起的复眼和触角；胸部长有一对胸足及两对翅；腹部已无腹足，末端体节演化为外生殖器。雌蛾体大，爬动慢；雄蛾体小，爬动较快，翅膀飞快地振动，寻找着配偶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 thruBlk="true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0" descr="新建 BMP 图像"/>
          <p:cNvPicPr/>
          <p:nvPr/>
        </p:nvPicPr>
        <p:blipFill>
          <a:blip r:embed="rId1"/>
          <a:stretch/>
        </p:blipFill>
        <p:spPr>
          <a:xfrm>
            <a:off x="547560" y="411120"/>
            <a:ext cx="8034480" cy="60152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657600" y="3200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蚕的一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2"/>
          <p:cNvSpPr/>
          <p:nvPr/>
        </p:nvSpPr>
        <p:spPr>
          <a:xfrm>
            <a:off x="533520" y="2270160"/>
            <a:ext cx="2743200" cy="237816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3"/>
          <p:cNvSpPr/>
          <p:nvPr/>
        </p:nvSpPr>
        <p:spPr>
          <a:xfrm>
            <a:off x="3019320" y="4054320"/>
            <a:ext cx="2828880" cy="23623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4"/>
          <p:cNvSpPr/>
          <p:nvPr/>
        </p:nvSpPr>
        <p:spPr>
          <a:xfrm>
            <a:off x="5791320" y="2220840"/>
            <a:ext cx="2819160" cy="23670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5"/>
          <p:cNvSpPr/>
          <p:nvPr/>
        </p:nvSpPr>
        <p:spPr>
          <a:xfrm>
            <a:off x="2971800" y="561960"/>
            <a:ext cx="2816280" cy="234936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6"/>
          <p:cNvSpPr/>
          <p:nvPr/>
        </p:nvSpPr>
        <p:spPr>
          <a:xfrm>
            <a:off x="5715000" y="5486400"/>
            <a:ext cx="31240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蛾→蚕卵→孵蚕→变蛹→化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反复完成新一代的循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这就是蚕的生活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7779-4D2E-4DB3-A430-A86135591F1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79520" y="6240600"/>
            <a:ext cx="767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392040" y="5562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般交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时后，雌蛾就可产下受精卵。交尾后雄即死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雌蛾约花一个晚上可产下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----5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然后也会慢慢死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1" descr="u=3822081310,1077483419&amp;gp=-34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18184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5">
            <a:hlinkClick r:id="" action="ppaction://hlinkshowjump?jump=lastslide"/>
          </p:cNvPr>
          <p:cNvSpPr/>
          <p:nvPr/>
        </p:nvSpPr>
        <p:spPr>
          <a:xfrm>
            <a:off x="8389800" y="6400800"/>
            <a:ext cx="754200" cy="457200"/>
          </a:xfrm>
          <a:custGeom>
            <a:avLst/>
            <a:gdLst>
              <a:gd name="textAreaLeft" fmla="*/ 29520 w 754200"/>
              <a:gd name="textAreaRight" fmla="*/ 724680 w 754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620" h="21600">
                <a:moveTo>
                  <a:pt x="0" y="0"/>
                </a:moveTo>
                <a:lnTo>
                  <a:pt x="35620" y="0"/>
                </a:lnTo>
                <a:lnTo>
                  <a:pt x="35620" y="21600"/>
                </a:lnTo>
                <a:lnTo>
                  <a:pt x="0" y="21600"/>
                </a:lnTo>
                <a:close/>
              </a:path>
              <a:path fill="lightenLess" w="35620" h="21600">
                <a:moveTo>
                  <a:pt x="0" y="0"/>
                </a:moveTo>
                <a:lnTo>
                  <a:pt x="35620" y="0"/>
                </a:lnTo>
                <a:lnTo>
                  <a:pt x="34220" y="1400"/>
                </a:lnTo>
                <a:lnTo>
                  <a:pt x="1400" y="1400"/>
                </a:lnTo>
                <a:close/>
              </a:path>
              <a:path fill="darken" w="35620" h="21600">
                <a:moveTo>
                  <a:pt x="35620" y="0"/>
                </a:moveTo>
                <a:lnTo>
                  <a:pt x="35620" y="21600"/>
                </a:lnTo>
                <a:lnTo>
                  <a:pt x="34220" y="20200"/>
                </a:lnTo>
                <a:lnTo>
                  <a:pt x="34220" y="1400"/>
                </a:lnTo>
                <a:close/>
              </a:path>
              <a:path fill="darkenLess" w="35620" h="21600">
                <a:moveTo>
                  <a:pt x="35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20" y="20200"/>
                </a:lnTo>
                <a:close/>
              </a:path>
              <a:path fill="lighten" w="35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620" h="21600">
                <a:moveTo>
                  <a:pt x="21309" y="10800"/>
                </a:moveTo>
                <a:lnTo>
                  <a:pt x="10804" y="17806"/>
                </a:lnTo>
                <a:lnTo>
                  <a:pt x="10804" y="3794"/>
                </a:lnTo>
                <a:close/>
              </a:path>
              <a:path fill="darken" w="35620" h="21600">
                <a:moveTo>
                  <a:pt x="23154" y="3794"/>
                </a:moveTo>
                <a:lnTo>
                  <a:pt x="23154" y="17806"/>
                </a:lnTo>
                <a:lnTo>
                  <a:pt x="24817" y="17806"/>
                </a:lnTo>
                <a:lnTo>
                  <a:pt x="2481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trips dir="ru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DSC01609"/>
          <p:cNvPicPr/>
          <p:nvPr/>
        </p:nvPicPr>
        <p:blipFill>
          <a:blip r:embed="rId1"/>
          <a:stretch/>
        </p:blipFill>
        <p:spPr>
          <a:xfrm>
            <a:off x="453960" y="304920"/>
            <a:ext cx="8305920" cy="5105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304920" y="56728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453960" y="58564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蚕卵的颜色，刚产下时为淡黄色或黄色，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~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变为淡赤豆色、赤豆色，再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后又变为灰绿色或紫色，便不再发生变化，称为固定色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2"/>
          <p:cNvSpPr/>
          <p:nvPr/>
        </p:nvSpPr>
        <p:spPr>
          <a:xfrm>
            <a:off x="8288280" y="6400800"/>
            <a:ext cx="855720" cy="457200"/>
          </a:xfrm>
          <a:custGeom>
            <a:avLst/>
            <a:gdLst>
              <a:gd name="textAreaLeft" fmla="*/ 29520 w 855720"/>
              <a:gd name="textAreaRight" fmla="*/ 826200 w 855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0413" h="21600">
                <a:moveTo>
                  <a:pt x="0" y="0"/>
                </a:moveTo>
                <a:lnTo>
                  <a:pt x="40413" y="0"/>
                </a:lnTo>
                <a:lnTo>
                  <a:pt x="40413" y="21600"/>
                </a:lnTo>
                <a:lnTo>
                  <a:pt x="0" y="21600"/>
                </a:lnTo>
                <a:close/>
              </a:path>
              <a:path fill="lightenLess" w="40413" h="21600">
                <a:moveTo>
                  <a:pt x="0" y="0"/>
                </a:moveTo>
                <a:lnTo>
                  <a:pt x="40413" y="0"/>
                </a:lnTo>
                <a:lnTo>
                  <a:pt x="39013" y="1400"/>
                </a:lnTo>
                <a:lnTo>
                  <a:pt x="1400" y="1400"/>
                </a:lnTo>
                <a:close/>
              </a:path>
              <a:path fill="darken" w="40413" h="21600">
                <a:moveTo>
                  <a:pt x="40413" y="0"/>
                </a:moveTo>
                <a:lnTo>
                  <a:pt x="40413" y="21600"/>
                </a:lnTo>
                <a:lnTo>
                  <a:pt x="39013" y="20200"/>
                </a:lnTo>
                <a:lnTo>
                  <a:pt x="39013" y="1400"/>
                </a:lnTo>
                <a:close/>
              </a:path>
              <a:path fill="darkenLess" w="40413" h="21600">
                <a:moveTo>
                  <a:pt x="40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13" y="20200"/>
                </a:lnTo>
                <a:close/>
              </a:path>
              <a:path fill="lighten" w="40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13" h="21600">
                <a:moveTo>
                  <a:pt x="20206" y="3837"/>
                </a:moveTo>
                <a:lnTo>
                  <a:pt x="22783" y="6448"/>
                </a:lnTo>
                <a:lnTo>
                  <a:pt x="22783" y="4707"/>
                </a:lnTo>
                <a:lnTo>
                  <a:pt x="24558" y="4707"/>
                </a:lnTo>
                <a:lnTo>
                  <a:pt x="24558" y="8224"/>
                </a:lnTo>
                <a:lnTo>
                  <a:pt x="27169" y="10800"/>
                </a:lnTo>
                <a:lnTo>
                  <a:pt x="25516" y="10800"/>
                </a:lnTo>
                <a:lnTo>
                  <a:pt x="25516" y="17989"/>
                </a:lnTo>
                <a:lnTo>
                  <a:pt x="14897" y="17989"/>
                </a:lnTo>
                <a:lnTo>
                  <a:pt x="14897" y="10800"/>
                </a:lnTo>
                <a:lnTo>
                  <a:pt x="13243" y="10800"/>
                </a:lnTo>
                <a:close/>
              </a:path>
              <a:path fill="darkenLess" w="40413" h="21600">
                <a:moveTo>
                  <a:pt x="22783" y="6448"/>
                </a:moveTo>
                <a:lnTo>
                  <a:pt x="22783" y="4707"/>
                </a:lnTo>
                <a:lnTo>
                  <a:pt x="24558" y="4707"/>
                </a:lnTo>
                <a:lnTo>
                  <a:pt x="24558" y="8224"/>
                </a:lnTo>
                <a:close/>
              </a:path>
              <a:path fill="darkenLess" w="40413" h="21600">
                <a:moveTo>
                  <a:pt x="19284" y="14299"/>
                </a:moveTo>
                <a:lnTo>
                  <a:pt x="21129" y="14299"/>
                </a:lnTo>
                <a:lnTo>
                  <a:pt x="21129" y="17989"/>
                </a:lnTo>
                <a:lnTo>
                  <a:pt x="25516" y="17989"/>
                </a:lnTo>
                <a:lnTo>
                  <a:pt x="25516" y="10800"/>
                </a:lnTo>
                <a:lnTo>
                  <a:pt x="14897" y="10800"/>
                </a:lnTo>
                <a:lnTo>
                  <a:pt x="14897" y="17989"/>
                </a:lnTo>
                <a:lnTo>
                  <a:pt x="1928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200831522255595975"/>
          <p:cNvPicPr/>
          <p:nvPr/>
        </p:nvPicPr>
        <p:blipFill>
          <a:blip r:embed="rId1"/>
          <a:stretch/>
        </p:blipFill>
        <p:spPr>
          <a:xfrm>
            <a:off x="457200" y="295200"/>
            <a:ext cx="8077320" cy="609624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8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6"/>
          <p:cNvSpPr/>
          <p:nvPr/>
        </p:nvSpPr>
        <p:spPr>
          <a:xfrm>
            <a:off x="457200" y="52578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蚕从蚕卵中孵化出来时，身体的颜色是褐色或赤褐色的，极细小，且多细毛，样子有点象蚂蚁，所以叫蚁蚕。蚁蚕长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毫米，体宽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毫米，它从卵壳中爬出来后，经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~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时就会进食桑叶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u=3411940951,1044232239&amp;gp=-44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47246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10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1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2280" y="1905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DSC01648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5257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304920" y="567432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从蚁蚕到第一次蜕皮为一龄；眠起后进入二龄；再次蜕皮后进入三龄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三次蜕皮后进入四龄，第四次蜕皮又称大眠。大眠后就进入五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2760" y="551196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外表看似静止不动，体内却进行着脱皮的准备，脱去旧皮之后，蚕的生长就进入到一个新的龄期。这就是蚕蜕的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DSC01637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1814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7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94840" y="54100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蚕宝宝逐渐体现出老熟的特征：先是排出的粪便由硬变软，由墨绿色变成叶绿色；食欲减退，食桑量下降；前部消化管空虚，胸部呈透明状；继而完全停食，体驱缩短，腹部也趋向透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282016416142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51814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8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8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5562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蚕宝宝以桑叶为生，不断吃桑叶后身体变成白色，一段时间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她们便开始脱皮。脱皮时约一天的时间，如睡眠般的不吃也不动，这叫休眠。 </a:t>
            </a:r>
            <a:br>
              <a:rPr sz="2800"/>
            </a:b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DSC01704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52578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7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8199"/>
          <p:cNvSpPr/>
          <p:nvPr/>
        </p:nvSpPr>
        <p:spPr>
          <a:xfrm>
            <a:off x="1023840" y="852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03:23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54Z</dcterms:modified>
  <cp:revision>4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