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40B-68C4-4452-AE2A-68D19191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C04-079F-4152-8959-4BE45501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712-A224-4278-9157-BFA45412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4C7-A703-47E9-BA79-8C759B36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89F6-BCC1-4F20-AE09-FE672E4B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E24F-EFAC-4C33-BA1C-E02C3CF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DD15-5A45-4635-A80F-134FF202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29AD-26BF-4535-87E9-15A80F96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3482-7F37-4A68-A63A-E793F202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DB35-1945-456C-B5DE-CCBFAAD0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8F94-48D9-4710-8670-308C3899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D81-7D66-4E77-A31F-C94F784E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9841-B07E-4F8D-8810-21511626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FA5D-9FB6-46CA-90B4-174C8353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3FE2-9A4C-4952-9FBC-D9183C21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34EB-E81D-458E-B656-51576D79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0EEB-EF87-47D6-B2D4-9440696F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31C-B44E-4D2B-9926-12BDC169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875-5D86-4CF4-BC3F-9F727B0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D72-ABB0-495F-B351-81ACE67B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66B-CB33-4E49-8DC2-055DDAAE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F4F-E769-49FF-96AF-E3C72769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9E0-F797-43AC-9B85-ABB21A69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E52-76ED-460E-8E5A-57D47EB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5597-FB7F-48FC-91F3-F7172A2FC6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6399-EEA3-42E8-8F8E-C44EC3F43B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898560" y="1268280"/>
            <a:ext cx="739152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从烽火台到互联网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696960" y="3068640"/>
            <a:ext cx="3887640" cy="2722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4594320" y="2421000"/>
            <a:ext cx="4379760" cy="3645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5"/>
          <p:cNvSpPr txBox="1"/>
          <p:nvPr/>
        </p:nvSpPr>
        <p:spPr>
          <a:xfrm>
            <a:off x="4140360" y="907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请选用合适的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24000" y="2205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病了，明天不能去上学，向老师请假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姑姑远在美国，要过年了，向姑姑问候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爸爸的朋友急需一份文件，需要立即传送给他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假日小队活动，通知队员参加的时间、地点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395280" y="404640"/>
            <a:ext cx="309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组讨论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165040" y="981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2" name="Picture 4" descr="p78_1"/>
          <p:cNvPicPr/>
          <p:nvPr/>
        </p:nvPicPr>
        <p:blipFill>
          <a:blip r:embed="rId1"/>
          <a:stretch/>
        </p:blipFill>
        <p:spPr>
          <a:xfrm>
            <a:off x="1447920" y="2286000"/>
            <a:ext cx="6095880" cy="401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667640" y="2924280"/>
            <a:ext cx="53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烽火台传军情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39640" y="260280"/>
            <a:ext cx="18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历史坊</a:t>
            </a:r>
            <a:endParaRPr b="1" lang="en-US" sz="4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35" name="精忠报国.mp3" descr=""/>
          <p:cNvPicPr/>
          <p:nvPr/>
        </p:nvPicPr>
        <p:blipFill>
          <a:blip r:embed="rId2"/>
          <a:stretch/>
        </p:blipFill>
        <p:spPr>
          <a:xfrm>
            <a:off x="795672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151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信鸽"/>
          <p:cNvPicPr/>
          <p:nvPr/>
        </p:nvPicPr>
        <p:blipFill>
          <a:blip r:embed="rId1"/>
          <a:stretch/>
        </p:blipFill>
        <p:spPr>
          <a:xfrm>
            <a:off x="1403280" y="1844640"/>
            <a:ext cx="5410440" cy="37767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093080" y="2997360"/>
            <a:ext cx="53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信鸽传信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307960" y="981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539640" y="260280"/>
            <a:ext cx="18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历史坊</a:t>
            </a:r>
            <a:endParaRPr b="1" lang="en-US" sz="4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812000" y="2997360"/>
            <a:ext cx="5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鸿雁传书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29" descr="p78_2"/>
          <p:cNvPicPr/>
          <p:nvPr/>
        </p:nvPicPr>
        <p:blipFill>
          <a:blip r:embed="rId1"/>
          <a:stretch/>
        </p:blipFill>
        <p:spPr>
          <a:xfrm>
            <a:off x="1187280" y="1773360"/>
            <a:ext cx="6477120" cy="3590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30"/>
          <p:cNvSpPr/>
          <p:nvPr/>
        </p:nvSpPr>
        <p:spPr>
          <a:xfrm>
            <a:off x="4069080" y="54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驿使传信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Text Box 1031"/>
          <p:cNvSpPr/>
          <p:nvPr/>
        </p:nvSpPr>
        <p:spPr>
          <a:xfrm>
            <a:off x="2307960" y="1052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WordArt 1033"/>
          <p:cNvSpPr txBox="1"/>
          <p:nvPr/>
        </p:nvSpPr>
        <p:spPr>
          <a:xfrm>
            <a:off x="539640" y="260280"/>
            <a:ext cx="18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历史坊</a:t>
            </a:r>
            <a:endParaRPr b="1" lang="en-US" sz="4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0"/>
          <p:cNvSpPr/>
          <p:nvPr/>
        </p:nvSpPr>
        <p:spPr>
          <a:xfrm>
            <a:off x="2596680" y="17733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我知道古代人们其他传信方式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46" name="Group 17"/>
          <p:cNvGrpSpPr/>
          <p:nvPr/>
        </p:nvGrpSpPr>
        <p:grpSpPr>
          <a:xfrm>
            <a:off x="2395440" y="2565360"/>
            <a:ext cx="4113000" cy="3183840"/>
            <a:chOff x="2395440" y="2565360"/>
            <a:chExt cx="4113000" cy="3183840"/>
          </a:xfrm>
        </p:grpSpPr>
        <p:sp>
          <p:nvSpPr>
            <p:cNvPr id="147" name="Rectangle 12"/>
            <p:cNvSpPr/>
            <p:nvPr/>
          </p:nvSpPr>
          <p:spPr>
            <a:xfrm>
              <a:off x="2395440" y="5228640"/>
              <a:ext cx="41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还有其他记号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摆设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诱敌的记号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2629080" y="2565360"/>
              <a:ext cx="385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作内馅的方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藏在鱼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饼类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子等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2494440" y="3429000"/>
              <a:ext cx="364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以特殊声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钟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鼓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鞭炮声等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2422440" y="4292640"/>
              <a:ext cx="33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以灯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火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孔明灯、火堆等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51" name="WordArt 16"/>
          <p:cNvSpPr txBox="1"/>
          <p:nvPr/>
        </p:nvSpPr>
        <p:spPr>
          <a:xfrm>
            <a:off x="539640" y="260280"/>
            <a:ext cx="18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历史坊</a:t>
            </a:r>
            <a:endParaRPr b="1" lang="en-US" sz="4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0" y="249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行业水平会随着社会与科技的进步而提高。 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黑便士（全球第一张邮票）"/>
          <p:cNvPicPr/>
          <p:nvPr/>
        </p:nvPicPr>
        <p:blipFill>
          <a:blip r:embed="rId2"/>
          <a:srcRect l="3049" t="3571" r="2167" b="12508"/>
          <a:stretch/>
        </p:blipFill>
        <p:spPr>
          <a:xfrm>
            <a:off x="2752560" y="2666880"/>
            <a:ext cx="3495960" cy="3733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323040" y="41148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第一张邮票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092120" y="17827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一、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小蜜蜂"/>
          <p:cNvPicPr/>
          <p:nvPr/>
        </p:nvPicPr>
        <p:blipFill>
          <a:blip r:embed="rId2"/>
          <a:stretch/>
        </p:blipFill>
        <p:spPr>
          <a:xfrm>
            <a:off x="5334120" y="3733920"/>
            <a:ext cx="2401920" cy="2514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562840" y="2975040"/>
            <a:ext cx="1887480" cy="947160"/>
          </a:xfrm>
          <a:prstGeom prst="rect">
            <a:avLst/>
          </a:prstGeom>
          <a:solidFill>
            <a:srgbClr val="dc34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你知道第一个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邮筒的故事吗？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090320" y="17445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一、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39280" y="76500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488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年，葡萄牙一位名叫迪亚士的航海家率领的船队在海上遇险，除他本人乘坐的那只船得以幸免外，其余船只全部覆没，一些船员下落不明。迪亚士返航前命令部下给可能生还的同胞写了一封信，放在一只靴子里，挂在海边一枯树枝上。一年以后，葡萄牙的另一位航海家奥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·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戴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·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诺瓦尔途径此地，意外地“收”到了“邮筒”里的那封信。于是，便在当地修建了一座小教堂，纪念遇难同胞。随着时间的推移，小教堂附近兴起了一个村镇，靴子“邮筒”的故事被传为佳话。此后，葡萄牙海员一直沿用这只鞋做的“邮筒”来传递信息，而利用邮筒投寄信件这一形式也被流传下来了。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65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年法国巴黎的文件上已经记载了邮筒的出现，这是有关邮筒的最早的文字纪录。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85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年，英国在泽西岛圣赫利尔设置了首批邮筒，至今仍在使用，可称得上是最古老的邮筒了。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3020400" y="17064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二、近代信息的发展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64" name="Group 22"/>
          <p:cNvGrpSpPr/>
          <p:nvPr/>
        </p:nvGrpSpPr>
        <p:grpSpPr>
          <a:xfrm>
            <a:off x="914400" y="2362320"/>
            <a:ext cx="7543800" cy="3581280"/>
            <a:chOff x="914400" y="2362320"/>
            <a:chExt cx="7543800" cy="3581280"/>
          </a:xfrm>
        </p:grpSpPr>
        <p:sp>
          <p:nvSpPr>
            <p:cNvPr id="165" name="Rectangle 4"/>
            <p:cNvSpPr/>
            <p:nvPr/>
          </p:nvSpPr>
          <p:spPr>
            <a:xfrm>
              <a:off x="914400" y="2362320"/>
              <a:ext cx="23623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信息传递的时期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3276720" y="23623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传递方法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4876920" y="2362320"/>
              <a:ext cx="35812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从发送到接收的时间间隔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914400" y="2819520"/>
              <a:ext cx="23623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175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3276720" y="28195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帆船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4876920" y="2819520"/>
              <a:ext cx="35812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6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到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9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个星期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914400" y="3276720"/>
              <a:ext cx="23623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184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3276720" y="32767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快速帆船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4876920" y="3276720"/>
              <a:ext cx="35812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大约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12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天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914400" y="3733920"/>
              <a:ext cx="23623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1858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>
              <a:off x="3276720" y="3733920"/>
              <a:ext cx="16002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第一次横越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大西洋的电报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4876920" y="3733920"/>
              <a:ext cx="358128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数秒内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7" name="Rectangle 16"/>
            <p:cNvSpPr/>
            <p:nvPr/>
          </p:nvSpPr>
          <p:spPr>
            <a:xfrm>
              <a:off x="914400" y="4648320"/>
              <a:ext cx="23623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197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3276720" y="4648320"/>
              <a:ext cx="16002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第一个跨海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直拨电话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9" name="Rectangle 18"/>
            <p:cNvSpPr/>
            <p:nvPr/>
          </p:nvSpPr>
          <p:spPr>
            <a:xfrm>
              <a:off x="4876920" y="4648320"/>
              <a:ext cx="358128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即刻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0" name="Rectangle 19"/>
            <p:cNvSpPr/>
            <p:nvPr/>
          </p:nvSpPr>
          <p:spPr>
            <a:xfrm>
              <a:off x="914400" y="5486400"/>
              <a:ext cx="23623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2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世纪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9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代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1" name="Rectangle 20"/>
            <p:cNvSpPr/>
            <p:nvPr/>
          </p:nvSpPr>
          <p:spPr>
            <a:xfrm>
              <a:off x="3276720" y="548640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计算机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2" name="Rectangle 21"/>
            <p:cNvSpPr/>
            <p:nvPr/>
          </p:nvSpPr>
          <p:spPr>
            <a:xfrm>
              <a:off x="4876920" y="5486400"/>
              <a:ext cx="35812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即刻，还具有潜力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老师"/>
          <p:cNvPicPr/>
          <p:nvPr/>
        </p:nvPicPr>
        <p:blipFill>
          <a:blip r:embed="rId1"/>
          <a:stretch/>
        </p:blipFill>
        <p:spPr>
          <a:xfrm>
            <a:off x="1143000" y="3505320"/>
            <a:ext cx="2185920" cy="25905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1692360" y="836640"/>
            <a:ext cx="560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你会采用哪些方法与他联系</a:t>
            </a:r>
            <a:endParaRPr b="1" lang="en-US" sz="2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3852360" y="1844640"/>
            <a:ext cx="2031120" cy="3943440"/>
            <a:chOff x="3852360" y="1844640"/>
            <a:chExt cx="2031120" cy="3943440"/>
          </a:xfrm>
        </p:grpSpPr>
        <p:sp>
          <p:nvSpPr>
            <p:cNvPr id="89" name="Rectangle 5"/>
            <p:cNvSpPr/>
            <p:nvPr/>
          </p:nvSpPr>
          <p:spPr>
            <a:xfrm>
              <a:off x="3893760" y="4580640"/>
              <a:ext cx="198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发</a:t>
              </a:r>
              <a:r>
                <a:rPr b="0" lang="en-US" sz="4000" spc="-1" strike="noStrike">
                  <a:solidFill>
                    <a:srgbClr val="0000cc"/>
                  </a:solidFill>
                  <a:latin typeface="Times New Roman"/>
                </a:rPr>
                <a:t>E-mail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4086360" y="18446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打电话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3986280" y="25639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写信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4008600" y="32130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传真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4187880" y="39337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手机短信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3852360" y="5084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Times New Roman"/>
                </a:rPr>
                <a:t>qq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02"/>
          <p:cNvPicPr/>
          <p:nvPr/>
        </p:nvPicPr>
        <p:blipFill>
          <a:blip r:embed="rId1"/>
          <a:stretch/>
        </p:blipFill>
        <p:spPr>
          <a:xfrm>
            <a:off x="689040" y="1146240"/>
            <a:ext cx="2435040" cy="606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715760" y="1752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的小调查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1523880" y="2438280"/>
            <a:ext cx="6324840" cy="3429000"/>
            <a:chOff x="1523880" y="2438280"/>
            <a:chExt cx="6324840" cy="3429000"/>
          </a:xfrm>
        </p:grpSpPr>
        <p:sp>
          <p:nvSpPr>
            <p:cNvPr id="186" name="Rectangle 4"/>
            <p:cNvSpPr/>
            <p:nvPr/>
          </p:nvSpPr>
          <p:spPr>
            <a:xfrm>
              <a:off x="1523880" y="2438280"/>
              <a:ext cx="16002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时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3124080" y="2438280"/>
              <a:ext cx="23623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人们常用的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通信方式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5486400" y="2438280"/>
              <a:ext cx="23623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传递信息所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花费的时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1523880" y="3352680"/>
              <a:ext cx="1600200" cy="838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30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年前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3124080" y="3352680"/>
              <a:ext cx="2362320" cy="838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电报 书信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5486400" y="3352680"/>
              <a:ext cx="2362320" cy="838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1523880" y="4191120"/>
              <a:ext cx="160020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15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年前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3124080" y="4191120"/>
              <a:ext cx="236232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寻呼机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486400" y="4191120"/>
              <a:ext cx="236232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1523880" y="5029200"/>
              <a:ext cx="160020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现在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124080" y="5029200"/>
              <a:ext cx="236232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手机 互联网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5486400" y="5029200"/>
              <a:ext cx="236232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687680" y="1859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通信畅想曲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688400" y="2540160"/>
            <a:ext cx="239976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们来发挥自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己的想像力，畅想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一下未来的通信方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式会是什么样子的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也许，今天的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畅想在不久的将来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就能成为现实！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1" name="Picture 12" descr="p81"/>
          <p:cNvPicPr/>
          <p:nvPr/>
        </p:nvPicPr>
        <p:blipFill>
          <a:blip r:embed="rId2"/>
          <a:stretch/>
        </p:blipFill>
        <p:spPr>
          <a:xfrm>
            <a:off x="4643280" y="2514600"/>
            <a:ext cx="381024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2B5E-FB28-4871-8F01-8EE07043ABDA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9"/>
          <p:cNvGrpSpPr/>
          <p:nvPr/>
        </p:nvGrpSpPr>
        <p:grpSpPr>
          <a:xfrm>
            <a:off x="2133720" y="1905120"/>
            <a:ext cx="5257800" cy="4267080"/>
            <a:chOff x="2133720" y="1905120"/>
            <a:chExt cx="5257800" cy="4267080"/>
          </a:xfrm>
        </p:grpSpPr>
        <p:sp>
          <p:nvSpPr>
            <p:cNvPr id="208" name="AutoShape 6"/>
            <p:cNvSpPr/>
            <p:nvPr/>
          </p:nvSpPr>
          <p:spPr>
            <a:xfrm>
              <a:off x="2133720" y="1905120"/>
              <a:ext cx="5257800" cy="426708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2362320" y="2514600"/>
              <a:ext cx="4800600" cy="312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3786840" y="19350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我 的 畅 想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老师"/>
          <p:cNvPicPr/>
          <p:nvPr/>
        </p:nvPicPr>
        <p:blipFill>
          <a:blip r:embed="rId1"/>
          <a:stretch/>
        </p:blipFill>
        <p:spPr>
          <a:xfrm>
            <a:off x="826920" y="3573360"/>
            <a:ext cx="2186280" cy="25909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"/>
          <p:cNvSpPr/>
          <p:nvPr/>
        </p:nvSpPr>
        <p:spPr>
          <a:xfrm>
            <a:off x="3492360" y="1557360"/>
            <a:ext cx="3456000" cy="1800360"/>
          </a:xfrm>
          <a:prstGeom prst="cloudCallout">
            <a:avLst>
              <a:gd name="adj1" fmla="val -62263"/>
              <a:gd name="adj2" fmla="val 1278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357080" y="220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电话是谁发明的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276720" y="5300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9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世纪末，美国发明家贝尔发明了电话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你认识它们吗？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1" name="Picture 6" descr="留言电话机"/>
          <p:cNvPicPr/>
          <p:nvPr/>
        </p:nvPicPr>
        <p:blipFill>
          <a:blip r:embed="rId1"/>
          <a:stretch/>
        </p:blipFill>
        <p:spPr>
          <a:xfrm>
            <a:off x="3492360" y="4249800"/>
            <a:ext cx="3383280" cy="260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无绳电话机"/>
          <p:cNvPicPr/>
          <p:nvPr/>
        </p:nvPicPr>
        <p:blipFill>
          <a:blip r:embed="rId2"/>
          <a:stretch/>
        </p:blipFill>
        <p:spPr>
          <a:xfrm>
            <a:off x="0" y="3987720"/>
            <a:ext cx="331308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手摇电话机"/>
          <p:cNvPicPr/>
          <p:nvPr/>
        </p:nvPicPr>
        <p:blipFill>
          <a:blip r:embed="rId3"/>
          <a:stretch/>
        </p:blipFill>
        <p:spPr>
          <a:xfrm>
            <a:off x="0" y="119700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投币电话机"/>
          <p:cNvPicPr/>
          <p:nvPr/>
        </p:nvPicPr>
        <p:blipFill>
          <a:blip r:embed="rId4"/>
          <a:stretch/>
        </p:blipFill>
        <p:spPr>
          <a:xfrm>
            <a:off x="3564000" y="1197000"/>
            <a:ext cx="3311640" cy="2879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2"/>
          <p:cNvSpPr/>
          <p:nvPr/>
        </p:nvSpPr>
        <p:spPr>
          <a:xfrm>
            <a:off x="7249680" y="1341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手摇式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7165440" y="256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无绳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7165440" y="3846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投币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7178040" y="5157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录音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972720" y="126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手摇式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4645800" y="34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投币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5800" y="6338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录音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756360" y="4365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无绳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17200" y="112536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莫尔斯发出了人类历史上的第一份电报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5" name="Picture 5" descr="电报机工作原理"/>
          <p:cNvPicPr/>
          <p:nvPr/>
        </p:nvPicPr>
        <p:blipFill>
          <a:blip r:embed="rId1"/>
          <a:stretch/>
        </p:blipFill>
        <p:spPr>
          <a:xfrm>
            <a:off x="324000" y="1700280"/>
            <a:ext cx="8820000" cy="468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17" name="Picture 6" descr="传真"/>
          <p:cNvPicPr/>
          <p:nvPr/>
        </p:nvPicPr>
        <p:blipFill>
          <a:blip r:embed="rId1"/>
          <a:stretch/>
        </p:blipFill>
        <p:spPr>
          <a:xfrm>
            <a:off x="1476360" y="12682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4812120" y="15573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传真机：传送图表、文件、设计图纸等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87280" y="1413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星卫星：像一个国际信使，收集来自地面的各种“信件”，然后再“投递”到另一个地方的用户手里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1" name="Picture 5" descr="通讯卫星"/>
          <p:cNvPicPr/>
          <p:nvPr/>
        </p:nvPicPr>
        <p:blipFill>
          <a:blip r:embed="rId1"/>
          <a:stretch/>
        </p:blipFill>
        <p:spPr>
          <a:xfrm>
            <a:off x="1908000" y="2852640"/>
            <a:ext cx="5112000" cy="3611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124000" y="1341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邮政快递：实物传递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4" name="Picture 5" descr="中国邮政"/>
          <p:cNvPicPr/>
          <p:nvPr/>
        </p:nvPicPr>
        <p:blipFill>
          <a:blip r:embed="rId1"/>
          <a:stretch/>
        </p:blipFill>
        <p:spPr>
          <a:xfrm>
            <a:off x="2340000" y="249228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124000" y="1341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快递公司：实物传递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7" name="Picture 5" descr="快递公司"/>
          <p:cNvPicPr/>
          <p:nvPr/>
        </p:nvPicPr>
        <p:blipFill>
          <a:blip r:embed="rId1"/>
          <a:stretch/>
        </p:blipFill>
        <p:spPr>
          <a:xfrm>
            <a:off x="1476360" y="2192400"/>
            <a:ext cx="5413320" cy="466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2:01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51Z</dcterms:modified>
  <cp:revision>1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