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89C-F042-45DA-9B68-660EF72A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620-66B7-490A-889C-EFE4A0E1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E06E-AD98-4EAB-AB36-0CD8B7E1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EFE6-B14C-4AE4-9BEB-F1B66095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C41F-136C-4E43-B853-9F423586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BE25-5CFA-4324-8781-F6C96173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951C-92A3-42D2-A0A7-C9952FEF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BE0A-F232-42C3-9A28-89001D0B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4AE8-266C-4045-98A3-FBE567DC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3D34-4960-48CC-B969-0A9F7722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87B3-9C54-4DA5-B004-D11FA132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56E-13AB-463F-9B27-110DA1C6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4750-F3AB-42FE-B64A-E3FCDE2D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52A4-33B1-47E4-926A-D00871D5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7BC2-BCDA-41A1-99B7-F4E0F8B0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7926-7D1A-41F7-ACBB-0DB24A3E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8AD1-94DC-45FA-A505-46DCD329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9467C-F042-4C14-B335-CD1CB7DD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CD2E5-172E-41C8-948A-AB7F3CC2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1416A-5B54-4A52-981C-2BD9322F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442FE-8B5D-40C1-B007-7F9DBA48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83AD5-F391-4D20-ADA1-D17076F5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55F-6361-4782-8601-4537FD95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60A8F-1283-487B-801B-506A948D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81415-E796-4044-92BB-20403C9C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17E34-ED28-4B21-B337-1D7A0FCB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29722-5112-4D3B-9FFD-EDCCCA58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07CD8-8A80-48E9-969A-060B053D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CAA89-69FC-4FEA-B7EE-A920B6D3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6452-B441-41CB-94F7-2EA937A0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06F50-1F01-4F5C-BD94-6AF39D46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68057-91F7-459A-ABB0-95E240D8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71E602-8684-49D4-8BD5-9671E5D6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3AA-1F69-4EC3-A044-0C7CB678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013E32-1C5F-40CA-A58B-CC9FFB71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D3EC99-06FC-499C-AD31-DB0CB34D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4D951E-8131-4DAE-9E48-F174625B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2D2FBE-122E-41BF-BEC0-3BC68470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3FEED2-E3F1-4737-BCD2-A38A3456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244FAE-440D-4A29-99CE-311457EA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DDB6DE-7903-47D8-A16C-AF8E04A6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F4F315-470E-48FF-A939-D17113CC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EBE85D-24A7-4246-A37D-EE8DF37F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4BC-5C97-4BCC-A70D-D6186131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153-1F27-44E6-8E0C-C57DE103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3E1-56A7-463B-B8DC-A06D4F48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8C7-1B58-420D-B375-E3C445D9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F58-78B5-49E5-8108-976AE7F6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B4B9-F10E-40A0-B575-070683820B19}" type="slidenum">
              <a:rPr b="0" lang="fr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3484-0315-4894-942F-3B9CB2839F9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6766-0A1F-43F6-9A3D-31716C3033A1}" type="slidenum">
              <a:rPr b="0" lang="fr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9F88-FF30-44E1-9B41-F2562CC702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F:\&#38899;&#20048;\&#33832;&#20811;&#26031;&#21517;&#26354;\&#22238;&#23478;.wma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1"/>
          <p:cNvSpPr txBox="1"/>
          <p:nvPr/>
        </p:nvSpPr>
        <p:spPr>
          <a:xfrm>
            <a:off x="1403280" y="2133720"/>
            <a:ext cx="655344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从古到今话交通</a:t>
            </a:r>
            <a:r>
              <a:rPr b="1" lang="en-US" sz="40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课件免费下载</a:t>
            </a:r>
            <a:endParaRPr b="1" lang="en-US" sz="4000" spc="-1" strike="noStrike">
              <a:ln w="0">
                <a:noFill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3300480" y="8082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年级下册品德与社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31" name="Picture 4" descr="u=2811637300,2837343211&amp;fm=52&amp;gp=0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2008041900512370"/>
          <p:cNvPicPr/>
          <p:nvPr/>
        </p:nvPicPr>
        <p:blipFill>
          <a:blip r:embed="rId2"/>
          <a:stretch/>
        </p:blipFill>
        <p:spPr>
          <a:xfrm>
            <a:off x="2124000" y="2133720"/>
            <a:ext cx="4181400" cy="3443040"/>
          </a:xfrm>
          <a:prstGeom prst="rect">
            <a:avLst/>
          </a:prstGeom>
          <a:ln w="0">
            <a:noFill/>
          </a:ln>
        </p:spPr>
      </p:pic>
      <p:sp>
        <p:nvSpPr>
          <p:cNvPr id="233" name="WordArt 6"/>
          <p:cNvSpPr txBox="1"/>
          <p:nvPr/>
        </p:nvSpPr>
        <p:spPr>
          <a:xfrm>
            <a:off x="1979640" y="148428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宋体"/>
              </a:rPr>
              <a:t>现代交通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宋体"/>
              </a:rPr>
              <a:t>-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宋体"/>
              </a:rPr>
              <a:t>太阳能自行车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53753" dir="2700000" blurRad="0" rotWithShape="0">
                  <a:srgbClr val="99000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85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385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8" dur="38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0" dur="38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7" descr="u=2551905456,1912948689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WordArt 9"/>
          <p:cNvSpPr txBox="1"/>
          <p:nvPr/>
        </p:nvSpPr>
        <p:spPr>
          <a:xfrm>
            <a:off x="2411280" y="0"/>
            <a:ext cx="48974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现代交通工具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-</a:t>
            </a: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飞机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36" name="Picture 10" descr="5613040_210501819773_2"/>
          <p:cNvPicPr/>
          <p:nvPr/>
        </p:nvPicPr>
        <p:blipFill>
          <a:blip r:embed="rId2"/>
          <a:stretch/>
        </p:blipFill>
        <p:spPr>
          <a:xfrm>
            <a:off x="1332000" y="1916280"/>
            <a:ext cx="624528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30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1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156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问题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：第一架飞机是谁、什么时候发明的？ 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AutoShape 6">
            <a:hlinkClick r:id="rId1"/>
          </p:cNvPr>
          <p:cNvSpPr/>
          <p:nvPr/>
        </p:nvSpPr>
        <p:spPr>
          <a:xfrm>
            <a:off x="6948360" y="5661000"/>
            <a:ext cx="648000" cy="432000"/>
          </a:xfrm>
          <a:custGeom>
            <a:avLst/>
            <a:gdLst>
              <a:gd name="textAreaLeft" fmla="*/ 27720 w 648000"/>
              <a:gd name="textAreaRight" fmla="*/ 620280 w 64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91" h="21600">
                <a:moveTo>
                  <a:pt x="0" y="0"/>
                </a:moveTo>
                <a:lnTo>
                  <a:pt x="32391" y="0"/>
                </a:lnTo>
                <a:lnTo>
                  <a:pt x="32391" y="21600"/>
                </a:lnTo>
                <a:lnTo>
                  <a:pt x="0" y="21600"/>
                </a:lnTo>
                <a:close/>
              </a:path>
              <a:path fill="lightenLess" w="32391" h="21600">
                <a:moveTo>
                  <a:pt x="0" y="0"/>
                </a:moveTo>
                <a:lnTo>
                  <a:pt x="32391" y="0"/>
                </a:lnTo>
                <a:lnTo>
                  <a:pt x="30991" y="1400"/>
                </a:lnTo>
                <a:lnTo>
                  <a:pt x="1400" y="1400"/>
                </a:lnTo>
                <a:close/>
              </a:path>
              <a:path fill="darken" w="32391" h="21600">
                <a:moveTo>
                  <a:pt x="32391" y="0"/>
                </a:moveTo>
                <a:lnTo>
                  <a:pt x="32391" y="21600"/>
                </a:lnTo>
                <a:lnTo>
                  <a:pt x="30991" y="20200"/>
                </a:lnTo>
                <a:lnTo>
                  <a:pt x="30991" y="1400"/>
                </a:lnTo>
                <a:close/>
              </a:path>
              <a:path fill="darkenLess" w="32391" h="21600">
                <a:moveTo>
                  <a:pt x="32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1" y="20200"/>
                </a:lnTo>
                <a:close/>
              </a:path>
              <a:path fill="lighten" w="32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1" h="21600">
                <a:moveTo>
                  <a:pt x="9189" y="8406"/>
                </a:moveTo>
                <a:lnTo>
                  <a:pt x="13619" y="8406"/>
                </a:lnTo>
                <a:lnTo>
                  <a:pt x="18041" y="3794"/>
                </a:lnTo>
                <a:lnTo>
                  <a:pt x="18041" y="17806"/>
                </a:lnTo>
                <a:lnTo>
                  <a:pt x="13619" y="13194"/>
                </a:lnTo>
                <a:lnTo>
                  <a:pt x="9189" y="13194"/>
                </a:lnTo>
                <a:close/>
              </a:path>
              <a:path fill="darken" w="32391" h="21600">
                <a:moveTo>
                  <a:pt x="19694" y="10800"/>
                </a:moveTo>
                <a:lnTo>
                  <a:pt x="23202" y="10800"/>
                </a:lnTo>
              </a:path>
              <a:path fill="darken" w="32391" h="21600">
                <a:moveTo>
                  <a:pt x="19694" y="8406"/>
                </a:moveTo>
                <a:lnTo>
                  <a:pt x="23202" y="5639"/>
                </a:lnTo>
              </a:path>
              <a:path fill="darken" w="32391" h="21600">
                <a:moveTo>
                  <a:pt x="19694" y="13194"/>
                </a:moveTo>
                <a:lnTo>
                  <a:pt x="23202" y="15961"/>
                </a:lnTo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8" descr="超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ff00"/>
                </a:solidFill>
                <a:uFillTx/>
                <a:latin typeface="微软雅黑"/>
              </a:rPr>
              <a:t>1903</a:t>
            </a:r>
            <a:r>
              <a:rPr b="1" lang="zh-CN" sz="1900" spc="-1" strike="noStrike" u="sng">
                <a:solidFill>
                  <a:srgbClr val="ffff00"/>
                </a:solidFill>
                <a:uFillTx/>
                <a:latin typeface="微软雅黑"/>
              </a:rPr>
              <a:t>年</a:t>
            </a:r>
            <a:r>
              <a:rPr b="1" lang="en-US" sz="1900" spc="-1" strike="noStrike" u="sng">
                <a:solidFill>
                  <a:srgbClr val="ffff00"/>
                </a:solidFill>
                <a:uFillTx/>
                <a:latin typeface="微软雅黑"/>
              </a:rPr>
              <a:t>12</a:t>
            </a:r>
            <a:r>
              <a:rPr b="1" lang="zh-CN" sz="1900" spc="-1" strike="noStrike" u="sng">
                <a:solidFill>
                  <a:srgbClr val="ffff00"/>
                </a:solidFill>
                <a:uFillTx/>
                <a:latin typeface="微软雅黑"/>
              </a:rPr>
              <a:t>月</a:t>
            </a:r>
            <a:r>
              <a:rPr b="1" lang="en-US" sz="1900" spc="-1" strike="noStrike" u="sng">
                <a:solidFill>
                  <a:srgbClr val="ffff00"/>
                </a:solidFill>
                <a:uFillTx/>
                <a:latin typeface="微软雅黑"/>
              </a:rPr>
              <a:t>17</a:t>
            </a:r>
            <a:r>
              <a:rPr b="1" lang="zh-CN" sz="1900" spc="-1" strike="noStrike" u="sng">
                <a:solidFill>
                  <a:srgbClr val="ffff00"/>
                </a:solidFill>
                <a:uFillTx/>
                <a:latin typeface="微软雅黑"/>
              </a:rPr>
              <a:t>日，世界上第一架载人动力飞机在美国飞上了蓝天。这架飞机被叫做“飞行者</a:t>
            </a:r>
            <a:r>
              <a:rPr b="1" lang="en-US" sz="1900" spc="-1" strike="noStrike" u="sng">
                <a:solidFill>
                  <a:srgbClr val="ffff00"/>
                </a:solidFill>
                <a:uFillTx/>
                <a:latin typeface="微软雅黑"/>
              </a:rPr>
              <a:t>1</a:t>
            </a:r>
            <a:r>
              <a:rPr b="1" lang="zh-CN" sz="1900" spc="-1" strike="noStrike" u="sng">
                <a:solidFill>
                  <a:srgbClr val="ffff00"/>
                </a:solidFill>
                <a:uFillTx/>
                <a:latin typeface="微软雅黑"/>
              </a:rPr>
              <a:t>号”，它的发明者是美国的威尔伯</a:t>
            </a:r>
            <a:r>
              <a:rPr b="1" lang="en-US" sz="1900" spc="-1" strike="noStrike" u="sng">
                <a:solidFill>
                  <a:srgbClr val="ffff00"/>
                </a:solidFill>
                <a:uFillTx/>
                <a:latin typeface="微软雅黑"/>
              </a:rPr>
              <a:t>·</a:t>
            </a:r>
            <a:r>
              <a:rPr b="1" lang="zh-CN" sz="1900" spc="-1" strike="noStrike" u="sng">
                <a:solidFill>
                  <a:srgbClr val="ffff00"/>
                </a:solidFill>
                <a:uFillTx/>
                <a:latin typeface="微软雅黑"/>
              </a:rPr>
              <a:t>莱特和奥维尔</a:t>
            </a:r>
            <a:r>
              <a:rPr b="1" lang="en-US" sz="1900" spc="-1" strike="noStrike" u="sng">
                <a:solidFill>
                  <a:srgbClr val="ffff00"/>
                </a:solidFill>
                <a:uFillTx/>
                <a:latin typeface="微软雅黑"/>
              </a:rPr>
              <a:t>·</a:t>
            </a:r>
            <a:r>
              <a:rPr b="1" lang="zh-CN" sz="1900" spc="-1" strike="noStrike" u="sng">
                <a:solidFill>
                  <a:srgbClr val="ffff00"/>
                </a:solidFill>
                <a:uFillTx/>
                <a:latin typeface="微软雅黑"/>
              </a:rPr>
              <a:t>莱特兄弟。像鸟儿一样在天空飞翔，自古以来就是人类的梦想。为了它的实现，人们付出了坚持不懈的努力，甚至许多先驱者生命的代价。</a:t>
            </a:r>
            <a:endParaRPr b="0" lang="en-US" sz="19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42" name="Picture 7" descr="pic699"/>
          <p:cNvPicPr/>
          <p:nvPr/>
        </p:nvPicPr>
        <p:blipFill>
          <a:blip r:embed="rId2"/>
          <a:stretch/>
        </p:blipFill>
        <p:spPr>
          <a:xfrm>
            <a:off x="395280" y="1773360"/>
            <a:ext cx="8353440" cy="4752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1" dur="25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2" dur="25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77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78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0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1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微软雅黑"/>
              </a:rPr>
              <a:t>中国自己制造的磁悬浮列车将于</a:t>
            </a:r>
            <a:r>
              <a:rPr b="0" lang="en-US" sz="2400" spc="-1" strike="noStrike">
                <a:solidFill>
                  <a:srgbClr val="cc3300"/>
                </a:solidFill>
                <a:latin typeface="微软雅黑"/>
              </a:rPr>
              <a:t>7</a:t>
            </a:r>
            <a:r>
              <a:rPr b="0" lang="zh-CN" sz="2400" spc="-1" strike="noStrike">
                <a:solidFill>
                  <a:srgbClr val="cc3300"/>
                </a:solidFill>
                <a:latin typeface="微软雅黑"/>
              </a:rPr>
              <a:t>月在上海试车的消息引起了德国人的密切关注。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44" name="Picture 4" descr="u=4008530984,201109217&amp;fm=51&amp;gp=0[1]"/>
          <p:cNvPicPr/>
          <p:nvPr/>
        </p:nvPicPr>
        <p:blipFill>
          <a:blip r:embed="rId1"/>
          <a:stretch/>
        </p:blipFill>
        <p:spPr>
          <a:xfrm>
            <a:off x="1979640" y="1413000"/>
            <a:ext cx="4968720" cy="5184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3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41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008080"/>
                </a:solidFill>
                <a:uFillTx/>
                <a:latin typeface="微软雅黑"/>
              </a:rPr>
              <a:t>   </a:t>
            </a:r>
            <a:r>
              <a:rPr b="1" i="1" lang="zh-CN" sz="6600" spc="-1" strike="noStrike" u="sng">
                <a:solidFill>
                  <a:srgbClr val="008080"/>
                </a:solidFill>
                <a:uFillTx/>
                <a:latin typeface="微软雅黑"/>
              </a:rPr>
              <a:t>然而当社会发展到今天，在极个别的偏远地区仍还存在着原始的交通工具。</a:t>
            </a:r>
            <a:endParaRPr b="0" lang="en-US" sz="6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strips dir="ru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4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微软雅黑"/>
              </a:rPr>
              <a:t>溜索在怒江已经算是祖祖辈辈的交通工具了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48" name="Picture 4" descr="t201110817210434dad5400ede02[1]"/>
          <p:cNvPicPr/>
          <p:nvPr/>
        </p:nvPicPr>
        <p:blipFill>
          <a:blip r:embed="rId1"/>
          <a:stretch/>
        </p:blipFill>
        <p:spPr>
          <a:xfrm>
            <a:off x="250920" y="1844640"/>
            <a:ext cx="8424720" cy="453708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6"/>
          <p:cNvSpPr/>
          <p:nvPr/>
        </p:nvSpPr>
        <p:spPr>
          <a:xfrm>
            <a:off x="7524720" y="6308640"/>
            <a:ext cx="719280" cy="289080"/>
          </a:xfrm>
          <a:custGeom>
            <a:avLst/>
            <a:gdLst>
              <a:gd name="textAreaLeft" fmla="*/ 18720 w 719280"/>
              <a:gd name="textAreaRight" fmla="*/ 700560 w 719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704" h="21600">
                <a:moveTo>
                  <a:pt x="0" y="0"/>
                </a:moveTo>
                <a:lnTo>
                  <a:pt x="53704" y="0"/>
                </a:lnTo>
                <a:lnTo>
                  <a:pt x="53704" y="21600"/>
                </a:lnTo>
                <a:lnTo>
                  <a:pt x="0" y="21600"/>
                </a:lnTo>
                <a:close/>
              </a:path>
              <a:path fill="lightenLess" w="53704" h="21600">
                <a:moveTo>
                  <a:pt x="0" y="0"/>
                </a:moveTo>
                <a:lnTo>
                  <a:pt x="53704" y="0"/>
                </a:lnTo>
                <a:lnTo>
                  <a:pt x="52304" y="1400"/>
                </a:lnTo>
                <a:lnTo>
                  <a:pt x="1400" y="1400"/>
                </a:lnTo>
                <a:close/>
              </a:path>
              <a:path fill="darken" w="53704" h="21600">
                <a:moveTo>
                  <a:pt x="53704" y="0"/>
                </a:moveTo>
                <a:lnTo>
                  <a:pt x="53704" y="21600"/>
                </a:lnTo>
                <a:lnTo>
                  <a:pt x="52304" y="20200"/>
                </a:lnTo>
                <a:lnTo>
                  <a:pt x="52304" y="1400"/>
                </a:lnTo>
                <a:close/>
              </a:path>
              <a:path fill="darkenLess" w="53704" h="21600">
                <a:moveTo>
                  <a:pt x="53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4" y="20200"/>
                </a:lnTo>
                <a:close/>
              </a:path>
              <a:path fill="lighten" w="53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4" h="21600">
                <a:moveTo>
                  <a:pt x="19846" y="8406"/>
                </a:moveTo>
                <a:lnTo>
                  <a:pt x="24276" y="8406"/>
                </a:lnTo>
                <a:lnTo>
                  <a:pt x="28697" y="3794"/>
                </a:lnTo>
                <a:lnTo>
                  <a:pt x="28697" y="17806"/>
                </a:lnTo>
                <a:lnTo>
                  <a:pt x="24276" y="13194"/>
                </a:lnTo>
                <a:lnTo>
                  <a:pt x="19846" y="13194"/>
                </a:lnTo>
                <a:close/>
              </a:path>
              <a:path fill="darken" w="53704" h="21600">
                <a:moveTo>
                  <a:pt x="30351" y="10800"/>
                </a:moveTo>
                <a:lnTo>
                  <a:pt x="33859" y="10800"/>
                </a:lnTo>
              </a:path>
              <a:path fill="darken" w="53704" h="21600">
                <a:moveTo>
                  <a:pt x="30351" y="8406"/>
                </a:moveTo>
                <a:lnTo>
                  <a:pt x="33859" y="5639"/>
                </a:lnTo>
              </a:path>
              <a:path fill="darken" w="53704" h="21600">
                <a:moveTo>
                  <a:pt x="30351" y="13194"/>
                </a:moveTo>
                <a:lnTo>
                  <a:pt x="33859" y="15961"/>
                </a:lnTo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51" name="Picture 4" descr="t201110817190714dad538b49004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6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54" name="Picture 4" descr="t201110817221424dad54466749d[1]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62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8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t201110817221454dad5446d5227[1]"/>
          <p:cNvPicPr/>
          <p:nvPr/>
        </p:nvPicPr>
        <p:blipFill>
          <a:blip r:embed="rId1"/>
          <a:stretch/>
        </p:blipFill>
        <p:spPr>
          <a:xfrm rot="21264000">
            <a:off x="1979640" y="259920"/>
            <a:ext cx="5400720" cy="595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u=508372576,1078781327&amp;fm=51&amp;gp=0"/>
          <p:cNvPicPr/>
          <p:nvPr/>
        </p:nvPicPr>
        <p:blipFill>
          <a:blip r:embed="rId1"/>
          <a:stretch/>
        </p:blipFill>
        <p:spPr>
          <a:xfrm>
            <a:off x="0" y="12600"/>
            <a:ext cx="3924360" cy="3560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u=914723933,552634320&amp;fm=52&amp;gp=0"/>
          <p:cNvPicPr/>
          <p:nvPr/>
        </p:nvPicPr>
        <p:blipFill>
          <a:blip r:embed="rId2"/>
          <a:stretch/>
        </p:blipFill>
        <p:spPr>
          <a:xfrm>
            <a:off x="3995640" y="0"/>
            <a:ext cx="4680000" cy="3573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u=3964053418,2997855592&amp;fm=52&amp;gp=0"/>
          <p:cNvPicPr/>
          <p:nvPr/>
        </p:nvPicPr>
        <p:blipFill>
          <a:blip r:embed="rId3"/>
          <a:stretch/>
        </p:blipFill>
        <p:spPr>
          <a:xfrm>
            <a:off x="0" y="3573360"/>
            <a:ext cx="3924360" cy="3284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313385336"/>
          <p:cNvPicPr/>
          <p:nvPr/>
        </p:nvPicPr>
        <p:blipFill>
          <a:blip r:embed="rId4"/>
          <a:stretch/>
        </p:blipFill>
        <p:spPr>
          <a:xfrm>
            <a:off x="4211640" y="3573360"/>
            <a:ext cx="4465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030"/>
          <p:cNvPicPr/>
          <p:nvPr/>
        </p:nvPicPr>
        <p:blipFill>
          <a:blip r:embed="rId1"/>
          <a:stretch/>
        </p:blipFill>
        <p:spPr>
          <a:xfrm>
            <a:off x="571680" y="698400"/>
            <a:ext cx="8001000" cy="54612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微软雅黑"/>
              </a:rPr>
              <a:t>独龙江布卡瓦的木桥，这个走过去也是摇摇晃晃的，但比起溜索就安稳很多了。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59" name="Picture 4" descr="t201110817221564dad54470854f[1]"/>
          <p:cNvPicPr/>
          <p:nvPr/>
        </p:nvPicPr>
        <p:blipFill>
          <a:blip r:embed="rId2"/>
          <a:stretch/>
        </p:blipFill>
        <p:spPr>
          <a:xfrm>
            <a:off x="324000" y="1700280"/>
            <a:ext cx="8569080" cy="47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16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17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1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63" name="Picture 4" descr="t201110817221574dad54472db7d[1]"/>
          <p:cNvPicPr/>
          <p:nvPr/>
        </p:nvPicPr>
        <p:blipFill>
          <a:blip r:embed="rId2"/>
          <a:stretch/>
        </p:blipFill>
        <p:spPr>
          <a:xfrm>
            <a:off x="2556000" y="404640"/>
            <a:ext cx="439236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38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39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bk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301680" y="1485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993300"/>
                </a:solidFill>
                <a:uFillTx/>
                <a:latin typeface="微软雅黑"/>
              </a:rPr>
              <a:t>   </a:t>
            </a:r>
            <a:r>
              <a:rPr b="1" i="1" lang="zh-CN" sz="4400" spc="-1" strike="noStrike" u="sng">
                <a:solidFill>
                  <a:srgbClr val="000000"/>
                </a:solidFill>
                <a:uFillTx/>
                <a:latin typeface="微软雅黑"/>
              </a:rPr>
              <a:t>政府也重视此事，只要两边有村民的地方都修桥，人马桥，拖拉机能过的桥，现在怒江两边溜索可能就剩下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微软雅黑"/>
              </a:rPr>
              <a:t>20</a:t>
            </a:r>
            <a:r>
              <a:rPr b="1" i="1" lang="zh-CN" sz="4400" spc="-1" strike="noStrike" u="sng">
                <a:solidFill>
                  <a:srgbClr val="000000"/>
                </a:solidFill>
                <a:uFillTx/>
                <a:latin typeface="微软雅黑"/>
              </a:rPr>
              <a:t>几条了，不久将来溜索也许在怒江也就是变成传说。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6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5505-FF40-40E0-AB86-FC42101BBD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cabg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301680" y="105228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     </a:t>
            </a:r>
            <a:r>
              <a:rPr b="1" i="1" lang="zh-CN" sz="5400" spc="-1" strike="noStrike" u="sng">
                <a:solidFill>
                  <a:srgbClr val="ff0000"/>
                </a:solidFill>
                <a:uFillTx/>
                <a:latin typeface="微软雅黑"/>
              </a:rPr>
              <a:t>同学们，珍惜现在的美好生活吧！努力学习吧，用知识武装我们的头脑，用我们的智慧建设更美好的家园！ 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1" descr="u=3069889016,2584992035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华文琥珀"/>
              </a:rPr>
              <a:t>话题：从马车到飞机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3" name="Picture 7" descr="u=517606672,432527&amp;fm=3&amp;gp=0"/>
          <p:cNvPicPr/>
          <p:nvPr/>
        </p:nvPicPr>
        <p:blipFill>
          <a:blip r:embed="rId2"/>
          <a:stretch/>
        </p:blipFill>
        <p:spPr>
          <a:xfrm>
            <a:off x="1763640" y="1989000"/>
            <a:ext cx="1944720" cy="1459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1332000" y="3645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元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924360" y="2852640"/>
            <a:ext cx="1224000" cy="360"/>
            <a:chOff x="3924360" y="2852640"/>
            <a:chExt cx="1224000" cy="360"/>
          </a:xfrm>
        </p:grpSpPr>
        <p:sp>
          <p:nvSpPr>
            <p:cNvPr id="176" name="Line 9"/>
            <p:cNvSpPr/>
            <p:nvPr/>
          </p:nvSpPr>
          <p:spPr>
            <a:xfrm>
              <a:off x="3924360" y="285264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3924360" y="285264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13" descr="u=1790480207,3956308945&amp;fm=52&amp;gp=0"/>
          <p:cNvPicPr/>
          <p:nvPr/>
        </p:nvPicPr>
        <p:blipFill>
          <a:blip r:embed="rId3"/>
          <a:stretch/>
        </p:blipFill>
        <p:spPr>
          <a:xfrm>
            <a:off x="5219640" y="2133720"/>
            <a:ext cx="2095560" cy="13525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4"/>
          <p:cNvSpPr/>
          <p:nvPr/>
        </p:nvSpPr>
        <p:spPr>
          <a:xfrm>
            <a:off x="5148360" y="3789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世纪皇家马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84360" y="4292640"/>
            <a:ext cx="1150920" cy="360"/>
            <a:chOff x="684360" y="4292640"/>
            <a:chExt cx="1150920" cy="360"/>
          </a:xfrm>
        </p:grpSpPr>
        <p:sp>
          <p:nvSpPr>
            <p:cNvPr id="181" name="Line 15"/>
            <p:cNvSpPr/>
            <p:nvPr/>
          </p:nvSpPr>
          <p:spPr>
            <a:xfrm>
              <a:off x="684360" y="429264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84360" y="4292640"/>
              <a:ext cx="115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Picture 17" descr="u=798450145,3638105664&amp;fm=52&amp;gp=0"/>
          <p:cNvPicPr/>
          <p:nvPr/>
        </p:nvPicPr>
        <p:blipFill>
          <a:blip r:embed="rId4"/>
          <a:stretch/>
        </p:blipFill>
        <p:spPr>
          <a:xfrm>
            <a:off x="1979640" y="4005360"/>
            <a:ext cx="2095560" cy="15238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8"/>
          <p:cNvSpPr/>
          <p:nvPr/>
        </p:nvSpPr>
        <p:spPr>
          <a:xfrm>
            <a:off x="1835280" y="595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七世纪马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284720" y="4869000"/>
            <a:ext cx="1079280" cy="360"/>
            <a:chOff x="4284720" y="4869000"/>
            <a:chExt cx="1079280" cy="360"/>
          </a:xfrm>
        </p:grpSpPr>
        <p:sp>
          <p:nvSpPr>
            <p:cNvPr id="186" name="Line 19"/>
            <p:cNvSpPr/>
            <p:nvPr/>
          </p:nvSpPr>
          <p:spPr>
            <a:xfrm>
              <a:off x="4284720" y="48690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4284720" y="4869000"/>
              <a:ext cx="107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Picture 21" descr="u=2275952559,2461354943&amp;fm=51&amp;gp=0"/>
          <p:cNvPicPr/>
          <p:nvPr/>
        </p:nvPicPr>
        <p:blipFill>
          <a:blip r:embed="rId5"/>
          <a:stretch/>
        </p:blipFill>
        <p:spPr>
          <a:xfrm>
            <a:off x="5580000" y="4221000"/>
            <a:ext cx="1944720" cy="12830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22"/>
          <p:cNvSpPr/>
          <p:nvPr/>
        </p:nvSpPr>
        <p:spPr>
          <a:xfrm>
            <a:off x="5580000" y="587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古老的自行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5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" dur="5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" dur="5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92" name="Picture 5" descr="u=2189033349,1543159079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3131640" y="38880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  <a:ea typeface="华文琥珀"/>
              </a:rPr>
              <a:t>话题：从马车到飞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u=2575802173,1821170118&amp;fm=51&amp;gp=0"/>
          <p:cNvPicPr/>
          <p:nvPr/>
        </p:nvPicPr>
        <p:blipFill>
          <a:blip r:embed="rId2"/>
          <a:stretch/>
        </p:blipFill>
        <p:spPr>
          <a:xfrm>
            <a:off x="1332000" y="1341360"/>
            <a:ext cx="1944720" cy="17272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9"/>
          <p:cNvSpPr/>
          <p:nvPr/>
        </p:nvSpPr>
        <p:spPr>
          <a:xfrm>
            <a:off x="97164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最早的火车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564000" y="2276640"/>
            <a:ext cx="1224000" cy="360"/>
            <a:chOff x="3564000" y="2276640"/>
            <a:chExt cx="1224000" cy="360"/>
          </a:xfrm>
        </p:grpSpPr>
        <p:sp>
          <p:nvSpPr>
            <p:cNvPr id="197" name="Line 10"/>
            <p:cNvSpPr/>
            <p:nvPr/>
          </p:nvSpPr>
          <p:spPr>
            <a:xfrm>
              <a:off x="3564000" y="2276640"/>
              <a:ext cx="12240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3564000" y="227664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Picture 12" descr="u=3251699256,1460446567&amp;fm=52&amp;gp=0"/>
          <p:cNvPicPr/>
          <p:nvPr/>
        </p:nvPicPr>
        <p:blipFill>
          <a:blip r:embed="rId3"/>
          <a:stretch/>
        </p:blipFill>
        <p:spPr>
          <a:xfrm>
            <a:off x="4859280" y="1628640"/>
            <a:ext cx="2095560" cy="12765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3"/>
          <p:cNvSpPr/>
          <p:nvPr/>
        </p:nvSpPr>
        <p:spPr>
          <a:xfrm>
            <a:off x="5003640" y="342900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奔驰三轮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042920" y="4581360"/>
            <a:ext cx="1081080" cy="360"/>
            <a:chOff x="1042920" y="4581360"/>
            <a:chExt cx="1081080" cy="360"/>
          </a:xfrm>
        </p:grpSpPr>
        <p:sp>
          <p:nvSpPr>
            <p:cNvPr id="202" name="Line 14"/>
            <p:cNvSpPr/>
            <p:nvPr/>
          </p:nvSpPr>
          <p:spPr>
            <a:xfrm>
              <a:off x="1042920" y="4581360"/>
              <a:ext cx="10810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1042920" y="458136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16" descr="u=520732392,84837242&amp;fm=52&amp;gp=0"/>
          <p:cNvPicPr/>
          <p:nvPr/>
        </p:nvPicPr>
        <p:blipFill>
          <a:blip r:embed="rId4"/>
          <a:stretch/>
        </p:blipFill>
        <p:spPr>
          <a:xfrm>
            <a:off x="2124000" y="3933720"/>
            <a:ext cx="2095560" cy="13906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7"/>
          <p:cNvSpPr/>
          <p:nvPr/>
        </p:nvSpPr>
        <p:spPr>
          <a:xfrm>
            <a:off x="2050920" y="5589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最早的飞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427640" y="4581360"/>
            <a:ext cx="360" cy="360"/>
            <a:chOff x="4427640" y="4581360"/>
            <a:chExt cx="360" cy="360"/>
          </a:xfrm>
        </p:grpSpPr>
        <p:sp>
          <p:nvSpPr>
            <p:cNvPr id="207" name="Line 18"/>
            <p:cNvSpPr/>
            <p:nvPr/>
          </p:nvSpPr>
          <p:spPr>
            <a:xfrm>
              <a:off x="4427640" y="4581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4427640" y="4581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9"/>
          <p:cNvSpPr/>
          <p:nvPr/>
        </p:nvSpPr>
        <p:spPr>
          <a:xfrm>
            <a:off x="4427640" y="4653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219640" y="4724280"/>
            <a:ext cx="1081080" cy="360"/>
            <a:chOff x="5219640" y="4724280"/>
            <a:chExt cx="1081080" cy="360"/>
          </a:xfrm>
        </p:grpSpPr>
        <p:sp>
          <p:nvSpPr>
            <p:cNvPr id="211" name="Line 20"/>
            <p:cNvSpPr/>
            <p:nvPr/>
          </p:nvSpPr>
          <p:spPr>
            <a:xfrm>
              <a:off x="5219640" y="4724280"/>
              <a:ext cx="10810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5219640" y="472428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22" descr="u=1737487087,97531739&amp;fm=51&amp;gp=0"/>
          <p:cNvPicPr/>
          <p:nvPr/>
        </p:nvPicPr>
        <p:blipFill>
          <a:blip r:embed="rId5"/>
          <a:stretch/>
        </p:blipFill>
        <p:spPr>
          <a:xfrm>
            <a:off x="6372360" y="3789360"/>
            <a:ext cx="1224000" cy="18003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3"/>
          <p:cNvSpPr/>
          <p:nvPr/>
        </p:nvSpPr>
        <p:spPr>
          <a:xfrm>
            <a:off x="6227640" y="587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航天飞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zh-CN" sz="2600" spc="-1" strike="noStrike">
                <a:solidFill>
                  <a:srgbClr val="111111"/>
                </a:solidFill>
                <a:latin typeface="微软雅黑"/>
              </a:rPr>
              <a:t>马拉雪橇是过去人们的主要交通工具，雪橇在厚达</a:t>
            </a:r>
            <a:r>
              <a:rPr b="0" lang="en-US" sz="2600" spc="-1" strike="noStrike">
                <a:solidFill>
                  <a:srgbClr val="111111"/>
                </a:solidFill>
                <a:latin typeface="微软雅黑"/>
              </a:rPr>
              <a:t>1</a:t>
            </a:r>
            <a:r>
              <a:rPr b="0" lang="zh-CN" sz="2600" spc="-1" strike="noStrike">
                <a:solidFill>
                  <a:srgbClr val="111111"/>
                </a:solidFill>
                <a:latin typeface="微软雅黑"/>
              </a:rPr>
              <a:t>米多的雪道中行驶，挂着雾凇的桦林、一望无际的雪原、婉转的喀纳斯冰河融为一体。沿途雪山、峡谷、古道、树林群等风景令人目不暇接</a:t>
            </a:r>
            <a:r>
              <a:rPr b="0" lang="zh-CN" sz="2600" spc="-1" strike="noStrike">
                <a:solidFill>
                  <a:srgbClr val="777777"/>
                </a:solidFill>
                <a:latin typeface="微软雅黑"/>
              </a:rPr>
              <a:t>。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16" name="Picture 4" descr="2008122921555845[1]"/>
          <p:cNvPicPr/>
          <p:nvPr/>
        </p:nvPicPr>
        <p:blipFill>
          <a:blip r:embed="rId1"/>
          <a:stretch/>
        </p:blipFill>
        <p:spPr>
          <a:xfrm>
            <a:off x="712800" y="2492280"/>
            <a:ext cx="7488360" cy="3961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10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9786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微软雅黑"/>
              </a:rPr>
              <a:t>1649</a:t>
            </a:r>
            <a:r>
              <a:rPr b="0" lang="zh-CN" sz="2600" spc="-1" strike="noStrike">
                <a:solidFill>
                  <a:srgbClr val="cc9900"/>
                </a:solidFill>
                <a:latin typeface="微软雅黑"/>
              </a:rPr>
              <a:t>年，德国钟表匠赫丘按照达</a:t>
            </a:r>
            <a:r>
              <a:rPr b="0" lang="en-US" sz="2600" spc="-1" strike="noStrike">
                <a:solidFill>
                  <a:srgbClr val="cc9900"/>
                </a:solidFill>
                <a:latin typeface="微软雅黑"/>
              </a:rPr>
              <a:t>·</a:t>
            </a:r>
            <a:r>
              <a:rPr b="0" lang="zh-CN" sz="2600" spc="-1" strike="noStrike">
                <a:solidFill>
                  <a:srgbClr val="cc9900"/>
                </a:solidFill>
                <a:latin typeface="微软雅黑"/>
              </a:rPr>
              <a:t>芬奇留下的设计图纸，试制出了世界上第一辆真正的自行车，它像摆钟一样，以发条为动力，时速只有</a:t>
            </a:r>
            <a:r>
              <a:rPr b="0" lang="en-US" sz="2600" spc="-1" strike="noStrike">
                <a:solidFill>
                  <a:srgbClr val="cc9900"/>
                </a:solidFill>
                <a:latin typeface="微软雅黑"/>
              </a:rPr>
              <a:t>1.5</a:t>
            </a:r>
            <a:r>
              <a:rPr b="0" lang="zh-CN" sz="2600" spc="-1" strike="noStrike">
                <a:solidFill>
                  <a:srgbClr val="cc9900"/>
                </a:solidFill>
                <a:latin typeface="微软雅黑"/>
              </a:rPr>
              <a:t>公里。</a:t>
            </a:r>
            <a:r>
              <a:rPr b="0" lang="zh-CN" sz="49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18" name="Picture 4" descr="res02_attpic_brief[1]"/>
          <p:cNvPicPr/>
          <p:nvPr/>
        </p:nvPicPr>
        <p:blipFill>
          <a:blip r:embed="rId1"/>
          <a:stretch/>
        </p:blipFill>
        <p:spPr>
          <a:xfrm>
            <a:off x="1116000" y="2276640"/>
            <a:ext cx="6551640" cy="4332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问题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：世界上第一辆火车是什么时候、谁发明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0" name="AutoShape 6">
            <a:hlinkClick r:id="rId1"/>
          </p:cNvPr>
          <p:cNvSpPr/>
          <p:nvPr/>
        </p:nvSpPr>
        <p:spPr>
          <a:xfrm>
            <a:off x="6877080" y="5229360"/>
            <a:ext cx="719280" cy="50472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776" h="21600">
                <a:moveTo>
                  <a:pt x="0" y="0"/>
                </a:moveTo>
                <a:lnTo>
                  <a:pt x="30776" y="0"/>
                </a:lnTo>
                <a:lnTo>
                  <a:pt x="30776" y="21600"/>
                </a:lnTo>
                <a:lnTo>
                  <a:pt x="0" y="21600"/>
                </a:lnTo>
                <a:close/>
              </a:path>
              <a:path fill="lightenLess" w="30776" h="21600">
                <a:moveTo>
                  <a:pt x="0" y="0"/>
                </a:moveTo>
                <a:lnTo>
                  <a:pt x="30776" y="0"/>
                </a:lnTo>
                <a:lnTo>
                  <a:pt x="29376" y="1400"/>
                </a:lnTo>
                <a:lnTo>
                  <a:pt x="1400" y="1400"/>
                </a:lnTo>
                <a:close/>
              </a:path>
              <a:path fill="darken" w="30776" h="21600">
                <a:moveTo>
                  <a:pt x="30776" y="0"/>
                </a:moveTo>
                <a:lnTo>
                  <a:pt x="30776" y="21600"/>
                </a:lnTo>
                <a:lnTo>
                  <a:pt x="29376" y="20200"/>
                </a:lnTo>
                <a:lnTo>
                  <a:pt x="29376" y="1400"/>
                </a:lnTo>
                <a:close/>
              </a:path>
              <a:path fill="darkenLess" w="30776" h="21600">
                <a:moveTo>
                  <a:pt x="30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76" y="20200"/>
                </a:lnTo>
                <a:close/>
              </a:path>
              <a:path fill="lighten" w="30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76" h="21600">
                <a:moveTo>
                  <a:pt x="8381" y="8406"/>
                </a:moveTo>
                <a:lnTo>
                  <a:pt x="12812" y="8406"/>
                </a:lnTo>
                <a:lnTo>
                  <a:pt x="17233" y="3794"/>
                </a:lnTo>
                <a:lnTo>
                  <a:pt x="17233" y="17806"/>
                </a:lnTo>
                <a:lnTo>
                  <a:pt x="12812" y="13194"/>
                </a:lnTo>
                <a:lnTo>
                  <a:pt x="8381" y="13194"/>
                </a:lnTo>
                <a:close/>
              </a:path>
              <a:path fill="darken" w="30776" h="21600">
                <a:moveTo>
                  <a:pt x="18887" y="10800"/>
                </a:moveTo>
                <a:lnTo>
                  <a:pt x="22394" y="10800"/>
                </a:lnTo>
              </a:path>
              <a:path fill="darken" w="30776" h="21600">
                <a:moveTo>
                  <a:pt x="18887" y="8406"/>
                </a:moveTo>
                <a:lnTo>
                  <a:pt x="22394" y="5639"/>
                </a:lnTo>
              </a:path>
              <a:path fill="darken" w="30776" h="21600">
                <a:moveTo>
                  <a:pt x="18887" y="13194"/>
                </a:moveTo>
                <a:lnTo>
                  <a:pt x="22394" y="15961"/>
                </a:lnTo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00"/>
                </a:solidFill>
                <a:latin typeface="微软雅黑"/>
              </a:rPr>
              <a:t>1814</a:t>
            </a:r>
            <a:r>
              <a:rPr b="0" lang="zh-CN" sz="1900" spc="-1" strike="noStrike">
                <a:solidFill>
                  <a:srgbClr val="00ff00"/>
                </a:solidFill>
                <a:latin typeface="微软雅黑"/>
              </a:rPr>
              <a:t>年，英国人斯蒂芬逊制造出世界上第一辆蒸汽火车机车。当时有人骑着一匹马和它赛跑，新生的火车丑陋笨重，走得很慢，马骄傲地跑在前面</a:t>
            </a:r>
            <a:r>
              <a:rPr b="0" lang="zh-CN" sz="1900" spc="-1" strike="noStrike">
                <a:solidFill>
                  <a:srgbClr val="0033cc"/>
                </a:solidFill>
                <a:latin typeface="微软雅黑"/>
              </a:rPr>
              <a:t>。</a:t>
            </a:r>
            <a:r>
              <a:rPr b="0" lang="zh-CN" sz="37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23" name="Picture 4" descr="2010122160650[1]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8164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5">
            <a:hlinkClick r:id="rId2"/>
          </p:cNvPr>
          <p:cNvSpPr/>
          <p:nvPr/>
        </p:nvSpPr>
        <p:spPr>
          <a:xfrm>
            <a:off x="7596360" y="6093000"/>
            <a:ext cx="936360" cy="504720"/>
          </a:xfrm>
          <a:custGeom>
            <a:avLst/>
            <a:gdLst>
              <a:gd name="textAreaLeft" fmla="*/ 32400 w 936360"/>
              <a:gd name="textAreaRight" fmla="*/ 903960 w 93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59" h="21600">
                <a:moveTo>
                  <a:pt x="0" y="0"/>
                </a:moveTo>
                <a:lnTo>
                  <a:pt x="40059" y="0"/>
                </a:lnTo>
                <a:lnTo>
                  <a:pt x="40059" y="21600"/>
                </a:lnTo>
                <a:lnTo>
                  <a:pt x="0" y="21600"/>
                </a:lnTo>
                <a:close/>
              </a:path>
              <a:path fill="lightenLess" w="40059" h="21600">
                <a:moveTo>
                  <a:pt x="0" y="0"/>
                </a:moveTo>
                <a:lnTo>
                  <a:pt x="40059" y="0"/>
                </a:lnTo>
                <a:lnTo>
                  <a:pt x="38659" y="1400"/>
                </a:lnTo>
                <a:lnTo>
                  <a:pt x="1400" y="1400"/>
                </a:lnTo>
                <a:close/>
              </a:path>
              <a:path fill="darken" w="40059" h="21600">
                <a:moveTo>
                  <a:pt x="40059" y="0"/>
                </a:moveTo>
                <a:lnTo>
                  <a:pt x="40059" y="21600"/>
                </a:lnTo>
                <a:lnTo>
                  <a:pt x="38659" y="20200"/>
                </a:lnTo>
                <a:lnTo>
                  <a:pt x="38659" y="1400"/>
                </a:lnTo>
                <a:close/>
              </a:path>
              <a:path fill="darkenLess" w="40059" h="21600">
                <a:moveTo>
                  <a:pt x="40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59" y="20200"/>
                </a:lnTo>
                <a:close/>
              </a:path>
              <a:path fill="lighten" w="40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59" h="21600">
                <a:moveTo>
                  <a:pt x="13023" y="8406"/>
                </a:moveTo>
                <a:lnTo>
                  <a:pt x="17453" y="8406"/>
                </a:lnTo>
                <a:lnTo>
                  <a:pt x="21875" y="3794"/>
                </a:lnTo>
                <a:lnTo>
                  <a:pt x="21875" y="17806"/>
                </a:lnTo>
                <a:lnTo>
                  <a:pt x="17453" y="13194"/>
                </a:lnTo>
                <a:lnTo>
                  <a:pt x="13023" y="13194"/>
                </a:lnTo>
                <a:close/>
              </a:path>
              <a:path fill="darken" w="40059" h="21600">
                <a:moveTo>
                  <a:pt x="23529" y="10800"/>
                </a:moveTo>
                <a:lnTo>
                  <a:pt x="27036" y="10800"/>
                </a:lnTo>
              </a:path>
              <a:path fill="darken" w="40059" h="21600">
                <a:moveTo>
                  <a:pt x="23529" y="8406"/>
                </a:moveTo>
                <a:lnTo>
                  <a:pt x="27036" y="5639"/>
                </a:lnTo>
              </a:path>
              <a:path fill="darken" w="40059" h="21600">
                <a:moveTo>
                  <a:pt x="23529" y="13194"/>
                </a:moveTo>
                <a:lnTo>
                  <a:pt x="27036" y="15961"/>
                </a:lnTo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6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7"/>
          <p:cNvSpPr/>
          <p:nvPr/>
        </p:nvSpPr>
        <p:spPr>
          <a:xfrm>
            <a:off x="5305320" y="2158920"/>
            <a:ext cx="733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u=2811637300,2837343211&amp;fm=52&amp;gp=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5410600_144852063810_2"/>
          <p:cNvPicPr/>
          <p:nvPr/>
        </p:nvPicPr>
        <p:blipFill>
          <a:blip r:embed="rId2"/>
          <a:stretch/>
        </p:blipFill>
        <p:spPr>
          <a:xfrm>
            <a:off x="1692360" y="1989000"/>
            <a:ext cx="5616360" cy="3673440"/>
          </a:xfrm>
          <a:prstGeom prst="rect">
            <a:avLst/>
          </a:prstGeom>
          <a:ln w="0">
            <a:noFill/>
          </a:ln>
        </p:spPr>
      </p:pic>
      <p:sp>
        <p:nvSpPr>
          <p:cNvPr id="228" name="WordArt 6"/>
          <p:cNvSpPr txBox="1"/>
          <p:nvPr/>
        </p:nvSpPr>
        <p:spPr>
          <a:xfrm>
            <a:off x="2700360" y="119700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宋体"/>
              </a:rPr>
              <a:t>现代交通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宋体"/>
              </a:rPr>
              <a:t>-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宋体"/>
              </a:rPr>
              <a:t>汽车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53753" dir="2700000" blurRad="0" rotWithShape="0">
                  <a:srgbClr val="99000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5:56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50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