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camera.wav" ContentType="audio/x-wav"/>
  <Override PartName="/ppt/media/image42.jpeg" ContentType="image/jpeg"/>
  <Override PartName="/ppt/media/image1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57.jpeg" ContentType="image/jpeg"/>
  <Override PartName="/ppt/media/image63.png" ContentType="image/png"/>
  <Override PartName="/ppt/media/image23.jpeg" ContentType="image/jpeg"/>
  <Override PartName="/ppt/media/image49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14.png" ContentType="image/png"/>
  <Override PartName="/ppt/media/image19.png" ContentType="image/png"/>
  <Override PartName="/ppt/media/image15.png" ContentType="image/png"/>
  <Override PartName="/ppt/media/image22.gif" ContentType="image/gif"/>
  <Override PartName="/ppt/media/image36.gif" ContentType="image/gif"/>
  <Override PartName="/ppt/media/image17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media/image65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71.jpeg" ContentType="image/jpeg"/>
  <Override PartName="/ppt/media/image72.png" ContentType="image/png"/>
  <Override PartName="/ppt/media/image70.jpeg" ContentType="image/jpeg"/>
  <Override PartName="/ppt/media/image69.jpeg" ContentType="image/jpeg"/>
  <Override PartName="/ppt/media/image68.png" ContentType="image/png"/>
  <Override PartName="/ppt/media/image32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60.jpeg" ContentType="image/jpeg"/>
  <Override PartName="/ppt/media/image64.png" ContentType="image/png"/>
  <Override PartName="/ppt/media/image66.png" ContentType="image/png"/>
  <Override PartName="/ppt/media/image59.png" ContentType="image/png"/>
  <Override PartName="/ppt/media/image24.jpeg" ContentType="image/jpeg"/>
  <Override PartName="/ppt/media/image58.png" ContentType="image/png"/>
  <Override PartName="/ppt/media/image2.jpeg" ContentType="image/jpeg"/>
  <Override PartName="/ppt/media/image12.jpeg" ContentType="image/jpeg"/>
  <Override PartName="/ppt/media/image41.gif" ContentType="image/gif"/>
  <Override PartName="/ppt/media/image13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48.png" ContentType="image/png"/>
  <Override PartName="/ppt/media/image31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DCF-4560-4764-9FD1-8D964D0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C6D-53A2-426B-9E56-D02E8D74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CE2-9988-49FD-90BF-D064251E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039-A511-4DC1-BC0E-09F59BCE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531C-D498-4302-B6F5-FF49C3C5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1A5A-F72C-4EB6-8BB0-065331DA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605F-BE3D-44B6-8AB6-DB84F0D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D58-AA3D-4B2E-A7CC-2B6C09F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D715-9B0A-4709-A990-FB6C93FF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1F5-8DE8-4CA1-8991-58A1372F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EF90-8C61-4D34-9CB7-2ACAC8F6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DC9-20D1-4712-9DA9-2A2D21D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A069-75C0-4D11-BC98-97EDEB7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BD70-3BD4-49CC-BF4D-E74100C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FD8-53A2-4CE4-8DB8-EE2BC45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4D14-4F35-48AB-AC32-D6D1BA6C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F2C-4C58-49C7-A9F7-69B0ADD0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25F-4F53-4C0F-94F6-8389657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653-CE16-4534-A808-667EC15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B47-994A-4C35-AE20-B5DCECD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6D4-2166-4F20-9264-AF9142F5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BC9-36D3-4F75-843F-AD18A91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3EF-98B4-4E44-932D-7A64F58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A4D-DF89-45A5-A88F-D9ADEA6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FF9F-381C-45C4-88AE-2C7AE4D677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5157-6507-4B90-AEDD-236ACD77E2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91bb9105882e484d38ed3250443_873_873"/>
          <p:cNvPicPr/>
          <p:nvPr/>
        </p:nvPicPr>
        <p:blipFill>
          <a:blip r:embed="rId1"/>
          <a:stretch/>
        </p:blipFill>
        <p:spPr>
          <a:xfrm>
            <a:off x="3240000" y="1500120"/>
            <a:ext cx="5904000" cy="514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519054_794049"/>
          <p:cNvPicPr/>
          <p:nvPr/>
        </p:nvPicPr>
        <p:blipFill>
          <a:blip r:embed="rId2"/>
          <a:stretch/>
        </p:blipFill>
        <p:spPr>
          <a:xfrm>
            <a:off x="165240" y="230040"/>
            <a:ext cx="4140000" cy="297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21083442736_b"/>
          <p:cNvPicPr/>
          <p:nvPr/>
        </p:nvPicPr>
        <p:blipFill>
          <a:blip r:embed="rId3"/>
          <a:stretch/>
        </p:blipFill>
        <p:spPr>
          <a:xfrm>
            <a:off x="826920" y="3440160"/>
            <a:ext cx="2195640" cy="3155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0" y="2172960"/>
            <a:ext cx="8940960" cy="2368440"/>
          </a:xfrm>
          <a:prstGeom prst="rect">
            <a:avLst/>
          </a:prstGeom>
          <a:solidFill>
            <a:srgbClr val="00b050">
              <a:alpha val="6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单元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酸和碱</a:t>
            </a:r>
            <a:br>
              <a:rPr sz="3200"/>
            </a:b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常见的酸和碱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1"/>
          <a:stretch/>
        </p:blipFill>
        <p:spPr>
          <a:xfrm>
            <a:off x="0" y="2590920"/>
            <a:ext cx="8886960" cy="337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76320"/>
            <a:ext cx="10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酸、碱与指示剂作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0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79280" y="762120"/>
            <a:ext cx="8785440" cy="2016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试管分成两组，每组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试管中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加入白醋、苹果汁、石灰水和氢氧化钠溶液。向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组试管中加入紫色石蕊溶液，向另一组试管中加入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酚酞溶液。观察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81080" y="838080"/>
            <a:ext cx="2181240" cy="505080"/>
          </a:xfrm>
          <a:prstGeom prst="flowChartTerminator">
            <a:avLst/>
          </a:prstGeom>
          <a:solidFill>
            <a:srgbClr val="d0c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221840" y="5181480"/>
            <a:ext cx="4546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苹果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717520" y="5105520"/>
            <a:ext cx="454680" cy="10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苹果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40" y="14400"/>
            <a:ext cx="10133280" cy="5814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、如何鉴别酸与碱的溶液（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0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2360" y="1036800"/>
          <a:ext cx="8740800" cy="3349440"/>
        </p:xfrm>
        <a:graphic>
          <a:graphicData uri="http://schemas.openxmlformats.org/drawingml/2006/table">
            <a:tbl>
              <a:tblPr/>
              <a:tblGrid>
                <a:gridCol w="2089080"/>
                <a:gridCol w="3326040"/>
                <a:gridCol w="3325680"/>
              </a:tblGrid>
              <a:tr h="1044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加入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紫色石蕊溶液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后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加入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无色酚酞溶液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后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食  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苹果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石灰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NaOH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9"/>
          <p:cNvSpPr/>
          <p:nvPr/>
        </p:nvSpPr>
        <p:spPr>
          <a:xfrm>
            <a:off x="3200400" y="3200400"/>
            <a:ext cx="205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6553080" y="3200400"/>
            <a:ext cx="20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3276720" y="1971720"/>
            <a:ext cx="19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6516720" y="197172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3276720" y="3700440"/>
            <a:ext cx="2133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588000" y="3700440"/>
            <a:ext cx="20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3200400" y="2590920"/>
            <a:ext cx="19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6629400" y="259092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0" y="4982760"/>
            <a:ext cx="8888400" cy="581400"/>
          </a:xfrm>
          <a:prstGeom prst="rect">
            <a:avLst/>
          </a:prstGeom>
          <a:blipFill rotWithShape="0">
            <a:blip r:embed="rId1">
              <a:alphaModFix amt="82000"/>
            </a:blip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82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教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51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格下自然段，根据上面实验的现象，分析这四种物质中，哪些是酸溶液，哪些是碱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2173320" y="205740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9"/>
          <p:cNvSpPr/>
          <p:nvPr/>
        </p:nvSpPr>
        <p:spPr>
          <a:xfrm>
            <a:off x="2133720" y="25909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2133720" y="3276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2097000" y="380988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1935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紫色石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895480" y="762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酸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800600" y="762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中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705720" y="792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碱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920" y="2925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色酚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48120" y="1447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9528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幼圆"/>
                <a:ea typeface="幼圆"/>
              </a:rPr>
              <a:t>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858000" y="147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幼圆"/>
                <a:ea typeface="幼圆"/>
              </a:rPr>
              <a:t>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819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00600" y="274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6781680" y="2773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971800" y="21337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876920" y="2133720"/>
            <a:ext cx="685800" cy="30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781680" y="2133720"/>
            <a:ext cx="68580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819520" y="33526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4800600" y="33526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781680" y="335268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62320" y="685800"/>
            <a:ext cx="360" cy="2971800"/>
            <a:chOff x="2362320" y="685800"/>
            <a:chExt cx="360" cy="2971800"/>
          </a:xfrm>
        </p:grpSpPr>
        <p:sp>
          <p:nvSpPr>
            <p:cNvPr id="170" name="Line 19"/>
            <p:cNvSpPr/>
            <p:nvPr/>
          </p:nvSpPr>
          <p:spPr>
            <a:xfrm>
              <a:off x="2362320" y="685800"/>
              <a:ext cx="0" cy="297180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362320" y="68580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91120" y="609480"/>
            <a:ext cx="360" cy="3048120"/>
            <a:chOff x="4191120" y="609480"/>
            <a:chExt cx="360" cy="3048120"/>
          </a:xfrm>
        </p:grpSpPr>
        <p:sp>
          <p:nvSpPr>
            <p:cNvPr id="173" name="Line 20"/>
            <p:cNvSpPr/>
            <p:nvPr/>
          </p:nvSpPr>
          <p:spPr>
            <a:xfrm>
              <a:off x="4191120" y="609480"/>
              <a:ext cx="0" cy="304812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191120" y="609480"/>
              <a:ext cx="36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8520" y="685800"/>
            <a:ext cx="360" cy="2971800"/>
            <a:chOff x="6248520" y="685800"/>
            <a:chExt cx="360" cy="2971800"/>
          </a:xfrm>
        </p:grpSpPr>
        <p:sp>
          <p:nvSpPr>
            <p:cNvPr id="176" name="Line 21"/>
            <p:cNvSpPr/>
            <p:nvPr/>
          </p:nvSpPr>
          <p:spPr>
            <a:xfrm>
              <a:off x="6248520" y="685800"/>
              <a:ext cx="0" cy="297180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248520" y="68580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1447920"/>
            <a:ext cx="8153640" cy="360"/>
            <a:chOff x="380880" y="1447920"/>
            <a:chExt cx="8153640" cy="360"/>
          </a:xfrm>
        </p:grpSpPr>
        <p:sp>
          <p:nvSpPr>
            <p:cNvPr id="179" name="Line 22"/>
            <p:cNvSpPr/>
            <p:nvPr/>
          </p:nvSpPr>
          <p:spPr>
            <a:xfrm>
              <a:off x="380880" y="1447920"/>
              <a:ext cx="815364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80880" y="144792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0880" y="2743200"/>
            <a:ext cx="8153640" cy="360"/>
            <a:chOff x="380880" y="2743200"/>
            <a:chExt cx="8153640" cy="360"/>
          </a:xfrm>
        </p:grpSpPr>
        <p:sp>
          <p:nvSpPr>
            <p:cNvPr id="182" name="Line 23"/>
            <p:cNvSpPr/>
            <p:nvPr/>
          </p:nvSpPr>
          <p:spPr>
            <a:xfrm>
              <a:off x="380880" y="2743200"/>
              <a:ext cx="815364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80880" y="274320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4"/>
          <p:cNvSpPr/>
          <p:nvPr/>
        </p:nvSpPr>
        <p:spPr>
          <a:xfrm>
            <a:off x="0" y="0"/>
            <a:ext cx="7315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指示剂的变色范围（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28600" y="3962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331360" y="4494960"/>
            <a:ext cx="41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遇酸紫变红，酚酞遇酸影无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遇碱紫变蓝，酚酞遇碱红泛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22752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如何用酸碱指示剂检验溶液的酸碱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33523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，滴加紫色石蕊溶液，若紫色石蕊溶液变蓝色，则该溶液为碱性溶液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滴加无色酚酞溶液，若无色酚酞溶液溶液呈现红色，则说明该溶液为碱性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1143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）检验酸性溶液的方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5800" y="175248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，滴加紫色石蕊溶液，若紫色石蕊溶液变红色，则该溶液为酸性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）检验碱性溶液的方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990720" y="609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取样—加入指示剂—现象—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33520" y="838080"/>
            <a:ext cx="8381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巩固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使紫色石蕊溶液变蓝的溶液，它能使无色酚酞溶液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红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蓝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呈无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紫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028000" y="19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95360" y="3429000"/>
            <a:ext cx="81532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列物质的水溶液能使紫色石蕊溶液变红色的是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aCl        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Cl         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aO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8028000" y="3886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14400" y="4948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盐类、中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71880" y="49528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变成氨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是碱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843440" y="495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盐酸是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391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碱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dh018"/>
          <p:cNvPicPr/>
          <p:nvPr/>
        </p:nvPicPr>
        <p:blipFill>
          <a:blip r:embed="rId1"/>
          <a:stretch/>
        </p:blipFill>
        <p:spPr>
          <a:xfrm>
            <a:off x="7164360" y="189000"/>
            <a:ext cx="1044720" cy="137160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8196"/>
          <p:cNvSpPr/>
          <p:nvPr/>
        </p:nvSpPr>
        <p:spPr>
          <a:xfrm>
            <a:off x="1536840" y="6121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4360" y="620640"/>
            <a:ext cx="2843280" cy="82548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归  纳  与  分 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1736640"/>
            <a:ext cx="925992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去标签的三瓶无色液体，分别是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蒸馏水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，能把它们一次性区分开的试剂是                                                     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酚酞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试液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气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669800" y="294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dh018"/>
          <p:cNvPicPr/>
          <p:nvPr/>
        </p:nvPicPr>
        <p:blipFill>
          <a:blip r:embed="rId1"/>
          <a:stretch/>
        </p:blipFill>
        <p:spPr>
          <a:xfrm>
            <a:off x="7885080" y="5229360"/>
            <a:ext cx="1044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NewsMedia_26387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4920" y="606600"/>
            <a:ext cx="2808360" cy="27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2004618102130"/>
          <p:cNvPicPr/>
          <p:nvPr/>
        </p:nvPicPr>
        <p:blipFill>
          <a:blip r:embed="rId2"/>
          <a:stretch/>
        </p:blipFill>
        <p:spPr>
          <a:xfrm>
            <a:off x="2887560" y="606600"/>
            <a:ext cx="3095640" cy="2725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DSCI0126"/>
          <p:cNvPicPr/>
          <p:nvPr/>
        </p:nvPicPr>
        <p:blipFill>
          <a:blip r:embed="rId3"/>
          <a:stretch/>
        </p:blipFill>
        <p:spPr>
          <a:xfrm>
            <a:off x="34920" y="34718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17"/>
          <p:cNvPicPr/>
          <p:nvPr/>
        </p:nvPicPr>
        <p:blipFill>
          <a:blip r:embed="rId4"/>
          <a:stretch/>
        </p:blipFill>
        <p:spPr>
          <a:xfrm>
            <a:off x="6041880" y="606600"/>
            <a:ext cx="175428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200411214552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924360" y="35002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2214701"/>
          <p:cNvPicPr/>
          <p:nvPr/>
        </p:nvPicPr>
        <p:blipFill>
          <a:blip r:embed="rId6"/>
          <a:stretch/>
        </p:blipFill>
        <p:spPr>
          <a:xfrm>
            <a:off x="6257880" y="3860640"/>
            <a:ext cx="2857680" cy="2419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8101080" y="-23760"/>
            <a:ext cx="718920" cy="38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自制指示剂原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79280" y="27241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月季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97440" y="270828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牵牛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7640" y="242100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紫萝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973080" y="571824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美人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356000" y="41497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胡萝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7164360" y="545940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紫包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60"/>
                            </p:stCondLst>
                            <p:childTnLst>
                              <p:par>
                                <p:cTn id="4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720"/>
                            </p:stCondLst>
                            <p:childTnLst>
                              <p:par>
                                <p:cTn id="4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80"/>
                            </p:stCondLst>
                            <p:childTnLst>
                              <p:par>
                                <p:cTn id="43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40"/>
                            </p:stCondLst>
                            <p:childTnLst>
                              <p:par>
                                <p:cTn id="43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4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14400"/>
            <a:ext cx="2556000" cy="45972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三、实验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36520" y="1557360"/>
          <a:ext cx="8612280" cy="3760920"/>
        </p:xfrm>
        <a:graphic>
          <a:graphicData uri="http://schemas.openxmlformats.org/drawingml/2006/table">
            <a:tbl>
              <a:tblPr/>
              <a:tblGrid>
                <a:gridCol w="1771560"/>
                <a:gridCol w="2448000"/>
                <a:gridCol w="1944720"/>
                <a:gridCol w="2448000"/>
              </a:tblGrid>
              <a:tr h="92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代用指示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酸性溶液中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颜色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隶书"/>
                          <a:ea typeface="隶书"/>
                        </a:rPr>
                        <a:t>中性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隶书"/>
                          <a:ea typeface="隶书"/>
                        </a:rPr>
                        <a:t>中的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碱性溶液中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颜色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牵牛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月季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幼圆"/>
                          <a:ea typeface="幼圆"/>
                        </a:rPr>
                        <a:t>美人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幼圆"/>
                          <a:ea typeface="幼圆"/>
                        </a:rPr>
                        <a:t>紫萝卜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紫卷心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0"/>
          <p:cNvSpPr/>
          <p:nvPr/>
        </p:nvSpPr>
        <p:spPr>
          <a:xfrm>
            <a:off x="2513160" y="29876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浅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935760" y="29876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变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2513160" y="23972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6935760" y="23972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4"/>
          <p:cNvSpPr/>
          <p:nvPr/>
        </p:nvSpPr>
        <p:spPr>
          <a:xfrm>
            <a:off x="2513160" y="414036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6935760" y="414036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2513160" y="35640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</a:rPr>
              <a:t>淡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6935760" y="35640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变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4689360" y="299088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4689360" y="239940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4689360" y="414324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4689360" y="356724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2498760" y="467028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浅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6921360" y="467028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4675320" y="467352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1332000" y="438120"/>
            <a:ext cx="64087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几种植物花朵的酒精浸出液在酸碱溶液中的变色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6"/>
          <p:cNvSpPr/>
          <p:nvPr/>
        </p:nvSpPr>
        <p:spPr>
          <a:xfrm>
            <a:off x="179280" y="55897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讨论：上述实验结果，哪些可以作酸碱指示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75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25"/>
                            </p:stCondLst>
                            <p:childTnLst>
                              <p:par>
                                <p:cTn id="456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75"/>
                            </p:stCondLst>
                            <p:childTnLst>
                              <p:par>
                                <p:cTn id="460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25"/>
                            </p:stCondLst>
                            <p:childTnLst>
                              <p:par>
                                <p:cTn id="46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75"/>
                            </p:stCondLst>
                            <p:childTnLst>
                              <p:par>
                                <p:cTn id="473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25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75"/>
                            </p:stCondLst>
                            <p:childTnLst>
                              <p:par>
                                <p:cTn id="486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7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"/>
                            </p:stCondLst>
                            <p:childTnLst>
                              <p:par>
                                <p:cTn id="495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75"/>
                            </p:stCondLst>
                            <p:childTnLst>
                              <p:par>
                                <p:cTn id="49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25"/>
                            </p:stCondLst>
                            <p:childTnLst>
                              <p:par>
                                <p:cTn id="50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75"/>
                            </p:stCondLst>
                            <p:childTnLst>
                              <p:par>
                                <p:cTn id="512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59364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几种常见的酸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238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盐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Cl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硫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硝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N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碳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、醋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学名乙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4382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实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0-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30481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察盐酸、硫酸的颜色和状态；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别打开盛有盐酸、硫酸的试剂瓶的瓶盖，观察现象并闻气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盐酸和硫酸物理性质.mpg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6400800" cy="4165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440" y="14400"/>
            <a:ext cx="9142560" cy="5814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、常见的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盐酸与硫酸的物理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24000" y="914400"/>
          <a:ext cx="8381880" cy="3726000"/>
        </p:xfrm>
        <a:graphic>
          <a:graphicData uri="http://schemas.openxmlformats.org/drawingml/2006/table">
            <a:tbl>
              <a:tblPr/>
              <a:tblGrid>
                <a:gridCol w="2362320"/>
                <a:gridCol w="2819160"/>
                <a:gridCol w="32004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色、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打开瓶盖后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25"/>
          <p:cNvSpPr/>
          <p:nvPr/>
        </p:nvSpPr>
        <p:spPr>
          <a:xfrm>
            <a:off x="2819520" y="170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色、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5886360" y="14479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色、粘稠油状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172200" y="396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8"/>
          <p:cNvSpPr/>
          <p:nvPr/>
        </p:nvSpPr>
        <p:spPr>
          <a:xfrm flipV="1">
            <a:off x="2743200" y="31521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瓶口有白雾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5867280" y="266688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明显现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难挥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 flipH="1" rot="3294600">
            <a:off x="3189600" y="2675160"/>
            <a:ext cx="166680" cy="2890800"/>
          </a:xfrm>
          <a:prstGeom prst="downArrow">
            <a:avLst>
              <a:gd name="adj1" fmla="val 50000"/>
              <a:gd name="adj2" fmla="val 433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4038480" y="2590920"/>
            <a:ext cx="838440" cy="7617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1292400" y="4952880"/>
            <a:ext cx="76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浓盐酸挥发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Cl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气体与空气中水蒸气结合形成盐酸的小液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32767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易挥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2743200" y="3962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有刺激性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228600" y="4906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NTITLED"/>
          <p:cNvPicPr/>
          <p:nvPr/>
        </p:nvPicPr>
        <p:blipFill>
          <a:blip r:embed="rId1"/>
          <a:srcRect l="1481" t="0" r="19832" b="0"/>
          <a:stretch/>
        </p:blipFill>
        <p:spPr>
          <a:xfrm>
            <a:off x="30240" y="3730680"/>
            <a:ext cx="4066920" cy="309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8" name="Text Box 3"/>
          <p:cNvSpPr/>
          <p:nvPr/>
        </p:nvSpPr>
        <p:spPr>
          <a:xfrm>
            <a:off x="1042920" y="3500280"/>
            <a:ext cx="2735280" cy="9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191"/>
          <p:cNvPicPr/>
          <p:nvPr/>
        </p:nvPicPr>
        <p:blipFill>
          <a:blip r:embed="rId2"/>
          <a:stretch/>
        </p:blipFill>
        <p:spPr>
          <a:xfrm>
            <a:off x="6443640" y="0"/>
            <a:ext cx="2441520" cy="1986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195"/>
          <p:cNvPicPr/>
          <p:nvPr/>
        </p:nvPicPr>
        <p:blipFill>
          <a:blip r:embed="rId3"/>
          <a:stretch/>
        </p:blipFill>
        <p:spPr>
          <a:xfrm>
            <a:off x="6443640" y="1952640"/>
            <a:ext cx="24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163"/>
          <p:cNvPicPr/>
          <p:nvPr/>
        </p:nvPicPr>
        <p:blipFill>
          <a:blip r:embed="rId4"/>
          <a:stretch/>
        </p:blipFill>
        <p:spPr>
          <a:xfrm>
            <a:off x="3780000" y="-23760"/>
            <a:ext cx="2573280" cy="38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129"/>
          <p:cNvPicPr/>
          <p:nvPr/>
        </p:nvPicPr>
        <p:blipFill>
          <a:blip r:embed="rId5"/>
          <a:stretch/>
        </p:blipFill>
        <p:spPr>
          <a:xfrm>
            <a:off x="4140360" y="3909960"/>
            <a:ext cx="5003640" cy="294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646520" y="3213000"/>
            <a:ext cx="16542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果   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81080" y="2852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尝起来酸酸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1752480" y="808200"/>
            <a:ext cx="187956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幼圆"/>
              </a:rPr>
              <a:t>酸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sp>
        <p:nvSpPr>
          <p:cNvPr id="96" name="WordArt 11"/>
          <p:cNvSpPr txBox="1"/>
          <p:nvPr/>
        </p:nvSpPr>
        <p:spPr>
          <a:xfrm rot="5400000">
            <a:off x="-479160" y="992160"/>
            <a:ext cx="2520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生活中</a:t>
            </a:r>
            <a:endParaRPr b="0" i="1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45960" y="701640"/>
          <a:ext cx="8569440" cy="1965240"/>
        </p:xfrm>
        <a:graphic>
          <a:graphicData uri="http://schemas.openxmlformats.org/drawingml/2006/table">
            <a:tbl>
              <a:tblPr/>
              <a:tblGrid>
                <a:gridCol w="2414520"/>
                <a:gridCol w="2882880"/>
                <a:gridCol w="327204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盐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硫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敞口放置或一段时间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9"/>
          <p:cNvSpPr/>
          <p:nvPr/>
        </p:nvSpPr>
        <p:spPr>
          <a:xfrm>
            <a:off x="3394080" y="198108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挥发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6518160" y="1981080"/>
            <a:ext cx="21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吸水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317760" y="1371600"/>
            <a:ext cx="28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质量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6213600" y="13716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质量增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3357720"/>
          <a:ext cx="8642520" cy="2435040"/>
        </p:xfrm>
        <a:graphic>
          <a:graphicData uri="http://schemas.openxmlformats.org/drawingml/2006/table">
            <a:tbl>
              <a:tblPr/>
              <a:tblGrid>
                <a:gridCol w="1512720"/>
                <a:gridCol w="1729080"/>
                <a:gridCol w="1655640"/>
                <a:gridCol w="1728720"/>
                <a:gridCol w="2016360"/>
              </a:tblGrid>
              <a:tr h="1066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质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剂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液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质质量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浓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浓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49"/>
          <p:cNvSpPr/>
          <p:nvPr/>
        </p:nvSpPr>
        <p:spPr>
          <a:xfrm>
            <a:off x="1952640" y="44895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1882800" y="51354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1"/>
          <p:cNvSpPr/>
          <p:nvPr/>
        </p:nvSpPr>
        <p:spPr>
          <a:xfrm>
            <a:off x="5337000" y="4489560"/>
            <a:ext cx="15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7353360" y="448956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3610080" y="4489560"/>
            <a:ext cx="14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3681360" y="5135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7353360" y="505944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5311800" y="515952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685800" y="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红色字体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04920" y="685800"/>
          <a:ext cx="8640720" cy="4267080"/>
        </p:xfrm>
        <a:graphic>
          <a:graphicData uri="http://schemas.openxmlformats.org/drawingml/2006/table">
            <a:tbl>
              <a:tblPr/>
              <a:tblGrid>
                <a:gridCol w="1295280"/>
                <a:gridCol w="7345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         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盐  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要化工产品。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用于金属表面除锈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造药物（如盐酸麻黄素、氯化锌）等；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体胃液中有盐酸，可帮助消化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  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重要化工原料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用于生产化肥、农药、火药、染料以及冶炼金属、精炼石油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金属除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。 </a:t>
                      </a:r>
                      <a:r>
                        <a:rPr b="1" lang="zh-CN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浓硫酸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有吸水性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，在实验室中常用它做某些气体的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干燥剂（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H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等）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AutoShape 16"/>
          <p:cNvSpPr/>
          <p:nvPr/>
        </p:nvSpPr>
        <p:spPr>
          <a:xfrm>
            <a:off x="2340000" y="4149720"/>
            <a:ext cx="2736720" cy="503280"/>
          </a:xfrm>
          <a:custGeom>
            <a:avLst/>
            <a:gdLst>
              <a:gd name="textAreaLeft" fmla="*/ 32400 w 2736720"/>
              <a:gd name="textAreaRight" fmla="*/ 2704320 w 27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17387" h="21600">
                <a:moveTo>
                  <a:pt x="0" y="0"/>
                </a:moveTo>
                <a:lnTo>
                  <a:pt x="117387" y="0"/>
                </a:lnTo>
                <a:lnTo>
                  <a:pt x="117387" y="21600"/>
                </a:lnTo>
                <a:lnTo>
                  <a:pt x="0" y="21600"/>
                </a:lnTo>
                <a:close/>
              </a:path>
              <a:path fill="lightenLess" w="117387" h="21600">
                <a:moveTo>
                  <a:pt x="0" y="0"/>
                </a:moveTo>
                <a:lnTo>
                  <a:pt x="117387" y="0"/>
                </a:lnTo>
                <a:lnTo>
                  <a:pt x="115987" y="1400"/>
                </a:lnTo>
                <a:lnTo>
                  <a:pt x="1400" y="1400"/>
                </a:lnTo>
                <a:close/>
              </a:path>
              <a:path fill="darken" w="117387" h="21600">
                <a:moveTo>
                  <a:pt x="117387" y="0"/>
                </a:moveTo>
                <a:lnTo>
                  <a:pt x="117387" y="21600"/>
                </a:lnTo>
                <a:lnTo>
                  <a:pt x="115987" y="20200"/>
                </a:lnTo>
                <a:lnTo>
                  <a:pt x="115987" y="1400"/>
                </a:lnTo>
                <a:close/>
              </a:path>
              <a:path fill="darkenLess" w="117387" h="21600">
                <a:moveTo>
                  <a:pt x="117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987" y="20200"/>
                </a:lnTo>
                <a:close/>
              </a:path>
              <a:path fill="lighten" w="117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0" y="14400"/>
            <a:ext cx="4952880" cy="61164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常见酸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的用途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4"/>
          <p:cNvSpPr/>
          <p:nvPr/>
        </p:nvSpPr>
        <p:spPr>
          <a:xfrm>
            <a:off x="1143000" y="5029200"/>
            <a:ext cx="8763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：①碱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性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0" y="620712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7467480" y="5943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氯化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5334120"/>
            <a:ext cx="360" cy="838080"/>
            <a:chOff x="533520" y="5334120"/>
            <a:chExt cx="360" cy="838080"/>
          </a:xfrm>
        </p:grpSpPr>
        <p:sp>
          <p:nvSpPr>
            <p:cNvPr id="280" name="Line 21"/>
            <p:cNvSpPr/>
            <p:nvPr/>
          </p:nvSpPr>
          <p:spPr>
            <a:xfrm>
              <a:off x="533520" y="53341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33520" y="5334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3520" y="5334120"/>
            <a:ext cx="609480" cy="360"/>
            <a:chOff x="533520" y="5334120"/>
            <a:chExt cx="609480" cy="360"/>
          </a:xfrm>
        </p:grpSpPr>
        <p:sp>
          <p:nvSpPr>
            <p:cNvPr id="283" name="Line 22"/>
            <p:cNvSpPr/>
            <p:nvPr/>
          </p:nvSpPr>
          <p:spPr>
            <a:xfrm>
              <a:off x="533520" y="5334120"/>
              <a:ext cx="609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33520" y="5334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3"/>
          <p:cNvSpPr/>
          <p:nvPr/>
        </p:nvSpPr>
        <p:spPr>
          <a:xfrm>
            <a:off x="5638680" y="1981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除水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289548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除水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6320" y="7632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浓硫酸的特性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88840" y="1541520"/>
            <a:ext cx="57610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（做干燥剂： 干燥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H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C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S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等不能干燥</a:t>
            </a:r>
            <a:r>
              <a:rPr b="1" lang="zh-CN" sz="30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NH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Arial Unicode MS"/>
                <a:ea typeface="Arial Unicode MS"/>
              </a:rPr>
              <a:t>3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987640" y="393372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（脱水性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39640" y="3933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腐蚀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7200" y="836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吸水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6516720" y="620640"/>
            <a:ext cx="2060640" cy="24480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8"/>
          <p:cNvSpPr/>
          <p:nvPr/>
        </p:nvSpPr>
        <p:spPr>
          <a:xfrm>
            <a:off x="5334120" y="990720"/>
            <a:ext cx="1320840" cy="152280"/>
          </a:xfrm>
          <a:prstGeom prst="rightArrow">
            <a:avLst>
              <a:gd name="adj1" fmla="val 50000"/>
              <a:gd name="adj2" fmla="val 216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833560" y="836640"/>
            <a:ext cx="318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物理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859280" y="3933720"/>
            <a:ext cx="321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化学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5413320" y="457200"/>
            <a:ext cx="159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气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80880" y="685800"/>
            <a:ext cx="849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浓硫酸具有吸水性，常用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干燥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1"/>
          <p:cNvPicPr/>
          <p:nvPr/>
        </p:nvPicPr>
        <p:blipFill>
          <a:blip r:embed="rId1"/>
          <a:stretch/>
        </p:blipFill>
        <p:spPr>
          <a:xfrm>
            <a:off x="304920" y="1981080"/>
            <a:ext cx="2701800" cy="324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5486400" cy="334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5105520" y="3276720"/>
            <a:ext cx="1143000" cy="1981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152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浓硫酸的吸水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114800" y="15228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物理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6019920" y="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实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0-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8000" y="609480"/>
          <a:ext cx="9109080" cy="3660840"/>
        </p:xfrm>
        <a:graphic>
          <a:graphicData uri="http://schemas.openxmlformats.org/drawingml/2006/table">
            <a:tbl>
              <a:tblPr/>
              <a:tblGrid>
                <a:gridCol w="2700360"/>
                <a:gridCol w="3456000"/>
                <a:gridCol w="2952720"/>
              </a:tblGrid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     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置一会儿后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   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8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玻璃棒蘸浓硫酸在纸上写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木棍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少量浓硫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浓硫酸滴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小块布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23"/>
          <p:cNvSpPr/>
          <p:nvPr/>
        </p:nvSpPr>
        <p:spPr>
          <a:xfrm>
            <a:off x="2948040" y="152388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纸上显出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黑色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字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4"/>
          <p:cNvSpPr/>
          <p:nvPr/>
        </p:nvSpPr>
        <p:spPr>
          <a:xfrm>
            <a:off x="2700360" y="2590920"/>
            <a:ext cx="42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蘸有硫酸的部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2700360" y="325764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滴有硫酸的部位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变黑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甚至烧成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6227640" y="1447920"/>
            <a:ext cx="2916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浓硫酸能夺取含碳、氢、氧等元素组成的化合物里的水分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氢、氧元素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),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成黑色的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7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816280" cy="17510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8"/>
          <p:cNvSpPr/>
          <p:nvPr/>
        </p:nvSpPr>
        <p:spPr>
          <a:xfrm>
            <a:off x="-227160" y="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浓硫酸的腐蚀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9" descr="1"/>
          <p:cNvPicPr/>
          <p:nvPr/>
        </p:nvPicPr>
        <p:blipFill>
          <a:blip r:embed="rId2"/>
          <a:stretch/>
        </p:blipFill>
        <p:spPr>
          <a:xfrm>
            <a:off x="152280" y="4572000"/>
            <a:ext cx="3048120" cy="1757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0" descr="3"/>
          <p:cNvPicPr/>
          <p:nvPr/>
        </p:nvPicPr>
        <p:blipFill>
          <a:blip r:embed="rId3"/>
          <a:stretch/>
        </p:blipFill>
        <p:spPr>
          <a:xfrm>
            <a:off x="6400800" y="4419720"/>
            <a:ext cx="2666880" cy="1879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1"/>
          <p:cNvSpPr/>
          <p:nvPr/>
        </p:nvSpPr>
        <p:spPr>
          <a:xfrm>
            <a:off x="3581280" y="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化学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01_30_W"/>
          <p:cNvPicPr/>
          <p:nvPr/>
        </p:nvPicPr>
        <p:blipFill>
          <a:blip r:embed="rId1"/>
          <a:stretch/>
        </p:blipFill>
        <p:spPr>
          <a:xfrm>
            <a:off x="228600" y="228600"/>
            <a:ext cx="885960" cy="936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635280" y="333360"/>
            <a:ext cx="504036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稀释浓硫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295280" y="228600"/>
            <a:ext cx="216072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实验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10-4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17" name="稀释浓硫酸.mpg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792180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浓硫酸的稀释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易错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5715000" y="990720"/>
            <a:ext cx="3276720" cy="441936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419360"/>
              <a:gd name="textAreaBottom" fmla="*/ 4259520 h 4419360"/>
            </a:gdLst>
            <a:ahLst/>
            <a:rect l="textAreaLeft" t="textAreaTop" r="textAreaRight" b="textAreaBottom"/>
            <a:pathLst>
              <a:path w="21600" h="29131">
                <a:moveTo>
                  <a:pt x="3600" y="0"/>
                </a:moveTo>
                <a:arcTo wR="3600" hR="3600" stAng="16200000" swAng="-5400000"/>
                <a:lnTo>
                  <a:pt x="0" y="25531"/>
                </a:lnTo>
                <a:arcTo wR="3600" hR="3600" stAng="10800000" swAng="-5400000"/>
                <a:lnTo>
                  <a:pt x="18000" y="29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2844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稀释浓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时，一定要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浓硫酸沿器壁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慢注入水里，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断搅拌。切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将水倒入浓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553080" y="1143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1"/>
          <p:cNvPicPr/>
          <p:nvPr/>
        </p:nvPicPr>
        <p:blipFill>
          <a:blip r:embed="rId1"/>
          <a:stretch/>
        </p:blipFill>
        <p:spPr>
          <a:xfrm>
            <a:off x="5791320" y="1143000"/>
            <a:ext cx="750600" cy="108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稀释浓硫酸的方法2"/>
          <p:cNvPicPr/>
          <p:nvPr/>
        </p:nvPicPr>
        <p:blipFill>
          <a:blip r:embed="rId2"/>
          <a:stretch/>
        </p:blipFill>
        <p:spPr>
          <a:xfrm>
            <a:off x="152280" y="1447920"/>
            <a:ext cx="532764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t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990720" y="30492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419720" y="0"/>
            <a:ext cx="4495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慎将浓硫酸沾到皮肤或衣服上，应怎样处理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267080" y="1752480"/>
            <a:ext cx="457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立即用大量水冲洗，然后涂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碳酸氢钠溶液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267080" y="3733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习教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5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完成《金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主题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82480" y="7632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酸的化学性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2"/>
          <p:cNvPicPr/>
          <p:nvPr/>
        </p:nvPicPr>
        <p:blipFill>
          <a:blip r:embed="rId1"/>
          <a:stretch/>
        </p:blipFill>
        <p:spPr>
          <a:xfrm>
            <a:off x="179280" y="685800"/>
            <a:ext cx="538200" cy="4460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684360" y="6858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469040" y="685800"/>
            <a:ext cx="10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在试管中进行实验，并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酸对指示剂的作用 (2).wmv" descr=""/>
          <p:cNvPicPr/>
          <p:nvPr/>
        </p:nvPicPr>
        <p:blipFill>
          <a:blip r:embed="rId2"/>
          <a:stretch/>
        </p:blipFill>
        <p:spPr>
          <a:xfrm>
            <a:off x="0" y="3252960"/>
            <a:ext cx="3429000" cy="33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76320" y="1295280"/>
          <a:ext cx="8964360" cy="1844640"/>
        </p:xfrm>
        <a:graphic>
          <a:graphicData uri="http://schemas.openxmlformats.org/drawingml/2006/table">
            <a:tbl>
              <a:tblPr/>
              <a:tblGrid>
                <a:gridCol w="1676160"/>
                <a:gridCol w="3733560"/>
                <a:gridCol w="3554640"/>
              </a:tblGrid>
              <a:tr h="606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滴加紫色石蕊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滴加无色酚酞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Text Box 25"/>
          <p:cNvSpPr/>
          <p:nvPr/>
        </p:nvSpPr>
        <p:spPr>
          <a:xfrm>
            <a:off x="3048120" y="2494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48120" y="1919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6373800" y="19191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6357960" y="2490840"/>
            <a:ext cx="36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pic_21882"/>
          <p:cNvPicPr/>
          <p:nvPr/>
        </p:nvPicPr>
        <p:blipFill>
          <a:blip r:embed="rId3"/>
          <a:stretch/>
        </p:blipFill>
        <p:spPr>
          <a:xfrm>
            <a:off x="3429000" y="32004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339" name="Oval 30"/>
          <p:cNvSpPr/>
          <p:nvPr/>
        </p:nvSpPr>
        <p:spPr>
          <a:xfrm>
            <a:off x="6705720" y="5105520"/>
            <a:ext cx="4572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5562720" y="6019920"/>
            <a:ext cx="53316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17360" y="763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回忆第八单元所学的几种金属分别与稀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稀硫酸的反应，写出化学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2920" y="1219320"/>
          <a:ext cx="9001080" cy="2382840"/>
        </p:xfrm>
        <a:graphic>
          <a:graphicData uri="http://schemas.openxmlformats.org/drawingml/2006/table">
            <a:tbl>
              <a:tblPr/>
              <a:tblGrid>
                <a:gridCol w="849240"/>
                <a:gridCol w="3938760"/>
                <a:gridCol w="4213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稀盐酸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稀硫酸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25"/>
          <p:cNvSpPr/>
          <p:nvPr/>
        </p:nvSpPr>
        <p:spPr>
          <a:xfrm>
            <a:off x="1158840" y="1698480"/>
            <a:ext cx="4856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1130400" y="2346480"/>
            <a:ext cx="4808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1130400" y="2976480"/>
            <a:ext cx="48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FeCl</a:t>
            </a:r>
            <a:r>
              <a:rPr b="1" lang="zh-CN" sz="3200" spc="-1" strike="noStrike" baseline="-10000">
                <a:solidFill>
                  <a:srgbClr val="66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172120" y="1771560"/>
            <a:ext cx="49435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5156280" y="2346480"/>
            <a:ext cx="513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ZnSO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5156280" y="2976480"/>
            <a:ext cx="4849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333399"/>
                </a:solidFill>
                <a:latin typeface="宋体"/>
              </a:rPr>
              <a:t>FeSO</a:t>
            </a:r>
            <a:r>
              <a:rPr b="1" lang="pt-BR" sz="3200" spc="-1" strike="noStrike" baseline="-10000">
                <a:solidFill>
                  <a:srgbClr val="333399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304920" y="4800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物的共同点？各反应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2"/>
          <p:cNvSpPr/>
          <p:nvPr/>
        </p:nvSpPr>
        <p:spPr>
          <a:xfrm>
            <a:off x="990720" y="54100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氢气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339840" y="373392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酸反应的快慢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1523880" y="42908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g&gt;Zn&gt;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657600" y="2819520"/>
            <a:ext cx="1295280" cy="2819160"/>
            <a:chOff x="3657600" y="2819520"/>
            <a:chExt cx="1295280" cy="2819160"/>
          </a:xfrm>
        </p:grpSpPr>
        <p:sp>
          <p:nvSpPr>
            <p:cNvPr id="354" name="Line 35"/>
            <p:cNvSpPr/>
            <p:nvPr/>
          </p:nvSpPr>
          <p:spPr>
            <a:xfrm>
              <a:off x="3657600" y="2819520"/>
              <a:ext cx="1295280" cy="28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57600" y="2819520"/>
              <a:ext cx="129528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2133720"/>
            <a:ext cx="838080" cy="3657600"/>
            <a:chOff x="4191120" y="2133720"/>
            <a:chExt cx="838080" cy="3657600"/>
          </a:xfrm>
        </p:grpSpPr>
        <p:sp>
          <p:nvSpPr>
            <p:cNvPr id="357" name="Line 36"/>
            <p:cNvSpPr/>
            <p:nvPr/>
          </p:nvSpPr>
          <p:spPr>
            <a:xfrm>
              <a:off x="4191120" y="2133720"/>
              <a:ext cx="838080" cy="3657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4191120" y="2133720"/>
              <a:ext cx="8380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028840" y="2209680"/>
            <a:ext cx="686160" cy="3581640"/>
            <a:chOff x="5028840" y="2209680"/>
            <a:chExt cx="686160" cy="3581640"/>
          </a:xfrm>
        </p:grpSpPr>
        <p:sp>
          <p:nvSpPr>
            <p:cNvPr id="360" name="Line 37"/>
            <p:cNvSpPr/>
            <p:nvPr/>
          </p:nvSpPr>
          <p:spPr>
            <a:xfrm flipH="1">
              <a:off x="5028840" y="2209680"/>
              <a:ext cx="685800" cy="358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5029200" y="2209680"/>
              <a:ext cx="685800" cy="358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028840" y="2666880"/>
            <a:ext cx="152640" cy="3048120"/>
            <a:chOff x="5028840" y="2666880"/>
            <a:chExt cx="152640" cy="3048120"/>
          </a:xfrm>
        </p:grpSpPr>
        <p:sp>
          <p:nvSpPr>
            <p:cNvPr id="363" name="Line 38"/>
            <p:cNvSpPr/>
            <p:nvPr/>
          </p:nvSpPr>
          <p:spPr>
            <a:xfrm flipH="1">
              <a:off x="5028840" y="2666880"/>
              <a:ext cx="152280" cy="3048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029200" y="2666880"/>
              <a:ext cx="15228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39"/>
          <p:cNvSpPr/>
          <p:nvPr/>
        </p:nvSpPr>
        <p:spPr>
          <a:xfrm>
            <a:off x="403848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逐渐溶解、有气泡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0"/>
          <p:cNvSpPr/>
          <p:nvPr/>
        </p:nvSpPr>
        <p:spPr>
          <a:xfrm>
            <a:off x="4191120" y="6126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溶液由无色变为浅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750960"/>
            <a:ext cx="8534520" cy="2043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胃液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汽车电瓶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醋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酸雨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1030633"/>
          <p:cNvPicPr/>
          <p:nvPr/>
        </p:nvPicPr>
        <p:blipFill>
          <a:blip r:embed="rId1"/>
          <a:stretch/>
        </p:blipFill>
        <p:spPr>
          <a:xfrm>
            <a:off x="0" y="3089160"/>
            <a:ext cx="5029200" cy="376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1030636"/>
          <p:cNvPicPr/>
          <p:nvPr/>
        </p:nvPicPr>
        <p:blipFill>
          <a:blip r:embed="rId2"/>
          <a:stretch/>
        </p:blipFill>
        <p:spPr>
          <a:xfrm>
            <a:off x="5029200" y="3124080"/>
            <a:ext cx="4114800" cy="373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649840" y="76212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568840" y="1249200"/>
            <a:ext cx="31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705200" y="175248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醋酸，也叫乙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64832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硫酸，也可能含有硝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76320" y="109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2743200" y="685800"/>
            <a:ext cx="5791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  +  2HCl        MgCl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457840" y="762120"/>
            <a:ext cx="360" cy="380880"/>
            <a:chOff x="8457840" y="762120"/>
            <a:chExt cx="360" cy="380880"/>
          </a:xfrm>
        </p:grpSpPr>
        <p:sp>
          <p:nvSpPr>
            <p:cNvPr id="370" name="Line 4"/>
            <p:cNvSpPr/>
            <p:nvPr/>
          </p:nvSpPr>
          <p:spPr>
            <a:xfrm flipV="1">
              <a:off x="8458200" y="76212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 rot="10800000">
              <a:off x="8457840" y="762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57800" y="914400"/>
            <a:ext cx="457200" cy="360"/>
            <a:chOff x="5257800" y="914400"/>
            <a:chExt cx="457200" cy="360"/>
          </a:xfrm>
        </p:grpSpPr>
        <p:sp>
          <p:nvSpPr>
            <p:cNvPr id="373" name="Line 5"/>
            <p:cNvSpPr/>
            <p:nvPr/>
          </p:nvSpPr>
          <p:spPr>
            <a:xfrm>
              <a:off x="5257800" y="91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257800" y="914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257800" y="990720"/>
            <a:ext cx="457200" cy="360"/>
            <a:chOff x="5257800" y="990720"/>
            <a:chExt cx="457200" cy="360"/>
          </a:xfrm>
        </p:grpSpPr>
        <p:sp>
          <p:nvSpPr>
            <p:cNvPr id="376" name="Line 6"/>
            <p:cNvSpPr/>
            <p:nvPr/>
          </p:nvSpPr>
          <p:spPr>
            <a:xfrm>
              <a:off x="5257800" y="990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5257800" y="990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990720" y="1066680"/>
            <a:ext cx="360" cy="762120"/>
            <a:chOff x="990720" y="1066680"/>
            <a:chExt cx="360" cy="762120"/>
          </a:xfrm>
        </p:grpSpPr>
        <p:sp>
          <p:nvSpPr>
            <p:cNvPr id="379" name="Line 7"/>
            <p:cNvSpPr/>
            <p:nvPr/>
          </p:nvSpPr>
          <p:spPr>
            <a:xfrm>
              <a:off x="990720" y="10666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990720" y="10666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990720" y="1066680"/>
            <a:ext cx="1752480" cy="360"/>
            <a:chOff x="990720" y="1066680"/>
            <a:chExt cx="1752480" cy="360"/>
          </a:xfrm>
        </p:grpSpPr>
        <p:sp>
          <p:nvSpPr>
            <p:cNvPr id="382" name="Line 8"/>
            <p:cNvSpPr/>
            <p:nvPr/>
          </p:nvSpPr>
          <p:spPr>
            <a:xfrm>
              <a:off x="990720" y="106668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990720" y="10666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990720" y="1828800"/>
            <a:ext cx="1752480" cy="360"/>
            <a:chOff x="990720" y="1828800"/>
            <a:chExt cx="1752480" cy="360"/>
          </a:xfrm>
        </p:grpSpPr>
        <p:sp>
          <p:nvSpPr>
            <p:cNvPr id="385" name="Line 9"/>
            <p:cNvSpPr/>
            <p:nvPr/>
          </p:nvSpPr>
          <p:spPr>
            <a:xfrm>
              <a:off x="990720" y="18288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990720" y="18288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0"/>
          <p:cNvSpPr/>
          <p:nvPr/>
        </p:nvSpPr>
        <p:spPr>
          <a:xfrm>
            <a:off x="1371600" y="533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1219320" y="121932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743200" y="144792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Mg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686440" y="1569600"/>
            <a:ext cx="360" cy="381240"/>
            <a:chOff x="8686440" y="1569600"/>
            <a:chExt cx="360" cy="381240"/>
          </a:xfrm>
        </p:grpSpPr>
        <p:sp>
          <p:nvSpPr>
            <p:cNvPr id="391" name="Line 13"/>
            <p:cNvSpPr/>
            <p:nvPr/>
          </p:nvSpPr>
          <p:spPr>
            <a:xfrm flipV="1">
              <a:off x="8686800" y="156960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 rot="10800000">
              <a:off x="8686440" y="156960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410080" y="1722600"/>
            <a:ext cx="457200" cy="360"/>
            <a:chOff x="5410080" y="1722600"/>
            <a:chExt cx="457200" cy="360"/>
          </a:xfrm>
        </p:grpSpPr>
        <p:sp>
          <p:nvSpPr>
            <p:cNvPr id="394" name="Line 14"/>
            <p:cNvSpPr/>
            <p:nvPr/>
          </p:nvSpPr>
          <p:spPr>
            <a:xfrm>
              <a:off x="5410080" y="1722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5410080" y="1722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410080" y="1798560"/>
            <a:ext cx="457200" cy="360"/>
            <a:chOff x="5410080" y="1798560"/>
            <a:chExt cx="457200" cy="360"/>
          </a:xfrm>
        </p:grpSpPr>
        <p:sp>
          <p:nvSpPr>
            <p:cNvPr id="397" name="Line 15"/>
            <p:cNvSpPr/>
            <p:nvPr/>
          </p:nvSpPr>
          <p:spPr>
            <a:xfrm>
              <a:off x="5410080" y="1798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410080" y="17985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6"/>
          <p:cNvSpPr/>
          <p:nvPr/>
        </p:nvSpPr>
        <p:spPr>
          <a:xfrm>
            <a:off x="76320" y="2697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2666880"/>
            <a:ext cx="360" cy="762120"/>
            <a:chOff x="990720" y="2666880"/>
            <a:chExt cx="360" cy="762120"/>
          </a:xfrm>
        </p:grpSpPr>
        <p:sp>
          <p:nvSpPr>
            <p:cNvPr id="401" name="Line 17"/>
            <p:cNvSpPr/>
            <p:nvPr/>
          </p:nvSpPr>
          <p:spPr>
            <a:xfrm>
              <a:off x="990720" y="26668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990720" y="26668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90720" y="2666880"/>
            <a:ext cx="1752480" cy="360"/>
            <a:chOff x="990720" y="2666880"/>
            <a:chExt cx="1752480" cy="360"/>
          </a:xfrm>
        </p:grpSpPr>
        <p:sp>
          <p:nvSpPr>
            <p:cNvPr id="404" name="Line 18"/>
            <p:cNvSpPr/>
            <p:nvPr/>
          </p:nvSpPr>
          <p:spPr>
            <a:xfrm>
              <a:off x="990720" y="266688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990720" y="26668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990720" y="3429000"/>
            <a:ext cx="1752480" cy="360"/>
            <a:chOff x="990720" y="3429000"/>
            <a:chExt cx="1752480" cy="360"/>
          </a:xfrm>
        </p:grpSpPr>
        <p:sp>
          <p:nvSpPr>
            <p:cNvPr id="407" name="Line 19"/>
            <p:cNvSpPr/>
            <p:nvPr/>
          </p:nvSpPr>
          <p:spPr>
            <a:xfrm>
              <a:off x="990720" y="34290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990720" y="34290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0"/>
          <p:cNvSpPr/>
          <p:nvPr/>
        </p:nvSpPr>
        <p:spPr>
          <a:xfrm>
            <a:off x="1371600" y="2163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1219320" y="284940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2743200" y="2362320"/>
            <a:ext cx="5791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  +  2HCl        ZnCl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312408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Zn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181480" y="2590920"/>
            <a:ext cx="457200" cy="360"/>
            <a:chOff x="5181480" y="2590920"/>
            <a:chExt cx="457200" cy="360"/>
          </a:xfrm>
        </p:grpSpPr>
        <p:sp>
          <p:nvSpPr>
            <p:cNvPr id="414" name="Line 24"/>
            <p:cNvSpPr/>
            <p:nvPr/>
          </p:nvSpPr>
          <p:spPr>
            <a:xfrm>
              <a:off x="5181480" y="2590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5181480" y="2590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181480" y="2666880"/>
            <a:ext cx="457200" cy="360"/>
            <a:chOff x="5181480" y="2666880"/>
            <a:chExt cx="457200" cy="360"/>
          </a:xfrm>
        </p:grpSpPr>
        <p:sp>
          <p:nvSpPr>
            <p:cNvPr id="417" name="Line 25"/>
            <p:cNvSpPr/>
            <p:nvPr/>
          </p:nvSpPr>
          <p:spPr>
            <a:xfrm>
              <a:off x="51814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5181480" y="26668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334120" y="3352680"/>
            <a:ext cx="457200" cy="360"/>
            <a:chOff x="5334120" y="3352680"/>
            <a:chExt cx="457200" cy="360"/>
          </a:xfrm>
        </p:grpSpPr>
        <p:sp>
          <p:nvSpPr>
            <p:cNvPr id="420" name="Line 26"/>
            <p:cNvSpPr/>
            <p:nvPr/>
          </p:nvSpPr>
          <p:spPr>
            <a:xfrm>
              <a:off x="5334120" y="3352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334120" y="33526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34120" y="3429000"/>
            <a:ext cx="457200" cy="360"/>
            <a:chOff x="5334120" y="3429000"/>
            <a:chExt cx="457200" cy="360"/>
          </a:xfrm>
        </p:grpSpPr>
        <p:sp>
          <p:nvSpPr>
            <p:cNvPr id="423" name="Line 27"/>
            <p:cNvSpPr/>
            <p:nvPr/>
          </p:nvSpPr>
          <p:spPr>
            <a:xfrm>
              <a:off x="533412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5334120" y="3429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229240" y="2437920"/>
            <a:ext cx="360" cy="381240"/>
            <a:chOff x="8229240" y="2437920"/>
            <a:chExt cx="360" cy="381240"/>
          </a:xfrm>
        </p:grpSpPr>
        <p:sp>
          <p:nvSpPr>
            <p:cNvPr id="426" name="Line 28"/>
            <p:cNvSpPr/>
            <p:nvPr/>
          </p:nvSpPr>
          <p:spPr>
            <a:xfrm flipV="1">
              <a:off x="8229600" y="243792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 rot="10800000">
              <a:off x="8229240" y="24379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457840" y="3200400"/>
            <a:ext cx="360" cy="380880"/>
            <a:chOff x="8457840" y="3200400"/>
            <a:chExt cx="360" cy="380880"/>
          </a:xfrm>
        </p:grpSpPr>
        <p:sp>
          <p:nvSpPr>
            <p:cNvPr id="429" name="Line 29"/>
            <p:cNvSpPr/>
            <p:nvPr/>
          </p:nvSpPr>
          <p:spPr>
            <a:xfrm flipV="1">
              <a:off x="8458200" y="320040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8457840" y="32004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30"/>
          <p:cNvSpPr/>
          <p:nvPr/>
        </p:nvSpPr>
        <p:spPr>
          <a:xfrm>
            <a:off x="76320" y="4373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4343400"/>
            <a:ext cx="360" cy="762120"/>
            <a:chOff x="990720" y="4343400"/>
            <a:chExt cx="360" cy="762120"/>
          </a:xfrm>
        </p:grpSpPr>
        <p:sp>
          <p:nvSpPr>
            <p:cNvPr id="433" name="Line 31"/>
            <p:cNvSpPr/>
            <p:nvPr/>
          </p:nvSpPr>
          <p:spPr>
            <a:xfrm>
              <a:off x="990720" y="43434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990720" y="43434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990720" y="4343400"/>
            <a:ext cx="1752480" cy="360"/>
            <a:chOff x="990720" y="4343400"/>
            <a:chExt cx="1752480" cy="360"/>
          </a:xfrm>
        </p:grpSpPr>
        <p:sp>
          <p:nvSpPr>
            <p:cNvPr id="436" name="Line 32"/>
            <p:cNvSpPr/>
            <p:nvPr/>
          </p:nvSpPr>
          <p:spPr>
            <a:xfrm>
              <a:off x="990720" y="43434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990720" y="43434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990720" y="5105520"/>
            <a:ext cx="1752480" cy="360"/>
            <a:chOff x="990720" y="5105520"/>
            <a:chExt cx="1752480" cy="360"/>
          </a:xfrm>
        </p:grpSpPr>
        <p:sp>
          <p:nvSpPr>
            <p:cNvPr id="439" name="Line 33"/>
            <p:cNvSpPr/>
            <p:nvPr/>
          </p:nvSpPr>
          <p:spPr>
            <a:xfrm>
              <a:off x="990720" y="510552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990720" y="510552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34"/>
          <p:cNvSpPr/>
          <p:nvPr/>
        </p:nvSpPr>
        <p:spPr>
          <a:xfrm>
            <a:off x="1371600" y="3840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1219320" y="452592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2819520" y="4068720"/>
            <a:ext cx="57909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  +  2HCl        FeCl</a:t>
            </a:r>
            <a:r>
              <a:rPr b="1" lang="zh-CN" sz="34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7"/>
          <p:cNvSpPr/>
          <p:nvPr/>
        </p:nvSpPr>
        <p:spPr>
          <a:xfrm>
            <a:off x="2819520" y="483084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e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257800" y="4343400"/>
            <a:ext cx="457200" cy="360"/>
            <a:chOff x="5257800" y="4343400"/>
            <a:chExt cx="457200" cy="360"/>
          </a:xfrm>
        </p:grpSpPr>
        <p:sp>
          <p:nvSpPr>
            <p:cNvPr id="446" name="Line 38"/>
            <p:cNvSpPr/>
            <p:nvPr/>
          </p:nvSpPr>
          <p:spPr>
            <a:xfrm>
              <a:off x="525780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5257800" y="4343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57800" y="4419720"/>
            <a:ext cx="457200" cy="360"/>
            <a:chOff x="5257800" y="4419720"/>
            <a:chExt cx="457200" cy="360"/>
          </a:xfrm>
        </p:grpSpPr>
        <p:sp>
          <p:nvSpPr>
            <p:cNvPr id="449" name="Line 39"/>
            <p:cNvSpPr/>
            <p:nvPr/>
          </p:nvSpPr>
          <p:spPr>
            <a:xfrm>
              <a:off x="525780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5257800" y="4419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410080" y="5105520"/>
            <a:ext cx="457200" cy="360"/>
            <a:chOff x="5410080" y="5105520"/>
            <a:chExt cx="457200" cy="360"/>
          </a:xfrm>
        </p:grpSpPr>
        <p:sp>
          <p:nvSpPr>
            <p:cNvPr id="452" name="Line 40"/>
            <p:cNvSpPr/>
            <p:nvPr/>
          </p:nvSpPr>
          <p:spPr>
            <a:xfrm>
              <a:off x="541008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5410080" y="51055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410080" y="5181480"/>
            <a:ext cx="457200" cy="360"/>
            <a:chOff x="5410080" y="5181480"/>
            <a:chExt cx="457200" cy="360"/>
          </a:xfrm>
        </p:grpSpPr>
        <p:sp>
          <p:nvSpPr>
            <p:cNvPr id="455" name="Line 41"/>
            <p:cNvSpPr/>
            <p:nvPr/>
          </p:nvSpPr>
          <p:spPr>
            <a:xfrm>
              <a:off x="5410080" y="5181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410080" y="5181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29240" y="4191120"/>
            <a:ext cx="360" cy="380880"/>
            <a:chOff x="8229240" y="4191120"/>
            <a:chExt cx="360" cy="380880"/>
          </a:xfrm>
        </p:grpSpPr>
        <p:sp>
          <p:nvSpPr>
            <p:cNvPr id="458" name="Line 42"/>
            <p:cNvSpPr/>
            <p:nvPr/>
          </p:nvSpPr>
          <p:spPr>
            <a:xfrm flipV="1">
              <a:off x="8229600" y="419112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 rot="10800000">
              <a:off x="8229240" y="4191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534160" y="4952520"/>
            <a:ext cx="360" cy="381240"/>
            <a:chOff x="8534160" y="4952520"/>
            <a:chExt cx="360" cy="381240"/>
          </a:xfrm>
        </p:grpSpPr>
        <p:sp>
          <p:nvSpPr>
            <p:cNvPr id="461" name="Line 43"/>
            <p:cNvSpPr/>
            <p:nvPr/>
          </p:nvSpPr>
          <p:spPr>
            <a:xfrm flipV="1">
              <a:off x="8534520" y="495252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 rot="10800000">
              <a:off x="8534160" y="49525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文本框 8196"/>
          <p:cNvSpPr/>
          <p:nvPr/>
        </p:nvSpPr>
        <p:spPr>
          <a:xfrm>
            <a:off x="990720" y="5783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44360" y="152280"/>
            <a:ext cx="882036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在盛有稀盐酸和稀硫酸的试管里分别放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根生锈（铁锈的主要成分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铁钉，过一会取出，用水洗净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铁钉表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溶液颜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稀盐酸、稀硫酸除铁锈.wmv" descr=""/>
          <p:cNvPicPr/>
          <p:nvPr/>
        </p:nvPicPr>
        <p:blipFill>
          <a:blip r:embed="rId1"/>
          <a:stretch/>
        </p:blipFill>
        <p:spPr>
          <a:xfrm>
            <a:off x="1908000" y="2048040"/>
            <a:ext cx="5472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250920" y="255600"/>
          <a:ext cx="8740800" cy="2011320"/>
        </p:xfrm>
        <a:graphic>
          <a:graphicData uri="http://schemas.openxmlformats.org/drawingml/2006/table">
            <a:tbl>
              <a:tblPr/>
              <a:tblGrid>
                <a:gridCol w="2722680"/>
                <a:gridCol w="60181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方程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6HCl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FeCl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SO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289080" y="2590920"/>
          <a:ext cx="8604000" cy="2908080"/>
        </p:xfrm>
        <a:graphic>
          <a:graphicData uri="http://schemas.openxmlformats.org/drawingml/2006/table">
            <a:tbl>
              <a:tblPr/>
              <a:tblGrid>
                <a:gridCol w="2663640"/>
                <a:gridCol w="594036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    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0"/>
          <p:cNvSpPr/>
          <p:nvPr/>
        </p:nvSpPr>
        <p:spPr>
          <a:xfrm>
            <a:off x="4256280" y="320184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铁锈被除去，铁钉的表面变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光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溶液由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无色变成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4272120" y="435456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铁锈被除去，铁钉的表面变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光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溶液由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无色变成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695880" y="3429000"/>
            <a:ext cx="18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铁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稀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695880" y="4572000"/>
            <a:ext cx="18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铁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稀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2"/>
          <p:cNvSpPr/>
          <p:nvPr/>
        </p:nvSpPr>
        <p:spPr>
          <a:xfrm>
            <a:off x="0" y="76320"/>
            <a:ext cx="1873080" cy="44928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152280" y="243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面反应的生成物有什么共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696680" y="3597120"/>
            <a:ext cx="52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用上面的反应可以清除铁制品表面的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锈时能否长时间浸在酸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80880" y="609480"/>
          <a:ext cx="8229600" cy="1738440"/>
        </p:xfrm>
        <a:graphic>
          <a:graphicData uri="http://schemas.openxmlformats.org/drawingml/2006/table">
            <a:tbl>
              <a:tblPr/>
              <a:tblGrid>
                <a:gridCol w="2563920"/>
                <a:gridCol w="56656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方程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cfe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cfe"/>
                    </a:solidFill>
                  </a:tcPr>
                </a:tc>
              </a:tr>
            </a:tbl>
          </a:graphicData>
        </a:graphic>
      </p:graphicFrame>
      <p:sp>
        <p:nvSpPr>
          <p:cNvPr id="476" name="Text Box 19"/>
          <p:cNvSpPr/>
          <p:nvPr/>
        </p:nvSpPr>
        <p:spPr>
          <a:xfrm>
            <a:off x="6019920" y="99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5715000" y="15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2282040" y="2971800"/>
            <a:ext cx="22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都生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价的铁盐和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04920" y="4648320"/>
            <a:ext cx="88390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不能；当铁钉表面的铁锈被清除完，酸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铁发生反应。如盐酸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2HCl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6629400" y="48308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5257800" y="4114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金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作解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3505320" y="1219320"/>
            <a:ext cx="525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6HC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2FeCl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3124080" y="175248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(SO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721880" y="561960"/>
            <a:ext cx="57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根据以上实验和讨论，试归纳出盐酸、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酸有哪些相似的化学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901160" y="1811160"/>
            <a:ext cx="551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使酸碱指示剂显示不同的颜色：紫色的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蕊溶液遇酸液变红，无色酚酞溶液遇酸液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与多种活泼金属反应，生成盐和氢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与某些金属氧化物反应，生成盐和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533520" y="51055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见《金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P3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左上角“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酸的化学性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金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0" y="6094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一定质量的稀盐酸中，加入足量的表面已经生锈的铁片，产生氢气的质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图像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09120" y="2666520"/>
            <a:ext cx="360" cy="1676520"/>
            <a:chOff x="609120" y="2666520"/>
            <a:chExt cx="360" cy="1676520"/>
          </a:xfrm>
        </p:grpSpPr>
        <p:sp>
          <p:nvSpPr>
            <p:cNvPr id="490" name="Line 4"/>
            <p:cNvSpPr/>
            <p:nvPr/>
          </p:nvSpPr>
          <p:spPr>
            <a:xfrm flipV="1">
              <a:off x="609480" y="2666520"/>
              <a:ext cx="0" cy="167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 rot="10800000">
              <a:off x="609120" y="266652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09480" y="4343400"/>
            <a:ext cx="1219320" cy="360"/>
            <a:chOff x="609480" y="4343400"/>
            <a:chExt cx="1219320" cy="360"/>
          </a:xfrm>
        </p:grpSpPr>
        <p:sp>
          <p:nvSpPr>
            <p:cNvPr id="493" name="Line 5"/>
            <p:cNvSpPr/>
            <p:nvPr/>
          </p:nvSpPr>
          <p:spPr>
            <a:xfrm>
              <a:off x="609480" y="4343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09480" y="434340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09480" y="3123720"/>
            <a:ext cx="1067040" cy="1219320"/>
            <a:chOff x="609480" y="3123720"/>
            <a:chExt cx="1067040" cy="1219320"/>
          </a:xfrm>
        </p:grpSpPr>
        <p:sp>
          <p:nvSpPr>
            <p:cNvPr id="496" name="Line 6"/>
            <p:cNvSpPr/>
            <p:nvPr/>
          </p:nvSpPr>
          <p:spPr>
            <a:xfrm flipV="1">
              <a:off x="609480" y="3123720"/>
              <a:ext cx="1067040" cy="1219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 rot="10800000">
              <a:off x="609480" y="3123720"/>
              <a:ext cx="106704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7"/>
          <p:cNvSpPr/>
          <p:nvPr/>
        </p:nvSpPr>
        <p:spPr>
          <a:xfrm>
            <a:off x="2286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76320" y="2514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1600200" y="4343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1667160" cy="2152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"/>
          <p:cNvPicPr/>
          <p:nvPr/>
        </p:nvPicPr>
        <p:blipFill>
          <a:blip r:embed="rId2"/>
          <a:stretch/>
        </p:blipFill>
        <p:spPr>
          <a:xfrm>
            <a:off x="4648320" y="2647800"/>
            <a:ext cx="1666800" cy="215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"/>
          <p:cNvPicPr/>
          <p:nvPr/>
        </p:nvPicPr>
        <p:blipFill>
          <a:blip r:embed="rId3"/>
          <a:stretch/>
        </p:blipFill>
        <p:spPr>
          <a:xfrm>
            <a:off x="6867360" y="2647800"/>
            <a:ext cx="1667160" cy="215280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3048120" y="3505320"/>
            <a:ext cx="457200" cy="838080"/>
            <a:chOff x="3048120" y="3505320"/>
            <a:chExt cx="457200" cy="838080"/>
          </a:xfrm>
        </p:grpSpPr>
        <p:sp>
          <p:nvSpPr>
            <p:cNvPr id="505" name="Line 13"/>
            <p:cNvSpPr/>
            <p:nvPr/>
          </p:nvSpPr>
          <p:spPr>
            <a:xfrm flipV="1">
              <a:off x="3048120" y="3505320"/>
              <a:ext cx="4572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3048120" y="3505320"/>
              <a:ext cx="4572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505320" y="3505320"/>
            <a:ext cx="533160" cy="360"/>
            <a:chOff x="3505320" y="3505320"/>
            <a:chExt cx="533160" cy="360"/>
          </a:xfrm>
        </p:grpSpPr>
        <p:sp>
          <p:nvSpPr>
            <p:cNvPr id="508" name="Line 14"/>
            <p:cNvSpPr/>
            <p:nvPr/>
          </p:nvSpPr>
          <p:spPr>
            <a:xfrm>
              <a:off x="3505320" y="350532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505320" y="35053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238520" y="3429000"/>
            <a:ext cx="305280" cy="533520"/>
            <a:chOff x="7238520" y="3429000"/>
            <a:chExt cx="305280" cy="533520"/>
          </a:xfrm>
        </p:grpSpPr>
        <p:sp>
          <p:nvSpPr>
            <p:cNvPr id="511" name="Line 15"/>
            <p:cNvSpPr/>
            <p:nvPr/>
          </p:nvSpPr>
          <p:spPr>
            <a:xfrm flipV="1">
              <a:off x="7238880" y="3429000"/>
              <a:ext cx="30492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10800000">
              <a:off x="7238520" y="342900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543800" y="3429000"/>
            <a:ext cx="838080" cy="360"/>
            <a:chOff x="7543800" y="3429000"/>
            <a:chExt cx="838080" cy="360"/>
          </a:xfrm>
        </p:grpSpPr>
        <p:sp>
          <p:nvSpPr>
            <p:cNvPr id="514" name="Line 16"/>
            <p:cNvSpPr/>
            <p:nvPr/>
          </p:nvSpPr>
          <p:spPr>
            <a:xfrm>
              <a:off x="7543800" y="342900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7543800" y="3429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29200" y="3505320"/>
            <a:ext cx="457200" cy="838080"/>
            <a:chOff x="5029200" y="3505320"/>
            <a:chExt cx="457200" cy="838080"/>
          </a:xfrm>
        </p:grpSpPr>
        <p:sp>
          <p:nvSpPr>
            <p:cNvPr id="517" name="Line 17"/>
            <p:cNvSpPr/>
            <p:nvPr/>
          </p:nvSpPr>
          <p:spPr>
            <a:xfrm flipV="1">
              <a:off x="5029200" y="3505320"/>
              <a:ext cx="4572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 rot="10800000">
              <a:off x="5029200" y="3505320"/>
              <a:ext cx="4572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486400" y="3505320"/>
            <a:ext cx="533520" cy="360"/>
            <a:chOff x="5486400" y="3505320"/>
            <a:chExt cx="533520" cy="360"/>
          </a:xfrm>
        </p:grpSpPr>
        <p:sp>
          <p:nvSpPr>
            <p:cNvPr id="520" name="Line 18"/>
            <p:cNvSpPr/>
            <p:nvPr/>
          </p:nvSpPr>
          <p:spPr>
            <a:xfrm>
              <a:off x="5486400" y="3505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486400" y="3505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19"/>
          <p:cNvSpPr/>
          <p:nvPr/>
        </p:nvSpPr>
        <p:spPr>
          <a:xfrm>
            <a:off x="762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3048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525780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7620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2666880" y="1523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-74520" y="0"/>
            <a:ext cx="44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金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"/>
          <p:cNvPicPr/>
          <p:nvPr/>
        </p:nvPicPr>
        <p:blipFill>
          <a:blip r:embed="rId4"/>
          <a:stretch/>
        </p:blipFill>
        <p:spPr>
          <a:xfrm>
            <a:off x="563868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"/>
          <p:cNvPicPr/>
          <p:nvPr/>
        </p:nvPicPr>
        <p:blipFill>
          <a:blip r:embed="rId5"/>
          <a:stretch/>
        </p:blipFill>
        <p:spPr>
          <a:xfrm>
            <a:off x="7391520" y="1066680"/>
            <a:ext cx="414360" cy="16765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8"/>
          <p:cNvSpPr/>
          <p:nvPr/>
        </p:nvSpPr>
        <p:spPr>
          <a:xfrm>
            <a:off x="914400" y="457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51460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4114800" y="457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56386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73915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467480" y="1981080"/>
            <a:ext cx="228600" cy="360"/>
            <a:chOff x="7467480" y="1981080"/>
            <a:chExt cx="228600" cy="360"/>
          </a:xfrm>
        </p:grpSpPr>
        <p:sp>
          <p:nvSpPr>
            <p:cNvPr id="539" name="Line 13"/>
            <p:cNvSpPr/>
            <p:nvPr/>
          </p:nvSpPr>
          <p:spPr>
            <a:xfrm>
              <a:off x="7467480" y="19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7467480" y="198108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4"/>
          <p:cNvSpPr/>
          <p:nvPr/>
        </p:nvSpPr>
        <p:spPr>
          <a:xfrm>
            <a:off x="914400" y="2743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2438280" y="2743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3733920" y="274320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4100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7010280" y="274320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紫色石蕊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52280" y="3429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发生反应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52280" y="3992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气泡产生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152280" y="4525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能变成浅绿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152280" y="50594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蓝色溶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152280" y="5592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变成红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3352680" y="-44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序号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"/>
          <p:cNvSpPr/>
          <p:nvPr/>
        </p:nvSpPr>
        <p:spPr>
          <a:xfrm>
            <a:off x="419112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6"/>
          <p:cNvSpPr/>
          <p:nvPr/>
        </p:nvSpPr>
        <p:spPr>
          <a:xfrm>
            <a:off x="365760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7"/>
          <p:cNvSpPr/>
          <p:nvPr/>
        </p:nvSpPr>
        <p:spPr>
          <a:xfrm>
            <a:off x="495288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8"/>
          <p:cNvSpPr/>
          <p:nvPr/>
        </p:nvSpPr>
        <p:spPr>
          <a:xfrm>
            <a:off x="411480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4114800" y="5592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常见的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46044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几种常见的碱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12920" y="96840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氢氧化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俗名：苛性钠、火碱或烧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22320" y="1797120"/>
            <a:ext cx="16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228600" y="1752480"/>
            <a:ext cx="5181480" cy="251460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1"/>
          <p:cNvPicPr/>
          <p:nvPr/>
        </p:nvPicPr>
        <p:blipFill>
          <a:blip r:embed="rId1"/>
          <a:stretch/>
        </p:blipFill>
        <p:spPr>
          <a:xfrm>
            <a:off x="163440" y="1523880"/>
            <a:ext cx="750960" cy="108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8"/>
          <p:cNvSpPr/>
          <p:nvPr/>
        </p:nvSpPr>
        <p:spPr>
          <a:xfrm>
            <a:off x="533520" y="24670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有强烈的腐蚀性，使用时必须十分小心，防止眼睛皮肤、衣服等被它腐蚀。实验时最好戴防护眼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pic_21883"/>
          <p:cNvPicPr/>
          <p:nvPr/>
        </p:nvPicPr>
        <p:blipFill>
          <a:blip r:embed="rId2"/>
          <a:stretch/>
        </p:blipFill>
        <p:spPr>
          <a:xfrm>
            <a:off x="304920" y="4267080"/>
            <a:ext cx="5056200" cy="2040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"/>
          <p:cNvPicPr/>
          <p:nvPr/>
        </p:nvPicPr>
        <p:blipFill>
          <a:blip r:embed="rId3"/>
          <a:stretch/>
        </p:blipFill>
        <p:spPr>
          <a:xfrm>
            <a:off x="5772240" y="1676520"/>
            <a:ext cx="3371760" cy="253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"/>
          <p:cNvPicPr/>
          <p:nvPr/>
        </p:nvPicPr>
        <p:blipFill>
          <a:blip r:embed="rId4"/>
          <a:stretch/>
        </p:blipFill>
        <p:spPr>
          <a:xfrm>
            <a:off x="6553080" y="4181400"/>
            <a:ext cx="2019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"/>
                            </p:stCondLst>
                            <p:childTnLst>
                              <p:par>
                                <p:cTn id="1005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7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250920" y="1359000"/>
          <a:ext cx="8642160" cy="4736880"/>
        </p:xfrm>
        <a:graphic>
          <a:graphicData uri="http://schemas.openxmlformats.org/drawingml/2006/table">
            <a:tbl>
              <a:tblPr/>
              <a:tblGrid>
                <a:gridCol w="3096720"/>
                <a:gridCol w="2737080"/>
                <a:gridCol w="2808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察氢氧化钠的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氢氧化钠放在表面皿上，放置一会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0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氢氧化钠放入盛有水的烧杯中，用温度计测量溶液温度的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Text Box 24"/>
          <p:cNvSpPr/>
          <p:nvPr/>
        </p:nvSpPr>
        <p:spPr>
          <a:xfrm>
            <a:off x="3886200" y="2087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3363840" y="4417920"/>
            <a:ext cx="307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化钠极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溶于水，溶液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度明显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084360" y="1887480"/>
            <a:ext cx="2808720" cy="1008000"/>
            <a:chOff x="6084360" y="1887480"/>
            <a:chExt cx="2808720" cy="1008000"/>
          </a:xfrm>
        </p:grpSpPr>
        <p:sp>
          <p:nvSpPr>
            <p:cNvPr id="571" name="Line 26"/>
            <p:cNvSpPr/>
            <p:nvPr/>
          </p:nvSpPr>
          <p:spPr>
            <a:xfrm flipV="1">
              <a:off x="6084720" y="1887480"/>
              <a:ext cx="280836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 rot="10800000">
              <a:off x="6084360" y="1887480"/>
              <a:ext cx="2808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AutoShape 27"/>
          <p:cNvSpPr/>
          <p:nvPr/>
        </p:nvSpPr>
        <p:spPr>
          <a:xfrm>
            <a:off x="76320" y="101520"/>
            <a:ext cx="2303280" cy="43200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55640" y="64764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镊子夹取一小块氢氧化钠分别进行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3505320" y="2895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氢氧化钠固体表面潮湿逐渐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6019920" y="3048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暴露在空气中，吸收空气中的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6248520" y="46483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化钠溶解时放出大量的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28600" y="152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氢氧化钠和浓硫酸都能吸水，表面潮湿并逐渐溶解，这种现象叫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潮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所以它们都可用作一些气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干燥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4"/>
          <p:cNvSpPr/>
          <p:nvPr/>
        </p:nvSpPr>
        <p:spPr>
          <a:xfrm>
            <a:off x="1295280" y="3687840"/>
            <a:ext cx="876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80880" y="1676520"/>
            <a:ext cx="77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测氢氧化钠可以干燥哪些气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304920" y="5029200"/>
            <a:ext cx="2971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浓硫酸（酸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600200" y="4267080"/>
            <a:ext cx="360" cy="838440"/>
            <a:chOff x="1600200" y="4267080"/>
            <a:chExt cx="360" cy="838440"/>
          </a:xfrm>
        </p:grpSpPr>
        <p:sp>
          <p:nvSpPr>
            <p:cNvPr id="583" name="Line 6"/>
            <p:cNvSpPr/>
            <p:nvPr/>
          </p:nvSpPr>
          <p:spPr>
            <a:xfrm>
              <a:off x="1600200" y="4267080"/>
              <a:ext cx="0" cy="83844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600200" y="42670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914400" y="3352680"/>
            <a:ext cx="380880" cy="360"/>
            <a:chOff x="914400" y="3352680"/>
            <a:chExt cx="380880" cy="360"/>
          </a:xfrm>
        </p:grpSpPr>
        <p:sp>
          <p:nvSpPr>
            <p:cNvPr id="586" name="Line 7"/>
            <p:cNvSpPr/>
            <p:nvPr/>
          </p:nvSpPr>
          <p:spPr>
            <a:xfrm>
              <a:off x="914400" y="3352680"/>
              <a:ext cx="38088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914400" y="3352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14400" y="3352680"/>
            <a:ext cx="360" cy="1752840"/>
            <a:chOff x="914400" y="3352680"/>
            <a:chExt cx="360" cy="1752840"/>
          </a:xfrm>
        </p:grpSpPr>
        <p:sp>
          <p:nvSpPr>
            <p:cNvPr id="589" name="Line 8"/>
            <p:cNvSpPr/>
            <p:nvPr/>
          </p:nvSpPr>
          <p:spPr>
            <a:xfrm>
              <a:off x="914400" y="3352680"/>
              <a:ext cx="0" cy="175284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914400" y="3352680"/>
              <a:ext cx="36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9"/>
          <p:cNvSpPr/>
          <p:nvPr/>
        </p:nvSpPr>
        <p:spPr>
          <a:xfrm>
            <a:off x="3733920" y="5029200"/>
            <a:ext cx="396216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体（碱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58000" y="3352680"/>
            <a:ext cx="609480" cy="360"/>
            <a:chOff x="6858000" y="3352680"/>
            <a:chExt cx="609480" cy="360"/>
          </a:xfrm>
        </p:grpSpPr>
        <p:sp>
          <p:nvSpPr>
            <p:cNvPr id="593" name="Line 10"/>
            <p:cNvSpPr/>
            <p:nvPr/>
          </p:nvSpPr>
          <p:spPr>
            <a:xfrm>
              <a:off x="6858000" y="3352680"/>
              <a:ext cx="60948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6858000" y="3352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105520" y="2590920"/>
            <a:ext cx="2971800" cy="360"/>
            <a:chOff x="5105520" y="2590920"/>
            <a:chExt cx="2971800" cy="360"/>
          </a:xfrm>
        </p:grpSpPr>
        <p:sp>
          <p:nvSpPr>
            <p:cNvPr id="596" name="Line 11"/>
            <p:cNvSpPr/>
            <p:nvPr/>
          </p:nvSpPr>
          <p:spPr>
            <a:xfrm>
              <a:off x="5105520" y="2590920"/>
              <a:ext cx="297180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105520" y="25909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077320" y="2590920"/>
            <a:ext cx="360" cy="2819160"/>
            <a:chOff x="8077320" y="2590920"/>
            <a:chExt cx="360" cy="2819160"/>
          </a:xfrm>
        </p:grpSpPr>
        <p:sp>
          <p:nvSpPr>
            <p:cNvPr id="599" name="Line 12"/>
            <p:cNvSpPr/>
            <p:nvPr/>
          </p:nvSpPr>
          <p:spPr>
            <a:xfrm>
              <a:off x="8077320" y="2590920"/>
              <a:ext cx="0" cy="281916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8077320" y="2590920"/>
              <a:ext cx="36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772040" y="5410080"/>
            <a:ext cx="305280" cy="360"/>
            <a:chOff x="7772040" y="5410080"/>
            <a:chExt cx="305280" cy="360"/>
          </a:xfrm>
        </p:grpSpPr>
        <p:sp>
          <p:nvSpPr>
            <p:cNvPr id="602" name="Line 13"/>
            <p:cNvSpPr/>
            <p:nvPr/>
          </p:nvSpPr>
          <p:spPr>
            <a:xfrm flipH="1">
              <a:off x="7772040" y="5410080"/>
              <a:ext cx="30492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7772400" y="5410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4"/>
          <p:cNvSpPr/>
          <p:nvPr/>
        </p:nvSpPr>
        <p:spPr>
          <a:xfrm>
            <a:off x="1716840" y="2392200"/>
            <a:ext cx="278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碱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84204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1633680" y="3078000"/>
            <a:ext cx="4876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性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467480" y="3352680"/>
            <a:ext cx="360" cy="1600200"/>
            <a:chOff x="7467480" y="3352680"/>
            <a:chExt cx="360" cy="1600200"/>
          </a:xfrm>
        </p:grpSpPr>
        <p:sp>
          <p:nvSpPr>
            <p:cNvPr id="608" name="Line 17"/>
            <p:cNvSpPr/>
            <p:nvPr/>
          </p:nvSpPr>
          <p:spPr>
            <a:xfrm>
              <a:off x="7467480" y="3352680"/>
              <a:ext cx="0" cy="160020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7467480" y="33526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9040" y="274320"/>
            <a:ext cx="721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的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4400" y="1414440"/>
            <a:ext cx="77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硝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醋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705200" y="2289240"/>
            <a:ext cx="397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名称上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一个字都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结构上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559160" cy="20671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1752480" y="4286160"/>
            <a:ext cx="2600280" cy="2571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3"/>
          <a:stretch/>
        </p:blipFill>
        <p:spPr>
          <a:xfrm>
            <a:off x="502920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6172200" y="2057400"/>
            <a:ext cx="2819520" cy="2054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5"/>
          <a:stretch/>
        </p:blipFill>
        <p:spPr>
          <a:xfrm>
            <a:off x="3429000" y="2286000"/>
            <a:ext cx="2514600" cy="1836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1823760" cy="18669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34920" y="-25560"/>
            <a:ext cx="345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NaO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6" descr="2004411124760"/>
          <p:cNvPicPr/>
          <p:nvPr/>
        </p:nvPicPr>
        <p:blipFill>
          <a:blip r:embed="rId7"/>
          <a:stretch/>
        </p:blipFill>
        <p:spPr>
          <a:xfrm>
            <a:off x="6767640" y="152280"/>
            <a:ext cx="2376360" cy="1814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pic_36895"/>
          <p:cNvPicPr/>
          <p:nvPr/>
        </p:nvPicPr>
        <p:blipFill>
          <a:blip r:embed="rId8"/>
          <a:stretch/>
        </p:blipFill>
        <p:spPr>
          <a:xfrm>
            <a:off x="762120" y="2286000"/>
            <a:ext cx="2447640" cy="15969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11"/>
          <p:cNvSpPr/>
          <p:nvPr/>
        </p:nvSpPr>
        <p:spPr>
          <a:xfrm>
            <a:off x="4419720" y="1752480"/>
            <a:ext cx="287280" cy="936720"/>
          </a:xfrm>
          <a:prstGeom prst="downArrow">
            <a:avLst>
              <a:gd name="adj1" fmla="val 38120"/>
              <a:gd name="adj2" fmla="val 10882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2"/>
          <p:cNvSpPr/>
          <p:nvPr/>
        </p:nvSpPr>
        <p:spPr>
          <a:xfrm rot="16200000">
            <a:off x="5814720" y="124920"/>
            <a:ext cx="289080" cy="2016000"/>
          </a:xfrm>
          <a:prstGeom prst="downArrow">
            <a:avLst>
              <a:gd name="adj1" fmla="val 34815"/>
              <a:gd name="adj2" fmla="val 127305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3"/>
          <p:cNvSpPr/>
          <p:nvPr/>
        </p:nvSpPr>
        <p:spPr>
          <a:xfrm flipH="1" rot="5400000">
            <a:off x="2994840" y="124560"/>
            <a:ext cx="289080" cy="2016360"/>
          </a:xfrm>
          <a:prstGeom prst="downArrow">
            <a:avLst>
              <a:gd name="adj1" fmla="val 34815"/>
              <a:gd name="adj2" fmla="val 127328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4"/>
          <p:cNvSpPr/>
          <p:nvPr/>
        </p:nvSpPr>
        <p:spPr>
          <a:xfrm rot="17613000">
            <a:off x="5662800" y="1115640"/>
            <a:ext cx="288720" cy="2016000"/>
          </a:xfrm>
          <a:prstGeom prst="downArrow">
            <a:avLst>
              <a:gd name="adj1" fmla="val 34815"/>
              <a:gd name="adj2" fmla="val 12746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5"/>
          <p:cNvSpPr/>
          <p:nvPr/>
        </p:nvSpPr>
        <p:spPr>
          <a:xfrm flipH="1" rot="3804600">
            <a:off x="3148200" y="1116000"/>
            <a:ext cx="288720" cy="2016000"/>
          </a:xfrm>
          <a:prstGeom prst="downArrow">
            <a:avLst>
              <a:gd name="adj1" fmla="val 34815"/>
              <a:gd name="adj2" fmla="val 12746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250920" y="549360"/>
            <a:ext cx="134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肥 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826920" y="2421000"/>
            <a:ext cx="1306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石 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4716360" y="3500280"/>
            <a:ext cx="137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造 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6300720" y="2924280"/>
            <a:ext cx="139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纺 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6781680" y="3049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印 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2195640" y="4508640"/>
            <a:ext cx="199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含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2"/>
          <p:cNvSpPr/>
          <p:nvPr/>
        </p:nvSpPr>
        <p:spPr>
          <a:xfrm rot="16200000">
            <a:off x="4350600" y="4714200"/>
            <a:ext cx="287280" cy="1218960"/>
          </a:xfrm>
          <a:prstGeom prst="downArrow">
            <a:avLst>
              <a:gd name="adj1" fmla="val 34815"/>
              <a:gd name="adj2" fmla="val 77456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"/>
                            </p:stCondLst>
                            <p:childTnLst>
                              <p:par>
                                <p:cTn id="1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"/>
                            </p:stCondLst>
                            <p:childTnLst>
                              <p:par>
                                <p:cTn id="1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"/>
                            </p:stCondLst>
                            <p:childTnLst>
                              <p:par>
                                <p:cTn id="1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"/>
                            </p:stCondLst>
                            <p:childTnLst>
                              <p:par>
                                <p:cTn id="1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"/>
                            </p:stCondLst>
                            <p:childTnLst>
                              <p:par>
                                <p:cTn id="1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"/>
                            </p:stCondLst>
                            <p:childTnLst>
                              <p:par>
                                <p:cTn id="1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08000" y="689040"/>
            <a:ext cx="900108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一小钥匙氢氧化钙，观察它的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状态，然后放入小烧杯中，加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玻璃棒搅拌，观察氢氧化钙在水中的溶解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放置，使上层澄清。向澄清的石灰水中通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量二氧化碳，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179280" y="765000"/>
            <a:ext cx="2016360" cy="50508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17440" y="79200"/>
            <a:ext cx="80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氢氧化钙  俗称：熟石灰或消石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52280" y="3537000"/>
          <a:ext cx="5834160" cy="1600200"/>
        </p:xfrm>
        <a:graphic>
          <a:graphicData uri="http://schemas.openxmlformats.org/drawingml/2006/table">
            <a:tbl>
              <a:tblPr/>
              <a:tblGrid>
                <a:gridCol w="3457440"/>
                <a:gridCol w="2376720"/>
              </a:tblGrid>
              <a:tr h="561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颜色、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水中的溶解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向澄清石灰水中吹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</a:tbl>
          </a:graphicData>
        </a:graphic>
      </p:graphicFrame>
      <p:sp>
        <p:nvSpPr>
          <p:cNvPr id="635" name="Text Box 19"/>
          <p:cNvSpPr/>
          <p:nvPr/>
        </p:nvSpPr>
        <p:spPr>
          <a:xfrm>
            <a:off x="3968640" y="35053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色粉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213080" y="40338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微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3608280" y="45705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灰水变浑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氢氧化钙的溶解性 (2).wmv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2681280"/>
          </a:xfrm>
          <a:prstGeom prst="rect">
            <a:avLst/>
          </a:prstGeom>
          <a:ln w="0">
            <a:noFill/>
          </a:ln>
        </p:spPr>
      </p:pic>
      <p:grpSp>
        <p:nvGrpSpPr>
          <p:cNvPr id="639" name=""/>
          <p:cNvGrpSpPr/>
          <p:nvPr/>
        </p:nvGrpSpPr>
        <p:grpSpPr>
          <a:xfrm>
            <a:off x="1219320" y="4343400"/>
            <a:ext cx="360" cy="1295280"/>
            <a:chOff x="1219320" y="4343400"/>
            <a:chExt cx="360" cy="1295280"/>
          </a:xfrm>
        </p:grpSpPr>
        <p:sp>
          <p:nvSpPr>
            <p:cNvPr id="640" name="Line 23"/>
            <p:cNvSpPr/>
            <p:nvPr/>
          </p:nvSpPr>
          <p:spPr>
            <a:xfrm>
              <a:off x="1219320" y="4343400"/>
              <a:ext cx="0" cy="1295280"/>
            </a:xfrm>
            <a:prstGeom prst="line">
              <a:avLst/>
            </a:prstGeom>
            <a:ln w="349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1219320" y="43434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24"/>
          <p:cNvSpPr/>
          <p:nvPr/>
        </p:nvSpPr>
        <p:spPr>
          <a:xfrm>
            <a:off x="228600" y="5638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查询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11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79280" y="152280"/>
            <a:ext cx="880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氢氧化钙的水溶液俗称石灰水。当石灰水中存在较多未溶解的熟石灰时，就称为石灰乳或石灰浆。熟石灰可由生石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与水反应得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296080" y="1600200"/>
            <a:ext cx="4422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O + 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245772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石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5240520" y="216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熟石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8" descr="200407090061_10977"/>
          <p:cNvPicPr/>
          <p:nvPr/>
        </p:nvPicPr>
        <p:blipFill>
          <a:blip r:embed="rId1"/>
          <a:stretch/>
        </p:blipFill>
        <p:spPr>
          <a:xfrm>
            <a:off x="0" y="2819520"/>
            <a:ext cx="3809880" cy="2847960"/>
          </a:xfrm>
          <a:prstGeom prst="rect">
            <a:avLst/>
          </a:prstGeom>
          <a:ln w="57240">
            <a:solidFill>
              <a:srgbClr val="00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8" name="Picture 8" descr="NewsMedia_229047"/>
          <p:cNvPicPr/>
          <p:nvPr/>
        </p:nvPicPr>
        <p:blipFill>
          <a:blip r:embed="rId2"/>
          <a:stretch/>
        </p:blipFill>
        <p:spPr>
          <a:xfrm>
            <a:off x="2438280" y="3809880"/>
            <a:ext cx="3810240" cy="2838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"/>
          <p:cNvPicPr/>
          <p:nvPr/>
        </p:nvPicPr>
        <p:blipFill>
          <a:blip r:embed="rId3"/>
          <a:stretch/>
        </p:blipFill>
        <p:spPr>
          <a:xfrm>
            <a:off x="6934320" y="1752480"/>
            <a:ext cx="1809720" cy="2448000"/>
          </a:xfrm>
          <a:prstGeom prst="rect">
            <a:avLst/>
          </a:prstGeom>
          <a:ln w="0">
            <a:noFill/>
          </a:ln>
        </p:spPr>
      </p:pic>
      <p:pic>
        <p:nvPicPr>
          <p:cNvPr id="650" name="氧化钙与水的反应.wmv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79280" y="152280"/>
            <a:ext cx="56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氢氧化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途：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3495960" cy="2544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1695600" cy="25909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"/>
          <p:cNvPicPr/>
          <p:nvPr/>
        </p:nvPicPr>
        <p:blipFill>
          <a:blip r:embed="rId4"/>
          <a:stretch/>
        </p:blipFill>
        <p:spPr>
          <a:xfrm>
            <a:off x="4572000" y="32767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7"/>
          <p:cNvSpPr/>
          <p:nvPr/>
        </p:nvSpPr>
        <p:spPr>
          <a:xfrm>
            <a:off x="304920" y="838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石灰浆粉刷墙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304920" y="1325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树木上涂刷石灰浆，保护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304920" y="1782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农业上，配制波尔多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304920" y="2239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熟石灰改良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1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3495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"/>
                            </p:stCondLst>
                            <p:childTnLst>
                              <p:par>
                                <p:cTn id="1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"/>
                            </p:stCondLst>
                            <p:childTnLst>
                              <p:par>
                                <p:cTn id="1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"/>
                            </p:stCondLst>
                            <p:childTnLst>
                              <p:par>
                                <p:cTn id="1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"/>
                            </p:stCondLst>
                            <p:childTnLst>
                              <p:par>
                                <p:cTn id="12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"/>
                            </p:stCondLst>
                            <p:childTnLst>
                              <p:par>
                                <p:cTn id="12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52280" y="457200"/>
            <a:ext cx="881064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了氢氧化钠和氢氧化钙外，常见的碱还有氢氧化钾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KO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氨水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 baseline="16000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4"/>
          <p:cNvPicPr/>
          <p:nvPr/>
        </p:nvPicPr>
        <p:blipFill>
          <a:blip r:embed="rId1"/>
          <a:stretch/>
        </p:blipFill>
        <p:spPr>
          <a:xfrm>
            <a:off x="457200" y="1981080"/>
            <a:ext cx="6350040" cy="3683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1"/>
          <p:cNvPicPr/>
          <p:nvPr/>
        </p:nvPicPr>
        <p:blipFill>
          <a:blip r:embed="rId2"/>
          <a:stretch/>
        </p:blipFill>
        <p:spPr>
          <a:xfrm>
            <a:off x="6886440" y="1557360"/>
            <a:ext cx="2257560" cy="49816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2657520" y="57387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52280" y="763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碱的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2013120" y="60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碱的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2"/>
          <p:cNvPicPr/>
          <p:nvPr/>
        </p:nvPicPr>
        <p:blipFill>
          <a:blip r:embed="rId1"/>
          <a:stretch/>
        </p:blipFill>
        <p:spPr>
          <a:xfrm>
            <a:off x="179280" y="757080"/>
            <a:ext cx="538200" cy="4464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5"/>
          <p:cNvSpPr/>
          <p:nvPr/>
        </p:nvSpPr>
        <p:spPr>
          <a:xfrm>
            <a:off x="684360" y="6858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910160" y="1295280"/>
            <a:ext cx="547236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你还记得紫色石蕊溶液和无色酚酞溶液遇到氢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化钠和氢氧化钙溶液显示什么颜色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918080" y="2362320"/>
            <a:ext cx="5386680" cy="1373760"/>
          </a:xfrm>
          <a:prstGeom prst="rect">
            <a:avLst/>
          </a:prstGeom>
          <a:solidFill>
            <a:srgbClr val="708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紫色石蕊溶液遇到氢氧化钠溶液和氢氧化钙溶液都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示蓝色；无色酚酞溶液遇到氢氧化钠溶液和氢氧化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溶液显示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324000" y="3962520"/>
            <a:ext cx="8615160" cy="2226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忆检验二氧化碳的反应，写出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氢氧化钙能与空气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氧化碳反应，生成坚硬的碳酸钙。前面提到的用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石灰与沙子混合来砌砖，用石灰浆刷墙壁等用途，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利用氢氧化钙的这一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611280" y="43434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Ca(OH)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↓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462600" y="152280"/>
            <a:ext cx="822636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氢氧化钠在空气中不仅吸收水分，还能与空气中的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氧化碳发生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NaOH+CO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a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H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所以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氧化钠必须密封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上面两个反应都生成盐和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氧化硫与碱反应与上面的两个反应类似，试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氧化硫和二氧化硫与氢氧化钠反应的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447920" y="4983120"/>
            <a:ext cx="6629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       )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114800" y="38862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332000" y="38862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457280" y="4191120"/>
            <a:ext cx="768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      )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336680" y="46483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092480" y="46483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44520" y="15732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Ca(OH)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↓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809960" y="15732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304920" y="135576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7162920" y="1371600"/>
            <a:ext cx="9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2878200" y="1371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4749840" y="13716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1180800" y="2133720"/>
            <a:ext cx="23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生成相同价态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535320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硫酸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5229360" y="49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亚硫酸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8"/>
          <p:cNvSpPr/>
          <p:nvPr/>
        </p:nvSpPr>
        <p:spPr>
          <a:xfrm>
            <a:off x="468360" y="2743200"/>
            <a:ext cx="1224000" cy="37800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9"/>
          <p:cNvSpPr/>
          <p:nvPr/>
        </p:nvSpPr>
        <p:spPr>
          <a:xfrm>
            <a:off x="4967640" y="990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下面两个反应有什么共同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8196"/>
          <p:cNvSpPr/>
          <p:nvPr/>
        </p:nvSpPr>
        <p:spPr>
          <a:xfrm>
            <a:off x="965160" y="61326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2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7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3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523880" y="75600"/>
            <a:ext cx="40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碱的共同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76320" y="76212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与酸碱指示剂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溶性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紫色石蕊溶液遇到碱溶液变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无色酚酞溶液遇到碱溶液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304920" y="152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76320" y="236232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与某些非金属氧化物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碱溶液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金属氧化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73200" y="3429000"/>
            <a:ext cx="763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NaOH + 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== N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588960" y="4114800"/>
            <a:ext cx="7488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盐酸、硫酸等酸有一些相似的化学性质，而氢氧化钠、氢氧化钙等也有一些相似的化学性质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9455-15F4-483F-A660-6F39FED046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pic_21865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307656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3"/>
          <p:cNvSpPr/>
          <p:nvPr/>
        </p:nvSpPr>
        <p:spPr>
          <a:xfrm>
            <a:off x="5562720" y="533520"/>
            <a:ext cx="1079280" cy="1082520"/>
          </a:xfrm>
          <a:prstGeom prst="downArrowCallout">
            <a:avLst>
              <a:gd name="adj1" fmla="val 25002"/>
              <a:gd name="adj2" fmla="val 25000"/>
              <a:gd name="adj3" fmla="val 16703"/>
              <a:gd name="adj4" fmla="val 4912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4"/>
          <p:cNvSpPr/>
          <p:nvPr/>
        </p:nvSpPr>
        <p:spPr>
          <a:xfrm>
            <a:off x="6991200" y="73080"/>
            <a:ext cx="2016360" cy="1584360"/>
          </a:xfrm>
          <a:prstGeom prst="downArrowCallout">
            <a:avLst>
              <a:gd name="adj1" fmla="val 22450"/>
              <a:gd name="adj2" fmla="val 31817"/>
              <a:gd name="adj3" fmla="val 17222"/>
              <a:gd name="adj4" fmla="val 65500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法自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5"/>
          <p:cNvGrpSpPr/>
          <p:nvPr/>
        </p:nvGrpSpPr>
        <p:grpSpPr>
          <a:xfrm>
            <a:off x="5105520" y="3936600"/>
            <a:ext cx="3816360" cy="1048320"/>
            <a:chOff x="5105520" y="3936600"/>
            <a:chExt cx="3816360" cy="1048320"/>
          </a:xfrm>
        </p:grpSpPr>
        <p:sp>
          <p:nvSpPr>
            <p:cNvPr id="706" name="AutoShape 6"/>
            <p:cNvSpPr/>
            <p:nvPr/>
          </p:nvSpPr>
          <p:spPr>
            <a:xfrm rot="20779200">
              <a:off x="5940360" y="3962160"/>
              <a:ext cx="287280" cy="576360"/>
            </a:xfrm>
            <a:prstGeom prst="upArrow">
              <a:avLst>
                <a:gd name="adj1" fmla="val 50000"/>
                <a:gd name="adj2" fmla="val 50129"/>
              </a:avLst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7"/>
            <p:cNvSpPr/>
            <p:nvPr/>
          </p:nvSpPr>
          <p:spPr>
            <a:xfrm flipH="1" rot="820800">
              <a:off x="7883640" y="3962160"/>
              <a:ext cx="287280" cy="576360"/>
            </a:xfrm>
            <a:prstGeom prst="upArrow">
              <a:avLst>
                <a:gd name="adj1" fmla="val 50000"/>
                <a:gd name="adj2" fmla="val 50129"/>
              </a:avLst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8"/>
            <p:cNvSpPr/>
            <p:nvPr/>
          </p:nvSpPr>
          <p:spPr>
            <a:xfrm>
              <a:off x="5105520" y="4408560"/>
              <a:ext cx="3816360" cy="576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够自由移动的离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457200" y="1143000"/>
            <a:ext cx="3240000" cy="520560"/>
            <a:chOff x="457200" y="1143000"/>
            <a:chExt cx="3240000" cy="520560"/>
          </a:xfrm>
        </p:grpSpPr>
        <p:sp>
          <p:nvSpPr>
            <p:cNvPr id="710" name="Text Box 10"/>
            <p:cNvSpPr/>
            <p:nvPr/>
          </p:nvSpPr>
          <p:spPr>
            <a:xfrm>
              <a:off x="457200" y="1143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HCl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8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1"/>
            <p:cNvGrpSpPr/>
            <p:nvPr/>
          </p:nvGrpSpPr>
          <p:grpSpPr>
            <a:xfrm>
              <a:off x="1335240" y="1359000"/>
              <a:ext cx="647640" cy="73440"/>
              <a:chOff x="1335240" y="1359000"/>
              <a:chExt cx="647640" cy="7344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335240" y="1359000"/>
                <a:ext cx="647640" cy="360"/>
                <a:chOff x="1335240" y="1359000"/>
                <a:chExt cx="647640" cy="360"/>
              </a:xfrm>
            </p:grpSpPr>
            <p:sp>
              <p:nvSpPr>
                <p:cNvPr id="713" name="Line 12"/>
                <p:cNvSpPr/>
                <p:nvPr/>
              </p:nvSpPr>
              <p:spPr>
                <a:xfrm>
                  <a:off x="1335240" y="135900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 txBox="1"/>
                <p:nvPr/>
              </p:nvSpPr>
              <p:spPr>
                <a:xfrm>
                  <a:off x="1335240" y="135900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335240" y="1432080"/>
                <a:ext cx="647640" cy="360"/>
                <a:chOff x="1335240" y="1432080"/>
                <a:chExt cx="647640" cy="360"/>
              </a:xfrm>
            </p:grpSpPr>
            <p:sp>
              <p:nvSpPr>
                <p:cNvPr id="716" name="Line 13"/>
                <p:cNvSpPr/>
                <p:nvPr/>
              </p:nvSpPr>
              <p:spPr>
                <a:xfrm>
                  <a:off x="1335240" y="143208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 txBox="1"/>
                <p:nvPr/>
              </p:nvSpPr>
              <p:spPr>
                <a:xfrm>
                  <a:off x="1335240" y="143208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8" name="Group 14"/>
          <p:cNvGrpSpPr/>
          <p:nvPr/>
        </p:nvGrpSpPr>
        <p:grpSpPr>
          <a:xfrm>
            <a:off x="0" y="4508640"/>
            <a:ext cx="4751280" cy="520560"/>
            <a:chOff x="0" y="4508640"/>
            <a:chExt cx="4751280" cy="520560"/>
          </a:xfrm>
        </p:grpSpPr>
        <p:sp>
          <p:nvSpPr>
            <p:cNvPr id="719" name="Text Box 15"/>
            <p:cNvSpPr/>
            <p:nvPr/>
          </p:nvSpPr>
          <p:spPr>
            <a:xfrm>
              <a:off x="0" y="4508640"/>
              <a:ext cx="47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(OH)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Ca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r>
                <a:rPr b="1" lang="zh-CN" sz="28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6"/>
            <p:cNvGrpSpPr/>
            <p:nvPr/>
          </p:nvGrpSpPr>
          <p:grpSpPr>
            <a:xfrm>
              <a:off x="1568520" y="4724640"/>
              <a:ext cx="647640" cy="73440"/>
              <a:chOff x="1568520" y="4724640"/>
              <a:chExt cx="647640" cy="7344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568520" y="4724640"/>
                <a:ext cx="647640" cy="360"/>
                <a:chOff x="1568520" y="4724640"/>
                <a:chExt cx="647640" cy="360"/>
              </a:xfrm>
            </p:grpSpPr>
            <p:sp>
              <p:nvSpPr>
                <p:cNvPr id="722" name="Line 17"/>
                <p:cNvSpPr/>
                <p:nvPr/>
              </p:nvSpPr>
              <p:spPr>
                <a:xfrm>
                  <a:off x="1568520" y="472464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 txBox="1"/>
                <p:nvPr/>
              </p:nvSpPr>
              <p:spPr>
                <a:xfrm>
                  <a:off x="1568520" y="472464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568520" y="4797720"/>
                <a:ext cx="647640" cy="360"/>
                <a:chOff x="1568520" y="4797720"/>
                <a:chExt cx="647640" cy="360"/>
              </a:xfrm>
            </p:grpSpPr>
            <p:sp>
              <p:nvSpPr>
                <p:cNvPr id="725" name="Line 18"/>
                <p:cNvSpPr/>
                <p:nvPr/>
              </p:nvSpPr>
              <p:spPr>
                <a:xfrm>
                  <a:off x="1568520" y="479772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 txBox="1"/>
                <p:nvPr/>
              </p:nvSpPr>
              <p:spPr>
                <a:xfrm>
                  <a:off x="1568520" y="479772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Text Box 19"/>
          <p:cNvSpPr/>
          <p:nvPr/>
        </p:nvSpPr>
        <p:spPr>
          <a:xfrm>
            <a:off x="179280" y="2185560"/>
            <a:ext cx="4392720" cy="54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的酸溶液中都含有相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，酸有一些相似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222120" y="5367960"/>
            <a:ext cx="8742600" cy="54828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的碱溶液中都含有相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碱也有一些相似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228600" y="351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914400" y="655560"/>
            <a:ext cx="1828800" cy="360"/>
            <a:chOff x="914400" y="655560"/>
            <a:chExt cx="1828800" cy="360"/>
          </a:xfrm>
        </p:grpSpPr>
        <p:sp>
          <p:nvSpPr>
            <p:cNvPr id="731" name="Line 22"/>
            <p:cNvSpPr/>
            <p:nvPr/>
          </p:nvSpPr>
          <p:spPr>
            <a:xfrm>
              <a:off x="914400" y="655560"/>
              <a:ext cx="18288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914400" y="65556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23"/>
          <p:cNvSpPr/>
          <p:nvPr/>
        </p:nvSpPr>
        <p:spPr>
          <a:xfrm>
            <a:off x="838080" y="1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在水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4"/>
          <p:cNvSpPr/>
          <p:nvPr/>
        </p:nvSpPr>
        <p:spPr>
          <a:xfrm>
            <a:off x="1371600" y="609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解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5"/>
          <p:cNvSpPr/>
          <p:nvPr/>
        </p:nvSpPr>
        <p:spPr>
          <a:xfrm>
            <a:off x="2743200" y="351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H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酸根离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6"/>
          <p:cNvSpPr/>
          <p:nvPr/>
        </p:nvSpPr>
        <p:spPr>
          <a:xfrm>
            <a:off x="0" y="364176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碱                金属离子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+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OH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  <a:ea typeface="楷体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7"/>
          <p:cNvSpPr/>
          <p:nvPr/>
        </p:nvSpPr>
        <p:spPr>
          <a:xfrm>
            <a:off x="457200" y="3367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在水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8"/>
          <p:cNvSpPr/>
          <p:nvPr/>
        </p:nvSpPr>
        <p:spPr>
          <a:xfrm>
            <a:off x="8380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解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09480" y="3962520"/>
            <a:ext cx="1600200" cy="360"/>
            <a:chOff x="609480" y="3962520"/>
            <a:chExt cx="1600200" cy="360"/>
          </a:xfrm>
        </p:grpSpPr>
        <p:sp>
          <p:nvSpPr>
            <p:cNvPr id="740" name="Line 29"/>
            <p:cNvSpPr/>
            <p:nvPr/>
          </p:nvSpPr>
          <p:spPr>
            <a:xfrm>
              <a:off x="609480" y="3962520"/>
              <a:ext cx="16002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60948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4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5867280" y="915840"/>
            <a:ext cx="1873440" cy="17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beve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碱</a:t>
            </a:r>
            <a:endParaRPr b="1" lang="en-US" sz="5400" spc="1" strike="noStrike">
              <a:ln w="12600">
                <a:solidFill>
                  <a:srgbClr val="000099"/>
                </a:solidFill>
                <a:bevel/>
              </a:ln>
              <a:gradFill rotWithShape="0">
                <a:gsLst>
                  <a:gs pos="0">
                    <a:srgbClr val="0000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09" name="Picture 3" descr="洗衣粉"/>
          <p:cNvPicPr/>
          <p:nvPr/>
        </p:nvPicPr>
        <p:blipFill>
          <a:blip r:embed="rId2"/>
          <a:stretch/>
        </p:blipFill>
        <p:spPr>
          <a:xfrm>
            <a:off x="5318280" y="3718080"/>
            <a:ext cx="2422440" cy="259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透明皂"/>
          <p:cNvPicPr/>
          <p:nvPr/>
        </p:nvPicPr>
        <p:blipFill>
          <a:blip r:embed="rId3"/>
          <a:stretch/>
        </p:blipFill>
        <p:spPr>
          <a:xfrm>
            <a:off x="1585800" y="826920"/>
            <a:ext cx="2698920" cy="2025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185840" y="4395960"/>
            <a:ext cx="41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摸起来滑滑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 rot="5400000">
            <a:off x="-623880" y="3504960"/>
            <a:ext cx="25210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beve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生活中</a:t>
            </a:r>
            <a:endParaRPr b="0" i="1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bevel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木炭还原氧化铜"/>
          <p:cNvPicPr/>
          <p:nvPr/>
        </p:nvPicPr>
        <p:blipFill>
          <a:blip r:embed="rId1"/>
          <a:stretch/>
        </p:blipFill>
        <p:spPr>
          <a:xfrm>
            <a:off x="6707160" y="0"/>
            <a:ext cx="24368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化学反应现象-白色沉淀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57800" y="152280"/>
            <a:ext cx="1347840" cy="298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16000" y="981000"/>
            <a:ext cx="5796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灰水中含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都是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工业用氢氧化纳"/>
          <p:cNvPicPr/>
          <p:nvPr/>
        </p:nvPicPr>
        <p:blipFill>
          <a:blip r:embed="rId3"/>
          <a:stretch/>
        </p:blipFill>
        <p:spPr>
          <a:xfrm>
            <a:off x="5664240" y="3352680"/>
            <a:ext cx="2274840" cy="289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氢氧化钠"/>
          <p:cNvPicPr/>
          <p:nvPr/>
        </p:nvPicPr>
        <p:blipFill>
          <a:blip r:embed="rId4"/>
          <a:stretch/>
        </p:blipFill>
        <p:spPr>
          <a:xfrm>
            <a:off x="368280" y="3284640"/>
            <a:ext cx="4348080" cy="2931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816520" y="3429000"/>
            <a:ext cx="271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143000" y="4419720"/>
            <a:ext cx="2930400" cy="761400"/>
          </a:xfrm>
          <a:prstGeom prst="rect">
            <a:avLst/>
          </a:prstGeom>
          <a:solidFill>
            <a:srgbClr val="0000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68040" y="1628280"/>
            <a:ext cx="7707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430960" y="2023920"/>
            <a:ext cx="3589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名称上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叫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某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结构上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19040" y="345960"/>
            <a:ext cx="721224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的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28600" y="762120"/>
            <a:ext cx="8686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右图的实验中，可以看到什么现象？这说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酚酞试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什么性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ic_33466"/>
          <p:cNvPicPr/>
          <p:nvPr/>
        </p:nvPicPr>
        <p:blipFill>
          <a:blip r:embed="rId1"/>
          <a:stretch/>
        </p:blipFill>
        <p:spPr>
          <a:xfrm>
            <a:off x="1752480" y="2819520"/>
            <a:ext cx="3419640" cy="2655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04920" y="2057400"/>
            <a:ext cx="6629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无色酚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遇浓氨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变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4876920"/>
            <a:ext cx="6490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0"/>
            <a:ext cx="5715000" cy="70344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前面学到的指示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二氧化碳与水的反应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谁能使紫花变为红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5759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紫色石蕊是一种指示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碳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变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50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2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