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2CFF-9C8B-49A6-9FB6-F58E5EA6B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73A0-7DB9-4B34-AE95-8E6EDB3EF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EDA5-AFC2-497C-8E66-26F8A6504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87D8-3C6B-4BA3-9F7D-897A52CB0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F15AB-F104-4378-A9C5-DA2FAF40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D8C8F-019C-4749-903B-89577814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9B4D9-F037-4504-A7FC-E957A256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4D2FF-4200-4A97-AF75-8E8A580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4523E-B8D2-4EA0-BA05-77A3338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4A998-DC07-4E56-992A-D0906AB4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60A06-FBDE-466F-AEAA-CE65DAB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1B2A-511D-4F3C-A5EC-3A34F278B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10480-CB54-48C7-9E9D-992BA22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90535-0FB1-4825-A779-8E8CE5F2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C0607-81A7-4DAC-9BFD-DB4F6047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28F4-C560-4409-8A1E-4C611B46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0D3DF-F86F-4F57-8BB8-B7508F20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9705-4531-4E21-994A-A128AE6C2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9F88-E9FA-409F-B161-264285368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8644-B25F-4FEA-80A9-3B757D30C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B3BD-FB6E-43FE-B99C-8DC64EAAB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FD76-9713-4DFF-868A-969015F2B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588C-DC67-4BD1-B5A5-8628547B9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4041-6D8E-4091-88E1-F6582A91A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5EC9507-0705-428E-8206-B869A254E382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443-D62E-4BC2-BED5-8797B0E89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25480" y="1729800"/>
            <a:ext cx="77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从看电视说起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打包下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303280" y="494640"/>
            <a:ext cx="42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品德与社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人教版四年级下册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3619440" y="2852640"/>
            <a:ext cx="4289400" cy="3213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23760" y="49719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905242003414224"/>
          <p:cNvPicPr/>
          <p:nvPr/>
        </p:nvPicPr>
        <p:blipFill>
          <a:blip r:embed="rId1"/>
          <a:stretch/>
        </p:blipFill>
        <p:spPr>
          <a:xfrm>
            <a:off x="179280" y="981000"/>
            <a:ext cx="666720" cy="952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900000" y="1268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课 堂 总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933560"/>
            <a:ext cx="8315280" cy="2036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电视网络是一把双刃剑，我们作为新世纪的少年儿童要把握好自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合理利用时间，在不影响生活的情况下多多接触电视网络，但不要沉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快乐成长，快乐学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4353120" y="1343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活瞭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066680" y="3200400"/>
            <a:ext cx="664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484360" y="4005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（喜洋洋与灰太狼）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68360" y="1125360"/>
            <a:ext cx="2133720" cy="8337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两种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125360"/>
            <a:ext cx="1871640" cy="8384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动画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572000" y="1136520"/>
            <a:ext cx="2376360" cy="7797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模范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093080" y="1154160"/>
            <a:ext cx="1942920" cy="7621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底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5640" y="400536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个字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3200400"/>
            <a:ext cx="664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635280" y="414828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（新闻联播）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124000" y="1125360"/>
            <a:ext cx="2068560" cy="7909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真实快捷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79280" y="1125360"/>
            <a:ext cx="1871640" cy="7909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老少皆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284720" y="1125360"/>
            <a:ext cx="2448000" cy="7797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国内外大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1125360"/>
            <a:ext cx="2266920" cy="7621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每晚七点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42920" y="407664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个字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4788000" y="476280"/>
            <a:ext cx="3097080" cy="2089080"/>
          </a:xfrm>
          <a:prstGeom prst="cloudCallout">
            <a:avLst>
              <a:gd name="adj1" fmla="val 40981"/>
              <a:gd name="adj2" fmla="val 74560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219640" y="83664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业都做不完，怎么能看电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-33480" y="1440"/>
            <a:ext cx="3165480" cy="2087640"/>
          </a:xfrm>
          <a:prstGeom prst="cloudCallout">
            <a:avLst>
              <a:gd name="adj1" fmla="val 54837"/>
              <a:gd name="adj2" fmla="val 56504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292720" y="4724280"/>
            <a:ext cx="2448000" cy="1873440"/>
          </a:xfrm>
          <a:prstGeom prst="cloudCallout">
            <a:avLst>
              <a:gd name="adj1" fmla="val 59791"/>
              <a:gd name="adj2" fmla="val 58268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580000" y="3213000"/>
            <a:ext cx="1584360" cy="1079640"/>
          </a:xfrm>
          <a:prstGeom prst="cloudCallout">
            <a:avLst>
              <a:gd name="adj1" fmla="val -84569"/>
              <a:gd name="adj2" fmla="val -38087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541440" y="3214800"/>
            <a:ext cx="2592360" cy="1800000"/>
          </a:xfrm>
          <a:prstGeom prst="cloudCallout">
            <a:avLst>
              <a:gd name="adj1" fmla="val 47111"/>
              <a:gd name="adj2" fmla="val 92680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55640" y="3645000"/>
            <a:ext cx="24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电视太多，对眼睛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364000" y="3141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64000" y="5084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电视能有什么收获？不如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11"/>
          <p:cNvPicPr/>
          <p:nvPr/>
        </p:nvPicPr>
        <p:blipFill>
          <a:blip r:embed="rId1"/>
          <a:stretch/>
        </p:blipFill>
        <p:spPr>
          <a:xfrm>
            <a:off x="2411280" y="909720"/>
            <a:ext cx="17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12"/>
          <p:cNvPicPr/>
          <p:nvPr/>
        </p:nvPicPr>
        <p:blipFill>
          <a:blip r:embed="rId2"/>
          <a:stretch/>
        </p:blipFill>
        <p:spPr>
          <a:xfrm>
            <a:off x="3132000" y="4797360"/>
            <a:ext cx="144000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13"/>
          <p:cNvPicPr/>
          <p:nvPr/>
        </p:nvPicPr>
        <p:blipFill>
          <a:blip r:embed="rId3"/>
          <a:stretch/>
        </p:blipFill>
        <p:spPr>
          <a:xfrm>
            <a:off x="4067280" y="2565360"/>
            <a:ext cx="120636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4"/>
          <p:cNvPicPr/>
          <p:nvPr/>
        </p:nvPicPr>
        <p:blipFill>
          <a:blip r:embed="rId4"/>
          <a:stretch/>
        </p:blipFill>
        <p:spPr>
          <a:xfrm>
            <a:off x="7885080" y="4941720"/>
            <a:ext cx="1258920" cy="191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5"/>
          <p:cNvPicPr/>
          <p:nvPr/>
        </p:nvPicPr>
        <p:blipFill>
          <a:blip r:embed="rId5"/>
          <a:stretch/>
        </p:blipFill>
        <p:spPr>
          <a:xfrm>
            <a:off x="7667640" y="1844640"/>
            <a:ext cx="1476360" cy="2320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6"/>
          <p:cNvSpPr/>
          <p:nvPr/>
        </p:nvSpPr>
        <p:spPr>
          <a:xfrm>
            <a:off x="324000" y="33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些电视节目不适合小孩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199"/>
          <p:cNvSpPr/>
          <p:nvPr/>
        </p:nvSpPr>
        <p:spPr>
          <a:xfrm>
            <a:off x="3348000" y="14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辩论提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7840" y="1170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辩论主题：      正方：看电视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反方：看电视不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辩论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分正反两方进行辩论，正反方辩手各两人，其他同学根据自己的观点，成为台上选手的智囊团，准备随时参与辩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注意辩论态度和蔼，言行文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辩论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可以表明自己的观点，举例说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可以针对对方观点提问、反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辩论遇到困难时，可以向智囊团求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40464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金点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557360"/>
            <a:ext cx="82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觉得怎样去做才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科学、合理、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地看电视呢？和你的小组同学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关于看电视的协议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甲方：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乙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协议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阅读时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天阅读半小时，时段为做完作业后的晚上九点至九点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阅读内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父母、老师的指导下选择自己喜欢的、内容健康的儿童读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阅读安排：读书要做笔记，积累优美词句，写下心得体会。也可以家长孩子同读一本书，口头交流读书感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甲方（签字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乙方（签字）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____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月 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0905242003414224"/>
          <p:cNvPicPr/>
          <p:nvPr/>
        </p:nvPicPr>
        <p:blipFill>
          <a:blip r:embed="rId1"/>
          <a:stretch/>
        </p:blipFill>
        <p:spPr>
          <a:xfrm>
            <a:off x="179280" y="981000"/>
            <a:ext cx="66672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900000" y="1268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掌 握 新 知 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844640"/>
            <a:ext cx="9144000" cy="49579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接触传媒、学会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2340000" y="2492280"/>
            <a:ext cx="4800600" cy="2133720"/>
          </a:xfrm>
          <a:prstGeom prst="cloudCallout">
            <a:avLst>
              <a:gd name="adj1" fmla="val -64981"/>
              <a:gd name="adj2" fmla="val 11160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接触大众传媒时，应该注意些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6020-2D0F-400B-B459-19885097C7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0:56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5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