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7.png" ContentType="image/png"/>
  <Override PartName="/ppt/media/image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8C9-0BC8-4759-AE4A-8DE7FD7F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BC2-BBDD-4FCD-BD23-99A066E8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6A9-AF62-49CA-840C-ADC3ABD0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89D-3E0A-48B1-A3EC-015703CC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9465-BFF5-46DE-91C0-50BCE54F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2DE6-5564-4DD5-A256-6D19DAF3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0A7B-AEA6-4A84-A4D9-31C04B53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C6AA-4760-41B9-BF8E-DA5B2DF4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B087-6664-4CD5-AE4B-3E409357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DEED-D6BE-416D-942F-86E6BBEA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773D-5097-492C-B304-8CF0FFC6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952-021D-457F-9F72-A2840779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0656-E7B1-4388-8CE6-C59FBB7E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27DE-0C42-458D-B8E1-56914A4C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DE42-BB86-412F-93D5-1A557450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35AF-F171-4890-939F-BADB7D32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624B-7C32-4C39-B04E-18DA3E6E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517-6349-4723-8BE8-0EED60EC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107-9898-4CA7-852F-98074DE6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885-E6DD-414B-9F98-1E841014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5FF-9E14-44E2-9765-B335EBB6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D3D-3A57-4142-8518-39D9AC99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00C-E154-4DCE-814C-F573BEF4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A1E-1745-482F-AD0F-31E921D2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8FF9-88B5-43A7-A2AD-FF137F38C8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A870-0624-4013-992B-602024737A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6840" y="19047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磁力大小会变化吗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2"/>
          <a:stretch/>
        </p:blipFill>
        <p:spPr>
          <a:xfrm>
            <a:off x="1371600" y="3184560"/>
            <a:ext cx="3048120" cy="21668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"/>
          <p:cNvPicPr/>
          <p:nvPr/>
        </p:nvPicPr>
        <p:blipFill>
          <a:blip r:embed="rId3"/>
          <a:stretch/>
        </p:blipFill>
        <p:spPr>
          <a:xfrm>
            <a:off x="4502160" y="3184560"/>
            <a:ext cx="3263760" cy="21668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动手实验，测量磁力大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8229600" cy="4527720"/>
        </p:xfrm>
        <a:graphic>
          <a:graphicData uri="http://schemas.openxmlformats.org/drawingml/2006/table">
            <a:tbl>
              <a:tblPr/>
              <a:tblGrid>
                <a:gridCol w="4340160"/>
                <a:gridCol w="812880"/>
                <a:gridCol w="814320"/>
                <a:gridCol w="725400"/>
                <a:gridCol w="812880"/>
                <a:gridCol w="723960"/>
              </a:tblGrid>
              <a:tr h="1168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磁铁的数量（块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  <a:tr h="1031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吸回形针的多少（个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  <a:tr h="1120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猜测多吸或少吸回形针的数量（个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  <a:tr h="1207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际多吸或少吸回形针的数量（个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4952520" y="5105520"/>
            <a:ext cx="305280" cy="914400"/>
            <a:chOff x="4952520" y="5105520"/>
            <a:chExt cx="305280" cy="914400"/>
          </a:xfrm>
        </p:grpSpPr>
        <p:sp>
          <p:nvSpPr>
            <p:cNvPr id="148" name="Line 42"/>
            <p:cNvSpPr/>
            <p:nvPr/>
          </p:nvSpPr>
          <p:spPr>
            <a:xfrm flipH="1">
              <a:off x="4952520" y="5105520"/>
              <a:ext cx="304920" cy="914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4952880" y="5105520"/>
              <a:ext cx="3049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028840" y="3886200"/>
            <a:ext cx="305280" cy="914400"/>
            <a:chOff x="5028840" y="3886200"/>
            <a:chExt cx="305280" cy="914400"/>
          </a:xfrm>
        </p:grpSpPr>
        <p:sp>
          <p:nvSpPr>
            <p:cNvPr id="151" name="Line 43"/>
            <p:cNvSpPr/>
            <p:nvPr/>
          </p:nvSpPr>
          <p:spPr>
            <a:xfrm flipH="1">
              <a:off x="5028840" y="3886200"/>
              <a:ext cx="304920" cy="914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5029200" y="3886200"/>
              <a:ext cx="3049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疑问动态5"/>
          <p:cNvPicPr/>
          <p:nvPr/>
        </p:nvPicPr>
        <p:blipFill>
          <a:blip r:embed="rId2"/>
          <a:stretch/>
        </p:blipFill>
        <p:spPr>
          <a:xfrm>
            <a:off x="7848720" y="1523880"/>
            <a:ext cx="108576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6172200" y="3657600"/>
            <a:ext cx="3276720" cy="990720"/>
          </a:xfrm>
          <a:prstGeom prst="wedgeEllipseCallout">
            <a:avLst>
              <a:gd name="adj1" fmla="val 17083"/>
              <a:gd name="adj2" fmla="val -10649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先前的猜测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6"/>
          <p:cNvSpPr txBox="1"/>
          <p:nvPr/>
        </p:nvSpPr>
        <p:spPr>
          <a:xfrm>
            <a:off x="1371600" y="152280"/>
            <a:ext cx="617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小组实验结论汇报</a:t>
            </a:r>
            <a:endParaRPr b="1" lang="en-US" sz="4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5800" y="1143000"/>
          <a:ext cx="7086600" cy="2397240"/>
        </p:xfrm>
        <a:graphic>
          <a:graphicData uri="http://schemas.openxmlformats.org/drawingml/2006/table">
            <a:tbl>
              <a:tblPr/>
              <a:tblGrid>
                <a:gridCol w="3738600"/>
                <a:gridCol w="698400"/>
                <a:gridCol w="703440"/>
                <a:gridCol w="622080"/>
                <a:gridCol w="700200"/>
                <a:gridCol w="623880"/>
              </a:tblGrid>
              <a:tr h="697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磁铁的数量（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吸回形针的多少（个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  <a:tr h="601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猜测多吸或少吸回形针的数量（个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际多吸或少吸回形针的数量（个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59" name="WordArt 46"/>
          <p:cNvSpPr txBox="1"/>
          <p:nvPr/>
        </p:nvSpPr>
        <p:spPr>
          <a:xfrm>
            <a:off x="685800" y="388620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结论：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0" name="Text Box 47"/>
          <p:cNvSpPr/>
          <p:nvPr/>
        </p:nvSpPr>
        <p:spPr>
          <a:xfrm>
            <a:off x="609480" y="4800600"/>
            <a:ext cx="8458200" cy="5814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块环形磁铁上吸上另一块环形磁铁后，磁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增大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继续吸上磁铁，磁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(          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但增大幅度（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8"/>
          <p:cNvSpPr/>
          <p:nvPr/>
        </p:nvSpPr>
        <p:spPr>
          <a:xfrm>
            <a:off x="64008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继续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9"/>
          <p:cNvSpPr/>
          <p:nvPr/>
        </p:nvSpPr>
        <p:spPr>
          <a:xfrm>
            <a:off x="3200400" y="5791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减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8199"/>
          <p:cNvSpPr/>
          <p:nvPr/>
        </p:nvSpPr>
        <p:spPr>
          <a:xfrm>
            <a:off x="1117440" y="3551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9232920" cy="6858000"/>
            <a:chOff x="0" y="0"/>
            <a:chExt cx="9232920" cy="6858000"/>
          </a:xfrm>
        </p:grpSpPr>
        <p:pic>
          <p:nvPicPr>
            <p:cNvPr id="165" name="Picture 3" descr="45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280" cy="68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4"/>
            <p:cNvSpPr/>
            <p:nvPr/>
          </p:nvSpPr>
          <p:spPr>
            <a:xfrm>
              <a:off x="7709040" y="6324120"/>
              <a:ext cx="1523880" cy="53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 txBox="1"/>
          <p:nvPr/>
        </p:nvSpPr>
        <p:spPr>
          <a:xfrm>
            <a:off x="609120" y="1828440"/>
            <a:ext cx="75438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通过对环形磁铁的研究，我们发现：</a:t>
            </a:r>
            <a:r>
              <a:rPr b="1" lang="zh-CN" sz="4800" spc="-1" strike="noStrike">
                <a:solidFill>
                  <a:srgbClr val="800000"/>
                </a:solidFill>
                <a:latin typeface="宋体"/>
              </a:rPr>
              <a:t>两个或多个环形磁铁吸在一起， 磁力大小会增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219320" y="3886200"/>
            <a:ext cx="69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048120" y="457200"/>
            <a:ext cx="4029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小    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7696080" y="6324480"/>
            <a:ext cx="1524240" cy="534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想一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两块相互排斥的磁铁强行组合在 一起，它的磁力大小会变化吗？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IMG_2120"/>
          <p:cNvPicPr/>
          <p:nvPr/>
        </p:nvPicPr>
        <p:blipFill>
          <a:blip r:embed="rId1"/>
          <a:stretch/>
        </p:blipFill>
        <p:spPr>
          <a:xfrm>
            <a:off x="0" y="3809880"/>
            <a:ext cx="5105520" cy="3032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7972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BC9B-33B9-4C51-A368-9BC7EBB8AE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思考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后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762120" y="16765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宋体"/>
              </a:rPr>
              <a:t>磁铁还有很多形状，还有很多的组合方式，它们在一起磁力大小会变化吗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有何变化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宋体"/>
              </a:rPr>
              <a:t>同学们课外可以选几种情况，去研究研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76"/>
          <p:cNvPicPr/>
          <p:nvPr/>
        </p:nvPicPr>
        <p:blipFill>
          <a:blip r:embed="rId1"/>
          <a:stretch/>
        </p:blipFill>
        <p:spPr>
          <a:xfrm>
            <a:off x="763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思考问题"/>
          <p:cNvPicPr/>
          <p:nvPr/>
        </p:nvPicPr>
        <p:blipFill>
          <a:blip r:embed="rId2"/>
          <a:stretch/>
        </p:blipFill>
        <p:spPr>
          <a:xfrm>
            <a:off x="0" y="152280"/>
            <a:ext cx="1285920" cy="12099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838080" y="1752480"/>
            <a:ext cx="8077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磁铁能吸引铁的性质叫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磁铁上磁力最强的部分叫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磁铁有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磁极。我们把指北的磁极叫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把指南的磁极叫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两个相同的磁极叫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不相同的磁极叫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当两块磁铁相互接近时，同极会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异极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1600200" y="228600"/>
            <a:ext cx="1752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回顾旧知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715000" y="160020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磁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095880" y="2133720"/>
            <a:ext cx="17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磁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905120" y="266688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486400" y="4572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互吸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1600200" y="4572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互排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1371600" y="312408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北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5867280" y="3124080"/>
            <a:ext cx="17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南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2895480" y="3657600"/>
            <a:ext cx="17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同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7391520" y="358128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异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4101"/>
          <p:cNvPicPr/>
          <p:nvPr/>
        </p:nvPicPr>
        <p:blipFill>
          <a:blip r:embed="rId1"/>
          <a:stretch/>
        </p:blipFill>
        <p:spPr>
          <a:xfrm>
            <a:off x="0" y="3324240"/>
            <a:ext cx="4572000" cy="3513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4104D"/>
          <p:cNvPicPr/>
          <p:nvPr/>
        </p:nvPicPr>
        <p:blipFill>
          <a:blip r:embed="rId2"/>
          <a:stretch/>
        </p:blipFill>
        <p:spPr>
          <a:xfrm>
            <a:off x="4495680" y="3352680"/>
            <a:ext cx="4673880" cy="35053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838080" y="914400"/>
            <a:ext cx="818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形状，大小不同的磁铁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们的磁力也不一定相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81880" cy="9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比一比，哪块磁铁磁力更大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120" y="2437920"/>
            <a:ext cx="8610840" cy="27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（                               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衡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磁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磁力大小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1676520" y="304812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844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同一规格的回形针的数量多少</a:t>
            </a:r>
            <a:endParaRPr b="0" lang="en-US" sz="1800" spc="1" strike="noStrike">
              <a:ln w="2844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27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Arial"/>
              </a:rPr>
              <a:t>猜一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 rot="2866200">
            <a:off x="456840" y="4800600"/>
            <a:ext cx="106668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173" y="10800"/>
                </a:moveTo>
                <a:cubicBezTo>
                  <a:pt x="5173" y="13908"/>
                  <a:pt x="7692" y="16427"/>
                  <a:pt x="10800" y="16427"/>
                </a:cubicBezTo>
                <a:cubicBezTo>
                  <a:pt x="13908" y="16427"/>
                  <a:pt x="16427" y="13908"/>
                  <a:pt x="16427" y="10800"/>
                </a:cubicBezTo>
                <a:cubicBezTo>
                  <a:pt x="16427" y="7692"/>
                  <a:pt x="13908" y="5173"/>
                  <a:pt x="10800" y="5173"/>
                </a:cubicBezTo>
                <a:cubicBezTo>
                  <a:pt x="7692" y="5173"/>
                  <a:pt x="5173" y="7692"/>
                  <a:pt x="5173" y="108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 rot="2866200">
            <a:off x="2209680" y="4114440"/>
            <a:ext cx="1066680" cy="106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173" y="10800"/>
                </a:moveTo>
                <a:cubicBezTo>
                  <a:pt x="5173" y="13908"/>
                  <a:pt x="7692" y="16427"/>
                  <a:pt x="10800" y="16427"/>
                </a:cubicBezTo>
                <a:cubicBezTo>
                  <a:pt x="13908" y="16427"/>
                  <a:pt x="16427" y="13908"/>
                  <a:pt x="16427" y="10800"/>
                </a:cubicBezTo>
                <a:cubicBezTo>
                  <a:pt x="16427" y="7692"/>
                  <a:pt x="13908" y="5173"/>
                  <a:pt x="10800" y="5173"/>
                </a:cubicBezTo>
                <a:cubicBezTo>
                  <a:pt x="7692" y="5173"/>
                  <a:pt x="5173" y="7692"/>
                  <a:pt x="5173" y="108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85800" y="1523880"/>
            <a:ext cx="8004240" cy="70344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在一块磁铁上吸上另一块磁铁，磁铁的磁力大小会变化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8199"/>
          <p:cNvSpPr/>
          <p:nvPr/>
        </p:nvSpPr>
        <p:spPr>
          <a:xfrm>
            <a:off x="2878200" y="6332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83403 0.1 E">
                                      <p:cBhvr>
                                        <p:cTn id="197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76"/>
          <p:cNvPicPr/>
          <p:nvPr/>
        </p:nvPicPr>
        <p:blipFill>
          <a:blip r:embed="rId1"/>
          <a:stretch/>
        </p:blipFill>
        <p:spPr>
          <a:xfrm>
            <a:off x="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5"/>
          <p:cNvSpPr txBox="1"/>
          <p:nvPr/>
        </p:nvSpPr>
        <p:spPr>
          <a:xfrm>
            <a:off x="228600" y="762120"/>
            <a:ext cx="2819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宋体"/>
              </a:rPr>
              <a:t>温馨提示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66680" y="17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0880" y="1523880"/>
            <a:ext cx="854100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将一个回形针做成小钩子，其它回形针一个一个、轻轻的挂到钩子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回形针转动时用手轻轻扶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小组合作，一个人挂，一个人数，其他同学做好观察并记下落下之前的一次数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为了实验的准确性，要进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操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实验结束，整理好实验器材。并对所得数据进行分析，得出结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76"/>
          <p:cNvPicPr/>
          <p:nvPr/>
        </p:nvPicPr>
        <p:blipFill>
          <a:blip r:embed="rId1"/>
          <a:stretch/>
        </p:blipFill>
        <p:spPr>
          <a:xfrm>
            <a:off x="76320" y="7632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测一测，记录磁力大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14240" y="1379520"/>
          <a:ext cx="8048520" cy="3562200"/>
        </p:xfrm>
        <a:graphic>
          <a:graphicData uri="http://schemas.openxmlformats.org/drawingml/2006/table">
            <a:tbl>
              <a:tblPr/>
              <a:tblGrid>
                <a:gridCol w="4724280"/>
                <a:gridCol w="1685880"/>
                <a:gridCol w="1638360"/>
              </a:tblGrid>
              <a:tr h="736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磁铁的数量（块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  <a:tr h="689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吸回形针的多少（个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  <a:tr h="1076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猜测多吸或少吸回形针的数量（个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  <a:tr h="1060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际多吸还是少吸回形针的数量（个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20" name="WordArt 28"/>
          <p:cNvSpPr txBox="1"/>
          <p:nvPr/>
        </p:nvSpPr>
        <p:spPr>
          <a:xfrm>
            <a:off x="609480" y="518148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结论：</a:t>
            </a:r>
            <a:endParaRPr b="0" lang="en-US" sz="1800" spc="1" strike="noStrike">
              <a:ln w="3816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2057400" y="51055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块磁铁吸上另一块磁铁，磁力会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2666880" y="5715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增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依据收集的数据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分析数据，得到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继续吸上磁铁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 rot="2866200">
            <a:off x="7695720" y="5410080"/>
            <a:ext cx="1067040" cy="106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173" y="10800"/>
                </a:moveTo>
                <a:cubicBezTo>
                  <a:pt x="5173" y="13908"/>
                  <a:pt x="7692" y="16427"/>
                  <a:pt x="10800" y="16427"/>
                </a:cubicBezTo>
                <a:cubicBezTo>
                  <a:pt x="13908" y="16427"/>
                  <a:pt x="16427" y="13908"/>
                  <a:pt x="16427" y="10800"/>
                </a:cubicBezTo>
                <a:cubicBezTo>
                  <a:pt x="16427" y="7692"/>
                  <a:pt x="13908" y="5173"/>
                  <a:pt x="10800" y="5173"/>
                </a:cubicBezTo>
                <a:cubicBezTo>
                  <a:pt x="7692" y="5173"/>
                  <a:pt x="5173" y="7692"/>
                  <a:pt x="5173" y="108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 rot="2866200">
            <a:off x="7391160" y="3200400"/>
            <a:ext cx="106668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173" y="10800"/>
                </a:moveTo>
                <a:cubicBezTo>
                  <a:pt x="5173" y="13908"/>
                  <a:pt x="7692" y="16427"/>
                  <a:pt x="10800" y="16427"/>
                </a:cubicBezTo>
                <a:cubicBezTo>
                  <a:pt x="13908" y="16427"/>
                  <a:pt x="16427" y="13908"/>
                  <a:pt x="16427" y="10800"/>
                </a:cubicBezTo>
                <a:cubicBezTo>
                  <a:pt x="16427" y="7692"/>
                  <a:pt x="13908" y="5173"/>
                  <a:pt x="10800" y="5173"/>
                </a:cubicBezTo>
                <a:cubicBezTo>
                  <a:pt x="7692" y="5173"/>
                  <a:pt x="5173" y="7692"/>
                  <a:pt x="5173" y="108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 rot="2866200">
            <a:off x="5790960" y="5105520"/>
            <a:ext cx="106668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173" y="10800"/>
                </a:moveTo>
                <a:cubicBezTo>
                  <a:pt x="5173" y="13908"/>
                  <a:pt x="7692" y="16427"/>
                  <a:pt x="10800" y="16427"/>
                </a:cubicBezTo>
                <a:cubicBezTo>
                  <a:pt x="13908" y="16427"/>
                  <a:pt x="16427" y="13908"/>
                  <a:pt x="16427" y="10800"/>
                </a:cubicBezTo>
                <a:cubicBezTo>
                  <a:pt x="16427" y="7692"/>
                  <a:pt x="13908" y="5173"/>
                  <a:pt x="10800" y="5173"/>
                </a:cubicBezTo>
                <a:cubicBezTo>
                  <a:pt x="7692" y="5173"/>
                  <a:pt x="5173" y="7692"/>
                  <a:pt x="5173" y="108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 rot="2866200">
            <a:off x="4495680" y="5105160"/>
            <a:ext cx="1066680" cy="106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981" y="10800"/>
                </a:moveTo>
                <a:cubicBezTo>
                  <a:pt x="4981" y="14014"/>
                  <a:pt x="7586" y="16619"/>
                  <a:pt x="10800" y="16619"/>
                </a:cubicBezTo>
                <a:cubicBezTo>
                  <a:pt x="14014" y="16619"/>
                  <a:pt x="16619" y="14014"/>
                  <a:pt x="16619" y="10800"/>
                </a:cubicBezTo>
                <a:cubicBezTo>
                  <a:pt x="16619" y="7586"/>
                  <a:pt x="14014" y="4981"/>
                  <a:pt x="10800" y="4981"/>
                </a:cubicBezTo>
                <a:cubicBezTo>
                  <a:pt x="7586" y="4981"/>
                  <a:pt x="4981" y="7586"/>
                  <a:pt x="4981" y="108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2438280" y="1752480"/>
            <a:ext cx="4114800" cy="1905120"/>
          </a:xfrm>
          <a:prstGeom prst="cloudCallout">
            <a:avLst>
              <a:gd name="adj1" fmla="val -46837"/>
              <a:gd name="adj2" fmla="val 6008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磁力大小会变化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305424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13334 -0.01111 E">
                                      <p:cBhvr>
                                        <p:cTn id="26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-0.31667 0.26667 E">
                                      <p:cBhvr>
                                        <p:cTn id="26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-0.35 -0.05556 E">
                                      <p:cBhvr>
                                        <p:cTn id="273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5"/>
          <p:cNvSpPr txBox="1"/>
          <p:nvPr/>
        </p:nvSpPr>
        <p:spPr>
          <a:xfrm>
            <a:off x="228600" y="838080"/>
            <a:ext cx="2819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宋体"/>
              </a:rPr>
              <a:t>温馨提示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848520" y="190512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实验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161080" y="4267080"/>
            <a:ext cx="464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每增加一块磁铁，请预先猜测一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吸引回形针的数量有什么变化？然后测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8"/>
          <p:cNvGrpSpPr/>
          <p:nvPr/>
        </p:nvGrpSpPr>
        <p:grpSpPr>
          <a:xfrm>
            <a:off x="304920" y="2590920"/>
            <a:ext cx="8762400" cy="1218960"/>
            <a:chOff x="304920" y="2590920"/>
            <a:chExt cx="8762400" cy="1218960"/>
          </a:xfrm>
        </p:grpSpPr>
        <p:sp>
          <p:nvSpPr>
            <p:cNvPr id="138" name="AutoShape 9"/>
            <p:cNvSpPr/>
            <p:nvPr/>
          </p:nvSpPr>
          <p:spPr>
            <a:xfrm>
              <a:off x="304920" y="2742840"/>
              <a:ext cx="1294920" cy="9903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提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问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0"/>
            <p:cNvSpPr/>
            <p:nvPr/>
          </p:nvSpPr>
          <p:spPr>
            <a:xfrm>
              <a:off x="2361960" y="2742840"/>
              <a:ext cx="1294920" cy="9903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作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猜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1599840" y="3124080"/>
              <a:ext cx="685440" cy="75600"/>
            </a:xfrm>
            <a:prstGeom prst="rightArrow">
              <a:avLst>
                <a:gd name="adj1" fmla="val 50000"/>
                <a:gd name="adj2" fmla="val 22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2"/>
            <p:cNvSpPr/>
            <p:nvPr/>
          </p:nvSpPr>
          <p:spPr>
            <a:xfrm>
              <a:off x="4571640" y="2590920"/>
              <a:ext cx="1904760" cy="12189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做实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获取数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13"/>
            <p:cNvSpPr/>
            <p:nvPr/>
          </p:nvSpPr>
          <p:spPr>
            <a:xfrm>
              <a:off x="7391160" y="2590920"/>
              <a:ext cx="1676160" cy="12189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分析数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得出结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4"/>
            <p:cNvSpPr/>
            <p:nvPr/>
          </p:nvSpPr>
          <p:spPr>
            <a:xfrm>
              <a:off x="3733560" y="3200040"/>
              <a:ext cx="685440" cy="75960"/>
            </a:xfrm>
            <a:prstGeom prst="rightArrow">
              <a:avLst>
                <a:gd name="adj1" fmla="val 50000"/>
                <a:gd name="adj2" fmla="val 22559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5"/>
            <p:cNvSpPr/>
            <p:nvPr/>
          </p:nvSpPr>
          <p:spPr>
            <a:xfrm>
              <a:off x="6553080" y="3124080"/>
              <a:ext cx="685440" cy="75600"/>
            </a:xfrm>
            <a:prstGeom prst="rightArrow">
              <a:avLst>
                <a:gd name="adj1" fmla="val 50000"/>
                <a:gd name="adj2" fmla="val 22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28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11Z</dcterms:modified>
  <cp:revision>1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