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laser.wav" ContentType="audio/x-wav"/>
  <Override PartName="/ppt/media/type.wav" ContentType="audio/x-wav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7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2450-73AC-4256-8D35-14C62706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812-4B03-409B-BB0A-FE43EBF8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38ED-8F88-443B-96D0-397BE644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9A6-17CF-4A2C-AFDD-2FF32E60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A87E-4BFF-4EE1-9C72-55A69955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89A8-F73F-4DC2-AA53-E9C64088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99B1-8B1B-4117-BBBE-6E8E8020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CE48-AD98-4BCF-B4B4-53579C40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30BD-E039-4B52-B2E3-5EECA310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15800" y="25380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9DCD-608B-4872-9919-5C5EB85E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7CD8-5FD2-4902-BD82-92C6BD27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43C5-19BE-4BA7-BBBA-907A5546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4A37-DF67-48DB-860A-267446F2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EC12-247E-45CE-BF9D-AC2E4C1F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3BA7-C861-4461-B1BC-3C78F549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D596-E31B-43B3-9E79-580CAE2A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72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40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904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72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40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E30C-78A9-4074-9303-734CB55D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1A594-7A08-420A-8BBA-18B31DDC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4A357-9278-4CC2-8B4A-2E0A311C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A6960-52D1-42A6-99CF-8AFF24B8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B7253-6DD4-4816-8C09-CC305166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9D5A5-948C-42D6-9F98-F3391F29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15A9-DF92-4E5C-BA1B-B17BC210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15800" y="25380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009E9-AC89-462B-8477-45C3B0E4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8D287-2D26-4A30-B276-000D8F53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E1C0E-CFEB-4DB3-9A2E-FB15C3A2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F286B-8989-45FB-8B6A-4815B1E9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F73B8-B8B4-4C7B-9476-26D808E6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04F2E-BCD9-402D-B68B-5144BB8C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2272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640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1904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2272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640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FD495-95CA-42CA-8086-551DC794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36251-8274-450C-A032-144F9747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CF511-4649-4254-8995-4ACCE4EB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C7F19-B29A-456D-920D-04D75D93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F51-33FC-4DF0-BE26-70DC36B2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061A6-2ACC-4298-92AE-AE00A80A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409EB-B845-4CF7-88EB-758BE26E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15800" y="25380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7D65E-0BD7-4B16-A387-8453FED3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C6A0A-11B4-486A-B141-5E081CA7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42FCF-9077-4A01-97B5-2628D8F5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77985-4991-4FE3-A9DD-9E123266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10DF1-8527-415D-94A7-6A6268A2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DFEC0-CC7C-4EC5-B40E-424EE364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2272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640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1904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2272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640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51928-6F1A-4D00-BDFD-DDCE331B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77939-82E3-4744-B5EA-646F9E7E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B609-DB80-4F3F-BDFC-0DE56105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B77C0-7BF1-4381-9461-5995006A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2CEA9-8102-4566-A16A-F62129D4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A39AA-A0B0-482A-9811-DEC62886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309C3-DBFD-453A-943F-153CADFE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15800" y="25380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B7246-4661-4F1F-A983-CEC8752E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41DF3-A38F-4C38-92FD-6EDA8137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3D2E2-B90E-43AC-9759-059F12A4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DD26B-2E6A-47C4-8A73-6C575455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DBD76-83DC-4314-A6CE-D2C7FF0C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7590B-462A-46DD-A224-C10E333D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5800" y="25380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7AC-1B54-4045-BFB8-5F69757E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2272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640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1904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2272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640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99A1D-8552-4F2E-84D6-70FCF591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45DA0-977A-4DBC-9FE1-A327490E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D39DF-927D-4A35-B095-4F174D2A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F0263-8C92-4AD6-9650-F9BE0C91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41085-6B3E-43C9-8B9D-E955B598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EA05A-AC52-47C0-9CF8-4E9B57AC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15800" y="25380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B54DC-C29B-4A98-B1CE-38E8D860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82316-6B04-4340-A4E6-11CC3B4D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424D9-5B9A-4DEB-84CC-A6682977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0293D-815E-4606-BE2B-5DEB09DC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E42B-4CBD-4813-9313-521002D0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0F2F1-5F94-45A8-8BE0-294DE32B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22604-2358-44E7-BDBE-4D298D27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2272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640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1904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2272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640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ACD9D-C8E7-4593-BBB6-9F5A0922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4C7E9-94DB-4211-93B3-6AB603FE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700C3-CD3A-40EC-BA84-C5D22928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80220-0F7F-444E-BF1B-31B0263F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835EB-D378-40C1-8016-FE68F2AD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D45AA-044D-4C54-A3C0-2E8A73C7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15800" y="25380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FF0AE-F75F-4142-8BF0-030DA69E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FA0B2-0FAF-4A94-881F-19065572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6BCB-42D3-41DC-8F96-3088502D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4AA25-E27A-47BC-A902-26E7B6F5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8A410-D35D-444B-BB96-493FA5D0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515E8-1D58-4269-8666-C77FB7B6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3E127-38EE-4F35-8869-C6A81362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2272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640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1904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2272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640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2554C-DAB1-4A7E-8F11-A473342D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0C8-358E-4C04-8509-F5FA9314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6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6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2DAF-A55F-4582-897E-04036A5737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8956-91F4-4515-9C18-7F5FC4A22E98}" type="slidenum">
              <a:rPr b="0" lang="zh-CN" sz="12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e9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523440" y="1271160"/>
            <a:ext cx="816156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3b8de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de9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70d4d7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de9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de9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de9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de9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de9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de9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50" descr=""/>
          <p:cNvPicPr/>
          <p:nvPr/>
        </p:nvPicPr>
        <p:blipFill>
          <a:blip r:embed="rId2"/>
          <a:stretch/>
        </p:blipFill>
        <p:spPr>
          <a:xfrm>
            <a:off x="-792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C92D-E688-409F-AA6D-6F2A9D5669E7}" type="slidenum">
              <a:rPr b="0" lang="zh-CN" sz="12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6951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26951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6951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abe8b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6951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6951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6951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6951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6951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6951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15BA-7550-47EF-BCF6-73F7234917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6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6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6534-CA2D-40CD-8A3A-B2E1DB07FE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e9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523440" y="1271160"/>
            <a:ext cx="816156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3b8de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de9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70d4d7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de9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de9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de9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de9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de9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de9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DFF8-1B74-48E2-80DB-B35157168366}" type="slidenum">
              <a:rPr b="0" lang="zh-CN" sz="12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片 7" descr=""/>
          <p:cNvPicPr/>
          <p:nvPr/>
        </p:nvPicPr>
        <p:blipFill>
          <a:blip r:embed="rId2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6951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26951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6951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abe8b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6951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6951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6951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6951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6951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6951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AE80-CE0F-430F-AD07-4577AEBDC944}" type="slidenum">
              <a:rPr b="0" lang="zh-CN" sz="12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2"/>
          <p:cNvSpPr txBox="1"/>
          <p:nvPr/>
        </p:nvSpPr>
        <p:spPr>
          <a:xfrm>
            <a:off x="2340000" y="1268280"/>
            <a:ext cx="39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800000"/>
                </a:solidFill>
                <a:latin typeface="微软雅黑"/>
              </a:rPr>
              <a:t>动物的生命周期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800000"/>
              </a:solidFill>
              <a:latin typeface="微软雅黑"/>
              <a:ea typeface="微软雅黑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2124000" y="549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  <a:ea typeface="宋体"/>
              </a:rPr>
              <a:t>三年级科学下册  第二单元</a:t>
            </a:r>
            <a:endParaRPr b="0" lang="en-US" sz="2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94" name="WordArt 5"/>
          <p:cNvSpPr txBox="1"/>
          <p:nvPr/>
        </p:nvSpPr>
        <p:spPr>
          <a:xfrm>
            <a:off x="1095480" y="2060640"/>
            <a:ext cx="70070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蚕卵里孵出的新生命课件</a:t>
            </a:r>
            <a:r>
              <a:rPr b="1" lang="en-US" sz="4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9360">
                <a:solidFill>
                  <a:srgbClr val="ff0000"/>
                </a:solidFill>
                <a:round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5" name="文本框 6155"/>
          <p:cNvSpPr/>
          <p:nvPr/>
        </p:nvSpPr>
        <p:spPr>
          <a:xfrm>
            <a:off x="1585800" y="59961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66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348000" y="227664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  <a:ea typeface="宋体"/>
              </a:rPr>
              <a:t>刚穿破蚕卵的蚕宝宝 </a:t>
            </a:r>
            <a:endParaRPr b="0" lang="en-US" sz="2400" spc="-1" strike="noStrike">
              <a:solidFill>
                <a:srgbClr val="66ffff"/>
              </a:solidFill>
              <a:latin typeface="Arial"/>
            </a:endParaRPr>
          </a:p>
        </p:txBody>
      </p:sp>
      <p:pic>
        <p:nvPicPr>
          <p:cNvPr id="324" name="Picture 3" descr="L008"/>
          <p:cNvPicPr/>
          <p:nvPr/>
        </p:nvPicPr>
        <p:blipFill>
          <a:blip r:embed="rId1"/>
          <a:stretch/>
        </p:blipFill>
        <p:spPr>
          <a:xfrm>
            <a:off x="3276720" y="333360"/>
            <a:ext cx="2592360" cy="193212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4"/>
          <p:cNvSpPr/>
          <p:nvPr/>
        </p:nvSpPr>
        <p:spPr>
          <a:xfrm>
            <a:off x="179280" y="2205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  <a:ea typeface="宋体"/>
              </a:rPr>
              <a:t>孵化前蚕卵颜色逐渐变成紫黑色 </a:t>
            </a:r>
            <a:endParaRPr b="0" lang="en-US" sz="2400" spc="-1" strike="noStrike">
              <a:solidFill>
                <a:srgbClr val="66ffff"/>
              </a:solidFill>
              <a:latin typeface="Arial"/>
            </a:endParaRPr>
          </a:p>
        </p:txBody>
      </p:sp>
      <p:pic>
        <p:nvPicPr>
          <p:cNvPr id="326" name="Picture 5" descr="L007"/>
          <p:cNvPicPr/>
          <p:nvPr/>
        </p:nvPicPr>
        <p:blipFill>
          <a:blip r:embed="rId2"/>
          <a:stretch/>
        </p:blipFill>
        <p:spPr>
          <a:xfrm>
            <a:off x="324000" y="333360"/>
            <a:ext cx="2376360" cy="17827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6"/>
          <p:cNvSpPr/>
          <p:nvPr/>
        </p:nvSpPr>
        <p:spPr>
          <a:xfrm>
            <a:off x="6443640" y="2349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  <a:ea typeface="宋体"/>
              </a:rPr>
              <a:t>蚕宝宝的头已微微探出蚕卵外 </a:t>
            </a:r>
            <a:endParaRPr b="0" lang="en-US" sz="2400" spc="-1" strike="noStrike">
              <a:solidFill>
                <a:srgbClr val="66ffff"/>
              </a:solidFill>
              <a:latin typeface="Arial"/>
            </a:endParaRPr>
          </a:p>
        </p:txBody>
      </p:sp>
      <p:pic>
        <p:nvPicPr>
          <p:cNvPr id="328" name="Picture 7" descr="L010"/>
          <p:cNvPicPr/>
          <p:nvPr/>
        </p:nvPicPr>
        <p:blipFill>
          <a:blip r:embed="rId3"/>
          <a:stretch/>
        </p:blipFill>
        <p:spPr>
          <a:xfrm>
            <a:off x="6156360" y="333360"/>
            <a:ext cx="2843280" cy="2119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L009[1]"/>
          <p:cNvPicPr/>
          <p:nvPr/>
        </p:nvPicPr>
        <p:blipFill>
          <a:blip r:embed="rId4"/>
          <a:stretch/>
        </p:blipFill>
        <p:spPr>
          <a:xfrm>
            <a:off x="6156360" y="3429000"/>
            <a:ext cx="2736720" cy="202716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9"/>
          <p:cNvSpPr/>
          <p:nvPr/>
        </p:nvSpPr>
        <p:spPr>
          <a:xfrm>
            <a:off x="6588000" y="5661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  <a:ea typeface="宋体"/>
              </a:rPr>
              <a:t>即将脱离蚕卵的蚕宝宝 </a:t>
            </a:r>
            <a:endParaRPr b="0" lang="en-US" sz="2400" spc="-1" strike="noStrike">
              <a:solidFill>
                <a:srgbClr val="66ffff"/>
              </a:solidFill>
              <a:latin typeface="Arial"/>
            </a:endParaRPr>
          </a:p>
        </p:txBody>
      </p:sp>
      <p:pic>
        <p:nvPicPr>
          <p:cNvPr id="331" name="Picture 10" descr="L011[1]"/>
          <p:cNvPicPr/>
          <p:nvPr/>
        </p:nvPicPr>
        <p:blipFill>
          <a:blip r:embed="rId5"/>
          <a:stretch/>
        </p:blipFill>
        <p:spPr>
          <a:xfrm>
            <a:off x="3348000" y="3429000"/>
            <a:ext cx="2643120" cy="19573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1" descr="L012[1]"/>
          <p:cNvPicPr/>
          <p:nvPr/>
        </p:nvPicPr>
        <p:blipFill>
          <a:blip r:embed="rId6"/>
          <a:stretch/>
        </p:blipFill>
        <p:spPr>
          <a:xfrm>
            <a:off x="250920" y="3429000"/>
            <a:ext cx="2665440" cy="197496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3780000" y="573408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  <a:ea typeface="宋体"/>
              </a:rPr>
              <a:t>已爬出蚕卵的蚕宝宝 </a:t>
            </a:r>
            <a:endParaRPr b="0" lang="en-US" sz="2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324000" y="57340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  <a:ea typeface="宋体"/>
              </a:rPr>
              <a:t>爬行中的蚁蚕看起来就像一只小蚂蚁 </a:t>
            </a:r>
            <a:endParaRPr b="0" lang="en-US" sz="2400" spc="-1" strike="noStrike">
              <a:solidFill>
                <a:srgbClr val="66ffff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700360" y="1341360"/>
            <a:ext cx="576360" cy="360"/>
            <a:chOff x="2700360" y="1341360"/>
            <a:chExt cx="576360" cy="360"/>
          </a:xfrm>
        </p:grpSpPr>
        <p:sp>
          <p:nvSpPr>
            <p:cNvPr id="336" name="Line 14"/>
            <p:cNvSpPr/>
            <p:nvPr/>
          </p:nvSpPr>
          <p:spPr>
            <a:xfrm>
              <a:off x="2700360" y="1341360"/>
              <a:ext cx="576360" cy="0"/>
            </a:xfrm>
            <a:prstGeom prst="line">
              <a:avLst/>
            </a:prstGeom>
            <a:ln w="66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ffff"/>
                </a:solidFill>
                <a:latin typeface="Arial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2700360" y="134136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ff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867280" y="1413000"/>
            <a:ext cx="432000" cy="360"/>
            <a:chOff x="5867280" y="1413000"/>
            <a:chExt cx="432000" cy="360"/>
          </a:xfrm>
        </p:grpSpPr>
        <p:sp>
          <p:nvSpPr>
            <p:cNvPr id="339" name="Line 15"/>
            <p:cNvSpPr/>
            <p:nvPr/>
          </p:nvSpPr>
          <p:spPr>
            <a:xfrm>
              <a:off x="5867280" y="1413000"/>
              <a:ext cx="432000" cy="0"/>
            </a:xfrm>
            <a:prstGeom prst="line">
              <a:avLst/>
            </a:prstGeom>
            <a:ln w="66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ffff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5867280" y="1413000"/>
              <a:ext cx="4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ff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771640" y="4365720"/>
            <a:ext cx="648000" cy="360"/>
            <a:chOff x="2771640" y="4365720"/>
            <a:chExt cx="648000" cy="360"/>
          </a:xfrm>
        </p:grpSpPr>
        <p:sp>
          <p:nvSpPr>
            <p:cNvPr id="342" name="Line 16"/>
            <p:cNvSpPr/>
            <p:nvPr/>
          </p:nvSpPr>
          <p:spPr>
            <a:xfrm flipH="1">
              <a:off x="2771640" y="4365720"/>
              <a:ext cx="648000" cy="0"/>
            </a:xfrm>
            <a:prstGeom prst="line">
              <a:avLst/>
            </a:prstGeom>
            <a:ln w="66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ffff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771640" y="4365720"/>
              <a:ext cx="64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443640" y="2565360"/>
            <a:ext cx="360" cy="719280"/>
            <a:chOff x="6443640" y="2565360"/>
            <a:chExt cx="360" cy="719280"/>
          </a:xfrm>
        </p:grpSpPr>
        <p:sp>
          <p:nvSpPr>
            <p:cNvPr id="345" name="Line 17"/>
            <p:cNvSpPr/>
            <p:nvPr/>
          </p:nvSpPr>
          <p:spPr>
            <a:xfrm>
              <a:off x="6443640" y="2565360"/>
              <a:ext cx="0" cy="719280"/>
            </a:xfrm>
            <a:prstGeom prst="line">
              <a:avLst/>
            </a:prstGeom>
            <a:ln w="66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ffff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6443640" y="2565360"/>
              <a:ext cx="360" cy="71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724000" y="4508640"/>
            <a:ext cx="576720" cy="360"/>
            <a:chOff x="5724000" y="4508640"/>
            <a:chExt cx="576720" cy="360"/>
          </a:xfrm>
        </p:grpSpPr>
        <p:sp>
          <p:nvSpPr>
            <p:cNvPr id="348" name="Line 18"/>
            <p:cNvSpPr/>
            <p:nvPr/>
          </p:nvSpPr>
          <p:spPr>
            <a:xfrm flipH="1">
              <a:off x="5724000" y="4508640"/>
              <a:ext cx="576360" cy="0"/>
            </a:xfrm>
            <a:prstGeom prst="line">
              <a:avLst/>
            </a:prstGeom>
            <a:ln w="66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ffff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5724360" y="450864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ff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720" y="43920"/>
            <a:ext cx="9002520" cy="62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</a:rPr>
              <a:t>蚕的孵化纪录</a:t>
            </a: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36360" y="693720"/>
          <a:ext cx="9072720" cy="6164280"/>
        </p:xfrm>
        <a:graphic>
          <a:graphicData uri="http://schemas.openxmlformats.org/drawingml/2006/table">
            <a:tbl>
              <a:tblPr/>
              <a:tblGrid>
                <a:gridCol w="2130480"/>
                <a:gridCol w="2130480"/>
                <a:gridCol w="2131920"/>
                <a:gridCol w="2679840"/>
              </a:tblGrid>
              <a:tr h="113832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日期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气温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蚕的变化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我的发现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484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月</a:t>
                      </a: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日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15</a:t>
                      </a: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度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蚕卵是黑色的，像一颗颗萝卜种籽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刚孵出的蚕宝宝黑黑的像很小的蚂蚁所以叫做</a:t>
                      </a: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幼圆"/>
                          <a:ea typeface="宋体"/>
                        </a:rPr>
                        <a:t>“</a:t>
                      </a: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蚁蚕</a:t>
                      </a: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幼圆"/>
                          <a:ea typeface="宋体"/>
                        </a:rPr>
                        <a:t>”</a:t>
                      </a: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。蚁蚕虽小，但蠕动挺快的，身上长满细毛，大约两天后细毛就不明显。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704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月</a:t>
                      </a: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日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度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破壳而出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408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月</a:t>
                      </a: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日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度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99"/>
                          </a:solidFill>
                          <a:latin typeface="Calibri"/>
                          <a:ea typeface="宋体"/>
                        </a:rPr>
                        <a:t>卵壳变成淡黃色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900000" y="407664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f5f5f"/>
                </a:solidFill>
                <a:latin typeface="Arial"/>
                <a:ea typeface="宋体"/>
              </a:rPr>
              <a:t>小蚕的家 </a:t>
            </a:r>
            <a:r>
              <a:rPr b="1" lang="zh-CN" sz="4800" spc="-1" strike="noStrike">
                <a:solidFill>
                  <a:srgbClr val="5f5f5f"/>
                </a:solidFill>
                <a:latin typeface="Arial"/>
                <a:ea typeface="宋体"/>
              </a:rPr>
              <a:t>---- </a:t>
            </a:r>
            <a:r>
              <a:rPr b="1" lang="zh-CN" sz="4800" spc="-1" strike="noStrike">
                <a:solidFill>
                  <a:srgbClr val="5f5f5f"/>
                </a:solidFill>
                <a:latin typeface="Arial"/>
                <a:ea typeface="宋体"/>
              </a:rPr>
              <a:t>纸盒子</a:t>
            </a:r>
            <a:endParaRPr b="0" lang="en-US" sz="4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36360" y="4654440"/>
            <a:ext cx="90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宋体"/>
              </a:rPr>
              <a:t>为什么要在盒盖上扎一些小孔？</a:t>
            </a:r>
            <a:endParaRPr b="0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36360" y="530208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99"/>
                </a:solidFill>
                <a:latin typeface="Arial"/>
                <a:ea typeface="宋体"/>
              </a:rPr>
              <a:t>为了保持空气流通。</a:t>
            </a:r>
            <a:endParaRPr b="0" lang="en-US" sz="7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4067280" y="2602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  <a:ea typeface="宋体"/>
              </a:rPr>
              <a:t>刚孵出的小蚕：</a:t>
            </a:r>
            <a:endParaRPr b="0" lang="en-US" sz="3600" spc="-1" strike="noStrike">
              <a:solidFill>
                <a:srgbClr val="66ffff"/>
              </a:solidFill>
              <a:latin typeface="Arial"/>
            </a:endParaRPr>
          </a:p>
        </p:txBody>
      </p:sp>
      <p:pic>
        <p:nvPicPr>
          <p:cNvPr id="356" name="Picture 6" descr="L012[1]"/>
          <p:cNvPicPr/>
          <p:nvPr/>
        </p:nvPicPr>
        <p:blipFill>
          <a:blip r:embed="rId1"/>
          <a:stretch/>
        </p:blipFill>
        <p:spPr>
          <a:xfrm>
            <a:off x="324000" y="404640"/>
            <a:ext cx="3384360" cy="250848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7"/>
          <p:cNvSpPr/>
          <p:nvPr/>
        </p:nvSpPr>
        <p:spPr>
          <a:xfrm>
            <a:off x="3708360" y="981000"/>
            <a:ext cx="54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宋体"/>
              </a:rPr>
              <a:t>身体是褐色的，很细小，身体上有细毛，长约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宋体"/>
              </a:rPr>
              <a:t>2—3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宋体"/>
              </a:rPr>
              <a:t>毫米。体宽约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宋体"/>
              </a:rPr>
              <a:t>0.5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宋体"/>
              </a:rPr>
              <a:t>毫米，外形像蚂蚁，把它叫做蚁蚕。</a:t>
            </a:r>
            <a:endParaRPr b="0" lang="en-US" sz="40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1332000" y="98100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宋体"/>
              </a:rPr>
              <a:t>注意观察蚕卵的变化，记录小蚕孵出的日期和气温，想想小蚕的孵化和哪些条件有关。</a:t>
            </a:r>
            <a:endParaRPr b="0" lang="en-US" sz="5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59" name="AutoShape 3"/>
          <p:cNvSpPr/>
          <p:nvPr/>
        </p:nvSpPr>
        <p:spPr>
          <a:xfrm>
            <a:off x="4716360" y="4149720"/>
            <a:ext cx="4032360" cy="2376360"/>
          </a:xfrm>
          <a:prstGeom prst="cloudCallout">
            <a:avLst>
              <a:gd name="adj1" fmla="val -42875"/>
              <a:gd name="adj2" fmla="val 91148"/>
            </a:avLst>
          </a:prstGeom>
          <a:solidFill>
            <a:srgbClr val="826951"/>
          </a:solidFill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宋体"/>
              </a:rPr>
              <a:t>如果天气干燥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宋体"/>
              </a:rPr>
              <a:t>可以在蚕卵上洒些水。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1619280" y="40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  <a:ea typeface="方正舒体"/>
              </a:rPr>
              <a:t>小提示：</a:t>
            </a:r>
            <a:endParaRPr b="0" lang="en-US" sz="36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1" name="文本框 8199"/>
          <p:cNvSpPr/>
          <p:nvPr/>
        </p:nvSpPr>
        <p:spPr>
          <a:xfrm>
            <a:off x="3379680" y="558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幼圆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幼圆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66ffff"/>
                </a:solidFill>
                <a:latin typeface="幼圆"/>
                <a:ea typeface="宋体"/>
              </a:rPr>
              <a:t>http://www.eeppt.com</a:t>
            </a:r>
            <a:endParaRPr b="0" lang="en-US" sz="16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94920" y="1432080"/>
            <a:ext cx="82803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26951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99"/>
                </a:solidFill>
                <a:latin typeface="幼圆"/>
              </a:rPr>
              <a:t>空气流通</a:t>
            </a:r>
            <a:endParaRPr b="0" lang="en-US" sz="9600" spc="-1" strike="noStrike">
              <a:solidFill>
                <a:srgbClr val="826951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26951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99"/>
                </a:solidFill>
                <a:latin typeface="幼圆"/>
              </a:rPr>
              <a:t>适宜的温度</a:t>
            </a:r>
            <a:endParaRPr b="0" lang="en-US" sz="9600" spc="-1" strike="noStrike">
              <a:solidFill>
                <a:srgbClr val="826951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26951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99"/>
                </a:solidFill>
                <a:latin typeface="幼圆"/>
              </a:rPr>
              <a:t>适宜的湿度</a:t>
            </a:r>
            <a:endParaRPr b="0" lang="en-US" sz="96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95280" y="404640"/>
            <a:ext cx="81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f5f5f"/>
                </a:solidFill>
                <a:latin typeface="Arial"/>
                <a:ea typeface="宋体"/>
              </a:rPr>
              <a:t>小蚕的孵化条件：</a:t>
            </a:r>
            <a:endParaRPr b="0" lang="en-US" sz="66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</a:rPr>
              <a:t>蚕的生长需要一定的温度吗？</a:t>
            </a: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720" y="981000"/>
            <a:ext cx="9218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幼圆"/>
              </a:rPr>
              <a:t>外界温度的高低，对蚕宝宝的生长发育有着很大的关系。如果蚕较长时间处在 </a:t>
            </a:r>
            <a:r>
              <a:rPr b="1" lang="en-US" sz="3600" spc="-1" strike="noStrike">
                <a:solidFill>
                  <a:srgbClr val="33cc33"/>
                </a:solidFill>
                <a:latin typeface="幼圆"/>
              </a:rPr>
              <a:t>16℃</a:t>
            </a:r>
            <a:r>
              <a:rPr b="1" lang="zh-CN" sz="3600" spc="-1" strike="noStrike">
                <a:solidFill>
                  <a:srgbClr val="33cc33"/>
                </a:solidFill>
                <a:latin typeface="幼圆"/>
              </a:rPr>
              <a:t>的温度中，就会运动滞呆，发育缓慢，体重减轻，体型变小，蚕茧产量质量都要降低。在</a:t>
            </a:r>
            <a:r>
              <a:rPr b="1" lang="en-US" sz="3600" spc="-1" strike="noStrike">
                <a:solidFill>
                  <a:srgbClr val="33cc33"/>
                </a:solidFill>
                <a:latin typeface="幼圆"/>
              </a:rPr>
              <a:t>7.5℃</a:t>
            </a:r>
            <a:r>
              <a:rPr b="1" lang="zh-CN" sz="3600" spc="-1" strike="noStrike">
                <a:solidFill>
                  <a:srgbClr val="33cc33"/>
                </a:solidFill>
                <a:latin typeface="幼圆"/>
              </a:rPr>
              <a:t>的低温中，蚕就既不进食也不活动，停止发育。如果蚕长期处在</a:t>
            </a:r>
            <a:r>
              <a:rPr b="1" lang="en-US" sz="3600" spc="-1" strike="noStrike">
                <a:solidFill>
                  <a:srgbClr val="33cc33"/>
                </a:solidFill>
                <a:latin typeface="幼圆"/>
              </a:rPr>
              <a:t>30℃</a:t>
            </a:r>
            <a:r>
              <a:rPr b="1" lang="zh-CN" sz="3600" spc="-1" strike="noStrike">
                <a:solidFill>
                  <a:srgbClr val="33cc33"/>
                </a:solidFill>
                <a:latin typeface="幼圆"/>
              </a:rPr>
              <a:t>以上的高温中，蚕也会出现发育困难、代谢作用衰退的状态，而且容易生病。所以外界温度太高或太低对养蚕都会带来不利的影响，这就需要我们靠人工在蚕室里保持一定的温度。</a:t>
            </a:r>
            <a:r>
              <a:rPr b="0" lang="zh-CN" sz="2000" spc="-1" strike="noStrike">
                <a:solidFill>
                  <a:srgbClr val="33cc33"/>
                </a:solidFill>
                <a:latin typeface="幼圆"/>
              </a:rPr>
              <a:t> </a:t>
            </a:r>
            <a:endParaRPr b="0" lang="en-US" sz="2000" spc="-1" strike="noStrike">
              <a:solidFill>
                <a:srgbClr val="826951"/>
              </a:solidFill>
              <a:latin typeface="幼圆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8000" y="117000"/>
            <a:ext cx="8601120" cy="8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微软雅黑"/>
              </a:rPr>
              <a:t>蚕的生长需要一定的湿度吗？</a:t>
            </a:r>
            <a:endParaRPr b="1" lang="en-US" sz="48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360" y="980640"/>
            <a:ext cx="910728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</a:rPr>
              <a:t>空气中湿度高低，也直接影响蚕体水分的散发、体温调节和物质代谢。蚕宝宝需要的水分，是从桑叶中来的。如果蚕室湿度小，过于干燥，蚕宝宝从身体表面蒸发的水分就多，从桑叶中得到的水分就满足不了它的需要，阻碍蚕宝宝的生长发育，桑叶也容易干枯受损失。如果蚕室湿度大，过于潮湿，蚕宝宝体内水分散发慢，存在蚕体内的水分太多，蚕体虚胖，很易感染得病。所以，蚕室必须保持一定的空气湿度</a:t>
            </a:r>
            <a:endParaRPr b="0" lang="en-US" sz="3600" spc="-1" strike="noStrike">
              <a:solidFill>
                <a:srgbClr val="826951"/>
              </a:solidFill>
              <a:latin typeface="幼圆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WordArt 2"/>
          <p:cNvSpPr txBox="1"/>
          <p:nvPr/>
        </p:nvSpPr>
        <p:spPr>
          <a:xfrm>
            <a:off x="1835280" y="549360"/>
            <a:ext cx="55465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养蚕窍门</a:t>
            </a:r>
            <a:endParaRPr b="0" lang="en-US" sz="1800" spc="-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4920" y="1052640"/>
            <a:ext cx="90741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b0f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Arial"/>
                <a:ea typeface="宋体"/>
              </a:rPr>
              <a:t>小蚕爱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桑叶</a:t>
            </a:r>
            <a:r>
              <a:rPr b="1" lang="zh-CN" sz="4000" spc="-1" strike="noStrike">
                <a:solidFill>
                  <a:srgbClr val="5f5f5f"/>
                </a:solidFill>
                <a:latin typeface="Arial"/>
                <a:ea typeface="宋体"/>
              </a:rPr>
              <a:t>。它一出卵就要及时用毛笔或羽毛轻轻地把它刷到桑叶上。</a:t>
            </a:r>
            <a:endParaRPr b="0" lang="en-US" sz="4000" spc="-1" strike="noStrike">
              <a:solidFill>
                <a:srgbClr val="66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b0f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Arial"/>
                <a:ea typeface="宋体"/>
              </a:rPr>
              <a:t>要让小蚕吃饱吃好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桑叶要新鲜并保持干燥</a:t>
            </a:r>
            <a:r>
              <a:rPr b="1" lang="zh-CN" sz="4000" spc="-1" strike="noStrike">
                <a:solidFill>
                  <a:srgbClr val="5f5f5f"/>
                </a:solidFill>
                <a:latin typeface="Arial"/>
                <a:ea typeface="宋体"/>
              </a:rPr>
              <a:t>，切成碎片或条。</a:t>
            </a:r>
            <a:endParaRPr b="0" lang="en-US" sz="4000" spc="-1" strike="noStrike">
              <a:solidFill>
                <a:srgbClr val="66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b0f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Arial"/>
                <a:ea typeface="宋体"/>
              </a:rPr>
              <a:t>经常清除蚕的粪便和吃剩的残叶，保持小蚕“房间”的清洁。</a:t>
            </a:r>
            <a:endParaRPr b="0" lang="en-US" sz="4000" spc="-1" strike="noStrike">
              <a:solidFill>
                <a:srgbClr val="66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b0f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Arial"/>
                <a:ea typeface="宋体"/>
              </a:rPr>
              <a:t>把小蚕放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空气流通的地方</a:t>
            </a:r>
            <a:r>
              <a:rPr b="1" lang="zh-CN" sz="4000" spc="-1" strike="noStrike">
                <a:solidFill>
                  <a:srgbClr val="5f5f5f"/>
                </a:solidFill>
                <a:latin typeface="Arial"/>
                <a:ea typeface="宋体"/>
              </a:rPr>
              <a:t>，不要在养蚕的房间里喷洒杀虫剂</a:t>
            </a:r>
            <a:endParaRPr b="0" lang="en-US" sz="40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755640" y="119700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  <a:ea typeface="宋体"/>
              </a:rPr>
              <a:t>如果确实找不到桑叶，可以暂时先用莴苣</a:t>
            </a:r>
            <a:r>
              <a:rPr b="1" lang="zh-CN" sz="6000" spc="-1" strike="noStrike">
                <a:solidFill>
                  <a:srgbClr val="003399"/>
                </a:solidFill>
                <a:latin typeface="Arial"/>
                <a:ea typeface="宋体"/>
              </a:rPr>
              <a:t>(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wuōjù</a:t>
            </a:r>
            <a:r>
              <a:rPr b="1" lang="zh-CN" sz="6000" spc="-1" strike="noStrike">
                <a:solidFill>
                  <a:srgbClr val="003399"/>
                </a:solidFill>
                <a:latin typeface="Arial"/>
                <a:ea typeface="宋体"/>
              </a:rPr>
              <a:t>)</a:t>
            </a:r>
            <a:r>
              <a:rPr b="1" lang="zh-CN" sz="6000" spc="-1" strike="noStrike">
                <a:solidFill>
                  <a:srgbClr val="003399"/>
                </a:solidFill>
                <a:latin typeface="Arial"/>
                <a:ea typeface="宋体"/>
              </a:rPr>
              <a:t>叶代替桑叶，但必须保证叶子干净干燥，要将叶子洗净后擦干，再给小蚕喂食。</a:t>
            </a:r>
            <a:endParaRPr b="0" lang="en-US" sz="6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755640" y="117360"/>
            <a:ext cx="81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f5f5f"/>
                </a:solidFill>
                <a:latin typeface="Arial"/>
                <a:ea typeface="宋体"/>
              </a:rPr>
              <a:t>找不到桑叶怎么办？</a:t>
            </a:r>
            <a:endParaRPr b="0" lang="en-US" sz="66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-11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-11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微软雅黑"/>
              </a:rPr>
              <a:t>作业题</a:t>
            </a:r>
            <a:endParaRPr b="1" lang="en-US" sz="54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599840"/>
            <a:ext cx="84582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幼圆"/>
              </a:rPr>
              <a:t>2</a:t>
            </a:r>
            <a:r>
              <a:rPr b="1" lang="zh-CN" sz="6000" spc="-1" strike="noStrike">
                <a:solidFill>
                  <a:srgbClr val="000099"/>
                </a:solidFill>
                <a:latin typeface="幼圆"/>
              </a:rPr>
              <a:t>、蚕卵孵化需要适宜的（    ）和 </a:t>
            </a:r>
            <a:r>
              <a:rPr b="1" lang="zh-CN" sz="6000" spc="-1" strike="noStrike">
                <a:solidFill>
                  <a:srgbClr val="826951"/>
                </a:solidFill>
                <a:latin typeface="幼圆"/>
              </a:rPr>
              <a:t> </a:t>
            </a:r>
            <a:endParaRPr b="0" lang="en-US" sz="60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676520" y="25146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宋体"/>
              </a:rPr>
              <a:t>温度</a:t>
            </a:r>
            <a:endParaRPr b="0" lang="en-US" sz="5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5486400" y="25909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宋体"/>
              </a:rPr>
              <a:t>湿度</a:t>
            </a:r>
            <a:endParaRPr b="0" lang="en-US" sz="5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7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幼圆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幼圆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66ffff"/>
                </a:solidFill>
                <a:latin typeface="幼圆"/>
                <a:ea typeface="宋体"/>
              </a:rPr>
              <a:t>http://www.eeppt.com</a:t>
            </a:r>
            <a:endParaRPr b="0" lang="en-US" sz="16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-11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-11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5" descr="7d95f15aea069659eaaf16574c9fdbaa"/>
          <p:cNvPicPr/>
          <p:nvPr/>
        </p:nvPicPr>
        <p:blipFill>
          <a:blip r:embed="rId1"/>
          <a:stretch/>
        </p:blipFill>
        <p:spPr>
          <a:xfrm>
            <a:off x="1187280" y="1557360"/>
            <a:ext cx="6769440" cy="4686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33b3309467eaf074d0135e0f"/>
          <p:cNvPicPr/>
          <p:nvPr/>
        </p:nvPicPr>
        <p:blipFill>
          <a:blip r:embed="rId2"/>
          <a:stretch/>
        </p:blipFill>
        <p:spPr>
          <a:xfrm>
            <a:off x="1258920" y="1484280"/>
            <a:ext cx="6878520" cy="51595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67f9a8ac8db5454c4b36d6ca"/>
          <p:cNvPicPr/>
          <p:nvPr/>
        </p:nvPicPr>
        <p:blipFill>
          <a:blip r:embed="rId3"/>
          <a:stretch/>
        </p:blipFill>
        <p:spPr>
          <a:xfrm>
            <a:off x="1332000" y="1725480"/>
            <a:ext cx="6842160" cy="51325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1243599787_7637471"/>
          <p:cNvPicPr/>
          <p:nvPr/>
        </p:nvPicPr>
        <p:blipFill>
          <a:blip r:embed="rId4"/>
          <a:stretch/>
        </p:blipFill>
        <p:spPr>
          <a:xfrm>
            <a:off x="1403280" y="1836720"/>
            <a:ext cx="6696000" cy="50212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caee240e12e468a0ab6457cb"/>
          <p:cNvPicPr/>
          <p:nvPr/>
        </p:nvPicPr>
        <p:blipFill>
          <a:blip r:embed="rId5"/>
          <a:stretch/>
        </p:blipFill>
        <p:spPr>
          <a:xfrm>
            <a:off x="1619280" y="1413000"/>
            <a:ext cx="6985080" cy="52387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26951"/>
                </a:solidFill>
                <a:latin typeface="微软雅黑"/>
              </a:rPr>
              <a:t>形形色色的动物</a:t>
            </a: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</p:spTree>
  </p:cSld>
  <p:transition spd="slow">
    <p:randomBar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微软雅黑"/>
              </a:rPr>
              <a:t>作业题</a:t>
            </a:r>
            <a:endParaRPr b="1" lang="en-US" sz="48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幼圆"/>
              </a:rPr>
              <a:t>3</a:t>
            </a:r>
            <a:r>
              <a:rPr b="1" lang="zh-CN" sz="7200" spc="-1" strike="noStrike">
                <a:solidFill>
                  <a:srgbClr val="000099"/>
                </a:solidFill>
                <a:latin typeface="幼圆"/>
              </a:rPr>
              <a:t>、刚孵出来的小蚕就要吃食物。（  ）</a:t>
            </a:r>
            <a:endParaRPr b="0" lang="en-US" sz="72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6934320" y="243828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宋体"/>
              </a:rPr>
              <a:t>√</a:t>
            </a:r>
            <a:endParaRPr b="0" lang="en-US" sz="96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-360" y="0"/>
            <a:ext cx="9109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6951"/>
                </a:solidFill>
                <a:latin typeface="幼圆"/>
              </a:rPr>
              <a:t>一、我知道。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幼圆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幼圆"/>
              </a:rPr>
              <a:t>、刚孵出的蚕宝宝是（    ）色的，像小蚂蚁。</a:t>
            </a:r>
            <a:endParaRPr b="0" lang="en-US" sz="2800" spc="-1" strike="noStrike">
              <a:solidFill>
                <a:srgbClr val="826951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幼圆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幼圆"/>
              </a:rPr>
              <a:t>、小蚕吃的桑叶要切成（        ）或 （      ）。</a:t>
            </a:r>
            <a:endParaRPr b="0" lang="en-US" sz="2800" spc="-1" strike="noStrike">
              <a:solidFill>
                <a:srgbClr val="826951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幼圆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幼圆"/>
              </a:rPr>
              <a:t>、</a:t>
            </a:r>
            <a:r>
              <a:rPr b="1" lang="en-US" sz="2800" spc="-1" strike="noStrike">
                <a:solidFill>
                  <a:srgbClr val="003399"/>
                </a:solidFill>
                <a:latin typeface="幼圆"/>
              </a:rPr>
              <a:t>5</a:t>
            </a:r>
            <a:r>
              <a:rPr b="1" lang="zh-CN" sz="2800" spc="-1" strike="noStrike">
                <a:solidFill>
                  <a:srgbClr val="003399"/>
                </a:solidFill>
                <a:latin typeface="幼圆"/>
              </a:rPr>
              <a:t>、除了保持小蚕的“房间”清洁，还要注意把小蚕放在（              ）的地方，不要在养蚕的房间里喷洒（           ）。</a:t>
            </a:r>
            <a:endParaRPr b="0" lang="en-US" sz="2800" spc="-1" strike="noStrike">
              <a:solidFill>
                <a:srgbClr val="826951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幼圆"/>
              </a:rPr>
              <a:t>二、我是小法官。</a:t>
            </a:r>
            <a:endParaRPr b="0" lang="en-US" sz="2800" spc="-1" strike="noStrike">
              <a:solidFill>
                <a:srgbClr val="826951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幼圆"/>
              </a:rPr>
              <a:t>1</a:t>
            </a:r>
            <a:r>
              <a:rPr b="1" lang="zh-CN" sz="2400" spc="-1" strike="noStrike">
                <a:solidFill>
                  <a:srgbClr val="003399"/>
                </a:solidFill>
                <a:latin typeface="幼圆"/>
              </a:rPr>
              <a:t>、天气干燥时，把蚕卵放在水里，就容易孵出来。（   ）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幼圆"/>
              </a:rPr>
              <a:t>2</a:t>
            </a:r>
            <a:r>
              <a:rPr b="1" lang="zh-CN" sz="2400" spc="-1" strike="noStrike">
                <a:solidFill>
                  <a:srgbClr val="003399"/>
                </a:solidFill>
                <a:latin typeface="幼圆"/>
              </a:rPr>
              <a:t>、蚕宝宝出壳后，可以用手把它们捏到桑叶上。</a:t>
            </a:r>
            <a:r>
              <a:rPr b="0" lang="zh-CN" sz="2400" spc="-1" strike="noStrike">
                <a:solidFill>
                  <a:srgbClr val="826951"/>
                </a:solidFill>
                <a:latin typeface="幼圆"/>
              </a:rPr>
              <a:t>（    ）</a:t>
            </a: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4267080" y="609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黑</a:t>
            </a:r>
            <a:endParaRPr b="0" lang="en-US" sz="2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4800600" y="11430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碎片</a:t>
            </a:r>
            <a:endParaRPr b="0" lang="en-US" sz="2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6948360" y="4040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7236000" y="34290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1905120" y="28195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杀虫剂</a:t>
            </a:r>
            <a:endParaRPr b="0" lang="en-US" sz="2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708660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条</a:t>
            </a:r>
            <a:endParaRPr b="0" lang="en-US" sz="2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1981080" y="2209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空气流通</a:t>
            </a:r>
            <a:endParaRPr b="0" lang="en-US" sz="28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562B-0418-4356-AB87-FEE9C6172A25}" type="slidenum">
              <a:rPr b="0" lang="zh-CN" sz="1400" spc="-1" strike="noStrike">
                <a:solidFill>
                  <a:srgbClr val="66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WordArt 2"/>
          <p:cNvSpPr txBox="1"/>
          <p:nvPr/>
        </p:nvSpPr>
        <p:spPr>
          <a:xfrm rot="684600">
            <a:off x="2124000" y="1341360"/>
            <a:ext cx="5329440" cy="379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5f5f5f"/>
                </a:solidFill>
                <a:latin typeface="方正舒体"/>
              </a:rPr>
              <a:t>再见！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5f5f5f"/>
              </a:solidFill>
              <a:latin typeface="方正舒体"/>
              <a:ea typeface="方正舒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毛毛虫"/>
          <p:cNvPicPr/>
          <p:nvPr/>
        </p:nvPicPr>
        <p:blipFill>
          <a:blip r:embed="rId1"/>
          <a:stretch/>
        </p:blipFill>
        <p:spPr>
          <a:xfrm>
            <a:off x="539640" y="981000"/>
            <a:ext cx="8101080" cy="54021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蝴蝶1"/>
          <p:cNvPicPr/>
          <p:nvPr/>
        </p:nvPicPr>
        <p:blipFill>
          <a:blip r:embed="rId2"/>
          <a:stretch/>
        </p:blipFill>
        <p:spPr>
          <a:xfrm>
            <a:off x="971640" y="836640"/>
            <a:ext cx="7272360" cy="568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蚕"/>
          <p:cNvPicPr/>
          <p:nvPr/>
        </p:nvPicPr>
        <p:blipFill>
          <a:blip r:embed="rId3"/>
          <a:stretch/>
        </p:blipFill>
        <p:spPr>
          <a:xfrm>
            <a:off x="971640" y="1052640"/>
            <a:ext cx="727380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280" y="1270080"/>
            <a:ext cx="860436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微软雅黑"/>
              </a:rPr>
              <a:t>      </a:t>
            </a:r>
            <a:r>
              <a:rPr b="1" lang="zh-CN" sz="3200" spc="-1" strike="noStrike">
                <a:solidFill>
                  <a:srgbClr val="000099"/>
                </a:solidFill>
                <a:latin typeface="微软雅黑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微软雅黑"/>
              </a:rPr>
              <a:t>自然界中动物种类很多，它们身体的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</a:rPr>
              <a:t>外形、结构</a:t>
            </a:r>
            <a:r>
              <a:rPr b="1" lang="zh-CN" sz="3600" spc="-1" strike="noStrike">
                <a:solidFill>
                  <a:srgbClr val="000099"/>
                </a:solidFill>
                <a:latin typeface="微软雅黑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</a:rPr>
              <a:t>生活习性</a:t>
            </a:r>
            <a:r>
              <a:rPr b="1" lang="zh-CN" sz="3600" spc="-1" strike="noStrike">
                <a:solidFill>
                  <a:srgbClr val="000099"/>
                </a:solidFill>
                <a:latin typeface="微软雅黑"/>
              </a:rPr>
              <a:t>千差万别，但是所有的动物都要经历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</a:rPr>
              <a:t>出生、生长发育、繁殖后代、死亡</a:t>
            </a:r>
            <a:r>
              <a:rPr b="1" lang="zh-CN" sz="3600" spc="-1" strike="noStrike">
                <a:solidFill>
                  <a:srgbClr val="000099"/>
                </a:solidFill>
                <a:latin typeface="微软雅黑"/>
              </a:rPr>
              <a:t>的全过程，这个过程就是它们的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</a:rPr>
              <a:t>生命周期</a:t>
            </a:r>
            <a:r>
              <a:rPr b="1" lang="zh-CN" sz="3600" spc="-1" strike="noStrike">
                <a:solidFill>
                  <a:srgbClr val="000099"/>
                </a:solidFill>
                <a:latin typeface="微软雅黑"/>
              </a:rPr>
              <a:t>。</a:t>
            </a:r>
            <a:br>
              <a:rPr sz="2400"/>
            </a:br>
            <a:endParaRPr b="1" lang="en-US" sz="3600" spc="-1" strike="noStrike">
              <a:solidFill>
                <a:srgbClr val="826951"/>
              </a:solidFill>
              <a:latin typeface="微软雅黑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539640" y="3500280"/>
            <a:ext cx="82821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对于不同的动物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生命周期长短不同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，有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数小时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，有的长达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几百年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，有的在生命的不同阶段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形态变化不大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（比如老虎、马等），有的在生命不同阶段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形态有很大变化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（比如蝴蝶、蚕等）。</a:t>
            </a:r>
            <a:endParaRPr b="0" lang="en-US" sz="4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539640" y="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方正舒体"/>
              </a:rPr>
              <a:t>你知道吗？</a:t>
            </a:r>
            <a:endParaRPr b="0" lang="en-US" sz="48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2000" y="189000"/>
            <a:ext cx="8280360" cy="107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华文细黑"/>
              </a:rPr>
              <a:t>观察蚕卵   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华文细黑"/>
              </a:rPr>
              <a:t>（大小、形状、颜色）</a:t>
            </a:r>
            <a:endParaRPr b="1" lang="en-US" sz="3200" spc="-1" strike="noStrike">
              <a:solidFill>
                <a:srgbClr val="826951"/>
              </a:solidFill>
              <a:latin typeface="微软雅黑"/>
            </a:endParaRPr>
          </a:p>
        </p:txBody>
      </p:sp>
      <p:pic>
        <p:nvPicPr>
          <p:cNvPr id="309" name="Picture 3" descr="untitled"/>
          <p:cNvPicPr/>
          <p:nvPr/>
        </p:nvPicPr>
        <p:blipFill>
          <a:blip r:embed="rId1"/>
          <a:stretch/>
        </p:blipFill>
        <p:spPr>
          <a:xfrm>
            <a:off x="539640" y="1268280"/>
            <a:ext cx="7993080" cy="5089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468360" y="10468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fb2b4"/>
                </a:solidFill>
                <a:latin typeface="Arial"/>
                <a:ea typeface="宋体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刚生出来的蚕卵是淡黄色的，用放大镜看起来扁扁的有点椭圆，用尺量一量，长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1.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1.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毫米左右，若一直放在常温下会逐渐变成紫黑色。</a:t>
            </a:r>
            <a:r>
              <a:rPr b="1" lang="zh-CN" sz="2800" spc="-1" strike="noStrike">
                <a:solidFill>
                  <a:srgbClr val="afb2b4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66ffff"/>
              </a:solidFill>
              <a:latin typeface="Arial"/>
            </a:endParaRPr>
          </a:p>
        </p:txBody>
      </p:sp>
      <p:pic>
        <p:nvPicPr>
          <p:cNvPr id="311" name="Picture 3" descr="L002"/>
          <p:cNvPicPr/>
          <p:nvPr/>
        </p:nvPicPr>
        <p:blipFill>
          <a:blip r:embed="rId1"/>
          <a:stretch/>
        </p:blipFill>
        <p:spPr>
          <a:xfrm>
            <a:off x="395280" y="2421000"/>
            <a:ext cx="3816360" cy="28684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L006"/>
          <p:cNvPicPr/>
          <p:nvPr/>
        </p:nvPicPr>
        <p:blipFill>
          <a:blip r:embed="rId2"/>
          <a:stretch/>
        </p:blipFill>
        <p:spPr>
          <a:xfrm>
            <a:off x="4643280" y="2349360"/>
            <a:ext cx="3961080" cy="29782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5"/>
          <p:cNvSpPr/>
          <p:nvPr/>
        </p:nvSpPr>
        <p:spPr>
          <a:xfrm>
            <a:off x="1118880" y="558900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宋体"/>
              </a:rPr>
              <a:t>刚产下的卵呈现淡黄色 </a:t>
            </a:r>
            <a:endParaRPr b="0" lang="en-US" sz="2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5367240" y="558900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宋体"/>
              </a:rPr>
              <a:t>即将孵化的卵呈现紫黑色 </a:t>
            </a:r>
            <a:endParaRPr b="0" lang="en-US" sz="2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5" name="文本框 8199"/>
          <p:cNvSpPr/>
          <p:nvPr/>
        </p:nvSpPr>
        <p:spPr>
          <a:xfrm>
            <a:off x="1174680" y="163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幼圆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幼圆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66ffff"/>
                </a:solidFill>
                <a:latin typeface="幼圆"/>
                <a:ea typeface="宋体"/>
              </a:rPr>
              <a:t>http://www.eeppt.com</a:t>
            </a:r>
            <a:endParaRPr b="0" lang="en-US" sz="16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L003"/>
          <p:cNvPicPr/>
          <p:nvPr/>
        </p:nvPicPr>
        <p:blipFill>
          <a:blip r:embed="rId1"/>
          <a:stretch/>
        </p:blipFill>
        <p:spPr>
          <a:xfrm>
            <a:off x="1360440" y="333360"/>
            <a:ext cx="6164280" cy="46324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3"/>
          <p:cNvSpPr/>
          <p:nvPr/>
        </p:nvSpPr>
        <p:spPr>
          <a:xfrm>
            <a:off x="324000" y="5300640"/>
            <a:ext cx="83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Arial"/>
                <a:ea typeface="宋体"/>
              </a:rPr>
              <a:t>长约</a:t>
            </a:r>
            <a:r>
              <a:rPr b="1" lang="zh-CN" sz="6600" spc="-1" strike="noStrike">
                <a:solidFill>
                  <a:srgbClr val="000099"/>
                </a:solidFill>
                <a:latin typeface="Arial"/>
                <a:ea typeface="宋体"/>
              </a:rPr>
              <a:t>1.2</a:t>
            </a:r>
            <a:r>
              <a:rPr b="1" lang="zh-CN" sz="6600" spc="-1" strike="noStrike">
                <a:solidFill>
                  <a:srgbClr val="000099"/>
                </a:solidFill>
                <a:latin typeface="Arial"/>
                <a:ea typeface="宋体"/>
              </a:rPr>
              <a:t>至</a:t>
            </a:r>
            <a:r>
              <a:rPr b="1" lang="zh-CN" sz="6600" spc="-1" strike="noStrike">
                <a:solidFill>
                  <a:srgbClr val="000099"/>
                </a:solidFill>
                <a:latin typeface="Arial"/>
                <a:ea typeface="宋体"/>
              </a:rPr>
              <a:t>1.3</a:t>
            </a:r>
            <a:r>
              <a:rPr b="1" lang="zh-CN" sz="6600" spc="-1" strike="noStrike">
                <a:solidFill>
                  <a:srgbClr val="000099"/>
                </a:solidFill>
                <a:latin typeface="Arial"/>
                <a:ea typeface="宋体"/>
              </a:rPr>
              <a:t>毫米</a:t>
            </a:r>
            <a:endParaRPr b="0" lang="en-US" sz="66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68360" y="836280"/>
            <a:ext cx="844704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幼圆"/>
              </a:rPr>
              <a:t>蚕卵的颜色：紫黑色（刚产下为淡黄色）</a:t>
            </a:r>
            <a:endParaRPr b="0" lang="en-US" sz="3600" spc="-1" strike="noStrike">
              <a:solidFill>
                <a:srgbClr val="826951"/>
              </a:solidFill>
              <a:latin typeface="幼圆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幼圆"/>
              </a:rPr>
              <a:t>蚕卵的形状：扁圆形（椭圆形），中心有点凹陷</a:t>
            </a:r>
            <a:endParaRPr b="0" lang="en-US" sz="3600" spc="-1" strike="noStrike">
              <a:solidFill>
                <a:srgbClr val="826951"/>
              </a:solidFill>
              <a:latin typeface="幼圆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幼圆"/>
              </a:rPr>
              <a:t>蚕卵的大小：宽约</a:t>
            </a:r>
            <a:r>
              <a:rPr b="1" lang="zh-CN" sz="3600" spc="-1" strike="noStrike">
                <a:solidFill>
                  <a:srgbClr val="003399"/>
                </a:solidFill>
                <a:latin typeface="幼圆"/>
              </a:rPr>
              <a:t>1</a:t>
            </a:r>
            <a:r>
              <a:rPr b="1" lang="zh-CN" sz="3600" spc="-1" strike="noStrike">
                <a:solidFill>
                  <a:srgbClr val="003399"/>
                </a:solidFill>
                <a:latin typeface="幼圆"/>
              </a:rPr>
              <a:t>毫米，厚约</a:t>
            </a:r>
            <a:r>
              <a:rPr b="1" lang="zh-CN" sz="3600" spc="-1" strike="noStrike">
                <a:solidFill>
                  <a:srgbClr val="003399"/>
                </a:solidFill>
                <a:latin typeface="幼圆"/>
              </a:rPr>
              <a:t>0.5</a:t>
            </a:r>
            <a:r>
              <a:rPr b="1" lang="zh-CN" sz="3600" spc="-1" strike="noStrike">
                <a:solidFill>
                  <a:srgbClr val="003399"/>
                </a:solidFill>
                <a:latin typeface="幼圆"/>
              </a:rPr>
              <a:t>毫米</a:t>
            </a:r>
            <a:endParaRPr b="0" lang="en-US" sz="3600" spc="-1" strike="noStrike">
              <a:solidFill>
                <a:srgbClr val="826951"/>
              </a:solidFill>
              <a:latin typeface="幼圆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Clr>
                <a:srgbClr val="826951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26951"/>
              </a:solidFill>
              <a:latin typeface="幼圆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Clr>
                <a:srgbClr val="826951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26951"/>
              </a:solidFill>
              <a:latin typeface="幼圆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26951"/>
              </a:solidFill>
              <a:latin typeface="幼圆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1116000" y="-2700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Arial"/>
                <a:ea typeface="方正舒体"/>
              </a:rPr>
              <a:t>小结一下</a:t>
            </a:r>
            <a:r>
              <a:rPr b="1" lang="zh-CN" sz="6000" spc="-1" strike="noStrike">
                <a:solidFill>
                  <a:srgbClr val="5f5f5f"/>
                </a:solidFill>
                <a:latin typeface="Arial"/>
                <a:ea typeface="方正舒体"/>
              </a:rPr>
              <a:t>：</a:t>
            </a:r>
            <a:endParaRPr b="0" lang="en-US" sz="6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539640" y="3284640"/>
            <a:ext cx="842508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宋体"/>
              </a:rPr>
              <a:t>我还发现</a:t>
            </a:r>
            <a:r>
              <a:rPr b="1" lang="zh-CN" sz="4800" spc="-1" strike="noStrike">
                <a:solidFill>
                  <a:srgbClr val="003399"/>
                </a:solidFill>
                <a:latin typeface="Arial"/>
                <a:ea typeface="宋体"/>
              </a:rPr>
              <a:t>：有黄色的卵和白色的卵。</a:t>
            </a:r>
            <a:endParaRPr b="0" lang="en-US" sz="4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-163440" y="4292640"/>
            <a:ext cx="93250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cc33"/>
                </a:solidFill>
                <a:latin typeface="Arial"/>
                <a:ea typeface="黑体"/>
              </a:rPr>
              <a:t>蚕的生命是从</a:t>
            </a:r>
            <a:r>
              <a:rPr b="1" lang="zh-CN" sz="6600" spc="-1" strike="noStrike" u="sng">
                <a:solidFill>
                  <a:srgbClr val="33cc33"/>
                </a:solidFill>
                <a:uFillTx/>
                <a:latin typeface="Arial"/>
                <a:ea typeface="宋体"/>
              </a:rPr>
              <a:t>卵</a:t>
            </a:r>
            <a:r>
              <a:rPr b="1" lang="zh-CN" sz="6600" spc="-1" strike="noStrike">
                <a:solidFill>
                  <a:srgbClr val="33cc33"/>
                </a:solidFill>
                <a:latin typeface="Arial"/>
                <a:ea typeface="黑体"/>
              </a:rPr>
              <a:t>开始的，一个蚕卵就是一个</a:t>
            </a:r>
            <a:r>
              <a:rPr b="1" lang="zh-CN" sz="6600" spc="-1" strike="noStrike" u="sng">
                <a:solidFill>
                  <a:srgbClr val="33cc33"/>
                </a:solidFill>
                <a:uFillTx/>
                <a:latin typeface="Arial"/>
                <a:ea typeface="宋体"/>
              </a:rPr>
              <a:t>生命</a:t>
            </a:r>
            <a:r>
              <a:rPr b="1" lang="zh-CN" sz="6600" spc="-1" strike="noStrike">
                <a:solidFill>
                  <a:srgbClr val="33cc33"/>
                </a:solidFill>
                <a:latin typeface="Arial"/>
                <a:ea typeface="黑体"/>
              </a:rPr>
              <a:t>。</a:t>
            </a:r>
            <a:endParaRPr b="0" lang="en-US" sz="66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-108000" y="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方正隶书简体"/>
                <a:ea typeface="方正隶书简体"/>
              </a:rPr>
              <a:t>孵化</a:t>
            </a:r>
            <a:r>
              <a:rPr b="1" lang="zh-CN" sz="5400" spc="-1" strike="noStrike">
                <a:solidFill>
                  <a:srgbClr val="000099"/>
                </a:solidFill>
                <a:latin typeface="方正隶书简体"/>
                <a:ea typeface="方正隶书简体"/>
              </a:rPr>
              <a:t>............</a:t>
            </a:r>
            <a:br>
              <a:rPr sz="5400"/>
            </a:b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方正隶书简体"/>
              </a:rPr>
              <a:t>   </a:t>
            </a:r>
            <a:r>
              <a:rPr b="1" lang="zh-CN" sz="5400" spc="-1" strike="noStrike">
                <a:solidFill>
                  <a:srgbClr val="000099"/>
                </a:solidFill>
                <a:latin typeface="方正隶书简体"/>
                <a:ea typeface="方正隶书简体"/>
              </a:rPr>
              <a:t> </a:t>
            </a:r>
            <a:r>
              <a:rPr b="1" lang="zh-CN" sz="5400" spc="-1" strike="noStrike">
                <a:solidFill>
                  <a:srgbClr val="000099"/>
                </a:solidFill>
                <a:latin typeface="方正隶书简体"/>
                <a:ea typeface="方正隶书简体"/>
              </a:rPr>
              <a:t>蚕卵一般都保存在冰箱中，取出后放在室温下，最适合蚕卵孵化的温度大约是室温</a:t>
            </a:r>
            <a:r>
              <a:rPr b="1" lang="zh-CN" sz="5400" spc="-1" strike="noStrike">
                <a:solidFill>
                  <a:srgbClr val="000099"/>
                </a:solidFill>
                <a:latin typeface="方正隶书简体"/>
                <a:ea typeface="方正隶书简体"/>
              </a:rPr>
              <a:t>25℃</a:t>
            </a:r>
            <a:r>
              <a:rPr b="1" lang="zh-CN" sz="5400" spc="-1" strike="noStrike">
                <a:solidFill>
                  <a:srgbClr val="000099"/>
                </a:solidFill>
                <a:latin typeface="方正隶书简体"/>
                <a:ea typeface="方正隶书简体"/>
              </a:rPr>
              <a:t>，蚕卵会逐渐变成紫黑色，大约两个星期左右，即可孵化出幼虫。幼虫把卵壳咬破后，先露出头部，然后爬出卵壳。</a:t>
            </a:r>
            <a:r>
              <a:rPr b="1" lang="zh-CN" sz="3600" spc="-1" strike="noStrike">
                <a:solidFill>
                  <a:srgbClr val="5f5f5f"/>
                </a:solidFill>
                <a:latin typeface="方正隶书简体"/>
                <a:ea typeface="方正隶书简体"/>
              </a:rPr>
              <a:t> </a:t>
            </a:r>
            <a:endParaRPr b="0" lang="en-US" sz="36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9:13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51Z</dcterms:modified>
  <cp:revision>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