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158-C380-49F6-AC4B-F0654BEC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361-EF56-4EFF-9332-80CFF712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F384E-D17E-4AE9-AD6A-56B5A53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CAA15-38FC-4D0D-BB70-A299320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8CF33-561A-40EA-857A-3FE90BE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0BF21-DE10-48D6-8904-BB126BC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B9BE3-289F-4D79-A3E5-939F1A8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44D8-C353-4D64-8A62-FC568D2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27286-56F1-49DF-83FE-65481CCE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44B5-B136-43E5-9891-7221308F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8030D-8DCE-43EE-8863-8A76A79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F47E-DD6C-4AFD-BCDF-7B9CBDB1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B45-A7F6-4376-9693-E57B297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9AE5-CECE-4CB0-856E-EB25A301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C7078-67F4-46D6-BD61-C78C925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4481B-CBDB-4D42-841C-835704C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AD93-669F-48F6-8487-E18F8E78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60D19-9A2D-4FBB-A614-F83BE27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FD92-4978-4191-BB59-84BD5F8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8D7D-183C-477A-B40D-FBC88A6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B3390-D599-489B-84A6-E66FFA8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90699-0F48-4CAE-87B9-DA0CD11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D574B-BEC7-458D-81AA-912FADB7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F82-5E19-4293-96D2-87500C3E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34184-8905-481A-A01F-56820D60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D1380-A5C1-4428-A5BA-6A3C3C6A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212E0-4015-4126-9F49-C5DEE73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CBE54-3FB0-4BF5-8D6E-B913EC7A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E655-CEAB-47B6-8C20-40C1165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F978B-F35A-4187-982E-53DB85D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0FA42-6708-42EA-9F64-C62234C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AA4F6-930F-4227-A0C0-3880B7F0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CC5E-60DD-4D26-AF24-1B44065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37B69-C807-412B-81EC-8F1BD4A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46C-C9A4-4A5F-823B-6094E589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1E0DB-E184-440B-8A6E-169CCFAB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AE642-EF13-44B2-A460-52D187C9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17FF-03DD-460E-9EB8-3A728055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AC5DA-50AF-4F7E-97F1-C38ABF6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6FF50-2B7A-40C1-AF37-6B579F4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A834-3673-40C8-B7E6-3DA2960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DEB0F-D7EB-4567-89D4-566E669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FC8E4-F8C3-4F7C-8869-A07822F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0E4BB-A5F6-482B-8C97-645F958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8B1C4-4226-4DBA-8AD1-C4CBF97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7C97-2903-4B50-8220-7164933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86D7C-011A-47C5-9DBE-3EF011A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86DEF-2B4C-4137-9D01-3C8E164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9A9AA-A3E8-4605-A261-A083C62D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44604-F0AB-4591-BB2F-2E538BED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A39E3-45DA-41D4-ABF1-ECAE2699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21F97-752B-4D87-94F7-9BCA31A2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72CAD-8740-4DBC-94B1-B3445B1F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D8DCB-A112-44DD-AB5B-515108EF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483F0-FD6F-4C3E-9B4A-EED570C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D0E88-7C3E-4976-9B25-B198224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B2BE-570C-46C4-B180-22FE740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A4C59-CF6D-42DA-B203-497746F0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0022D-F6F1-4BEF-B88D-37A0B31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8D961-FABC-4121-AE5F-A10B421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166F9-1327-4DD5-B44E-17D364F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D6FC9-A2CB-4696-8E82-B48EAC96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0A120-0E8B-4ABC-A0E0-AFC0DA48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6201F-62BF-4D62-B9DC-F9F14E0F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5BDB0-47DD-40FF-80EB-D26F82B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1FBCB-59A9-451D-8D4D-8E9B289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89826-A33D-44F3-BA20-04A9A6C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7B19-CDBA-4D91-86CD-FAECA5B7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A88EE-E42F-45F6-AB32-36BB43C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A7998-2C13-4E6B-A459-D56CB31B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B8F92-3A86-4FB9-8370-9F793B7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2C69-F46C-48CC-A759-D02458F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64C3A-37C4-4C9C-BB2C-5D2AE80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57420-1484-405D-8CF3-E6E8BA8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38A88-DC4C-4DB3-BE03-FBA7405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25879-4E4E-492D-8D46-1354A4E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780D4-BCE9-4235-A5CC-F12B3F7F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A1A4D-2A14-4A42-9037-D15758F5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DD9-5CC7-48CB-9EAD-F956683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2C824-DB85-4F39-83E7-D55502C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F25C6-0BD9-4712-A5C9-760AAD16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601A6-A399-405A-9DCD-53092B2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715A8-2FF2-4B14-832D-86BFB9F4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0EBD3-8F3C-43DE-8C00-AD81D169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96F03-F28D-49E9-8491-3552FFE4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8CD31-7DA7-4455-A935-B59A184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783B3-5D35-4F00-95AB-44D088A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8299E-3716-4158-86FC-687EEC5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5D115-E184-4CE3-9B7F-22D179B3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1F6-8804-4120-AC22-8E899A7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6E799-11FD-40D2-8A40-29FCF65D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31E9E-538A-4C65-825A-BF484138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6391B-5709-4BE6-BD76-698834C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641C7-5A63-4F6F-BE45-27721444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99C01-FA0A-45D3-B341-C67164D4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D31C7-51A2-4F51-B211-39A422E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799DA-C958-42DE-8926-245B84DA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9E277-906A-4AAE-8AE4-7314333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46C79-5BB1-4EA6-B193-499425CB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C42C6-B4E3-43B5-8ED3-CBE2499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8D77-0D2C-403E-8ED3-35A8DE88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C608E-E4A4-4C4D-BA3A-6D4ECDA5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08535-C55A-48C9-B0C9-AD368CC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E0AEF-EAE2-46ED-98B4-FF8F8379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72C-EB1D-43D2-9BCF-14C6DD0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D5F-693A-4A81-B7B9-FBACF60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7558-2FAD-4AD5-81EC-157F1C96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0A2-8A01-46FB-B6E7-76FDA23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436A-EB3A-4379-B004-B02B8955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F622-4E29-49ED-8DBC-777AC230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0708-5556-43CE-BECB-9748C63F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DCDC-B67E-4C12-B4F8-D1B2469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5799-F858-4614-B1BD-C1F0084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422D-604C-4315-B119-1366A64B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7CE9-D781-45E7-9C1E-8CB78594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883-B72B-402B-8FFB-F0580D7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6BEE-9AF8-4515-ACB2-D55B7FE1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C60D-B135-4BFA-882E-F4A06013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208A-5E55-4EEB-BCF5-8ECF312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DE20-0A0B-4441-B69F-0A4A2D4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3175-1F74-4197-916D-F27634A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A704-8688-4319-BE7C-6F4AA008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EC38-951C-4FC9-8F64-632A59BA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6BC2-402F-4A97-87A8-4F56C82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A4EA-29B8-490A-A620-2EDEE71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B9D2-B385-4D2C-976A-B3989015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D47-8B74-4743-8FF7-43EB78D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38B4-702B-4D81-9212-9E111BA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4CF0-F7FC-47C1-9CDA-82A55E04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9B87-645A-4C79-8570-8F31B4A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8D6C-938D-41A0-A8C5-173C9FE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6511-4C44-43BC-BD61-C2F14A1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8639-F3FF-417B-B5E7-ACAB074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3832-77BB-41D9-BC21-D4B9A9F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CF05-B99A-4588-B2A2-81ADDA5F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9EC1-346B-4356-999C-F6C54FDC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74A8-7490-4438-9516-1848103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E9E-A504-4CC4-9879-E0057B9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6320B-5DA7-4599-A470-84C72E7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AACDF-847D-46C1-A399-E5D1619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D438-B91D-49BF-908E-CA9DD17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0E287-2C74-44A0-9114-B58FBA46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23C3-5E78-42CE-B4C2-54049C4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6A08-2D08-484F-B76A-7B3913D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C876-9AA7-450E-A7C6-BE2B7794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45F3-AFFD-4E23-92FD-D627BAD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D135-AE9F-45A1-8539-C173068B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9179-768F-4166-9328-4F8CF7AE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EC7-674A-4192-81D9-1808E8B7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2392-C93C-452A-8F0B-6B89D299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3EFB-3027-415B-9FBE-1EF96AF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552A-ADC8-49A4-B774-A8B419FF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3DE7-4555-411C-96A5-23EE31A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C15B-B2A9-4AEC-A391-411C1067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C66F-A26E-4E54-9E48-4FD5B06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1129-57B7-4255-9547-B0CE6C41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45FB-FCCD-4330-994D-F34BF8C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ECE1-F276-4EED-BD95-244411D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9362D-FE22-4D35-8162-C98647B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9B8-E123-496C-AF82-68D4DA4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AE70-BAC4-4B1E-91F9-818F01C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4482-283E-4EBD-A671-E57BFED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A893-6892-4AF5-AB68-CF268CFE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6B797-3DD7-4130-B8CE-99DEAA46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630A-E309-4DBE-8BD8-6BD939B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8EDE-6098-430D-B079-082E399C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93408-551C-4F89-802D-2715ACB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286A-28AA-4DFF-AE25-937DC0FF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5CB06-7D69-4C24-B3AD-E855EBA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B064-DCDC-4CEB-A102-F686C3FE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679-B256-4546-AF9A-835D1BC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CAC09-1565-4C0D-BC59-2120111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8A2F-8B77-4313-9C55-C23986C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BB94-D362-4C75-A570-8106679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2B40-6F0F-475C-85D0-2D9770DB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8200-1396-4075-8CA2-20FBA52D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94B08-B6D7-43C4-9893-1403FF6B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519F-A1F3-4BF5-BCB4-9AF9E90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3229-9DEE-4BC9-82BC-9ADE6FB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D269-F90B-4F09-A48E-CBFA02E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1DC7-16BB-4B07-A74D-34698E5F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8E4-E316-40D5-AB02-17B9C7B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EFED-A2F0-4806-AA3C-BB1C715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3D91A-E8F4-4BFE-B760-28E24CB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4C401-68A2-4BC4-8AD9-E3B674D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CF7C-4A7A-47BB-BD78-69D640D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ECFB-59DC-4375-80A2-8F5943EE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625A9-6C1A-4239-9560-ACD66C9D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865A-1DE2-4173-B6BB-011DC18A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9AE7E-47F6-4064-87EB-791900EC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6538-53DA-4F51-B80C-799E04A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96E40-D6B2-4E5A-BD0E-90FCB8BA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112-9A26-4D05-B0FE-F16CC45A90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6800" y="113760"/>
                  <a:ext cx="2455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21160" y="514800"/>
                  <a:ext cx="4312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7680" y="27864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17160" y="1418400"/>
                  <a:ext cx="2710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4360" y="127260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6680" y="331560"/>
                  <a:ext cx="29052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61680" y="20772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0B7-2E90-4B73-B9E0-95F2153251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533-C61E-465C-9834-EA4B6983C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EA3-94A1-4D55-99B1-8AB6CC5240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940C-B09E-497B-9C20-5C2A65685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04E-6910-4398-86C7-6697F52FF6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CBF-59F3-4FFC-B657-DF3781D03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43B7-E8EA-4C5D-BD5B-89E050A46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B4A-4064-404E-9CE3-B12E05B36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3280" y="4317840"/>
            <a:ext cx="982440" cy="1161000"/>
            <a:chOff x="7793280" y="4317840"/>
            <a:chExt cx="982440" cy="1161000"/>
          </a:xfrm>
        </p:grpSpPr>
        <p:sp>
          <p:nvSpPr>
            <p:cNvPr id="142" name="未知"/>
            <p:cNvSpPr/>
            <p:nvPr/>
          </p:nvSpPr>
          <p:spPr>
            <a:xfrm rot="7320000">
              <a:off x="7788240" y="4655520"/>
              <a:ext cx="998640" cy="4662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 rot="7320000">
              <a:off x="7772040" y="4635720"/>
              <a:ext cx="995400" cy="461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 rot="7320000">
              <a:off x="7931880" y="4618080"/>
              <a:ext cx="660240" cy="4215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3280" y="4317840"/>
              <a:ext cx="982440" cy="1161000"/>
              <a:chOff x="7793280" y="4317840"/>
              <a:chExt cx="982440" cy="1161000"/>
            </a:xfrm>
          </p:grpSpPr>
          <p:sp>
            <p:nvSpPr>
              <p:cNvPr id="146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7320000">
                <a:off x="775512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rot="7320000">
                <a:off x="803844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7320000">
                <a:off x="851328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7320000">
                <a:off x="815076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1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755-65F6-4063-ADE4-5D8526525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5407-79FB-4D3E-B3C8-F25EAB838D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F0CF-094B-4A50-8582-8207E0E09D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5D2-B300-410D-B5F1-A6B7786F0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477-64E5-4D29-8CDD-AF6F844554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754-0F05-4889-A34F-3AB3959E29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9B69-3DC7-4699-A012-6DBB939C04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1"/>
          <p:cNvSpPr/>
          <p:nvPr/>
        </p:nvSpPr>
        <p:spPr>
          <a:xfrm>
            <a:off x="0" y="26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节  测量平均速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矩形 2"/>
          <p:cNvSpPr/>
          <p:nvPr/>
        </p:nvSpPr>
        <p:spPr>
          <a:xfrm>
            <a:off x="0" y="1166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  机械运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18920" y="152280"/>
            <a:ext cx="5832360" cy="82872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边学边练  一试身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19700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分析下述操作或推论，哪些是错误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实验测出的速度就是小车到达末端碰金属片时的速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小车走得慢一点，路程适当长一点，则测量的误差可以小一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1476360" y="31370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错误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平均速度小于末端速度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3203640" y="5229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正确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18920" y="152280"/>
            <a:ext cx="5832360" cy="82872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边学边练  一试身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94920" y="105264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分析下述哪些是错误的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实验如果测出上半程和下半程速度分别为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则全程的速度是（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实验如果测出上半段时间和下半段时间的速度分别为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则全程的速度是（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611280" y="29559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错误。应设出路程</a:t>
            </a:r>
            <a:r>
              <a:rPr b="1" i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表示出时间</a:t>
            </a:r>
            <a:r>
              <a:rPr b="1" i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s/v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，由公式推出结果。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1" name="Object 6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4752720" cy="165744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7"/>
          <p:cNvSpPr/>
          <p:nvPr/>
        </p:nvSpPr>
        <p:spPr>
          <a:xfrm>
            <a:off x="1619280" y="5661000"/>
            <a:ext cx="73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正确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可设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时间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，表示出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路程</a:t>
            </a:r>
            <a:r>
              <a:rPr b="1" i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vt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，与上类似，由公式推出结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4000" y="142560"/>
            <a:ext cx="6870600" cy="76500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实验拓展  问题探究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02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（一）利用气垫导轨和红外线计时器改进实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703dff"/>
                </a:solidFill>
                <a:latin typeface="仿宋_GB2312"/>
                <a:ea typeface="仿宋_GB2312"/>
              </a:rPr>
              <a:t>实验器材</a:t>
            </a:r>
            <a:r>
              <a:rPr b="1" lang="zh-CN" sz="3600" spc="-1" strike="noStrike">
                <a:solidFill>
                  <a:srgbClr val="703dff"/>
                </a:solidFill>
                <a:latin typeface="仿宋_GB2312"/>
                <a:ea typeface="仿宋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5" name="Picture 4" descr="10104_3"/>
          <p:cNvPicPr/>
          <p:nvPr/>
        </p:nvPicPr>
        <p:blipFill>
          <a:blip r:embed="rId1"/>
          <a:stretch/>
        </p:blipFill>
        <p:spPr>
          <a:xfrm>
            <a:off x="900000" y="2492280"/>
            <a:ext cx="7344000" cy="3527640"/>
          </a:xfrm>
          <a:prstGeom prst="rect">
            <a:avLst/>
          </a:prstGeom>
          <a:ln w="0">
            <a:noFill/>
          </a:ln>
        </p:spPr>
      </p:pic>
      <p:sp>
        <p:nvSpPr>
          <p:cNvPr id="776" name="文本框 8200"/>
          <p:cNvSpPr/>
          <p:nvPr/>
        </p:nvSpPr>
        <p:spPr>
          <a:xfrm>
            <a:off x="3321000" y="1946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3000" y="2599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703dff"/>
                </a:solidFill>
                <a:latin typeface="宋体"/>
              </a:rPr>
              <a:t>实验原理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8" name="高中物理实验003-用数字计时器测气垫导轨上滑块的即时速度.wmv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7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457440" cy="57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问题与思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4360" y="692280"/>
            <a:ext cx="76960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实验中哪些方面的改进减少了测量误差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可由什么读出？路程对应哪个距离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减小误差，怎样处理好运动的起点与计时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起点和终点的关系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1260360" y="126828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减小了阻力，运动更均匀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利用红外线计时器，时间测量更准确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利用轨道上刻度，长度测量更准确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260360" y="3286080"/>
            <a:ext cx="66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红外线光电计时器；两个光电门之间距离，或两个挡光片之间距离。</a:t>
            </a:r>
            <a:r>
              <a:rPr b="0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169236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仿宋_GB2312"/>
              </a:rPr>
              <a:t>每次都让滑块从同一处出发，先后经过的两个光电门作为起点和终点。若一个光电门带双挡光片，可随时测各处的速度。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0000" y="152280"/>
            <a:ext cx="6480360" cy="75744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实验拓展  问题探究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50920" y="1773000"/>
            <a:ext cx="842472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（二）用超声波位移传感器和计算机测量并显示速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实验器材：（见课本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实验原理：（见课本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4560" y="476280"/>
            <a:ext cx="8497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（二）用超声波位移传感器和计算机测量并显示速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4360" y="126792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问题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：传感器测距离的优点与计算机的作用</a:t>
            </a: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问题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：想一想，超声波的测距原理在生活当中有哪些应用方式？</a:t>
            </a:r>
            <a:r>
              <a:rPr b="0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1187280" y="191628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优点：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位移传感器可自动测出各时刻的距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算机由距离和对应时间信息，算出速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算机可以直接显示出速度—时间图像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2411280" y="4797360"/>
            <a:ext cx="55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常见的有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道路交通限速时，用来测车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海洋深度测量、鱼群探测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蝙蝠确定前面的障碍物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002-6F35-42F3-BF7B-33A0B925E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339640" y="152280"/>
            <a:ext cx="4824360" cy="75744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课堂小结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85800" y="1341360"/>
            <a:ext cx="769608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一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测量“斜面上小车运动的平均速度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原理与器材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方法步骤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误差分析与注意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实验的改进和扩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光电计时、气垫导轨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超声波测距，计算机测量、显示速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三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实例应用及拓展</a:t>
            </a:r>
            <a:r>
              <a:rPr b="0" lang="zh-CN" sz="3200" spc="-1" strike="noStrike">
                <a:solidFill>
                  <a:srgbClr val="096b5e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56000" y="223920"/>
            <a:ext cx="3744720" cy="82872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隶书"/>
              </a:rPr>
              <a:t>新课引入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11280" y="1341000"/>
            <a:ext cx="7696080" cy="352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看：粉笔头的自由下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看：小车的运动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思考：①根据前边所学知识，怎样知道这些物体运动的快慢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②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速度的计算公式是什么？怎样计算和比较它们的平均速度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7000920" y="189000"/>
            <a:ext cx="214200" cy="718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908000" y="6453360"/>
            <a:ext cx="6120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6"/>
          <p:cNvSpPr/>
          <p:nvPr/>
        </p:nvSpPr>
        <p:spPr>
          <a:xfrm>
            <a:off x="2771640" y="6021360"/>
            <a:ext cx="43200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Oval 7"/>
          <p:cNvSpPr/>
          <p:nvPr/>
        </p:nvSpPr>
        <p:spPr>
          <a:xfrm>
            <a:off x="3635280" y="6021360"/>
            <a:ext cx="43200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2627280" y="5516640"/>
            <a:ext cx="1584360" cy="504720"/>
          </a:xfrm>
          <a:prstGeom prst="rect">
            <a:avLst/>
          </a:prstGeom>
          <a:solidFill>
            <a:srgbClr val="096b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63 0 L -0.000763 0.934537 E">
                                      <p:cBhvr>
                                        <p:cTn id="6" dur="1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5185 L 0.377986 0.005185 E">
                                      <p:cBhvr>
                                        <p:cTn id="10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7986 0 E">
                                      <p:cBhvr>
                                        <p:cTn id="12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E-005 0 L 0.385903 0 E">
                                      <p:cBhvr>
                                        <p:cTn id="14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6870600" cy="82692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学习示范  完善方案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000" y="1126800"/>
            <a:ext cx="547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验器材：小车、长木板、垫块、铁夹、铁制小书立、铅笔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AutoShape 4"/>
          <p:cNvSpPr/>
          <p:nvPr/>
        </p:nvSpPr>
        <p:spPr>
          <a:xfrm>
            <a:off x="6084720" y="1557360"/>
            <a:ext cx="2305080" cy="1512720"/>
          </a:xfrm>
          <a:prstGeom prst="wedgeRoundRectCallout">
            <a:avLst>
              <a:gd name="adj1" fmla="val -45986"/>
              <a:gd name="adj2" fmla="val 8676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猜一猜？想一想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0" y="4437000"/>
            <a:ext cx="9144000" cy="23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需要怎样放置和调整斜面（轨道）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   ②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需要怎样确定运动的起点和终点？怎样得到路程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   ③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怎样记录时间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   ④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怎样得到平均速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1" name="Picture 6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46087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24000" y="1052280"/>
            <a:ext cx="8207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将一端垫高，略微倾斜，使小车能主动运动起来，但又不至于太快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小车释放处，车前端做标记作为起点；在斜面下端卡上金属片作为终点，用刻度尺量出起点到终点距离就是路程</a:t>
            </a:r>
            <a:r>
              <a:rPr b="1" i="1" lang="zh-CN" sz="28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i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释放小车时，用停表开始计时，车撞击金属片时停止计时，得到时间</a:t>
            </a:r>
            <a:r>
              <a:rPr b="1" i="1" lang="zh-CN" sz="2800" spc="-1" strike="noStrike">
                <a:solidFill>
                  <a:srgbClr val="0000ff"/>
                </a:solidFill>
                <a:latin typeface="宋体"/>
              </a:rPr>
              <a:t>t</a:t>
            </a:r>
            <a:r>
              <a:rPr b="1" i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④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由       算出速度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5902200" cy="79200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小组讨论  展示结果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5" name="Object 5" descr=""/>
          <p:cNvPicPr/>
          <p:nvPr/>
        </p:nvPicPr>
        <p:blipFill>
          <a:blip r:embed="rId1"/>
          <a:stretch/>
        </p:blipFill>
        <p:spPr>
          <a:xfrm>
            <a:off x="1714680" y="4857840"/>
            <a:ext cx="846000" cy="928440"/>
          </a:xfrm>
          <a:prstGeom prst="rect">
            <a:avLst/>
          </a:prstGeom>
          <a:ln w="0">
            <a:noFill/>
          </a:ln>
        </p:spPr>
      </p:pic>
      <p:sp>
        <p:nvSpPr>
          <p:cNvPr id="746" name="文本框 8200"/>
          <p:cNvSpPr/>
          <p:nvPr/>
        </p:nvSpPr>
        <p:spPr>
          <a:xfrm>
            <a:off x="2209680" y="587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77440" y="115920"/>
            <a:ext cx="5758200" cy="82872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师生总结  完善方案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84360" y="112536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刚才的操作还存在什么问题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验要求得到运动到底端和到中点两个结果，怎么办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755640" y="18032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.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要提前做好分工协调（发令员、操作员、计时员、记录员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.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每一组数据要多测几次取平均值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835280" y="4653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实验要分两大步：金属片卡在底端测量完后，再将金属片卡在中部测量。每次测量可测三遍以上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0000" y="115560"/>
            <a:ext cx="6264360" cy="64908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分组实验  测量探究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66560" y="764640"/>
            <a:ext cx="8352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实验步骤</a:t>
            </a:r>
            <a:r>
              <a:rPr b="1" lang="zh-CN" sz="2800" spc="-1" strike="noStrike">
                <a:solidFill>
                  <a:srgbClr val="096b5e"/>
                </a:solidFill>
                <a:latin typeface="仿宋_GB2312"/>
                <a:ea typeface="仿宋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调整斜面装置，保持较小的合适的倾角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将金属片卡放在底端，小车放在顶端。标好起点，测出小车将要通过的路程</a:t>
            </a:r>
            <a:r>
              <a:rPr b="1" i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计入表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释放小车同时用停表计时，到小车撞击金属片时停止计时，得到时间</a:t>
            </a:r>
            <a:r>
              <a:rPr b="1" i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t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记入表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将小车重新放到顶点，重复测量两次，记入表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E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将金属片移到斜面中部，再测量三次路程</a:t>
            </a:r>
            <a:r>
              <a:rPr b="1" i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和时间</a:t>
            </a:r>
            <a:r>
              <a:rPr b="1" i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t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记入表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F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由测出的数据，依据公式 </a:t>
            </a:r>
            <a:r>
              <a:rPr b="1" i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v=s/t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算出各个速度，求出平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值，得到结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G.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整理回收器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6b5e"/>
                </a:solidFill>
                <a:latin typeface="Comic Sans MS"/>
                <a:ea typeface="华文新魏"/>
              </a:rPr>
              <a:t>记录表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468360" y="1052640"/>
          <a:ext cx="7912080" cy="5051160"/>
        </p:xfrm>
        <a:graphic>
          <a:graphicData uri="http://schemas.openxmlformats.org/drawingml/2006/table">
            <a:tbl>
              <a:tblPr/>
              <a:tblGrid>
                <a:gridCol w="1978200"/>
                <a:gridCol w="1977840"/>
                <a:gridCol w="1978200"/>
                <a:gridCol w="1977840"/>
              </a:tblGrid>
              <a:tr h="59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  <a:ea typeface="仿宋_GB2312"/>
                        </a:rPr>
                        <a:t>路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  <a:ea typeface="仿宋_GB2312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  <a:ea typeface="仿宋_GB2312"/>
                        </a:rPr>
                        <a:t>平均速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宋体"/>
                          <a:ea typeface="仿宋_GB2312"/>
                        </a:rPr>
                        <a:t>平均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430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zh-CN" sz="36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zh-CN" sz="36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zh-CN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i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2880">
                      <a:solidFill>
                        <a:srgbClr val="800000"/>
                      </a:solidFill>
                    </a:lnL>
                    <a:lnR w="2880">
                      <a:solidFill>
                        <a:srgbClr val="800000"/>
                      </a:solidFill>
                    </a:lnR>
                    <a:lnT w="2880">
                      <a:solidFill>
                        <a:srgbClr val="800000"/>
                      </a:solidFill>
                    </a:lnT>
                    <a:lnB w="2880">
                      <a:solidFill>
                        <a:srgbClr val="8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49080" y="151920"/>
            <a:ext cx="5902200" cy="90036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实验总结  问题讨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每组得到的两个速度</a:t>
            </a: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一样大？两者是二倍关系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各组之间测量的值差别很大？是误差所致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826920" y="2421000"/>
            <a:ext cx="763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小车越走越快，下半段更快，因此全程速度大于上半段速度，但不是二倍关系（</a:t>
            </a:r>
            <a:r>
              <a:rPr b="1" i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&lt;</a:t>
            </a:r>
            <a:r>
              <a:rPr b="1" i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&lt;2</a:t>
            </a:r>
            <a:r>
              <a:rPr b="1" i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5"/>
          <p:cNvSpPr/>
          <p:nvPr/>
        </p:nvSpPr>
        <p:spPr>
          <a:xfrm>
            <a:off x="755640" y="4581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不是误差原因。一是斜面倾角不同，快慢不一；二是路程不一致，故得到的速度互不相同。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06160" y="152280"/>
            <a:ext cx="6118200" cy="757440"/>
          </a:xfrm>
          <a:prstGeom prst="rect">
            <a:avLst/>
          </a:prstGeom>
          <a:solidFill>
            <a:srgbClr val="5be1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实验总结  问题讨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26792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该实验误差主要来自哪几个面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减小误差，应注意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55640" y="1916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一是受工具精度所限；二是测量者反应速度和读数误差；三是装置光滑度不均匀带来误差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116000" y="372744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安装置时，斜面倾角要小一点，但不能过小，过小则小车不动，稍大就会使小车过快，计时不准。起止点距离适当大一点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测同一组数据时保证起止点相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测时间时释放小车与开始计时要尽量同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对刻度尺和停表读数要规范准确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18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58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