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.gif" ContentType="image/gif"/>
  <Override PartName="/ppt/media/image11.png" ContentType="image/png"/>
  <Override PartName="/ppt/media/image19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C3D7-41C3-4764-98AA-53B52033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E88E-17CF-4D2B-8DCC-8072B382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5BC4C-55FE-404E-A6D0-D913379C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6A0EB-2E59-4FD5-83C0-9AA84FE2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03B3B-E5C6-495E-974C-4814D2B4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DEDA4-490D-4597-BC56-A3EB6524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0A7E0-C7B2-43F3-8EF9-C9757FE3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4451D-B6D2-47B7-AFB5-03E3B3C2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FEF89-92FC-4A0F-A978-D300760F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8B25C-DFDF-4DBB-BD54-D1BFC4D4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4744F-F786-4A33-AB8D-3F33795F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54A97-02E0-405D-8908-C709B8FC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4977-5A6C-481B-A1C8-13F76F13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F177C-B00F-4F87-AE58-AF03D2C8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ECE8D-7939-4A30-BDDE-DC7BB4D5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9AA00-372D-4599-A12D-6AA66165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C31E0-85C2-473A-9D37-FCBE3440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FF57C-8A94-46E1-B86A-D14D17CF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1D892-41F6-4577-9B86-4DB9DE4C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18B1C-180D-4D66-A726-698020A7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AE2F1-198D-4828-8B9B-E3D30B01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F3A5F-7608-48AA-BFA2-5DD4B0F6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B6047-3E2C-4E64-8B23-726A4674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928C-D861-4E6D-8806-8C0F7DFF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9D846-F141-4BC7-9324-11E96246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0E21C-41C6-410A-A3B9-F77B22BB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F1A01-7357-48DE-9AF9-BB9272BF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06889-EAF3-4ED5-9275-C69F8DCC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074CF-21F5-4039-BEBC-7B0C4982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36517-46CC-4EAC-80F3-5C116280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856F3-AC3F-4439-9B4A-E2A7A61E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5A462-B129-4895-97C0-AE786D41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8A5DD-0820-4C3C-BC1B-8223A7BD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3CD5D-E061-4E20-A22C-7CF5D3B4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B4EE-BA95-4487-84BA-8F976D15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E18BD-37F5-4CB1-9EA0-7E3CEBE5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95A7D-2004-4B0B-98D5-938694BF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FD9EB-D4D3-4D82-A676-792271C1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A9CEA-8F66-41CA-B107-0DF012E3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B8325-0521-4685-BB8E-D577FF38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9FFB5-613E-4061-8AE9-BDED5753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3D5B1-6D0B-403F-AF21-32AA931C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9D6E2-5F31-4850-8763-71016E42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8E491-785C-4495-869E-AD5CBCF4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DA9E2-8724-4AF5-8562-59974F59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DECE-AA2C-48D4-99F3-33BF5A3E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B5C77-C291-4BD7-9770-47E446F3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F6777-003E-4CE3-9E68-9E7D11DF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DFC0A-1ACD-457E-A32E-37019540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75D36-8549-45F9-8889-DE17F671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9C584-EB14-4252-A784-E1C78B4C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97CC6D-4D65-4EB0-BCF4-8BD5CB8A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CDA26-FEEB-498C-B803-0B01BEB2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98CD17-7A47-45B7-8B67-4AED7CDB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8BEC2D-57DA-4CC1-8DC7-BFFDEDF1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B9416E-FF54-4B98-918C-96B02BC9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83CF-B5AE-4470-AEC4-76C66AEF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2BC1B9-9CA2-4A15-847C-1840B1C7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FDA70F-A8F4-4C7F-816B-78899590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0D9665-B01D-40F6-A511-EFF8B4BA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8EBBB-F7CF-45C5-9208-9954614B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171927-059E-4C4A-AD40-513783D0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19C522-79FB-41A3-B07E-E39104CA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A49092-8756-4160-A42B-5587A3B5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DFD749-EECD-481F-AA10-5865C709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CCEEE7-D338-4D7A-9BB7-610D88B3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7BF86A-3F5E-43C7-A91B-DD9D932C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44FA-1907-407A-AB20-9781DF49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DC216E-6E49-4710-8FF0-B1431AF8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DC5B89-0C85-48DA-93C4-0B10CE4E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BF7657-E6A7-44E9-826C-5DE61993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A9D61D-87A8-4870-90AB-3F0B1133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71B638-91B5-4C85-8A0F-422E4675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C2A685-2ECF-431C-AB75-5929B974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0C8E2B-A0E2-4DAB-B7C3-3D3F6B65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1893CD-9548-4660-B344-880AA3CB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C73004-45A2-45DE-AA05-01D592D7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4054-11F4-4465-8FAB-0198033D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3FFA-20EE-45C9-AB78-3140E9B9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B769-5798-4ED9-974B-927FD265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0D3C-3925-4A1D-B30C-08BDC1DB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DB85-FA70-4DEC-9185-A75C014E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73CA-7CB3-4970-B812-84185B12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3693-89FD-4528-804B-E743EBB1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F4F0-6885-4EA6-A255-7D9C3F2C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9812-AACF-4413-BA45-8629FB7A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25125-0877-4A93-B5BD-BFF3FFAF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FD743-D55A-483E-8DF4-ED7DE4E5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43D91-5CDA-4E14-8398-DCF4F618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8F122-E5A0-4B21-AC68-7781BE21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9E7E9-5485-4F0E-902D-F2EF50D4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C56-C31C-4A39-8CB5-1CA21ACC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F5593-FC5C-433F-8D06-1B971DC5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56A00-F2A4-4611-B82F-F64CA084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98CD1-3AEB-40D3-846B-0510C481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A6EA9-C53E-47CF-831F-DB3BEA07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881ED-D8D7-4906-A772-574AB863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50BCF-494C-46B1-8BAD-50BD5B5D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F3997-CB43-4987-8A52-1AFD52E0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9D9C6-DB33-474C-B2A5-8F28ED6B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44052-FFE4-4161-A481-042E1B9F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45CFB-8B44-4B0E-87C1-6237D603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FC0E-EBAF-4A69-B35C-44AD1BB6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AD569-84CB-4288-9291-F75CD42A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8B688-3583-4ACD-8B79-967B3CAC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F1858-5F89-4CE4-A6C6-1C7E239D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FA8F8-8C1A-44E3-B04D-7F7A8956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77494-F816-43C9-BE3C-3986472F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ABBCA-095E-48AC-BD95-A9A4C855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5E590-8E24-4587-A375-1A91E929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33EFD-40A2-401B-B3E4-61877734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E630E-18AD-4FF2-BA2A-FAEA3588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06619-2F13-406A-95F2-62AC6647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ADDA-0727-4E25-AD5B-2189B731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247D4-CAC6-47FB-93C0-983585E0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86B08-01A0-4038-B8B6-D1299E23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7DC46-A721-47F3-9B7F-2ECEF434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36246-3B24-451A-B73C-FDF40F3F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C7888-FF14-4B04-A6F8-24B2B413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AFD01-460B-41C1-81E1-BD5BEE53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8C591-50C0-453A-AB75-5E6CEED4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1BA00-26AB-4614-84BE-B4221997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1BB1D-6E49-4F58-9463-85C609D6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B3028-24D4-4401-B353-31655C11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A7E3-974D-40DF-9E74-B405014C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F0E01-EB6D-4A37-9F80-2F8501EB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91EB4-A354-4CC1-BCBA-AAF6B3F4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EAC17-3855-40F5-A582-7451A463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E090D-CDC9-4D5D-AF77-757FBC66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5E7F5-6287-43A3-98BF-A8322B96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9BAC7-1B4B-42C6-8A78-99008FEA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3A525-A248-49EC-9E00-DD099BAA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1BD4D-CF79-4D6D-BFE9-74783DCC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732E6-9674-4CB4-942A-EAE26680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84C6D-2EBC-4C57-8684-613C5CD3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FB95-69DE-4D27-8EE7-D542BD8A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6CF11-F343-4322-86BF-85E470F9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2B987-A428-411F-B856-9EA29428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F533C-ED60-4BDE-A39C-B208254E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14A5D-2F75-4F00-8FAA-3A4BA0DF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532B1-09C2-4CB3-BA40-F9D4FC58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F7D01-5208-447B-84CB-A95E117B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E4EDF-C366-41F6-9B96-D1EB8703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C3ECF-0DA0-4780-ABA5-135FCA2B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ADA32-CD14-49A0-BAF6-BEF61DED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4B2EC-AF82-481C-8DB2-B059D4F4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0BD-23B4-4CE6-9E47-39B78726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3984F-4740-4A97-9865-7E5E0205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974FA-844B-4C80-93F7-FD3083E9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BFBDD-CFDA-49A0-A815-9E097CD9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F5329-26AF-472E-9A89-63640B9E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E5DC4-25FA-43DC-9DAD-448F0599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D574F-3C52-458A-B0DE-691D62F1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95B06-3217-402A-91FD-9A57AE91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F2C03-D19B-4376-B7F8-4E804201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094C9-EC9C-4BB1-AF25-C522A131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849A7-510A-4B39-81FE-CE7825BC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1B74-FCD9-4AAF-A4F6-C5B5F332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4D177-6279-43BF-958A-C1605400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631E6-285E-4B2A-8C99-D41257E5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F647A-E841-428A-AA81-94105DD1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A5F40-71FE-4FE4-8AE2-2AF9969D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1C06F-9B37-4578-91E6-E78C8F5B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82D32-33F3-4F68-84D6-DC9380EB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1C70E-1C30-41A7-BF63-DFF92A5F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0C3E0-0544-49C3-87FF-3616C0B5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D2ED4-995F-4EDA-95E9-F4DCF702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559D6-DA5B-45F1-9ACC-08A0FB19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2479-AD6E-408D-959C-B0657C3BB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0BF8-8EF7-4A4D-93F2-D3177DF9B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7B74-3FF5-49B6-980E-4E894391E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043E-36EF-429D-983C-8126AFCF1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2EA9-27DE-4109-BFDE-EF0E6F774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D928-2CE8-4B50-8B57-47245ADB4169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B7A0-5CFA-435B-A101-C38307F62F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BE11-4EE7-4CA8-8C06-FC34FE994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439A-CACA-45DF-B268-6E84FC62F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F19A-F507-479C-9A8B-7BAADBE68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72A0-B3AA-48A7-B853-F7DA0A746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7587-EDB2-40EC-B68A-57AF2F57D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1C43-A41C-45E2-B9B0-FCF1DC421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103E-2C8D-4711-8894-8873876DE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ic00.com/gif/gif2/5354.html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58720" y="764640"/>
            <a:ext cx="7772400" cy="10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中宋"/>
                <a:ea typeface="华文中宋"/>
              </a:rPr>
              <a:t>教科版科学三年级上册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WordArt 16"/>
          <p:cNvSpPr txBox="1"/>
          <p:nvPr/>
        </p:nvSpPr>
        <p:spPr>
          <a:xfrm>
            <a:off x="900000" y="2637000"/>
            <a:ext cx="7272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2060"/>
                </a:solidFill>
                <a:latin typeface="宋体"/>
              </a:rPr>
              <a:t>材料在水中的沉浮课件</a:t>
            </a:r>
            <a:r>
              <a:rPr b="1" lang="en-US" sz="4000" spc="-1" strike="noStrike">
                <a:ln w="0">
                  <a:noFill/>
                </a:ln>
                <a:solidFill>
                  <a:srgbClr val="002060"/>
                </a:solidFill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002060"/>
                </a:solidFill>
                <a:latin typeface="宋体"/>
              </a:rPr>
              <a:t>模板下载</a:t>
            </a:r>
            <a:endParaRPr b="1" lang="en-US" sz="4000" spc="-1" strike="noStrike">
              <a:ln w="0">
                <a:noFill/>
              </a:ln>
              <a:solidFill>
                <a:srgbClr val="002060"/>
              </a:solidFill>
              <a:latin typeface="宋体"/>
              <a:ea typeface="宋体"/>
            </a:endParaRPr>
          </a:p>
        </p:txBody>
      </p:sp>
      <p:sp>
        <p:nvSpPr>
          <p:cNvPr id="576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7a77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6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7" descr="图片1"/>
          <p:cNvPicPr/>
          <p:nvPr/>
        </p:nvPicPr>
        <p:blipFill>
          <a:blip r:embed="rId2"/>
          <a:stretch/>
        </p:blipFill>
        <p:spPr>
          <a:xfrm>
            <a:off x="0" y="0"/>
            <a:ext cx="9360000" cy="7074000"/>
          </a:xfrm>
          <a:prstGeom prst="rect">
            <a:avLst/>
          </a:prstGeom>
          <a:ln w="0">
            <a:noFill/>
          </a:ln>
        </p:spPr>
      </p:pic>
      <p:sp>
        <p:nvSpPr>
          <p:cNvPr id="671" name="文本框 8199"/>
          <p:cNvSpPr/>
          <p:nvPr/>
        </p:nvSpPr>
        <p:spPr>
          <a:xfrm>
            <a:off x="90360" y="6648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保护树木　人人有责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73" name="Picture 12" descr="图片13"/>
          <p:cNvPicPr/>
          <p:nvPr/>
        </p:nvPicPr>
        <p:blipFill>
          <a:blip r:embed="rId1"/>
          <a:stretch/>
        </p:blipFill>
        <p:spPr>
          <a:xfrm>
            <a:off x="0" y="0"/>
            <a:ext cx="4138560" cy="2925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3" descr="图片14"/>
          <p:cNvPicPr/>
          <p:nvPr/>
        </p:nvPicPr>
        <p:blipFill>
          <a:blip r:embed="rId2"/>
          <a:stretch/>
        </p:blipFill>
        <p:spPr>
          <a:xfrm>
            <a:off x="4500720" y="0"/>
            <a:ext cx="4103640" cy="29242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图片15"/>
          <p:cNvPicPr/>
          <p:nvPr/>
        </p:nvPicPr>
        <p:blipFill>
          <a:blip r:embed="rId3"/>
          <a:stretch/>
        </p:blipFill>
        <p:spPr>
          <a:xfrm>
            <a:off x="0" y="3905280"/>
            <a:ext cx="4140360" cy="29527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5" descr="图片16"/>
          <p:cNvPicPr/>
          <p:nvPr/>
        </p:nvPicPr>
        <p:blipFill>
          <a:blip r:embed="rId4"/>
          <a:stretch/>
        </p:blipFill>
        <p:spPr>
          <a:xfrm>
            <a:off x="4500720" y="3716280"/>
            <a:ext cx="41400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07640" y="836640"/>
            <a:ext cx="2808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拓展研究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979280" y="1196640"/>
            <a:ext cx="65530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如何杜绝生活中浪费木材资源的现象？你有什么好办法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2050920" y="4221000"/>
            <a:ext cx="5834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同学们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你们还知道哪些木材的替代品呢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BB20-F4C0-4E89-B1A5-4471236A7B5F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8"/>
          <p:cNvSpPr/>
          <p:nvPr/>
        </p:nvSpPr>
        <p:spPr>
          <a:xfrm>
            <a:off x="2916360" y="3068640"/>
            <a:ext cx="496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85" name="Picture 12" descr="58ff652098eebc75935807c0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13"/>
          <p:cNvSpPr/>
          <p:nvPr/>
        </p:nvSpPr>
        <p:spPr>
          <a:xfrm>
            <a:off x="2987640" y="3357720"/>
            <a:ext cx="410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7" name="WordArt 14"/>
          <p:cNvSpPr txBox="1"/>
          <p:nvPr/>
        </p:nvSpPr>
        <p:spPr>
          <a:xfrm>
            <a:off x="2700360" y="2997360"/>
            <a:ext cx="446724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谢谢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!</a:t>
            </a: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再见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!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78920" y="5805000"/>
            <a:ext cx="230508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塑料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50920" y="2781000"/>
            <a:ext cx="8540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　木头　　　　　金属　　　　　　　纸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9" name="Picture 13" descr="20073161025205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292640"/>
            <a:ext cx="1979640" cy="1800360"/>
          </a:xfrm>
          <a:prstGeom prst="rect">
            <a:avLst/>
          </a:prstGeom>
          <a:ln w="0">
            <a:noFill/>
          </a:ln>
        </p:spPr>
      </p:pic>
      <p:sp>
        <p:nvSpPr>
          <p:cNvPr id="580" name="AutoShape 14"/>
          <p:cNvSpPr/>
          <p:nvPr/>
        </p:nvSpPr>
        <p:spPr>
          <a:xfrm>
            <a:off x="3203640" y="3500280"/>
            <a:ext cx="4537080" cy="2521080"/>
          </a:xfrm>
          <a:prstGeom prst="cloudCallout">
            <a:avLst>
              <a:gd name="adj1" fmla="val 41495"/>
              <a:gd name="adj2" fmla="val 54722"/>
            </a:avLst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猜一猜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这些材料在水中是沉还是浮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15" descr="图片3"/>
          <p:cNvPicPr/>
          <p:nvPr/>
        </p:nvPicPr>
        <p:blipFill>
          <a:blip r:embed="rId3"/>
          <a:stretch/>
        </p:blipFill>
        <p:spPr>
          <a:xfrm>
            <a:off x="250920" y="620640"/>
            <a:ext cx="2176200" cy="1878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6" descr="图片4"/>
          <p:cNvPicPr/>
          <p:nvPr/>
        </p:nvPicPr>
        <p:blipFill>
          <a:blip r:embed="rId4"/>
          <a:stretch/>
        </p:blipFill>
        <p:spPr>
          <a:xfrm>
            <a:off x="2987640" y="549360"/>
            <a:ext cx="2378160" cy="19447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7" descr="图片5"/>
          <p:cNvPicPr/>
          <p:nvPr/>
        </p:nvPicPr>
        <p:blipFill>
          <a:blip r:embed="rId5"/>
          <a:stretch/>
        </p:blipFill>
        <p:spPr>
          <a:xfrm>
            <a:off x="6084720" y="549360"/>
            <a:ext cx="2590920" cy="20178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8" descr="图片6"/>
          <p:cNvPicPr/>
          <p:nvPr/>
        </p:nvPicPr>
        <p:blipFill>
          <a:blip r:embed="rId6"/>
          <a:stretch/>
        </p:blipFill>
        <p:spPr>
          <a:xfrm>
            <a:off x="179280" y="3284640"/>
            <a:ext cx="25606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250920" y="404280"/>
            <a:ext cx="860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想一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怎样来判断材料的沉浮？如何算沉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果物体向下碰到水槽底部，就代表它在水中是沉的，如果物体不能碰到水槽底部，就代表它在水中是浮的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6" name="Text Box 8"/>
          <p:cNvSpPr/>
          <p:nvPr/>
        </p:nvSpPr>
        <p:spPr>
          <a:xfrm>
            <a:off x="0" y="3789360"/>
            <a:ext cx="9325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一切推理都必须从观察与实验中得来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　　　　　　　　　　　　　　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伽利略 </a:t>
            </a: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矩形 5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1907640" y="475920"/>
            <a:ext cx="65516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实验要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填写实验记录表，</a:t>
            </a: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先预测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再实验，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做好记录。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沉，浮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表示）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按照顺序一个一个测试材料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种材料测试完之后即取出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再进行下一种材料的测试，同一种物品至少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实验三次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做实验时请同学们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拿轻放到水中央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防止水滴溅到桌面上。</a:t>
            </a:r>
            <a:r>
              <a:rPr b="0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9" name="Picture 7" descr=""/>
          <p:cNvPicPr/>
          <p:nvPr/>
        </p:nvPicPr>
        <p:blipFill>
          <a:blip r:embed="rId1"/>
          <a:stretch/>
        </p:blipFill>
        <p:spPr>
          <a:xfrm>
            <a:off x="0" y="549360"/>
            <a:ext cx="1800360" cy="2160360"/>
          </a:xfrm>
          <a:prstGeom prst="rect">
            <a:avLst/>
          </a:prstGeom>
          <a:ln w="0">
            <a:noFill/>
          </a:ln>
        </p:spPr>
      </p:pic>
      <p:pic>
        <p:nvPicPr>
          <p:cNvPr id="590" name="azm.wma" descr=""/>
          <p:cNvPicPr/>
          <p:nvPr/>
        </p:nvPicPr>
        <p:blipFill>
          <a:blip r:embed="rId2"/>
          <a:stretch/>
        </p:blipFill>
        <p:spPr>
          <a:xfrm>
            <a:off x="755640" y="616572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94159" fill="hold"/>
                                        <p:tgtEl>
                                          <p:spTgt spid="5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常见材料在水中的沉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395280" y="1052640"/>
          <a:ext cx="7583400" cy="4824360"/>
        </p:xfrm>
        <a:graphic>
          <a:graphicData uri="http://schemas.openxmlformats.org/drawingml/2006/table">
            <a:tbl>
              <a:tblPr/>
              <a:tblGrid>
                <a:gridCol w="2529000"/>
                <a:gridCol w="2525760"/>
                <a:gridCol w="2528640"/>
              </a:tblGrid>
              <a:tr h="100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材料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预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实验结果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金属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金属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塑料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木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泡沫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3" name="Text Box 202"/>
          <p:cNvSpPr/>
          <p:nvPr/>
        </p:nvSpPr>
        <p:spPr>
          <a:xfrm>
            <a:off x="6588000" y="3645000"/>
            <a:ext cx="13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4" name="Picture 211" descr="u=3914128146,2146593543&amp;fm=0&amp;gp=4[1]"/>
          <p:cNvPicPr/>
          <p:nvPr/>
        </p:nvPicPr>
        <p:blipFill>
          <a:blip r:embed="rId1"/>
          <a:stretch/>
        </p:blipFill>
        <p:spPr>
          <a:xfrm>
            <a:off x="8101080" y="5445000"/>
            <a:ext cx="1042920" cy="107964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212"/>
          <p:cNvSpPr/>
          <p:nvPr/>
        </p:nvSpPr>
        <p:spPr>
          <a:xfrm>
            <a:off x="3780000" y="58770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通过实验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你发现了什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6" name="Text Box 258"/>
          <p:cNvSpPr/>
          <p:nvPr/>
        </p:nvSpPr>
        <p:spPr>
          <a:xfrm>
            <a:off x="6012000" y="213372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7" name="Text Box 259"/>
          <p:cNvSpPr/>
          <p:nvPr/>
        </p:nvSpPr>
        <p:spPr>
          <a:xfrm>
            <a:off x="6012000" y="2781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8" name="Text Box 260"/>
          <p:cNvSpPr/>
          <p:nvPr/>
        </p:nvSpPr>
        <p:spPr>
          <a:xfrm>
            <a:off x="6732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9" name="Text Box 261"/>
          <p:cNvSpPr/>
          <p:nvPr/>
        </p:nvSpPr>
        <p:spPr>
          <a:xfrm>
            <a:off x="6012000" y="3429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浮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0" name="Text Box 262"/>
          <p:cNvSpPr/>
          <p:nvPr/>
        </p:nvSpPr>
        <p:spPr>
          <a:xfrm>
            <a:off x="5867280" y="4076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浮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1" name="Text Box 263"/>
          <p:cNvSpPr/>
          <p:nvPr/>
        </p:nvSpPr>
        <p:spPr>
          <a:xfrm>
            <a:off x="5796000" y="4724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浮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2" name="Text Box 264"/>
          <p:cNvSpPr/>
          <p:nvPr/>
        </p:nvSpPr>
        <p:spPr>
          <a:xfrm>
            <a:off x="6227640" y="472428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03" name="azm.wma" descr=""/>
          <p:cNvPicPr/>
          <p:nvPr/>
        </p:nvPicPr>
        <p:blipFill>
          <a:blip r:embed="rId2"/>
          <a:stretch/>
        </p:blipFill>
        <p:spPr>
          <a:xfrm>
            <a:off x="7812000" y="5950080"/>
            <a:ext cx="4320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94159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我们的发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2349000"/>
            <a:ext cx="8893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像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金属类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材料制成的物体在水中大都     　　； 像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木头、塑料、泡沫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类材料制成的物体在水中         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6948360" y="2349360"/>
            <a:ext cx="1511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容易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826920" y="3284640"/>
            <a:ext cx="151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容易浮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250920" y="4508640"/>
            <a:ext cx="806616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物体在水中的沉浮与构成物体的　　　有关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9" name="Text Box 11"/>
          <p:cNvSpPr/>
          <p:nvPr/>
        </p:nvSpPr>
        <p:spPr>
          <a:xfrm>
            <a:off x="7093080" y="3789360"/>
            <a:ext cx="59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5651640" y="4437000"/>
            <a:ext cx="122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材料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7020000" y="2924280"/>
            <a:ext cx="1441440" cy="360"/>
            <a:chOff x="7020000" y="2924280"/>
            <a:chExt cx="1441440" cy="360"/>
          </a:xfrm>
        </p:grpSpPr>
        <p:sp>
          <p:nvSpPr>
            <p:cNvPr id="612" name="Line 13"/>
            <p:cNvSpPr/>
            <p:nvPr/>
          </p:nvSpPr>
          <p:spPr>
            <a:xfrm>
              <a:off x="7020000" y="2924280"/>
              <a:ext cx="1441440" cy="0"/>
            </a:xfrm>
            <a:prstGeom prst="line">
              <a:avLst/>
            </a:prstGeom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7020000" y="2924280"/>
              <a:ext cx="144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755640" y="3860640"/>
            <a:ext cx="1512720" cy="360"/>
            <a:chOff x="755640" y="3860640"/>
            <a:chExt cx="1512720" cy="360"/>
          </a:xfrm>
        </p:grpSpPr>
        <p:sp>
          <p:nvSpPr>
            <p:cNvPr id="615" name="Line 14"/>
            <p:cNvSpPr/>
            <p:nvPr/>
          </p:nvSpPr>
          <p:spPr>
            <a:xfrm>
              <a:off x="755640" y="3860640"/>
              <a:ext cx="1512720" cy="0"/>
            </a:xfrm>
            <a:prstGeom prst="line">
              <a:avLst/>
            </a:prstGeom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755640" y="3860640"/>
              <a:ext cx="151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5508720" y="5084640"/>
            <a:ext cx="1079280" cy="360"/>
            <a:chOff x="5508720" y="5084640"/>
            <a:chExt cx="1079280" cy="360"/>
          </a:xfrm>
        </p:grpSpPr>
        <p:sp>
          <p:nvSpPr>
            <p:cNvPr id="618" name="Line 15"/>
            <p:cNvSpPr/>
            <p:nvPr/>
          </p:nvSpPr>
          <p:spPr>
            <a:xfrm>
              <a:off x="5508720" y="5084640"/>
              <a:ext cx="1079280" cy="0"/>
            </a:xfrm>
            <a:prstGeom prst="line">
              <a:avLst/>
            </a:prstGeom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9" name=""/>
            <p:cNvSpPr txBox="1"/>
            <p:nvPr/>
          </p:nvSpPr>
          <p:spPr>
            <a:xfrm>
              <a:off x="5508720" y="5084640"/>
              <a:ext cx="107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20" name="文本框 8199"/>
          <p:cNvSpPr/>
          <p:nvPr/>
        </p:nvSpPr>
        <p:spPr>
          <a:xfrm>
            <a:off x="826920" y="1644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4"/>
          <p:cNvSpPr/>
          <p:nvPr/>
        </p:nvSpPr>
        <p:spPr>
          <a:xfrm>
            <a:off x="3924360" y="5445000"/>
            <a:ext cx="30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0" y="4508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一定的柔韧性，易加工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6732720" y="450864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468360" y="458136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5" name="Text Box 14"/>
          <p:cNvSpPr/>
          <p:nvPr/>
        </p:nvSpPr>
        <p:spPr>
          <a:xfrm>
            <a:off x="3419640" y="450864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能浮在水面上，轻巧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5796000" y="450864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坚实、耐用，易加工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27" name="Picture 18" descr="图片7"/>
          <p:cNvPicPr/>
          <p:nvPr/>
        </p:nvPicPr>
        <p:blipFill>
          <a:blip r:embed="rId1"/>
          <a:stretch/>
        </p:blipFill>
        <p:spPr>
          <a:xfrm>
            <a:off x="0" y="1052640"/>
            <a:ext cx="2847960" cy="28699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9" descr="图片8"/>
          <p:cNvPicPr/>
          <p:nvPr/>
        </p:nvPicPr>
        <p:blipFill>
          <a:blip r:embed="rId2"/>
          <a:stretch/>
        </p:blipFill>
        <p:spPr>
          <a:xfrm>
            <a:off x="2987640" y="1052640"/>
            <a:ext cx="2743200" cy="28573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0" descr="图片9"/>
          <p:cNvPicPr/>
          <p:nvPr/>
        </p:nvPicPr>
        <p:blipFill>
          <a:blip r:embed="rId3"/>
          <a:stretch/>
        </p:blipFill>
        <p:spPr>
          <a:xfrm>
            <a:off x="5940360" y="1052640"/>
            <a:ext cx="284976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7"/>
          <p:cNvSpPr/>
          <p:nvPr/>
        </p:nvSpPr>
        <p:spPr>
          <a:xfrm>
            <a:off x="250920" y="465300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承重能力强，坚实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1" name="Text Box 8"/>
          <p:cNvSpPr/>
          <p:nvPr/>
        </p:nvSpPr>
        <p:spPr>
          <a:xfrm>
            <a:off x="3635280" y="4653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容易加工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6372360" y="45813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轻巧，耐用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3" name="Picture 11" descr="图片10"/>
          <p:cNvPicPr/>
          <p:nvPr/>
        </p:nvPicPr>
        <p:blipFill>
          <a:blip r:embed="rId1"/>
          <a:stretch/>
        </p:blipFill>
        <p:spPr>
          <a:xfrm>
            <a:off x="179280" y="1341360"/>
            <a:ext cx="2414520" cy="28861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2" descr="图片11"/>
          <p:cNvPicPr/>
          <p:nvPr/>
        </p:nvPicPr>
        <p:blipFill>
          <a:blip r:embed="rId2"/>
          <a:stretch/>
        </p:blipFill>
        <p:spPr>
          <a:xfrm>
            <a:off x="3276720" y="1341360"/>
            <a:ext cx="2670120" cy="28162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3" descr="图片12"/>
          <p:cNvPicPr/>
          <p:nvPr/>
        </p:nvPicPr>
        <p:blipFill>
          <a:blip r:embed="rId3"/>
          <a:stretch/>
        </p:blipFill>
        <p:spPr>
          <a:xfrm>
            <a:off x="6227640" y="1413000"/>
            <a:ext cx="2605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266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木头的性质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684360" y="1125720"/>
            <a:ext cx="7271640" cy="4894200"/>
            <a:chOff x="684360" y="1125720"/>
            <a:chExt cx="7271640" cy="4894200"/>
          </a:xfrm>
        </p:grpSpPr>
        <p:sp>
          <p:nvSpPr>
            <p:cNvPr id="638" name="Oval 5"/>
            <p:cNvSpPr/>
            <p:nvPr/>
          </p:nvSpPr>
          <p:spPr>
            <a:xfrm>
              <a:off x="3450600" y="2966040"/>
              <a:ext cx="1731240" cy="121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木头</a:t>
              </a:r>
              <a:r>
                <a:rPr b="0" lang="zh-CN" sz="1200" spc="-1" strike="noStrike">
                  <a:solidFill>
                    <a:srgbClr val="007a77"/>
                  </a:solidFill>
                  <a:latin typeface="宋体"/>
                </a:rPr>
                <a:t>	</a:t>
              </a:r>
              <a:endParaRPr b="0" lang="en-US" sz="12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9" name="Oval 6"/>
            <p:cNvSpPr/>
            <p:nvPr/>
          </p:nvSpPr>
          <p:spPr>
            <a:xfrm>
              <a:off x="6224760" y="2972520"/>
              <a:ext cx="1731240" cy="121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坚实耐用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5186160" y="3575880"/>
              <a:ext cx="1034640" cy="5760"/>
              <a:chOff x="5186160" y="3575880"/>
              <a:chExt cx="1034640" cy="5760"/>
            </a:xfrm>
          </p:grpSpPr>
          <p:sp>
            <p:nvSpPr>
              <p:cNvPr id="641" name="Line 7"/>
              <p:cNvSpPr/>
              <p:nvPr/>
            </p:nvSpPr>
            <p:spPr>
              <a:xfrm flipV="1">
                <a:off x="5186160" y="3575880"/>
                <a:ext cx="103464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 txBox="1"/>
              <p:nvPr/>
            </p:nvSpPr>
            <p:spPr>
              <a:xfrm rot="10800000">
                <a:off x="5186160" y="3575880"/>
                <a:ext cx="1034640" cy="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2412000" y="3575880"/>
              <a:ext cx="1038600" cy="360"/>
              <a:chOff x="2412000" y="3575880"/>
              <a:chExt cx="1038600" cy="360"/>
            </a:xfrm>
          </p:grpSpPr>
          <p:sp>
            <p:nvSpPr>
              <p:cNvPr id="644" name="Line 8"/>
              <p:cNvSpPr/>
              <p:nvPr/>
            </p:nvSpPr>
            <p:spPr>
              <a:xfrm>
                <a:off x="2412000" y="3575880"/>
                <a:ext cx="103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 txBox="1"/>
              <p:nvPr/>
            </p:nvSpPr>
            <p:spPr>
              <a:xfrm>
                <a:off x="2412000" y="3575880"/>
                <a:ext cx="103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646" name="Oval 9"/>
            <p:cNvSpPr/>
            <p:nvPr/>
          </p:nvSpPr>
          <p:spPr>
            <a:xfrm>
              <a:off x="684360" y="2972520"/>
              <a:ext cx="1731240" cy="121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承重能力强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647" name="Group 10"/>
            <p:cNvGrpSpPr/>
            <p:nvPr/>
          </p:nvGrpSpPr>
          <p:grpSpPr>
            <a:xfrm>
              <a:off x="2069280" y="4179960"/>
              <a:ext cx="4493160" cy="1839960"/>
              <a:chOff x="2069280" y="4179960"/>
              <a:chExt cx="4493160" cy="1839960"/>
            </a:xfrm>
          </p:grpSpPr>
          <p:grpSp>
            <p:nvGrpSpPr>
              <p:cNvPr id="648" name="Group 11"/>
              <p:cNvGrpSpPr/>
              <p:nvPr/>
            </p:nvGrpSpPr>
            <p:grpSpPr>
              <a:xfrm>
                <a:off x="2069280" y="4185720"/>
                <a:ext cx="2073240" cy="1834200"/>
                <a:chOff x="2069280" y="4185720"/>
                <a:chExt cx="2073240" cy="1834200"/>
              </a:xfrm>
            </p:grpSpPr>
            <p:grpSp>
              <p:nvGrpSpPr>
                <p:cNvPr id="649" name=""/>
                <p:cNvGrpSpPr/>
                <p:nvPr/>
              </p:nvGrpSpPr>
              <p:grpSpPr>
                <a:xfrm>
                  <a:off x="3453480" y="4185720"/>
                  <a:ext cx="689040" cy="919800"/>
                  <a:chOff x="3453480" y="4185720"/>
                  <a:chExt cx="689040" cy="919800"/>
                </a:xfrm>
              </p:grpSpPr>
              <p:sp>
                <p:nvSpPr>
                  <p:cNvPr id="650" name="Line 12"/>
                  <p:cNvSpPr/>
                  <p:nvPr/>
                </p:nvSpPr>
                <p:spPr>
                  <a:xfrm flipH="1">
                    <a:off x="3453480" y="4185720"/>
                    <a:ext cx="688680" cy="919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 txBox="1"/>
                  <p:nvPr/>
                </p:nvSpPr>
                <p:spPr>
                  <a:xfrm>
                    <a:off x="3453840" y="4185720"/>
                    <a:ext cx="688680" cy="91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2" name="Oval 13"/>
                <p:cNvSpPr/>
                <p:nvPr/>
              </p:nvSpPr>
              <p:spPr>
                <a:xfrm>
                  <a:off x="2069280" y="4800960"/>
                  <a:ext cx="1730880" cy="1218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a77"/>
                      </a:solidFill>
                      <a:latin typeface="Arial"/>
                    </a:rPr>
                    <a:t>轻巧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3" name="Group 14"/>
              <p:cNvGrpSpPr/>
              <p:nvPr/>
            </p:nvGrpSpPr>
            <p:grpSpPr>
              <a:xfrm>
                <a:off x="4489560" y="4179960"/>
                <a:ext cx="2072880" cy="1834200"/>
                <a:chOff x="4489560" y="4179960"/>
                <a:chExt cx="2072880" cy="1834200"/>
              </a:xfrm>
            </p:grpSpPr>
            <p:grpSp>
              <p:nvGrpSpPr>
                <p:cNvPr id="654" name=""/>
                <p:cNvGrpSpPr/>
                <p:nvPr/>
              </p:nvGrpSpPr>
              <p:grpSpPr>
                <a:xfrm>
                  <a:off x="4489560" y="4179960"/>
                  <a:ext cx="688320" cy="919800"/>
                  <a:chOff x="4489560" y="4179960"/>
                  <a:chExt cx="688320" cy="919800"/>
                </a:xfrm>
              </p:grpSpPr>
              <p:sp>
                <p:nvSpPr>
                  <p:cNvPr id="655" name="Line 15"/>
                  <p:cNvSpPr/>
                  <p:nvPr/>
                </p:nvSpPr>
                <p:spPr>
                  <a:xfrm>
                    <a:off x="4489560" y="4179960"/>
                    <a:ext cx="688320" cy="919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 txBox="1"/>
                  <p:nvPr/>
                </p:nvSpPr>
                <p:spPr>
                  <a:xfrm>
                    <a:off x="4489560" y="4179960"/>
                    <a:ext cx="688320" cy="91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7" name="Oval 16"/>
                <p:cNvSpPr/>
                <p:nvPr/>
              </p:nvSpPr>
              <p:spPr>
                <a:xfrm flipH="1">
                  <a:off x="4831560" y="4795200"/>
                  <a:ext cx="1730520" cy="1218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7a77"/>
                      </a:solidFill>
                      <a:latin typeface="Arial"/>
                    </a:rPr>
                    <a:t>容易加工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8" name="Group 17"/>
            <p:cNvGrpSpPr/>
            <p:nvPr/>
          </p:nvGrpSpPr>
          <p:grpSpPr>
            <a:xfrm>
              <a:off x="2073240" y="1125720"/>
              <a:ext cx="4493160" cy="1839960"/>
              <a:chOff x="2073240" y="1125720"/>
              <a:chExt cx="4493160" cy="1839960"/>
            </a:xfrm>
          </p:grpSpPr>
          <p:grpSp>
            <p:nvGrpSpPr>
              <p:cNvPr id="659" name="Group 18"/>
              <p:cNvGrpSpPr/>
              <p:nvPr/>
            </p:nvGrpSpPr>
            <p:grpSpPr>
              <a:xfrm>
                <a:off x="2073240" y="1125720"/>
                <a:ext cx="2073240" cy="1834200"/>
                <a:chOff x="2073240" y="1125720"/>
                <a:chExt cx="2073240" cy="1834200"/>
              </a:xfrm>
            </p:grpSpPr>
            <p:grpSp>
              <p:nvGrpSpPr>
                <p:cNvPr id="660" name=""/>
                <p:cNvGrpSpPr/>
                <p:nvPr/>
              </p:nvGrpSpPr>
              <p:grpSpPr>
                <a:xfrm>
                  <a:off x="3457440" y="2040120"/>
                  <a:ext cx="689040" cy="919800"/>
                  <a:chOff x="3457440" y="2040120"/>
                  <a:chExt cx="689040" cy="919800"/>
                </a:xfrm>
              </p:grpSpPr>
              <p:sp>
                <p:nvSpPr>
                  <p:cNvPr id="661" name="Line 19"/>
                  <p:cNvSpPr/>
                  <p:nvPr/>
                </p:nvSpPr>
                <p:spPr>
                  <a:xfrm flipH="1" flipV="1">
                    <a:off x="3457440" y="2040120"/>
                    <a:ext cx="688680" cy="919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 txBox="1"/>
                  <p:nvPr/>
                </p:nvSpPr>
                <p:spPr>
                  <a:xfrm rot="10800000">
                    <a:off x="3457800" y="2040120"/>
                    <a:ext cx="688680" cy="91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3" name="Oval 20"/>
                <p:cNvSpPr/>
                <p:nvPr/>
              </p:nvSpPr>
              <p:spPr>
                <a:xfrm flipV="1">
                  <a:off x="2073240" y="1125360"/>
                  <a:ext cx="1730880" cy="1218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7a77"/>
                      </a:solidFill>
                      <a:latin typeface="Arial"/>
                    </a:rPr>
                    <a:t>有柔韧性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4" name="Group 21"/>
              <p:cNvGrpSpPr/>
              <p:nvPr/>
            </p:nvGrpSpPr>
            <p:grpSpPr>
              <a:xfrm>
                <a:off x="4493520" y="1131480"/>
                <a:ext cx="2072880" cy="1834200"/>
                <a:chOff x="4493520" y="1131480"/>
                <a:chExt cx="2072880" cy="1834200"/>
              </a:xfrm>
            </p:grpSpPr>
            <p:grpSp>
              <p:nvGrpSpPr>
                <p:cNvPr id="665" name=""/>
                <p:cNvGrpSpPr/>
                <p:nvPr/>
              </p:nvGrpSpPr>
              <p:grpSpPr>
                <a:xfrm>
                  <a:off x="4493520" y="2045880"/>
                  <a:ext cx="688320" cy="919800"/>
                  <a:chOff x="4493520" y="2045880"/>
                  <a:chExt cx="688320" cy="919800"/>
                </a:xfrm>
              </p:grpSpPr>
              <p:sp>
                <p:nvSpPr>
                  <p:cNvPr id="666" name="Line 22"/>
                  <p:cNvSpPr/>
                  <p:nvPr/>
                </p:nvSpPr>
                <p:spPr>
                  <a:xfrm flipV="1">
                    <a:off x="4493520" y="2045880"/>
                    <a:ext cx="688320" cy="919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 txBox="1"/>
                  <p:nvPr/>
                </p:nvSpPr>
                <p:spPr>
                  <a:xfrm rot="10800000">
                    <a:off x="4493520" y="2045880"/>
                    <a:ext cx="688320" cy="91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8" name="Oval 23"/>
                <p:cNvSpPr/>
                <p:nvPr/>
              </p:nvSpPr>
              <p:spPr>
                <a:xfrm flipH="1" flipV="1">
                  <a:off x="4835520" y="1131480"/>
                  <a:ext cx="1730520" cy="1218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7a77"/>
                      </a:solidFill>
                      <a:latin typeface="Arial"/>
                    </a:rPr>
                    <a:t>能浮在水面上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23:34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41Z</dcterms:modified>
  <cp:revision>4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