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0.png" ContentType="image/png"/>
  <Override PartName="/ppt/media/image36.jpeg" ContentType="image/jpeg"/>
  <Override PartName="/ppt/media/image19.png" ContentType="image/png"/>
  <Override PartName="/ppt/media/image18.gif" ContentType="image/gif"/>
  <Override PartName="/ppt/media/image21.jpeg" ContentType="image/jpeg"/>
  <Override PartName="/ppt/media/chimes.wav" ContentType="audio/x-wav"/>
  <Override PartName="/ppt/media/image29.png" ContentType="image/png"/>
  <Override PartName="/ppt/media/image17.gif" ContentType="image/gif"/>
  <Override PartName="/ppt/media/image15.jpeg" ContentType="image/jpeg"/>
  <Override PartName="/ppt/media/laser.wav" ContentType="audio/x-wav"/>
  <Override PartName="/ppt/media/image16.jpeg" ContentType="image/jpeg"/>
  <Override PartName="/ppt/media/image14.png" ContentType="image/png"/>
  <Override PartName="/ppt/media/image11.png" ContentType="image/png"/>
  <Override PartName="/ppt/media/image13.png" ContentType="image/png"/>
  <Override PartName="/ppt/media/cashreg.wav" ContentType="audio/x-wav"/>
  <Override PartName="/ppt/media/image22.jpeg" ContentType="image/jpeg"/>
  <Override PartName="/ppt/media/image9.png" ContentType="image/png"/>
  <Override PartName="/ppt/media/image39.png" ContentType="image/png"/>
  <Override PartName="/ppt/media/image27.png" ContentType="image/png"/>
  <Override PartName="/ppt/media/image33.jpeg" ContentType="image/jpeg"/>
  <Override PartName="/ppt/media/whoosh.wav" ContentType="audio/x-wav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8.png" ContentType="image/png"/>
  <Override PartName="/ppt/media/image38.jpeg" ContentType="image/jpeg"/>
  <Override PartName="/ppt/media/image26.jpeg" ContentType="image/jpeg"/>
  <Override PartName="/ppt/media/image42.png" ContentType="image/png"/>
  <Override PartName="/ppt/media/image37.jpeg" ContentType="image/jpeg"/>
  <Override PartName="/ppt/media/image31.jpeg" ContentType="image/jpeg"/>
  <Override PartName="/ppt/media/image25.png" ContentType="image/png"/>
  <Override PartName="/ppt/media/suction.wav" ContentType="audio/x-wav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camera.wav" ContentType="audio/x-wav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explode.wav" ContentType="audio/x-wav"/>
  <Override PartName="/ppt/media/image6.png" ContentType="image/png"/>
  <Override PartName="/ppt/media/image3.png" ContentType="image/pn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03F-0ED0-4573-A678-F06F753E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78A-4088-474F-AF0B-5D7E3D47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803-BA9F-4350-8A72-D141F35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145-AB4C-46F9-9A96-648F9843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550-2C62-43B8-B5EC-B1024561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EC02-E616-4BA1-B4EE-F7F1F94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3188-CD4D-4F0F-93F5-E5D0B856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28D5-07C7-461C-AE72-02E9AF97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EA44-69E3-4864-9581-F619F2E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05C2-7C24-4A87-90C9-18B17A1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25B4-4A18-4F17-9CD4-A078C50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4F6-3F31-4275-81DF-ACAE1F84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2E0-63C7-49D8-994A-DBB0B03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8813-901F-4574-9A64-B466F0C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A257-C174-474C-AA96-C672F00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799-5D4C-4BC3-B2EE-C28C32E6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54E-AB26-45C9-805A-BBBAAFD8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2472-4DA6-4AAB-8E82-7D774282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3B36-8EA4-4106-81B2-7F97DA7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1335-FD7C-43CF-A23E-1FE567C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DBEF-826D-4103-B1CE-36A99F7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D147-E5D7-4D18-87B1-36EB57F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74B-DAAD-481E-AB77-E4C092E7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F462-5A4A-4C67-AC1C-3E92CA9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9339-8780-4650-9C04-63DE5A8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8FB3-6AB1-4EFF-BBD0-ED77068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5FBA-CA8E-42CC-A417-B8E2331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467F-E778-4E68-94D2-BD00572F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A10B-E7DB-4B97-B44C-8C81D817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E010-588B-46F5-AC9C-464C6A47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6F1D-2350-445D-BCFE-31566AF0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C28F-D3FE-4CD2-BB1D-3E4B9C0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9400-DDA1-48DE-ABCC-A901259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F25-3661-4BE1-9230-F1048D4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ADA0-FBBA-4896-B0F1-4BD23CDB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AC1E-B0FB-48F2-865D-AD9515AA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D4B7-7B15-4EC4-8E66-07789F66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4DFB-A3B0-443C-B039-4634CB3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D414-7B40-4C13-8ADE-F6793EC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88B3-B8F8-423B-99C1-94AF8F8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4BD0-02FF-4852-BD34-DA4A9CB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B24E-4EF8-4622-A8E0-4EEE7B65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7674-ABD4-4BD3-82F5-94B803A0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47A86-7B6C-46FE-899C-42C19B8E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D71-76D6-45B7-8B5A-BC04BE7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084F-F2FC-483F-BCE3-15D63683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C3DF-7000-48D0-8800-36BF8AA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1D1E-A4FE-4AA0-90B2-F531E62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8172-C7A6-486F-A587-5E98F4C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348A-E35C-4683-89B1-DE23701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CE5F-4609-43B6-AF40-D93B9F1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DAC5-2983-4747-A946-C24FE88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24ACD-E9C0-4B57-A9C1-709C969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376E-1920-4374-AD3F-7841947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02A7F-ECA7-47A6-A15C-9A64AFDA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A85-8F7E-4830-9497-9F94A23C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31FFE-A004-4D98-B763-6A988AA5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7E15E-C332-4E3F-91BA-767F193B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D4129-10B9-4D5C-8ED9-B568608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A8791-80E9-40AB-9B80-5A29B2B5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A9ED-0B88-4734-8A5D-60D5063F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E593-8E55-4999-912B-6D728A9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2113F-D82E-4663-913F-D5A5D707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AA1DE-CAF3-4168-96AF-27D92AA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0D84-68E9-4B4A-B297-5E32FA2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E244-38B7-49F0-AD8D-83266BA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607-5D4A-4C98-8A53-D2BA698B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57BA2-1A6C-4A96-A026-9AF8434C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A1B9-3A48-425E-BE19-2F44F818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66C7-92CB-4B78-A4C5-78A2C674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FFD-D8B2-40AF-B5DA-CDD80BC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C0D-AADD-444F-9FC8-D9241E3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5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5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912960" indent="-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368360" indent="-91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4" marL="1824120" indent="-1368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5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6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563-5542-4333-B35E-D49A119778A9}" type="slidenum">
              <a:rPr b="0" lang="zh-CN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C96-FB8B-4964-87D3-3C39F48B63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5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5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912960" indent="-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368360" indent="-91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4" marL="1824120" indent="-1368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5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6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60B-0577-4888-A16F-E86149CFB361}" type="slidenum">
              <a:rPr b="0" lang="zh-CN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5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5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912960" indent="-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368360" indent="-91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4" marL="1824120" indent="-1368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5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6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0B5-CE48-44F6-AB5C-C513645104F4}" type="slidenum">
              <a:rPr b="0" lang="zh-CN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5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5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912960" indent="-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368360" indent="-91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4" marL="1824120" indent="-1368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5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6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7F5E-4DDE-47F3-A757-BD4DC45DA3EA}" type="slidenum">
              <a:rPr b="0" lang="zh-CN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5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5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912960" indent="-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368360" indent="-91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4" marL="1824120" indent="-1368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5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6" marL="1824120" indent="-13683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78B2-0293-418E-AFFF-335DA2EC3DA8}" type="slidenum">
              <a:rPr b="0" lang="zh-CN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hyperlink" Target="http://www.chinadaily.com.cn/micro-reading/dzh/2013-04-11/content_8735941.html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abweb.cn/articleview/2008-7-17/article_view_5453.htm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4920" y="113652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第一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传染病及其预防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1360" y="956880"/>
            <a:ext cx="724680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rebuchet MS"/>
              </a:rPr>
              <a:t>、分析流行性感冒的传播途径，说一说为什么咳嗽或打喷嚏时要用手帕捂住口鼻，为什么老人和小孩更易患流感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3644640"/>
            <a:ext cx="8397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rebuchet MS"/>
              </a:rPr>
              <a:t>流行性感冒的传播途径主要是</a:t>
            </a:r>
            <a:r>
              <a:rPr b="1" lang="zh-CN" sz="3600" spc="-1" strike="noStrike">
                <a:solidFill>
                  <a:srgbClr val="ff3300"/>
                </a:solidFill>
                <a:latin typeface="Trebuchet MS"/>
              </a:rPr>
              <a:t>飞沫、空气</a:t>
            </a:r>
            <a:r>
              <a:rPr b="1" lang="zh-CN" sz="3600" spc="-1" strike="noStrike">
                <a:solidFill>
                  <a:srgbClr val="0000ff"/>
                </a:solidFill>
                <a:latin typeface="Trebuchet MS"/>
              </a:rPr>
              <a:t>传播。因此咳嗽或打喷嚏的时候要用手帕捂住口鼻，</a:t>
            </a:r>
            <a:r>
              <a:rPr b="1" lang="zh-CN" sz="3600" spc="-1" strike="noStrike">
                <a:solidFill>
                  <a:srgbClr val="ff3300"/>
                </a:solidFill>
                <a:latin typeface="Trebuchet MS"/>
              </a:rPr>
              <a:t>以免传染他人</a:t>
            </a:r>
            <a:r>
              <a:rPr b="1" lang="zh-CN" sz="3600" spc="-1" strike="noStrike">
                <a:solidFill>
                  <a:srgbClr val="0000ff"/>
                </a:solidFill>
                <a:latin typeface="Trebuchet MS"/>
              </a:rPr>
              <a:t>。老人和小孩体质差，抵抗力弱，所以容易患感冒。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354480" y="25236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资料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9560" y="325440"/>
            <a:ext cx="717876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Trebuchet MS"/>
              </a:rPr>
              <a:t>、资料</a:t>
            </a:r>
            <a:r>
              <a:rPr b="1" lang="en-US" sz="37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Trebuchet MS"/>
              </a:rPr>
              <a:t>所说的做法有什么科学道理？谈谈你的认识。</a:t>
            </a:r>
            <a:endParaRPr b="0" lang="en-US" sz="3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75680" y="1841400"/>
            <a:ext cx="78505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Trebuchet MS"/>
              </a:rPr>
              <a:t>将甲肝患者用的碗筷和家人分开，目的是</a:t>
            </a:r>
            <a:r>
              <a:rPr b="1" lang="zh-CN" sz="3800" spc="-1" strike="noStrike">
                <a:solidFill>
                  <a:srgbClr val="669900"/>
                </a:solidFill>
                <a:latin typeface="Trebuchet MS"/>
              </a:rPr>
              <a:t>将甲肝患者遗留在碗筷等餐具上的甲肝病毒与健康人隔离开</a:t>
            </a:r>
            <a:r>
              <a:rPr b="1" lang="zh-CN" sz="3800" spc="-1" strike="noStrike">
                <a:solidFill>
                  <a:srgbClr val="0000ff"/>
                </a:solidFill>
                <a:latin typeface="Trebuchet MS"/>
              </a:rPr>
              <a:t>，这样可以避免健康人感染甲肝。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Trebuchet MS"/>
              </a:rPr>
              <a:t>饭店的餐具要严格消毒，这样做</a:t>
            </a:r>
            <a:r>
              <a:rPr b="1" lang="zh-CN" sz="3800" spc="-1" strike="noStrike">
                <a:solidFill>
                  <a:srgbClr val="669900"/>
                </a:solidFill>
                <a:latin typeface="Trebuchet MS"/>
              </a:rPr>
              <a:t>可以将餐具上的细菌和病毒杀死，避免顾客感染上传染病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249120" y="2133720"/>
            <a:ext cx="4864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方正姚体"/>
                <a:ea typeface="方正姚体"/>
              </a:rPr>
              <a:t>流感传播环节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楷体"/>
              </a:rPr>
              <a:t>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058760" y="3068640"/>
            <a:ext cx="3232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Times New Roman"/>
                <a:ea typeface="楷体"/>
              </a:rPr>
              <a:t>流感患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282600" y="5105520"/>
            <a:ext cx="4255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Times New Roman"/>
                <a:ea typeface="楷体"/>
              </a:rPr>
              <a:t>易患流感的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216000" y="4076640"/>
            <a:ext cx="4322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Times New Roman"/>
                <a:ea typeface="楷体"/>
              </a:rPr>
              <a:t>带病毒的空气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5572080" y="2057400"/>
            <a:ext cx="4459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方正姚体"/>
                <a:ea typeface="方正姚体"/>
              </a:rPr>
              <a:t>肝炎传播环节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楷体"/>
              </a:rPr>
              <a:t>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261120" y="3068640"/>
            <a:ext cx="3579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Times New Roman"/>
                <a:ea typeface="楷体"/>
              </a:rPr>
              <a:t>肝炎患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073920" y="5029200"/>
            <a:ext cx="4708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Times New Roman"/>
                <a:ea typeface="楷体"/>
              </a:rPr>
              <a:t>易患肝炎的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6073920" y="4038480"/>
            <a:ext cx="399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Times New Roman"/>
                <a:ea typeface="楷体"/>
              </a:rPr>
              <a:t>带病毒的餐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282600" y="1066680"/>
            <a:ext cx="82422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两种传染病传播的共同点</a:t>
            </a:r>
            <a:r>
              <a:rPr b="1" lang="en-US" sz="39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017880" y="3141720"/>
            <a:ext cx="3546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楷体"/>
              </a:rPr>
              <a:t>→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楷体"/>
              </a:rPr>
              <a:t>散播病原体者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楷体"/>
              </a:rPr>
              <a:t>←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357800" y="3809880"/>
            <a:ext cx="360" cy="1219320"/>
            <a:chOff x="4357800" y="3809880"/>
            <a:chExt cx="360" cy="1219320"/>
          </a:xfrm>
        </p:grpSpPr>
        <p:sp>
          <p:nvSpPr>
            <p:cNvPr id="385" name="Line 13"/>
            <p:cNvSpPr/>
            <p:nvPr/>
          </p:nvSpPr>
          <p:spPr>
            <a:xfrm>
              <a:off x="4357800" y="3809880"/>
              <a:ext cx="0" cy="12193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4357800" y="380988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2712960" y="5105520"/>
            <a:ext cx="3986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楷体"/>
              </a:rPr>
              <a:t>→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楷体"/>
              </a:rPr>
              <a:t>容易患此病的人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楷体"/>
              </a:rPr>
              <a:t>←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2998800" y="3809880"/>
            <a:ext cx="3174480" cy="1038600"/>
            <a:chOff x="2998800" y="3809880"/>
            <a:chExt cx="3174480" cy="1038600"/>
          </a:xfrm>
        </p:grpSpPr>
        <p:sp>
          <p:nvSpPr>
            <p:cNvPr id="389" name="Text Box 16"/>
            <p:cNvSpPr/>
            <p:nvPr/>
          </p:nvSpPr>
          <p:spPr>
            <a:xfrm>
              <a:off x="4349160" y="3809880"/>
              <a:ext cx="5403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途径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998800" y="4457520"/>
              <a:ext cx="1148040" cy="360"/>
              <a:chOff x="2998800" y="4457520"/>
              <a:chExt cx="1148040" cy="360"/>
            </a:xfrm>
          </p:grpSpPr>
          <p:sp>
            <p:nvSpPr>
              <p:cNvPr id="391" name="Line 17"/>
              <p:cNvSpPr/>
              <p:nvPr/>
            </p:nvSpPr>
            <p:spPr>
              <a:xfrm>
                <a:off x="2998800" y="4457520"/>
                <a:ext cx="114804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2998800" y="4457520"/>
                <a:ext cx="114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821120" y="4457520"/>
              <a:ext cx="1352160" cy="360"/>
              <a:chOff x="4821120" y="4457520"/>
              <a:chExt cx="1352160" cy="360"/>
            </a:xfrm>
          </p:grpSpPr>
          <p:sp>
            <p:nvSpPr>
              <p:cNvPr id="394" name="Line 18"/>
              <p:cNvSpPr/>
              <p:nvPr/>
            </p:nvSpPr>
            <p:spPr>
              <a:xfrm flipH="1">
                <a:off x="4821120" y="4457520"/>
                <a:ext cx="135216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4821120" y="4457520"/>
                <a:ext cx="135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6" name="矩形 2" descr=""/>
          <p:cNvPicPr/>
          <p:nvPr/>
        </p:nvPicPr>
        <p:blipFill>
          <a:blip r:embed="rId1"/>
          <a:stretch/>
        </p:blipFill>
        <p:spPr>
          <a:xfrm>
            <a:off x="2673360" y="31680"/>
            <a:ext cx="4336920" cy="1433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cashreg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347920" y="11905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a021"/>
                </a:solidFill>
                <a:latin typeface="Arial"/>
                <a:ea typeface="楷体_GB2312"/>
              </a:rPr>
              <a:t>传染病流传的三个基本环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372960" y="3213000"/>
            <a:ext cx="1656000" cy="10573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b9d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传染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6197760" y="3046320"/>
            <a:ext cx="1800000" cy="1224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b9d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易感人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421000" y="3213000"/>
            <a:ext cx="3527280" cy="360"/>
            <a:chOff x="2421000" y="3213000"/>
            <a:chExt cx="3527280" cy="360"/>
          </a:xfrm>
        </p:grpSpPr>
        <p:sp>
          <p:nvSpPr>
            <p:cNvPr id="401" name="Line 5"/>
            <p:cNvSpPr/>
            <p:nvPr/>
          </p:nvSpPr>
          <p:spPr>
            <a:xfrm>
              <a:off x="2421000" y="3213000"/>
              <a:ext cx="3527280" cy="0"/>
            </a:xfrm>
            <a:prstGeom prst="line">
              <a:avLst/>
            </a:prstGeom>
            <a:ln w="57240">
              <a:solidFill>
                <a:srgbClr val="b9d181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2421000" y="321300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3512160" y="2478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421000" y="4006800"/>
            <a:ext cx="3527280" cy="360"/>
            <a:chOff x="2421000" y="4006800"/>
            <a:chExt cx="3527280" cy="360"/>
          </a:xfrm>
        </p:grpSpPr>
        <p:sp>
          <p:nvSpPr>
            <p:cNvPr id="405" name="Line 5"/>
            <p:cNvSpPr/>
            <p:nvPr/>
          </p:nvSpPr>
          <p:spPr>
            <a:xfrm>
              <a:off x="2421000" y="4006800"/>
              <a:ext cx="3527280" cy="0"/>
            </a:xfrm>
            <a:prstGeom prst="line">
              <a:avLst/>
            </a:prstGeom>
            <a:ln w="57240">
              <a:solidFill>
                <a:srgbClr val="b9d181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2421000" y="400680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201600" y="27792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a021"/>
                </a:solidFill>
                <a:latin typeface="Arial"/>
                <a:ea typeface="楷体_GB2312"/>
              </a:rPr>
              <a:t>传染源：能够散播病原体的人或动物（可以是患者也可是携带者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NewsMedia_261064"/>
          <p:cNvPicPr/>
          <p:nvPr/>
        </p:nvPicPr>
        <p:blipFill>
          <a:blip r:embed="rId1"/>
          <a:stretch/>
        </p:blipFill>
        <p:spPr>
          <a:xfrm>
            <a:off x="847800" y="1984320"/>
            <a:ext cx="1827000" cy="2597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8"/>
          <p:cNvPicPr/>
          <p:nvPr/>
        </p:nvPicPr>
        <p:blipFill>
          <a:blip r:embed="rId2"/>
          <a:stretch/>
        </p:blipFill>
        <p:spPr>
          <a:xfrm>
            <a:off x="4775040" y="1984320"/>
            <a:ext cx="1960560" cy="2311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图片5"/>
          <p:cNvPicPr/>
          <p:nvPr/>
        </p:nvPicPr>
        <p:blipFill>
          <a:blip r:embed="rId3"/>
          <a:stretch/>
        </p:blipFill>
        <p:spPr>
          <a:xfrm>
            <a:off x="3352680" y="4873680"/>
            <a:ext cx="162576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72960" y="345960"/>
            <a:ext cx="78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a021"/>
                </a:solidFill>
                <a:latin typeface="Arial"/>
                <a:ea typeface="楷体_GB2312"/>
              </a:rPr>
              <a:t>传播途径：病原体离开传染源到达健康人所经过的途径，可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空气</a:t>
            </a:r>
            <a:r>
              <a:rPr b="1" lang="zh-CN" sz="3600" spc="-1" strike="noStrike">
                <a:solidFill>
                  <a:srgbClr val="54a021"/>
                </a:solidFill>
                <a:latin typeface="Arial"/>
                <a:ea typeface="楷体_GB2312"/>
              </a:rPr>
              <a:t>传播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饮食</a:t>
            </a:r>
            <a:r>
              <a:rPr b="1" lang="zh-CN" sz="3600" spc="-1" strike="noStrike">
                <a:solidFill>
                  <a:srgbClr val="54a021"/>
                </a:solidFill>
                <a:latin typeface="Arial"/>
                <a:ea typeface="楷体_GB2312"/>
              </a:rPr>
              <a:t>传播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生物</a:t>
            </a:r>
            <a:r>
              <a:rPr b="1" lang="zh-CN" sz="3600" spc="-1" strike="noStrike">
                <a:solidFill>
                  <a:srgbClr val="54a021"/>
                </a:solidFill>
                <a:latin typeface="Arial"/>
                <a:ea typeface="楷体_GB2312"/>
              </a:rPr>
              <a:t>媒介传播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0099101"/>
          <p:cNvPicPr/>
          <p:nvPr/>
        </p:nvPicPr>
        <p:blipFill>
          <a:blip r:embed="rId1"/>
          <a:stretch/>
        </p:blipFill>
        <p:spPr>
          <a:xfrm rot="448800">
            <a:off x="4621320" y="2359080"/>
            <a:ext cx="2579760" cy="153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0513"/>
          <p:cNvPicPr/>
          <p:nvPr/>
        </p:nvPicPr>
        <p:blipFill>
          <a:blip r:embed="rId2"/>
          <a:stretch/>
        </p:blipFill>
        <p:spPr>
          <a:xfrm>
            <a:off x="1427040" y="4327560"/>
            <a:ext cx="2057400" cy="2190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0600"/>
          <p:cNvPicPr/>
          <p:nvPr/>
        </p:nvPicPr>
        <p:blipFill>
          <a:blip r:embed="rId3"/>
          <a:stretch/>
        </p:blipFill>
        <p:spPr>
          <a:xfrm>
            <a:off x="4797360" y="4259160"/>
            <a:ext cx="2057400" cy="2192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14"/>
          <p:cNvPicPr/>
          <p:nvPr/>
        </p:nvPicPr>
        <p:blipFill>
          <a:blip r:embed="rId4"/>
          <a:stretch/>
        </p:blipFill>
        <p:spPr>
          <a:xfrm>
            <a:off x="1343160" y="2341440"/>
            <a:ext cx="2224080" cy="15271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6444000" y="1905120"/>
            <a:ext cx="115524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（生物媒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6783840" y="4489560"/>
            <a:ext cx="6678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（接  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3878640" y="2127240"/>
            <a:ext cx="6678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（空 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3924720" y="4392720"/>
            <a:ext cx="6678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（水、饮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304920" y="469800"/>
            <a:ext cx="84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a021"/>
                </a:solidFill>
                <a:latin typeface="Arial"/>
                <a:ea typeface="楷体_GB2312"/>
              </a:rPr>
              <a:t>易感人群：对某种传染病缺少免疫力而容易感染该病的人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515369"/>
          <p:cNvPicPr/>
          <p:nvPr/>
        </p:nvPicPr>
        <p:blipFill>
          <a:blip r:embed="rId1"/>
          <a:stretch/>
        </p:blipFill>
        <p:spPr>
          <a:xfrm>
            <a:off x="279360" y="2201760"/>
            <a:ext cx="2630520" cy="3135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Img222585241"/>
          <p:cNvPicPr/>
          <p:nvPr/>
        </p:nvPicPr>
        <p:blipFill>
          <a:blip r:embed="rId2"/>
          <a:stretch/>
        </p:blipFill>
        <p:spPr>
          <a:xfrm>
            <a:off x="3081240" y="4024440"/>
            <a:ext cx="1855800" cy="2960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2005119143555916"/>
          <p:cNvPicPr/>
          <p:nvPr/>
        </p:nvPicPr>
        <p:blipFill>
          <a:blip r:embed="rId3"/>
          <a:stretch/>
        </p:blipFill>
        <p:spPr>
          <a:xfrm>
            <a:off x="4165560" y="1579680"/>
            <a:ext cx="3319560" cy="2423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711360" y="1600200"/>
            <a:ext cx="79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、某家庭中，哥哥患了流行性感冒，并且传给了弟弟，弟弟又传给了同学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、蚊子叮咬疟疾患者甲后，又去叮咬乙，乙也患了疟疾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楷体"/>
                <a:ea typeface="楷体"/>
              </a:rPr>
              <a:t>请分析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导致弟弟患病的传染源是（　     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弟弟被传染前是（　　　　        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流感传播途径主要是（　　      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蚊子在疟疾病的传播当中充当了（        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1360" y="30456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rebuchet MS"/>
                <a:ea typeface="楷体"/>
              </a:rPr>
              <a:t>学以致用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5572080" y="4114800"/>
            <a:ext cx="107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楷体"/>
              </a:rPr>
              <a:t>哥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4429080" y="4572000"/>
            <a:ext cx="178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楷体"/>
              </a:rPr>
              <a:t>易感人群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5072040" y="5029200"/>
            <a:ext cx="11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楷体"/>
              </a:rPr>
              <a:t>空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6216480" y="5410080"/>
            <a:ext cx="171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楷体"/>
              </a:rPr>
              <a:t>传播途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120600" y="179280"/>
            <a:ext cx="90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a021"/>
                </a:solidFill>
                <a:latin typeface="Arial"/>
                <a:ea typeface="楷体_GB2312"/>
              </a:rPr>
              <a:t>请同学们根据已有的知识，找出以下三种传染病的传染源、传播途径及易感人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69920" y="1335240"/>
          <a:ext cx="8497800" cy="4525920"/>
        </p:xfrm>
        <a:graphic>
          <a:graphicData uri="http://schemas.openxmlformats.org/drawingml/2006/table">
            <a:tbl>
              <a:tblPr/>
              <a:tblGrid>
                <a:gridCol w="1614600"/>
                <a:gridCol w="2130480"/>
                <a:gridCol w="1942920"/>
                <a:gridCol w="2809800"/>
              </a:tblGrid>
              <a:tr h="113184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传染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传染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传播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易感人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流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肝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艾滋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42840"/>
                          <a:tab algn="l" pos="1886040"/>
                          <a:tab algn="l" pos="2828880"/>
                          <a:tab algn="l" pos="3772080"/>
                          <a:tab algn="l" pos="4714920"/>
                          <a:tab algn="l" pos="5657760"/>
                          <a:tab algn="l" pos="6600960"/>
                          <a:tab algn="l" pos="7543800"/>
                          <a:tab algn="l" pos="8486640"/>
                          <a:tab algn="l" pos="9429840"/>
                          <a:tab algn="l" pos="10372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Text Box 30"/>
          <p:cNvSpPr/>
          <p:nvPr/>
        </p:nvSpPr>
        <p:spPr>
          <a:xfrm>
            <a:off x="234720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流感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1"/>
          <p:cNvSpPr/>
          <p:nvPr/>
        </p:nvSpPr>
        <p:spPr>
          <a:xfrm>
            <a:off x="2278080" y="36450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肝炎患者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病毒携带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2207160" y="47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艾滋病患者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病毒携带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3995640" y="249228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空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飞沫 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4"/>
          <p:cNvSpPr/>
          <p:nvPr/>
        </p:nvSpPr>
        <p:spPr>
          <a:xfrm>
            <a:off x="4404600" y="385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饮食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5"/>
          <p:cNvSpPr/>
          <p:nvPr/>
        </p:nvSpPr>
        <p:spPr>
          <a:xfrm>
            <a:off x="4436640" y="49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体液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6"/>
          <p:cNvSpPr/>
          <p:nvPr/>
        </p:nvSpPr>
        <p:spPr>
          <a:xfrm>
            <a:off x="6528960" y="270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抵抗能力弱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7"/>
          <p:cNvSpPr/>
          <p:nvPr/>
        </p:nvSpPr>
        <p:spPr>
          <a:xfrm>
            <a:off x="6528960" y="364500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与传染源饮食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触而无抗体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8"/>
          <p:cNvSpPr/>
          <p:nvPr/>
        </p:nvSpPr>
        <p:spPr>
          <a:xfrm>
            <a:off x="6457320" y="47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直接或间接接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a021"/>
                </a:solidFill>
                <a:latin typeface="Arial"/>
                <a:ea typeface="楷体_GB2312"/>
              </a:rPr>
              <a:t>传染源体液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圆角矩形标注 3"/>
          <p:cNvSpPr/>
          <p:nvPr/>
        </p:nvSpPr>
        <p:spPr>
          <a:xfrm>
            <a:off x="438120" y="0"/>
            <a:ext cx="7588440" cy="5234040"/>
          </a:xfrm>
          <a:prstGeom prst="wedgeRoundRectCallout">
            <a:avLst>
              <a:gd name="adj1" fmla="val -34259"/>
              <a:gd name="adj2" fmla="val 57291"/>
              <a:gd name="adj3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"/>
          <p:cNvSpPr/>
          <p:nvPr/>
        </p:nvSpPr>
        <p:spPr>
          <a:xfrm>
            <a:off x="1050840" y="396720"/>
            <a:ext cx="6569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我们该如何有效防控传染病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从哪些方面入手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图片 5" descr=""/>
          <p:cNvPicPr/>
          <p:nvPr/>
        </p:nvPicPr>
        <p:blipFill>
          <a:blip r:embed="rId1"/>
          <a:stretch/>
        </p:blipFill>
        <p:spPr>
          <a:xfrm>
            <a:off x="779400" y="5156280"/>
            <a:ext cx="947880" cy="173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37960" y="318960"/>
          <a:ext cx="8337600" cy="4192560"/>
        </p:xfrm>
        <a:graphic>
          <a:graphicData uri="http://schemas.openxmlformats.org/drawingml/2006/table">
            <a:tbl>
              <a:tblPr/>
              <a:tblGrid>
                <a:gridCol w="1668600"/>
                <a:gridCol w="2347920"/>
                <a:gridCol w="228600"/>
                <a:gridCol w="1666800"/>
                <a:gridCol w="2425680"/>
              </a:tblGrid>
              <a:tr h="1033920"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疾病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是否可传染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疾病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是否可传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流   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近视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手癣足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水  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贫   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龋  齿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肺结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蛔虫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沙   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流行性乙型脑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WordArt 46"/>
          <p:cNvSpPr txBox="1"/>
          <p:nvPr/>
        </p:nvSpPr>
        <p:spPr>
          <a:xfrm>
            <a:off x="2998800" y="129528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9" name="WordArt 47"/>
          <p:cNvSpPr txBox="1"/>
          <p:nvPr/>
        </p:nvSpPr>
        <p:spPr>
          <a:xfrm>
            <a:off x="2998800" y="190512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WordArt 48"/>
          <p:cNvSpPr txBox="1"/>
          <p:nvPr/>
        </p:nvSpPr>
        <p:spPr>
          <a:xfrm>
            <a:off x="3070080" y="304812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1" name="WordArt 49"/>
          <p:cNvSpPr txBox="1"/>
          <p:nvPr/>
        </p:nvSpPr>
        <p:spPr>
          <a:xfrm>
            <a:off x="3070080" y="380988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WordArt 50"/>
          <p:cNvSpPr txBox="1"/>
          <p:nvPr/>
        </p:nvSpPr>
        <p:spPr>
          <a:xfrm>
            <a:off x="7145280" y="190512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3" name="WordArt 51"/>
          <p:cNvSpPr txBox="1"/>
          <p:nvPr/>
        </p:nvSpPr>
        <p:spPr>
          <a:xfrm>
            <a:off x="7145280" y="304812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4" name="WordArt 52"/>
          <p:cNvSpPr txBox="1"/>
          <p:nvPr/>
        </p:nvSpPr>
        <p:spPr>
          <a:xfrm>
            <a:off x="7145280" y="3733920"/>
            <a:ext cx="4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√</a:t>
            </a:r>
            <a:endParaRPr b="1" lang="en-US" sz="3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5" name="WordArt 53"/>
          <p:cNvSpPr txBox="1"/>
          <p:nvPr/>
        </p:nvSpPr>
        <p:spPr>
          <a:xfrm>
            <a:off x="7216920" y="1371600"/>
            <a:ext cx="384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×</a:t>
            </a:r>
            <a:endParaRPr b="1" lang="en-US" sz="31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6" name="WordArt 54"/>
          <p:cNvSpPr txBox="1"/>
          <p:nvPr/>
        </p:nvSpPr>
        <p:spPr>
          <a:xfrm>
            <a:off x="3070080" y="2514600"/>
            <a:ext cx="3844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×</a:t>
            </a:r>
            <a:endParaRPr b="1" lang="en-US" sz="31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7" name="WordArt 55"/>
          <p:cNvSpPr txBox="1"/>
          <p:nvPr/>
        </p:nvSpPr>
        <p:spPr>
          <a:xfrm>
            <a:off x="7216920" y="2514600"/>
            <a:ext cx="3934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×</a:t>
            </a:r>
            <a:endParaRPr b="1" lang="en-US" sz="31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文本框 1"/>
          <p:cNvSpPr/>
          <p:nvPr/>
        </p:nvSpPr>
        <p:spPr>
          <a:xfrm>
            <a:off x="1185840" y="4944960"/>
            <a:ext cx="69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你的判断依据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496800" y="1447920"/>
            <a:ext cx="80535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"/>
              </a:rPr>
              <a:t>假如我们班有三名同学患了流感，为了防止流感扩散，现在该怎么办呢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568440" y="2743200"/>
            <a:ext cx="3503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◆</a:t>
            </a:r>
            <a:r>
              <a:rPr b="1" lang="zh-CN" sz="3100" spc="-1" strike="noStrike">
                <a:solidFill>
                  <a:srgbClr val="0000ff"/>
                </a:solidFill>
                <a:latin typeface="Times New Roman"/>
                <a:ea typeface="楷体"/>
              </a:rPr>
              <a:t>让感冒患者吃药、住院、戴口罩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6800" y="3886200"/>
            <a:ext cx="3718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◆</a:t>
            </a:r>
            <a:r>
              <a:rPr b="1" lang="zh-CN" sz="3100" spc="-1" strike="noStrike">
                <a:solidFill>
                  <a:srgbClr val="0000ff"/>
                </a:solidFill>
                <a:latin typeface="Times New Roman"/>
                <a:ea typeface="楷体"/>
              </a:rPr>
              <a:t>教室内煮醋、病人用过的东西消毒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96800" y="5029200"/>
            <a:ext cx="34322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◆</a:t>
            </a:r>
            <a:r>
              <a:rPr b="1" lang="zh-CN" sz="3100" spc="-1" strike="noStrike">
                <a:solidFill>
                  <a:srgbClr val="0000ff"/>
                </a:solidFill>
                <a:latin typeface="Times New Roman"/>
                <a:ea typeface="楷体"/>
              </a:rPr>
              <a:t>没得病的人打疫苗、避免接触患病者、锻炼身体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786120" y="3505320"/>
            <a:ext cx="1143000" cy="360"/>
            <a:chOff x="3786120" y="3505320"/>
            <a:chExt cx="1143000" cy="360"/>
          </a:xfrm>
        </p:grpSpPr>
        <p:sp>
          <p:nvSpPr>
            <p:cNvPr id="449" name="Line 6"/>
            <p:cNvSpPr/>
            <p:nvPr/>
          </p:nvSpPr>
          <p:spPr>
            <a:xfrm>
              <a:off x="3786120" y="3505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3786120" y="35053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786120" y="4724280"/>
            <a:ext cx="1143000" cy="360"/>
            <a:chOff x="3786120" y="4724280"/>
            <a:chExt cx="1143000" cy="360"/>
          </a:xfrm>
        </p:grpSpPr>
        <p:sp>
          <p:nvSpPr>
            <p:cNvPr id="452" name="Line 7"/>
            <p:cNvSpPr/>
            <p:nvPr/>
          </p:nvSpPr>
          <p:spPr>
            <a:xfrm>
              <a:off x="3786120" y="472428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3786120" y="47242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786120" y="6095880"/>
            <a:ext cx="1143000" cy="360"/>
            <a:chOff x="3786120" y="6095880"/>
            <a:chExt cx="1143000" cy="360"/>
          </a:xfrm>
        </p:grpSpPr>
        <p:sp>
          <p:nvSpPr>
            <p:cNvPr id="455" name="Line 8"/>
            <p:cNvSpPr/>
            <p:nvPr/>
          </p:nvSpPr>
          <p:spPr>
            <a:xfrm>
              <a:off x="3786120" y="609588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3786120" y="60958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 Box 9"/>
          <p:cNvSpPr/>
          <p:nvPr/>
        </p:nvSpPr>
        <p:spPr>
          <a:xfrm>
            <a:off x="4857840" y="2971800"/>
            <a:ext cx="20732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"/>
              </a:rPr>
              <a:t>传染源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4857840" y="4114800"/>
            <a:ext cx="2787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"/>
              </a:rPr>
              <a:t>传播途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4857840" y="5486400"/>
            <a:ext cx="2787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"/>
              </a:rPr>
              <a:t>易感人群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3857760" y="2895480"/>
            <a:ext cx="1285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控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3857760" y="4114800"/>
            <a:ext cx="1285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切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3786120" y="5486400"/>
            <a:ext cx="103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保护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5"/>
          <p:cNvGrpSpPr/>
          <p:nvPr/>
        </p:nvGrpSpPr>
        <p:grpSpPr>
          <a:xfrm>
            <a:off x="7145280" y="3048120"/>
            <a:ext cx="1217520" cy="2971440"/>
            <a:chOff x="7145280" y="3048120"/>
            <a:chExt cx="1217520" cy="2971440"/>
          </a:xfrm>
        </p:grpSpPr>
        <p:sp>
          <p:nvSpPr>
            <p:cNvPr id="464" name="Text Box 16"/>
            <p:cNvSpPr/>
            <p:nvPr/>
          </p:nvSpPr>
          <p:spPr>
            <a:xfrm>
              <a:off x="7145280" y="3048120"/>
              <a:ext cx="121752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3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预防措施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>
              <a:off x="7180920" y="3285360"/>
              <a:ext cx="269640" cy="2734200"/>
            </a:xfrm>
            <a:custGeom>
              <a:avLst/>
              <a:gdLst>
                <a:gd name="textAreaLeft" fmla="*/ 0 w 269640"/>
                <a:gd name="textAreaRight" fmla="*/ 97200 w 269640"/>
                <a:gd name="textAreaTop" fmla="*/ 70920 h 2734200"/>
                <a:gd name="textAreaBottom" fmla="*/ 2663280 h 273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WordArt 18"/>
          <p:cNvSpPr txBox="1"/>
          <p:nvPr/>
        </p:nvSpPr>
        <p:spPr>
          <a:xfrm>
            <a:off x="2355840" y="152280"/>
            <a:ext cx="4003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"/>
              </a:rPr>
              <a:t>出谋划策</a:t>
            </a:r>
            <a:endParaRPr b="1" lang="en-US" sz="35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p:transition spd="slow"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916360" y="400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3c43"/>
                </a:solidFill>
                <a:latin typeface="Arial"/>
                <a:ea typeface="方正姚体"/>
              </a:rPr>
              <a:t>切断</a:t>
            </a:r>
            <a:r>
              <a:rPr b="1" lang="en-US" sz="3600" spc="-1" strike="noStrike">
                <a:solidFill>
                  <a:srgbClr val="2c3c43"/>
                </a:solidFill>
                <a:latin typeface="Arial"/>
                <a:ea typeface="方正姚体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24000" y="400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3c43"/>
                </a:solidFill>
                <a:latin typeface="Arial"/>
                <a:ea typeface="方正姚体"/>
              </a:rPr>
              <a:t>控制</a:t>
            </a:r>
            <a:r>
              <a:rPr b="1" lang="en-US" sz="3600" spc="-1" strike="noStrike">
                <a:solidFill>
                  <a:srgbClr val="2c3c43"/>
                </a:solidFill>
                <a:latin typeface="Arial"/>
                <a:ea typeface="方正姚体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50920" y="333360"/>
            <a:ext cx="6985080" cy="70344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c3c43"/>
                </a:solidFill>
                <a:latin typeface="Arial"/>
              </a:rPr>
              <a:t>传染病流行的三个基本环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pic_103683"/>
          <p:cNvPicPr/>
          <p:nvPr/>
        </p:nvPicPr>
        <p:blipFill>
          <a:blip r:embed="rId1"/>
          <a:stretch/>
        </p:blipFill>
        <p:spPr>
          <a:xfrm>
            <a:off x="468360" y="1268280"/>
            <a:ext cx="7921440" cy="27370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6"/>
          <p:cNvSpPr/>
          <p:nvPr/>
        </p:nvSpPr>
        <p:spPr>
          <a:xfrm>
            <a:off x="1320840" y="40798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385128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播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603840" y="4079880"/>
            <a:ext cx="19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5722920" y="39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3c43"/>
                </a:solidFill>
                <a:latin typeface="Arial"/>
                <a:ea typeface="方正姚体"/>
              </a:rPr>
              <a:t>保护</a:t>
            </a:r>
            <a:r>
              <a:rPr b="1" lang="en-US" sz="3600" spc="-1" strike="noStrike">
                <a:solidFill>
                  <a:srgbClr val="2c3c43"/>
                </a:solidFill>
                <a:latin typeface="Arial"/>
                <a:ea typeface="方正姚体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2600" y="-360"/>
            <a:ext cx="4222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3500" spc="-1" strike="noStrike">
                <a:solidFill>
                  <a:srgbClr val="9900ff"/>
                </a:solidFill>
                <a:latin typeface="Trebuchet MS"/>
                <a:ea typeface="微软雅黑"/>
              </a:rPr>
              <a:t>快速判断：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76" name="Picture 3" descr=""/>
          <p:cNvPicPr/>
          <p:nvPr/>
        </p:nvPicPr>
        <p:blipFill>
          <a:blip r:embed="rId1"/>
          <a:stretch/>
        </p:blipFill>
        <p:spPr>
          <a:xfrm>
            <a:off x="3524400" y="685800"/>
            <a:ext cx="5337000" cy="1873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2"/>
          <a:stretch/>
        </p:blipFill>
        <p:spPr>
          <a:xfrm>
            <a:off x="3490920" y="2708280"/>
            <a:ext cx="5370480" cy="201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3"/>
          <a:stretch/>
        </p:blipFill>
        <p:spPr>
          <a:xfrm>
            <a:off x="3490920" y="4913280"/>
            <a:ext cx="537048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54120" y="981000"/>
            <a:ext cx="1720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  <a:ea typeface="隶书"/>
              </a:rPr>
              <a:t>控    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  <a:ea typeface="隶书"/>
              </a:rPr>
              <a:t>传染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947880" y="2852640"/>
            <a:ext cx="981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Arial"/>
                <a:ea typeface="隶书"/>
              </a:rPr>
              <a:t>切断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Arial"/>
                <a:ea typeface="隶书"/>
              </a:rPr>
              <a:t>播途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1016640" y="4724280"/>
            <a:ext cx="981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6600"/>
                </a:solidFill>
                <a:latin typeface="Arial"/>
                <a:ea typeface="隶书"/>
              </a:rPr>
              <a:t>保护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6600"/>
                </a:solidFill>
                <a:latin typeface="Arial"/>
                <a:ea typeface="隶书"/>
              </a:rPr>
              <a:t>感人群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31640" y="266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566640" y="29304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500040" y="4802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左箭头 2"/>
          <p:cNvSpPr/>
          <p:nvPr/>
        </p:nvSpPr>
        <p:spPr>
          <a:xfrm>
            <a:off x="2117880" y="1522440"/>
            <a:ext cx="1625400" cy="20160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左箭头 20"/>
          <p:cNvSpPr/>
          <p:nvPr/>
        </p:nvSpPr>
        <p:spPr>
          <a:xfrm>
            <a:off x="2166840" y="3321000"/>
            <a:ext cx="1625760" cy="222480"/>
          </a:xfrm>
          <a:prstGeom prst="leftArrow">
            <a:avLst>
              <a:gd name="adj1" fmla="val 50000"/>
              <a:gd name="adj2" fmla="val 49934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左箭头 21"/>
          <p:cNvSpPr/>
          <p:nvPr/>
        </p:nvSpPr>
        <p:spPr>
          <a:xfrm>
            <a:off x="2235240" y="5281560"/>
            <a:ext cx="1625400" cy="142920"/>
          </a:xfrm>
          <a:prstGeom prst="leftArrow">
            <a:avLst>
              <a:gd name="adj1" fmla="val 50000"/>
              <a:gd name="adj2" fmla="val 499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左箭头 22"/>
          <p:cNvSpPr/>
          <p:nvPr/>
        </p:nvSpPr>
        <p:spPr>
          <a:xfrm>
            <a:off x="2117880" y="944640"/>
            <a:ext cx="4892400" cy="212760"/>
          </a:xfrm>
          <a:prstGeom prst="leftArrow">
            <a:avLst>
              <a:gd name="adj1" fmla="val 50000"/>
              <a:gd name="adj2" fmla="val 4992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左箭头 23"/>
          <p:cNvSpPr/>
          <p:nvPr/>
        </p:nvSpPr>
        <p:spPr>
          <a:xfrm rot="19630200">
            <a:off x="1890720" y="3319560"/>
            <a:ext cx="5875200" cy="20628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左箭头 24"/>
          <p:cNvSpPr/>
          <p:nvPr/>
        </p:nvSpPr>
        <p:spPr>
          <a:xfrm>
            <a:off x="2166840" y="3692520"/>
            <a:ext cx="4622760" cy="21600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左箭头 25"/>
          <p:cNvSpPr/>
          <p:nvPr/>
        </p:nvSpPr>
        <p:spPr>
          <a:xfrm>
            <a:off x="2259000" y="5789520"/>
            <a:ext cx="4621320" cy="181080"/>
          </a:xfrm>
          <a:prstGeom prst="leftArrow">
            <a:avLst>
              <a:gd name="adj1" fmla="val 50000"/>
              <a:gd name="adj2" fmla="val 4986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8200"/>
          <p:cNvSpPr/>
          <p:nvPr/>
        </p:nvSpPr>
        <p:spPr>
          <a:xfrm>
            <a:off x="2444760" y="301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a3c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395280" y="2492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中扑杀疫点家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200402020504_370580"/>
          <p:cNvPicPr/>
          <p:nvPr/>
        </p:nvPicPr>
        <p:blipFill>
          <a:blip r:embed="rId1"/>
          <a:stretch/>
        </p:blipFill>
        <p:spPr>
          <a:xfrm>
            <a:off x="3124080" y="2514600"/>
            <a:ext cx="2857680" cy="4046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200402020504_370579"/>
          <p:cNvPicPr/>
          <p:nvPr/>
        </p:nvPicPr>
        <p:blipFill>
          <a:blip r:embed="rId2"/>
          <a:stretch/>
        </p:blipFill>
        <p:spPr>
          <a:xfrm>
            <a:off x="6095880" y="2514600"/>
            <a:ext cx="2857680" cy="40575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7"/>
          <p:cNvSpPr/>
          <p:nvPr/>
        </p:nvSpPr>
        <p:spPr>
          <a:xfrm>
            <a:off x="2674800" y="85680"/>
            <a:ext cx="49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控制传染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237960" y="25236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文鼎中特广告体"/>
              </a:rPr>
              <a:t>技能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1"/>
          <p:cNvSpPr/>
          <p:nvPr/>
        </p:nvSpPr>
        <p:spPr>
          <a:xfrm>
            <a:off x="666720" y="1190520"/>
            <a:ext cx="677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ca3c"/>
                </a:solidFill>
                <a:uFillTx/>
                <a:latin typeface="Arial"/>
                <a:hlinkClick r:id="rId3"/>
              </a:rPr>
              <a:t>禽流感无人吃鸭 鸭场每天闷死万只初生鸭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矩形 2" descr=""/>
          <p:cNvPicPr/>
          <p:nvPr/>
        </p:nvPicPr>
        <p:blipFill>
          <a:blip r:embed="rId4"/>
          <a:stretch/>
        </p:blipFill>
        <p:spPr>
          <a:xfrm>
            <a:off x="617400" y="4944960"/>
            <a:ext cx="2159280" cy="922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304920" y="1036800"/>
            <a:ext cx="79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封锁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地疫点周围方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里，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禁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何禽类食品运出，对进出疫区的所有人和车进行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消毒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一系列防控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1075729107_tQa4Eh"/>
          <p:cNvPicPr/>
          <p:nvPr/>
        </p:nvPicPr>
        <p:blipFill>
          <a:blip r:embed="rId1"/>
          <a:stretch/>
        </p:blipFill>
        <p:spPr>
          <a:xfrm>
            <a:off x="609480" y="2590920"/>
            <a:ext cx="4249800" cy="24397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200402020676_370627"/>
          <p:cNvPicPr/>
          <p:nvPr/>
        </p:nvPicPr>
        <p:blipFill>
          <a:blip r:embed="rId2"/>
          <a:stretch/>
        </p:blipFill>
        <p:spPr>
          <a:xfrm>
            <a:off x="5181480" y="2590920"/>
            <a:ext cx="3567240" cy="24573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6"/>
          <p:cNvSpPr/>
          <p:nvPr/>
        </p:nvSpPr>
        <p:spPr>
          <a:xfrm>
            <a:off x="2771640" y="58680"/>
            <a:ext cx="50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切断传播途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75564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文鼎中特广告体"/>
              </a:rPr>
              <a:t>技能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矩形 7" descr=""/>
          <p:cNvPicPr/>
          <p:nvPr/>
        </p:nvPicPr>
        <p:blipFill>
          <a:blip r:embed="rId3"/>
          <a:stretch/>
        </p:blipFill>
        <p:spPr>
          <a:xfrm>
            <a:off x="920880" y="5521320"/>
            <a:ext cx="2158920" cy="92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943080" y="1652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保护易感人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5564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文鼎中特广告体"/>
              </a:rPr>
              <a:t>技能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U660P1T1D5751600F23DT20050202200539"/>
          <p:cNvPicPr/>
          <p:nvPr/>
        </p:nvPicPr>
        <p:blipFill>
          <a:blip r:embed="rId1"/>
          <a:stretch/>
        </p:blipFill>
        <p:spPr>
          <a:xfrm>
            <a:off x="1187280" y="1557360"/>
            <a:ext cx="4392720" cy="3308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5441040" y="1916280"/>
            <a:ext cx="18774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文鼎中特广告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文鼎中特广告体"/>
              </a:rPr>
              <a:t>岁的许智宏接种流脑疫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矩形 6" descr=""/>
          <p:cNvPicPr/>
          <p:nvPr/>
        </p:nvPicPr>
        <p:blipFill>
          <a:blip r:embed="rId2"/>
          <a:stretch/>
        </p:blipFill>
        <p:spPr>
          <a:xfrm>
            <a:off x="920880" y="5510160"/>
            <a:ext cx="2158920" cy="922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1_1-1-21-63_200305292257"/>
          <p:cNvPicPr/>
          <p:nvPr/>
        </p:nvPicPr>
        <p:blipFill>
          <a:blip r:embed="rId1"/>
          <a:stretch/>
        </p:blipFill>
        <p:spPr>
          <a:xfrm>
            <a:off x="179280" y="0"/>
            <a:ext cx="2737080" cy="3887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1_1-1-21-63_200305292227"/>
          <p:cNvPicPr/>
          <p:nvPr/>
        </p:nvPicPr>
        <p:blipFill>
          <a:blip r:embed="rId2"/>
          <a:stretch/>
        </p:blipFill>
        <p:spPr>
          <a:xfrm>
            <a:off x="2916360" y="1268280"/>
            <a:ext cx="2992320" cy="3672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1_1-1-21-63_2003052922351"/>
          <p:cNvPicPr/>
          <p:nvPr/>
        </p:nvPicPr>
        <p:blipFill>
          <a:blip r:embed="rId3"/>
          <a:stretch/>
        </p:blipFill>
        <p:spPr>
          <a:xfrm>
            <a:off x="5940360" y="2205000"/>
            <a:ext cx="3060720" cy="43210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4788000" y="404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传染病的预防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pic_136065"/>
          <p:cNvPicPr/>
          <p:nvPr/>
        </p:nvPicPr>
        <p:blipFill>
          <a:blip r:embed="rId1"/>
          <a:stretch/>
        </p:blipFill>
        <p:spPr>
          <a:xfrm>
            <a:off x="0" y="0"/>
            <a:ext cx="2521080" cy="981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"/>
          <p:cNvSpPr/>
          <p:nvPr/>
        </p:nvSpPr>
        <p:spPr>
          <a:xfrm>
            <a:off x="611280" y="9079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a96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艾滋病是一种严重威胁人类健康的传染病。这种病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198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年在美国发现，现已在全世界传播蔓延。它的病原体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人类免疫缺陷病毒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HIV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）存在于艾滋病患者和带病毒者的血液、唾液、泪液、乳汁和尿液等体液中，主要通过静脉注射毒品、不安全性行为而传播，也可以通过输入含艾滋病病毒的血和血液制品或使用未消毒的、病人用过的注射器等而传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755640" y="41914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00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日是第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个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世界艾滋病日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。今年的宣传主题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遏制艾滋，履行承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，以号召国际社会、各国政府、社会各界和个人负起责任，履行在同艾滋病斗争中作出的承诺，充分发挥全社会的作用，采取有力行动，战胜艾滋病。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11360" y="1752480"/>
            <a:ext cx="78642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病原体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传染源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传播途径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易感人群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2784600" y="3429000"/>
            <a:ext cx="6291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、性传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、血液传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、母婴传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2855880" y="5029200"/>
            <a:ext cx="4600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大多数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2427120" y="2819520"/>
            <a:ext cx="8085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艾滋病患者（携带者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6"/>
          <p:cNvGrpSpPr/>
          <p:nvPr/>
        </p:nvGrpSpPr>
        <p:grpSpPr>
          <a:xfrm>
            <a:off x="2355840" y="1371600"/>
            <a:ext cx="7480440" cy="1440000"/>
            <a:chOff x="2355840" y="1371600"/>
            <a:chExt cx="7480440" cy="1440000"/>
          </a:xfrm>
        </p:grpSpPr>
        <p:sp>
          <p:nvSpPr>
            <p:cNvPr id="523" name="Text Box 7"/>
            <p:cNvSpPr/>
            <p:nvPr/>
          </p:nvSpPr>
          <p:spPr>
            <a:xfrm>
              <a:off x="2355840" y="1729080"/>
              <a:ext cx="7480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艾滋病病毒（</a:t>
              </a:r>
              <a:r>
                <a:rPr b="1" lang="en-US" sz="3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HIV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4" name="Picture 8" descr="pic_103682"/>
            <p:cNvPicPr/>
            <p:nvPr/>
          </p:nvPicPr>
          <p:blipFill>
            <a:blip r:embed="rId1"/>
            <a:stretch/>
          </p:blipFill>
          <p:spPr>
            <a:xfrm>
              <a:off x="7134840" y="1371600"/>
              <a:ext cx="133128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5" name="矩形 2" descr=""/>
          <p:cNvPicPr/>
          <p:nvPr/>
        </p:nvPicPr>
        <p:blipFill>
          <a:blip r:embed="rId2"/>
          <a:stretch/>
        </p:blipFill>
        <p:spPr>
          <a:xfrm>
            <a:off x="1327320" y="149400"/>
            <a:ext cx="6127560" cy="11109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"/>
          <p:cNvSpPr/>
          <p:nvPr/>
        </p:nvSpPr>
        <p:spPr>
          <a:xfrm>
            <a:off x="2136600" y="59054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假设你的朋友或同学中有不幸感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该如何与其相处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676440" y="5905440"/>
            <a:ext cx="1511280" cy="70344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思考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2535840" y="5112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中特广告体"/>
              </a:rPr>
              <a:t>胡锦涛与艾滋患者“历史性握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0" y="1916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日，中共中央总书记、国家主席胡锦涛到北京佑安医院看望正在这里治疗的艾滋病患者，与患者“历史性握手”。这反映了政府对艾滋病患者的怀和与艾滋病做斗争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4425840" y="2128680"/>
            <a:ext cx="4592880" cy="632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30240" y="249084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11"/>
                </a:solidFill>
                <a:latin typeface="Times New Roman"/>
              </a:rPr>
              <a:t>由于患者自身的眼球结构发生变化引起的</a:t>
            </a:r>
            <a:r>
              <a:rPr b="1" lang="en-US" sz="3600" spc="-1" strike="noStrike">
                <a:solidFill>
                  <a:srgbClr val="0d0d11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d0d11"/>
                </a:solidFill>
                <a:latin typeface="Times New Roman"/>
              </a:rPr>
              <a:t>不能传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87200" y="4614840"/>
            <a:ext cx="831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11"/>
                </a:solidFill>
                <a:latin typeface="Times New Roman"/>
              </a:rPr>
              <a:t>由于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外来的致病细菌或病毒</a:t>
            </a:r>
            <a:r>
              <a:rPr b="1" lang="zh-CN" sz="3600" spc="-1" strike="noStrike">
                <a:solidFill>
                  <a:srgbClr val="0d0d11"/>
                </a:solidFill>
                <a:latin typeface="Times New Roman"/>
              </a:rPr>
              <a:t>引起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11"/>
                </a:solidFill>
                <a:latin typeface="Times New Roman"/>
              </a:rPr>
              <a:t>具有传染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96920" y="856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传染病与非传染病有何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"/>
          <p:cNvSpPr/>
          <p:nvPr/>
        </p:nvSpPr>
        <p:spPr>
          <a:xfrm>
            <a:off x="580320" y="1824120"/>
            <a:ext cx="13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近视眼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"/>
          <p:cNvSpPr/>
          <p:nvPr/>
        </p:nvSpPr>
        <p:spPr>
          <a:xfrm>
            <a:off x="591480" y="38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结膜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3" descr=""/>
          <p:cNvPicPr/>
          <p:nvPr/>
        </p:nvPicPr>
        <p:blipFill>
          <a:blip r:embed="rId1"/>
          <a:stretch/>
        </p:blipFill>
        <p:spPr>
          <a:xfrm>
            <a:off x="3056040" y="900000"/>
            <a:ext cx="3801960" cy="163044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4" descr=""/>
          <p:cNvPicPr/>
          <p:nvPr/>
        </p:nvPicPr>
        <p:blipFill>
          <a:blip r:embed="rId2"/>
          <a:stretch/>
        </p:blipFill>
        <p:spPr>
          <a:xfrm>
            <a:off x="4726080" y="5303880"/>
            <a:ext cx="3471840" cy="1701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3086280" y="0"/>
            <a:ext cx="4592520" cy="6669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1987920" y="549360"/>
            <a:ext cx="8964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4300" spc="-1" strike="noStrike">
                <a:solidFill>
                  <a:srgbClr val="0000ff"/>
                </a:solidFill>
                <a:latin typeface="Arial"/>
                <a:ea typeface="黑体"/>
              </a:rPr>
              <a:t>温总理与艾滋病人在一起：</a:t>
            </a:r>
            <a:r>
              <a:rPr b="1" lang="zh-CN" sz="47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孩子，别哭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74560" y="0"/>
            <a:ext cx="7655040" cy="107632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923760" y="5373720"/>
            <a:ext cx="74329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900" spc="-1" strike="noStrike">
                <a:solidFill>
                  <a:srgbClr val="0000ff"/>
                </a:solidFill>
                <a:latin typeface="黑体"/>
                <a:ea typeface="黑体"/>
              </a:rPr>
              <a:t>防治艾滋病形象大使姚明、濮存昕和患病小朋友在一起！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105720" y="1828800"/>
            <a:ext cx="358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传染病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传染病流行的三个基本环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预防传染病的一般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539640" y="76500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本课小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568440" y="228240"/>
            <a:ext cx="8007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、  下列疾病不属于传染病的是（       ）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   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肺结核 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B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甲型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H1N1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流感   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乙肝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D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聋哑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、  下列生物中不属于病原体的是（       ）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   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H1N1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病毒    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B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HIV   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蛔虫   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D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蚜虫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、  甲流和蛔虫病的病原体分别属于（      ）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    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细菌和病毒 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B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寄生虫和病毒 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病毒和寄生虫  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D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．病毒和细菌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5921280" y="198360"/>
            <a:ext cx="571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6254640" y="2422440"/>
            <a:ext cx="571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6469200" y="4633920"/>
            <a:ext cx="571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EBF2-5AF4-4E56-9A07-DB246B889E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0" y="396720"/>
            <a:ext cx="8012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、甲型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H1N1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流感流行期间，在机场、码头和车站 有些人戴口罩，其目的是（      ）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A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控制传染源     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B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切断传播途径 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C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保护易感人群 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D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以上都对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9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、为了防控甲流，教育部门纷纷决定各校暂不举行开学典礼、取消军训，这种措施属于（       ）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 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A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切断传播途径 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B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控制传染源 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C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保护易感人群 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D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增强免疫力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10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、我校防控甲流注意落实“四早”，即早发现、早报告、早隔离、早治疗，此措施属于（       ） 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  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A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控制传染源     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B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切断传播途径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C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保护易感人群                </a:t>
            </a:r>
            <a:r>
              <a:rPr b="1" lang="en-US" sz="2700" spc="-1" strike="noStrike">
                <a:solidFill>
                  <a:srgbClr val="404040"/>
                </a:solidFill>
                <a:latin typeface="Trebuchet MS"/>
              </a:rPr>
              <a:t>D </a:t>
            </a:r>
            <a:r>
              <a:rPr b="1" lang="zh-CN" sz="2700" spc="-1" strike="noStrike">
                <a:solidFill>
                  <a:srgbClr val="404040"/>
                </a:solidFill>
                <a:latin typeface="Trebuchet MS"/>
              </a:rPr>
              <a:t>以上都对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233960" y="612720"/>
            <a:ext cx="571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6265800" y="2635200"/>
            <a:ext cx="571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6359400" y="4648320"/>
            <a:ext cx="571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标注 3"/>
          <p:cNvSpPr/>
          <p:nvPr/>
        </p:nvSpPr>
        <p:spPr>
          <a:xfrm>
            <a:off x="1185840" y="757080"/>
            <a:ext cx="6705720" cy="3176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4"/>
          <p:cNvSpPr/>
          <p:nvPr/>
        </p:nvSpPr>
        <p:spPr>
          <a:xfrm>
            <a:off x="1455840" y="1046160"/>
            <a:ext cx="623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病不是什么好事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可不想被感染  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己知彼百战百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看来我得好好滴学习这节课程了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5" descr=""/>
          <p:cNvPicPr/>
          <p:nvPr/>
        </p:nvPicPr>
        <p:blipFill>
          <a:blip r:embed="rId1"/>
          <a:stretch/>
        </p:blipFill>
        <p:spPr>
          <a:xfrm>
            <a:off x="1930320" y="4222800"/>
            <a:ext cx="146232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pic_103682"/>
          <p:cNvPicPr/>
          <p:nvPr/>
        </p:nvPicPr>
        <p:blipFill>
          <a:blip r:embed="rId1"/>
          <a:stretch/>
        </p:blipFill>
        <p:spPr>
          <a:xfrm>
            <a:off x="1236600" y="1335240"/>
            <a:ext cx="6265800" cy="51084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203040" y="8568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找一找  传染病的罪魁祸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1360" y="2008080"/>
            <a:ext cx="11552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杆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936120" y="1987560"/>
            <a:ext cx="213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艾滋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病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-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"/>
          <p:cNvSpPr/>
          <p:nvPr/>
        </p:nvSpPr>
        <p:spPr>
          <a:xfrm>
            <a:off x="4351320" y="62625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蛔虫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寄生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7" descr=""/>
          <p:cNvPicPr/>
          <p:nvPr/>
        </p:nvPicPr>
        <p:blipFill>
          <a:blip r:embed="rId1"/>
          <a:stretch/>
        </p:blipFill>
        <p:spPr>
          <a:xfrm>
            <a:off x="20520" y="52560"/>
            <a:ext cx="2284560" cy="802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76520" y="318960"/>
            <a:ext cx="1657440" cy="3435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/>
          <p:cNvPicPr/>
          <p:nvPr/>
        </p:nvPicPr>
        <p:blipFill>
          <a:blip r:embed="rId4"/>
          <a:stretch/>
        </p:blipFill>
        <p:spPr>
          <a:xfrm>
            <a:off x="6175440" y="241200"/>
            <a:ext cx="2622600" cy="3324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" descr="足癣1"/>
          <p:cNvPicPr/>
          <p:nvPr/>
        </p:nvPicPr>
        <p:blipFill>
          <a:blip r:embed="rId5"/>
          <a:stretch/>
        </p:blipFill>
        <p:spPr>
          <a:xfrm>
            <a:off x="4378320" y="2863800"/>
            <a:ext cx="4765680" cy="19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8" name="文本框 1"/>
          <p:cNvSpPr/>
          <p:nvPr/>
        </p:nvSpPr>
        <p:spPr>
          <a:xfrm>
            <a:off x="372960" y="326232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   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右箭头 2"/>
          <p:cNvSpPr/>
          <p:nvPr/>
        </p:nvSpPr>
        <p:spPr>
          <a:xfrm rot="10800000">
            <a:off x="2507760" y="816120"/>
            <a:ext cx="892440" cy="504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右箭头 7"/>
          <p:cNvSpPr/>
          <p:nvPr/>
        </p:nvSpPr>
        <p:spPr>
          <a:xfrm rot="5400000">
            <a:off x="7732080" y="2225520"/>
            <a:ext cx="690480" cy="46836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8"/>
          <p:cNvSpPr/>
          <p:nvPr/>
        </p:nvSpPr>
        <p:spPr>
          <a:xfrm>
            <a:off x="7095960" y="349740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皮 肤 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9"/>
          <p:cNvSpPr/>
          <p:nvPr/>
        </p:nvSpPr>
        <p:spPr>
          <a:xfrm>
            <a:off x="2435400" y="1959120"/>
            <a:ext cx="33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水痘带状疱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病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6210360" y="2055960"/>
            <a:ext cx="26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（皮肤癣菌）  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真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1" descr=""/>
          <p:cNvPicPr/>
          <p:nvPr/>
        </p:nvPicPr>
        <p:blipFill>
          <a:blip r:embed="rId6"/>
          <a:stretch/>
        </p:blipFill>
        <p:spPr>
          <a:xfrm>
            <a:off x="106200" y="4226040"/>
            <a:ext cx="2870280" cy="2631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2" descr=""/>
          <p:cNvPicPr/>
          <p:nvPr/>
        </p:nvPicPr>
        <p:blipFill>
          <a:blip r:embed="rId7"/>
          <a:stretch/>
        </p:blipFill>
        <p:spPr>
          <a:xfrm>
            <a:off x="4203720" y="5083200"/>
            <a:ext cx="20718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13"/>
          <p:cNvSpPr/>
          <p:nvPr/>
        </p:nvSpPr>
        <p:spPr>
          <a:xfrm>
            <a:off x="930240" y="47750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右箭头 14"/>
          <p:cNvSpPr/>
          <p:nvPr/>
        </p:nvSpPr>
        <p:spPr>
          <a:xfrm rot="10800000">
            <a:off x="3201840" y="5541480"/>
            <a:ext cx="890640" cy="505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5"/>
          <p:cNvSpPr/>
          <p:nvPr/>
        </p:nvSpPr>
        <p:spPr>
          <a:xfrm>
            <a:off x="2882880" y="622944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冠状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病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16"/>
          <p:cNvGrpSpPr/>
          <p:nvPr/>
        </p:nvGrpSpPr>
        <p:grpSpPr>
          <a:xfrm>
            <a:off x="5046840" y="3052800"/>
            <a:ext cx="2709720" cy="1517760"/>
            <a:chOff x="5046840" y="3052800"/>
            <a:chExt cx="2709720" cy="1517760"/>
          </a:xfrm>
        </p:grpSpPr>
        <p:sp>
          <p:nvSpPr>
            <p:cNvPr id="350" name="AutoShape 17"/>
            <p:cNvSpPr/>
            <p:nvPr/>
          </p:nvSpPr>
          <p:spPr>
            <a:xfrm>
              <a:off x="5046840" y="3052800"/>
              <a:ext cx="2709720" cy="1517760"/>
            </a:xfrm>
            <a:custGeom>
              <a:avLst/>
              <a:gdLst>
                <a:gd name="textAreaLeft" fmla="*/ 636120 w 2709720"/>
                <a:gd name="textAreaRight" fmla="*/ 2073600 w 2709720"/>
                <a:gd name="textAreaTop" fmla="*/ 356400 h 1517760"/>
                <a:gd name="textAreaBottom" fmla="*/ 1161360 h 15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b003b"/>
                </a:gs>
                <a:gs pos="5000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8"/>
            <p:cNvSpPr/>
            <p:nvPr/>
          </p:nvSpPr>
          <p:spPr>
            <a:xfrm>
              <a:off x="5415840" y="3378960"/>
              <a:ext cx="2073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病原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19"/>
          <p:cNvSpPr/>
          <p:nvPr/>
        </p:nvSpPr>
        <p:spPr>
          <a:xfrm>
            <a:off x="2460600" y="5013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Garamond"/>
                <a:ea typeface="黑体"/>
              </a:rPr>
              <a:t>寄生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2732040" y="1741320"/>
            <a:ext cx="17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Garamond"/>
                <a:ea typeface="黑体"/>
              </a:rPr>
              <a:t>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674800" y="284148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Garamond"/>
                <a:ea typeface="黑体"/>
              </a:rPr>
              <a:t>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2674800" y="383544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Garamond"/>
                <a:ea typeface="黑体"/>
              </a:rPr>
              <a:t>真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4037040" y="2077920"/>
            <a:ext cx="473040" cy="3467160"/>
          </a:xfrm>
          <a:custGeom>
            <a:avLst/>
            <a:gdLst>
              <a:gd name="textAreaLeft" fmla="*/ 0 w 473040"/>
              <a:gd name="textAreaRight" fmla="*/ 170640 w 473040"/>
              <a:gd name="textAreaTop" fmla="*/ 84600 h 3467160"/>
              <a:gd name="textAreaBottom" fmla="*/ 3382560 h 346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4"/>
                  <a:pt x="10800" y="1687"/>
                </a:cubicBezTo>
                <a:lnTo>
                  <a:pt x="10800" y="9113"/>
                </a:lnTo>
                <a:cubicBezTo>
                  <a:pt x="10800" y="9957"/>
                  <a:pt x="16200" y="10800"/>
                  <a:pt x="21600" y="10800"/>
                </a:cubicBezTo>
                <a:cubicBezTo>
                  <a:pt x="16200" y="10800"/>
                  <a:pt x="10800" y="11644"/>
                  <a:pt x="10800" y="12487"/>
                </a:cubicBezTo>
                <a:lnTo>
                  <a:pt x="10800" y="19913"/>
                </a:lnTo>
                <a:cubicBezTo>
                  <a:pt x="10800" y="2075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9"/>
          <p:cNvSpPr/>
          <p:nvPr/>
        </p:nvSpPr>
        <p:spPr>
          <a:xfrm>
            <a:off x="1022400" y="423720"/>
            <a:ext cx="650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引起传染病的罪魁祸首主要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1"/>
                            </p:stCondLst>
                            <p:childTnLst>
                              <p:par>
                                <p:cTn id="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4165560" y="3189240"/>
            <a:ext cx="3005280" cy="36943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"/>
          <p:cNvSpPr/>
          <p:nvPr/>
        </p:nvSpPr>
        <p:spPr>
          <a:xfrm>
            <a:off x="237960" y="108000"/>
            <a:ext cx="935676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传染病概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病原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起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在人与人之间或人与动物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传播的疾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1"/>
          <p:cNvSpPr/>
          <p:nvPr/>
        </p:nvSpPr>
        <p:spPr>
          <a:xfrm>
            <a:off x="-42840" y="0"/>
            <a:ext cx="8839080" cy="635328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"/>
          <p:cNvSpPr/>
          <p:nvPr/>
        </p:nvSpPr>
        <p:spPr>
          <a:xfrm>
            <a:off x="-42840" y="1816200"/>
            <a:ext cx="91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传染病的罪魁祸首被找出来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们得给传染病一个定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圆角矩形标注 2"/>
          <p:cNvSpPr/>
          <p:nvPr/>
        </p:nvSpPr>
        <p:spPr>
          <a:xfrm>
            <a:off x="304920" y="787320"/>
            <a:ext cx="4876560" cy="15890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"/>
          <p:cNvSpPr/>
          <p:nvPr/>
        </p:nvSpPr>
        <p:spPr>
          <a:xfrm>
            <a:off x="644400" y="131904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看来没人愿意患上传染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圆角矩形标注 3"/>
          <p:cNvSpPr/>
          <p:nvPr/>
        </p:nvSpPr>
        <p:spPr>
          <a:xfrm rot="10800000">
            <a:off x="2471400" y="3933720"/>
            <a:ext cx="5148360" cy="17337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3149640" y="4222800"/>
            <a:ext cx="650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病是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成功传染给别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5" descr=""/>
          <p:cNvPicPr/>
          <p:nvPr/>
        </p:nvPicPr>
        <p:blipFill>
          <a:blip r:embed="rId1"/>
          <a:stretch/>
        </p:blipFill>
        <p:spPr>
          <a:xfrm>
            <a:off x="439560" y="2593800"/>
            <a:ext cx="1462320" cy="267984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5529240" y="1308240"/>
            <a:ext cx="1389240" cy="2544480"/>
          </a:xfrm>
          <a:prstGeom prst="rect">
            <a:avLst/>
          </a:prstGeom>
          <a:ln w="0">
            <a:noFill/>
          </a:ln>
        </p:spPr>
      </p:pic>
      <p:pic>
        <p:nvPicPr>
          <p:cNvPr id="368" name="矩形 7" descr=""/>
          <p:cNvPicPr/>
          <p:nvPr/>
        </p:nvPicPr>
        <p:blipFill>
          <a:blip r:embed="rId3"/>
          <a:stretch/>
        </p:blipFill>
        <p:spPr>
          <a:xfrm>
            <a:off x="6593040" y="1227240"/>
            <a:ext cx="62676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08:2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6-06-30T08:44:00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