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C4E2-1ED2-4EED-B36F-D14B72B8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BB3F-FB89-4586-91FD-77C77FF9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E0050-B2BB-43E1-AE92-E8442C51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FEE95-CC81-4B42-8EE8-05212245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4F9A0-A36D-4E9C-BA8E-71B82888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5E6CE-D68B-486E-AAE4-D6E960A8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12C8F-4B29-4E52-9BC8-FEEFD4AD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3BF2F-A8BD-4475-BDB0-C9A9A266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793A0-90EE-4D34-8778-3FA52BD8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1E8DD-F240-4EE5-B962-C8E93A36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D98D0-7BED-49B2-9A13-9396D15B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5D2E5-F06B-4E59-9C2B-26954DD3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6880-AF92-4D94-AE57-F7042A74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4AE40-AF35-4D35-AA56-09D6AFB7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F508C-3574-47E1-9E16-412F69FC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31DF0-7B2A-4CF1-8C9D-4A91D4EC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85E92-8ACB-4FC2-BCA3-352BBAA4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9F978-0CEF-44E6-805A-51721D95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AEBCF-D682-4A0A-B732-E37F9D8B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A586B-66E0-40B1-9F20-B10A3E83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CC66F-CE25-4CB1-B385-E987893E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42E17-BF6C-4006-9996-729F6A2B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FF24F-912A-4EED-A98F-6331053D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EC30-0412-445B-AD3D-C214F0E3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D7E4F-C21B-4FAD-B517-76AA5FFD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FEF49-1FFC-4D22-BE92-3533C517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DD9BC-2ABF-4645-89D6-DBD8B426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C6936-EBEE-4137-AD2A-BD184F6C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95B8C-7931-4528-8640-6E16A0E1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1893E-7EFA-4A89-BC7E-F788A764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78CD1-AA61-4FE5-B8EC-A529B948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4833D-1114-4AA7-B8EA-AF86BFB8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60CF3-0631-4872-A4B9-3AAE5A04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7BF4C-7D53-4A23-A664-D86A02A4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4BBF-700A-4CD8-AEEE-10E195B5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25255-C613-43A3-B211-411A1AAC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21721-2E49-4054-8650-D0440563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12565-F3F4-4207-AEF6-2FE42E953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B8054-3187-479D-95AF-E9DE713C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BE1328-EAFC-4E02-92E2-A5AF1D56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A1363-E41D-4CB2-BDB2-029C2518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A5C876-BEAC-47A1-838D-BB6C9567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ED2B0-67ED-41C9-9070-85F184AE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1B59F-DE04-43B5-9EC8-1FCAB19F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DC2CEC-FD89-4BFA-A4EC-F778EEDD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76C0-42D1-4F41-ACAC-28A5F8DC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A6FC8-2398-4441-852B-74B85622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92CA3-524F-47B8-8503-F95C273D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2E0E53-6194-4E99-8A64-D1ED5877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6BF238-F03E-48E5-B18E-8954E4B2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59D3B-6652-4B7C-AE3C-B5DD3615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88F26C-5CB2-4DFB-90C9-F81E6D08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9B9805-3680-4519-B0DA-D425ECEE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F526F6-D3FE-4476-AD85-4A43769B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D4BC18-2A76-4EC2-861D-55C04B47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534C3A-4290-4786-B7B8-300C1AA6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1B31-F156-4056-9311-F040D437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58C68F-DF56-4268-AB39-432EF89D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3C94A0-4932-4097-82F6-3D279F3F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A87A2F-9D58-403F-B843-F633CB64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CA63E2-FF6E-4F63-9960-0D2AA2D3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7B3458-20E2-431D-B6CC-E6317FF6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33EFDE-C59A-4E9D-9263-73B3E5EE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DF71A7-FAD1-4D9B-8835-1555273E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5355-52BA-44B5-B4F9-97C347D9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76C8-2057-4658-B6A8-DCC2260F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BC85-139F-4E8A-A5CB-A201121C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AAB1-878D-46A7-88E7-0B76C78A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730A-C433-48D0-9308-DBEA66AC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3EFC-8852-47C8-BE4F-B3D8BAEF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5210-7911-4745-827D-C9D21E50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8313-CCBC-4E57-9EE8-25CF0BFF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A666-1C84-4A10-8EC1-5555FD1A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C348-AD0D-419C-A300-D9DAFC3C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A318C-E2FC-4893-AE91-1575A2CB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9E514-023B-46CF-A655-95ABE890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86C65-D6E9-426E-A87B-0EC6B3B7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C6101-2700-4B72-8257-1C43BD53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27BD4-0BA5-4239-92D2-8685D05F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C3BB-41F6-40E2-A5B7-BC18B824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44B92-31BE-4C21-AE1D-EEBA1084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AE6AF-C8A9-43D8-8211-6AA9F3F0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5BCB1-696A-4E3A-9C84-59889A28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09B4D-9219-441C-AAD2-8FE75D56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B1A11-0E8F-436D-91FB-62D667B6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120AD-370E-4726-A9B4-3564D51B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77248-DFBE-429B-922A-00B743BE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B064A-406B-4323-A47D-7CFF8873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CF22A-62A3-4AE6-94E4-D766AB49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622C7-61DA-4E08-AF95-81ABB439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6DA8-5B8C-4814-83EB-04BFD7AC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2163E-98F3-48D5-80EF-B5DAF38C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F240B-8BAF-4994-B876-9E4698FC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203CA-A318-42CB-B2B0-394F2829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9ABD6-51E5-4BF2-8D5B-822C78D5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02D09-C63E-46B6-8CD5-C02E9DDD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FBFF5-23D9-4B18-B197-FA538848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85707-F5F7-4188-9C37-15C9EA6E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4CDF8-FAF1-49C5-8FF7-E871B55E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B5F9A-BE3A-44AF-8F4B-3E2F7C0F0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634A4-C48F-4426-B663-5A2239B9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091F-3401-44ED-89F7-2CF8D968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847D3-2415-44E3-B6C4-42295041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26B95-2FEA-4ADC-8E45-F86F8602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7849F-86CC-4CF9-B99A-2D25A1F2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C8362-2652-4D75-B495-C1C45E8A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1EBB9-66C7-48AA-9046-AAF8090B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21652-0D6F-4F0F-8667-855BFEA2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CE708-EE2D-40EB-B5D7-82EC74F4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5994E-41E4-448D-9A53-FE696677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A190E-578F-4C8E-89F3-B85D6932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C84DE-C005-4645-A028-F63BC1C9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1E80-80CF-4AB4-B6C1-288325AF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C0E98-1BCC-46F5-912A-09817CA0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FC292-6B0C-4DDC-BFF3-F0063FE0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EF892-4471-4CA9-913D-21A9D393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6DCAA-6516-40BC-907B-B007C722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FE4D4-5ADB-45B9-A85C-7FD14233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391BC-4677-4306-B131-2ACE67F4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92FF1-D58C-4C38-BA3E-B5B149A5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EBDE2-CDFC-44A2-B9A2-849B3DF9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923EC-B717-4CED-8B37-4C9CC1D9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50310-E0B5-4A1E-A491-B0E14C68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AF55-F857-4032-882F-6E728228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2A413-023F-4DF7-83EF-A2AC4C5D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4CCA2-378F-4BA4-9A59-6DE48BE7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47D15-EB20-411B-B837-57F90BA7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BB1E1-7703-4B0D-AD61-174C8E47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438ED-1988-4E9A-9863-22FCB151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E56AC-98DD-4A48-8ECD-6F78875A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FF773-AF8B-4974-820D-A556D019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BEEB4-EAFE-4791-A3C0-43A449E0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A21A6-635A-46C0-9764-CB86ED4D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B0A68-41EE-4687-83D8-E3EE271E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3EB0-8C2C-439E-9A48-FC33231D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F37B5-3CEB-4B7E-A50F-B1F0F4F5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5E18D-A6E3-4A4C-BDFB-B4C2D626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4FC5A-237E-471C-994C-70708B33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E7B38-078E-4203-B07C-808A48C0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C7E8E-5B5B-4195-BC95-A4014DEB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3E183-4452-4B49-96DF-1F5F32AC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4CDB6-3AC3-49A3-A8B4-0B810FC7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DFD98-D391-4C1B-85A4-8A172486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6219A-BAD3-436E-A9BC-3B11DE9C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B56DA-0B62-4A43-ADDE-921D03DF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9A7A-FDCE-4E7F-8FC9-A6714A24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1F6E3-48F7-4D43-AADD-DDBCDEBE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5B843-95C3-4353-A0E8-05C5A5DA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92716-0CC3-468C-9086-1068B459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94218-FEC7-4813-9524-C48D9C48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AE1B1-C286-426B-AF68-CAB671DF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BAA2F-B1A9-4D5B-B4A4-B7F9D906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C4F47-C9CF-47A4-9868-3D431FD6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7E2AD-130A-4720-94BA-F0C429BF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5745E-5BE8-4354-9B6B-468DF53A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B3336-BF60-4F99-9DED-C1197316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2680" indent="-3826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5130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0256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35040" indent="-5094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8040" indent="-10224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8040" indent="-10224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8040" indent="-10224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118B-EE4F-43E7-9AFE-BBC1C75DEB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37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8" name=""/>
          <p:cNvGrpSpPr/>
          <p:nvPr/>
        </p:nvGrpSpPr>
        <p:grpSpPr>
          <a:xfrm>
            <a:off x="973080" y="3141720"/>
            <a:ext cx="7775640" cy="360"/>
            <a:chOff x="973080" y="3141720"/>
            <a:chExt cx="7775640" cy="360"/>
          </a:xfrm>
        </p:grpSpPr>
        <p:sp>
          <p:nvSpPr>
            <p:cNvPr id="379" name="Line 10"/>
            <p:cNvSpPr/>
            <p:nvPr/>
          </p:nvSpPr>
          <p:spPr>
            <a:xfrm>
              <a:off x="973080" y="3141720"/>
              <a:ext cx="7775640" cy="0"/>
            </a:xfrm>
            <a:prstGeom prst="line">
              <a:avLst/>
            </a:prstGeom>
            <a:ln w="507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>
              <a:off x="973080" y="3141720"/>
              <a:ext cx="777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46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25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  <a:p>
            <a:pPr lvl="1" marL="484200" indent="484200">
              <a:spcBef>
                <a:spcPts val="825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  <a:p>
            <a:pPr lvl="2" marL="968400">
              <a:spcBef>
                <a:spcPts val="825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  <a:p>
            <a:pPr lvl="3" marL="1450800" indent="-482400">
              <a:spcBef>
                <a:spcPts val="825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  <a:p>
            <a:pPr lvl="4" marL="1935000" indent="-966600">
              <a:spcBef>
                <a:spcPts val="825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  <a:p>
            <a:pPr lvl="5" marL="1935000" indent="-966600">
              <a:spcBef>
                <a:spcPts val="825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  <a:p>
            <a:pPr lvl="6" marL="1935000" indent="-966600">
              <a:spcBef>
                <a:spcPts val="825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3DF3-1AA7-4059-AB22-04DAABEC90F8}" type="slidenum">
              <a:rPr b="0" lang="zh-CN" sz="1400" spc="-1" strike="noStrike">
                <a:solidFill>
                  <a:srgbClr val="a0836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11280" y="1063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484200" indent="484200">
              <a:spcBef>
                <a:spcPts val="825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68400">
              <a:spcBef>
                <a:spcPts val="8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450800" indent="-482400">
              <a:spcBef>
                <a:spcPts val="825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935000" indent="-966600">
              <a:spcBef>
                <a:spcPts val="825"/>
              </a:spcBef>
              <a:buClr>
                <a:srgbClr val="000000"/>
              </a:buClr>
              <a:buFont typeface="Arial Rounded MT Bold"/>
              <a:buChar char="»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935000" indent="-966600">
              <a:spcBef>
                <a:spcPts val="825"/>
              </a:spcBef>
              <a:buClr>
                <a:srgbClr val="000000"/>
              </a:buClr>
              <a:buFont typeface="Arial Rounded MT Bold"/>
              <a:buChar char="»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935000" indent="-966600">
              <a:spcBef>
                <a:spcPts val="825"/>
              </a:spcBef>
              <a:buClr>
                <a:srgbClr val="000000"/>
              </a:buClr>
              <a:buFont typeface="Arial Rounded MT Bold"/>
              <a:buChar char="»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764F-39AE-4716-A280-C524893DA16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6840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650C-06DE-4A5E-9ECB-9BDE5A7EC52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189C-9BD1-44B3-BB18-0BA2E4902C7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25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484200" indent="484200">
              <a:spcBef>
                <a:spcPts val="825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968400">
              <a:spcBef>
                <a:spcPts val="825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450800" indent="-482400">
              <a:spcBef>
                <a:spcPts val="825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935000" indent="-966600">
              <a:spcBef>
                <a:spcPts val="825"/>
              </a:spcBef>
              <a:buClr>
                <a:srgbClr val="ffffff"/>
              </a:buClr>
              <a:buFont typeface="Arial Rounded MT Bold"/>
              <a:buChar char="»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935000" indent="-966600">
              <a:spcBef>
                <a:spcPts val="825"/>
              </a:spcBef>
              <a:buClr>
                <a:srgbClr val="000000"/>
              </a:buClr>
              <a:buFont typeface="Arial Rounded MT Bold"/>
              <a:buChar char="»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935000" indent="-966600">
              <a:spcBef>
                <a:spcPts val="825"/>
              </a:spcBef>
              <a:buClr>
                <a:srgbClr val="000000"/>
              </a:buClr>
              <a:buFont typeface="Arial Rounded MT Bold"/>
              <a:buChar char="»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1DA0-A3E9-4CCA-AAE5-AAEB709229D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83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7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"/>
          <p:cNvGrpSpPr/>
          <p:nvPr/>
        </p:nvGrpSpPr>
        <p:grpSpPr>
          <a:xfrm>
            <a:off x="1015920" y="1600200"/>
            <a:ext cx="7747200" cy="360"/>
            <a:chOff x="1015920" y="1600200"/>
            <a:chExt cx="7747200" cy="360"/>
          </a:xfrm>
        </p:grpSpPr>
        <p:sp>
          <p:nvSpPr>
            <p:cNvPr id="86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1015920" y="1600200"/>
              <a:ext cx="774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F04F-6D9D-483F-8ED3-F3467DC2AE43}" type="slidenum">
              <a:rPr b="0" lang="zh-CN" sz="1400" spc="-1" strike="noStrike">
                <a:solidFill>
                  <a:srgbClr val="a0836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46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25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  <a:p>
            <a:pPr lvl="1" marL="484200" indent="484200">
              <a:spcBef>
                <a:spcPts val="825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  <a:p>
            <a:pPr lvl="2" marL="968400">
              <a:spcBef>
                <a:spcPts val="825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  <a:p>
            <a:pPr lvl="3" marL="1450800" indent="-482400">
              <a:spcBef>
                <a:spcPts val="825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  <a:p>
            <a:pPr lvl="4" marL="1935000" indent="-966600">
              <a:spcBef>
                <a:spcPts val="825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  <a:p>
            <a:pPr lvl="5" marL="1935000" indent="-966600">
              <a:spcBef>
                <a:spcPts val="825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  <a:p>
            <a:pPr lvl="6" marL="1935000" indent="-966600">
              <a:spcBef>
                <a:spcPts val="825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11280" y="1063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484200" indent="484200">
              <a:spcBef>
                <a:spcPts val="825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68400">
              <a:spcBef>
                <a:spcPts val="8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450800" indent="-482400">
              <a:spcBef>
                <a:spcPts val="825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935000" indent="-966600">
              <a:spcBef>
                <a:spcPts val="825"/>
              </a:spcBef>
              <a:buClr>
                <a:srgbClr val="000000"/>
              </a:buClr>
              <a:buFont typeface="Arial Rounded MT Bold"/>
              <a:buChar char="»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935000" indent="-966600">
              <a:spcBef>
                <a:spcPts val="825"/>
              </a:spcBef>
              <a:buClr>
                <a:srgbClr val="000000"/>
              </a:buClr>
              <a:buFont typeface="Arial Rounded MT Bold"/>
              <a:buChar char="»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935000" indent="-966600">
              <a:spcBef>
                <a:spcPts val="825"/>
              </a:spcBef>
              <a:buClr>
                <a:srgbClr val="000000"/>
              </a:buClr>
              <a:buFont typeface="Arial Rounded MT Bold"/>
              <a:buChar char="»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CAE3-5AE5-47F7-ADCF-912EE91C9C3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6360" y="18864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374760" y="148608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484200" indent="484200">
              <a:spcBef>
                <a:spcPts val="825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68400">
              <a:spcBef>
                <a:spcPts val="8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450800" indent="-482400">
              <a:spcBef>
                <a:spcPts val="825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935000" indent="-966600">
              <a:spcBef>
                <a:spcPts val="825"/>
              </a:spcBef>
              <a:buClr>
                <a:srgbClr val="000000"/>
              </a:buClr>
              <a:buFont typeface="Arial Rounded MT Bold"/>
              <a:buChar char="»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935000" indent="-966600">
              <a:spcBef>
                <a:spcPts val="825"/>
              </a:spcBef>
              <a:buClr>
                <a:srgbClr val="000000"/>
              </a:buClr>
              <a:buFont typeface="Arial Rounded MT Bold"/>
              <a:buChar char="»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935000" indent="-966600">
              <a:spcBef>
                <a:spcPts val="825"/>
              </a:spcBef>
              <a:buClr>
                <a:srgbClr val="000000"/>
              </a:buClr>
              <a:buFont typeface="Arial Rounded MT Bold"/>
              <a:buChar char="»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64ED-E59F-4919-B410-6D549CE68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6840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1028-3CDB-4811-967E-BCA970109FB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28F4-9D4B-4428-805C-C08D645DF7B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9D29-8D60-4543-BB27-C734F2B75EA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25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484200" indent="484200">
              <a:spcBef>
                <a:spcPts val="825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968400">
              <a:spcBef>
                <a:spcPts val="825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450800" indent="-482400">
              <a:spcBef>
                <a:spcPts val="825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935000" indent="-966600">
              <a:spcBef>
                <a:spcPts val="825"/>
              </a:spcBef>
              <a:buClr>
                <a:srgbClr val="ffffff"/>
              </a:buClr>
              <a:buFont typeface="Arial Rounded MT Bold"/>
              <a:buChar char="»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935000" indent="-966600">
              <a:spcBef>
                <a:spcPts val="825"/>
              </a:spcBef>
              <a:buClr>
                <a:srgbClr val="000000"/>
              </a:buClr>
              <a:buFont typeface="Arial Rounded MT Bold"/>
              <a:buChar char="»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935000" indent="-966600">
              <a:spcBef>
                <a:spcPts val="825"/>
              </a:spcBef>
              <a:buClr>
                <a:srgbClr val="000000"/>
              </a:buClr>
              <a:buFont typeface="Arial Rounded MT Bold"/>
              <a:buChar char="»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9F4E-6CF3-4652-A0E7-826D18792CC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hyperlink" Target="268,4,&#24187;&#28783;&#29255; 4" TargetMode="External"/><Relationship Id="rId4" Type="http://schemas.openxmlformats.org/officeDocument/2006/relationships/hyperlink" Target="269,5,&#24187;&#28783;&#29255; 5" TargetMode="External"/><Relationship Id="rId5" Type="http://schemas.openxmlformats.org/officeDocument/2006/relationships/hyperlink" Target="270,7,&#24187;&#28783;&#29255; 7" TargetMode="External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hyperlink" Target="262,3,&#24187;&#28783;&#29255; 3" TargetMode="External"/><Relationship Id="rId20" Type="http://schemas.openxmlformats.org/officeDocument/2006/relationships/hyperlink" Target="266,6,&#24187;&#28783;&#29255; 6" TargetMode="External"/><Relationship Id="rId2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58,2,&#24187;&#28783;&#29255; 2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58,2,&#24187;&#28783;&#29255; 2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258,2,&#24187;&#28783;&#29255; 2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hyperlink" Target="258,2,&#24187;&#28783;&#29255; 2" TargetMode="External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WordArt 2"/>
          <p:cNvSpPr txBox="1"/>
          <p:nvPr/>
        </p:nvSpPr>
        <p:spPr>
          <a:xfrm>
            <a:off x="619200" y="1917720"/>
            <a:ext cx="719280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彩色的非洲语文</a:t>
            </a: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0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模板免费下载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1835280" y="765000"/>
            <a:ext cx="54734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义务教育课程标准实验教科书五年级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矩形 25"/>
          <p:cNvSpPr/>
          <p:nvPr/>
        </p:nvSpPr>
        <p:spPr>
          <a:xfrm>
            <a:off x="3036960" y="3897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3203640" y="1052640"/>
            <a:ext cx="1873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WordArt 3"/>
          <p:cNvSpPr txBox="1"/>
          <p:nvPr/>
        </p:nvSpPr>
        <p:spPr>
          <a:xfrm>
            <a:off x="2987640" y="549360"/>
            <a:ext cx="136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目录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539640" y="1628640"/>
            <a:ext cx="237672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看拼音写词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468360" y="2565360"/>
            <a:ext cx="223200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欣赏句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08000" y="3645000"/>
            <a:ext cx="21621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课后充一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7" descr="u=3809654887,2614551528&amp;fm=0&amp;gp=48"/>
          <p:cNvPicPr/>
          <p:nvPr/>
        </p:nvPicPr>
        <p:blipFill>
          <a:blip r:embed="rId6"/>
          <a:stretch/>
        </p:blipFill>
        <p:spPr>
          <a:xfrm>
            <a:off x="2268360" y="3573360"/>
            <a:ext cx="2995920" cy="2073240"/>
          </a:xfrm>
          <a:prstGeom prst="rect">
            <a:avLst/>
          </a:prstGeom>
          <a:ln w="0">
            <a:noFill/>
          </a:ln>
        </p:spPr>
      </p:pic>
      <p:sp>
        <p:nvSpPr>
          <p:cNvPr id="556" name="WordArt 8"/>
          <p:cNvSpPr txBox="1"/>
          <p:nvPr/>
        </p:nvSpPr>
        <p:spPr>
          <a:xfrm>
            <a:off x="2916360" y="1557360"/>
            <a:ext cx="457200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欢迎来到我们非洲王国</a:t>
            </a:r>
            <a:endParaRPr b="1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57" name="未知" descr=""/>
          <p:cNvPicPr/>
          <p:nvPr/>
        </p:nvPicPr>
        <p:blipFill>
          <a:blip r:embed="rId7"/>
          <a:stretch/>
        </p:blipFill>
        <p:spPr>
          <a:xfrm>
            <a:off x="1916280" y="3618000"/>
            <a:ext cx="187200" cy="1976400"/>
          </a:xfrm>
          <a:prstGeom prst="rect">
            <a:avLst/>
          </a:prstGeom>
          <a:ln w="0">
            <a:noFill/>
          </a:ln>
        </p:spPr>
      </p:pic>
      <p:pic>
        <p:nvPicPr>
          <p:cNvPr id="558" name="未知" descr=""/>
          <p:cNvPicPr/>
          <p:nvPr/>
        </p:nvPicPr>
        <p:blipFill>
          <a:blip r:embed="rId8"/>
          <a:stretch/>
        </p:blipFill>
        <p:spPr>
          <a:xfrm>
            <a:off x="2222640" y="5665680"/>
            <a:ext cx="3108240" cy="176400"/>
          </a:xfrm>
          <a:prstGeom prst="rect">
            <a:avLst/>
          </a:prstGeom>
          <a:ln w="0">
            <a:noFill/>
          </a:ln>
        </p:spPr>
      </p:pic>
      <p:pic>
        <p:nvPicPr>
          <p:cNvPr id="559" name="未知" descr=""/>
          <p:cNvPicPr/>
          <p:nvPr/>
        </p:nvPicPr>
        <p:blipFill>
          <a:blip r:embed="rId9"/>
          <a:stretch/>
        </p:blipFill>
        <p:spPr>
          <a:xfrm>
            <a:off x="5413320" y="3537000"/>
            <a:ext cx="233280" cy="2184480"/>
          </a:xfrm>
          <a:prstGeom prst="rect">
            <a:avLst/>
          </a:prstGeom>
          <a:ln w="0">
            <a:noFill/>
          </a:ln>
        </p:spPr>
      </p:pic>
      <p:pic>
        <p:nvPicPr>
          <p:cNvPr id="560" name="未知" descr=""/>
          <p:cNvPicPr/>
          <p:nvPr/>
        </p:nvPicPr>
        <p:blipFill>
          <a:blip r:embed="rId10"/>
          <a:stretch/>
        </p:blipFill>
        <p:spPr>
          <a:xfrm>
            <a:off x="2246400" y="3197160"/>
            <a:ext cx="3004920" cy="163440"/>
          </a:xfrm>
          <a:prstGeom prst="rect">
            <a:avLst/>
          </a:prstGeom>
          <a:ln w="0">
            <a:noFill/>
          </a:ln>
        </p:spPr>
      </p:pic>
      <p:pic>
        <p:nvPicPr>
          <p:cNvPr id="561" name="未知" descr=""/>
          <p:cNvPicPr/>
          <p:nvPr/>
        </p:nvPicPr>
        <p:blipFill>
          <a:blip r:embed="rId11"/>
          <a:stretch/>
        </p:blipFill>
        <p:spPr>
          <a:xfrm>
            <a:off x="1160640" y="4892760"/>
            <a:ext cx="261720" cy="914400"/>
          </a:xfrm>
          <a:prstGeom prst="rect">
            <a:avLst/>
          </a:prstGeom>
          <a:ln w="0">
            <a:noFill/>
          </a:ln>
        </p:spPr>
      </p:pic>
      <p:pic>
        <p:nvPicPr>
          <p:cNvPr id="562" name="未知" descr=""/>
          <p:cNvPicPr/>
          <p:nvPr/>
        </p:nvPicPr>
        <p:blipFill>
          <a:blip r:embed="rId12"/>
          <a:stretch/>
        </p:blipFill>
        <p:spPr>
          <a:xfrm>
            <a:off x="1308240" y="4765680"/>
            <a:ext cx="69840" cy="824040"/>
          </a:xfrm>
          <a:prstGeom prst="rect">
            <a:avLst/>
          </a:prstGeom>
          <a:ln w="0">
            <a:noFill/>
          </a:ln>
        </p:spPr>
      </p:pic>
      <p:pic>
        <p:nvPicPr>
          <p:cNvPr id="563" name="未知" descr=""/>
          <p:cNvPicPr/>
          <p:nvPr/>
        </p:nvPicPr>
        <p:blipFill>
          <a:blip r:embed="rId13"/>
          <a:stretch/>
        </p:blipFill>
        <p:spPr>
          <a:xfrm>
            <a:off x="140652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564" name="未知" descr=""/>
          <p:cNvPicPr/>
          <p:nvPr/>
        </p:nvPicPr>
        <p:blipFill>
          <a:blip r:embed="rId14"/>
          <a:stretch/>
        </p:blipFill>
        <p:spPr>
          <a:xfrm>
            <a:off x="0" y="4537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565" name="未知" descr=""/>
          <p:cNvPicPr/>
          <p:nvPr/>
        </p:nvPicPr>
        <p:blipFill>
          <a:blip r:embed="rId15"/>
          <a:stretch/>
        </p:blipFill>
        <p:spPr>
          <a:xfrm>
            <a:off x="1353960" y="4149720"/>
            <a:ext cx="81000" cy="501480"/>
          </a:xfrm>
          <a:prstGeom prst="rect">
            <a:avLst/>
          </a:prstGeom>
          <a:ln w="0">
            <a:noFill/>
          </a:ln>
        </p:spPr>
      </p:pic>
      <p:pic>
        <p:nvPicPr>
          <p:cNvPr id="566" name="未知" descr=""/>
          <p:cNvPicPr/>
          <p:nvPr/>
        </p:nvPicPr>
        <p:blipFill>
          <a:blip r:embed="rId16"/>
          <a:stretch/>
        </p:blipFill>
        <p:spPr>
          <a:xfrm>
            <a:off x="0" y="27543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567" name="未知" descr=""/>
          <p:cNvPicPr/>
          <p:nvPr/>
        </p:nvPicPr>
        <p:blipFill>
          <a:blip r:embed="rId17"/>
          <a:stretch/>
        </p:blipFill>
        <p:spPr>
          <a:xfrm>
            <a:off x="0" y="64008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568" name="未知" descr=""/>
          <p:cNvPicPr/>
          <p:nvPr/>
        </p:nvPicPr>
        <p:blipFill>
          <a:blip r:embed="rId18"/>
          <a:stretch/>
        </p:blipFill>
        <p:spPr>
          <a:xfrm>
            <a:off x="6315120" y="4422600"/>
            <a:ext cx="296640" cy="37800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21"/>
          <p:cNvSpPr/>
          <p:nvPr/>
        </p:nvSpPr>
        <p:spPr>
          <a:xfrm>
            <a:off x="539640" y="2133720"/>
            <a:ext cx="201636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9"/>
              </a:rPr>
              <a:t>课文导入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2"/>
          <p:cNvSpPr/>
          <p:nvPr/>
        </p:nvSpPr>
        <p:spPr>
          <a:xfrm>
            <a:off x="466560" y="3139920"/>
            <a:ext cx="1308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0"/>
              </a:rPr>
              <a:t>练一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页脚占位符 2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"/>
          <p:cNvSpPr/>
          <p:nvPr/>
        </p:nvSpPr>
        <p:spPr>
          <a:xfrm>
            <a:off x="1187280" y="2852640"/>
            <a:ext cx="7993080" cy="11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8854de"/>
                </a:solidFill>
                <a:latin typeface="Arial"/>
                <a:ea typeface="宋体"/>
              </a:rPr>
              <a:t>在这个色彩斑斓的世界里，你最感兴趣是非洲的自然景观、日常生活还是非洲的艺术呢？选择你自己喜欢的阅读方式认认真真地读一读你最感兴趣的内容</a:t>
            </a:r>
            <a:r>
              <a:rPr b="0" lang="en-US" sz="3400" spc="-1" strike="noStrike">
                <a:solidFill>
                  <a:srgbClr val="8854de"/>
                </a:solidFill>
                <a:latin typeface="Arial"/>
              </a:rPr>
              <a:t>,</a:t>
            </a:r>
            <a:r>
              <a:rPr b="0" lang="zh-CN" sz="3400" spc="-1" strike="noStrike">
                <a:solidFill>
                  <a:srgbClr val="8854de"/>
                </a:solidFill>
                <a:latin typeface="Arial"/>
                <a:ea typeface="宋体"/>
              </a:rPr>
              <a:t>再仔细体会体会你最喜欢的句子的含义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WordArt 3"/>
          <p:cNvSpPr txBox="1"/>
          <p:nvPr/>
        </p:nvSpPr>
        <p:spPr>
          <a:xfrm>
            <a:off x="3348000" y="1270080"/>
            <a:ext cx="252108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宋体"/>
              </a:rPr>
              <a:t>课文导入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762120" y="6083280"/>
            <a:ext cx="17938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1476360" y="5734080"/>
            <a:ext cx="211140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 u="sng">
                <a:solidFill>
                  <a:srgbClr val="9a7f32"/>
                </a:solidFill>
                <a:uFillTx/>
                <a:latin typeface="Arial"/>
                <a:ea typeface="宋体"/>
                <a:hlinkClick r:id="rId1"/>
              </a:rPr>
              <a:t>返回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6"/>
          <p:cNvSpPr/>
          <p:nvPr/>
        </p:nvSpPr>
        <p:spPr>
          <a:xfrm>
            <a:off x="2340000" y="5877000"/>
            <a:ext cx="936720" cy="288720"/>
          </a:xfrm>
          <a:custGeom>
            <a:avLst/>
            <a:gdLst>
              <a:gd name="textAreaLeft" fmla="*/ 163800 w 936720"/>
              <a:gd name="textAreaRight" fmla="*/ 679320 w 93672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443"/>
                <a:lnTo>
                  <a:pt x="21168" y="7197"/>
                </a:lnTo>
                <a:lnTo>
                  <a:pt x="17280" y="0"/>
                </a:lnTo>
                <a:lnTo>
                  <a:pt x="12528" y="7197"/>
                </a:lnTo>
                <a:lnTo>
                  <a:pt x="14688" y="7197"/>
                </a:lnTo>
                <a:arcTo wR="7560" hR="21600" stAng="2716557" swAng="2326008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7569 0.023426 C -0.346736 0.027855 -0.343819 0.047778 -0.342569 0.05 C -0.341319 0.052222 -0.340486 0.043395 -0.340069 0.036759 C -0.339653 0.030123 -0.340069 0.017932 -0.340069 0.010185 C -0.340069 0.002438 -0.339653 -0.002516 -0.340069 -0.009722 C -0.340486 -0.016929 -0.341319 -0.025293 -0.342569 -0.033056 C -0.343819 -0.040818 -0.346736 -0.047438 -0.347569 -0.056296 C -0.348403 -0.065155 -0.347153 -0.077901 -0.347569 -0.086204 C -0.347986 -0.094506 -0.349653 -0.097253 -0.350069 -0.106111 C -0.350486 -0.114969 -0.350486 -0.131605 -0.350069 -0.139352 C -0.349653 -0.147099 -0.350058 -0.147608 -0.347569 -0.152593 C -0.345081 -0.157577 -0.339294 -0.163719 -0.335139 -0.169259 C -0.330984 -0.1748 -0.335104 -0.17642 -0.322639 -0.185834 C -0.310174 -0.195247 -0.272384 -0.21909 -0.260347 -0.225741 C -0.24831 -0.232392 -0.255394 -0.225741 -0.250417 -0.225741 C -0.24544 -0.225741 -0.235475 -0.227408 -0.230486 -0.225741 C -0.225498 -0.224074 -0.225058 -0.221281 -0.220486 -0.215741 C -0.215914 -0.210201 -0.208449 -0.198596 -0.203056 -0.1925 C -0.197662 -0.186405 -0.193113 -0.186914 -0.188125 -0.179167 C -0.183137 -0.17142 -0.178113 -0.155432 -0.173125 -0.146019 C -0.168137 -0.136605 -0.163588 -0.132099 -0.158194 -0.122685 C -0.152801 -0.113272 -0.145741 -0.098951 -0.140764 -0.089537 C -0.135787 -0.080124 -0.132905 -0.074522 -0.128333 -0.066204 C -0.123762 -0.057886 -0.117072 -0.047932 -0.113333 -0.03963 C -0.109595 -0.031327 -0.107975 -0.024692 -0.105903 -0.016389 C -0.103831 -0.008087 -0.102153 0.004105 -0.100903 0.010185 C -0.099653 0.016265 -0.098819 0.016219 -0.098403 0.020092 C -0.097986 0.023966 -0.098403 0.029537 -0.098403 0.033426 C -0.098403 0.037315 -0.097569 0.038997 -0.098403 0.043426 C -0.099236 0.047855 -0.101331 0.056126 -0.103403 0.06 C -0.105475 0.063873 -0.108345 0.063904 -0.110833 0.066666 C -0.113322 0.069429 -0.115833 0.074367 -0.118333 0.076574 C -0.120833 0.078781 -0.122512 0.078241 -0.125833 0.079907 C -0.129155 0.081574 -0.134109 0.085463 -0.138264 0.086574 C -0.142419 0.087685 -0.147442 0.086574 -0.150764 0.086574 C -0.154086 0.086574 -0.153218 0.087685 -0.158194 0.086574 C -0.163171 0.085463 -0.172731 0.084336 -0.180625 0.079907 C -0.188519 0.075478 -0.197245 0.064984 -0.205556 0.06 C -0.213866 0.055015 -0.223426 0.054429 -0.230486 0.05 C -0.237546 0.045571 -0.24294 0.039506 -0.247917 0.033426 C -0.252894 0.027345 -0.256609 0.02017 -0.260347 0.013518 C -0.264086 0.006867 -0.268681 -0.001497 -0.270347 -0.006482 C -0.272014 -0.011466 -0.270347 -0.013071 -0.270347 -0.016389 C -0.270347 -0.019707 -0.271181 -0.023056 -0.270347 -0.026389 C -0.269514 -0.029722 -0.268252 -0.031405 -0.265347 -0.036389 C -0.262442 -0.041374 -0.257905 -0.049661 -0.252917 -0.056296 C -0.247928 -0.062932 -0.241238 -0.070124 -0.235417 -0.076204 C -0.229595 -0.082284 -0.222963 -0.087793 -0.217986 -0.092778 C -0.213009 -0.097763 -0.210116 -0.101667 -0.205556 -0.106111 C -0.200995 -0.110556 -0.195197 -0.11446 -0.190625 -0.119445 C -0.186053 -0.124429 -0.18228 -0.132145 -0.178125 -0.136019 C -0.17397 -0.139892 -0.170671 -0.139367 -0.165694 -0.142685 C -0.160718 -0.146003 -0.152419 -0.153164 -0.148264 -0.155926 C -0.144109 -0.158688 -0.144919 -0.156482 -0.140764 -0.159259 C -0.136609 -0.162037 -0.128322 -0.169275 -0.123333 -0.172593 C -0.118345 -0.175911 -0.11706 -0.17696 -0.110833 -0.179167 C -0.104606 -0.181374 -0.093438 -0.184167 -0.085972 -0.185834 C -0.078507 -0.1875 -0.07228 -0.188611 -0.066042 -0.189167 C -0.059803 -0.189722 -0.053113 -0.189167 -0.048542 -0.189167 C -0.04397 -0.189167 -0.043588 -0.189722 -0.038611 -0.189167 C -0.033634 -0.188611 -0.029896 -0.191374 -0.018681 -0.185834 C -0.007465 -0.180293 0.016632 -0.163673 0.028681 -0.155926 C 0.040729 -0.148179 0.046551 -0.144892 0.053611 -0.139352 C 0.060671 -0.133812 0.066065 -0.126559 0.071042 -0.122685 C 0.076018 -0.118812 0.078495 -0.12054 0.083472 -0.116111 C 0.088449 -0.111682 0.096748 -0.10054 0.100903 -0.096111 C 0.105058 -0.091682 0.105903 -0.093411 0.108403 -0.089537 C 0.110903 -0.085664 0.113831 -0.077855 0.115903 -0.072871 C 0.117975 -0.067886 0.119595 -0.063503 0.120833 -0.05963 C 0.122072 -0.055756 0.121667 -0.054614 0.123333 -0.04963 C 0.125 -0.044645 0.12875 -0.034707 0.130833 -0.029722 C 0.132917 -0.024738 0.134583 -0.025263 0.135833 -0.019722 C 0.137083 -0.014182 0.137095 -0.002022 0.138333 0.003518 C 0.139572 0.009058 0.141609 0.008534 0.143264 0.013518 C 0.144919 0.018503 0.14743 0.027345 0.148264 0.033426 C 0.149097 0.039506 0.148264 0.043904 0.148264 0.05 C 0.148264 0.056095 0.148681 0.062793 0.148264 0.07 C 0.147847 0.077207 0.147836 0.088812 0.145764 0.093241 C 0.143692 0.09767 0.139155 0.096018 0.135833 0.096574 C 0.132512 0.097129 0.128738 0.096574 0.125833 0.096574 C 0.122928 0.096574 0.121308 0.097685 0.118403 0.096574 C 0.115498 0.095463 0.111319 0.091574 0.108403 0.089907 C 0.105486 0.088241 0.103808 0.088241 0.100903 0.086574 C 0.097998 0.084907 0.093877 0.081574 0.090972 0.079907 C 0.088067 0.078241 0.087211 0.078225 0.083472 0.076574 C 0.079734 0.074923 0.07228 0.072207 0.068542 0.07 C 0.064803 0.067793 0.06353 0.065 0.061042 0.063333 C 0.058553 0.061666 0.055683 0.062222 0.053611 0.06 C 0.051539 0.057778 0.049861 0.053318 0.048611 0.05 C 0.047361 0.046682 0.048194 0.042855 0.046111 0.040092 C 0.044028 0.03733 0.039016 0.035648 0.036111 0.033426 C 0.033206 0.031203 0.031169 0.028981 0.028681 0.026759 C 0.026192 0.024537 0.024086 0.022855 0.021181 0.020092 C 0.018275 0.01733 0.013738 0.013503 0.01125 0.010185 C 0.008762 0.006867 0.007083 0.001852 0.00625 0.000185 E">
                                      <p:cBhvr>
                                        <p:cTn id="40" dur="10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"/>
          <p:cNvSpPr/>
          <p:nvPr/>
        </p:nvSpPr>
        <p:spPr>
          <a:xfrm>
            <a:off x="1587600" y="1320840"/>
            <a:ext cx="71611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2556000" y="692280"/>
            <a:ext cx="4176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3300"/>
                </a:solidFill>
                <a:latin typeface="Arial"/>
                <a:ea typeface="宋体"/>
              </a:rPr>
              <a:t>请正确拼出下面的词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684360" y="2133720"/>
            <a:ext cx="244764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（                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971640" y="1484280"/>
            <a:ext cx="215892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99"/>
                </a:solidFill>
                <a:latin typeface="Arial"/>
              </a:rPr>
              <a:t>s</a:t>
            </a:r>
            <a:r>
              <a:rPr b="0" lang="zh-CN" sz="2200" spc="-1" strike="noStrike">
                <a:solidFill>
                  <a:srgbClr val="990099"/>
                </a:solidFill>
                <a:latin typeface="Arial"/>
                <a:ea typeface="宋体"/>
              </a:rPr>
              <a:t>è cài bān lá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3348000" y="2133720"/>
            <a:ext cx="266544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                   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7"/>
          <p:cNvSpPr/>
          <p:nvPr/>
        </p:nvSpPr>
        <p:spPr>
          <a:xfrm>
            <a:off x="3276720" y="1557360"/>
            <a:ext cx="187164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zh-CN" sz="2000" spc="-1" strike="noStrike">
                <a:solidFill>
                  <a:srgbClr val="990099"/>
                </a:solidFill>
                <a:latin typeface="Arial"/>
                <a:ea typeface="宋体"/>
              </a:rPr>
              <a:t>iāo  yá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8"/>
          <p:cNvSpPr/>
          <p:nvPr/>
        </p:nvSpPr>
        <p:spPr>
          <a:xfrm>
            <a:off x="5796000" y="2133720"/>
            <a:ext cx="172872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              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9"/>
          <p:cNvSpPr/>
          <p:nvPr/>
        </p:nvSpPr>
        <p:spPr>
          <a:xfrm>
            <a:off x="5867280" y="1484280"/>
            <a:ext cx="151308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t</a:t>
            </a:r>
            <a:r>
              <a:rPr b="0" lang="zh-CN" sz="2000" spc="-1" strike="noStrike">
                <a:solidFill>
                  <a:srgbClr val="990099"/>
                </a:solidFill>
                <a:latin typeface="Arial"/>
                <a:ea typeface="宋体"/>
              </a:rPr>
              <a:t>iān qió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0"/>
          <p:cNvSpPr/>
          <p:nvPr/>
        </p:nvSpPr>
        <p:spPr>
          <a:xfrm>
            <a:off x="1042920" y="4292640"/>
            <a:ext cx="194328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                  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1"/>
          <p:cNvSpPr/>
          <p:nvPr/>
        </p:nvSpPr>
        <p:spPr>
          <a:xfrm>
            <a:off x="1187280" y="3860640"/>
            <a:ext cx="158436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99"/>
                </a:solidFill>
                <a:latin typeface="Arial"/>
                <a:ea typeface="宋体"/>
              </a:rPr>
              <a:t>   </a:t>
            </a: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shuò d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2"/>
          <p:cNvSpPr/>
          <p:nvPr/>
        </p:nvSpPr>
        <p:spPr>
          <a:xfrm>
            <a:off x="3276720" y="4508640"/>
            <a:ext cx="244620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                      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3"/>
          <p:cNvSpPr/>
          <p:nvPr/>
        </p:nvSpPr>
        <p:spPr>
          <a:xfrm>
            <a:off x="3203640" y="3933720"/>
            <a:ext cx="237492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h</a:t>
            </a:r>
            <a:r>
              <a:rPr b="0" lang="zh-CN" sz="2000" spc="-1" strike="noStrike">
                <a:solidFill>
                  <a:srgbClr val="990099"/>
                </a:solidFill>
                <a:latin typeface="Arial"/>
                <a:ea typeface="宋体"/>
              </a:rPr>
              <a:t>án qíng mòm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6227640" y="4437000"/>
            <a:ext cx="165744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            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5"/>
          <p:cNvSpPr/>
          <p:nvPr/>
        </p:nvSpPr>
        <p:spPr>
          <a:xfrm>
            <a:off x="6372360" y="4005360"/>
            <a:ext cx="136836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jù</a:t>
            </a:r>
            <a:r>
              <a:rPr b="0" lang="zh-CN" sz="2000" spc="-1" strike="noStrike">
                <a:solidFill>
                  <a:srgbClr val="990099"/>
                </a:solidFill>
                <a:latin typeface="Arial"/>
                <a:ea typeface="宋体"/>
              </a:rPr>
              <a:t> mǎ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6"/>
          <p:cNvSpPr/>
          <p:nvPr/>
        </p:nvSpPr>
        <p:spPr>
          <a:xfrm>
            <a:off x="1332000" y="5445000"/>
            <a:ext cx="14414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返回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17"/>
          <p:cNvSpPr/>
          <p:nvPr/>
        </p:nvSpPr>
        <p:spPr>
          <a:xfrm>
            <a:off x="2340000" y="5516640"/>
            <a:ext cx="863640" cy="433440"/>
          </a:xfrm>
          <a:custGeom>
            <a:avLst/>
            <a:gdLst>
              <a:gd name="textAreaLeft" fmla="*/ 151200 w 863640"/>
              <a:gd name="textAreaRight" fmla="*/ 626400 w 86364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443"/>
                <a:lnTo>
                  <a:pt x="21168" y="7197"/>
                </a:lnTo>
                <a:lnTo>
                  <a:pt x="17280" y="0"/>
                </a:lnTo>
                <a:lnTo>
                  <a:pt x="12528" y="7197"/>
                </a:lnTo>
                <a:lnTo>
                  <a:pt x="14688" y="7197"/>
                </a:lnTo>
                <a:arcTo wR="7560" hR="21600" stAng="2716557" swAng="2326008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文本框 8199"/>
          <p:cNvSpPr/>
          <p:nvPr/>
        </p:nvSpPr>
        <p:spPr>
          <a:xfrm>
            <a:off x="1187280" y="3068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 Rounded MT Bold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 Rounded MT Bold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6667 0.013241 C -0.152812 0.022099 0.307731 0.055864 0.316458 0.066389 C 0.325185 0.076914 -0.118727 0.083025 -0.194306 0.076389 C -0.269884 0.069753 -0.155278 0.031559 -0.137014 0.026574 C -0.11875 0.021589 -0.117523 0.043719 -0.084722 0.046481 C -0.051921 0.049244 0.008704 0.046466 0.059792 0.043148 C 0.11088 0.03983 0.194398 0.029892 0.221806 0.026574 C 0.249213 0.023256 0.223831 0.023796 0.224236 0.023241 C 0.224641 0.022685 0.223819 0.018812 0.224236 0.023241 C 0.224653 0.02767 0.264109 0.053688 0.226736 0.049815 C 0.189363 0.045941 0.037789 0.008302 0 0 C -0.037789 -0.008302 0 0 0 0 E">
                                      <p:cBhvr>
                                        <p:cTn id="53" dur="1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2"/>
          <p:cNvSpPr/>
          <p:nvPr/>
        </p:nvSpPr>
        <p:spPr>
          <a:xfrm>
            <a:off x="1792440" y="3600360"/>
            <a:ext cx="22748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539640" y="836640"/>
            <a:ext cx="7777440" cy="31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3300"/>
                </a:solidFill>
                <a:latin typeface="Arial"/>
                <a:ea typeface="宋体"/>
              </a:rPr>
              <a:t>蓝天、骄阳、绿树、红土、鲜花，以及皮肤油黑发亮的非洲人，构成了七彩的非洲！</a:t>
            </a:r>
            <a:br>
              <a:rPr sz="2200"/>
            </a:br>
            <a:r>
              <a:rPr b="0" lang="zh-CN" sz="2200" spc="-1" strike="noStrike">
                <a:solidFill>
                  <a:srgbClr val="ff3300"/>
                </a:solidFill>
                <a:latin typeface="Arial"/>
                <a:ea typeface="宋体"/>
              </a:rPr>
              <a:t>　　金灿灿的阳光，映照得天空格外的蓝，好似透明的蓝宝石。</a:t>
            </a:r>
            <a:br>
              <a:rPr sz="2200"/>
            </a:br>
            <a:r>
              <a:rPr b="0" lang="zh-CN" sz="2200" spc="-1" strike="noStrike">
                <a:solidFill>
                  <a:srgbClr val="ff3300"/>
                </a:solidFill>
                <a:latin typeface="Arial"/>
                <a:ea typeface="宋体"/>
              </a:rPr>
              <a:t>　　充沛的阳光和雨水，使得除了沙漠之外的非洲大地，繁花似锦，绿海荡波，满眼是　</a:t>
            </a:r>
            <a:br>
              <a:rPr sz="2200"/>
            </a:br>
            <a:r>
              <a:rPr b="0" lang="zh-CN" sz="2200" spc="-1" strike="noStrike">
                <a:solidFill>
                  <a:srgbClr val="ff3300"/>
                </a:solidFill>
                <a:latin typeface="Arial"/>
                <a:ea typeface="宋体"/>
              </a:rPr>
              <a:t>　　绿色，处处是花海。</a:t>
            </a:r>
            <a:br>
              <a:rPr sz="2200"/>
            </a:br>
            <a:r>
              <a:rPr b="0" lang="zh-CN" sz="2200" spc="-1" strike="noStrike">
                <a:solidFill>
                  <a:srgbClr val="ff3300"/>
                </a:solidFill>
                <a:latin typeface="Arial"/>
                <a:ea typeface="宋体"/>
              </a:rPr>
              <a:t>　　到了开花季节，一条条街道，都成了彩色的长河。</a:t>
            </a:r>
            <a:br>
              <a:rPr sz="2200"/>
            </a:br>
            <a:r>
              <a:rPr b="0" lang="zh-CN" sz="2200" spc="-1" strike="noStrike">
                <a:solidFill>
                  <a:srgbClr val="ff3300"/>
                </a:solidFill>
                <a:latin typeface="Arial"/>
                <a:ea typeface="宋体"/>
              </a:rPr>
              <a:t>　　其颜色不仅有赤橙黄绿青蓝紫，而且在不断地变幻着，交织着，渗透着，辉映着，　　</a:t>
            </a:r>
            <a:br>
              <a:rPr sz="2200"/>
            </a:br>
            <a:r>
              <a:rPr b="0" lang="zh-CN" sz="2200" spc="-1" strike="noStrike">
                <a:solidFill>
                  <a:srgbClr val="ff3300"/>
                </a:solidFill>
                <a:latin typeface="Arial"/>
                <a:ea typeface="宋体"/>
              </a:rPr>
              <a:t>　　令你目不暇接，不住地发出赞叹。</a:t>
            </a:r>
            <a:br>
              <a:rPr sz="2200"/>
            </a:br>
            <a:r>
              <a:rPr b="0" lang="zh-CN" sz="2200" spc="-1" strike="noStrike">
                <a:solidFill>
                  <a:srgbClr val="ff3300"/>
                </a:solidFill>
                <a:latin typeface="Arial"/>
                <a:ea typeface="宋体"/>
              </a:rPr>
              <a:t>　　置身这座宾馆，仿佛回到了大自然的怀抱，沉醉在一种古朴、悠远的境界之中。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4"/>
          <p:cNvSpPr/>
          <p:nvPr/>
        </p:nvSpPr>
        <p:spPr>
          <a:xfrm>
            <a:off x="4572000" y="6093000"/>
            <a:ext cx="122400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返回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5651640" y="6021360"/>
            <a:ext cx="722160" cy="432000"/>
          </a:xfrm>
          <a:custGeom>
            <a:avLst/>
            <a:gdLst>
              <a:gd name="textAreaLeft" fmla="*/ 126360 w 722160"/>
              <a:gd name="textAreaRight" fmla="*/ 523800 w 72216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443"/>
                <a:lnTo>
                  <a:pt x="21168" y="7197"/>
                </a:lnTo>
                <a:lnTo>
                  <a:pt x="17280" y="0"/>
                </a:lnTo>
                <a:lnTo>
                  <a:pt x="12528" y="7197"/>
                </a:lnTo>
                <a:lnTo>
                  <a:pt x="14688" y="7197"/>
                </a:lnTo>
                <a:arcTo wR="7560" hR="21600" stAng="2716557" swAng="2326008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WordArt 6"/>
          <p:cNvSpPr txBox="1"/>
          <p:nvPr/>
        </p:nvSpPr>
        <p:spPr>
          <a:xfrm>
            <a:off x="2124000" y="44280"/>
            <a:ext cx="36576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请欣赏下面的句子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01" name="文本框 8199"/>
          <p:cNvSpPr/>
          <p:nvPr/>
        </p:nvSpPr>
        <p:spPr>
          <a:xfrm>
            <a:off x="1835280" y="5013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dur="indefinite" nodeType="after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67 L 0.108 0.08267 L 0.072 0.16667 L 0.108 0.24933 L 0.036 0.24933 L 0 0.33333 L -0.036 0.24933 L -0.108 0.24933 L -0.072 0.16667 L -0.108 0.08267 L -0.036 0.08267 L 0 0 Z">
                                      <p:cBhvr>
                                        <p:cTn id="63" dur="1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WordArt 2"/>
          <p:cNvSpPr txBox="1"/>
          <p:nvPr/>
        </p:nvSpPr>
        <p:spPr>
          <a:xfrm>
            <a:off x="3133800" y="981000"/>
            <a:ext cx="208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练一练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1677960" y="1846440"/>
            <a:ext cx="642456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1692360" y="2349360"/>
            <a:ext cx="583236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buClr>
                <a:srgbClr val="6600ff"/>
              </a:buClr>
              <a:buFont typeface="Mangal"/>
              <a:buChar char="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6600ff"/>
                </a:solidFill>
                <a:latin typeface="Arial"/>
                <a:ea typeface="宋体"/>
              </a:rPr>
              <a:t>非洲的色彩体现在哪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5"/>
          <p:cNvSpPr/>
          <p:nvPr/>
        </p:nvSpPr>
        <p:spPr>
          <a:xfrm>
            <a:off x="1835280" y="3860640"/>
            <a:ext cx="49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ff"/>
              </a:buClr>
              <a:buFont typeface="Monotype Corsiva"/>
              <a:buChar char="&amp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宋体"/>
              </a:rPr>
              <a:t>本文分为几个大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667 -0.043148 C -0.23625 -0.041497 -0.235405 -0.037114 -0.234167 -0.033241 C -0.232928 -0.029367 -0.231308 -0.024336 -0.229236 -0.019907 C -0.227164 -0.015478 -0.222986 -0.01054 -0.221736 -0.006667 C -0.220486 -0.002793 -0.222569 0 -0.221736 0.003333 C -0.220903 0.006667 -0.218403 0.010015 -0.216736 0.013333 C -0.215069 0.016651 -0.214225 0.020478 -0.211736 0.023241 C -0.209248 0.026003 -0.204711 0.027685 -0.201806 0.029907 C -0.1989 0.03213 -0.196794 0.033812 -0.194306 0.036574 C -0.191817 0.039336 -0.190197 0.043164 -0.186875 0.046481 C -0.183553 0.049799 -0.178113 0.053148 -0.174375 0.056481 C -0.170637 0.059815 -0.168183 0.063704 -0.164444 0.066481 C -0.160706 0.069259 -0.155266 0.071497 -0.151944 0.073148 C -0.148623 0.074799 -0.147419 0.075293 -0.144514 0.076389 C -0.141609 0.077485 -0.137836 0.079167 -0.134514 0.079722 C -0.131192 0.080278 -0.127488 0.080278 -0.124583 0.079722 C -0.121678 0.079167 -0.119583 0.077485 -0.117083 0.076389 C -0.114583 0.075293 -0.113322 0.076466 -0.109583 0.073148 C -0.105845 0.06983 -0.098391 0.060926 -0.094653 0.056481 C -0.090914 0.052037 -0.088819 0.049799 -0.087153 0.046481 C -0.085486 0.043164 -0.083403 0.039336 -0.084653 0.036574 C -0.085903 0.033812 -0.091319 0.031574 -0.094653 0.029907 C -0.097986 0.028241 -0.102164 0.025463 -0.104653 0.026574 C -0.107141 0.027685 -0.108345 0.033256 -0.109583 0.036574 C -0.110822 0.039892 -0.112083 0.043164 -0.112083 0.046481 C -0.112083 0.049799 -0.110822 0.053148 -0.109583 0.056481 C -0.108345 0.059815 -0.107975 0.062608 -0.104653 0.066481 C -0.101331 0.070355 -0.093391 0.076404 -0.089653 0.079722 C -0.085914 0.08304 -0.084711 0.084167 -0.082222 0.086389 C -0.079734 0.088611 -0.077639 0.091944 -0.074722 0.093056 C -0.071806 0.094167 -0.068044 0.093056 -0.064722 0.093056 C -0.0614 0.093056 -0.058113 0.093611 -0.054792 0.093056 C -0.05147 0.0925 -0.048113 0.090278 -0.044792 0.089722 C -0.04147 0.089167 -0.039421 0.090278 -0.034861 0.089722 C -0.030301 0.089167 -0.020336 0.088611 -0.017431 0.086389 C -0.014525 0.084167 -0.017431 0.079707 -0.017431 0.076389 C -0.017431 0.073071 -0.017431 0.069799 -0.017431 0.066481 C -0.017431 0.063164 -0.016192 0.058704 -0.017431 0.056481 C -0.018669 0.054259 -0.022373 0.053704 -0.024861 0.053148 C -0.02735 0.052593 -0.031111 0.051481 -0.032361 0.053148 C -0.033611 0.054815 -0.031944 0.059815 -0.032361 0.063148 C -0.032778 0.066481 -0.034444 0.06983 -0.034861 0.073148 C -0.035278 0.076466 -0.036528 0.079738 -0.034861 0.083056 C -0.033194 0.086373 -0.028183 0.090833 -0.024861 0.093056 C -0.021539 0.095278 -0.018669 0.095278 -0.014931 0.096389 C -0.011192 0.0975 -0.005752 0.099167 -0.002431 0.099722 C 0.000891 0.100278 0.001678 0.099722 0.005 0.099722 C 0.008322 0.099722 0.012928 0.099722 0.0175 0.099722 C 0.022072 0.099722 0.028287 0.100278 0.032431 0.099722 C 0.036574 0.099167 0.039456 0.099167 0.042361 0.096389 C 0.045266 0.093611 0.047361 0.086389 0.049861 0.083056 C 0.052361 0.079722 0.054873 0.078596 0.057361 0.076389 C 0.05985 0.074182 0.063137 0.072577 0.064792 0.069815 C 0.066447 0.067052 0.066458 0.063148 0.067292 0.059815 C 0.068125 0.056481 0.068958 0.053688 0.069792 0.049815 C 0.070625 0.045941 0.072708 0.040448 0.072292 0.036574 C 0.071875 0.032701 0.069363 0.028796 0.067292 0.026574 C 0.06522 0.024352 0.06235 0.025448 0.059861 0.023241 C 0.057373 0.021034 0.054861 0.014985 0.052361 0.013333 C 0.049861 0.011682 0.04735 0.013889 0.044861 0.013333 C 0.042373 0.012778 0.039919 0.011667 0.037431 0.01 C 0.034942 0.008333 0.032431 0.005 0.029931 0.003333 C 0.02743 0.001667 0.024919 0.000556 0.022431 0 C 0.019942 -0.000556 0.017488 0 0.015 0 C 0.012512 0 0.01 0 0.0075 0 C 0.005 0 0.00125 0 0 0 E">
                                      <p:cBhvr>
                                        <p:cTn id="69" dur="1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1956-461C-4899-A80B-C3D081B28E5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WordArt 2"/>
          <p:cNvSpPr txBox="1"/>
          <p:nvPr/>
        </p:nvSpPr>
        <p:spPr>
          <a:xfrm>
            <a:off x="3276720" y="189000"/>
            <a:ext cx="314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课后充一充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613" name="Text Box 3"/>
          <p:cNvSpPr/>
          <p:nvPr/>
        </p:nvSpPr>
        <p:spPr>
          <a:xfrm>
            <a:off x="8172360" y="5805360"/>
            <a:ext cx="100800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返回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4"/>
          <p:cNvSpPr/>
          <p:nvPr/>
        </p:nvSpPr>
        <p:spPr>
          <a:xfrm>
            <a:off x="7451640" y="5877000"/>
            <a:ext cx="720720" cy="431640"/>
          </a:xfrm>
          <a:custGeom>
            <a:avLst/>
            <a:gdLst>
              <a:gd name="textAreaLeft" fmla="*/ 126000 w 720720"/>
              <a:gd name="textAreaRight" fmla="*/ 522720 w 7207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443"/>
                <a:lnTo>
                  <a:pt x="21168" y="7197"/>
                </a:lnTo>
                <a:lnTo>
                  <a:pt x="17280" y="0"/>
                </a:lnTo>
                <a:lnTo>
                  <a:pt x="12528" y="7197"/>
                </a:lnTo>
                <a:lnTo>
                  <a:pt x="14688" y="7197"/>
                </a:lnTo>
                <a:arcTo wR="7560" hR="21600" stAng="2716557" swAng="2326008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34920" y="2266200"/>
            <a:ext cx="806436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为什么非洲的经济那么落后 </a:t>
            </a:r>
            <a:br>
              <a:rPr sz="2800"/>
            </a:br>
            <a:r>
              <a:rPr b="0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历史原因，他们一直都是欧洲的殖民地，原料出口地，没什么经济基础，文明又不发达，所以很落后，现在非洲的发展大都靠资源的基础，像博茨瓦纳虽然艾滋病比例极高，经济增长率却是全球第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气候特征 </a:t>
            </a:r>
            <a:br>
              <a:rPr sz="2800"/>
            </a:br>
            <a:r>
              <a:rPr b="0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主要有地中海气候、热带草原性气候、热带雨林气候、热带沙漠性气候等四种气候 </a:t>
            </a:r>
            <a:br>
              <a:rPr sz="2800"/>
            </a:br>
            <a:br>
              <a:rPr sz="2400"/>
            </a:br>
            <a:r>
              <a:rPr b="0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海陆位置 </a:t>
            </a:r>
            <a:br>
              <a:rPr sz="2800"/>
            </a:br>
            <a:r>
              <a:rPr b="0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东临印度洋，西临大西洋，北面地中海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625 -0.013241 L -0.36625 -0.003333 L -0.36625 0.026574 L -0.36625 0.036574 L -0.36625 0.046574 L -0.363819 0.056481 L -0.356319 0.066481 L -0.348819 0.073148 L -0.338889 0.073148 L -0.323889 0.063148 L -0.311458 0.053148 L -0.303958 0.053148 L -0.296528 0.043241 L -0.289028 0.033241 L -0.281528 0.029907 L -0.276597 0.053148 L -0.274097 0.063148 L -0.269097 0.076389 L -0.264097 0.086389 L -0.259167 0.096389 L -0.251667 0.096389 L -0.241667 0.083056 L -0.226736 0.069815 L -0.214306 0.056481 L -0.196875 0.033241 L -0.184375 0.026574 L -0.176875 0.016667 L -0.184375 0.016667 L -0.196875 0.016667 L -0.211806 0.016667 L -0.236736 0.01 L -0.256667 0.006667 L -0.271597 0.003333 L -0.296528 -0.003333 L -0.306458 -0.009907 L -0.294028 -0.009907 L -0.279097 -0.003333 L -0.254167 0 L -0.206806 0.006667 L -0.171944 0.016667 L -0.124583 0.026574 L -0.092222 0.036574 L -0.037361 0.089722 L -0.044861 0.096389 L -0.049861 0.106296 L -0.059792 0.116296 L -0.069792 0.122963 L -0.094653 0.106296 L -0.102153 0.103056 L -0.109653 0.096389 L -0.122083 0.083056 L -0.127083 0.073148 L -0.127083 0.063148 L -0.127083 0.049815 L -0.129583 0.039907 L -0.129583 0.029907 L -0.129583 0.02 L -0.129583 0.01 L -0.067292 0.003333 L 0 0 E">
                                      <p:cBhvr>
                                        <p:cTn id="79" dur="1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4:44:2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0:10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