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20.jpeg" ContentType="image/jpeg"/>
  <Override PartName="/ppt/media/image17.wmf" ContentType="image/x-wmf"/>
  <Override PartName="/ppt/media/image19.png" ContentType="image/png"/>
  <Override PartName="/ppt/media/image18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5.png" ContentType="image/pn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B8E-352C-4FF8-8C7B-DFB7A426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FA3-4DB7-4154-8C9F-1E53DEAE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A83-ABA9-4815-8CCD-40CC5BC1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676-3526-4AB9-8635-83987855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2400-379F-41AD-8A96-01C862B3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EF59-EB48-4BE1-9CA6-A931E883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76EE-F47E-4475-901E-0A115DE6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3582-0A09-4E78-A4AE-53B636B2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EDD5-4E90-4722-A115-B995CD18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9E5F-835F-4B4C-B016-25333B46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D59F-CDAF-4353-B43E-9480AEA2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D85-E8FA-42BE-82FB-DCB424A6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90E1-6446-4E74-892A-BADBA29A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C942-D50A-4BA9-A2B5-6C8293F1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A21C-F8E2-457F-90DD-5F00411F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44AA-54E8-4D04-AA92-628C94AB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7EA9-73A8-422B-8D34-CB4EB62A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DAAD-F39F-43F9-A923-74CD4455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3E6B-9342-439E-A2DE-397FA397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FC75-DA7F-4800-B724-99FB08EF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4739-6152-4762-9262-47CF01EC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9E5E-52F4-4E59-B719-489D0405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AA8-3C0C-4E54-A8FB-81607FD7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639AC-001C-4705-BA9D-D388AF1A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7451-0333-40CE-A0D9-37747575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566E-BCE9-406A-AD0A-235AE61E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4823-DBF6-4714-8899-AC7CA641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2114-3A11-4858-A2AE-071E528F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BB73-C758-4C85-874F-6BDB8A1B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6D349-AEB7-423D-A77D-8E0DA2B4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776-E4AA-4FDE-8DC5-61E662F5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4E7-9A70-4C83-8D26-E8A6D7E9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D90-9AC0-4C8F-8BBE-094F9AB5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294-61E8-4F01-AB75-E43ACF10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26B-6F90-4FAE-AECE-DDF8FDF4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E64-88F3-4706-9D8F-C04DAA74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A473-CA2B-4013-BCB1-16FC2BF27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7752-1C54-4B9E-B85C-D264821ABD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A906-75B6-40B4-946D-B9C4E9B8326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&#20132;&#27969;&#21457;&#30005;&#26426;1.swf" TargetMode="Externa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&#20132;&#30452;&#27969;&#21457;&#30005;&#26426;.swf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itch.adsldns.org/prod01-1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&#21457;&#30005;&#21407;&#29702;&#21160;&#30011;&#21152;&#23454;&#26223;.mpe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00280" y="2131920"/>
            <a:ext cx="5638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磁生电</a:t>
            </a:r>
            <a:r>
              <a:rPr b="1" lang="en-US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936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785880" y="8380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第二十章　电与磁   第五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1538280" y="190440"/>
            <a:ext cx="441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交流发电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ShockwaveFlash1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0773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2286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隶书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、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线圈转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一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，电流方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改变两次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52280" y="1752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２、这种周期性改变方向的电流叫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交流电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57200" y="2743200"/>
            <a:ext cx="80773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Arial"/>
                <a:ea typeface="隶书"/>
                <a:hlinkClick r:id="rId1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：若将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两铜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改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换向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，则电流方向如何变化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52280" y="43434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３、方向不发生改变的电流叫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直流电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例电池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52280" y="5257800"/>
            <a:ext cx="7772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４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发电机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是把机械能转化为电能的机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12"/>
          <p:cNvPicPr/>
          <p:nvPr/>
        </p:nvPicPr>
        <p:blipFill>
          <a:blip r:embed="rId1"/>
          <a:stretch/>
        </p:blipFill>
        <p:spPr>
          <a:xfrm>
            <a:off x="3809880" y="685800"/>
            <a:ext cx="4953240" cy="54864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304920" y="685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发电机由转子和定子两部分组成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般采用线圈不动、磁极旋转的方法来发电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还用电磁体代替永磁体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01480" y="0"/>
            <a:ext cx="8642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实际使用的交流发电机（旋转磁场式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组成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定子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线圈；转子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电磁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24000" y="2421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线圈匝数多，导线很粗，高速旋转　　　　　困难；使用电磁铁可得到强磁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80880" y="396252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应用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动力机：水轮机、汽轮机（核电站）、内燃机、蒸汽轮机（火力发电站）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WordArt 5"/>
          <p:cNvSpPr txBox="1"/>
          <p:nvPr/>
        </p:nvSpPr>
        <p:spPr>
          <a:xfrm>
            <a:off x="7010280" y="1143000"/>
            <a:ext cx="1857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板书：</a:t>
            </a:r>
            <a:endParaRPr b="1" lang="en-US" sz="4800" spc="1" strike="noStrike">
              <a:ln w="9360">
                <a:solidFill>
                  <a:srgbClr val="008000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scania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14400"/>
            <a:ext cx="4648320" cy="31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qlfadjji2"/>
          <p:cNvPicPr/>
          <p:nvPr/>
        </p:nvPicPr>
        <p:blipFill>
          <a:blip r:embed="rId3"/>
          <a:stretch/>
        </p:blipFill>
        <p:spPr>
          <a:xfrm>
            <a:off x="4952880" y="914400"/>
            <a:ext cx="4191120" cy="3051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small-station-s"/>
          <p:cNvPicPr/>
          <p:nvPr/>
        </p:nvPicPr>
        <p:blipFill>
          <a:blip r:embed="rId4"/>
          <a:stretch/>
        </p:blipFill>
        <p:spPr>
          <a:xfrm>
            <a:off x="0" y="4079880"/>
            <a:ext cx="4648320" cy="277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turbine-s"/>
          <p:cNvPicPr/>
          <p:nvPr/>
        </p:nvPicPr>
        <p:blipFill>
          <a:blip r:embed="rId5"/>
          <a:stretch/>
        </p:blipFill>
        <p:spPr>
          <a:xfrm>
            <a:off x="4648320" y="4114800"/>
            <a:ext cx="4572000" cy="2720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2"/>
          <p:cNvSpPr/>
          <p:nvPr/>
        </p:nvSpPr>
        <p:spPr>
          <a:xfrm>
            <a:off x="3657600" y="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发电机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52280" y="685800"/>
            <a:ext cx="8763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认识我国的交流电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周期：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0.0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秒，频率：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赫兹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Hz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即每秒电流方向改变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次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403848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交流电的周期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交流电完成一次周期性变化需要的时间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交流电的频率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在一秒内交流电完成周期性变化的次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457200" y="3352680"/>
            <a:ext cx="1857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板书：</a:t>
            </a:r>
            <a:endParaRPr b="1" lang="en-US" sz="4800" spc="1" strike="noStrike">
              <a:ln w="9360">
                <a:solidFill>
                  <a:srgbClr val="008000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4343400" y="228600"/>
            <a:ext cx="3887640" cy="5814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电动机与发电机比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643280" y="1413000"/>
            <a:ext cx="37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871880" y="1219320"/>
            <a:ext cx="373860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发电机的结构原则上和电动机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完全相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</a:t>
            </a:r>
            <a:r>
              <a:rPr b="0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52280" y="3862440"/>
            <a:ext cx="4105440" cy="1810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电动机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消耗电能而输出机械能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电能转化成机械能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发电机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消耗机械能而输出电能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7286760" y="609480"/>
            <a:ext cx="1857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板书：</a:t>
            </a:r>
            <a:endParaRPr b="1" lang="en-US" sz="4800" spc="1" strike="noStrike">
              <a:ln w="9360">
                <a:solidFill>
                  <a:srgbClr val="008000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28" name="ShockwaveFlash1" descr=""/>
          <p:cNvPicPr/>
          <p:nvPr/>
        </p:nvPicPr>
        <p:blipFill>
          <a:blip r:embed="rId1"/>
          <a:stretch/>
        </p:blipFill>
        <p:spPr>
          <a:xfrm>
            <a:off x="0" y="228600"/>
            <a:ext cx="4419720" cy="3344760"/>
          </a:xfrm>
          <a:prstGeom prst="rect">
            <a:avLst/>
          </a:prstGeom>
          <a:ln w="0">
            <a:noFill/>
          </a:ln>
        </p:spPr>
      </p:pic>
      <p:pic>
        <p:nvPicPr>
          <p:cNvPr id="229" name="ShockwaveFlash2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交流发电机的工作原理"/>
          <p:cNvPicPr/>
          <p:nvPr/>
        </p:nvPicPr>
        <p:blipFill>
          <a:blip r:embed="rId1"/>
          <a:stretch/>
        </p:blipFill>
        <p:spPr>
          <a:xfrm>
            <a:off x="0" y="1523880"/>
            <a:ext cx="4648320" cy="334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电动机"/>
          <p:cNvPicPr/>
          <p:nvPr/>
        </p:nvPicPr>
        <p:blipFill>
          <a:blip r:embed="rId2"/>
          <a:stretch/>
        </p:blipFill>
        <p:spPr>
          <a:xfrm>
            <a:off x="4648320" y="1676520"/>
            <a:ext cx="4343400" cy="338904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5"/>
          <p:cNvSpPr/>
          <p:nvPr/>
        </p:nvSpPr>
        <p:spPr>
          <a:xfrm>
            <a:off x="7924680" y="6172200"/>
            <a:ext cx="1043280" cy="457200"/>
          </a:xfrm>
          <a:custGeom>
            <a:avLst/>
            <a:gdLst>
              <a:gd name="textAreaLeft" fmla="*/ 29520 w 1043280"/>
              <a:gd name="textAreaRight" fmla="*/ 1013760 w 1043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67" h="21600">
                <a:moveTo>
                  <a:pt x="0" y="0"/>
                </a:moveTo>
                <a:lnTo>
                  <a:pt x="49267" y="0"/>
                </a:lnTo>
                <a:lnTo>
                  <a:pt x="49267" y="21600"/>
                </a:lnTo>
                <a:lnTo>
                  <a:pt x="0" y="21600"/>
                </a:lnTo>
                <a:close/>
              </a:path>
              <a:path fill="lightenLess" w="49267" h="21600">
                <a:moveTo>
                  <a:pt x="0" y="0"/>
                </a:moveTo>
                <a:lnTo>
                  <a:pt x="49267" y="0"/>
                </a:lnTo>
                <a:lnTo>
                  <a:pt x="47867" y="1400"/>
                </a:lnTo>
                <a:lnTo>
                  <a:pt x="1400" y="1400"/>
                </a:lnTo>
                <a:close/>
              </a:path>
              <a:path fill="darken" w="49267" h="21600">
                <a:moveTo>
                  <a:pt x="49267" y="0"/>
                </a:moveTo>
                <a:lnTo>
                  <a:pt x="49267" y="21600"/>
                </a:lnTo>
                <a:lnTo>
                  <a:pt x="47867" y="20200"/>
                </a:lnTo>
                <a:lnTo>
                  <a:pt x="47867" y="1400"/>
                </a:lnTo>
                <a:close/>
              </a:path>
              <a:path fill="darkenLess" w="49267" h="21600">
                <a:moveTo>
                  <a:pt x="49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67" y="20200"/>
                </a:lnTo>
                <a:close/>
              </a:path>
              <a:path fill="lighten" w="49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67" h="21600">
                <a:moveTo>
                  <a:pt x="17627" y="10800"/>
                </a:moveTo>
                <a:lnTo>
                  <a:pt x="31640" y="3794"/>
                </a:lnTo>
                <a:lnTo>
                  <a:pt x="31640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28600" y="762120"/>
          <a:ext cx="8610480" cy="4800600"/>
        </p:xfrm>
        <a:graphic>
          <a:graphicData uri="http://schemas.openxmlformats.org/drawingml/2006/table">
            <a:tbl>
              <a:tblPr/>
              <a:tblGrid>
                <a:gridCol w="2232000"/>
                <a:gridCol w="3198960"/>
                <a:gridCol w="3179520"/>
              </a:tblGrid>
              <a:tr h="78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比较项目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电动机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发电机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  <a:tr h="96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原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  <a:tr h="99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构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造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能量转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线圈外部电流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外部电路元件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8edfa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1"/>
          <p:cNvSpPr/>
          <p:nvPr/>
        </p:nvSpPr>
        <p:spPr>
          <a:xfrm>
            <a:off x="844200" y="44280"/>
            <a:ext cx="37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Times New Roman"/>
              </a:rPr>
              <a:t>直流电动机和交流发电机的比较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2514600" y="1600200"/>
            <a:ext cx="312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通电线圈在磁场中受到力的作用转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6248520" y="1752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电磁感应现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2666880" y="2590920"/>
            <a:ext cx="269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磁铁、线圈、换向器、电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5943600" y="259092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磁铁、线圈、圆环、电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2514600" y="3581280"/>
            <a:ext cx="31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电能转化为机械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5715000" y="35812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机械能转化为电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3124080" y="42670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直流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6324480" y="42670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交流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3124080" y="5029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直流电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TextBox 14"/>
          <p:cNvSpPr/>
          <p:nvPr/>
        </p:nvSpPr>
        <p:spPr>
          <a:xfrm>
            <a:off x="5867280" y="4952880"/>
            <a:ext cx="296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用电器（电流表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95280" y="669960"/>
            <a:ext cx="87487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周期性改变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电流叫交流电，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不变的电流叫直流电，发电机提供的是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电，电池提供的是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电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国的交流发电机的转子每秒转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周，即交流电的变化频率是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赫，因此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流电的方向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每秒要改变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次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WordArt 3"/>
          <p:cNvSpPr txBox="1"/>
          <p:nvPr/>
        </p:nvSpPr>
        <p:spPr>
          <a:xfrm>
            <a:off x="0" y="-171360"/>
            <a:ext cx="1295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习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8120" y="533520"/>
            <a:ext cx="16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7704000" y="5335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80880" y="167652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交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181480" y="167652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直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7467480" y="3276720"/>
            <a:ext cx="11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943600" y="3886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5334120" y="4495680"/>
            <a:ext cx="13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133720" y="0"/>
            <a:ext cx="13411080" cy="3359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-7505640" y="3346560"/>
            <a:ext cx="150112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24000" y="404640"/>
            <a:ext cx="88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3.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发电机的主要构造分成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____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和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____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两部分，大型发电机的线圈作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_____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，电磁铁作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_____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24000" y="1341360"/>
            <a:ext cx="25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定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627280" y="134136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转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643280" y="2060640"/>
            <a:ext cx="20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定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403280" y="2924280"/>
            <a:ext cx="221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转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文本框 8196"/>
          <p:cNvSpPr/>
          <p:nvPr/>
        </p:nvSpPr>
        <p:spPr>
          <a:xfrm>
            <a:off x="849240" y="41259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2602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交流发电机制造的原理是（  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A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电流的磁效应   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B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电流的磁现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C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电磁感应现象   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D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电磁铁原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5.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我国使用的交流电的频率为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5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赫兹，在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秒内电流方向改变了（   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A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、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50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次        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B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、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5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次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C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、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0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次        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D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、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000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086600" y="304920"/>
            <a:ext cx="5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848720" y="36576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2CC3-942D-4F7C-8030-DE42DB0FD75F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butu47"/>
          <p:cNvPicPr/>
          <p:nvPr/>
        </p:nvPicPr>
        <p:blipFill>
          <a:blip r:embed="rId1"/>
          <a:stretch/>
        </p:blipFill>
        <p:spPr>
          <a:xfrm>
            <a:off x="34920" y="4076640"/>
            <a:ext cx="4608360" cy="26971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3"/>
          <p:cNvSpPr/>
          <p:nvPr/>
        </p:nvSpPr>
        <p:spPr>
          <a:xfrm>
            <a:off x="179280" y="0"/>
            <a:ext cx="896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交流发电机线圈内和外电路中的电流分别是（    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交流电和直流电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交流电和交流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直流电和交流电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直流电和直流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250920" y="3068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此装置是什么机器？工作原理是什么？工作时能量的转化情况怎样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219320" y="53352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219640" y="4581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发电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076720" y="537372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磁感应原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5003640" y="602136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机械能转化为电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772400" y="7621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576360" y="835560"/>
            <a:ext cx="6738840" cy="106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什么叫电磁感应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感应电流的大小跟哪些因素有关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0" y="-27000"/>
            <a:ext cx="14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复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31" name="ShockwaveFlash2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67690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207108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产生感生电流的条件是：电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部分导线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体在磁场中作切割磁感应线运动，一定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不一定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。若电路是闭合的，则一定也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781680" y="1676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闭合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971800" y="2209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切割磁感线的运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143000" y="3733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感应电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29200" y="3657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感应电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791320" y="4191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感应电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WordArt 8"/>
          <p:cNvSpPr txBox="1"/>
          <p:nvPr/>
        </p:nvSpPr>
        <p:spPr>
          <a:xfrm>
            <a:off x="533520" y="228600"/>
            <a:ext cx="2514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练习：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发电原理动画加实景.mpeg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776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3505320" y="0"/>
            <a:ext cx="2133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发电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交流发电机"/>
          <p:cNvPicPr/>
          <p:nvPr/>
        </p:nvPicPr>
        <p:blipFill>
          <a:blip r:embed="rId1"/>
          <a:stretch/>
        </p:blipFill>
        <p:spPr>
          <a:xfrm>
            <a:off x="6335640" y="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交流发电机的工作原理"/>
          <p:cNvPicPr/>
          <p:nvPr/>
        </p:nvPicPr>
        <p:blipFill>
          <a:blip r:embed="rId2"/>
          <a:stretch/>
        </p:blipFill>
        <p:spPr>
          <a:xfrm>
            <a:off x="971640" y="2417760"/>
            <a:ext cx="5257800" cy="3786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380880" y="609120"/>
            <a:ext cx="563904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交流发电机的原理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7308720" y="37846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线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52720" y="3784680"/>
            <a:ext cx="3311640" cy="216000"/>
            <a:chOff x="3852720" y="3784680"/>
            <a:chExt cx="3311640" cy="216000"/>
          </a:xfrm>
        </p:grpSpPr>
        <p:sp>
          <p:nvSpPr>
            <p:cNvPr id="146" name="Line 6"/>
            <p:cNvSpPr/>
            <p:nvPr/>
          </p:nvSpPr>
          <p:spPr>
            <a:xfrm>
              <a:off x="3852720" y="3784680"/>
              <a:ext cx="3311640" cy="21600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852720" y="3784680"/>
              <a:ext cx="3311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8" name="Rectangle 7"/>
          <p:cNvSpPr/>
          <p:nvPr/>
        </p:nvSpPr>
        <p:spPr>
          <a:xfrm>
            <a:off x="7308720" y="486576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圆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700360" y="4721400"/>
            <a:ext cx="4537080" cy="431640"/>
            <a:chOff x="2700360" y="4721400"/>
            <a:chExt cx="4537080" cy="431640"/>
          </a:xfrm>
        </p:grpSpPr>
        <p:sp>
          <p:nvSpPr>
            <p:cNvPr id="150" name="Line 8"/>
            <p:cNvSpPr/>
            <p:nvPr/>
          </p:nvSpPr>
          <p:spPr>
            <a:xfrm>
              <a:off x="2700360" y="4721400"/>
              <a:ext cx="4537080" cy="43164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700360" y="4721400"/>
              <a:ext cx="453708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2" name="Rectangle 9"/>
          <p:cNvSpPr/>
          <p:nvPr/>
        </p:nvSpPr>
        <p:spPr>
          <a:xfrm>
            <a:off x="7308720" y="5729400"/>
            <a:ext cx="11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电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197080" y="5873760"/>
            <a:ext cx="4896000" cy="71280"/>
            <a:chOff x="2197080" y="5873760"/>
            <a:chExt cx="4896000" cy="71280"/>
          </a:xfrm>
        </p:grpSpPr>
        <p:sp>
          <p:nvSpPr>
            <p:cNvPr id="154" name="Line 10"/>
            <p:cNvSpPr/>
            <p:nvPr/>
          </p:nvSpPr>
          <p:spPr>
            <a:xfrm>
              <a:off x="2197080" y="5873760"/>
              <a:ext cx="4896000" cy="7128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197080" y="5873760"/>
              <a:ext cx="489600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6" name="Rectangle 11"/>
          <p:cNvSpPr/>
          <p:nvPr/>
        </p:nvSpPr>
        <p:spPr>
          <a:xfrm>
            <a:off x="7237440" y="3281400"/>
            <a:ext cx="11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磁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724360" y="3497400"/>
            <a:ext cx="1440000" cy="71280"/>
            <a:chOff x="5724360" y="3497400"/>
            <a:chExt cx="1440000" cy="71280"/>
          </a:xfrm>
        </p:grpSpPr>
        <p:sp>
          <p:nvSpPr>
            <p:cNvPr id="158" name="Line 12"/>
            <p:cNvSpPr/>
            <p:nvPr/>
          </p:nvSpPr>
          <p:spPr>
            <a:xfrm>
              <a:off x="5724360" y="3497400"/>
              <a:ext cx="1440000" cy="7128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724360" y="3497400"/>
              <a:ext cx="144000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0" name="Rectangle 13"/>
          <p:cNvSpPr/>
          <p:nvPr/>
        </p:nvSpPr>
        <p:spPr>
          <a:xfrm>
            <a:off x="1905120" y="1600200"/>
            <a:ext cx="38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利用电磁感应现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457200" y="1828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呈闭合回路的矩形线圈在磁场中</a:t>
            </a:r>
            <a:r>
              <a:rPr b="1" lang="zh-CN" sz="3200" spc="-1" strike="noStrike">
                <a:solidFill>
                  <a:srgbClr val="fa6298"/>
                </a:solidFill>
                <a:latin typeface="Arial"/>
                <a:ea typeface="黑体"/>
              </a:rPr>
              <a:t>不断地转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时，线圈中就有方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断改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感应电流产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28600" y="9907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交流发电机原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电磁感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304920" y="4005360"/>
            <a:ext cx="171432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思考：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209680" y="49831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发电机是如何工作的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交流发电机的工作原理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5275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763640" y="26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484360" y="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514600" y="114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905120" y="14479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187280" y="20574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1763640" y="1773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1692360" y="2276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76320" y="525780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图１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的运动方向与磁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线圈中没有电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76320" y="5791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图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的运动方向与磁场</a:t>
            </a:r>
            <a:r>
              <a:rPr b="1" lang="zh-CN" sz="2800" spc="-1" strike="noStrike">
                <a:solidFill>
                  <a:srgbClr val="fa6298"/>
                </a:solidFill>
                <a:latin typeface="黑体"/>
                <a:ea typeface="黑体"/>
              </a:rPr>
              <a:t>垂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右手定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判断出，线圈中的电流方向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5486400" y="914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6172200" y="228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7391520" y="152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6934320" y="990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6019920" y="2286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029200" y="6553080"/>
            <a:ext cx="304920" cy="360"/>
            <a:chOff x="5029200" y="6553080"/>
            <a:chExt cx="304920" cy="360"/>
          </a:xfrm>
        </p:grpSpPr>
        <p:sp>
          <p:nvSpPr>
            <p:cNvPr id="181" name="Line 22"/>
            <p:cNvSpPr/>
            <p:nvPr/>
          </p:nvSpPr>
          <p:spPr>
            <a:xfrm>
              <a:off x="5029200" y="6553080"/>
              <a:ext cx="3049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029200" y="65530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486400" y="6553080"/>
            <a:ext cx="304920" cy="360"/>
            <a:chOff x="5486400" y="6553080"/>
            <a:chExt cx="304920" cy="360"/>
          </a:xfrm>
        </p:grpSpPr>
        <p:sp>
          <p:nvSpPr>
            <p:cNvPr id="184" name="Line 23"/>
            <p:cNvSpPr/>
            <p:nvPr/>
          </p:nvSpPr>
          <p:spPr>
            <a:xfrm>
              <a:off x="5486400" y="6553080"/>
              <a:ext cx="3049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5486400" y="65530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095880" y="6553080"/>
            <a:ext cx="304920" cy="360"/>
            <a:chOff x="6095880" y="6553080"/>
            <a:chExt cx="304920" cy="360"/>
          </a:xfrm>
        </p:grpSpPr>
        <p:sp>
          <p:nvSpPr>
            <p:cNvPr id="187" name="Line 24"/>
            <p:cNvSpPr/>
            <p:nvPr/>
          </p:nvSpPr>
          <p:spPr>
            <a:xfrm>
              <a:off x="6095880" y="6553080"/>
              <a:ext cx="3049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095880" y="65530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交流发电机的工作原理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250920" y="53006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不断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切割磁感线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运动，由于磁感线方向是不变的，而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的运动方向总是相反，并且不断改变，于是线圈和外部电路就有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向不断改变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的感应电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692360" y="2276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588000" y="22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692360" y="4869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516720" y="486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763640" y="26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484360" y="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1979640" y="155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62728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1187280" y="21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763640" y="177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文本框 8196"/>
          <p:cNvSpPr/>
          <p:nvPr/>
        </p:nvSpPr>
        <p:spPr>
          <a:xfrm>
            <a:off x="1082520" y="64944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51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17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