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440-69FA-4EC0-83F0-F74DEE17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BF2-245F-4E00-B0AF-C458842C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55B-CD85-4277-AB2E-C1910395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404-1BBF-4590-8958-59CC8FCD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92CD-6B70-4198-94C0-CA9ED092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779A-4BA8-4656-8BA0-6CDF0C44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8C05-38BD-4E14-A3C3-69BB06EB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B402-1BA2-4B27-8291-B60BEE2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27AF-1A70-464B-8DB0-BBEA245B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FFFD-041F-4DC0-AC1C-89E63ABA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5756-4955-474F-9B5A-09EAAE70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065-B54C-4F2A-AD68-8FD04101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9929-EA82-4BC1-8795-BCD203AB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BA6A-9D1C-4631-AA6C-2500FD07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F65C-F096-4741-A467-459580EA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C947-64A1-42BF-8654-C65813C8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7D7C-E57F-40BE-81D4-09D02BAD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0BA7-0E34-49C8-AE1B-327EF683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3446-0047-4DFA-8A97-0ADF4D77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4D4D-FEBE-48F2-BFA0-65F72B34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093F-A631-48BD-9245-C8E61F8C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C705-9F43-4CE4-8118-4CEE8AFB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33C-CF29-40C3-AC08-16B12C75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8C14-001E-4BC4-A82E-D4494D63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2F85-1B32-4DA2-B0D6-C75CF24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62A1-79F7-446D-9108-542A5B2E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C58A-E952-41DF-A70C-56EA8B84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9015-C349-4BEF-A9AF-775E47CE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94F7-2D63-419D-854E-325AC58B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03D3-96E5-4198-A1CE-730A80A0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B698E-A911-46D6-802F-F66107B9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3F2AB-09B5-4F9D-A669-984C20C2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D5103-D882-4411-AAF3-396AB8F5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FF0-BA12-4901-AE77-6883E30F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1016EA-EF72-4368-91E9-86831002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285E4-5967-4961-ACF6-BD7630D2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663A5-CFC7-42FC-BA37-418621A2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FAE9E-1CDE-4032-B55D-90EA103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D842F-1FF5-48B1-88AB-C584E68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2726C-3E3C-46FD-B51A-1DA8B91B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F7548-564F-4C30-9EC9-69415BD6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78F64-650B-4CDD-844C-C3EB5B7C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55B11-736B-4ADA-8447-EFCFA48A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FCA7-8BF7-45F5-A039-BA3F2614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1E7-581C-4EEA-9302-96DB8A97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622CF-EB84-4682-8169-A80F25F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3E791-B647-481B-A2A4-638A0023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0E48-4031-4A94-9C42-0DA0B3C5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EDE9C-0C2A-4045-9585-1CE64B45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5BA7-1BCF-4DAA-B506-CE6CA427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4AF27-3FCA-4C06-8E0D-7E9963B7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E7268-EC9E-4F97-925E-34A449E4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C4D1-CC29-4126-91AF-CD29889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E8798-B612-415A-8921-BF12C6FA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40ED7-BA40-4C9D-A219-8E5F2F8D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115-ECAC-4107-915E-F91BCB9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D729-C516-4F4A-AEC9-31BCB26F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979-CC60-45FB-8891-FEF0C49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6C1-18FA-4122-9BCB-9ED6A330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540-03D7-442A-934B-E67CC0E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65040" indent="549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 indent="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895320" indent="19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096920" indent="-1825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A295-7AF5-4715-89D8-9FFCE450D2E7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4BB0-15B3-4984-BDF7-1147134046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65040" indent="549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 indent="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895320" indent="19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096920" indent="-1825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2EAA-417C-4EF9-9AB5-E8641017912C}" type="slidenum">
              <a:rPr b="0" lang="en-US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0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65040" indent="549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 indent="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895320" indent="19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096920" indent="-1825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3935-FE61-4102-BCEF-2B1EC2844017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93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65040" indent="549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 indent="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895320" indent="19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096920" indent="-1825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A8D2-54F2-4254-A7FC-058DF1E4CA6F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17200" y="762120"/>
            <a:ext cx="6450120" cy="9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教科版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科学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三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5030640" y="511164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8"/>
          <p:cNvSpPr txBox="1"/>
          <p:nvPr/>
        </p:nvSpPr>
        <p:spPr>
          <a:xfrm>
            <a:off x="1482840" y="2362320"/>
            <a:ext cx="624024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>
                    <a:alpha val="6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磁铁的两极</a:t>
            </a:r>
            <a:r>
              <a:rPr b="1" lang="en-US" sz="4000" spc="-1" strike="noStrike">
                <a:ln w="0">
                  <a:noFill/>
                </a:ln>
                <a:solidFill>
                  <a:srgbClr val="000000">
                    <a:alpha val="6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0000">
                    <a:alpha val="6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solidFill>
                <a:srgbClr val="000000">
                  <a:alpha val="6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9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541440" y="2057400"/>
            <a:ext cx="79992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Cambria"/>
                <a:ea typeface="华文楷体"/>
              </a:rPr>
              <a:t>实验</a:t>
            </a:r>
            <a:r>
              <a:rPr b="0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把两块磁铁的两端分别标上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再将他们相互接近，会有什么现象发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31104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ambria"/>
                <a:ea typeface="华文楷体"/>
              </a:rPr>
              <a:t>磁铁两级的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199"/>
          <p:cNvSpPr/>
          <p:nvPr/>
        </p:nvSpPr>
        <p:spPr>
          <a:xfrm>
            <a:off x="2062080" y="1722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60"/>
          <p:cNvGrpSpPr/>
          <p:nvPr/>
        </p:nvGrpSpPr>
        <p:grpSpPr>
          <a:xfrm>
            <a:off x="1096920" y="1093680"/>
            <a:ext cx="3336120" cy="727920"/>
            <a:chOff x="1096920" y="1093680"/>
            <a:chExt cx="3336120" cy="727920"/>
          </a:xfrm>
        </p:grpSpPr>
        <p:grpSp>
          <p:nvGrpSpPr>
            <p:cNvPr id="538" name="Group 4"/>
            <p:cNvGrpSpPr/>
            <p:nvPr/>
          </p:nvGrpSpPr>
          <p:grpSpPr>
            <a:xfrm>
              <a:off x="1096920" y="1093680"/>
              <a:ext cx="3287880" cy="727920"/>
              <a:chOff x="1096920" y="1093680"/>
              <a:chExt cx="3287880" cy="727920"/>
            </a:xfrm>
          </p:grpSpPr>
          <p:sp>
            <p:nvSpPr>
              <p:cNvPr id="539" name="AutoShape 5"/>
              <p:cNvSpPr/>
              <p:nvPr/>
            </p:nvSpPr>
            <p:spPr>
              <a:xfrm>
                <a:off x="1096920" y="1093680"/>
                <a:ext cx="1740600" cy="7210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6"/>
              <p:cNvSpPr/>
              <p:nvPr/>
            </p:nvSpPr>
            <p:spPr>
              <a:xfrm>
                <a:off x="2643120" y="1093680"/>
                <a:ext cx="1741680" cy="72792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Text Box 52"/>
            <p:cNvSpPr/>
            <p:nvPr/>
          </p:nvSpPr>
          <p:spPr>
            <a:xfrm>
              <a:off x="1165680" y="12463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54"/>
            <p:cNvSpPr/>
            <p:nvPr/>
          </p:nvSpPr>
          <p:spPr>
            <a:xfrm>
              <a:off x="3689640" y="1265760"/>
              <a:ext cx="7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63"/>
          <p:cNvGrpSpPr/>
          <p:nvPr/>
        </p:nvGrpSpPr>
        <p:grpSpPr>
          <a:xfrm>
            <a:off x="5267160" y="1111320"/>
            <a:ext cx="3450600" cy="631080"/>
            <a:chOff x="5267160" y="1111320"/>
            <a:chExt cx="3450600" cy="631080"/>
          </a:xfrm>
        </p:grpSpPr>
        <p:grpSp>
          <p:nvGrpSpPr>
            <p:cNvPr id="544" name="Group 62"/>
            <p:cNvGrpSpPr/>
            <p:nvPr/>
          </p:nvGrpSpPr>
          <p:grpSpPr>
            <a:xfrm>
              <a:off x="5267160" y="1111320"/>
              <a:ext cx="3172680" cy="631080"/>
              <a:chOff x="5267160" y="1111320"/>
              <a:chExt cx="3172680" cy="631080"/>
            </a:xfrm>
          </p:grpSpPr>
          <p:sp>
            <p:nvSpPr>
              <p:cNvPr id="545" name="AutoShape 58"/>
              <p:cNvSpPr/>
              <p:nvPr/>
            </p:nvSpPr>
            <p:spPr>
              <a:xfrm>
                <a:off x="5267160" y="1111320"/>
                <a:ext cx="1671120" cy="62424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59"/>
              <p:cNvSpPr/>
              <p:nvPr/>
            </p:nvSpPr>
            <p:spPr>
              <a:xfrm>
                <a:off x="6766560" y="1111320"/>
                <a:ext cx="1673280" cy="6310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55"/>
            <p:cNvSpPr/>
            <p:nvPr/>
          </p:nvSpPr>
          <p:spPr>
            <a:xfrm>
              <a:off x="5289120" y="1262520"/>
              <a:ext cx="12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56"/>
            <p:cNvSpPr/>
            <p:nvPr/>
          </p:nvSpPr>
          <p:spPr>
            <a:xfrm>
              <a:off x="7798320" y="1277640"/>
              <a:ext cx="91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70"/>
          <p:cNvGrpSpPr/>
          <p:nvPr/>
        </p:nvGrpSpPr>
        <p:grpSpPr>
          <a:xfrm>
            <a:off x="1521000" y="4525920"/>
            <a:ext cx="2307600" cy="479160"/>
            <a:chOff x="1521000" y="4525920"/>
            <a:chExt cx="2307600" cy="479160"/>
          </a:xfrm>
        </p:grpSpPr>
        <p:grpSp>
          <p:nvGrpSpPr>
            <p:cNvPr id="550" name="Group 71"/>
            <p:cNvGrpSpPr/>
            <p:nvPr/>
          </p:nvGrpSpPr>
          <p:grpSpPr>
            <a:xfrm>
              <a:off x="1521000" y="4525920"/>
              <a:ext cx="2274120" cy="469800"/>
              <a:chOff x="1521000" y="4525920"/>
              <a:chExt cx="2274120" cy="469800"/>
            </a:xfrm>
          </p:grpSpPr>
          <p:sp>
            <p:nvSpPr>
              <p:cNvPr id="551" name="AutoShape 72"/>
              <p:cNvSpPr/>
              <p:nvPr/>
            </p:nvSpPr>
            <p:spPr>
              <a:xfrm>
                <a:off x="1521000" y="4525920"/>
                <a:ext cx="1203840" cy="465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AutoShape 73"/>
              <p:cNvSpPr/>
              <p:nvPr/>
            </p:nvSpPr>
            <p:spPr>
              <a:xfrm>
                <a:off x="2590560" y="4525920"/>
                <a:ext cx="120456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74"/>
            <p:cNvSpPr/>
            <p:nvPr/>
          </p:nvSpPr>
          <p:spPr>
            <a:xfrm>
              <a:off x="1571400" y="46242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5"/>
            <p:cNvSpPr/>
            <p:nvPr/>
          </p:nvSpPr>
          <p:spPr>
            <a:xfrm>
              <a:off x="3314520" y="4636800"/>
              <a:ext cx="5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76"/>
          <p:cNvGrpSpPr/>
          <p:nvPr/>
        </p:nvGrpSpPr>
        <p:grpSpPr>
          <a:xfrm>
            <a:off x="1625760" y="2779560"/>
            <a:ext cx="2307600" cy="479520"/>
            <a:chOff x="1625760" y="2779560"/>
            <a:chExt cx="2307600" cy="479520"/>
          </a:xfrm>
        </p:grpSpPr>
        <p:grpSp>
          <p:nvGrpSpPr>
            <p:cNvPr id="556" name="Group 77"/>
            <p:cNvGrpSpPr/>
            <p:nvPr/>
          </p:nvGrpSpPr>
          <p:grpSpPr>
            <a:xfrm>
              <a:off x="1625760" y="2779560"/>
              <a:ext cx="2274120" cy="470160"/>
              <a:chOff x="1625760" y="2779560"/>
              <a:chExt cx="2274120" cy="470160"/>
            </a:xfrm>
          </p:grpSpPr>
          <p:sp>
            <p:nvSpPr>
              <p:cNvPr id="557" name="AutoShape 78"/>
              <p:cNvSpPr/>
              <p:nvPr/>
            </p:nvSpPr>
            <p:spPr>
              <a:xfrm>
                <a:off x="1625760" y="2779560"/>
                <a:ext cx="1203840" cy="46584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79"/>
              <p:cNvSpPr/>
              <p:nvPr/>
            </p:nvSpPr>
            <p:spPr>
              <a:xfrm>
                <a:off x="2695320" y="2779560"/>
                <a:ext cx="1204560" cy="4701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 Box 80"/>
            <p:cNvSpPr/>
            <p:nvPr/>
          </p:nvSpPr>
          <p:spPr>
            <a:xfrm>
              <a:off x="1676160" y="28782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1"/>
            <p:cNvSpPr/>
            <p:nvPr/>
          </p:nvSpPr>
          <p:spPr>
            <a:xfrm>
              <a:off x="3419280" y="2890800"/>
              <a:ext cx="5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06"/>
          <p:cNvGrpSpPr/>
          <p:nvPr/>
        </p:nvGrpSpPr>
        <p:grpSpPr>
          <a:xfrm>
            <a:off x="5237280" y="2733840"/>
            <a:ext cx="2484360" cy="492120"/>
            <a:chOff x="5237280" y="2733840"/>
            <a:chExt cx="2484360" cy="492120"/>
          </a:xfrm>
        </p:grpSpPr>
        <p:grpSp>
          <p:nvGrpSpPr>
            <p:cNvPr id="562" name="Group 107"/>
            <p:cNvGrpSpPr/>
            <p:nvPr/>
          </p:nvGrpSpPr>
          <p:grpSpPr>
            <a:xfrm>
              <a:off x="5237280" y="2733840"/>
              <a:ext cx="2284560" cy="469800"/>
              <a:chOff x="5237280" y="2733840"/>
              <a:chExt cx="2284560" cy="469800"/>
            </a:xfrm>
          </p:grpSpPr>
          <p:sp>
            <p:nvSpPr>
              <p:cNvPr id="563" name="AutoShape 108"/>
              <p:cNvSpPr/>
              <p:nvPr/>
            </p:nvSpPr>
            <p:spPr>
              <a:xfrm>
                <a:off x="5237280" y="2733840"/>
                <a:ext cx="1203120" cy="46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109"/>
              <p:cNvSpPr/>
              <p:nvPr/>
            </p:nvSpPr>
            <p:spPr>
              <a:xfrm>
                <a:off x="6316920" y="273384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Text Box 110"/>
            <p:cNvSpPr/>
            <p:nvPr/>
          </p:nvSpPr>
          <p:spPr>
            <a:xfrm>
              <a:off x="5253120" y="284652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11"/>
            <p:cNvSpPr/>
            <p:nvPr/>
          </p:nvSpPr>
          <p:spPr>
            <a:xfrm>
              <a:off x="7059600" y="2857680"/>
              <a:ext cx="6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13"/>
          <p:cNvGrpSpPr/>
          <p:nvPr/>
        </p:nvGrpSpPr>
        <p:grpSpPr>
          <a:xfrm>
            <a:off x="1542960" y="3664080"/>
            <a:ext cx="2298600" cy="474480"/>
            <a:chOff x="1542960" y="3664080"/>
            <a:chExt cx="2298600" cy="474480"/>
          </a:xfrm>
        </p:grpSpPr>
        <p:grpSp>
          <p:nvGrpSpPr>
            <p:cNvPr id="568" name="Group 112"/>
            <p:cNvGrpSpPr/>
            <p:nvPr/>
          </p:nvGrpSpPr>
          <p:grpSpPr>
            <a:xfrm>
              <a:off x="1542960" y="3664080"/>
              <a:ext cx="2298600" cy="469800"/>
              <a:chOff x="1542960" y="3664080"/>
              <a:chExt cx="2298600" cy="469800"/>
            </a:xfrm>
          </p:grpSpPr>
          <p:sp>
            <p:nvSpPr>
              <p:cNvPr id="569" name="AutoShape 67"/>
              <p:cNvSpPr/>
              <p:nvPr/>
            </p:nvSpPr>
            <p:spPr>
              <a:xfrm>
                <a:off x="1542960" y="366408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66"/>
              <p:cNvSpPr/>
              <p:nvPr/>
            </p:nvSpPr>
            <p:spPr>
              <a:xfrm>
                <a:off x="2638440" y="3664080"/>
                <a:ext cx="1203120" cy="4651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Text Box 68"/>
            <p:cNvSpPr/>
            <p:nvPr/>
          </p:nvSpPr>
          <p:spPr>
            <a:xfrm>
              <a:off x="3371760" y="37641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69"/>
            <p:cNvSpPr/>
            <p:nvPr/>
          </p:nvSpPr>
          <p:spPr>
            <a:xfrm>
              <a:off x="1563840" y="3770280"/>
              <a:ext cx="5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124"/>
          <p:cNvGrpSpPr/>
          <p:nvPr/>
        </p:nvGrpSpPr>
        <p:grpSpPr>
          <a:xfrm>
            <a:off x="1519200" y="5468760"/>
            <a:ext cx="2298600" cy="477720"/>
            <a:chOff x="1519200" y="5468760"/>
            <a:chExt cx="2298600" cy="477720"/>
          </a:xfrm>
        </p:grpSpPr>
        <p:grpSp>
          <p:nvGrpSpPr>
            <p:cNvPr id="574" name="Group 120"/>
            <p:cNvGrpSpPr/>
            <p:nvPr/>
          </p:nvGrpSpPr>
          <p:grpSpPr>
            <a:xfrm>
              <a:off x="1519200" y="5468760"/>
              <a:ext cx="2298600" cy="469800"/>
              <a:chOff x="1519200" y="5468760"/>
              <a:chExt cx="2298600" cy="469800"/>
            </a:xfrm>
          </p:grpSpPr>
          <p:sp>
            <p:nvSpPr>
              <p:cNvPr id="575" name="AutoShape 116"/>
              <p:cNvSpPr/>
              <p:nvPr/>
            </p:nvSpPr>
            <p:spPr>
              <a:xfrm>
                <a:off x="1519200" y="546876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117"/>
              <p:cNvSpPr/>
              <p:nvPr/>
            </p:nvSpPr>
            <p:spPr>
              <a:xfrm>
                <a:off x="2614680" y="5468760"/>
                <a:ext cx="1203120" cy="4651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Text Box 118"/>
            <p:cNvSpPr/>
            <p:nvPr/>
          </p:nvSpPr>
          <p:spPr>
            <a:xfrm>
              <a:off x="3349440" y="55558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19"/>
            <p:cNvSpPr/>
            <p:nvPr/>
          </p:nvSpPr>
          <p:spPr>
            <a:xfrm>
              <a:off x="1519200" y="557820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25"/>
          <p:cNvGrpSpPr/>
          <p:nvPr/>
        </p:nvGrpSpPr>
        <p:grpSpPr>
          <a:xfrm>
            <a:off x="5268960" y="4479840"/>
            <a:ext cx="2728440" cy="482400"/>
            <a:chOff x="5268960" y="4479840"/>
            <a:chExt cx="2728440" cy="482400"/>
          </a:xfrm>
        </p:grpSpPr>
        <p:grpSp>
          <p:nvGrpSpPr>
            <p:cNvPr id="580" name="Group 121"/>
            <p:cNvGrpSpPr/>
            <p:nvPr/>
          </p:nvGrpSpPr>
          <p:grpSpPr>
            <a:xfrm>
              <a:off x="5268960" y="4479840"/>
              <a:ext cx="2298600" cy="469800"/>
              <a:chOff x="5268960" y="4479840"/>
              <a:chExt cx="2298600" cy="469800"/>
            </a:xfrm>
          </p:grpSpPr>
          <p:sp>
            <p:nvSpPr>
              <p:cNvPr id="581" name="AutoShape 122"/>
              <p:cNvSpPr/>
              <p:nvPr/>
            </p:nvSpPr>
            <p:spPr>
              <a:xfrm>
                <a:off x="5268960" y="447984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123"/>
              <p:cNvSpPr/>
              <p:nvPr/>
            </p:nvSpPr>
            <p:spPr>
              <a:xfrm>
                <a:off x="6364440" y="4479840"/>
                <a:ext cx="1203120" cy="4651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 Box 104"/>
            <p:cNvSpPr/>
            <p:nvPr/>
          </p:nvSpPr>
          <p:spPr>
            <a:xfrm>
              <a:off x="7094520" y="458136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5"/>
            <p:cNvSpPr/>
            <p:nvPr/>
          </p:nvSpPr>
          <p:spPr>
            <a:xfrm>
              <a:off x="5275080" y="4593960"/>
              <a:ext cx="66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26"/>
          <p:cNvGrpSpPr/>
          <p:nvPr/>
        </p:nvGrpSpPr>
        <p:grpSpPr>
          <a:xfrm>
            <a:off x="5278320" y="3622680"/>
            <a:ext cx="2484360" cy="492120"/>
            <a:chOff x="5278320" y="3622680"/>
            <a:chExt cx="2484360" cy="492120"/>
          </a:xfrm>
        </p:grpSpPr>
        <p:grpSp>
          <p:nvGrpSpPr>
            <p:cNvPr id="586" name="Group 127"/>
            <p:cNvGrpSpPr/>
            <p:nvPr/>
          </p:nvGrpSpPr>
          <p:grpSpPr>
            <a:xfrm>
              <a:off x="5278320" y="3622680"/>
              <a:ext cx="2284560" cy="469800"/>
              <a:chOff x="5278320" y="3622680"/>
              <a:chExt cx="2284560" cy="469800"/>
            </a:xfrm>
          </p:grpSpPr>
          <p:sp>
            <p:nvSpPr>
              <p:cNvPr id="587" name="AutoShape 128"/>
              <p:cNvSpPr/>
              <p:nvPr/>
            </p:nvSpPr>
            <p:spPr>
              <a:xfrm>
                <a:off x="5278320" y="3622680"/>
                <a:ext cx="1203120" cy="46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129"/>
              <p:cNvSpPr/>
              <p:nvPr/>
            </p:nvSpPr>
            <p:spPr>
              <a:xfrm>
                <a:off x="6357960" y="362268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Text Box 130"/>
            <p:cNvSpPr/>
            <p:nvPr/>
          </p:nvSpPr>
          <p:spPr>
            <a:xfrm>
              <a:off x="5294160" y="37353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31"/>
            <p:cNvSpPr/>
            <p:nvPr/>
          </p:nvSpPr>
          <p:spPr>
            <a:xfrm>
              <a:off x="7100640" y="3746520"/>
              <a:ext cx="6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132"/>
          <p:cNvGrpSpPr/>
          <p:nvPr/>
        </p:nvGrpSpPr>
        <p:grpSpPr>
          <a:xfrm>
            <a:off x="5276880" y="5398920"/>
            <a:ext cx="2728440" cy="482400"/>
            <a:chOff x="5276880" y="5398920"/>
            <a:chExt cx="2728440" cy="482400"/>
          </a:xfrm>
        </p:grpSpPr>
        <p:grpSp>
          <p:nvGrpSpPr>
            <p:cNvPr id="592" name="Group 133"/>
            <p:cNvGrpSpPr/>
            <p:nvPr/>
          </p:nvGrpSpPr>
          <p:grpSpPr>
            <a:xfrm>
              <a:off x="5276880" y="5398920"/>
              <a:ext cx="2298600" cy="469800"/>
              <a:chOff x="5276880" y="5398920"/>
              <a:chExt cx="2298600" cy="469800"/>
            </a:xfrm>
          </p:grpSpPr>
          <p:sp>
            <p:nvSpPr>
              <p:cNvPr id="593" name="AutoShape 134"/>
              <p:cNvSpPr/>
              <p:nvPr/>
            </p:nvSpPr>
            <p:spPr>
              <a:xfrm>
                <a:off x="5276880" y="539892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135"/>
              <p:cNvSpPr/>
              <p:nvPr/>
            </p:nvSpPr>
            <p:spPr>
              <a:xfrm>
                <a:off x="6372360" y="5398920"/>
                <a:ext cx="1203120" cy="4651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Text Box 136"/>
            <p:cNvSpPr/>
            <p:nvPr/>
          </p:nvSpPr>
          <p:spPr>
            <a:xfrm>
              <a:off x="7102440" y="550044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37"/>
            <p:cNvSpPr/>
            <p:nvPr/>
          </p:nvSpPr>
          <p:spPr>
            <a:xfrm>
              <a:off x="5283000" y="5513040"/>
              <a:ext cx="66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138"/>
          <p:cNvSpPr/>
          <p:nvPr/>
        </p:nvSpPr>
        <p:spPr>
          <a:xfrm>
            <a:off x="4168800" y="22050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→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40"/>
          <p:cNvSpPr/>
          <p:nvPr/>
        </p:nvSpPr>
        <p:spPr>
          <a:xfrm>
            <a:off x="4092480" y="32432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←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41"/>
          <p:cNvSpPr/>
          <p:nvPr/>
        </p:nvSpPr>
        <p:spPr>
          <a:xfrm>
            <a:off x="4048200" y="41338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←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42"/>
          <p:cNvSpPr/>
          <p:nvPr/>
        </p:nvSpPr>
        <p:spPr>
          <a:xfrm>
            <a:off x="4051440" y="50198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→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43"/>
          <p:cNvSpPr/>
          <p:nvPr/>
        </p:nvSpPr>
        <p:spPr>
          <a:xfrm>
            <a:off x="295200" y="27957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一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4"/>
          <p:cNvSpPr/>
          <p:nvPr/>
        </p:nvSpPr>
        <p:spPr>
          <a:xfrm>
            <a:off x="291960" y="3676680"/>
            <a:ext cx="10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二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5"/>
          <p:cNvSpPr/>
          <p:nvPr/>
        </p:nvSpPr>
        <p:spPr>
          <a:xfrm>
            <a:off x="289080" y="45543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三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6"/>
          <p:cNvSpPr/>
          <p:nvPr/>
        </p:nvSpPr>
        <p:spPr>
          <a:xfrm>
            <a:off x="274680" y="54896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四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7"/>
          <p:cNvSpPr/>
          <p:nvPr/>
        </p:nvSpPr>
        <p:spPr>
          <a:xfrm>
            <a:off x="8029440" y="274464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吸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8"/>
          <p:cNvSpPr/>
          <p:nvPr/>
        </p:nvSpPr>
        <p:spPr>
          <a:xfrm>
            <a:off x="8069400" y="449748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排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9"/>
          <p:cNvSpPr/>
          <p:nvPr/>
        </p:nvSpPr>
        <p:spPr>
          <a:xfrm>
            <a:off x="8078760" y="361476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排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0"/>
          <p:cNvSpPr/>
          <p:nvPr/>
        </p:nvSpPr>
        <p:spPr>
          <a:xfrm>
            <a:off x="8096400" y="546264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mbria"/>
                <a:ea typeface="华文楷体"/>
              </a:rPr>
              <a:t>吸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3"/>
          <p:cNvGrpSpPr/>
          <p:nvPr/>
        </p:nvGrpSpPr>
        <p:grpSpPr>
          <a:xfrm>
            <a:off x="380880" y="6093000"/>
            <a:ext cx="7651440" cy="765000"/>
            <a:chOff x="380880" y="6093000"/>
            <a:chExt cx="7651440" cy="765000"/>
          </a:xfrm>
        </p:grpSpPr>
        <p:grpSp>
          <p:nvGrpSpPr>
            <p:cNvPr id="610" name="Group 22"/>
            <p:cNvGrpSpPr/>
            <p:nvPr/>
          </p:nvGrpSpPr>
          <p:grpSpPr>
            <a:xfrm>
              <a:off x="380880" y="6093000"/>
              <a:ext cx="7651440" cy="765000"/>
              <a:chOff x="380880" y="6093000"/>
              <a:chExt cx="7651440" cy="765000"/>
            </a:xfrm>
          </p:grpSpPr>
          <p:sp>
            <p:nvSpPr>
              <p:cNvPr id="611" name="AutoShape 23"/>
              <p:cNvSpPr/>
              <p:nvPr/>
            </p:nvSpPr>
            <p:spPr>
              <a:xfrm>
                <a:off x="735480" y="6149880"/>
                <a:ext cx="7296840" cy="708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a94a"/>
                  </a:gs>
                  <a:gs pos="50000">
                    <a:srgbClr val="ffffcc"/>
                  </a:gs>
                  <a:gs pos="100000">
                    <a:srgbClr val="ffa94a"/>
                  </a:gs>
                </a:gsLst>
                <a:lin ang="2700000"/>
              </a:gradFill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24"/>
              <p:cNvSpPr/>
              <p:nvPr/>
            </p:nvSpPr>
            <p:spPr>
              <a:xfrm>
                <a:off x="1240560" y="6309000"/>
                <a:ext cx="6360840" cy="5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25"/>
              <p:cNvSpPr/>
              <p:nvPr/>
            </p:nvSpPr>
            <p:spPr>
              <a:xfrm>
                <a:off x="380880" y="6130440"/>
                <a:ext cx="861480" cy="43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Group 26"/>
              <p:cNvGrpSpPr/>
              <p:nvPr/>
            </p:nvGrpSpPr>
            <p:grpSpPr>
              <a:xfrm>
                <a:off x="515520" y="6093000"/>
                <a:ext cx="534960" cy="349920"/>
                <a:chOff x="515520" y="6093000"/>
                <a:chExt cx="534960" cy="349920"/>
              </a:xfrm>
            </p:grpSpPr>
            <p:sp>
              <p:nvSpPr>
                <p:cNvPr id="615" name="Oval 27"/>
                <p:cNvSpPr/>
                <p:nvPr/>
              </p:nvSpPr>
              <p:spPr>
                <a:xfrm>
                  <a:off x="515520" y="6330960"/>
                  <a:ext cx="534960" cy="11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28"/>
                <p:cNvSpPr/>
                <p:nvPr/>
              </p:nvSpPr>
              <p:spPr>
                <a:xfrm>
                  <a:off x="600120" y="6238800"/>
                  <a:ext cx="375120" cy="16992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a94a"/>
                    </a:gs>
                  </a:gsLst>
                  <a:lin ang="5400000"/>
                </a:gradFill>
                <a:ln w="9360">
                  <a:solidFill>
                    <a:srgbClr val="ffa94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Group 29"/>
                <p:cNvGrpSpPr/>
                <p:nvPr/>
              </p:nvGrpSpPr>
              <p:grpSpPr>
                <a:xfrm>
                  <a:off x="657360" y="6093000"/>
                  <a:ext cx="239040" cy="188640"/>
                  <a:chOff x="657360" y="6093000"/>
                  <a:chExt cx="239040" cy="188640"/>
                </a:xfrm>
              </p:grpSpPr>
              <p:sp>
                <p:nvSpPr>
                  <p:cNvPr id="618" name="未知"/>
                  <p:cNvSpPr/>
                  <p:nvPr/>
                </p:nvSpPr>
                <p:spPr>
                  <a:xfrm rot="18580800">
                    <a:off x="709200" y="6080760"/>
                    <a:ext cx="406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954">
                        <a:moveTo>
                          <a:pt x="136" y="953"/>
                        </a:moveTo>
                        <a:cubicBezTo>
                          <a:pt x="180" y="954"/>
                          <a:pt x="264" y="640"/>
                          <a:pt x="264" y="481"/>
                        </a:cubicBezTo>
                        <a:cubicBezTo>
                          <a:pt x="264" y="322"/>
                          <a:pt x="180" y="2"/>
                          <a:pt x="136" y="1"/>
                        </a:cubicBezTo>
                        <a:cubicBezTo>
                          <a:pt x="92" y="0"/>
                          <a:pt x="0" y="312"/>
                          <a:pt x="0" y="473"/>
                        </a:cubicBezTo>
                        <a:cubicBezTo>
                          <a:pt x="0" y="634"/>
                          <a:pt x="92" y="952"/>
                          <a:pt x="136" y="953"/>
                        </a:cubicBezTo>
                        <a:close/>
                      </a:path>
                    </a:pathLst>
                  </a:custGeom>
                  <a:solidFill>
                    <a:srgbClr val="ffa9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未知"/>
                  <p:cNvSpPr/>
                  <p:nvPr/>
                </p:nvSpPr>
                <p:spPr>
                  <a:xfrm rot="2400000">
                    <a:off x="796680" y="6116400"/>
                    <a:ext cx="860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954">
                        <a:moveTo>
                          <a:pt x="136" y="953"/>
                        </a:moveTo>
                        <a:cubicBezTo>
                          <a:pt x="180" y="954"/>
                          <a:pt x="264" y="640"/>
                          <a:pt x="264" y="481"/>
                        </a:cubicBezTo>
                        <a:cubicBezTo>
                          <a:pt x="264" y="322"/>
                          <a:pt x="180" y="2"/>
                          <a:pt x="136" y="1"/>
                        </a:cubicBezTo>
                        <a:cubicBezTo>
                          <a:pt x="92" y="0"/>
                          <a:pt x="0" y="312"/>
                          <a:pt x="0" y="473"/>
                        </a:cubicBezTo>
                        <a:cubicBezTo>
                          <a:pt x="0" y="634"/>
                          <a:pt x="92" y="952"/>
                          <a:pt x="136" y="953"/>
                        </a:cubicBezTo>
                        <a:close/>
                      </a:path>
                    </a:pathLst>
                  </a:custGeom>
                  <a:solidFill>
                    <a:srgbClr val="ffa9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Rectangle 32"/>
                  <p:cNvSpPr/>
                  <p:nvPr/>
                </p:nvSpPr>
                <p:spPr>
                  <a:xfrm>
                    <a:off x="783360" y="6180120"/>
                    <a:ext cx="16200" cy="101520"/>
                  </a:xfrm>
                  <a:prstGeom prst="rect">
                    <a:avLst/>
                  </a:prstGeom>
                  <a:solidFill>
                    <a:srgbClr val="ffa9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1" name="Text Box 20"/>
            <p:cNvSpPr/>
            <p:nvPr/>
          </p:nvSpPr>
          <p:spPr>
            <a:xfrm>
              <a:off x="925560" y="6354720"/>
              <a:ext cx="7041960" cy="459720"/>
            </a:xfrm>
            <a:prstGeom prst="rect">
              <a:avLst/>
            </a:prstGeom>
            <a:gradFill rotWithShape="0">
              <a:gsLst>
                <a:gs pos="0">
                  <a:srgbClr val="ffdcd4"/>
                </a:gs>
                <a:gs pos="100000">
                  <a:srgbClr val="ff6500"/>
                </a:gs>
              </a:gsLst>
              <a:lin ang="5040000"/>
            </a:gradFill>
            <a:ln w="9360">
              <a:solidFill>
                <a:srgbClr val="ff6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entury Gothic"/>
                  <a:ea typeface="幼圆"/>
                </a:rPr>
                <a:t>结论：同一个磁极相互排斥，不同的磁极相互吸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55 0.00254 C -0.11997 -0.00116 -0.13108 -0.0007 -0.14184 -0.00208 C -0.1592 -0.00093 -0.17518 -0.00208 -0.19236 -0.00208 E">
                                      <p:cBhvr>
                                        <p:cTn id="183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-6.41684E-006 C -0.06667 -6.41684E-006 -0.03334 -6.41684E-006 5E-006 -6.41684E-006 E">
                                      <p:cBhvr>
                                        <p:cTn id="196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0462 C -0.0776 0.0037 -0.03854 -1.51284E-006 -2.22222E-006 -1.51284E-006 E">
                                      <p:cBhvr>
                                        <p:cTn id="209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6 0.01134 C -0.11441 0.0081 -0.18994 0.00532 -0.21337 0.00532 E">
                                      <p:cBhvr>
                                        <p:cTn id="222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1685a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1685a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712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4c600"/>
                </a:solidFill>
                <a:latin typeface="Century Gothic"/>
              </a:rPr>
              <a:t>反馈练习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927000" y="2344680"/>
            <a:ext cx="645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条形磁铁中间部分的磁性（        ），两边的磁性（        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3689280" y="2311560"/>
            <a:ext cx="7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最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5746680" y="2387520"/>
            <a:ext cx="7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最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3"/>
          <p:cNvSpPr/>
          <p:nvPr/>
        </p:nvSpPr>
        <p:spPr>
          <a:xfrm>
            <a:off x="2342520" y="28490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磁铁上磁力最强的部分叫（        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3689280" y="2844720"/>
            <a:ext cx="8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磁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1940040" y="3279240"/>
            <a:ext cx="7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磁铁的磁极有（     ）个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6"/>
          <p:cNvSpPr/>
          <p:nvPr/>
        </p:nvSpPr>
        <p:spPr>
          <a:xfrm>
            <a:off x="2774880" y="3301920"/>
            <a:ext cx="4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7"/>
          <p:cNvSpPr/>
          <p:nvPr/>
        </p:nvSpPr>
        <p:spPr>
          <a:xfrm>
            <a:off x="3237840" y="424620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磁铁能吸引铁，所以能被磁铁吸引的物质一定是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6127920" y="4292640"/>
            <a:ext cx="8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（ 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9"/>
          <p:cNvSpPr/>
          <p:nvPr/>
        </p:nvSpPr>
        <p:spPr>
          <a:xfrm>
            <a:off x="2201760" y="614844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a94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5" descr="YX033"/>
          <p:cNvPicPr/>
          <p:nvPr/>
        </p:nvPicPr>
        <p:blipFill>
          <a:blip r:embed="rId1"/>
          <a:stretch/>
        </p:blipFill>
        <p:spPr>
          <a:xfrm>
            <a:off x="7715160" y="6000840"/>
            <a:ext cx="1128960" cy="49356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26"/>
          <p:cNvSpPr/>
          <p:nvPr/>
        </p:nvSpPr>
        <p:spPr>
          <a:xfrm>
            <a:off x="2646000" y="4711320"/>
            <a:ext cx="75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条形磁铁上各部分的磁力是一样大的。</a:t>
            </a: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7"/>
          <p:cNvSpPr/>
          <p:nvPr/>
        </p:nvSpPr>
        <p:spPr>
          <a:xfrm>
            <a:off x="750960" y="165276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8"/>
          <p:cNvSpPr/>
          <p:nvPr/>
        </p:nvSpPr>
        <p:spPr>
          <a:xfrm>
            <a:off x="750960" y="3790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9"/>
          <p:cNvSpPr/>
          <p:nvPr/>
        </p:nvSpPr>
        <p:spPr>
          <a:xfrm>
            <a:off x="2448000" y="5189040"/>
            <a:ext cx="5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条形磁铁的中间是没有磁性的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0"/>
          <p:cNvSpPr/>
          <p:nvPr/>
        </p:nvSpPr>
        <p:spPr>
          <a:xfrm>
            <a:off x="2546640" y="56574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磁铁有两个磁极，是南极和北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1"/>
          <p:cNvSpPr/>
          <p:nvPr/>
        </p:nvSpPr>
        <p:spPr>
          <a:xfrm>
            <a:off x="5060880" y="467352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4680000" y="520704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（ 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4680000" y="5664240"/>
            <a:ext cx="8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（</a:t>
            </a:r>
            <a:r>
              <a:rPr b="1" lang="zh-CN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√</a:t>
            </a: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DEF3-404E-467E-AAFB-7D95A9A511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Century Gothic"/>
              </a:rPr>
              <a:t>课后思考：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042560" y="2323800"/>
            <a:ext cx="677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468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Century Gothic"/>
              </a:rPr>
              <a:t>如果条形磁铁不小心摔成两段，那么它有几个磁极呢？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Object 46" descr=""/>
          <p:cNvPicPr/>
          <p:nvPr/>
        </p:nvPicPr>
        <p:blipFill>
          <a:blip r:embed="rId1"/>
          <a:stretch/>
        </p:blipFill>
        <p:spPr>
          <a:xfrm>
            <a:off x="1720800" y="2349360"/>
            <a:ext cx="5803920" cy="733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1"/>
          <p:cNvSpPr/>
          <p:nvPr/>
        </p:nvSpPr>
        <p:spPr>
          <a:xfrm>
            <a:off x="684360" y="125568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研究问题：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黑体"/>
              </a:rPr>
              <a:t>条形磁铁的磁力哪里强</a:t>
            </a: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黑体"/>
              </a:rPr>
              <a:t>? 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黑体"/>
              </a:rPr>
              <a:t>哪里弱？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3"/>
          <p:cNvSpPr/>
          <p:nvPr/>
        </p:nvSpPr>
        <p:spPr>
          <a:xfrm>
            <a:off x="1752480" y="3860640"/>
            <a:ext cx="6419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华文楷体"/>
              </a:rPr>
              <a:t>    </a:t>
            </a:r>
            <a:r>
              <a:rPr b="1" i="1" lang="zh-CN" sz="3100" spc="-1" strike="noStrike">
                <a:solidFill>
                  <a:srgbClr val="ff3300"/>
                </a:solidFill>
                <a:latin typeface="宋体"/>
                <a:ea typeface="华文楷体"/>
              </a:rPr>
              <a:t>可以用什么方法来检测？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763640" y="175680"/>
            <a:ext cx="540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磁铁的研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Object 3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5904000" cy="746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2438280" y="4950720"/>
            <a:ext cx="4546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形针挂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说明磁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形针挂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说明磁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ject 6" descr=""/>
          <p:cNvPicPr/>
          <p:nvPr/>
        </p:nvPicPr>
        <p:blipFill>
          <a:blip r:embed="rId2"/>
          <a:stretch/>
        </p:blipFill>
        <p:spPr>
          <a:xfrm>
            <a:off x="1332000" y="2819520"/>
            <a:ext cx="507960" cy="10411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2819520" y="2362320"/>
            <a:ext cx="32400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挂哪里？ 怎么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1828800" y="1143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用磁铁的不同部位吸回形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entury Gothic"/>
              </a:rPr>
              <a:t>实验方法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把磁铁从左到右取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个点分成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个部分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用磁铁的不同部位去吸回形针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把结果记录在导学案上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Object 34" descr=""/>
          <p:cNvPicPr/>
          <p:nvPr/>
        </p:nvPicPr>
        <p:blipFill>
          <a:blip r:embed="rId1"/>
          <a:stretch/>
        </p:blipFill>
        <p:spPr>
          <a:xfrm>
            <a:off x="1332000" y="2819520"/>
            <a:ext cx="507960" cy="10411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1763640" y="175680"/>
            <a:ext cx="540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磁铁的研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Object 4" descr=""/>
          <p:cNvPicPr/>
          <p:nvPr/>
        </p:nvPicPr>
        <p:blipFill>
          <a:blip r:embed="rId2"/>
          <a:stretch/>
        </p:blipFill>
        <p:spPr>
          <a:xfrm>
            <a:off x="1625760" y="2098800"/>
            <a:ext cx="5903640" cy="7459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6"/>
          <p:cNvSpPr/>
          <p:nvPr/>
        </p:nvSpPr>
        <p:spPr>
          <a:xfrm>
            <a:off x="638280" y="4581360"/>
            <a:ext cx="549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47636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取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9"/>
          <p:cNvGrpSpPr/>
          <p:nvPr/>
        </p:nvGrpSpPr>
        <p:grpSpPr>
          <a:xfrm>
            <a:off x="1476360" y="2781360"/>
            <a:ext cx="5953680" cy="622080"/>
            <a:chOff x="1476360" y="2781360"/>
            <a:chExt cx="5953680" cy="622080"/>
          </a:xfrm>
        </p:grpSpPr>
        <p:grpSp>
          <p:nvGrpSpPr>
            <p:cNvPr id="397" name="Group 20"/>
            <p:cNvGrpSpPr/>
            <p:nvPr/>
          </p:nvGrpSpPr>
          <p:grpSpPr>
            <a:xfrm>
              <a:off x="1476360" y="2781360"/>
              <a:ext cx="504720" cy="622080"/>
              <a:chOff x="1476360" y="2781360"/>
              <a:chExt cx="504720" cy="622080"/>
            </a:xfrm>
          </p:grpSpPr>
          <p:sp>
            <p:nvSpPr>
              <p:cNvPr id="398" name="Text Box 21"/>
              <p:cNvSpPr/>
              <p:nvPr/>
            </p:nvSpPr>
            <p:spPr>
              <a:xfrm>
                <a:off x="1476360" y="2852640"/>
                <a:ext cx="50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22"/>
              <p:cNvSpPr/>
              <p:nvPr/>
            </p:nvSpPr>
            <p:spPr>
              <a:xfrm>
                <a:off x="161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3"/>
            <p:cNvGrpSpPr/>
            <p:nvPr/>
          </p:nvGrpSpPr>
          <p:grpSpPr>
            <a:xfrm>
              <a:off x="7125840" y="2781360"/>
              <a:ext cx="304200" cy="487440"/>
              <a:chOff x="7125840" y="2781360"/>
              <a:chExt cx="304200" cy="487440"/>
            </a:xfrm>
          </p:grpSpPr>
          <p:sp>
            <p:nvSpPr>
              <p:cNvPr id="401" name="Oval 24"/>
              <p:cNvSpPr/>
              <p:nvPr/>
            </p:nvSpPr>
            <p:spPr>
              <a:xfrm>
                <a:off x="723600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25"/>
              <p:cNvSpPr/>
              <p:nvPr/>
            </p:nvSpPr>
            <p:spPr>
              <a:xfrm>
                <a:off x="7125840" y="2900520"/>
                <a:ext cx="30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mbria"/>
                    <a:ea typeface="华文楷体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Group 32"/>
          <p:cNvGrpSpPr/>
          <p:nvPr/>
        </p:nvGrpSpPr>
        <p:grpSpPr>
          <a:xfrm>
            <a:off x="4324680" y="2276640"/>
            <a:ext cx="409320" cy="1126800"/>
            <a:chOff x="4324680" y="2276640"/>
            <a:chExt cx="409320" cy="1126800"/>
          </a:xfrm>
        </p:grpSpPr>
        <p:grpSp>
          <p:nvGrpSpPr>
            <p:cNvPr id="404" name="Group 9"/>
            <p:cNvGrpSpPr/>
            <p:nvPr/>
          </p:nvGrpSpPr>
          <p:grpSpPr>
            <a:xfrm>
              <a:off x="4324680" y="2781360"/>
              <a:ext cx="409320" cy="622080"/>
              <a:chOff x="4324680" y="2781360"/>
              <a:chExt cx="409320" cy="622080"/>
            </a:xfrm>
          </p:grpSpPr>
          <p:sp>
            <p:nvSpPr>
              <p:cNvPr id="405" name="Rectangle 10"/>
              <p:cNvSpPr/>
              <p:nvPr/>
            </p:nvSpPr>
            <p:spPr>
              <a:xfrm>
                <a:off x="43246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1"/>
              <p:cNvSpPr/>
              <p:nvPr/>
            </p:nvSpPr>
            <p:spPr>
              <a:xfrm>
                <a:off x="450072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573800" y="2276640"/>
              <a:ext cx="360" cy="504720"/>
              <a:chOff x="4573800" y="2276640"/>
              <a:chExt cx="360" cy="504720"/>
            </a:xfrm>
          </p:grpSpPr>
          <p:sp>
            <p:nvSpPr>
              <p:cNvPr id="408" name="Line 28"/>
              <p:cNvSpPr/>
              <p:nvPr/>
            </p:nvSpPr>
            <p:spPr>
              <a:xfrm>
                <a:off x="45738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45738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Group 33"/>
          <p:cNvGrpSpPr/>
          <p:nvPr/>
        </p:nvGrpSpPr>
        <p:grpSpPr>
          <a:xfrm>
            <a:off x="2899080" y="2276640"/>
            <a:ext cx="3400200" cy="1126800"/>
            <a:chOff x="2899080" y="2276640"/>
            <a:chExt cx="3400200" cy="1126800"/>
          </a:xfrm>
        </p:grpSpPr>
        <p:grpSp>
          <p:nvGrpSpPr>
            <p:cNvPr id="411" name="Group 13"/>
            <p:cNvGrpSpPr/>
            <p:nvPr/>
          </p:nvGrpSpPr>
          <p:grpSpPr>
            <a:xfrm>
              <a:off x="2899080" y="2781360"/>
              <a:ext cx="409320" cy="622080"/>
              <a:chOff x="2899080" y="2781360"/>
              <a:chExt cx="409320" cy="622080"/>
            </a:xfrm>
          </p:grpSpPr>
          <p:sp>
            <p:nvSpPr>
              <p:cNvPr id="412" name="Rectangle 14"/>
              <p:cNvSpPr/>
              <p:nvPr/>
            </p:nvSpPr>
            <p:spPr>
              <a:xfrm>
                <a:off x="28990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15"/>
              <p:cNvSpPr/>
              <p:nvPr/>
            </p:nvSpPr>
            <p:spPr>
              <a:xfrm>
                <a:off x="305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6"/>
            <p:cNvGrpSpPr/>
            <p:nvPr/>
          </p:nvGrpSpPr>
          <p:grpSpPr>
            <a:xfrm>
              <a:off x="5796000" y="2786040"/>
              <a:ext cx="503280" cy="617400"/>
              <a:chOff x="5796000" y="2786040"/>
              <a:chExt cx="503280" cy="617400"/>
            </a:xfrm>
          </p:grpSpPr>
          <p:sp>
            <p:nvSpPr>
              <p:cNvPr id="415" name="Rectangle 17"/>
              <p:cNvSpPr/>
              <p:nvPr/>
            </p:nvSpPr>
            <p:spPr>
              <a:xfrm>
                <a:off x="5796000" y="2852640"/>
                <a:ext cx="503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8"/>
              <p:cNvSpPr/>
              <p:nvPr/>
            </p:nvSpPr>
            <p:spPr>
              <a:xfrm>
                <a:off x="5938920" y="2786040"/>
                <a:ext cx="14472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013440" y="2276640"/>
              <a:ext cx="360" cy="504720"/>
              <a:chOff x="6013440" y="2276640"/>
              <a:chExt cx="360" cy="504720"/>
            </a:xfrm>
          </p:grpSpPr>
          <p:sp>
            <p:nvSpPr>
              <p:cNvPr id="418" name="Line 29"/>
              <p:cNvSpPr/>
              <p:nvPr/>
            </p:nvSpPr>
            <p:spPr>
              <a:xfrm>
                <a:off x="601344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601344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3132000" y="2276640"/>
              <a:ext cx="360" cy="504720"/>
              <a:chOff x="3132000" y="2276640"/>
              <a:chExt cx="360" cy="504720"/>
            </a:xfrm>
          </p:grpSpPr>
          <p:sp>
            <p:nvSpPr>
              <p:cNvPr id="421" name="Line 30"/>
              <p:cNvSpPr/>
              <p:nvPr/>
            </p:nvSpPr>
            <p:spPr>
              <a:xfrm>
                <a:off x="31320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31320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文本框 8199"/>
          <p:cNvSpPr/>
          <p:nvPr/>
        </p:nvSpPr>
        <p:spPr>
          <a:xfrm>
            <a:off x="2635200" y="1461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Object 2" descr=""/>
          <p:cNvPicPr/>
          <p:nvPr/>
        </p:nvPicPr>
        <p:blipFill>
          <a:blip r:embed="rId1"/>
          <a:stretch/>
        </p:blipFill>
        <p:spPr>
          <a:xfrm>
            <a:off x="6953400" y="2819520"/>
            <a:ext cx="533160" cy="1989000"/>
          </a:xfrm>
          <a:prstGeom prst="rect">
            <a:avLst/>
          </a:prstGeom>
          <a:ln w="0">
            <a:noFill/>
          </a:ln>
        </p:spPr>
      </p:pic>
      <p:pic>
        <p:nvPicPr>
          <p:cNvPr id="425" name="Object 3" descr=""/>
          <p:cNvPicPr/>
          <p:nvPr/>
        </p:nvPicPr>
        <p:blipFill>
          <a:blip r:embed="rId2"/>
          <a:stretch/>
        </p:blipFill>
        <p:spPr>
          <a:xfrm>
            <a:off x="1332000" y="2819520"/>
            <a:ext cx="507960" cy="10411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1755720" y="456480"/>
            <a:ext cx="540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磁铁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5" descr=""/>
          <p:cNvPicPr/>
          <p:nvPr/>
        </p:nvPicPr>
        <p:blipFill>
          <a:blip r:embed="rId3"/>
          <a:stretch/>
        </p:blipFill>
        <p:spPr>
          <a:xfrm>
            <a:off x="1625760" y="2098800"/>
            <a:ext cx="5903640" cy="74592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638280" y="4581360"/>
            <a:ext cx="549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47636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取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8"/>
          <p:cNvGrpSpPr/>
          <p:nvPr/>
        </p:nvGrpSpPr>
        <p:grpSpPr>
          <a:xfrm>
            <a:off x="1476360" y="2781360"/>
            <a:ext cx="5953680" cy="622080"/>
            <a:chOff x="1476360" y="2781360"/>
            <a:chExt cx="5953680" cy="622080"/>
          </a:xfrm>
        </p:grpSpPr>
        <p:grpSp>
          <p:nvGrpSpPr>
            <p:cNvPr id="431" name="Group 9"/>
            <p:cNvGrpSpPr/>
            <p:nvPr/>
          </p:nvGrpSpPr>
          <p:grpSpPr>
            <a:xfrm>
              <a:off x="1476360" y="2781360"/>
              <a:ext cx="504720" cy="622080"/>
              <a:chOff x="1476360" y="2781360"/>
              <a:chExt cx="504720" cy="622080"/>
            </a:xfrm>
          </p:grpSpPr>
          <p:sp>
            <p:nvSpPr>
              <p:cNvPr id="432" name="Text Box 10"/>
              <p:cNvSpPr/>
              <p:nvPr/>
            </p:nvSpPr>
            <p:spPr>
              <a:xfrm>
                <a:off x="1476360" y="2852640"/>
                <a:ext cx="50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11"/>
              <p:cNvSpPr/>
              <p:nvPr/>
            </p:nvSpPr>
            <p:spPr>
              <a:xfrm>
                <a:off x="161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2"/>
            <p:cNvGrpSpPr/>
            <p:nvPr/>
          </p:nvGrpSpPr>
          <p:grpSpPr>
            <a:xfrm>
              <a:off x="7125840" y="2781360"/>
              <a:ext cx="304200" cy="487440"/>
              <a:chOff x="7125840" y="2781360"/>
              <a:chExt cx="304200" cy="487440"/>
            </a:xfrm>
          </p:grpSpPr>
          <p:sp>
            <p:nvSpPr>
              <p:cNvPr id="435" name="Oval 13"/>
              <p:cNvSpPr/>
              <p:nvPr/>
            </p:nvSpPr>
            <p:spPr>
              <a:xfrm>
                <a:off x="723600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4"/>
              <p:cNvSpPr/>
              <p:nvPr/>
            </p:nvSpPr>
            <p:spPr>
              <a:xfrm>
                <a:off x="7125840" y="2900520"/>
                <a:ext cx="30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mbria"/>
                    <a:ea typeface="华文楷体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Group 15"/>
          <p:cNvGrpSpPr/>
          <p:nvPr/>
        </p:nvGrpSpPr>
        <p:grpSpPr>
          <a:xfrm>
            <a:off x="4324680" y="2276640"/>
            <a:ext cx="409320" cy="1126800"/>
            <a:chOff x="4324680" y="2276640"/>
            <a:chExt cx="409320" cy="1126800"/>
          </a:xfrm>
        </p:grpSpPr>
        <p:grpSp>
          <p:nvGrpSpPr>
            <p:cNvPr id="438" name="Group 16"/>
            <p:cNvGrpSpPr/>
            <p:nvPr/>
          </p:nvGrpSpPr>
          <p:grpSpPr>
            <a:xfrm>
              <a:off x="4324680" y="2781360"/>
              <a:ext cx="409320" cy="622080"/>
              <a:chOff x="4324680" y="2781360"/>
              <a:chExt cx="409320" cy="622080"/>
            </a:xfrm>
          </p:grpSpPr>
          <p:sp>
            <p:nvSpPr>
              <p:cNvPr id="439" name="Rectangle 17"/>
              <p:cNvSpPr/>
              <p:nvPr/>
            </p:nvSpPr>
            <p:spPr>
              <a:xfrm>
                <a:off x="43246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18"/>
              <p:cNvSpPr/>
              <p:nvPr/>
            </p:nvSpPr>
            <p:spPr>
              <a:xfrm>
                <a:off x="450072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4573800" y="2276640"/>
              <a:ext cx="360" cy="504720"/>
              <a:chOff x="4573800" y="2276640"/>
              <a:chExt cx="360" cy="504720"/>
            </a:xfrm>
          </p:grpSpPr>
          <p:sp>
            <p:nvSpPr>
              <p:cNvPr id="442" name="Line 19"/>
              <p:cNvSpPr/>
              <p:nvPr/>
            </p:nvSpPr>
            <p:spPr>
              <a:xfrm>
                <a:off x="45738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45738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0"/>
          <p:cNvGrpSpPr/>
          <p:nvPr/>
        </p:nvGrpSpPr>
        <p:grpSpPr>
          <a:xfrm>
            <a:off x="2899080" y="2276640"/>
            <a:ext cx="3400200" cy="1126800"/>
            <a:chOff x="2899080" y="2276640"/>
            <a:chExt cx="3400200" cy="1126800"/>
          </a:xfrm>
        </p:grpSpPr>
        <p:grpSp>
          <p:nvGrpSpPr>
            <p:cNvPr id="445" name="Group 21"/>
            <p:cNvGrpSpPr/>
            <p:nvPr/>
          </p:nvGrpSpPr>
          <p:grpSpPr>
            <a:xfrm>
              <a:off x="2899080" y="2781360"/>
              <a:ext cx="409320" cy="622080"/>
              <a:chOff x="2899080" y="2781360"/>
              <a:chExt cx="409320" cy="622080"/>
            </a:xfrm>
          </p:grpSpPr>
          <p:sp>
            <p:nvSpPr>
              <p:cNvPr id="446" name="Rectangle 22"/>
              <p:cNvSpPr/>
              <p:nvPr/>
            </p:nvSpPr>
            <p:spPr>
              <a:xfrm>
                <a:off x="28990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23"/>
              <p:cNvSpPr/>
              <p:nvPr/>
            </p:nvSpPr>
            <p:spPr>
              <a:xfrm>
                <a:off x="305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4"/>
            <p:cNvGrpSpPr/>
            <p:nvPr/>
          </p:nvGrpSpPr>
          <p:grpSpPr>
            <a:xfrm>
              <a:off x="5796000" y="2786040"/>
              <a:ext cx="503280" cy="617400"/>
              <a:chOff x="5796000" y="2786040"/>
              <a:chExt cx="503280" cy="617400"/>
            </a:xfrm>
          </p:grpSpPr>
          <p:sp>
            <p:nvSpPr>
              <p:cNvPr id="449" name="Rectangle 25"/>
              <p:cNvSpPr/>
              <p:nvPr/>
            </p:nvSpPr>
            <p:spPr>
              <a:xfrm>
                <a:off x="5796000" y="2852640"/>
                <a:ext cx="503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26"/>
              <p:cNvSpPr/>
              <p:nvPr/>
            </p:nvSpPr>
            <p:spPr>
              <a:xfrm>
                <a:off x="5938920" y="2786040"/>
                <a:ext cx="14472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013440" y="2276640"/>
              <a:ext cx="360" cy="504720"/>
              <a:chOff x="6013440" y="2276640"/>
              <a:chExt cx="360" cy="504720"/>
            </a:xfrm>
          </p:grpSpPr>
          <p:sp>
            <p:nvSpPr>
              <p:cNvPr id="452" name="Line 27"/>
              <p:cNvSpPr/>
              <p:nvPr/>
            </p:nvSpPr>
            <p:spPr>
              <a:xfrm>
                <a:off x="601344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601344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132000" y="2276640"/>
              <a:ext cx="360" cy="504720"/>
              <a:chOff x="3132000" y="2276640"/>
              <a:chExt cx="360" cy="504720"/>
            </a:xfrm>
          </p:grpSpPr>
          <p:sp>
            <p:nvSpPr>
              <p:cNvPr id="455" name="Line 28"/>
              <p:cNvSpPr/>
              <p:nvPr/>
            </p:nvSpPr>
            <p:spPr>
              <a:xfrm>
                <a:off x="31320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31320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Text Box 29"/>
          <p:cNvSpPr/>
          <p:nvPr/>
        </p:nvSpPr>
        <p:spPr>
          <a:xfrm>
            <a:off x="320364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悬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Object 30" descr=""/>
          <p:cNvPicPr/>
          <p:nvPr/>
        </p:nvPicPr>
        <p:blipFill>
          <a:blip r:embed="rId4"/>
          <a:stretch/>
        </p:blipFill>
        <p:spPr>
          <a:xfrm>
            <a:off x="1542960" y="3827520"/>
            <a:ext cx="292320" cy="104148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31"/>
          <p:cNvSpPr/>
          <p:nvPr/>
        </p:nvSpPr>
        <p:spPr>
          <a:xfrm>
            <a:off x="8926560" y="6597720"/>
            <a:ext cx="182520" cy="189000"/>
          </a:xfrm>
          <a:custGeom>
            <a:avLst/>
            <a:gdLst>
              <a:gd name="textAreaLeft" fmla="*/ 11520 w 182520"/>
              <a:gd name="textAreaRight" fmla="*/ 171000 w 182520"/>
              <a:gd name="textAreaTop" fmla="*/ 11520 h 189000"/>
              <a:gd name="textAreaBottom" fmla="*/ 177480 h 189000"/>
            </a:gdLst>
            <a:ahLst/>
            <a:rect l="textAreaLeft" t="textAreaTop" r="textAreaRight" b="textAreaBottom"/>
            <a:pathLst>
              <a:path w="21600" h="22365">
                <a:moveTo>
                  <a:pt x="0" y="0"/>
                </a:moveTo>
                <a:lnTo>
                  <a:pt x="21600" y="0"/>
                </a:lnTo>
                <a:lnTo>
                  <a:pt x="21600" y="22365"/>
                </a:lnTo>
                <a:lnTo>
                  <a:pt x="0" y="22365"/>
                </a:lnTo>
                <a:close/>
              </a:path>
              <a:path fill="lightenLess" w="21600" h="22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5">
                <a:moveTo>
                  <a:pt x="21600" y="0"/>
                </a:moveTo>
                <a:lnTo>
                  <a:pt x="21600" y="22365"/>
                </a:lnTo>
                <a:lnTo>
                  <a:pt x="20200" y="20965"/>
                </a:lnTo>
                <a:lnTo>
                  <a:pt x="20200" y="1400"/>
                </a:lnTo>
                <a:close/>
              </a:path>
              <a:path fill="darkenLess" w="21600" h="22365">
                <a:moveTo>
                  <a:pt x="21600" y="22365"/>
                </a:moveTo>
                <a:lnTo>
                  <a:pt x="0" y="22365"/>
                </a:lnTo>
                <a:lnTo>
                  <a:pt x="1400" y="20965"/>
                </a:lnTo>
                <a:lnTo>
                  <a:pt x="20200" y="20965"/>
                </a:lnTo>
                <a:close/>
              </a:path>
              <a:path fill="lighten" w="21600" h="22365">
                <a:moveTo>
                  <a:pt x="0" y="22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5"/>
                </a:lnTo>
                <a:close/>
              </a:path>
              <a:path fill="darken" w="21600" h="22365">
                <a:moveTo>
                  <a:pt x="3794" y="4176"/>
                </a:moveTo>
                <a:lnTo>
                  <a:pt x="17806" y="11183"/>
                </a:lnTo>
                <a:lnTo>
                  <a:pt x="3794" y="181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52"/>
          <p:cNvGrpSpPr/>
          <p:nvPr/>
        </p:nvGrpSpPr>
        <p:grpSpPr>
          <a:xfrm>
            <a:off x="7088040" y="2781360"/>
            <a:ext cx="291960" cy="623520"/>
            <a:chOff x="7088040" y="2781360"/>
            <a:chExt cx="291960" cy="623520"/>
          </a:xfrm>
        </p:grpSpPr>
        <p:sp>
          <p:nvSpPr>
            <p:cNvPr id="461" name="Rectangle 53"/>
            <p:cNvSpPr/>
            <p:nvPr/>
          </p:nvSpPr>
          <p:spPr>
            <a:xfrm>
              <a:off x="7088040" y="2855520"/>
              <a:ext cx="18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4"/>
            <p:cNvSpPr/>
            <p:nvPr/>
          </p:nvSpPr>
          <p:spPr>
            <a:xfrm>
              <a:off x="7243200" y="2781360"/>
              <a:ext cx="13680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35"/>
          <p:cNvGrpSpPr/>
          <p:nvPr/>
        </p:nvGrpSpPr>
        <p:grpSpPr>
          <a:xfrm>
            <a:off x="2826000" y="3890520"/>
            <a:ext cx="5059080" cy="2778480"/>
            <a:chOff x="2826000" y="3890520"/>
            <a:chExt cx="5059080" cy="2778480"/>
          </a:xfrm>
        </p:grpSpPr>
        <p:sp>
          <p:nvSpPr>
            <p:cNvPr id="464" name="Rectangle 36"/>
            <p:cNvSpPr/>
            <p:nvPr/>
          </p:nvSpPr>
          <p:spPr>
            <a:xfrm>
              <a:off x="3525480" y="3890520"/>
              <a:ext cx="4359600" cy="21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1</a:t>
              </a: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、轻拿轻放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2</a:t>
              </a: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、及时记录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3</a:t>
              </a: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、分析数据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4</a:t>
              </a: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、轻声交流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37"/>
            <p:cNvSpPr/>
            <p:nvPr/>
          </p:nvSpPr>
          <p:spPr>
            <a:xfrm>
              <a:off x="2826000" y="4392360"/>
              <a:ext cx="576360" cy="22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宋体"/>
                  <a:ea typeface="华文楷体"/>
                </a:rPr>
                <a:t>注   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Object 3" descr=""/>
          <p:cNvPicPr/>
          <p:nvPr/>
        </p:nvPicPr>
        <p:blipFill>
          <a:blip r:embed="rId1"/>
          <a:stretch/>
        </p:blipFill>
        <p:spPr>
          <a:xfrm>
            <a:off x="1332000" y="2819520"/>
            <a:ext cx="507960" cy="10411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4"/>
          <p:cNvSpPr/>
          <p:nvPr/>
        </p:nvSpPr>
        <p:spPr>
          <a:xfrm>
            <a:off x="1763640" y="175680"/>
            <a:ext cx="540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磁铁的研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Object 5" descr=""/>
          <p:cNvPicPr/>
          <p:nvPr/>
        </p:nvPicPr>
        <p:blipFill>
          <a:blip r:embed="rId2"/>
          <a:stretch/>
        </p:blipFill>
        <p:spPr>
          <a:xfrm>
            <a:off x="1625760" y="2098800"/>
            <a:ext cx="5903640" cy="74592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638280" y="4581360"/>
            <a:ext cx="549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147636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取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"/>
          <p:cNvGrpSpPr/>
          <p:nvPr/>
        </p:nvGrpSpPr>
        <p:grpSpPr>
          <a:xfrm>
            <a:off x="1476360" y="2781360"/>
            <a:ext cx="5953680" cy="622080"/>
            <a:chOff x="1476360" y="2781360"/>
            <a:chExt cx="5953680" cy="622080"/>
          </a:xfrm>
        </p:grpSpPr>
        <p:grpSp>
          <p:nvGrpSpPr>
            <p:cNvPr id="472" name="Group 9"/>
            <p:cNvGrpSpPr/>
            <p:nvPr/>
          </p:nvGrpSpPr>
          <p:grpSpPr>
            <a:xfrm>
              <a:off x="1476360" y="2781360"/>
              <a:ext cx="504720" cy="622080"/>
              <a:chOff x="1476360" y="2781360"/>
              <a:chExt cx="504720" cy="622080"/>
            </a:xfrm>
          </p:grpSpPr>
          <p:sp>
            <p:nvSpPr>
              <p:cNvPr id="473" name="Text Box 10"/>
              <p:cNvSpPr/>
              <p:nvPr/>
            </p:nvSpPr>
            <p:spPr>
              <a:xfrm>
                <a:off x="1476360" y="2852640"/>
                <a:ext cx="50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11"/>
              <p:cNvSpPr/>
              <p:nvPr/>
            </p:nvSpPr>
            <p:spPr>
              <a:xfrm>
                <a:off x="161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12"/>
            <p:cNvGrpSpPr/>
            <p:nvPr/>
          </p:nvGrpSpPr>
          <p:grpSpPr>
            <a:xfrm>
              <a:off x="7125840" y="2781360"/>
              <a:ext cx="304200" cy="487440"/>
              <a:chOff x="7125840" y="2781360"/>
              <a:chExt cx="304200" cy="487440"/>
            </a:xfrm>
          </p:grpSpPr>
          <p:sp>
            <p:nvSpPr>
              <p:cNvPr id="476" name="Oval 13"/>
              <p:cNvSpPr/>
              <p:nvPr/>
            </p:nvSpPr>
            <p:spPr>
              <a:xfrm>
                <a:off x="723600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4"/>
              <p:cNvSpPr/>
              <p:nvPr/>
            </p:nvSpPr>
            <p:spPr>
              <a:xfrm>
                <a:off x="7125840" y="2900520"/>
                <a:ext cx="30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mbria"/>
                    <a:ea typeface="华文楷体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15"/>
          <p:cNvGrpSpPr/>
          <p:nvPr/>
        </p:nvGrpSpPr>
        <p:grpSpPr>
          <a:xfrm>
            <a:off x="4324680" y="2276640"/>
            <a:ext cx="409320" cy="1126800"/>
            <a:chOff x="4324680" y="2276640"/>
            <a:chExt cx="409320" cy="1126800"/>
          </a:xfrm>
        </p:grpSpPr>
        <p:grpSp>
          <p:nvGrpSpPr>
            <p:cNvPr id="479" name="Group 16"/>
            <p:cNvGrpSpPr/>
            <p:nvPr/>
          </p:nvGrpSpPr>
          <p:grpSpPr>
            <a:xfrm>
              <a:off x="4324680" y="2781360"/>
              <a:ext cx="409320" cy="622080"/>
              <a:chOff x="4324680" y="2781360"/>
              <a:chExt cx="409320" cy="622080"/>
            </a:xfrm>
          </p:grpSpPr>
          <p:sp>
            <p:nvSpPr>
              <p:cNvPr id="480" name="Rectangle 17"/>
              <p:cNvSpPr/>
              <p:nvPr/>
            </p:nvSpPr>
            <p:spPr>
              <a:xfrm>
                <a:off x="43246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18"/>
              <p:cNvSpPr/>
              <p:nvPr/>
            </p:nvSpPr>
            <p:spPr>
              <a:xfrm>
                <a:off x="450072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573800" y="2276640"/>
              <a:ext cx="360" cy="504720"/>
              <a:chOff x="4573800" y="2276640"/>
              <a:chExt cx="360" cy="504720"/>
            </a:xfrm>
          </p:grpSpPr>
          <p:sp>
            <p:nvSpPr>
              <p:cNvPr id="483" name="Line 19"/>
              <p:cNvSpPr/>
              <p:nvPr/>
            </p:nvSpPr>
            <p:spPr>
              <a:xfrm>
                <a:off x="45738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45738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20"/>
          <p:cNvGrpSpPr/>
          <p:nvPr/>
        </p:nvGrpSpPr>
        <p:grpSpPr>
          <a:xfrm>
            <a:off x="2899080" y="2276640"/>
            <a:ext cx="3400200" cy="1126800"/>
            <a:chOff x="2899080" y="2276640"/>
            <a:chExt cx="3400200" cy="1126800"/>
          </a:xfrm>
        </p:grpSpPr>
        <p:grpSp>
          <p:nvGrpSpPr>
            <p:cNvPr id="486" name="Group 21"/>
            <p:cNvGrpSpPr/>
            <p:nvPr/>
          </p:nvGrpSpPr>
          <p:grpSpPr>
            <a:xfrm>
              <a:off x="2899080" y="2781360"/>
              <a:ext cx="409320" cy="622080"/>
              <a:chOff x="2899080" y="2781360"/>
              <a:chExt cx="409320" cy="622080"/>
            </a:xfrm>
          </p:grpSpPr>
          <p:sp>
            <p:nvSpPr>
              <p:cNvPr id="487" name="Rectangle 22"/>
              <p:cNvSpPr/>
              <p:nvPr/>
            </p:nvSpPr>
            <p:spPr>
              <a:xfrm>
                <a:off x="28990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23"/>
              <p:cNvSpPr/>
              <p:nvPr/>
            </p:nvSpPr>
            <p:spPr>
              <a:xfrm>
                <a:off x="305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24"/>
            <p:cNvGrpSpPr/>
            <p:nvPr/>
          </p:nvGrpSpPr>
          <p:grpSpPr>
            <a:xfrm>
              <a:off x="5796000" y="2786040"/>
              <a:ext cx="503280" cy="617400"/>
              <a:chOff x="5796000" y="2786040"/>
              <a:chExt cx="503280" cy="617400"/>
            </a:xfrm>
          </p:grpSpPr>
          <p:sp>
            <p:nvSpPr>
              <p:cNvPr id="490" name="Rectangle 25"/>
              <p:cNvSpPr/>
              <p:nvPr/>
            </p:nvSpPr>
            <p:spPr>
              <a:xfrm>
                <a:off x="5796000" y="2852640"/>
                <a:ext cx="503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26"/>
              <p:cNvSpPr/>
              <p:nvPr/>
            </p:nvSpPr>
            <p:spPr>
              <a:xfrm>
                <a:off x="5938920" y="2786040"/>
                <a:ext cx="14472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6013440" y="2276640"/>
              <a:ext cx="360" cy="504720"/>
              <a:chOff x="6013440" y="2276640"/>
              <a:chExt cx="360" cy="504720"/>
            </a:xfrm>
          </p:grpSpPr>
          <p:sp>
            <p:nvSpPr>
              <p:cNvPr id="493" name="Line 27"/>
              <p:cNvSpPr/>
              <p:nvPr/>
            </p:nvSpPr>
            <p:spPr>
              <a:xfrm>
                <a:off x="601344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>
                <a:off x="601344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132000" y="2276640"/>
              <a:ext cx="360" cy="504720"/>
              <a:chOff x="3132000" y="2276640"/>
              <a:chExt cx="360" cy="504720"/>
            </a:xfrm>
          </p:grpSpPr>
          <p:sp>
            <p:nvSpPr>
              <p:cNvPr id="496" name="Line 28"/>
              <p:cNvSpPr/>
              <p:nvPr/>
            </p:nvSpPr>
            <p:spPr>
              <a:xfrm>
                <a:off x="31320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>
                <a:off x="31320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Text Box 29"/>
          <p:cNvSpPr/>
          <p:nvPr/>
        </p:nvSpPr>
        <p:spPr>
          <a:xfrm>
            <a:off x="320364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悬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Object 30" descr=""/>
          <p:cNvPicPr/>
          <p:nvPr/>
        </p:nvPicPr>
        <p:blipFill>
          <a:blip r:embed="rId3"/>
          <a:stretch/>
        </p:blipFill>
        <p:spPr>
          <a:xfrm>
            <a:off x="1542960" y="3827520"/>
            <a:ext cx="292320" cy="104148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31"/>
          <p:cNvSpPr/>
          <p:nvPr/>
        </p:nvSpPr>
        <p:spPr>
          <a:xfrm>
            <a:off x="8926560" y="6597720"/>
            <a:ext cx="182520" cy="189000"/>
          </a:xfrm>
          <a:custGeom>
            <a:avLst/>
            <a:gdLst>
              <a:gd name="textAreaLeft" fmla="*/ 11520 w 182520"/>
              <a:gd name="textAreaRight" fmla="*/ 171000 w 182520"/>
              <a:gd name="textAreaTop" fmla="*/ 11520 h 189000"/>
              <a:gd name="textAreaBottom" fmla="*/ 177480 h 189000"/>
            </a:gdLst>
            <a:ahLst/>
            <a:rect l="textAreaLeft" t="textAreaTop" r="textAreaRight" b="textAreaBottom"/>
            <a:pathLst>
              <a:path w="21600" h="22365">
                <a:moveTo>
                  <a:pt x="0" y="0"/>
                </a:moveTo>
                <a:lnTo>
                  <a:pt x="21600" y="0"/>
                </a:lnTo>
                <a:lnTo>
                  <a:pt x="21600" y="22365"/>
                </a:lnTo>
                <a:lnTo>
                  <a:pt x="0" y="22365"/>
                </a:lnTo>
                <a:close/>
              </a:path>
              <a:path fill="lightenLess" w="21600" h="22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5">
                <a:moveTo>
                  <a:pt x="21600" y="0"/>
                </a:moveTo>
                <a:lnTo>
                  <a:pt x="21600" y="22365"/>
                </a:lnTo>
                <a:lnTo>
                  <a:pt x="20200" y="20965"/>
                </a:lnTo>
                <a:lnTo>
                  <a:pt x="20200" y="1400"/>
                </a:lnTo>
                <a:close/>
              </a:path>
              <a:path fill="darkenLess" w="21600" h="22365">
                <a:moveTo>
                  <a:pt x="21600" y="22365"/>
                </a:moveTo>
                <a:lnTo>
                  <a:pt x="0" y="22365"/>
                </a:lnTo>
                <a:lnTo>
                  <a:pt x="1400" y="20965"/>
                </a:lnTo>
                <a:lnTo>
                  <a:pt x="20200" y="20965"/>
                </a:lnTo>
                <a:close/>
              </a:path>
              <a:path fill="lighten" w="21600" h="22365">
                <a:moveTo>
                  <a:pt x="0" y="22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5"/>
                </a:lnTo>
                <a:close/>
              </a:path>
              <a:path fill="darken" w="21600" h="22365">
                <a:moveTo>
                  <a:pt x="3794" y="4176"/>
                </a:moveTo>
                <a:lnTo>
                  <a:pt x="17806" y="11183"/>
                </a:lnTo>
                <a:lnTo>
                  <a:pt x="3794" y="181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2"/>
          <p:cNvSpPr/>
          <p:nvPr/>
        </p:nvSpPr>
        <p:spPr>
          <a:xfrm>
            <a:off x="500364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0" descr=""/>
          <p:cNvPicPr/>
          <p:nvPr/>
        </p:nvPicPr>
        <p:blipFill>
          <a:blip r:embed="rId4"/>
          <a:stretch/>
        </p:blipFill>
        <p:spPr>
          <a:xfrm>
            <a:off x="7039080" y="2857680"/>
            <a:ext cx="533160" cy="1989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3"/>
          <p:cNvSpPr/>
          <p:nvPr/>
        </p:nvSpPr>
        <p:spPr>
          <a:xfrm>
            <a:off x="6732720" y="1268280"/>
            <a:ext cx="9363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4"/>
          <p:cNvSpPr/>
          <p:nvPr/>
        </p:nvSpPr>
        <p:spPr>
          <a:xfrm>
            <a:off x="3159360" y="4642920"/>
            <a:ext cx="2974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回形针挂得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华文楷体"/>
              </a:rPr>
              <a:t>多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，说明磁力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华文楷体"/>
              </a:rPr>
              <a:t>强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回形针挂得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华文楷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，说明磁力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华文楷体"/>
              </a:rPr>
              <a:t>弱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3276720" y="646920"/>
            <a:ext cx="23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mbria"/>
                <a:ea typeface="华文楷体"/>
              </a:rPr>
              <a:t>磁铁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22200" y="2571840"/>
            <a:ext cx="1801800" cy="4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ambria"/>
                <a:ea typeface="华文楷体"/>
              </a:rPr>
              <a:t>磁铁的部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324000" y="3255840"/>
            <a:ext cx="1800000" cy="4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ambria"/>
                <a:ea typeface="华文楷体"/>
              </a:rPr>
              <a:t>所挂物体的个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1979640" y="340344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（      ）          （       ）          （        ）             （        ）         （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6804000" y="119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         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Object 10" descr=""/>
          <p:cNvPicPr/>
          <p:nvPr/>
        </p:nvPicPr>
        <p:blipFill>
          <a:blip r:embed="rId1"/>
          <a:stretch/>
        </p:blipFill>
        <p:spPr>
          <a:xfrm>
            <a:off x="2484360" y="1800360"/>
            <a:ext cx="5832720" cy="7365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11"/>
          <p:cNvSpPr/>
          <p:nvPr/>
        </p:nvSpPr>
        <p:spPr>
          <a:xfrm>
            <a:off x="285840" y="4286160"/>
            <a:ext cx="1801800" cy="4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ambria"/>
                <a:ea typeface="华文楷体"/>
              </a:rPr>
              <a:t>我们的发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340000" y="4724280"/>
            <a:ext cx="6048360" cy="360"/>
            <a:chOff x="2340000" y="4724280"/>
            <a:chExt cx="6048360" cy="360"/>
          </a:xfrm>
        </p:grpSpPr>
        <p:sp>
          <p:nvSpPr>
            <p:cNvPr id="513" name="Line 12"/>
            <p:cNvSpPr/>
            <p:nvPr/>
          </p:nvSpPr>
          <p:spPr>
            <a:xfrm>
              <a:off x="2340000" y="472428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2340000" y="4724280"/>
              <a:ext cx="60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2484360" y="2492280"/>
            <a:ext cx="5614920" cy="73080"/>
            <a:chOff x="2484360" y="2492280"/>
            <a:chExt cx="5614920" cy="73080"/>
          </a:xfrm>
        </p:grpSpPr>
        <p:sp>
          <p:nvSpPr>
            <p:cNvPr id="516" name="Oval 14"/>
            <p:cNvSpPr/>
            <p:nvPr/>
          </p:nvSpPr>
          <p:spPr>
            <a:xfrm>
              <a:off x="2484360" y="249228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6"/>
            <p:cNvSpPr/>
            <p:nvPr/>
          </p:nvSpPr>
          <p:spPr>
            <a:xfrm>
              <a:off x="8028000" y="249228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7"/>
            <p:cNvSpPr/>
            <p:nvPr/>
          </p:nvSpPr>
          <p:spPr>
            <a:xfrm>
              <a:off x="5219640" y="249228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8"/>
            <p:cNvSpPr/>
            <p:nvPr/>
          </p:nvSpPr>
          <p:spPr>
            <a:xfrm>
              <a:off x="3852720" y="249228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9"/>
            <p:cNvSpPr/>
            <p:nvPr/>
          </p:nvSpPr>
          <p:spPr>
            <a:xfrm>
              <a:off x="6659640" y="249408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5"/>
          <p:cNvGrpSpPr/>
          <p:nvPr/>
        </p:nvGrpSpPr>
        <p:grpSpPr>
          <a:xfrm>
            <a:off x="2340000" y="2448000"/>
            <a:ext cx="6192720" cy="550800"/>
            <a:chOff x="2340000" y="2448000"/>
            <a:chExt cx="6192720" cy="550800"/>
          </a:xfrm>
        </p:grpSpPr>
        <p:grpSp>
          <p:nvGrpSpPr>
            <p:cNvPr id="522" name="Group 24"/>
            <p:cNvGrpSpPr/>
            <p:nvPr/>
          </p:nvGrpSpPr>
          <p:grpSpPr>
            <a:xfrm>
              <a:off x="2340000" y="2448000"/>
              <a:ext cx="6192720" cy="550800"/>
              <a:chOff x="2340000" y="2448000"/>
              <a:chExt cx="6192720" cy="550800"/>
            </a:xfrm>
          </p:grpSpPr>
          <p:sp>
            <p:nvSpPr>
              <p:cNvPr id="523" name="Text Box 25"/>
              <p:cNvSpPr/>
              <p:nvPr/>
            </p:nvSpPr>
            <p:spPr>
              <a:xfrm>
                <a:off x="2340000" y="2448000"/>
                <a:ext cx="50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6"/>
              <p:cNvSpPr/>
              <p:nvPr/>
            </p:nvSpPr>
            <p:spPr>
              <a:xfrm>
                <a:off x="6515280" y="2448000"/>
                <a:ext cx="2017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      E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7"/>
              <p:cNvSpPr/>
              <p:nvPr/>
            </p:nvSpPr>
            <p:spPr>
              <a:xfrm>
                <a:off x="3557880" y="2448000"/>
                <a:ext cx="2009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      C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29"/>
            <p:cNvGrpSpPr/>
            <p:nvPr/>
          </p:nvGrpSpPr>
          <p:grpSpPr>
            <a:xfrm>
              <a:off x="2484360" y="2492640"/>
              <a:ext cx="5614920" cy="73080"/>
              <a:chOff x="2484360" y="2492640"/>
              <a:chExt cx="5614920" cy="73080"/>
            </a:xfrm>
          </p:grpSpPr>
          <p:sp>
            <p:nvSpPr>
              <p:cNvPr id="527" name="Oval 30"/>
              <p:cNvSpPr/>
              <p:nvPr/>
            </p:nvSpPr>
            <p:spPr>
              <a:xfrm>
                <a:off x="2484360" y="2492640"/>
                <a:ext cx="7164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31"/>
              <p:cNvSpPr/>
              <p:nvPr/>
            </p:nvSpPr>
            <p:spPr>
              <a:xfrm>
                <a:off x="8028000" y="2492640"/>
                <a:ext cx="7128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32"/>
              <p:cNvSpPr/>
              <p:nvPr/>
            </p:nvSpPr>
            <p:spPr>
              <a:xfrm>
                <a:off x="5219640" y="2492640"/>
                <a:ext cx="7164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33"/>
              <p:cNvSpPr/>
              <p:nvPr/>
            </p:nvSpPr>
            <p:spPr>
              <a:xfrm>
                <a:off x="3852720" y="2492640"/>
                <a:ext cx="7164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34"/>
              <p:cNvSpPr/>
              <p:nvPr/>
            </p:nvSpPr>
            <p:spPr>
              <a:xfrm>
                <a:off x="6659640" y="249444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Text Box 36"/>
          <p:cNvSpPr/>
          <p:nvPr/>
        </p:nvSpPr>
        <p:spPr>
          <a:xfrm>
            <a:off x="2340000" y="4149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ambria"/>
                <a:ea typeface="黑体"/>
              </a:rPr>
              <a:t>条形磁铁的磁力两端强，中间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09120" y="1752480"/>
            <a:ext cx="8001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4680">
              <a:spcBef>
                <a:spcPts val="11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entury Gothic"/>
              </a:rPr>
              <a:t>磁铁上磁力最强的部分称磁极。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680">
              <a:spcBef>
                <a:spcPts val="11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entury Gothic"/>
              </a:rPr>
              <a:t>磁铁有两个磁极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3:23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21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