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13.png" ContentType="image/png"/>
  <Override PartName="/ppt/media/image9.gif" ContentType="image/gif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5.jpeg" ContentType="image/jpeg"/>
  <Override PartName="/ppt/media/image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  <p:custShowLst>
    <p:custShow name="自定义放映 1" id="0">
      <p:sldLst>
        <p:sld r:id="rId5"/>
        <p:sld r:id="rId6"/>
        <p:sld r:id="rId7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95DF-97C2-4497-BADE-C74EF4BD2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FD24-5781-47AA-9706-41542758C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D73-DC94-476E-BECC-095823D02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29CE-413A-4BA1-8061-550DC3E7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94AA-95E6-4C15-8759-ED34FCB86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83F0-7C44-4767-BD6B-3A084CD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3ED91-E405-4733-9499-BD5B7E13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FD60-65EB-4802-AC01-F8FE53C5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632D-9336-4058-858E-ABCA9F46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81A0-E4AD-4629-8936-7B2EE47F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40170-BEA4-4005-B4F4-3DC72ECD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05CC-B99D-4649-A346-A55A77C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A2C-64B1-45EF-8E5B-6CA2E58A1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F804-0123-4A44-A002-706936E9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E813-881A-40A8-9495-017618C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FA4D9-F3A3-4386-83F4-1005809B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39E83-A145-4C36-96C6-C93FF19E3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A9CBA-F697-48F8-8A7D-7C9B86C38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E8710-282B-425D-9B76-DE03A042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08644-81BE-4D7A-B38E-3AA51D7B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4A37A-D214-49BE-AB62-DA2099A5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C15C0-DE36-4D36-BD99-421A7A86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A3D7-04F3-4B4B-80F2-FC01CFA39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ABB69-3A15-4197-BE8C-87FA2F5C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0D99-18B0-4FA7-B300-36D33472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F4C9D-68EC-4331-B6D8-830C062D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981C-B6B5-4074-B568-21BCBBC3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3DE55-7245-43EA-9486-F26DF75D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AD8B1-C13E-4E73-BC5F-B4FBC5F8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F90F-B4EA-415B-A737-BFC264DF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D190-ECFC-4BDA-8026-7F497706A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9643-2611-4E7B-8534-07F40637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A0B1-94BE-4518-B27C-11A36801A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C06-15AA-440B-9397-9C3949B1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802D-2C23-4895-86A0-34E47EA64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254A-C86B-4BF2-B0CA-DF75EBF5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D3553-DFAC-4599-BCB2-104D8194AE68}" type="slidenum">
              <a:rPr b="1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8FE7-D17D-4417-8FFC-476286F0DEE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F042D-4C49-4B98-9346-91CB016EB4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265,3,&#24187;&#28783;&#29255; 3" TargetMode="External"/><Relationship Id="rId2" Type="http://schemas.openxmlformats.org/officeDocument/2006/relationships/hyperlink" Target="275,6,&#24187;&#28783;&#29255; 6" TargetMode="External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hyperlink" Target="277,7,&#24187;&#28783;&#29255; 7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9.gif"/><Relationship Id="rId7" Type="http://schemas.openxmlformats.org/officeDocument/2006/relationships/image" Target="../media/image9.gi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20110323113447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《品德与社会》三年级下册第四单元 第三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                             </a:t>
            </a:r>
            <a:endParaRPr b="1" lang="en-US" sz="32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27" name="Text Box 6" descr=""/>
          <p:cNvPicPr/>
          <p:nvPr/>
        </p:nvPicPr>
        <p:blipFill>
          <a:blip r:embed="rId2"/>
          <a:stretch/>
        </p:blipFill>
        <p:spPr>
          <a:xfrm>
            <a:off x="2138400" y="1428840"/>
            <a:ext cx="6819840" cy="7016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5149800" y="4129200"/>
            <a:ext cx="37432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29" name="矩形 9"/>
          <p:cNvSpPr/>
          <p:nvPr/>
        </p:nvSpPr>
        <p:spPr>
          <a:xfrm>
            <a:off x="3635640" y="5389560"/>
            <a:ext cx="441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-WWW.1PPT.COM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333399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IMG_0826"/>
          <p:cNvPicPr/>
          <p:nvPr/>
        </p:nvPicPr>
        <p:blipFill>
          <a:blip r:embed="rId1"/>
          <a:stretch/>
        </p:blipFill>
        <p:spPr>
          <a:xfrm>
            <a:off x="-12600" y="9360"/>
            <a:ext cx="9156600" cy="797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IMG_08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20080430062000_new"/>
          <p:cNvPicPr/>
          <p:nvPr/>
        </p:nvPicPr>
        <p:blipFill>
          <a:blip r:embed="rId1"/>
          <a:stretch/>
        </p:blipFill>
        <p:spPr>
          <a:xfrm>
            <a:off x="0" y="9360"/>
            <a:ext cx="9118440" cy="67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11-5-2512014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20100618154421977"/>
          <p:cNvPicPr/>
          <p:nvPr/>
        </p:nvPicPr>
        <p:blipFill>
          <a:blip r:embed="rId1"/>
          <a:stretch/>
        </p:blipFill>
        <p:spPr>
          <a:xfrm>
            <a:off x="0" y="0"/>
            <a:ext cx="9163080" cy="68500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3"/>
          <p:cNvSpPr/>
          <p:nvPr/>
        </p:nvSpPr>
        <p:spPr>
          <a:xfrm>
            <a:off x="1511280" y="-37800"/>
            <a:ext cx="596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学会问路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pic093"/>
          <p:cNvPicPr/>
          <p:nvPr/>
        </p:nvPicPr>
        <p:blipFill>
          <a:blip r:embed="rId1"/>
          <a:stretch/>
        </p:blipFill>
        <p:spPr>
          <a:xfrm>
            <a:off x="-14400" y="-468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33520" y="8380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讨论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2347920" y="19051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向谁问？怎么问？问完之后怎样做？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222" name="Picture 5" descr="G:\鸦片战争\第一节鸦片战争\images\back1.gif"/>
          <p:cNvPicPr/>
          <p:nvPr/>
        </p:nvPicPr>
        <p:blipFill>
          <a:blip r:embed="rId2"/>
          <a:stretch/>
        </p:blipFill>
        <p:spPr>
          <a:xfrm>
            <a:off x="7696080" y="571500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522360" y="3022200"/>
            <a:ext cx="80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表演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2089080" y="3667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师生表演 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25" name="文本框 8198"/>
          <p:cNvSpPr/>
          <p:nvPr/>
        </p:nvSpPr>
        <p:spPr>
          <a:xfrm>
            <a:off x="803160" y="12952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G:\课件图片素材\美术边框\PM_047.jpg"/>
          <p:cNvPicPr/>
          <p:nvPr/>
        </p:nvPicPr>
        <p:blipFill>
          <a:blip r:embed="rId1"/>
          <a:stretch/>
        </p:blipFill>
        <p:spPr>
          <a:xfrm>
            <a:off x="-1440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3"/>
          <p:cNvSpPr/>
          <p:nvPr/>
        </p:nvSpPr>
        <p:spPr>
          <a:xfrm>
            <a:off x="3330720" y="2824560"/>
            <a:ext cx="3357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</a:rPr>
              <a:t>交通工具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99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F212-71A8-4DD6-9AD5-7CC5CA55260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G:\蓝小曼\课件\200462975342472.jpg"/>
          <p:cNvPicPr/>
          <p:nvPr/>
        </p:nvPicPr>
        <p:blipFill>
          <a:blip r:embed="rId1"/>
          <a:stretch/>
        </p:blipFill>
        <p:spPr>
          <a:xfrm>
            <a:off x="-14400" y="936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Oval 3"/>
          <p:cNvSpPr/>
          <p:nvPr/>
        </p:nvSpPr>
        <p:spPr>
          <a:xfrm>
            <a:off x="3841920" y="465840"/>
            <a:ext cx="2253960" cy="6498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</a:rPr>
              <a:t>板书设计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031840" y="2925720"/>
            <a:ext cx="508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出         看懂交通图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的         看清站牌和路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学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问         学会问路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4038480" y="2057400"/>
            <a:ext cx="304812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教材分析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4495680" y="2819520"/>
            <a:ext cx="289584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教法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4932360" y="36543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学法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5791320" y="53341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Times New Roman"/>
              </a:rPr>
              <a:t>板书设计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35" name="Picture 6" descr="G:\鸦片战争\第一节鸦片战争\images\TBALL.GIF"/>
          <p:cNvPicPr/>
          <p:nvPr/>
        </p:nvPicPr>
        <p:blipFill>
          <a:blip r:embed="rId3"/>
          <a:stretch/>
        </p:blipFill>
        <p:spPr>
          <a:xfrm>
            <a:off x="38862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G:\鸦片战争\第一节鸦片战争\images\TBALL.GIF"/>
          <p:cNvPicPr/>
          <p:nvPr/>
        </p:nvPicPr>
        <p:blipFill>
          <a:blip r:embed="rId4"/>
          <a:stretch/>
        </p:blipFill>
        <p:spPr>
          <a:xfrm>
            <a:off x="35812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G:\鸦片战争\第一节鸦片战争\images\TBALL.GIF"/>
          <p:cNvPicPr/>
          <p:nvPr/>
        </p:nvPicPr>
        <p:blipFill>
          <a:blip r:embed="rId5"/>
          <a:stretch/>
        </p:blipFill>
        <p:spPr>
          <a:xfrm>
            <a:off x="42670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:\鸦片战争\第一节鸦片战争\images\TBALL.GIF"/>
          <p:cNvPicPr/>
          <p:nvPr/>
        </p:nvPicPr>
        <p:blipFill>
          <a:blip r:embed="rId6"/>
          <a:stretch/>
        </p:blipFill>
        <p:spPr>
          <a:xfrm>
            <a:off x="4724280" y="4724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G:\鸦片战争\第一节鸦片战争\images\TBALL.GIF"/>
          <p:cNvPicPr/>
          <p:nvPr/>
        </p:nvPicPr>
        <p:blipFill>
          <a:blip r:embed="rId7"/>
          <a:stretch/>
        </p:blipFill>
        <p:spPr>
          <a:xfrm>
            <a:off x="53341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1"/>
          <p:cNvSpPr/>
          <p:nvPr/>
        </p:nvSpPr>
        <p:spPr>
          <a:xfrm>
            <a:off x="662040" y="623520"/>
            <a:ext cx="5979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黑体"/>
              </a:rPr>
              <a:t>《出行的学问》</a:t>
            </a:r>
            <a:endParaRPr b="1" lang="en-US" sz="4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5430960" y="4520880"/>
            <a:ext cx="20667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99"/>
                </a:solidFill>
                <a:uFillTx/>
                <a:latin typeface="黑体"/>
                <a:hlinkClick r:id="rId8"/>
              </a:rPr>
              <a:t>教学过程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G:\蓝小曼\课件\200457171342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2457331_000235916331_2"/>
          <p:cNvPicPr/>
          <p:nvPr/>
        </p:nvPicPr>
        <p:blipFill>
          <a:blip r:embed="rId2"/>
          <a:stretch/>
        </p:blipFill>
        <p:spPr>
          <a:xfrm>
            <a:off x="-12600" y="0"/>
            <a:ext cx="913104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4"/>
          <p:cNvSpPr/>
          <p:nvPr/>
        </p:nvSpPr>
        <p:spPr>
          <a:xfrm>
            <a:off x="1523880" y="358128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228600" y="22860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《出行的学问》一课是九年义务教育课程标准实验教科书三年级下册第四单元《寻路和行路》中的第三课。本课的学习内容是在学生认识平面图和路线图之后，所以对于利用交通图选择简单的出行路线应该难度不大，但看站牌对于三年级小学生来说，学习难度较大。再加上还要落实如何问路和如何乘车这两个教学目标，所以知识点显得有点多，容量比较大，学生掌握起来有点困难。因此，课堂的合理设计要突破重难点，既要让学生自己掌握这些出行的学问、又要让学生乐于去运用这些学问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28600" y="12952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一、说教材</a:t>
            </a:r>
            <a:endParaRPr b="1" lang="en-US" sz="3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2"/>
          <p:cNvGrpSpPr/>
          <p:nvPr/>
        </p:nvGrpSpPr>
        <p:grpSpPr>
          <a:xfrm>
            <a:off x="0" y="0"/>
            <a:ext cx="8503920" cy="6858000"/>
            <a:chOff x="0" y="0"/>
            <a:chExt cx="8503920" cy="6858000"/>
          </a:xfrm>
        </p:grpSpPr>
        <p:pic>
          <p:nvPicPr>
            <p:cNvPr id="148" name="Picture 3" descr="CORNR015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50745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4" descr="CORNR015"/>
            <p:cNvPicPr/>
            <p:nvPr/>
          </p:nvPicPr>
          <p:blipFill>
            <a:blip r:embed="rId2"/>
            <a:stretch/>
          </p:blipFill>
          <p:spPr>
            <a:xfrm rot="16200000">
              <a:off x="5887080" y="4231440"/>
              <a:ext cx="1729080" cy="350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Rectangle 5"/>
          <p:cNvSpPr/>
          <p:nvPr/>
        </p:nvSpPr>
        <p:spPr>
          <a:xfrm>
            <a:off x="1920960" y="3049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目标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2171880" y="131436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知识目标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286000" y="33526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能力目标</a:t>
            </a:r>
            <a:r>
              <a:rPr b="0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716280" y="4194000"/>
            <a:ext cx="4724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"/>
                <a:ea typeface="楷体"/>
              </a:rPr>
              <a:t>知道乘车时要注意的安全和礼貌。      知道问路的基本礼貌和要注意的事项。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672000" y="1314360"/>
            <a:ext cx="4056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尝试利用交通图选择简单的出行路线，学会看站牌、路牌，以及寻路、问路的一般方法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2286000" y="4343400"/>
            <a:ext cx="13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Times New Roman"/>
                <a:ea typeface="宋体"/>
              </a:rPr>
              <a:t>情感目标：</a:t>
            </a:r>
            <a:endParaRPr b="1" lang="en-US" sz="20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3716280" y="31590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培养学生识路、行路的一些基本常识和技能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57" name="Picture 12" descr="旋转的小花3＃"/>
          <p:cNvPicPr/>
          <p:nvPr/>
        </p:nvPicPr>
        <p:blipFill>
          <a:blip r:embed="rId3"/>
          <a:stretch/>
        </p:blipFill>
        <p:spPr>
          <a:xfrm>
            <a:off x="990720" y="58672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3" descr="旋转的小花＃"/>
          <p:cNvPicPr/>
          <p:nvPr/>
        </p:nvPicPr>
        <p:blipFill>
          <a:blip r:embed="rId4"/>
          <a:stretch/>
        </p:blipFill>
        <p:spPr>
          <a:xfrm>
            <a:off x="914400" y="38088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4" descr="旋转的小花＃"/>
          <p:cNvPicPr/>
          <p:nvPr/>
        </p:nvPicPr>
        <p:blipFill>
          <a:blip r:embed="rId5"/>
          <a:stretch/>
        </p:blipFill>
        <p:spPr>
          <a:xfrm>
            <a:off x="2133720" y="55627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5" descr="旋转的小花3＃"/>
          <p:cNvPicPr/>
          <p:nvPr/>
        </p:nvPicPr>
        <p:blipFill>
          <a:blip r:embed="rId6"/>
          <a:stretch/>
        </p:blipFill>
        <p:spPr>
          <a:xfrm>
            <a:off x="762120" y="29718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旋转的小花＃"/>
          <p:cNvPicPr/>
          <p:nvPr/>
        </p:nvPicPr>
        <p:blipFill>
          <a:blip r:embed="rId7"/>
          <a:stretch/>
        </p:blipFill>
        <p:spPr>
          <a:xfrm>
            <a:off x="914400" y="4419720"/>
            <a:ext cx="324000" cy="323640"/>
          </a:xfrm>
          <a:prstGeom prst="rect">
            <a:avLst/>
          </a:prstGeom>
          <a:ln w="0">
            <a:noFill/>
          </a:ln>
        </p:spPr>
      </p:pic>
      <p:pic>
        <p:nvPicPr>
          <p:cNvPr id="162" name="王力宏-龙的传人.mp3" descr=""/>
          <p:cNvPicPr/>
          <p:nvPr/>
        </p:nvPicPr>
        <p:blipFill>
          <a:blip r:embed="rId8"/>
          <a:stretch/>
        </p:blipFill>
        <p:spPr>
          <a:xfrm>
            <a:off x="1066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094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三、教学重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143000" y="15238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65" name="Picture 4" descr="pic093"/>
          <p:cNvPicPr/>
          <p:nvPr/>
        </p:nvPicPr>
        <p:blipFill>
          <a:blip r:embed="rId1"/>
          <a:stretch/>
        </p:blipFill>
        <p:spPr>
          <a:xfrm>
            <a:off x="-1440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2411280" y="194328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让学生学会看交通图，看路牌和站牌，学会问路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2232000" y="36100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  <a:ea typeface="楷体"/>
              </a:rPr>
              <a:t>看懂交通图，会在路牌上找到起点、终点和所在位置，认清方向；掌握问路的方法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533520" y="228600"/>
            <a:ext cx="4495680" cy="1066680"/>
          </a:xfrm>
          <a:prstGeom prst="cloudCallout">
            <a:avLst>
              <a:gd name="adj1" fmla="val -47314"/>
              <a:gd name="adj2" fmla="val 64731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Times New Roman"/>
                <a:ea typeface="宋体"/>
              </a:rPr>
              <a:t>教学重点、难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838080" y="2057400"/>
            <a:ext cx="1295640" cy="533520"/>
          </a:xfrm>
          <a:custGeom>
            <a:avLst/>
            <a:gdLst>
              <a:gd name="textAreaLeft" fmla="*/ 0 w 1295640"/>
              <a:gd name="textAreaRight" fmla="*/ 1296000 w 129564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ff"/>
          </a:solidFill>
          <a:ln cap="rnd" w="936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宋体"/>
              </a:rPr>
              <a:t>重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70" name="AutoShape 9"/>
          <p:cNvSpPr/>
          <p:nvPr/>
        </p:nvSpPr>
        <p:spPr>
          <a:xfrm>
            <a:off x="838080" y="3886200"/>
            <a:ext cx="1219320" cy="53352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3" y="0"/>
                </a:lnTo>
                <a:lnTo>
                  <a:pt x="21600" y="10800"/>
                </a:lnTo>
                <a:lnTo>
                  <a:pt x="1620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难点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20"/>
          <p:cNvSpPr/>
          <p:nvPr/>
        </p:nvSpPr>
        <p:spPr>
          <a:xfrm>
            <a:off x="822240" y="20289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moban/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ucai/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beijing/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xiazai/  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ziliao/      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shiti/           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论坛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n                                     PPT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语文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uwen/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数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英语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yingyu/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美术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科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kexue/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物理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化学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huaxue/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生物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地理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dili/          </a:t>
            </a:r>
            <a:r>
              <a:rPr b="1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历史课件：</a:t>
            </a:r>
            <a:r>
              <a:rPr b="1" lang="en-US" sz="100" spc="-1" strike="noStrike">
                <a:solidFill>
                  <a:srgbClr val="ffffff"/>
                </a:solidFill>
                <a:latin typeface="Arial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333399"/>
              </a:solidFill>
              <a:latin typeface="黑体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3" name="Picture 3" descr="b132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4" descr="b132"/>
            <p:cNvPicPr/>
            <p:nvPr/>
          </p:nvPicPr>
          <p:blipFill>
            <a:blip r:embed="rId2"/>
            <a:stretch/>
          </p:blipFill>
          <p:spPr>
            <a:xfrm>
              <a:off x="0" y="87948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5" descr="b132"/>
            <p:cNvPicPr/>
            <p:nvPr/>
          </p:nvPicPr>
          <p:blipFill>
            <a:blip r:embed="rId3"/>
            <a:stretch/>
          </p:blipFill>
          <p:spPr>
            <a:xfrm>
              <a:off x="0" y="1700280"/>
              <a:ext cx="9144000" cy="9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6" descr="b132"/>
            <p:cNvPicPr/>
            <p:nvPr/>
          </p:nvPicPr>
          <p:blipFill>
            <a:blip r:embed="rId4"/>
            <a:stretch/>
          </p:blipFill>
          <p:spPr>
            <a:xfrm>
              <a:off x="0" y="260676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7" descr="b132"/>
            <p:cNvPicPr/>
            <p:nvPr/>
          </p:nvPicPr>
          <p:blipFill>
            <a:blip r:embed="rId5"/>
            <a:stretch/>
          </p:blipFill>
          <p:spPr>
            <a:xfrm>
              <a:off x="0" y="3471840"/>
              <a:ext cx="91440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8" descr="b132"/>
            <p:cNvPicPr/>
            <p:nvPr/>
          </p:nvPicPr>
          <p:blipFill>
            <a:blip r:embed="rId6"/>
            <a:stretch/>
          </p:blipFill>
          <p:spPr>
            <a:xfrm>
              <a:off x="0" y="436572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9" descr="b132"/>
            <p:cNvPicPr/>
            <p:nvPr/>
          </p:nvPicPr>
          <p:blipFill>
            <a:blip r:embed="rId7"/>
            <a:stretch/>
          </p:blipFill>
          <p:spPr>
            <a:xfrm>
              <a:off x="0" y="5229360"/>
              <a:ext cx="9144000" cy="89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10" descr="b132"/>
            <p:cNvPicPr/>
            <p:nvPr/>
          </p:nvPicPr>
          <p:blipFill>
            <a:blip r:embed="rId8"/>
            <a:stretch/>
          </p:blipFill>
          <p:spPr>
            <a:xfrm>
              <a:off x="0" y="5964120"/>
              <a:ext cx="9144000" cy="89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" name="Text Box 11"/>
          <p:cNvSpPr/>
          <p:nvPr/>
        </p:nvSpPr>
        <p:spPr>
          <a:xfrm>
            <a:off x="762120" y="2971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教法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7162920" y="5181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学法：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1557360" y="458640"/>
            <a:ext cx="4648320" cy="2057400"/>
          </a:xfrm>
          <a:prstGeom prst="cloudCallout">
            <a:avLst>
              <a:gd name="adj1" fmla="val -41768"/>
              <a:gd name="adj2" fmla="val 66513"/>
            </a:avLst>
          </a:prstGeom>
          <a:solidFill>
            <a:srgbClr val="00ffff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情景设计法  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现实演绎法     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多媒体辅助教学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124080" y="3048120"/>
            <a:ext cx="4419720" cy="14475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4952880" y="2057400"/>
            <a:ext cx="4343400" cy="22096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743200" y="3352680"/>
            <a:ext cx="6095880" cy="1447920"/>
          </a:xfrm>
          <a:prstGeom prst="cloudCallout">
            <a:avLst>
              <a:gd name="adj1" fmla="val -43750"/>
              <a:gd name="adj2" fmla="val 6995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514600" y="3352680"/>
            <a:ext cx="4800600" cy="1828800"/>
          </a:xfrm>
          <a:prstGeom prst="cloudCallout">
            <a:avLst>
              <a:gd name="adj1" fmla="val -35814"/>
              <a:gd name="adj2" fmla="val 658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2590920" y="3276720"/>
            <a:ext cx="4495680" cy="2133360"/>
          </a:xfrm>
          <a:prstGeom prst="cloudCallout">
            <a:avLst>
              <a:gd name="adj1" fmla="val -28495"/>
              <a:gd name="adj2" fmla="val 14858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4114800" y="2895480"/>
            <a:ext cx="3517920" cy="2057400"/>
          </a:xfrm>
          <a:prstGeom prst="cloudCallout">
            <a:avLst>
              <a:gd name="adj1" fmla="val 55157"/>
              <a:gd name="adj2" fmla="val 48611"/>
            </a:avLst>
          </a:prstGeom>
          <a:solidFill>
            <a:srgbClr val="00ffff"/>
          </a:solidFill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0" lang="zh-CN" sz="2800" spc="-1" strike="noStrike">
                <a:solidFill>
                  <a:srgbClr val="990099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课前准备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讨论法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990099"/>
                </a:solidFill>
                <a:latin typeface="楷体"/>
                <a:ea typeface="楷体"/>
              </a:rPr>
              <a:t>练习法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90" name="Picture 20" descr="G:\鸦片战争\第一节鸦片战争\images\back1.gif"/>
          <p:cNvPicPr/>
          <p:nvPr/>
        </p:nvPicPr>
        <p:blipFill>
          <a:blip r:embed="rId9"/>
          <a:stretch/>
        </p:blipFill>
        <p:spPr>
          <a:xfrm>
            <a:off x="2666880" y="5715000"/>
            <a:ext cx="1257480" cy="7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005_JPG"/>
          <p:cNvPicPr/>
          <p:nvPr/>
        </p:nvPicPr>
        <p:blipFill>
          <a:blip r:embed="rId1"/>
          <a:stretch/>
        </p:blipFill>
        <p:spPr>
          <a:xfrm>
            <a:off x="-12600" y="5400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3"/>
          <p:cNvSpPr/>
          <p:nvPr/>
        </p:nvSpPr>
        <p:spPr>
          <a:xfrm>
            <a:off x="3809880" y="2514600"/>
            <a:ext cx="328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看懂交通图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886200" y="335268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看清站牌、路牌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3886200" y="4191120"/>
            <a:ext cx="271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乘车安全和礼仪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941640" y="49150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学会问路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3886200" y="1676520"/>
            <a:ext cx="31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楷体"/>
              </a:rPr>
              <a:t>设置情境，导出课题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057400" y="2514600"/>
            <a:ext cx="4572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教学过程设计</a:t>
            </a: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198" name="AutoShape 9"/>
          <p:cNvSpPr/>
          <p:nvPr/>
        </p:nvSpPr>
        <p:spPr>
          <a:xfrm>
            <a:off x="3124080" y="1752480"/>
            <a:ext cx="304920" cy="3886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01160 h 3886200"/>
              <a:gd name="textAreaBottom" fmla="*/ 378504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9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199" name="Picture 10" descr="旋转的小花3＃"/>
          <p:cNvPicPr/>
          <p:nvPr/>
        </p:nvPicPr>
        <p:blipFill>
          <a:blip r:embed="rId2"/>
          <a:stretch/>
        </p:blipFill>
        <p:spPr>
          <a:xfrm>
            <a:off x="3505320" y="17524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旋转的小花3＃"/>
          <p:cNvPicPr/>
          <p:nvPr/>
        </p:nvPicPr>
        <p:blipFill>
          <a:blip r:embed="rId3"/>
          <a:stretch/>
        </p:blipFill>
        <p:spPr>
          <a:xfrm>
            <a:off x="3505320" y="2590920"/>
            <a:ext cx="323640" cy="3236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2" descr="旋转的小花3＃"/>
          <p:cNvPicPr/>
          <p:nvPr/>
        </p:nvPicPr>
        <p:blipFill>
          <a:blip r:embed="rId4"/>
          <a:stretch/>
        </p:blipFill>
        <p:spPr>
          <a:xfrm>
            <a:off x="3505320" y="342900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3" descr="旋转的小花3＃"/>
          <p:cNvPicPr/>
          <p:nvPr/>
        </p:nvPicPr>
        <p:blipFill>
          <a:blip r:embed="rId5"/>
          <a:stretch/>
        </p:blipFill>
        <p:spPr>
          <a:xfrm>
            <a:off x="3505320" y="4267080"/>
            <a:ext cx="323640" cy="324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4" descr="旋转的小花3＃"/>
          <p:cNvPicPr/>
          <p:nvPr/>
        </p:nvPicPr>
        <p:blipFill>
          <a:blip r:embed="rId6"/>
          <a:stretch/>
        </p:blipFill>
        <p:spPr>
          <a:xfrm>
            <a:off x="3492360" y="4959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5" descr="旋转的小花3＃"/>
          <p:cNvPicPr/>
          <p:nvPr/>
        </p:nvPicPr>
        <p:blipFill>
          <a:blip r:embed="rId7"/>
          <a:stretch/>
        </p:blipFill>
        <p:spPr>
          <a:xfrm>
            <a:off x="3492360" y="5589720"/>
            <a:ext cx="324000" cy="31428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6"/>
          <p:cNvSpPr/>
          <p:nvPr/>
        </p:nvSpPr>
        <p:spPr>
          <a:xfrm>
            <a:off x="4059360" y="5522400"/>
            <a:ext cx="22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楷体"/>
              </a:rPr>
              <a:t>总结延伸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1066680" y="76212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457200" y="11430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457200" y="228600"/>
            <a:ext cx="82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99"/>
              </a:solidFill>
              <a:latin typeface="黑体"/>
            </a:endParaRPr>
          </a:p>
        </p:txBody>
      </p:sp>
      <p:pic>
        <p:nvPicPr>
          <p:cNvPr id="209" name="Picture 5" descr="2008123164029855_2"/>
          <p:cNvPicPr/>
          <p:nvPr/>
        </p:nvPicPr>
        <p:blipFill>
          <a:blip r:embed="rId1"/>
          <a:stretch/>
        </p:blipFill>
        <p:spPr>
          <a:xfrm>
            <a:off x="-14400" y="-31680"/>
            <a:ext cx="9139320" cy="685332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6"/>
          <p:cNvSpPr/>
          <p:nvPr/>
        </p:nvSpPr>
        <p:spPr>
          <a:xfrm>
            <a:off x="-58680" y="330120"/>
            <a:ext cx="487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导入语：同学们你们平时外出过吗？如果外出，你不知道路，怎么办？引出课题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出行的学问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创设情境，解决问题。</a:t>
            </a:r>
            <a:endParaRPr b="1" lang="en-US" sz="2400" spc="-1" strike="noStrike">
              <a:solidFill>
                <a:srgbClr val="333399"/>
              </a:solidFill>
              <a:latin typeface="黑体"/>
            </a:endParaRPr>
          </a:p>
        </p:txBody>
      </p:sp>
      <p:sp>
        <p:nvSpPr>
          <p:cNvPr id="211" name="文本框 8198"/>
          <p:cNvSpPr/>
          <p:nvPr/>
        </p:nvSpPr>
        <p:spPr>
          <a:xfrm>
            <a:off x="977760" y="1413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板网站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333399"/>
              </a:solidFill>
              <a:latin typeface="黑体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IMG_08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2:28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07Z</dcterms:modified>
  <cp:revision>3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