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0755-128B-4CF7-B901-53F07B63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BE21-0EFC-43DD-BFD3-9743FF2E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DF5-6290-4FC3-8601-9902F6BCA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54E7-11BE-42F4-808B-21C279650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0AF0-67B5-4216-947D-FB55D219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503A-57A6-42FC-B859-0125B9CD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7E54-E30D-4875-AC1B-1FD122E4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324-C033-4D73-BF5A-26132D4D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E5D-DFA6-4E44-B2FC-56515E51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0575-8748-49F4-9A29-1238B85D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A18-5EDB-45E2-8D98-0CA87D02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05C-21B6-4321-A0F7-622B0ED47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0B02-9E9E-44EC-9843-CD40CAAC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9569-76BB-44E3-A818-5422B225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08DF-5B3F-4824-837B-525F1A7B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3002-9972-4319-82E2-500890ED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38C31-9989-4BC1-9032-5C41B09C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B006-B8A0-45DB-9F23-14103F77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33E7-C60E-4559-84EC-DB02B50C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7380-A252-48AA-95B3-00928F4A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A1AC-D36B-4957-842F-C90E3FE4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B275-7EA4-4133-B2B0-BD69E4F6B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5F83-140D-48A1-8558-7A787DD3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497A1-7812-46E1-9832-635A8702E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276C-073F-43E8-B67B-A679DD3FD34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66F5E-D818-46EB-BB7D-0EA0B9D2A430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1196640"/>
            <a:ext cx="654372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411"/>
                </a:solidFill>
                <a:latin typeface="宋体"/>
                <a:ea typeface="宋体"/>
              </a:rPr>
              <a:t>藏戏课件</a:t>
            </a:r>
            <a:r>
              <a:rPr b="1" lang="en-US" sz="4000" spc="-1" strike="noStrike">
                <a:solidFill>
                  <a:srgbClr val="000411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411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088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2" name="Group 12"/>
          <p:cNvGrpSpPr/>
          <p:nvPr/>
        </p:nvGrpSpPr>
        <p:grpSpPr>
          <a:xfrm>
            <a:off x="684360" y="3860640"/>
            <a:ext cx="8046720" cy="2138400"/>
            <a:chOff x="684360" y="3860640"/>
            <a:chExt cx="8046720" cy="2138400"/>
          </a:xfrm>
        </p:grpSpPr>
        <p:sp>
          <p:nvSpPr>
            <p:cNvPr id="123" name="Rectangle 13"/>
            <p:cNvSpPr/>
            <p:nvPr/>
          </p:nvSpPr>
          <p:spPr>
            <a:xfrm>
              <a:off x="684360" y="3860640"/>
              <a:ext cx="3839760" cy="21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24" name="Group 14"/>
            <p:cNvGrpSpPr/>
            <p:nvPr/>
          </p:nvGrpSpPr>
          <p:grpSpPr>
            <a:xfrm>
              <a:off x="684360" y="3860640"/>
              <a:ext cx="8046720" cy="1712160"/>
              <a:chOff x="684360" y="3860640"/>
              <a:chExt cx="8046720" cy="1712160"/>
            </a:xfrm>
          </p:grpSpPr>
          <p:sp>
            <p:nvSpPr>
              <p:cNvPr id="125" name="Rectangle 15"/>
              <p:cNvSpPr/>
              <p:nvPr/>
            </p:nvSpPr>
            <p:spPr>
              <a:xfrm>
                <a:off x="684360" y="3860640"/>
                <a:ext cx="3839760" cy="17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684360" y="3860640"/>
                <a:ext cx="8046720" cy="61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33"/>
                    </a:solidFill>
                    <a:latin typeface="Times New Roman"/>
                  </a:rPr>
                  <a:t>          </a:t>
                </a:r>
                <a:r>
                  <a:rPr b="1" lang="zh-CN" sz="3200" spc="-1" strike="noStrike">
                    <a:solidFill>
                      <a:srgbClr val="333333"/>
                    </a:solidFill>
                    <a:latin typeface="Times New Roman"/>
                  </a:rPr>
                  <a:t>哪个民族有戏剧，就标志着这个民族走向成熟，戏剧是一个民族开化的民族生活的产物。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33333"/>
                    </a:solidFill>
                    <a:latin typeface="Times New Roman"/>
                  </a:rPr>
                  <a:t>　　　　　　　　　</a:t>
                </a:r>
                <a:r>
                  <a:rPr b="1" lang="zh-CN" sz="2400" spc="-1" strike="noStrike">
                    <a:solidFill>
                      <a:srgbClr val="333333"/>
                    </a:solidFill>
                    <a:latin typeface="Times New Roman"/>
                  </a:rPr>
                  <a:t>　                                      </a:t>
                </a:r>
                <a:r>
                  <a:rPr b="1" lang="zh-CN" sz="2800" spc="-1" strike="noStrike">
                    <a:solidFill>
                      <a:srgbClr val="333333"/>
                    </a:solidFill>
                    <a:latin typeface="Times New Roman"/>
                  </a:rPr>
                  <a:t>——黑格尔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唐东杰布的故事有哪些传奇色彩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981080"/>
            <a:ext cx="8540640" cy="15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以弱抗强的传奇：年轻的僧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凶险的自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创造奇迹的传奇：一无所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５８座铁索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艺术的传奇：僧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藏戏的开山鼻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9640" y="3789360"/>
            <a:ext cx="79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这个传奇故事深深扎根在藏民的心中，唐东杰布不愧被誉为藏戏的开山鼻祖，时至今日，在每一个藏戏剧团，都会供奉他的画像，让他接受着一代代艺人的膜拜，也让我们顿生出几分神圣和肃穆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服饰道具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（一）藏戏面具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平板式软塑料面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1" name="Picture 4" descr="s181_2"/>
          <p:cNvPicPr/>
          <p:nvPr/>
        </p:nvPicPr>
        <p:blipFill>
          <a:blip r:embed="rId1"/>
          <a:stretch/>
        </p:blipFill>
        <p:spPr>
          <a:xfrm>
            <a:off x="838080" y="426708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s182_2"/>
          <p:cNvPicPr/>
          <p:nvPr/>
        </p:nvPicPr>
        <p:blipFill>
          <a:blip r:embed="rId2"/>
          <a:stretch/>
        </p:blipFill>
        <p:spPr>
          <a:xfrm>
            <a:off x="6477120" y="434340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s183_1"/>
          <p:cNvPicPr/>
          <p:nvPr/>
        </p:nvPicPr>
        <p:blipFill>
          <a:blip r:embed="rId3"/>
          <a:stretch/>
        </p:blipFill>
        <p:spPr>
          <a:xfrm>
            <a:off x="6248520" y="1600200"/>
            <a:ext cx="220968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7"/>
          <p:cNvGrpSpPr/>
          <p:nvPr/>
        </p:nvGrpSpPr>
        <p:grpSpPr>
          <a:xfrm>
            <a:off x="6019920" y="3505320"/>
            <a:ext cx="2687400" cy="411120"/>
            <a:chOff x="6019920" y="3505320"/>
            <a:chExt cx="2687400" cy="411120"/>
          </a:xfrm>
        </p:grpSpPr>
        <p:sp>
          <p:nvSpPr>
            <p:cNvPr id="185" name="Rectangle 8"/>
            <p:cNvSpPr/>
            <p:nvPr/>
          </p:nvSpPr>
          <p:spPr>
            <a:xfrm>
              <a:off x="6019920" y="3505320"/>
              <a:ext cx="2687400" cy="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86" name="Group 9"/>
            <p:cNvGrpSpPr/>
            <p:nvPr/>
          </p:nvGrpSpPr>
          <p:grpSpPr>
            <a:xfrm>
              <a:off x="6019920" y="3505320"/>
              <a:ext cx="2480040" cy="411120"/>
              <a:chOff x="6019920" y="3505320"/>
              <a:chExt cx="2480040" cy="411120"/>
            </a:xfrm>
          </p:grpSpPr>
          <p:sp>
            <p:nvSpPr>
              <p:cNvPr id="187" name="Rectangle 10"/>
              <p:cNvSpPr/>
              <p:nvPr/>
            </p:nvSpPr>
            <p:spPr>
              <a:xfrm>
                <a:off x="6019920" y="3505320"/>
                <a:ext cx="2480040" cy="4111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88" name="Group 11"/>
              <p:cNvGrpSpPr/>
              <p:nvPr/>
            </p:nvGrpSpPr>
            <p:grpSpPr>
              <a:xfrm>
                <a:off x="6019920" y="3505320"/>
                <a:ext cx="2480040" cy="411120"/>
                <a:chOff x="6019920" y="3505320"/>
                <a:chExt cx="2480040" cy="411120"/>
              </a:xfrm>
            </p:grpSpPr>
            <p:sp>
              <p:nvSpPr>
                <p:cNvPr id="189" name="Rectangle 12"/>
                <p:cNvSpPr/>
                <p:nvPr/>
              </p:nvSpPr>
              <p:spPr>
                <a:xfrm>
                  <a:off x="6019920" y="3505320"/>
                  <a:ext cx="24800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13"/>
                <p:cNvSpPr/>
                <p:nvPr/>
              </p:nvSpPr>
              <p:spPr>
                <a:xfrm>
                  <a:off x="6019920" y="3505320"/>
                  <a:ext cx="2480040" cy="41112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扎西雪巴黄面具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1" name="Group 14"/>
          <p:cNvGrpSpPr/>
          <p:nvPr/>
        </p:nvGrpSpPr>
        <p:grpSpPr>
          <a:xfrm>
            <a:off x="6248520" y="6172200"/>
            <a:ext cx="2535120" cy="411120"/>
            <a:chOff x="6248520" y="6172200"/>
            <a:chExt cx="2535120" cy="411120"/>
          </a:xfrm>
        </p:grpSpPr>
        <p:sp>
          <p:nvSpPr>
            <p:cNvPr id="192" name="Rectangle 15"/>
            <p:cNvSpPr/>
            <p:nvPr/>
          </p:nvSpPr>
          <p:spPr>
            <a:xfrm>
              <a:off x="6248520" y="6172200"/>
              <a:ext cx="2535120" cy="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93" name="Group 16"/>
            <p:cNvGrpSpPr/>
            <p:nvPr/>
          </p:nvGrpSpPr>
          <p:grpSpPr>
            <a:xfrm>
              <a:off x="6248520" y="6172200"/>
              <a:ext cx="2339280" cy="411120"/>
              <a:chOff x="6248520" y="6172200"/>
              <a:chExt cx="2339280" cy="411120"/>
            </a:xfrm>
          </p:grpSpPr>
          <p:sp>
            <p:nvSpPr>
              <p:cNvPr id="194" name="Rectangle 17"/>
              <p:cNvSpPr/>
              <p:nvPr/>
            </p:nvSpPr>
            <p:spPr>
              <a:xfrm>
                <a:off x="6248520" y="6172200"/>
                <a:ext cx="2339280" cy="4111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95" name="Group 18"/>
              <p:cNvGrpSpPr/>
              <p:nvPr/>
            </p:nvGrpSpPr>
            <p:grpSpPr>
              <a:xfrm>
                <a:off x="6248520" y="6172200"/>
                <a:ext cx="2339280" cy="411120"/>
                <a:chOff x="6248520" y="6172200"/>
                <a:chExt cx="2339280" cy="411120"/>
              </a:xfrm>
            </p:grpSpPr>
            <p:sp>
              <p:nvSpPr>
                <p:cNvPr id="196" name="Rectangle 19"/>
                <p:cNvSpPr/>
                <p:nvPr/>
              </p:nvSpPr>
              <p:spPr>
                <a:xfrm>
                  <a:off x="6248520" y="6172200"/>
                  <a:ext cx="23392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20"/>
                <p:cNvSpPr/>
                <p:nvPr/>
              </p:nvSpPr>
              <p:spPr>
                <a:xfrm>
                  <a:off x="6248520" y="6172200"/>
                  <a:ext cx="2339280" cy="41112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反派丑角黑面具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8" name="Group 21"/>
          <p:cNvGrpSpPr/>
          <p:nvPr/>
        </p:nvGrpSpPr>
        <p:grpSpPr>
          <a:xfrm>
            <a:off x="838080" y="6172200"/>
            <a:ext cx="2154240" cy="457200"/>
            <a:chOff x="838080" y="6172200"/>
            <a:chExt cx="2154240" cy="457200"/>
          </a:xfrm>
        </p:grpSpPr>
        <p:sp>
          <p:nvSpPr>
            <p:cNvPr id="199" name="Rectangle 22"/>
            <p:cNvSpPr/>
            <p:nvPr/>
          </p:nvSpPr>
          <p:spPr>
            <a:xfrm>
              <a:off x="838080" y="6172200"/>
              <a:ext cx="21542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00" name="Group 23"/>
            <p:cNvGrpSpPr/>
            <p:nvPr/>
          </p:nvGrpSpPr>
          <p:grpSpPr>
            <a:xfrm>
              <a:off x="838080" y="6172200"/>
              <a:ext cx="1987920" cy="457200"/>
              <a:chOff x="838080" y="6172200"/>
              <a:chExt cx="1987920" cy="457200"/>
            </a:xfrm>
          </p:grpSpPr>
          <p:sp>
            <p:nvSpPr>
              <p:cNvPr id="201" name="Rectangle 24"/>
              <p:cNvSpPr/>
              <p:nvPr/>
            </p:nvSpPr>
            <p:spPr>
              <a:xfrm>
                <a:off x="838080" y="6172200"/>
                <a:ext cx="198792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02" name="Group 25"/>
              <p:cNvGrpSpPr/>
              <p:nvPr/>
            </p:nvGrpSpPr>
            <p:grpSpPr>
              <a:xfrm>
                <a:off x="838080" y="6172200"/>
                <a:ext cx="1987920" cy="457200"/>
                <a:chOff x="838080" y="6172200"/>
                <a:chExt cx="1987920" cy="457200"/>
              </a:xfrm>
            </p:grpSpPr>
            <p:sp>
              <p:nvSpPr>
                <p:cNvPr id="203" name="Rectangle 26"/>
                <p:cNvSpPr/>
                <p:nvPr/>
              </p:nvSpPr>
              <p:spPr>
                <a:xfrm>
                  <a:off x="838080" y="6172200"/>
                  <a:ext cx="19879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27"/>
                <p:cNvSpPr/>
                <p:nvPr/>
              </p:nvSpPr>
              <p:spPr>
                <a:xfrm>
                  <a:off x="838080" y="6172200"/>
                  <a:ext cx="1987920" cy="45720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国王红面具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05" name="Picture 28" descr="s182_1"/>
          <p:cNvPicPr/>
          <p:nvPr/>
        </p:nvPicPr>
        <p:blipFill>
          <a:blip r:embed="rId4"/>
          <a:stretch/>
        </p:blipFill>
        <p:spPr>
          <a:xfrm>
            <a:off x="3657600" y="4343400"/>
            <a:ext cx="213372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29"/>
          <p:cNvGrpSpPr/>
          <p:nvPr/>
        </p:nvGrpSpPr>
        <p:grpSpPr>
          <a:xfrm>
            <a:off x="3124080" y="6095880"/>
            <a:ext cx="2936880" cy="533520"/>
            <a:chOff x="3124080" y="6095880"/>
            <a:chExt cx="2936880" cy="533520"/>
          </a:xfrm>
        </p:grpSpPr>
        <p:sp>
          <p:nvSpPr>
            <p:cNvPr id="207" name="Rectangle 30"/>
            <p:cNvSpPr/>
            <p:nvPr/>
          </p:nvSpPr>
          <p:spPr>
            <a:xfrm>
              <a:off x="3124080" y="6095880"/>
              <a:ext cx="2936880" cy="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08" name="Group 31"/>
            <p:cNvGrpSpPr/>
            <p:nvPr/>
          </p:nvGrpSpPr>
          <p:grpSpPr>
            <a:xfrm>
              <a:off x="3124080" y="6095880"/>
              <a:ext cx="2710080" cy="533520"/>
              <a:chOff x="3124080" y="6095880"/>
              <a:chExt cx="2710080" cy="533520"/>
            </a:xfrm>
          </p:grpSpPr>
          <p:sp>
            <p:nvSpPr>
              <p:cNvPr id="209" name="Rectangle 32"/>
              <p:cNvSpPr/>
              <p:nvPr/>
            </p:nvSpPr>
            <p:spPr>
              <a:xfrm>
                <a:off x="3124080" y="6095880"/>
                <a:ext cx="2710080" cy="5335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10" name="Group 33"/>
              <p:cNvGrpSpPr/>
              <p:nvPr/>
            </p:nvGrpSpPr>
            <p:grpSpPr>
              <a:xfrm>
                <a:off x="3124080" y="6095880"/>
                <a:ext cx="2710080" cy="533520"/>
                <a:chOff x="3124080" y="6095880"/>
                <a:chExt cx="2710080" cy="533520"/>
              </a:xfrm>
            </p:grpSpPr>
            <p:sp>
              <p:nvSpPr>
                <p:cNvPr id="211" name="Rectangle 34"/>
                <p:cNvSpPr/>
                <p:nvPr/>
              </p:nvSpPr>
              <p:spPr>
                <a:xfrm>
                  <a:off x="3124080" y="6095880"/>
                  <a:ext cx="27100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35"/>
                <p:cNvSpPr/>
                <p:nvPr/>
              </p:nvSpPr>
              <p:spPr>
                <a:xfrm>
                  <a:off x="3124080" y="6095880"/>
                  <a:ext cx="2710080" cy="53352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舞女半白半黑面具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57200" y="167652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半立体软塑料面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4" name="Picture 3" descr="s184-2"/>
          <p:cNvPicPr/>
          <p:nvPr/>
        </p:nvPicPr>
        <p:blipFill>
          <a:blip r:embed="rId1"/>
          <a:stretch/>
        </p:blipFill>
        <p:spPr>
          <a:xfrm>
            <a:off x="1143000" y="274320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s184_1"/>
          <p:cNvPicPr/>
          <p:nvPr/>
        </p:nvPicPr>
        <p:blipFill>
          <a:blip r:embed="rId2"/>
          <a:stretch/>
        </p:blipFill>
        <p:spPr>
          <a:xfrm>
            <a:off x="5334120" y="2819520"/>
            <a:ext cx="2438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"/>
          <p:cNvGrpSpPr/>
          <p:nvPr/>
        </p:nvGrpSpPr>
        <p:grpSpPr>
          <a:xfrm>
            <a:off x="4876920" y="5257800"/>
            <a:ext cx="3601800" cy="450720"/>
            <a:chOff x="4876920" y="5257800"/>
            <a:chExt cx="3601800" cy="450720"/>
          </a:xfrm>
        </p:grpSpPr>
        <p:sp>
          <p:nvSpPr>
            <p:cNvPr id="217" name="Rectangle 6"/>
            <p:cNvSpPr/>
            <p:nvPr/>
          </p:nvSpPr>
          <p:spPr>
            <a:xfrm>
              <a:off x="4876920" y="5257800"/>
              <a:ext cx="3601800" cy="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18" name="Group 7"/>
            <p:cNvGrpSpPr/>
            <p:nvPr/>
          </p:nvGrpSpPr>
          <p:grpSpPr>
            <a:xfrm>
              <a:off x="4876920" y="5257800"/>
              <a:ext cx="3411720" cy="450720"/>
              <a:chOff x="4876920" y="5257800"/>
              <a:chExt cx="3411720" cy="450720"/>
            </a:xfrm>
          </p:grpSpPr>
          <p:sp>
            <p:nvSpPr>
              <p:cNvPr id="219" name="Rectangle 8"/>
              <p:cNvSpPr/>
              <p:nvPr/>
            </p:nvSpPr>
            <p:spPr>
              <a:xfrm>
                <a:off x="4876920" y="5257800"/>
                <a:ext cx="3411720" cy="450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20" name="Group 9"/>
              <p:cNvGrpSpPr/>
              <p:nvPr/>
            </p:nvGrpSpPr>
            <p:grpSpPr>
              <a:xfrm>
                <a:off x="4876920" y="5257800"/>
                <a:ext cx="3411720" cy="450720"/>
                <a:chOff x="4876920" y="5257800"/>
                <a:chExt cx="3411720" cy="450720"/>
              </a:xfrm>
            </p:grpSpPr>
            <p:sp>
              <p:nvSpPr>
                <p:cNvPr id="221" name="Rectangle 10"/>
                <p:cNvSpPr/>
                <p:nvPr/>
              </p:nvSpPr>
              <p:spPr>
                <a:xfrm>
                  <a:off x="4876920" y="5257800"/>
                  <a:ext cx="33235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11"/>
                <p:cNvGrpSpPr/>
                <p:nvPr/>
              </p:nvGrpSpPr>
              <p:grpSpPr>
                <a:xfrm>
                  <a:off x="4876920" y="5257800"/>
                  <a:ext cx="3411720" cy="450720"/>
                  <a:chOff x="4876920" y="5257800"/>
                  <a:chExt cx="3411720" cy="450720"/>
                </a:xfrm>
              </p:grpSpPr>
              <p:sp>
                <p:nvSpPr>
                  <p:cNvPr id="223" name="Rectangle 12"/>
                  <p:cNvSpPr/>
                  <p:nvPr/>
                </p:nvSpPr>
                <p:spPr>
                  <a:xfrm>
                    <a:off x="4876920" y="5257800"/>
                    <a:ext cx="3323520" cy="450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Rectangle 13"/>
                  <p:cNvSpPr/>
                  <p:nvPr/>
                </p:nvSpPr>
                <p:spPr>
                  <a:xfrm>
                    <a:off x="4876920" y="5257800"/>
                    <a:ext cx="3411720" cy="19584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村民常斯老头老太面具 </a:t>
                    </a:r>
                    <a:br>
                      <a:rPr sz="2400"/>
                    </a:b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5" name="Group 14"/>
          <p:cNvGrpSpPr/>
          <p:nvPr/>
        </p:nvGrpSpPr>
        <p:grpSpPr>
          <a:xfrm>
            <a:off x="1600200" y="5257800"/>
            <a:ext cx="1905120" cy="457200"/>
            <a:chOff x="1600200" y="5257800"/>
            <a:chExt cx="1905120" cy="457200"/>
          </a:xfrm>
        </p:grpSpPr>
        <p:sp>
          <p:nvSpPr>
            <p:cNvPr id="226" name="Rectangle 15"/>
            <p:cNvSpPr/>
            <p:nvPr/>
          </p:nvSpPr>
          <p:spPr>
            <a:xfrm>
              <a:off x="1600200" y="5257800"/>
              <a:ext cx="1905120" cy="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27" name="Group 16"/>
            <p:cNvGrpSpPr/>
            <p:nvPr/>
          </p:nvGrpSpPr>
          <p:grpSpPr>
            <a:xfrm>
              <a:off x="1600200" y="5257800"/>
              <a:ext cx="1804680" cy="457200"/>
              <a:chOff x="1600200" y="5257800"/>
              <a:chExt cx="1804680" cy="457200"/>
            </a:xfrm>
          </p:grpSpPr>
          <p:sp>
            <p:nvSpPr>
              <p:cNvPr id="228" name="Rectangle 17"/>
              <p:cNvSpPr/>
              <p:nvPr/>
            </p:nvSpPr>
            <p:spPr>
              <a:xfrm>
                <a:off x="1600200" y="5257800"/>
                <a:ext cx="18046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29" name="Group 18"/>
              <p:cNvGrpSpPr/>
              <p:nvPr/>
            </p:nvGrpSpPr>
            <p:grpSpPr>
              <a:xfrm>
                <a:off x="1600200" y="5257800"/>
                <a:ext cx="1804680" cy="457200"/>
                <a:chOff x="1600200" y="5257800"/>
                <a:chExt cx="1804680" cy="457200"/>
              </a:xfrm>
            </p:grpSpPr>
            <p:sp>
              <p:nvSpPr>
                <p:cNvPr id="230" name="Rectangle 19"/>
                <p:cNvSpPr/>
                <p:nvPr/>
              </p:nvSpPr>
              <p:spPr>
                <a:xfrm>
                  <a:off x="1600200" y="5257800"/>
                  <a:ext cx="17582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31" name="Group 20"/>
                <p:cNvGrpSpPr/>
                <p:nvPr/>
              </p:nvGrpSpPr>
              <p:grpSpPr>
                <a:xfrm>
                  <a:off x="1600200" y="5257800"/>
                  <a:ext cx="1804680" cy="457200"/>
                  <a:chOff x="1600200" y="5257800"/>
                  <a:chExt cx="1804680" cy="457200"/>
                </a:xfrm>
              </p:grpSpPr>
              <p:sp>
                <p:nvSpPr>
                  <p:cNvPr id="232" name="Rectangle 21"/>
                  <p:cNvSpPr/>
                  <p:nvPr/>
                </p:nvSpPr>
                <p:spPr>
                  <a:xfrm>
                    <a:off x="1600200" y="5257800"/>
                    <a:ext cx="1758240" cy="45720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tangle 22"/>
                  <p:cNvSpPr/>
                  <p:nvPr/>
                </p:nvSpPr>
                <p:spPr>
                  <a:xfrm>
                    <a:off x="1600200" y="5257800"/>
                    <a:ext cx="1804680" cy="1375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仙翁面具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380880" y="106668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立体软塑料面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5" name="Picture 3" descr="185_1"/>
          <p:cNvPicPr/>
          <p:nvPr/>
        </p:nvPicPr>
        <p:blipFill>
          <a:blip r:embed="rId1"/>
          <a:stretch/>
        </p:blipFill>
        <p:spPr>
          <a:xfrm>
            <a:off x="762120" y="2209680"/>
            <a:ext cx="2514600" cy="289584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4"/>
          <p:cNvGrpSpPr/>
          <p:nvPr/>
        </p:nvGrpSpPr>
        <p:grpSpPr>
          <a:xfrm>
            <a:off x="533520" y="5410080"/>
            <a:ext cx="2971800" cy="639720"/>
            <a:chOff x="533520" y="5410080"/>
            <a:chExt cx="2971800" cy="639720"/>
          </a:xfrm>
        </p:grpSpPr>
        <p:sp>
          <p:nvSpPr>
            <p:cNvPr id="237" name="Rectangle 5"/>
            <p:cNvSpPr/>
            <p:nvPr/>
          </p:nvSpPr>
          <p:spPr>
            <a:xfrm>
              <a:off x="533520" y="5410080"/>
              <a:ext cx="29718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38" name="Group 6"/>
            <p:cNvGrpSpPr/>
            <p:nvPr/>
          </p:nvGrpSpPr>
          <p:grpSpPr>
            <a:xfrm>
              <a:off x="533520" y="5410080"/>
              <a:ext cx="2742480" cy="639720"/>
              <a:chOff x="533520" y="5410080"/>
              <a:chExt cx="2742480" cy="639720"/>
            </a:xfrm>
          </p:grpSpPr>
          <p:sp>
            <p:nvSpPr>
              <p:cNvPr id="239" name="Rectangle 7"/>
              <p:cNvSpPr/>
              <p:nvPr/>
            </p:nvSpPr>
            <p:spPr>
              <a:xfrm>
                <a:off x="533520" y="5410080"/>
                <a:ext cx="274248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40" name="Group 8"/>
              <p:cNvGrpSpPr/>
              <p:nvPr/>
            </p:nvGrpSpPr>
            <p:grpSpPr>
              <a:xfrm>
                <a:off x="533520" y="5410080"/>
                <a:ext cx="2742480" cy="639720"/>
                <a:chOff x="533520" y="5410080"/>
                <a:chExt cx="2742480" cy="639720"/>
              </a:xfrm>
            </p:grpSpPr>
            <p:sp>
              <p:nvSpPr>
                <p:cNvPr id="241" name="Rectangle 9"/>
                <p:cNvSpPr/>
                <p:nvPr/>
              </p:nvSpPr>
              <p:spPr>
                <a:xfrm>
                  <a:off x="533520" y="5410080"/>
                  <a:ext cx="27424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Group 10"/>
                <p:cNvGrpSpPr/>
                <p:nvPr/>
              </p:nvGrpSpPr>
              <p:grpSpPr>
                <a:xfrm>
                  <a:off x="533520" y="5410080"/>
                  <a:ext cx="2742480" cy="639720"/>
                  <a:chOff x="533520" y="5410080"/>
                  <a:chExt cx="2742480" cy="639720"/>
                </a:xfrm>
              </p:grpSpPr>
              <p:sp>
                <p:nvSpPr>
                  <p:cNvPr id="243" name="Rectangle 11"/>
                  <p:cNvSpPr/>
                  <p:nvPr/>
                </p:nvSpPr>
                <p:spPr>
                  <a:xfrm>
                    <a:off x="533520" y="5410080"/>
                    <a:ext cx="274248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Rectangle 12"/>
                  <p:cNvSpPr/>
                  <p:nvPr/>
                </p:nvSpPr>
                <p:spPr>
                  <a:xfrm>
                    <a:off x="533520" y="5410080"/>
                    <a:ext cx="27424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魔妃哈江面具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45" name="Picture 13" descr="187_2"/>
          <p:cNvPicPr/>
          <p:nvPr/>
        </p:nvPicPr>
        <p:blipFill>
          <a:blip r:embed="rId2"/>
          <a:stretch/>
        </p:blipFill>
        <p:spPr>
          <a:xfrm>
            <a:off x="3886200" y="2209680"/>
            <a:ext cx="2057400" cy="28958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4"/>
          <p:cNvGrpSpPr/>
          <p:nvPr/>
        </p:nvGrpSpPr>
        <p:grpSpPr>
          <a:xfrm>
            <a:off x="3809880" y="5486400"/>
            <a:ext cx="2382840" cy="639720"/>
            <a:chOff x="3809880" y="5486400"/>
            <a:chExt cx="2382840" cy="639720"/>
          </a:xfrm>
        </p:grpSpPr>
        <p:sp>
          <p:nvSpPr>
            <p:cNvPr id="247" name="Rectangle 15"/>
            <p:cNvSpPr/>
            <p:nvPr/>
          </p:nvSpPr>
          <p:spPr>
            <a:xfrm>
              <a:off x="3809880" y="5486400"/>
              <a:ext cx="23828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48" name="Group 16"/>
            <p:cNvGrpSpPr/>
            <p:nvPr/>
          </p:nvGrpSpPr>
          <p:grpSpPr>
            <a:xfrm>
              <a:off x="3809880" y="5486400"/>
              <a:ext cx="2198880" cy="639720"/>
              <a:chOff x="3809880" y="5486400"/>
              <a:chExt cx="2198880" cy="639720"/>
            </a:xfrm>
          </p:grpSpPr>
          <p:sp>
            <p:nvSpPr>
              <p:cNvPr id="249" name="Rectangle 17"/>
              <p:cNvSpPr/>
              <p:nvPr/>
            </p:nvSpPr>
            <p:spPr>
              <a:xfrm>
                <a:off x="3809880" y="5486400"/>
                <a:ext cx="219888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50" name="Group 18"/>
              <p:cNvGrpSpPr/>
              <p:nvPr/>
            </p:nvGrpSpPr>
            <p:grpSpPr>
              <a:xfrm>
                <a:off x="3809880" y="5486400"/>
                <a:ext cx="2198880" cy="639720"/>
                <a:chOff x="3809880" y="5486400"/>
                <a:chExt cx="2198880" cy="639720"/>
              </a:xfrm>
            </p:grpSpPr>
            <p:sp>
              <p:nvSpPr>
                <p:cNvPr id="251" name="Rectangle 19"/>
                <p:cNvSpPr/>
                <p:nvPr/>
              </p:nvSpPr>
              <p:spPr>
                <a:xfrm>
                  <a:off x="3809880" y="5486400"/>
                  <a:ext cx="21988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Group 20"/>
                <p:cNvGrpSpPr/>
                <p:nvPr/>
              </p:nvGrpSpPr>
              <p:grpSpPr>
                <a:xfrm>
                  <a:off x="3809880" y="5486400"/>
                  <a:ext cx="2198880" cy="639720"/>
                  <a:chOff x="3809880" y="5486400"/>
                  <a:chExt cx="2198880" cy="639720"/>
                </a:xfrm>
              </p:grpSpPr>
              <p:sp>
                <p:nvSpPr>
                  <p:cNvPr id="253" name="Rectangle 21"/>
                  <p:cNvSpPr/>
                  <p:nvPr/>
                </p:nvSpPr>
                <p:spPr>
                  <a:xfrm>
                    <a:off x="3809880" y="5486400"/>
                    <a:ext cx="219888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Rectangle 22"/>
                  <p:cNvSpPr/>
                  <p:nvPr/>
                </p:nvSpPr>
                <p:spPr>
                  <a:xfrm>
                    <a:off x="3809880" y="5486400"/>
                    <a:ext cx="21988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罗刹面具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55" name="Picture 23" descr="187_3"/>
          <p:cNvPicPr/>
          <p:nvPr/>
        </p:nvPicPr>
        <p:blipFill>
          <a:blip r:embed="rId3"/>
          <a:stretch/>
        </p:blipFill>
        <p:spPr>
          <a:xfrm>
            <a:off x="6477120" y="2209680"/>
            <a:ext cx="2057400" cy="289584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24"/>
          <p:cNvGrpSpPr/>
          <p:nvPr/>
        </p:nvGrpSpPr>
        <p:grpSpPr>
          <a:xfrm>
            <a:off x="6553080" y="5562720"/>
            <a:ext cx="2001960" cy="639720"/>
            <a:chOff x="6553080" y="5562720"/>
            <a:chExt cx="2001960" cy="639720"/>
          </a:xfrm>
        </p:grpSpPr>
        <p:sp>
          <p:nvSpPr>
            <p:cNvPr id="257" name="Rectangle 25"/>
            <p:cNvSpPr/>
            <p:nvPr/>
          </p:nvSpPr>
          <p:spPr>
            <a:xfrm>
              <a:off x="6553080" y="5562720"/>
              <a:ext cx="20019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58" name="Group 26"/>
            <p:cNvGrpSpPr/>
            <p:nvPr/>
          </p:nvGrpSpPr>
          <p:grpSpPr>
            <a:xfrm>
              <a:off x="6553080" y="5562720"/>
              <a:ext cx="1847520" cy="639720"/>
              <a:chOff x="6553080" y="5562720"/>
              <a:chExt cx="1847520" cy="639720"/>
            </a:xfrm>
          </p:grpSpPr>
          <p:sp>
            <p:nvSpPr>
              <p:cNvPr id="259" name="Rectangle 27"/>
              <p:cNvSpPr/>
              <p:nvPr/>
            </p:nvSpPr>
            <p:spPr>
              <a:xfrm>
                <a:off x="6553080" y="5562720"/>
                <a:ext cx="184752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60" name="Group 28"/>
              <p:cNvGrpSpPr/>
              <p:nvPr/>
            </p:nvGrpSpPr>
            <p:grpSpPr>
              <a:xfrm>
                <a:off x="6553080" y="5562720"/>
                <a:ext cx="1847520" cy="639720"/>
                <a:chOff x="6553080" y="5562720"/>
                <a:chExt cx="1847520" cy="639720"/>
              </a:xfrm>
            </p:grpSpPr>
            <p:sp>
              <p:nvSpPr>
                <p:cNvPr id="261" name="Rectangle 29"/>
                <p:cNvSpPr/>
                <p:nvPr/>
              </p:nvSpPr>
              <p:spPr>
                <a:xfrm>
                  <a:off x="6553080" y="5562720"/>
                  <a:ext cx="18475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62" name="Group 30"/>
                <p:cNvGrpSpPr/>
                <p:nvPr/>
              </p:nvGrpSpPr>
              <p:grpSpPr>
                <a:xfrm>
                  <a:off x="6553080" y="5562720"/>
                  <a:ext cx="1847520" cy="639720"/>
                  <a:chOff x="6553080" y="5562720"/>
                  <a:chExt cx="1847520" cy="639720"/>
                </a:xfrm>
              </p:grpSpPr>
              <p:sp>
                <p:nvSpPr>
                  <p:cNvPr id="263" name="Rectangle 31"/>
                  <p:cNvSpPr/>
                  <p:nvPr/>
                </p:nvSpPr>
                <p:spPr>
                  <a:xfrm>
                    <a:off x="6553080" y="5562720"/>
                    <a:ext cx="184752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32"/>
                  <p:cNvSpPr/>
                  <p:nvPr/>
                </p:nvSpPr>
                <p:spPr>
                  <a:xfrm>
                    <a:off x="6553080" y="5562720"/>
                    <a:ext cx="18475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吐达面具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5720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立体写实的动物精灵面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6" name="Picture 3" descr="188_1"/>
          <p:cNvPicPr/>
          <p:nvPr/>
        </p:nvPicPr>
        <p:blipFill>
          <a:blip r:embed="rId1"/>
          <a:stretch/>
        </p:blipFill>
        <p:spPr>
          <a:xfrm>
            <a:off x="457200" y="2438280"/>
            <a:ext cx="1828800" cy="266724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4"/>
          <p:cNvGrpSpPr/>
          <p:nvPr/>
        </p:nvGrpSpPr>
        <p:grpSpPr>
          <a:xfrm>
            <a:off x="263520" y="5334120"/>
            <a:ext cx="2556000" cy="639720"/>
            <a:chOff x="263520" y="5334120"/>
            <a:chExt cx="2556000" cy="639720"/>
          </a:xfrm>
        </p:grpSpPr>
        <p:sp>
          <p:nvSpPr>
            <p:cNvPr id="268" name="Rectangle 5"/>
            <p:cNvSpPr/>
            <p:nvPr/>
          </p:nvSpPr>
          <p:spPr>
            <a:xfrm>
              <a:off x="263520" y="5334120"/>
              <a:ext cx="25560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69" name="Group 6"/>
            <p:cNvGrpSpPr/>
            <p:nvPr/>
          </p:nvGrpSpPr>
          <p:grpSpPr>
            <a:xfrm>
              <a:off x="263520" y="5334120"/>
              <a:ext cx="2359080" cy="639720"/>
              <a:chOff x="263520" y="5334120"/>
              <a:chExt cx="2359080" cy="639720"/>
            </a:xfrm>
          </p:grpSpPr>
          <p:sp>
            <p:nvSpPr>
              <p:cNvPr id="270" name="Rectangle 7"/>
              <p:cNvSpPr/>
              <p:nvPr/>
            </p:nvSpPr>
            <p:spPr>
              <a:xfrm>
                <a:off x="263520" y="5334120"/>
                <a:ext cx="235872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71" name="Group 8"/>
              <p:cNvGrpSpPr/>
              <p:nvPr/>
            </p:nvGrpSpPr>
            <p:grpSpPr>
              <a:xfrm>
                <a:off x="263520" y="5334120"/>
                <a:ext cx="2359080" cy="639720"/>
                <a:chOff x="263520" y="5334120"/>
                <a:chExt cx="2359080" cy="639720"/>
              </a:xfrm>
            </p:grpSpPr>
            <p:sp>
              <p:nvSpPr>
                <p:cNvPr id="272" name="Rectangle 9"/>
                <p:cNvSpPr/>
                <p:nvPr/>
              </p:nvSpPr>
              <p:spPr>
                <a:xfrm>
                  <a:off x="263520" y="5334120"/>
                  <a:ext cx="23587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Group 10"/>
                <p:cNvGrpSpPr/>
                <p:nvPr/>
              </p:nvGrpSpPr>
              <p:grpSpPr>
                <a:xfrm>
                  <a:off x="263520" y="5334120"/>
                  <a:ext cx="2359080" cy="639720"/>
                  <a:chOff x="263520" y="5334120"/>
                  <a:chExt cx="2359080" cy="639720"/>
                </a:xfrm>
              </p:grpSpPr>
              <p:sp>
                <p:nvSpPr>
                  <p:cNvPr id="274" name="Rectangle 11"/>
                  <p:cNvSpPr/>
                  <p:nvPr/>
                </p:nvSpPr>
                <p:spPr>
                  <a:xfrm>
                    <a:off x="263520" y="5334120"/>
                    <a:ext cx="235872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Rectangle 12"/>
                  <p:cNvSpPr/>
                  <p:nvPr/>
                </p:nvSpPr>
                <p:spPr>
                  <a:xfrm>
                    <a:off x="263520" y="5334120"/>
                    <a:ext cx="23590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诺桑王子》中马头天王面具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76" name="Picture 13" descr="188_3"/>
          <p:cNvPicPr/>
          <p:nvPr/>
        </p:nvPicPr>
        <p:blipFill>
          <a:blip r:embed="rId2"/>
          <a:stretch/>
        </p:blipFill>
        <p:spPr>
          <a:xfrm>
            <a:off x="6172200" y="2438280"/>
            <a:ext cx="2057400" cy="266724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6324480" y="5486400"/>
            <a:ext cx="1773360" cy="639720"/>
            <a:chOff x="6324480" y="5486400"/>
            <a:chExt cx="1773360" cy="639720"/>
          </a:xfrm>
        </p:grpSpPr>
        <p:sp>
          <p:nvSpPr>
            <p:cNvPr id="278" name="Rectangle 15"/>
            <p:cNvSpPr/>
            <p:nvPr/>
          </p:nvSpPr>
          <p:spPr>
            <a:xfrm>
              <a:off x="6324480" y="5486400"/>
              <a:ext cx="17733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79" name="Group 16"/>
            <p:cNvGrpSpPr/>
            <p:nvPr/>
          </p:nvGrpSpPr>
          <p:grpSpPr>
            <a:xfrm>
              <a:off x="6324480" y="5486400"/>
              <a:ext cx="1636920" cy="639720"/>
              <a:chOff x="6324480" y="5486400"/>
              <a:chExt cx="1636920" cy="639720"/>
            </a:xfrm>
          </p:grpSpPr>
          <p:sp>
            <p:nvSpPr>
              <p:cNvPr id="280" name="Rectangle 17"/>
              <p:cNvSpPr/>
              <p:nvPr/>
            </p:nvSpPr>
            <p:spPr>
              <a:xfrm>
                <a:off x="6324480" y="5486400"/>
                <a:ext cx="163692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81" name="Group 18"/>
              <p:cNvGrpSpPr/>
              <p:nvPr/>
            </p:nvGrpSpPr>
            <p:grpSpPr>
              <a:xfrm>
                <a:off x="6324480" y="5486400"/>
                <a:ext cx="1636920" cy="639720"/>
                <a:chOff x="6324480" y="5486400"/>
                <a:chExt cx="1636920" cy="639720"/>
              </a:xfrm>
            </p:grpSpPr>
            <p:sp>
              <p:nvSpPr>
                <p:cNvPr id="282" name="Rectangle 19"/>
                <p:cNvSpPr/>
                <p:nvPr/>
              </p:nvSpPr>
              <p:spPr>
                <a:xfrm>
                  <a:off x="6324480" y="5486400"/>
                  <a:ext cx="16369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83" name="Group 20"/>
                <p:cNvGrpSpPr/>
                <p:nvPr/>
              </p:nvGrpSpPr>
              <p:grpSpPr>
                <a:xfrm>
                  <a:off x="6324480" y="5486400"/>
                  <a:ext cx="1636920" cy="639720"/>
                  <a:chOff x="6324480" y="5486400"/>
                  <a:chExt cx="1636920" cy="639720"/>
                </a:xfrm>
              </p:grpSpPr>
              <p:sp>
                <p:nvSpPr>
                  <p:cNvPr id="284" name="Rectangle 21"/>
                  <p:cNvSpPr/>
                  <p:nvPr/>
                </p:nvSpPr>
                <p:spPr>
                  <a:xfrm>
                    <a:off x="6324480" y="5486400"/>
                    <a:ext cx="163692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Rectangle 22"/>
                  <p:cNvSpPr/>
                  <p:nvPr/>
                </p:nvSpPr>
                <p:spPr>
                  <a:xfrm>
                    <a:off x="6324480" y="5486400"/>
                    <a:ext cx="16369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</a:t>
                    </a: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猴子面具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86" name="Picture 23" descr="188_4"/>
          <p:cNvPicPr/>
          <p:nvPr/>
        </p:nvPicPr>
        <p:blipFill>
          <a:blip r:embed="rId3"/>
          <a:stretch/>
        </p:blipFill>
        <p:spPr>
          <a:xfrm>
            <a:off x="3124080" y="2133720"/>
            <a:ext cx="2438640" cy="350496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24"/>
          <p:cNvGrpSpPr/>
          <p:nvPr/>
        </p:nvGrpSpPr>
        <p:grpSpPr>
          <a:xfrm>
            <a:off x="3048120" y="5791320"/>
            <a:ext cx="2687400" cy="639720"/>
            <a:chOff x="3048120" y="5791320"/>
            <a:chExt cx="2687400" cy="639720"/>
          </a:xfrm>
        </p:grpSpPr>
        <p:sp>
          <p:nvSpPr>
            <p:cNvPr id="288" name="Rectangle 25"/>
            <p:cNvSpPr/>
            <p:nvPr/>
          </p:nvSpPr>
          <p:spPr>
            <a:xfrm>
              <a:off x="3048120" y="5791320"/>
              <a:ext cx="26874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89" name="Group 26"/>
            <p:cNvGrpSpPr/>
            <p:nvPr/>
          </p:nvGrpSpPr>
          <p:grpSpPr>
            <a:xfrm>
              <a:off x="3048120" y="5791320"/>
              <a:ext cx="2480400" cy="639720"/>
              <a:chOff x="3048120" y="5791320"/>
              <a:chExt cx="2480400" cy="639720"/>
            </a:xfrm>
          </p:grpSpPr>
          <p:sp>
            <p:nvSpPr>
              <p:cNvPr id="290" name="Rectangle 27"/>
              <p:cNvSpPr/>
              <p:nvPr/>
            </p:nvSpPr>
            <p:spPr>
              <a:xfrm>
                <a:off x="3048120" y="5791320"/>
                <a:ext cx="248004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91" name="Group 28"/>
              <p:cNvGrpSpPr/>
              <p:nvPr/>
            </p:nvGrpSpPr>
            <p:grpSpPr>
              <a:xfrm>
                <a:off x="3048120" y="5791320"/>
                <a:ext cx="2480400" cy="639720"/>
                <a:chOff x="3048120" y="5791320"/>
                <a:chExt cx="2480400" cy="639720"/>
              </a:xfrm>
            </p:grpSpPr>
            <p:sp>
              <p:nvSpPr>
                <p:cNvPr id="292" name="Rectangle 29"/>
                <p:cNvSpPr/>
                <p:nvPr/>
              </p:nvSpPr>
              <p:spPr>
                <a:xfrm>
                  <a:off x="3048120" y="5791320"/>
                  <a:ext cx="24800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Group 30"/>
                <p:cNvGrpSpPr/>
                <p:nvPr/>
              </p:nvGrpSpPr>
              <p:grpSpPr>
                <a:xfrm>
                  <a:off x="3048120" y="5791320"/>
                  <a:ext cx="2480400" cy="639720"/>
                  <a:chOff x="3048120" y="5791320"/>
                  <a:chExt cx="2480400" cy="639720"/>
                </a:xfrm>
              </p:grpSpPr>
              <p:sp>
                <p:nvSpPr>
                  <p:cNvPr id="294" name="Rectangle 31"/>
                  <p:cNvSpPr/>
                  <p:nvPr/>
                </p:nvSpPr>
                <p:spPr>
                  <a:xfrm>
                    <a:off x="3048120" y="5791320"/>
                    <a:ext cx="248004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Rectangle 32"/>
                  <p:cNvSpPr/>
                  <p:nvPr/>
                </p:nvSpPr>
                <p:spPr>
                  <a:xfrm>
                    <a:off x="3048120" y="5791320"/>
                    <a:ext cx="248040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诺桑王子》中龙女面具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411120" y="1700280"/>
            <a:ext cx="82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许多地区、民族，都有着独具特色的艺术形式，是中华文化的其怕。藏戏自然、古朴、神秘的独特魅力，看戏时的轻松自然、随心所欲带给人们极美的享受。藏戏，作为藏族的传统剧种，到几百年后的今天，仍有着无穷的魅力，是宝贵的文化遗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559520" y="40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小结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文本框 8197"/>
          <p:cNvSpPr/>
          <p:nvPr/>
        </p:nvSpPr>
        <p:spPr>
          <a:xfrm>
            <a:off x="1692360" y="1268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27080" y="698040"/>
            <a:ext cx="2465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简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042560" y="1844640"/>
            <a:ext cx="7777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藏戏，藏语叫</a:t>
            </a:r>
            <a:r>
              <a:rPr b="1" lang="zh-CN" sz="2800" spc="-1" strike="noStrike">
                <a:solidFill>
                  <a:srgbClr val="ff6600"/>
                </a:solidFill>
                <a:latin typeface="_x000b__x000c_"/>
                <a:ea typeface="幼圆"/>
              </a:rPr>
              <a:t>“</a:t>
            </a:r>
            <a:r>
              <a:rPr b="1" lang="zh-CN" sz="2800" spc="-1" strike="noStrike">
                <a:solidFill>
                  <a:srgbClr val="ff6600"/>
                </a:solidFill>
                <a:latin typeface="幼圆"/>
                <a:ea typeface="幼圆"/>
              </a:rPr>
              <a:t>阿吉拉姆</a:t>
            </a:r>
            <a:r>
              <a:rPr b="1" lang="zh-CN" sz="2800" spc="-1" strike="noStrike">
                <a:solidFill>
                  <a:srgbClr val="ff6600"/>
                </a:solidFill>
                <a:latin typeface="_x000b__x000c_"/>
                <a:ea typeface="幼圆"/>
              </a:rPr>
              <a:t>”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，是藏族地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普遍流行，在祖国百花艺苑中独具一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的剧种。西藏及四川、青海、云南广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藏族地区的人民都普遍喜爱观看藏戏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概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的文化根基：巫文化 苯教文化                                                                            佛教文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的文化影响：中原文化   印度文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的特点：面具戏      宗教色彩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           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仪式戏曲剧   广场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27080" y="698040"/>
            <a:ext cx="3959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的主要来源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3560" y="2560320"/>
            <a:ext cx="80820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民间歌舞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民间说唱艺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宗教仪式和宗教艺术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5" name="Picture 4" descr="ms-jq-14"/>
          <p:cNvPicPr/>
          <p:nvPr/>
        </p:nvPicPr>
        <p:blipFill>
          <a:blip r:embed="rId1"/>
          <a:stretch/>
        </p:blipFill>
        <p:spPr>
          <a:xfrm>
            <a:off x="5257800" y="1905120"/>
            <a:ext cx="3352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56404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的孕育与形成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71280" y="1628640"/>
            <a:ext cx="3251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白面具戏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蓝面具戏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牦牛舞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阿卓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鼓舞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8" name="Picture 4" descr="xinsrc_430801031136061944728"/>
          <p:cNvPicPr/>
          <p:nvPr/>
        </p:nvPicPr>
        <p:blipFill>
          <a:blip r:embed="rId1"/>
          <a:stretch/>
        </p:blipFill>
        <p:spPr>
          <a:xfrm>
            <a:off x="5003640" y="1341360"/>
            <a:ext cx="3694320" cy="41371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515640" y="558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白面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91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教学目标</a:t>
            </a:r>
            <a:br>
              <a:rPr sz="2400"/>
            </a:b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．读读记记“传奇、咆哮、旷野、吉祥、柔顺、象征、妖魔、                  恐怖、一无所有、哄堂大笑、能歌善舞、赞叹不已、身无分文、两面三刀、别无所求、随心所欲”等词语。</a:t>
            </a:r>
            <a:br>
              <a:rPr sz="2400"/>
            </a:b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．默读课文，了解藏戏的形成及特色，体会传统艺术独特的魅力和丰富的文化内涵。</a:t>
            </a:r>
            <a:br>
              <a:rPr sz="2400"/>
            </a:b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．学习文章准确的说明和生动形象的描述，积累语言，领悟表达方法。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4149720"/>
            <a:ext cx="8540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教学重难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引领学生了解本文的表达方法及语言特点，学习作者生动形象的表达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通过了解藏戏的形成及其特色，体会传统戏剧独特的艺术魅力和丰富的文化内涵，了解藏族的文化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62881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的成熟发展时期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2960" y="1980720"/>
            <a:ext cx="396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汤东杰布时期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五世达赖时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新西藏时期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2" name="Picture 4" descr="ysh-h-tk-011"/>
          <p:cNvPicPr/>
          <p:nvPr/>
        </p:nvPicPr>
        <p:blipFill>
          <a:blip r:embed="rId1"/>
          <a:stretch/>
        </p:blipFill>
        <p:spPr>
          <a:xfrm>
            <a:off x="5508720" y="1268280"/>
            <a:ext cx="3114720" cy="47116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5"/>
          <p:cNvSpPr/>
          <p:nvPr/>
        </p:nvSpPr>
        <p:spPr>
          <a:xfrm>
            <a:off x="6084720" y="609300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汤东杰布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25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剧种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094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、白面具藏戏 （旧派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　  白面具藏戏，系藏族戏曲母体剧种，历史最为悠久，流传十分广泛，藏语文称为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拉姆拔嘎布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，是仙女白面具戏的意思。相传是汤东杰布为营造铁索桥募捐而组织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仙女七姐妹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班子进行演出从而形成的戏剧形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）宾顿巴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）扎西雪巴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）尼木巴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6" name="Picture 4" descr="d7"/>
          <p:cNvPicPr/>
          <p:nvPr/>
        </p:nvPicPr>
        <p:blipFill>
          <a:blip r:embed="rId1"/>
          <a:stretch/>
        </p:blipFill>
        <p:spPr>
          <a:xfrm>
            <a:off x="4788000" y="4365720"/>
            <a:ext cx="38574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684360" y="134136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蓝面具藏戏（新派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迥巴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江嘎尔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香巴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觉木隆藏戏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18" name="Group 9"/>
          <p:cNvGrpSpPr/>
          <p:nvPr/>
        </p:nvGrpSpPr>
        <p:grpSpPr>
          <a:xfrm>
            <a:off x="6012000" y="5516640"/>
            <a:ext cx="2374920" cy="457200"/>
            <a:chOff x="6012000" y="5516640"/>
            <a:chExt cx="2374920" cy="457200"/>
          </a:xfrm>
        </p:grpSpPr>
        <p:sp>
          <p:nvSpPr>
            <p:cNvPr id="319" name="Rectangle 3"/>
            <p:cNvSpPr/>
            <p:nvPr/>
          </p:nvSpPr>
          <p:spPr>
            <a:xfrm>
              <a:off x="6012000" y="5516640"/>
              <a:ext cx="23749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20" name="Group 8"/>
            <p:cNvGrpSpPr/>
            <p:nvPr/>
          </p:nvGrpSpPr>
          <p:grpSpPr>
            <a:xfrm>
              <a:off x="6012000" y="5516640"/>
              <a:ext cx="2191680" cy="457200"/>
              <a:chOff x="6012000" y="5516640"/>
              <a:chExt cx="2191680" cy="457200"/>
            </a:xfrm>
          </p:grpSpPr>
          <p:sp>
            <p:nvSpPr>
              <p:cNvPr id="321" name="Rectangle 7"/>
              <p:cNvSpPr/>
              <p:nvPr/>
            </p:nvSpPr>
            <p:spPr>
              <a:xfrm>
                <a:off x="6012000" y="5516640"/>
                <a:ext cx="21916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22" name="Group 6"/>
              <p:cNvGrpSpPr/>
              <p:nvPr/>
            </p:nvGrpSpPr>
            <p:grpSpPr>
              <a:xfrm>
                <a:off x="6012000" y="5516640"/>
                <a:ext cx="2191680" cy="457200"/>
                <a:chOff x="6012000" y="5516640"/>
                <a:chExt cx="2191680" cy="457200"/>
              </a:xfrm>
            </p:grpSpPr>
            <p:sp>
              <p:nvSpPr>
                <p:cNvPr id="323" name="Rectangle 4"/>
                <p:cNvSpPr/>
                <p:nvPr/>
              </p:nvSpPr>
              <p:spPr>
                <a:xfrm>
                  <a:off x="6012000" y="5516640"/>
                  <a:ext cx="21916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5"/>
                <p:cNvSpPr/>
                <p:nvPr/>
              </p:nvSpPr>
              <p:spPr>
                <a:xfrm>
                  <a:off x="6012000" y="5516640"/>
                  <a:ext cx="2191680" cy="45720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蓝面具舞 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25" name="Picture 10" descr="64_2"/>
          <p:cNvPicPr/>
          <p:nvPr/>
        </p:nvPicPr>
        <p:blipFill>
          <a:blip r:embed="rId1"/>
          <a:stretch/>
        </p:blipFill>
        <p:spPr>
          <a:xfrm>
            <a:off x="5076720" y="1341360"/>
            <a:ext cx="36594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39640" y="1125360"/>
            <a:ext cx="268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康巴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安多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昌都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6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嘉绒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7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德格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7" name="Picture 4" descr="安多藏戏"/>
          <p:cNvPicPr/>
          <p:nvPr/>
        </p:nvPicPr>
        <p:blipFill>
          <a:blip r:embed="rId1"/>
          <a:stretch/>
        </p:blipFill>
        <p:spPr>
          <a:xfrm>
            <a:off x="3492360" y="1066680"/>
            <a:ext cx="5423040" cy="39150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391360" y="546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安多藏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26720" y="698040"/>
            <a:ext cx="328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幼圆"/>
              </a:rPr>
              <a:t>藏戏的剧目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10920" y="1628640"/>
            <a:ext cx="3251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幼圆"/>
              </a:rPr>
              <a:t>传统剧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2637000"/>
            <a:ext cx="32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爱情神话剧目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诺桑王子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云乘王子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拉莱沛琼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若玛囊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2" name="Picture 5" descr="101_1"/>
          <p:cNvPicPr/>
          <p:nvPr/>
        </p:nvPicPr>
        <p:blipFill>
          <a:blip r:embed="rId1"/>
          <a:stretch/>
        </p:blipFill>
        <p:spPr>
          <a:xfrm>
            <a:off x="3924360" y="1828800"/>
            <a:ext cx="49910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14"/>
          <p:cNvGrpSpPr/>
          <p:nvPr/>
        </p:nvGrpSpPr>
        <p:grpSpPr>
          <a:xfrm>
            <a:off x="3851280" y="6021360"/>
            <a:ext cx="5562720" cy="459720"/>
            <a:chOff x="3851280" y="6021360"/>
            <a:chExt cx="5562720" cy="459720"/>
          </a:xfrm>
        </p:grpSpPr>
        <p:sp>
          <p:nvSpPr>
            <p:cNvPr id="334" name="Rectangle 6"/>
            <p:cNvSpPr/>
            <p:nvPr/>
          </p:nvSpPr>
          <p:spPr>
            <a:xfrm>
              <a:off x="3851280" y="6021360"/>
              <a:ext cx="55627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35" name="Group 13"/>
            <p:cNvGrpSpPr/>
            <p:nvPr/>
          </p:nvGrpSpPr>
          <p:grpSpPr>
            <a:xfrm>
              <a:off x="3851280" y="6021360"/>
              <a:ext cx="5133240" cy="459720"/>
              <a:chOff x="3851280" y="6021360"/>
              <a:chExt cx="5133240" cy="459720"/>
            </a:xfrm>
          </p:grpSpPr>
          <p:sp>
            <p:nvSpPr>
              <p:cNvPr id="336" name="Rectangle 12"/>
              <p:cNvSpPr/>
              <p:nvPr/>
            </p:nvSpPr>
            <p:spPr>
              <a:xfrm>
                <a:off x="3851280" y="6021360"/>
                <a:ext cx="513324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37" name="Group 11"/>
              <p:cNvGrpSpPr/>
              <p:nvPr/>
            </p:nvGrpSpPr>
            <p:grpSpPr>
              <a:xfrm>
                <a:off x="3851280" y="6021360"/>
                <a:ext cx="5133240" cy="459720"/>
                <a:chOff x="3851280" y="6021360"/>
                <a:chExt cx="5133240" cy="459720"/>
              </a:xfrm>
            </p:grpSpPr>
            <p:sp>
              <p:nvSpPr>
                <p:cNvPr id="338" name="Rectangle 7"/>
                <p:cNvSpPr/>
                <p:nvPr/>
              </p:nvSpPr>
              <p:spPr>
                <a:xfrm>
                  <a:off x="3851280" y="6021360"/>
                  <a:ext cx="51332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Group 10"/>
                <p:cNvGrpSpPr/>
                <p:nvPr/>
              </p:nvGrpSpPr>
              <p:grpSpPr>
                <a:xfrm>
                  <a:off x="3851280" y="6021360"/>
                  <a:ext cx="5133240" cy="459720"/>
                  <a:chOff x="3851280" y="6021360"/>
                  <a:chExt cx="5133240" cy="459720"/>
                </a:xfrm>
              </p:grpSpPr>
              <p:sp>
                <p:nvSpPr>
                  <p:cNvPr id="340" name="Rectangle 8"/>
                  <p:cNvSpPr/>
                  <p:nvPr/>
                </p:nvSpPr>
                <p:spPr>
                  <a:xfrm>
                    <a:off x="3851280" y="6021360"/>
                    <a:ext cx="513324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Rectangle 9"/>
                  <p:cNvSpPr/>
                  <p:nvPr/>
                </p:nvSpPr>
                <p:spPr>
                  <a:xfrm>
                    <a:off x="3851280" y="6021360"/>
                    <a:ext cx="513324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诺桑王子》剧照“诺桑王子与云卓”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179280" y="1289160"/>
            <a:ext cx="341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人情世态剧目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卓娃桑姆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苏吉尼玛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顿月顿珠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0" y="3124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4" name="Picture 4" descr="106_2"/>
          <p:cNvPicPr/>
          <p:nvPr/>
        </p:nvPicPr>
        <p:blipFill>
          <a:blip r:embed="rId1"/>
          <a:stretch/>
        </p:blipFill>
        <p:spPr>
          <a:xfrm>
            <a:off x="3708360" y="1197000"/>
            <a:ext cx="5046840" cy="4114800"/>
          </a:xfrm>
          <a:prstGeom prst="rect">
            <a:avLst/>
          </a:prstGeom>
          <a:ln w="0">
            <a:noFill/>
          </a:ln>
        </p:spPr>
      </p:pic>
      <p:grpSp>
        <p:nvGrpSpPr>
          <p:cNvPr id="345" name="Group 13"/>
          <p:cNvGrpSpPr/>
          <p:nvPr/>
        </p:nvGrpSpPr>
        <p:grpSpPr>
          <a:xfrm>
            <a:off x="3564000" y="5661000"/>
            <a:ext cx="5834160" cy="459720"/>
            <a:chOff x="3564000" y="5661000"/>
            <a:chExt cx="5834160" cy="459720"/>
          </a:xfrm>
        </p:grpSpPr>
        <p:sp>
          <p:nvSpPr>
            <p:cNvPr id="346" name="Rectangle 5"/>
            <p:cNvSpPr/>
            <p:nvPr/>
          </p:nvSpPr>
          <p:spPr>
            <a:xfrm>
              <a:off x="3564000" y="5661000"/>
              <a:ext cx="58341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47" name="Group 12"/>
            <p:cNvGrpSpPr/>
            <p:nvPr/>
          </p:nvGrpSpPr>
          <p:grpSpPr>
            <a:xfrm>
              <a:off x="3564000" y="5661000"/>
              <a:ext cx="5383440" cy="459720"/>
              <a:chOff x="3564000" y="5661000"/>
              <a:chExt cx="5383440" cy="459720"/>
            </a:xfrm>
          </p:grpSpPr>
          <p:sp>
            <p:nvSpPr>
              <p:cNvPr id="348" name="Rectangle 11"/>
              <p:cNvSpPr/>
              <p:nvPr/>
            </p:nvSpPr>
            <p:spPr>
              <a:xfrm>
                <a:off x="3564000" y="5661000"/>
                <a:ext cx="538344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49" name="Group 10"/>
              <p:cNvGrpSpPr/>
              <p:nvPr/>
            </p:nvGrpSpPr>
            <p:grpSpPr>
              <a:xfrm>
                <a:off x="3564000" y="5661000"/>
                <a:ext cx="5383440" cy="459720"/>
                <a:chOff x="3564000" y="5661000"/>
                <a:chExt cx="5383440" cy="459720"/>
              </a:xfrm>
            </p:grpSpPr>
            <p:sp>
              <p:nvSpPr>
                <p:cNvPr id="350" name="Rectangle 6"/>
                <p:cNvSpPr/>
                <p:nvPr/>
              </p:nvSpPr>
              <p:spPr>
                <a:xfrm>
                  <a:off x="3564000" y="5661000"/>
                  <a:ext cx="53834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Group 9"/>
                <p:cNvGrpSpPr/>
                <p:nvPr/>
              </p:nvGrpSpPr>
              <p:grpSpPr>
                <a:xfrm>
                  <a:off x="3564000" y="5661000"/>
                  <a:ext cx="5383440" cy="459720"/>
                  <a:chOff x="3564000" y="5661000"/>
                  <a:chExt cx="5383440" cy="459720"/>
                </a:xfrm>
              </p:grpSpPr>
              <p:sp>
                <p:nvSpPr>
                  <p:cNvPr id="352" name="Rectangle 7"/>
                  <p:cNvSpPr/>
                  <p:nvPr/>
                </p:nvSpPr>
                <p:spPr>
                  <a:xfrm>
                    <a:off x="3564000" y="5661000"/>
                    <a:ext cx="5383440" cy="13644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Rectangle 8"/>
                  <p:cNvSpPr/>
                  <p:nvPr/>
                </p:nvSpPr>
                <p:spPr>
                  <a:xfrm>
                    <a:off x="3564000" y="5661000"/>
                    <a:ext cx="538344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卓娃桑姆》剧照“卓娃与父母告别”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80880" y="1219320"/>
            <a:ext cx="3470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宗教演义剧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智美更登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云乘王子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德巴丹保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日琼巴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猎人贡布多吉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释迦十二行传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5" name="Picture 3" descr="121_3"/>
          <p:cNvPicPr/>
          <p:nvPr/>
        </p:nvPicPr>
        <p:blipFill>
          <a:blip r:embed="rId1"/>
          <a:stretch/>
        </p:blipFill>
        <p:spPr>
          <a:xfrm>
            <a:off x="3780000" y="1341360"/>
            <a:ext cx="4952880" cy="442296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2"/>
          <p:cNvGrpSpPr/>
          <p:nvPr/>
        </p:nvGrpSpPr>
        <p:grpSpPr>
          <a:xfrm>
            <a:off x="3962520" y="5943600"/>
            <a:ext cx="4800600" cy="459720"/>
            <a:chOff x="3962520" y="5943600"/>
            <a:chExt cx="4800600" cy="459720"/>
          </a:xfrm>
        </p:grpSpPr>
        <p:sp>
          <p:nvSpPr>
            <p:cNvPr id="357" name="Rectangle 4"/>
            <p:cNvSpPr/>
            <p:nvPr/>
          </p:nvSpPr>
          <p:spPr>
            <a:xfrm>
              <a:off x="3962520" y="5943600"/>
              <a:ext cx="48006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58" name="Group 11"/>
            <p:cNvGrpSpPr/>
            <p:nvPr/>
          </p:nvGrpSpPr>
          <p:grpSpPr>
            <a:xfrm>
              <a:off x="3962520" y="5943600"/>
              <a:ext cx="4429800" cy="459720"/>
              <a:chOff x="3962520" y="5943600"/>
              <a:chExt cx="4429800" cy="459720"/>
            </a:xfrm>
          </p:grpSpPr>
          <p:sp>
            <p:nvSpPr>
              <p:cNvPr id="359" name="Rectangle 10"/>
              <p:cNvSpPr/>
              <p:nvPr/>
            </p:nvSpPr>
            <p:spPr>
              <a:xfrm>
                <a:off x="3962520" y="5943600"/>
                <a:ext cx="442980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60" name="Group 9"/>
              <p:cNvGrpSpPr/>
              <p:nvPr/>
            </p:nvGrpSpPr>
            <p:grpSpPr>
              <a:xfrm>
                <a:off x="3962520" y="5943600"/>
                <a:ext cx="4429800" cy="459720"/>
                <a:chOff x="3962520" y="5943600"/>
                <a:chExt cx="4429800" cy="459720"/>
              </a:xfrm>
            </p:grpSpPr>
            <p:sp>
              <p:nvSpPr>
                <p:cNvPr id="361" name="Rectangle 5"/>
                <p:cNvSpPr/>
                <p:nvPr/>
              </p:nvSpPr>
              <p:spPr>
                <a:xfrm>
                  <a:off x="3962520" y="5943600"/>
                  <a:ext cx="442980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8"/>
                <p:cNvGrpSpPr/>
                <p:nvPr/>
              </p:nvGrpSpPr>
              <p:grpSpPr>
                <a:xfrm>
                  <a:off x="3962520" y="5943600"/>
                  <a:ext cx="4429800" cy="459720"/>
                  <a:chOff x="3962520" y="5943600"/>
                  <a:chExt cx="4429800" cy="459720"/>
                </a:xfrm>
              </p:grpSpPr>
              <p:sp>
                <p:nvSpPr>
                  <p:cNvPr id="363" name="Rectangle 6"/>
                  <p:cNvSpPr/>
                  <p:nvPr/>
                </p:nvSpPr>
                <p:spPr>
                  <a:xfrm>
                    <a:off x="3962520" y="5943600"/>
                    <a:ext cx="442980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Rectangle 7"/>
                  <p:cNvSpPr/>
                  <p:nvPr/>
                </p:nvSpPr>
                <p:spPr>
                  <a:xfrm>
                    <a:off x="3962520" y="5943600"/>
                    <a:ext cx="442980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智美更登》中母亲送行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395280" y="1413000"/>
            <a:ext cx="338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历史人物剧目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文成公主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苏吉尼玛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6" name="Picture 3" descr="125_2"/>
          <p:cNvPicPr/>
          <p:nvPr/>
        </p:nvPicPr>
        <p:blipFill>
          <a:blip r:embed="rId1"/>
          <a:stretch/>
        </p:blipFill>
        <p:spPr>
          <a:xfrm>
            <a:off x="3780000" y="990720"/>
            <a:ext cx="5256000" cy="4267080"/>
          </a:xfrm>
          <a:prstGeom prst="rect">
            <a:avLst/>
          </a:prstGeom>
          <a:ln w="0">
            <a:noFill/>
          </a:ln>
        </p:spPr>
      </p:pic>
      <p:grpSp>
        <p:nvGrpSpPr>
          <p:cNvPr id="367" name="Group 12"/>
          <p:cNvGrpSpPr/>
          <p:nvPr/>
        </p:nvGrpSpPr>
        <p:grpSpPr>
          <a:xfrm>
            <a:off x="3505320" y="5638680"/>
            <a:ext cx="5638680" cy="459720"/>
            <a:chOff x="3505320" y="5638680"/>
            <a:chExt cx="5638680" cy="459720"/>
          </a:xfrm>
        </p:grpSpPr>
        <p:sp>
          <p:nvSpPr>
            <p:cNvPr id="368" name="Rectangle 4"/>
            <p:cNvSpPr/>
            <p:nvPr/>
          </p:nvSpPr>
          <p:spPr>
            <a:xfrm>
              <a:off x="3505320" y="5638680"/>
              <a:ext cx="563868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69" name="Group 11"/>
            <p:cNvGrpSpPr/>
            <p:nvPr/>
          </p:nvGrpSpPr>
          <p:grpSpPr>
            <a:xfrm>
              <a:off x="3505320" y="5638680"/>
              <a:ext cx="5203080" cy="459720"/>
              <a:chOff x="3505320" y="5638680"/>
              <a:chExt cx="5203080" cy="459720"/>
            </a:xfrm>
          </p:grpSpPr>
          <p:sp>
            <p:nvSpPr>
              <p:cNvPr id="370" name="Rectangle 10"/>
              <p:cNvSpPr/>
              <p:nvPr/>
            </p:nvSpPr>
            <p:spPr>
              <a:xfrm>
                <a:off x="3505320" y="5638680"/>
                <a:ext cx="52030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71" name="Group 9"/>
              <p:cNvGrpSpPr/>
              <p:nvPr/>
            </p:nvGrpSpPr>
            <p:grpSpPr>
              <a:xfrm>
                <a:off x="3505320" y="5638680"/>
                <a:ext cx="5203080" cy="459720"/>
                <a:chOff x="3505320" y="5638680"/>
                <a:chExt cx="5203080" cy="459720"/>
              </a:xfrm>
            </p:grpSpPr>
            <p:sp>
              <p:nvSpPr>
                <p:cNvPr id="372" name="Rectangle 5"/>
                <p:cNvSpPr/>
                <p:nvPr/>
              </p:nvSpPr>
              <p:spPr>
                <a:xfrm>
                  <a:off x="3505320" y="5638680"/>
                  <a:ext cx="52030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73" name="Group 8"/>
                <p:cNvGrpSpPr/>
                <p:nvPr/>
              </p:nvGrpSpPr>
              <p:grpSpPr>
                <a:xfrm>
                  <a:off x="3505320" y="5638680"/>
                  <a:ext cx="5203080" cy="459720"/>
                  <a:chOff x="3505320" y="5638680"/>
                  <a:chExt cx="5203080" cy="459720"/>
                </a:xfrm>
              </p:grpSpPr>
              <p:sp>
                <p:nvSpPr>
                  <p:cNvPr id="374" name="Rectangle 6"/>
                  <p:cNvSpPr/>
                  <p:nvPr/>
                </p:nvSpPr>
                <p:spPr>
                  <a:xfrm>
                    <a:off x="3505320" y="5638680"/>
                    <a:ext cx="520308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Rectangle 7"/>
                  <p:cNvSpPr/>
                  <p:nvPr/>
                </p:nvSpPr>
                <p:spPr>
                  <a:xfrm>
                    <a:off x="3505320" y="5638680"/>
                    <a:ext cx="52030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文成公主》中唐皇与公主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76" name="文本框 8197"/>
          <p:cNvSpPr/>
          <p:nvPr/>
        </p:nvSpPr>
        <p:spPr>
          <a:xfrm>
            <a:off x="2050920" y="620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395280" y="1341360"/>
            <a:ext cx="33274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传说故事剧目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白玛文巴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卓娃桑姆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顿月顿珠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诺桑法王》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78" name="Picture 3" descr="137_1"/>
          <p:cNvPicPr/>
          <p:nvPr/>
        </p:nvPicPr>
        <p:blipFill>
          <a:blip r:embed="rId1"/>
          <a:stretch/>
        </p:blipFill>
        <p:spPr>
          <a:xfrm>
            <a:off x="3733920" y="1346040"/>
            <a:ext cx="5181480" cy="40640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2"/>
          <p:cNvGrpSpPr/>
          <p:nvPr/>
        </p:nvGrpSpPr>
        <p:grpSpPr>
          <a:xfrm>
            <a:off x="3809880" y="5715000"/>
            <a:ext cx="5604120" cy="459720"/>
            <a:chOff x="3809880" y="5715000"/>
            <a:chExt cx="5604120" cy="459720"/>
          </a:xfrm>
        </p:grpSpPr>
        <p:sp>
          <p:nvSpPr>
            <p:cNvPr id="380" name="Rectangle 4"/>
            <p:cNvSpPr/>
            <p:nvPr/>
          </p:nvSpPr>
          <p:spPr>
            <a:xfrm>
              <a:off x="3809880" y="5715000"/>
              <a:ext cx="56041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81" name="Group 11"/>
            <p:cNvGrpSpPr/>
            <p:nvPr/>
          </p:nvGrpSpPr>
          <p:grpSpPr>
            <a:xfrm>
              <a:off x="3809880" y="5715000"/>
              <a:ext cx="5171400" cy="459720"/>
              <a:chOff x="3809880" y="5715000"/>
              <a:chExt cx="5171400" cy="459720"/>
            </a:xfrm>
          </p:grpSpPr>
          <p:sp>
            <p:nvSpPr>
              <p:cNvPr id="382" name="Rectangle 10"/>
              <p:cNvSpPr/>
              <p:nvPr/>
            </p:nvSpPr>
            <p:spPr>
              <a:xfrm>
                <a:off x="3809880" y="5715000"/>
                <a:ext cx="517140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83" name="Group 9"/>
              <p:cNvGrpSpPr/>
              <p:nvPr/>
            </p:nvGrpSpPr>
            <p:grpSpPr>
              <a:xfrm>
                <a:off x="3809880" y="5715000"/>
                <a:ext cx="5171400" cy="459720"/>
                <a:chOff x="3809880" y="5715000"/>
                <a:chExt cx="5171400" cy="459720"/>
              </a:xfrm>
            </p:grpSpPr>
            <p:sp>
              <p:nvSpPr>
                <p:cNvPr id="384" name="Rectangle 5"/>
                <p:cNvSpPr/>
                <p:nvPr/>
              </p:nvSpPr>
              <p:spPr>
                <a:xfrm>
                  <a:off x="3809880" y="5715000"/>
                  <a:ext cx="517140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Group 8"/>
                <p:cNvGrpSpPr/>
                <p:nvPr/>
              </p:nvGrpSpPr>
              <p:grpSpPr>
                <a:xfrm>
                  <a:off x="3809880" y="5715000"/>
                  <a:ext cx="5171400" cy="459720"/>
                  <a:chOff x="3809880" y="5715000"/>
                  <a:chExt cx="5171400" cy="459720"/>
                </a:xfrm>
              </p:grpSpPr>
              <p:sp>
                <p:nvSpPr>
                  <p:cNvPr id="386" name="Rectangle 6"/>
                  <p:cNvSpPr/>
                  <p:nvPr/>
                </p:nvSpPr>
                <p:spPr>
                  <a:xfrm>
                    <a:off x="3809880" y="5715000"/>
                    <a:ext cx="517140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Rectangle 7"/>
                  <p:cNvSpPr/>
                  <p:nvPr/>
                </p:nvSpPr>
                <p:spPr>
                  <a:xfrm>
                    <a:off x="3809880" y="5715000"/>
                    <a:ext cx="517140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白玛文巴》中国王与大臣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179280" y="2708280"/>
            <a:ext cx="331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、社会斗争剧目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《朗萨雯蚌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89" name="Picture 3" descr="142_2"/>
          <p:cNvPicPr/>
          <p:nvPr/>
        </p:nvPicPr>
        <p:blipFill>
          <a:blip r:embed="rId1"/>
          <a:stretch/>
        </p:blipFill>
        <p:spPr>
          <a:xfrm>
            <a:off x="3581280" y="1371600"/>
            <a:ext cx="5257800" cy="426708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12"/>
          <p:cNvGrpSpPr/>
          <p:nvPr/>
        </p:nvGrpSpPr>
        <p:grpSpPr>
          <a:xfrm>
            <a:off x="3564000" y="6021360"/>
            <a:ext cx="5984640" cy="459720"/>
            <a:chOff x="3564000" y="6021360"/>
            <a:chExt cx="5984640" cy="459720"/>
          </a:xfrm>
        </p:grpSpPr>
        <p:sp>
          <p:nvSpPr>
            <p:cNvPr id="391" name="Rectangle 4"/>
            <p:cNvSpPr/>
            <p:nvPr/>
          </p:nvSpPr>
          <p:spPr>
            <a:xfrm>
              <a:off x="3564000" y="6021360"/>
              <a:ext cx="59846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92" name="Group 11"/>
            <p:cNvGrpSpPr/>
            <p:nvPr/>
          </p:nvGrpSpPr>
          <p:grpSpPr>
            <a:xfrm>
              <a:off x="3564000" y="6021360"/>
              <a:ext cx="5522400" cy="459720"/>
              <a:chOff x="3564000" y="6021360"/>
              <a:chExt cx="5522400" cy="459720"/>
            </a:xfrm>
          </p:grpSpPr>
          <p:sp>
            <p:nvSpPr>
              <p:cNvPr id="393" name="Rectangle 10"/>
              <p:cNvSpPr/>
              <p:nvPr/>
            </p:nvSpPr>
            <p:spPr>
              <a:xfrm>
                <a:off x="3564000" y="6021360"/>
                <a:ext cx="552240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94" name="Group 9"/>
              <p:cNvGrpSpPr/>
              <p:nvPr/>
            </p:nvGrpSpPr>
            <p:grpSpPr>
              <a:xfrm>
                <a:off x="3564000" y="6021360"/>
                <a:ext cx="5522400" cy="459720"/>
                <a:chOff x="3564000" y="6021360"/>
                <a:chExt cx="5522400" cy="459720"/>
              </a:xfrm>
            </p:grpSpPr>
            <p:sp>
              <p:nvSpPr>
                <p:cNvPr id="395" name="Rectangle 5"/>
                <p:cNvSpPr/>
                <p:nvPr/>
              </p:nvSpPr>
              <p:spPr>
                <a:xfrm>
                  <a:off x="3564000" y="6021360"/>
                  <a:ext cx="552240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Group 8"/>
                <p:cNvGrpSpPr/>
                <p:nvPr/>
              </p:nvGrpSpPr>
              <p:grpSpPr>
                <a:xfrm>
                  <a:off x="3564000" y="6021360"/>
                  <a:ext cx="5522400" cy="459720"/>
                  <a:chOff x="3564000" y="6021360"/>
                  <a:chExt cx="5522400" cy="459720"/>
                </a:xfrm>
              </p:grpSpPr>
              <p:sp>
                <p:nvSpPr>
                  <p:cNvPr id="397" name="Rectangle 6"/>
                  <p:cNvSpPr/>
                  <p:nvPr/>
                </p:nvSpPr>
                <p:spPr>
                  <a:xfrm>
                    <a:off x="3564000" y="6021360"/>
                    <a:ext cx="552240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Rectangle 7"/>
                  <p:cNvSpPr/>
                  <p:nvPr/>
                </p:nvSpPr>
                <p:spPr>
                  <a:xfrm>
                    <a:off x="3564000" y="6021360"/>
                    <a:ext cx="552240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朗萨雯蚌》中纺织 区藏剧团演出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7"/>
          <p:cNvSpPr/>
          <p:nvPr/>
        </p:nvSpPr>
        <p:spPr>
          <a:xfrm>
            <a:off x="3635280" y="112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Picture 4" descr="142_2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安多藏戏"/>
          <p:cNvPicPr/>
          <p:nvPr/>
        </p:nvPicPr>
        <p:blipFill>
          <a:blip r:embed="rId2"/>
          <a:stretch/>
        </p:blipFill>
        <p:spPr>
          <a:xfrm>
            <a:off x="0" y="0"/>
            <a:ext cx="9144000" cy="6600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101_1"/>
          <p:cNvPicPr/>
          <p:nvPr/>
        </p:nvPicPr>
        <p:blipFill>
          <a:blip r:embed="rId3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106_2"/>
          <p:cNvPicPr/>
          <p:nvPr/>
        </p:nvPicPr>
        <p:blipFill>
          <a:blip r:embed="rId4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137_1"/>
          <p:cNvPicPr/>
          <p:nvPr/>
        </p:nvPicPr>
        <p:blipFill>
          <a:blip r:embed="rId5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250920" y="549360"/>
            <a:ext cx="3924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服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国王服  王子服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大臣服  侍从佣人服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喇嘛服  尼姑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甲鲁服  温巴服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拉姆服  贵妇人服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4572000" y="6021360"/>
            <a:ext cx="1905120" cy="457200"/>
            <a:chOff x="4572000" y="6021360"/>
            <a:chExt cx="1905120" cy="457200"/>
          </a:xfrm>
        </p:grpSpPr>
        <p:sp>
          <p:nvSpPr>
            <p:cNvPr id="401" name="Rectangle 3"/>
            <p:cNvSpPr/>
            <p:nvPr/>
          </p:nvSpPr>
          <p:spPr>
            <a:xfrm>
              <a:off x="4572000" y="6021360"/>
              <a:ext cx="19051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02" name="Group 8"/>
            <p:cNvGrpSpPr/>
            <p:nvPr/>
          </p:nvGrpSpPr>
          <p:grpSpPr>
            <a:xfrm>
              <a:off x="4572000" y="6021360"/>
              <a:ext cx="1758240" cy="457200"/>
              <a:chOff x="4572000" y="6021360"/>
              <a:chExt cx="1758240" cy="457200"/>
            </a:xfrm>
          </p:grpSpPr>
          <p:sp>
            <p:nvSpPr>
              <p:cNvPr id="403" name="Rectangle 7"/>
              <p:cNvSpPr/>
              <p:nvPr/>
            </p:nvSpPr>
            <p:spPr>
              <a:xfrm>
                <a:off x="4572000" y="6021360"/>
                <a:ext cx="175824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04" name="Group 6"/>
              <p:cNvGrpSpPr/>
              <p:nvPr/>
            </p:nvGrpSpPr>
            <p:grpSpPr>
              <a:xfrm>
                <a:off x="4572000" y="6021360"/>
                <a:ext cx="1758240" cy="457200"/>
                <a:chOff x="4572000" y="6021360"/>
                <a:chExt cx="1758240" cy="457200"/>
              </a:xfrm>
            </p:grpSpPr>
            <p:sp>
              <p:nvSpPr>
                <p:cNvPr id="405" name="Rectangle 4"/>
                <p:cNvSpPr/>
                <p:nvPr/>
              </p:nvSpPr>
              <p:spPr>
                <a:xfrm>
                  <a:off x="4572000" y="6021360"/>
                  <a:ext cx="17582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5"/>
                <p:cNvSpPr/>
                <p:nvPr/>
              </p:nvSpPr>
              <p:spPr>
                <a:xfrm>
                  <a:off x="4572000" y="6021360"/>
                  <a:ext cx="1758240" cy="45720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王子服 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07" name="Picture 10" descr="198_2"/>
          <p:cNvPicPr/>
          <p:nvPr/>
        </p:nvPicPr>
        <p:blipFill>
          <a:blip r:embed="rId1"/>
          <a:stretch/>
        </p:blipFill>
        <p:spPr>
          <a:xfrm>
            <a:off x="4284720" y="2276640"/>
            <a:ext cx="25146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9"/>
          <p:cNvGrpSpPr/>
          <p:nvPr/>
        </p:nvGrpSpPr>
        <p:grpSpPr>
          <a:xfrm>
            <a:off x="7164360" y="4365720"/>
            <a:ext cx="1773360" cy="536400"/>
            <a:chOff x="7164360" y="4365720"/>
            <a:chExt cx="1773360" cy="536400"/>
          </a:xfrm>
        </p:grpSpPr>
        <p:sp>
          <p:nvSpPr>
            <p:cNvPr id="409" name="Rectangle 11"/>
            <p:cNvSpPr/>
            <p:nvPr/>
          </p:nvSpPr>
          <p:spPr>
            <a:xfrm>
              <a:off x="7164360" y="4365720"/>
              <a:ext cx="17733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10" name="Group 18"/>
            <p:cNvGrpSpPr/>
            <p:nvPr/>
          </p:nvGrpSpPr>
          <p:grpSpPr>
            <a:xfrm>
              <a:off x="7164360" y="4365720"/>
              <a:ext cx="1636560" cy="536400"/>
              <a:chOff x="7164360" y="4365720"/>
              <a:chExt cx="1636560" cy="536400"/>
            </a:xfrm>
          </p:grpSpPr>
          <p:sp>
            <p:nvSpPr>
              <p:cNvPr id="411" name="Rectangle 17"/>
              <p:cNvSpPr/>
              <p:nvPr/>
            </p:nvSpPr>
            <p:spPr>
              <a:xfrm>
                <a:off x="7164360" y="4365720"/>
                <a:ext cx="1636560" cy="5364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12" name="Group 16"/>
              <p:cNvGrpSpPr/>
              <p:nvPr/>
            </p:nvGrpSpPr>
            <p:grpSpPr>
              <a:xfrm>
                <a:off x="7164360" y="4365720"/>
                <a:ext cx="1636560" cy="536400"/>
                <a:chOff x="7164360" y="4365720"/>
                <a:chExt cx="1636560" cy="536400"/>
              </a:xfrm>
            </p:grpSpPr>
            <p:sp>
              <p:nvSpPr>
                <p:cNvPr id="413" name="Rectangle 12"/>
                <p:cNvSpPr/>
                <p:nvPr/>
              </p:nvSpPr>
              <p:spPr>
                <a:xfrm>
                  <a:off x="7164360" y="4365720"/>
                  <a:ext cx="163656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414" name="Group 15"/>
                <p:cNvGrpSpPr/>
                <p:nvPr/>
              </p:nvGrpSpPr>
              <p:grpSpPr>
                <a:xfrm>
                  <a:off x="7164360" y="4365720"/>
                  <a:ext cx="1636560" cy="536400"/>
                  <a:chOff x="7164360" y="4365720"/>
                  <a:chExt cx="1636560" cy="536400"/>
                </a:xfrm>
              </p:grpSpPr>
              <p:sp>
                <p:nvSpPr>
                  <p:cNvPr id="415" name="Rectangle 13"/>
                  <p:cNvSpPr/>
                  <p:nvPr/>
                </p:nvSpPr>
                <p:spPr>
                  <a:xfrm>
                    <a:off x="7164360" y="4365720"/>
                    <a:ext cx="1636560" cy="53640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Rectangle 14"/>
                  <p:cNvSpPr/>
                  <p:nvPr/>
                </p:nvSpPr>
                <p:spPr>
                  <a:xfrm>
                    <a:off x="7164360" y="4365720"/>
                    <a:ext cx="163656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跳神服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17" name="Picture 20" descr="202_2"/>
          <p:cNvPicPr/>
          <p:nvPr/>
        </p:nvPicPr>
        <p:blipFill>
          <a:blip r:embed="rId2"/>
          <a:stretch/>
        </p:blipFill>
        <p:spPr>
          <a:xfrm>
            <a:off x="6588000" y="260280"/>
            <a:ext cx="2438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250920" y="914400"/>
            <a:ext cx="69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三）藏戏的佩戴饰品、盔帽、鞋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前藏妇女头饰  后藏妇女头饰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男子圆耳环、长耳环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仙女头饰五佛冠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国王帽   甲鲁高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19" name="Picture 3" descr="208_4"/>
          <p:cNvPicPr/>
          <p:nvPr/>
        </p:nvPicPr>
        <p:blipFill>
          <a:blip r:embed="rId1"/>
          <a:stretch/>
        </p:blipFill>
        <p:spPr>
          <a:xfrm>
            <a:off x="4137120" y="2708280"/>
            <a:ext cx="48798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420" name="Group 12"/>
          <p:cNvGrpSpPr/>
          <p:nvPr/>
        </p:nvGrpSpPr>
        <p:grpSpPr>
          <a:xfrm>
            <a:off x="5148360" y="5516640"/>
            <a:ext cx="3708360" cy="536400"/>
            <a:chOff x="5148360" y="5516640"/>
            <a:chExt cx="3708360" cy="536400"/>
          </a:xfrm>
        </p:grpSpPr>
        <p:sp>
          <p:nvSpPr>
            <p:cNvPr id="421" name="Rectangle 4"/>
            <p:cNvSpPr/>
            <p:nvPr/>
          </p:nvSpPr>
          <p:spPr>
            <a:xfrm>
              <a:off x="5148360" y="5516640"/>
              <a:ext cx="37083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22" name="Group 11"/>
            <p:cNvGrpSpPr/>
            <p:nvPr/>
          </p:nvGrpSpPr>
          <p:grpSpPr>
            <a:xfrm>
              <a:off x="5148360" y="5516640"/>
              <a:ext cx="3422160" cy="536400"/>
              <a:chOff x="5148360" y="5516640"/>
              <a:chExt cx="3422160" cy="536400"/>
            </a:xfrm>
          </p:grpSpPr>
          <p:sp>
            <p:nvSpPr>
              <p:cNvPr id="423" name="Rectangle 10"/>
              <p:cNvSpPr/>
              <p:nvPr/>
            </p:nvSpPr>
            <p:spPr>
              <a:xfrm>
                <a:off x="5148360" y="5516640"/>
                <a:ext cx="3422160" cy="5364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24" name="Group 9"/>
              <p:cNvGrpSpPr/>
              <p:nvPr/>
            </p:nvGrpSpPr>
            <p:grpSpPr>
              <a:xfrm>
                <a:off x="5148360" y="5516640"/>
                <a:ext cx="3422160" cy="536400"/>
                <a:chOff x="5148360" y="5516640"/>
                <a:chExt cx="3422160" cy="536400"/>
              </a:xfrm>
            </p:grpSpPr>
            <p:sp>
              <p:nvSpPr>
                <p:cNvPr id="425" name="Rectangle 5"/>
                <p:cNvSpPr/>
                <p:nvPr/>
              </p:nvSpPr>
              <p:spPr>
                <a:xfrm>
                  <a:off x="5148360" y="5516640"/>
                  <a:ext cx="342216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426" name="Group 8"/>
                <p:cNvGrpSpPr/>
                <p:nvPr/>
              </p:nvGrpSpPr>
              <p:grpSpPr>
                <a:xfrm>
                  <a:off x="5148360" y="5516640"/>
                  <a:ext cx="3422160" cy="536400"/>
                  <a:chOff x="5148360" y="5516640"/>
                  <a:chExt cx="3422160" cy="536400"/>
                </a:xfrm>
              </p:grpSpPr>
              <p:sp>
                <p:nvSpPr>
                  <p:cNvPr id="427" name="Rectangle 6"/>
                  <p:cNvSpPr/>
                  <p:nvPr/>
                </p:nvSpPr>
                <p:spPr>
                  <a:xfrm>
                    <a:off x="5148360" y="5516640"/>
                    <a:ext cx="3422160" cy="53640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Rectangle 7"/>
                  <p:cNvSpPr/>
                  <p:nvPr/>
                </p:nvSpPr>
                <p:spPr>
                  <a:xfrm>
                    <a:off x="5148360" y="5516640"/>
                    <a:ext cx="342216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各类头饰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99800" y="698040"/>
            <a:ext cx="426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的布景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多系白天在广场演出，一般不用布景和灯光装置。在演出场地摆一两件景物，如经幡杆和绑于经幡杆上的树枝，桌上的供盒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切玛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和汤东杰布塑像或挂着的唐卡画像，亦当作固定道具使用。直到今天，西藏各地民间业余戏班都是在柳林坝子、打麦场或寺庙院于里演出，即使在城镇的影剧院和礼堂演出，也完全采用广场的演法，不用幕布和布景，灯光只作为照明使用。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74680" y="698040"/>
            <a:ext cx="4695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的乐器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71640" y="1699920"/>
            <a:ext cx="245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扎年琴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特琴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京胡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鼓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钹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甲林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33" name="Group 12"/>
          <p:cNvGrpSpPr/>
          <p:nvPr/>
        </p:nvGrpSpPr>
        <p:grpSpPr>
          <a:xfrm>
            <a:off x="3962520" y="3429000"/>
            <a:ext cx="5410080" cy="459720"/>
            <a:chOff x="3962520" y="3429000"/>
            <a:chExt cx="5410080" cy="459720"/>
          </a:xfrm>
        </p:grpSpPr>
        <p:sp>
          <p:nvSpPr>
            <p:cNvPr id="434" name="Rectangle 4"/>
            <p:cNvSpPr/>
            <p:nvPr/>
          </p:nvSpPr>
          <p:spPr>
            <a:xfrm>
              <a:off x="3962520" y="3429000"/>
              <a:ext cx="541008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35" name="Group 11"/>
            <p:cNvGrpSpPr/>
            <p:nvPr/>
          </p:nvGrpSpPr>
          <p:grpSpPr>
            <a:xfrm>
              <a:off x="3962520" y="3429000"/>
              <a:ext cx="4992120" cy="459720"/>
              <a:chOff x="3962520" y="3429000"/>
              <a:chExt cx="4992120" cy="459720"/>
            </a:xfrm>
          </p:grpSpPr>
          <p:sp>
            <p:nvSpPr>
              <p:cNvPr id="436" name="Rectangle 10"/>
              <p:cNvSpPr/>
              <p:nvPr/>
            </p:nvSpPr>
            <p:spPr>
              <a:xfrm>
                <a:off x="3962520" y="3429000"/>
                <a:ext cx="499212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37" name="Group 9"/>
              <p:cNvGrpSpPr/>
              <p:nvPr/>
            </p:nvGrpSpPr>
            <p:grpSpPr>
              <a:xfrm>
                <a:off x="3962520" y="3429000"/>
                <a:ext cx="4992120" cy="459720"/>
                <a:chOff x="3962520" y="3429000"/>
                <a:chExt cx="4992120" cy="459720"/>
              </a:xfrm>
            </p:grpSpPr>
            <p:sp>
              <p:nvSpPr>
                <p:cNvPr id="438" name="Rectangle 5"/>
                <p:cNvSpPr/>
                <p:nvPr/>
              </p:nvSpPr>
              <p:spPr>
                <a:xfrm>
                  <a:off x="3962520" y="3429000"/>
                  <a:ext cx="49921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439" name="Group 8"/>
                <p:cNvGrpSpPr/>
                <p:nvPr/>
              </p:nvGrpSpPr>
              <p:grpSpPr>
                <a:xfrm>
                  <a:off x="3962520" y="3429000"/>
                  <a:ext cx="4992120" cy="459720"/>
                  <a:chOff x="3962520" y="3429000"/>
                  <a:chExt cx="4992120" cy="459720"/>
                </a:xfrm>
              </p:grpSpPr>
              <p:sp>
                <p:nvSpPr>
                  <p:cNvPr id="440" name="Rectangle 6"/>
                  <p:cNvSpPr/>
                  <p:nvPr/>
                </p:nvSpPr>
                <p:spPr>
                  <a:xfrm>
                    <a:off x="3962520" y="3429000"/>
                    <a:ext cx="4992120" cy="34308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Rectangle 7"/>
                  <p:cNvSpPr/>
                  <p:nvPr/>
                </p:nvSpPr>
                <p:spPr>
                  <a:xfrm>
                    <a:off x="3962520" y="3429000"/>
                    <a:ext cx="49921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扎年琴——六弦琴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42" name="Picture 13" descr="225_1"/>
          <p:cNvPicPr/>
          <p:nvPr/>
        </p:nvPicPr>
        <p:blipFill>
          <a:blip r:embed="rId1"/>
          <a:stretch/>
        </p:blipFill>
        <p:spPr>
          <a:xfrm>
            <a:off x="4038480" y="1676520"/>
            <a:ext cx="40388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22"/>
          <p:cNvGrpSpPr/>
          <p:nvPr/>
        </p:nvGrpSpPr>
        <p:grpSpPr>
          <a:xfrm>
            <a:off x="2133720" y="6172200"/>
            <a:ext cx="5638680" cy="459720"/>
            <a:chOff x="2133720" y="6172200"/>
            <a:chExt cx="5638680" cy="459720"/>
          </a:xfrm>
        </p:grpSpPr>
        <p:sp>
          <p:nvSpPr>
            <p:cNvPr id="444" name="Rectangle 14"/>
            <p:cNvSpPr/>
            <p:nvPr/>
          </p:nvSpPr>
          <p:spPr>
            <a:xfrm>
              <a:off x="2133720" y="6172200"/>
              <a:ext cx="563868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45" name="Group 21"/>
            <p:cNvGrpSpPr/>
            <p:nvPr/>
          </p:nvGrpSpPr>
          <p:grpSpPr>
            <a:xfrm>
              <a:off x="2133720" y="6172200"/>
              <a:ext cx="5203080" cy="459720"/>
              <a:chOff x="2133720" y="6172200"/>
              <a:chExt cx="5203080" cy="459720"/>
            </a:xfrm>
          </p:grpSpPr>
          <p:sp>
            <p:nvSpPr>
              <p:cNvPr id="446" name="Rectangle 20"/>
              <p:cNvSpPr/>
              <p:nvPr/>
            </p:nvSpPr>
            <p:spPr>
              <a:xfrm>
                <a:off x="2133720" y="6172200"/>
                <a:ext cx="52030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47" name="Group 19"/>
              <p:cNvGrpSpPr/>
              <p:nvPr/>
            </p:nvGrpSpPr>
            <p:grpSpPr>
              <a:xfrm>
                <a:off x="2133720" y="6172200"/>
                <a:ext cx="5203080" cy="459720"/>
                <a:chOff x="2133720" y="6172200"/>
                <a:chExt cx="5203080" cy="459720"/>
              </a:xfrm>
            </p:grpSpPr>
            <p:sp>
              <p:nvSpPr>
                <p:cNvPr id="448" name="Rectangle 15"/>
                <p:cNvSpPr/>
                <p:nvPr/>
              </p:nvSpPr>
              <p:spPr>
                <a:xfrm>
                  <a:off x="2133720" y="6172200"/>
                  <a:ext cx="52030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Group 18"/>
                <p:cNvGrpSpPr/>
                <p:nvPr/>
              </p:nvGrpSpPr>
              <p:grpSpPr>
                <a:xfrm>
                  <a:off x="2133720" y="6172200"/>
                  <a:ext cx="5203080" cy="459720"/>
                  <a:chOff x="2133720" y="6172200"/>
                  <a:chExt cx="5203080" cy="459720"/>
                </a:xfrm>
              </p:grpSpPr>
              <p:sp>
                <p:nvSpPr>
                  <p:cNvPr id="450" name="Rectangle 16"/>
                  <p:cNvSpPr/>
                  <p:nvPr/>
                </p:nvSpPr>
                <p:spPr>
                  <a:xfrm>
                    <a:off x="2133720" y="6172200"/>
                    <a:ext cx="5203080" cy="34308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Rectangle 17"/>
                  <p:cNvSpPr/>
                  <p:nvPr/>
                </p:nvSpPr>
                <p:spPr>
                  <a:xfrm>
                    <a:off x="2133720" y="6172200"/>
                    <a:ext cx="52030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藏京胡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52" name="Picture 23" descr="225_3"/>
          <p:cNvPicPr/>
          <p:nvPr/>
        </p:nvPicPr>
        <p:blipFill>
          <a:blip r:embed="rId2"/>
          <a:stretch/>
        </p:blipFill>
        <p:spPr>
          <a:xfrm>
            <a:off x="2362320" y="4419720"/>
            <a:ext cx="45720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唱腔分类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表现欢乐的长调，藏语叫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觉仁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表现痛苦忧愁的悲调，藏语称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觉鲁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表现叙述的短调，藏语称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党统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5" name="Picture 4" descr="s203_1"/>
          <p:cNvPicPr/>
          <p:nvPr/>
        </p:nvPicPr>
        <p:blipFill>
          <a:blip r:embed="rId1"/>
          <a:stretch/>
        </p:blipFill>
        <p:spPr>
          <a:xfrm>
            <a:off x="5724360" y="4529160"/>
            <a:ext cx="3203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演出的三个部分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一是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温巴顿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意为猎人净地，就是身着猎人装者手持彩箭首先出场，净场地，高歌祝福。其次是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加鲁钦批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即太子降福。就是着太子装者登场，象征加持舞台，给观众带来福泽。最后是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拉姆堆嘎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即仙女歌舞。就是着仙女装者慢慢起舞，表示仙女下凡，与人间共享欢乐。这是藏戏开场的序幕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1676520"/>
            <a:ext cx="91440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二是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雄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也就是正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三是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扎西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即告别祝福仪式。过去的戏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子演到这里，就是通过集体歌舞，向观众募捐</a:t>
            </a:r>
            <a:r>
              <a:rPr b="1" lang="zh-CN" sz="1100" spc="-1" strike="noStrike">
                <a:solidFill>
                  <a:srgbClr val="d60093"/>
                </a:solidFill>
                <a:latin typeface="幼圆"/>
                <a:ea typeface="幼圆"/>
              </a:rPr>
              <a:t>。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9" name="Picture 4" descr="150_1"/>
          <p:cNvPicPr/>
          <p:nvPr/>
        </p:nvPicPr>
        <p:blipFill>
          <a:blip r:embed="rId1"/>
          <a:stretch/>
        </p:blipFill>
        <p:spPr>
          <a:xfrm>
            <a:off x="4572000" y="762120"/>
            <a:ext cx="42670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00160" y="698040"/>
            <a:ext cx="231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演出习俗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2111400"/>
            <a:ext cx="822960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雪顿节：</a:t>
            </a:r>
            <a:r>
              <a:rPr b="0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从宗教节日到以藏戏演出为主的艺术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募捐戏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集市戏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支差戏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庙会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62" name="Picture 4" descr="1_1-1"/>
          <p:cNvPicPr/>
          <p:nvPr/>
        </p:nvPicPr>
        <p:blipFill>
          <a:blip r:embed="rId1"/>
          <a:stretch/>
        </p:blipFill>
        <p:spPr>
          <a:xfrm>
            <a:off x="2895480" y="2505240"/>
            <a:ext cx="5448600" cy="290484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5"/>
          <p:cNvSpPr/>
          <p:nvPr/>
        </p:nvSpPr>
        <p:spPr>
          <a:xfrm>
            <a:off x="28584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64" name="Group 10"/>
          <p:cNvGrpSpPr/>
          <p:nvPr/>
        </p:nvGrpSpPr>
        <p:grpSpPr>
          <a:xfrm>
            <a:off x="3657600" y="5638680"/>
            <a:ext cx="4875120" cy="609480"/>
            <a:chOff x="3657600" y="5638680"/>
            <a:chExt cx="4875120" cy="609480"/>
          </a:xfrm>
        </p:grpSpPr>
        <p:sp>
          <p:nvSpPr>
            <p:cNvPr id="465" name="Rectangle 9"/>
            <p:cNvSpPr/>
            <p:nvPr/>
          </p:nvSpPr>
          <p:spPr>
            <a:xfrm>
              <a:off x="3657600" y="5638680"/>
              <a:ext cx="4875120" cy="609480"/>
            </a:xfrm>
            <a:prstGeom prst="rect">
              <a:avLst/>
            </a:prstGeom>
            <a:solidFill>
              <a:srgbClr val="ed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66" name="Group 8"/>
            <p:cNvGrpSpPr/>
            <p:nvPr/>
          </p:nvGrpSpPr>
          <p:grpSpPr>
            <a:xfrm>
              <a:off x="3657600" y="5638680"/>
              <a:ext cx="4875120" cy="609120"/>
              <a:chOff x="3657600" y="5638680"/>
              <a:chExt cx="4875120" cy="609120"/>
            </a:xfrm>
          </p:grpSpPr>
          <p:sp>
            <p:nvSpPr>
              <p:cNvPr id="467" name="Rectangle 6"/>
              <p:cNvSpPr/>
              <p:nvPr/>
            </p:nvSpPr>
            <p:spPr>
              <a:xfrm>
                <a:off x="3657600" y="5638680"/>
                <a:ext cx="4875120" cy="36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8" name="Rectangle 7"/>
              <p:cNvSpPr/>
              <p:nvPr/>
            </p:nvSpPr>
            <p:spPr>
              <a:xfrm>
                <a:off x="3657600" y="5638680"/>
                <a:ext cx="4403160" cy="60912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5006c"/>
                    </a:solidFill>
                    <a:latin typeface="Times New Roman"/>
                  </a:rPr>
                  <a:t>“</a:t>
                </a:r>
                <a:r>
                  <a:rPr b="1" lang="zh-CN" sz="2400" spc="-1" strike="noStrike">
                    <a:solidFill>
                      <a:srgbClr val="05006c"/>
                    </a:solidFill>
                    <a:latin typeface="Times New Roman"/>
                  </a:rPr>
                  <a:t>雪顿”节让拉萨变成“藏戏城”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00160" y="698040"/>
            <a:ext cx="231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艺人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一、</a:t>
            </a:r>
            <a:r>
              <a:rPr b="1" lang="zh-CN" sz="2800" spc="-1" strike="noStrike">
                <a:solidFill>
                  <a:srgbClr val="ff6600"/>
                </a:solidFill>
                <a:latin typeface="幼圆"/>
                <a:ea typeface="幼圆"/>
              </a:rPr>
              <a:t>藏戏之神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ff6600"/>
                </a:solidFill>
                <a:latin typeface="幼圆"/>
                <a:ea typeface="幼圆"/>
              </a:rPr>
              <a:t>汤东杰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  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西藏过去的民间藏戏活动中，都把汤东杰布作为戏神来供奉祭祀。藏戏演出场地中心都供有汤东杰布塑像或唐卡画像，开场戏也主要是祭颂汤东杰布的内容，看戏的观众捐赠东西时，也首先要向汤东杰布神像献哈达。在西藏许多寺庙里也都供奉着他的塑像或画像，向他叩头祈祭的人络绎不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71" name="Picture 4" descr="ysh-h-tk-011"/>
          <p:cNvPicPr/>
          <p:nvPr/>
        </p:nvPicPr>
        <p:blipFill>
          <a:blip r:embed="rId1"/>
          <a:stretch/>
        </p:blipFill>
        <p:spPr>
          <a:xfrm>
            <a:off x="6400800" y="304920"/>
            <a:ext cx="1836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1680" y="1066680"/>
            <a:ext cx="59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二、藏戏历史上著名的演艺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藏戏革新家扎西顿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巴藏戏老戏师结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扎西雪巴著名戏师白玛顿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73" name="Group 11"/>
          <p:cNvGrpSpPr/>
          <p:nvPr/>
        </p:nvGrpSpPr>
        <p:grpSpPr>
          <a:xfrm>
            <a:off x="3276720" y="5410080"/>
            <a:ext cx="6289560" cy="822240"/>
            <a:chOff x="3276720" y="5410080"/>
            <a:chExt cx="6289560" cy="822240"/>
          </a:xfrm>
        </p:grpSpPr>
        <p:sp>
          <p:nvSpPr>
            <p:cNvPr id="474" name="Rectangle 3"/>
            <p:cNvSpPr/>
            <p:nvPr/>
          </p:nvSpPr>
          <p:spPr>
            <a:xfrm>
              <a:off x="3276720" y="5410080"/>
              <a:ext cx="62895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75" name="Group 10"/>
            <p:cNvGrpSpPr/>
            <p:nvPr/>
          </p:nvGrpSpPr>
          <p:grpSpPr>
            <a:xfrm>
              <a:off x="3276720" y="5410080"/>
              <a:ext cx="5803920" cy="822240"/>
              <a:chOff x="3276720" y="5410080"/>
              <a:chExt cx="5803920" cy="822240"/>
            </a:xfrm>
          </p:grpSpPr>
          <p:sp>
            <p:nvSpPr>
              <p:cNvPr id="476" name="Rectangle 9"/>
              <p:cNvSpPr/>
              <p:nvPr/>
            </p:nvSpPr>
            <p:spPr>
              <a:xfrm>
                <a:off x="3276720" y="5410080"/>
                <a:ext cx="5803920" cy="82224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77" name="Group 8"/>
              <p:cNvGrpSpPr/>
              <p:nvPr/>
            </p:nvGrpSpPr>
            <p:grpSpPr>
              <a:xfrm>
                <a:off x="3276720" y="5410080"/>
                <a:ext cx="5803920" cy="459720"/>
                <a:chOff x="3276720" y="5410080"/>
                <a:chExt cx="5803920" cy="459720"/>
              </a:xfrm>
            </p:grpSpPr>
            <p:sp>
              <p:nvSpPr>
                <p:cNvPr id="478" name="Rectangle 4"/>
                <p:cNvSpPr/>
                <p:nvPr/>
              </p:nvSpPr>
              <p:spPr>
                <a:xfrm>
                  <a:off x="3276720" y="5410080"/>
                  <a:ext cx="58039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Group 7"/>
                <p:cNvGrpSpPr/>
                <p:nvPr/>
              </p:nvGrpSpPr>
              <p:grpSpPr>
                <a:xfrm>
                  <a:off x="3276720" y="5410080"/>
                  <a:ext cx="5803920" cy="459720"/>
                  <a:chOff x="3276720" y="5410080"/>
                  <a:chExt cx="5803920" cy="459720"/>
                </a:xfrm>
              </p:grpSpPr>
              <p:sp>
                <p:nvSpPr>
                  <p:cNvPr id="480" name="Rectangle 5"/>
                  <p:cNvSpPr/>
                  <p:nvPr/>
                </p:nvSpPr>
                <p:spPr>
                  <a:xfrm>
                    <a:off x="3276720" y="5410080"/>
                    <a:ext cx="5803920" cy="30816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Rectangle 6"/>
                  <p:cNvSpPr/>
                  <p:nvPr/>
                </p:nvSpPr>
                <p:spPr>
                  <a:xfrm>
                    <a:off x="3276720" y="5410080"/>
                    <a:ext cx="58039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藏戏艺术家、西藏觉木隆藏戏团团长扎西顿珠与阿佳（妈）拉巴夫妇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82" name="Picture 12" descr="246_1"/>
          <p:cNvPicPr/>
          <p:nvPr/>
        </p:nvPicPr>
        <p:blipFill>
          <a:blip r:embed="rId1"/>
          <a:stretch/>
        </p:blipFill>
        <p:spPr>
          <a:xfrm>
            <a:off x="5867280" y="762120"/>
            <a:ext cx="2971800" cy="4332240"/>
          </a:xfrm>
          <a:prstGeom prst="rect">
            <a:avLst/>
          </a:prstGeom>
          <a:ln w="0">
            <a:noFill/>
          </a:ln>
        </p:spPr>
      </p:pic>
      <p:sp>
        <p:nvSpPr>
          <p:cNvPr id="483" name="文本框 8197"/>
          <p:cNvSpPr/>
          <p:nvPr/>
        </p:nvSpPr>
        <p:spPr>
          <a:xfrm>
            <a:off x="755640" y="2708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13880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一、初读课文，整体感知课文的内容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640" y="3284280"/>
            <a:ext cx="6586560" cy="51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*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本文主要讲了什么内容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948760" y="4508640"/>
            <a:ext cx="154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藏戏的形成和艺术特色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692280"/>
            <a:ext cx="88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三、现代优秀的藏戏艺人和主要演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名丑伦登波的传人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多吉占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打到世界上去的蹦子手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次仁更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藏戏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真正的皇后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阿玛次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创宗立派的藏戏著名女艺术家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阿妈拉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藏戏特型演员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阿旺顿珠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E42C-8AB2-49DF-B5AD-AF2F5B924B5F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10"/>
          <p:cNvGrpSpPr/>
          <p:nvPr/>
        </p:nvGrpSpPr>
        <p:grpSpPr>
          <a:xfrm>
            <a:off x="250920" y="5445000"/>
            <a:ext cx="2895480" cy="825480"/>
            <a:chOff x="250920" y="5445000"/>
            <a:chExt cx="2895480" cy="825480"/>
          </a:xfrm>
        </p:grpSpPr>
        <p:sp>
          <p:nvSpPr>
            <p:cNvPr id="490" name="Rectangle 2"/>
            <p:cNvSpPr/>
            <p:nvPr/>
          </p:nvSpPr>
          <p:spPr>
            <a:xfrm>
              <a:off x="250920" y="5445000"/>
              <a:ext cx="2895480" cy="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91" name="Group 9"/>
            <p:cNvGrpSpPr/>
            <p:nvPr/>
          </p:nvGrpSpPr>
          <p:grpSpPr>
            <a:xfrm>
              <a:off x="250920" y="5445000"/>
              <a:ext cx="2671920" cy="825480"/>
              <a:chOff x="250920" y="5445000"/>
              <a:chExt cx="2671920" cy="825480"/>
            </a:xfrm>
          </p:grpSpPr>
          <p:sp>
            <p:nvSpPr>
              <p:cNvPr id="492" name="Rectangle 8"/>
              <p:cNvSpPr/>
              <p:nvPr/>
            </p:nvSpPr>
            <p:spPr>
              <a:xfrm>
                <a:off x="250920" y="5445000"/>
                <a:ext cx="2671920" cy="70488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93" name="Group 7"/>
              <p:cNvGrpSpPr/>
              <p:nvPr/>
            </p:nvGrpSpPr>
            <p:grpSpPr>
              <a:xfrm>
                <a:off x="250920" y="5445000"/>
                <a:ext cx="2671920" cy="825480"/>
                <a:chOff x="250920" y="5445000"/>
                <a:chExt cx="2671920" cy="825480"/>
              </a:xfrm>
            </p:grpSpPr>
            <p:sp>
              <p:nvSpPr>
                <p:cNvPr id="494" name="Rectangle 3"/>
                <p:cNvSpPr/>
                <p:nvPr/>
              </p:nvSpPr>
              <p:spPr>
                <a:xfrm>
                  <a:off x="250920" y="5445000"/>
                  <a:ext cx="26719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Group 6"/>
                <p:cNvGrpSpPr/>
                <p:nvPr/>
              </p:nvGrpSpPr>
              <p:grpSpPr>
                <a:xfrm>
                  <a:off x="250920" y="5445000"/>
                  <a:ext cx="2671920" cy="825480"/>
                  <a:chOff x="250920" y="5445000"/>
                  <a:chExt cx="2671920" cy="825480"/>
                </a:xfrm>
              </p:grpSpPr>
              <p:sp>
                <p:nvSpPr>
                  <p:cNvPr id="496" name="Rectangle 4"/>
                  <p:cNvSpPr/>
                  <p:nvPr/>
                </p:nvSpPr>
                <p:spPr>
                  <a:xfrm>
                    <a:off x="250920" y="5445000"/>
                    <a:ext cx="2671920" cy="3859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Rectangle 5"/>
                  <p:cNvSpPr/>
                  <p:nvPr/>
                </p:nvSpPr>
                <p:spPr>
                  <a:xfrm>
                    <a:off x="250920" y="5445000"/>
                    <a:ext cx="2671920" cy="82548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穿贵夫人服的著名藏戏艺人阿妈拉巴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98" name="Picture 12" descr="254_1"/>
          <p:cNvPicPr/>
          <p:nvPr/>
        </p:nvPicPr>
        <p:blipFill>
          <a:blip r:embed="rId1"/>
          <a:stretch/>
        </p:blipFill>
        <p:spPr>
          <a:xfrm>
            <a:off x="228600" y="762120"/>
            <a:ext cx="2590920" cy="411480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21"/>
          <p:cNvGrpSpPr/>
          <p:nvPr/>
        </p:nvGrpSpPr>
        <p:grpSpPr>
          <a:xfrm>
            <a:off x="3132000" y="5300640"/>
            <a:ext cx="2895840" cy="825480"/>
            <a:chOff x="3132000" y="5300640"/>
            <a:chExt cx="2895840" cy="825480"/>
          </a:xfrm>
        </p:grpSpPr>
        <p:sp>
          <p:nvSpPr>
            <p:cNvPr id="500" name="Rectangle 13"/>
            <p:cNvSpPr/>
            <p:nvPr/>
          </p:nvSpPr>
          <p:spPr>
            <a:xfrm>
              <a:off x="3132000" y="5300640"/>
              <a:ext cx="28958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01" name="Group 20"/>
            <p:cNvGrpSpPr/>
            <p:nvPr/>
          </p:nvGrpSpPr>
          <p:grpSpPr>
            <a:xfrm>
              <a:off x="3132000" y="5300640"/>
              <a:ext cx="2672280" cy="825480"/>
              <a:chOff x="3132000" y="5300640"/>
              <a:chExt cx="2672280" cy="825480"/>
            </a:xfrm>
          </p:grpSpPr>
          <p:sp>
            <p:nvSpPr>
              <p:cNvPr id="502" name="Rectangle 19"/>
              <p:cNvSpPr/>
              <p:nvPr/>
            </p:nvSpPr>
            <p:spPr>
              <a:xfrm>
                <a:off x="3132000" y="5300640"/>
                <a:ext cx="26722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503" name="Group 18"/>
              <p:cNvGrpSpPr/>
              <p:nvPr/>
            </p:nvGrpSpPr>
            <p:grpSpPr>
              <a:xfrm>
                <a:off x="3132000" y="5300640"/>
                <a:ext cx="2672280" cy="825480"/>
                <a:chOff x="3132000" y="5300640"/>
                <a:chExt cx="2672280" cy="825480"/>
              </a:xfrm>
            </p:grpSpPr>
            <p:sp>
              <p:nvSpPr>
                <p:cNvPr id="504" name="Rectangle 14"/>
                <p:cNvSpPr/>
                <p:nvPr/>
              </p:nvSpPr>
              <p:spPr>
                <a:xfrm>
                  <a:off x="3132000" y="5300640"/>
                  <a:ext cx="26722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Group 17"/>
                <p:cNvGrpSpPr/>
                <p:nvPr/>
              </p:nvGrpSpPr>
              <p:grpSpPr>
                <a:xfrm>
                  <a:off x="3132000" y="5300640"/>
                  <a:ext cx="2672280" cy="825480"/>
                  <a:chOff x="3132000" y="5300640"/>
                  <a:chExt cx="2672280" cy="825480"/>
                </a:xfrm>
              </p:grpSpPr>
              <p:sp>
                <p:nvSpPr>
                  <p:cNvPr id="506" name="Rectangle 15"/>
                  <p:cNvSpPr/>
                  <p:nvPr/>
                </p:nvSpPr>
                <p:spPr>
                  <a:xfrm>
                    <a:off x="3132000" y="5300640"/>
                    <a:ext cx="2672280" cy="25056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Rectangle 16"/>
                  <p:cNvSpPr/>
                  <p:nvPr/>
                </p:nvSpPr>
                <p:spPr>
                  <a:xfrm>
                    <a:off x="3132000" y="5300640"/>
                    <a:ext cx="2672280" cy="82548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著名藏戏艺人次仁更巴（扮演诺桑王子）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508" name="Picture 22" descr="255_2"/>
          <p:cNvPicPr/>
          <p:nvPr/>
        </p:nvPicPr>
        <p:blipFill>
          <a:blip r:embed="rId2"/>
          <a:stretch/>
        </p:blipFill>
        <p:spPr>
          <a:xfrm>
            <a:off x="3124080" y="762120"/>
            <a:ext cx="2667240" cy="41148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33"/>
          <p:cNvGrpSpPr/>
          <p:nvPr/>
        </p:nvGrpSpPr>
        <p:grpSpPr>
          <a:xfrm>
            <a:off x="6300720" y="5181480"/>
            <a:ext cx="2664000" cy="615240"/>
            <a:chOff x="6300720" y="5181480"/>
            <a:chExt cx="2664000" cy="615240"/>
          </a:xfrm>
        </p:grpSpPr>
        <p:sp>
          <p:nvSpPr>
            <p:cNvPr id="510" name="Rectangle 23"/>
            <p:cNvSpPr/>
            <p:nvPr/>
          </p:nvSpPr>
          <p:spPr>
            <a:xfrm>
              <a:off x="6300720" y="5181480"/>
              <a:ext cx="266400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11" name="Group 32"/>
            <p:cNvGrpSpPr/>
            <p:nvPr/>
          </p:nvGrpSpPr>
          <p:grpSpPr>
            <a:xfrm>
              <a:off x="6300720" y="5181480"/>
              <a:ext cx="2458800" cy="615240"/>
              <a:chOff x="6300720" y="5181480"/>
              <a:chExt cx="2458800" cy="615240"/>
            </a:xfrm>
          </p:grpSpPr>
          <p:sp>
            <p:nvSpPr>
              <p:cNvPr id="512" name="Rectangle 31"/>
              <p:cNvSpPr/>
              <p:nvPr/>
            </p:nvSpPr>
            <p:spPr>
              <a:xfrm>
                <a:off x="6300720" y="5181480"/>
                <a:ext cx="2458440" cy="20124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513" name="Group 30"/>
              <p:cNvGrpSpPr/>
              <p:nvPr/>
            </p:nvGrpSpPr>
            <p:grpSpPr>
              <a:xfrm>
                <a:off x="6300720" y="5181480"/>
                <a:ext cx="2458800" cy="615240"/>
                <a:chOff x="6300720" y="5181480"/>
                <a:chExt cx="2458800" cy="615240"/>
              </a:xfrm>
            </p:grpSpPr>
            <p:sp>
              <p:nvSpPr>
                <p:cNvPr id="514" name="Rectangle 24"/>
                <p:cNvSpPr/>
                <p:nvPr/>
              </p:nvSpPr>
              <p:spPr>
                <a:xfrm>
                  <a:off x="6300720" y="5181480"/>
                  <a:ext cx="24584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515" name="Group 29"/>
                <p:cNvGrpSpPr/>
                <p:nvPr/>
              </p:nvGrpSpPr>
              <p:grpSpPr>
                <a:xfrm>
                  <a:off x="6300720" y="5181480"/>
                  <a:ext cx="2458800" cy="615240"/>
                  <a:chOff x="6300720" y="5181480"/>
                  <a:chExt cx="2458800" cy="615240"/>
                </a:xfrm>
              </p:grpSpPr>
              <p:sp>
                <p:nvSpPr>
                  <p:cNvPr id="516" name="Rectangle 25"/>
                  <p:cNvSpPr/>
                  <p:nvPr/>
                </p:nvSpPr>
                <p:spPr>
                  <a:xfrm>
                    <a:off x="6300720" y="5181480"/>
                    <a:ext cx="2458440" cy="15624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7" name="Group 28"/>
                  <p:cNvGrpSpPr/>
                  <p:nvPr/>
                </p:nvGrpSpPr>
                <p:grpSpPr>
                  <a:xfrm>
                    <a:off x="6300720" y="5337000"/>
                    <a:ext cx="2458800" cy="459720"/>
                    <a:chOff x="6300720" y="5337000"/>
                    <a:chExt cx="2458800" cy="459720"/>
                  </a:xfrm>
                </p:grpSpPr>
                <p:sp>
                  <p:nvSpPr>
                    <p:cNvPr id="518" name="Rectangle 26"/>
                    <p:cNvSpPr/>
                    <p:nvPr/>
                  </p:nvSpPr>
                  <p:spPr>
                    <a:xfrm>
                      <a:off x="6300720" y="5337720"/>
                      <a:ext cx="2458440" cy="13680"/>
                    </a:xfrm>
                    <a:prstGeom prst="rect">
                      <a:avLst/>
                    </a:prstGeom>
                    <a:solidFill>
                      <a:srgbClr val="fdf5d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Rectangle 27"/>
                    <p:cNvSpPr/>
                    <p:nvPr/>
                  </p:nvSpPr>
                  <p:spPr>
                    <a:xfrm>
                      <a:off x="6300720" y="5337000"/>
                      <a:ext cx="2458800" cy="459720"/>
                    </a:xfrm>
                    <a:prstGeom prst="rect">
                      <a:avLst/>
                    </a:prstGeom>
                    <a:solidFill>
                      <a:srgbClr val="fdf5d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阿旺顿珠在《苏吉尼玛》中扮演猎人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520" name="Picture 34" descr="255_1"/>
          <p:cNvPicPr/>
          <p:nvPr/>
        </p:nvPicPr>
        <p:blipFill>
          <a:blip r:embed="rId3"/>
          <a:stretch/>
        </p:blipFill>
        <p:spPr>
          <a:xfrm>
            <a:off x="6019920" y="765000"/>
            <a:ext cx="2813040" cy="41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小学语文（散文）02-2"/>
          <p:cNvPicPr/>
          <p:nvPr/>
        </p:nvPicPr>
        <p:blipFill>
          <a:blip r:embed="rId1"/>
          <a:stretch/>
        </p:blipFill>
        <p:spPr>
          <a:xfrm>
            <a:off x="0" y="214200"/>
            <a:ext cx="1741320" cy="3574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0"/>
          <p:cNvSpPr/>
          <p:nvPr/>
        </p:nvSpPr>
        <p:spPr>
          <a:xfrm>
            <a:off x="1332000" y="1412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词语理解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662120" y="214740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压抑：</a:t>
            </a:r>
            <a:r>
              <a:rPr b="0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2700360" y="2288520"/>
            <a:ext cx="601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感情、力量等加以限制，使不能充分流露和发挥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1662120" y="3082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敦厚：</a:t>
            </a:r>
            <a:r>
              <a:rPr b="0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3245400" y="3082680"/>
            <a:ext cx="5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忠厚。</a:t>
            </a:r>
            <a:r>
              <a:rPr b="0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1733400" y="373032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招徕：</a:t>
            </a:r>
            <a:r>
              <a:rPr b="0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2843280" y="3872880"/>
            <a:ext cx="565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招揽。本课指藏戏开场用陈述藏戏历史的方式招揽观众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1662120" y="459540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优哉：</a:t>
            </a:r>
            <a:r>
              <a:rPr b="0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2843280" y="4809600"/>
            <a:ext cx="55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优，美好，舒服；哉，语气词，表示感叹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1506600" y="5603400"/>
            <a:ext cx="136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随心所欲：</a:t>
            </a:r>
            <a:r>
              <a:rPr b="0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2843280" y="5744520"/>
            <a:ext cx="54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里想要怎么做就怎么做。随，听任；欲，想要，希望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二、细读课文  总结每段的大意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280" y="1557360"/>
            <a:ext cx="195444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68360" y="2708280"/>
            <a:ext cx="188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28480" y="5013360"/>
            <a:ext cx="188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四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68360" y="3789360"/>
            <a:ext cx="188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三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649240" y="1676520"/>
            <a:ext cx="17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~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3969720" y="2060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用设问句揭示藏戏的特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649240" y="2827440"/>
            <a:ext cx="17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~7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2745720" y="328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藏戏的由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649600" y="39085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8~18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3357720" y="4398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藏戏的道具的特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2649960" y="508464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9~2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1547640" y="5551560"/>
            <a:ext cx="75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藏戏形成了固定的形式，并一代一代师传身授下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539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三、朗读品位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4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世界上还有几个剧种是戴着面具演出的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世界上还有几个剧种在演出时是没有舞台的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世界上还有几个剧种是一部戏可以演出三五天还没有结束的呢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这三个自然段在全文中有什么作用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5084640"/>
            <a:ext cx="82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cc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以三个反问句开篇，先声夺人，强调了藏戏的三个特点，也为本文具体描写藏戏的特点埋下了伏笔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藏戏的特点有哪些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560" y="1981080"/>
            <a:ext cx="59878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　　　　　　　　）的面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490120" y="206064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多样、夸张、形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191240" y="29448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　　　）的舞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36476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没有固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416600" y="402444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　　　　　　　　　　　）的演唱风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182040" y="40719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固定的程式、唱腔及动作丰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.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还是从西藏高僧唐东杰布的传奇故事讲起吧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　这句话有什么作用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39640" y="3716280"/>
            <a:ext cx="819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这句话在文中起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承上启下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的作用，用“还是”转折，介绍唐东杰布的传奇故事及藏戏的形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2T02:54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47Z</dcterms:modified>
  <cp:revision>9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