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76A-9326-40EF-B4BA-C49594EE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C6B-D8ED-4E1F-BFFF-AE967775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81D-9760-46EB-98A5-16507715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4B3-78EB-47CF-B9F4-4E4FCB36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E8A-A304-4E25-9DA3-DEA57697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286-9153-4987-90FE-363CE9F4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2386-991E-4FB6-B3DA-B3069F8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940-098C-4DC9-BDFB-91212D5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028D-8D15-468E-9E32-C06FACDA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908A-3635-409B-B03D-7377155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793F-A454-436E-A407-2DD03F6A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F70-0025-49D9-8736-E1676D17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1419-EDB3-4D80-BF33-AACC126C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6394-89D8-4391-8393-5885CB8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9608-7CB7-4597-AC01-978D5809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D3EA-8DA7-46E8-9EC1-27A8BA5F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D3F-7CC7-4010-A50A-6042572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7B47-35A7-4097-9F05-1F554D60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BAD6-373D-4657-B158-FD7CF4E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CBB5-7FEA-4800-ABCB-45AD26B8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0A3E-9526-44B2-AEF8-1C41C0F7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F33B-43CB-472F-AAD1-FEBD193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D12-4CFC-47F4-BB3F-393CA84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C3F3-2A39-4503-A5F0-209629A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9C47-64E3-4F89-BB44-E20B53B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E33C-0C69-45BC-8538-B95CAAF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25F8-CFD4-4D0A-93FD-7F07618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43BB-E65B-4553-8BE4-A77B3C34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A4C4-719B-4F02-9667-5158CC19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E476-110C-4AA2-B2C4-0EB05CEE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219-CFEC-4BE7-9E83-C6FCBA0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8B1-E5AE-4BD4-842C-2040CEC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752-755D-4399-9339-E1C1F12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236-7CAA-4850-8084-8549666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6F2-A09E-418E-A6E4-A3C6824C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CF2-DF1F-4EEC-B962-540CEDC7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337A-7F86-4D65-9C31-DAB060401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049-BDBF-4EA9-8BC4-C6B343ACD9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203-1CB9-4BB3-A39B-F36744DFDC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44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人教新课标 五年级品德与社会上册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1014480" y="1916280"/>
            <a:ext cx="7127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信是金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E:\work\新课标配套课件全集\小学全集\mxy\品德与社会\五年级上（1）\诚信是金\读一读,议一议.jpg"/>
          <p:cNvPicPr/>
          <p:nvPr/>
        </p:nvPicPr>
        <p:blipFill>
          <a:blip r:embed="rId2"/>
          <a:stretch/>
        </p:blipFill>
        <p:spPr>
          <a:xfrm>
            <a:off x="1719360" y="2060640"/>
            <a:ext cx="56721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work\新课标配套课件全集\小学全集\mxy\shui01.gif"/>
          <p:cNvPicPr/>
          <p:nvPr/>
        </p:nvPicPr>
        <p:blipFill>
          <a:blip r:embed="rId1"/>
          <a:stretch/>
        </p:blipFill>
        <p:spPr>
          <a:xfrm>
            <a:off x="1042920" y="83664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476360" y="4437000"/>
            <a:ext cx="6400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头猪在当时还是贵的，曾子为了履行一句本来不经意的承诺而杀了一头猪，这是为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3343320" cy="27147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199"/>
          <p:cNvSpPr/>
          <p:nvPr/>
        </p:nvSpPr>
        <p:spPr>
          <a:xfrm>
            <a:off x="2408400" y="4199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yjf\桌面\1\1.png"/>
          <p:cNvPicPr/>
          <p:nvPr/>
        </p:nvPicPr>
        <p:blipFill>
          <a:blip r:embed="rId1"/>
          <a:stretch/>
        </p:blipFill>
        <p:spPr>
          <a:xfrm>
            <a:off x="857160" y="1285920"/>
            <a:ext cx="7380360" cy="5124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E:\work\新课标配套课件全集\小学全集\mxy\shui03.gif"/>
          <p:cNvPicPr/>
          <p:nvPr/>
        </p:nvPicPr>
        <p:blipFill>
          <a:blip r:embed="rId2"/>
          <a:stretch/>
        </p:blipFill>
        <p:spPr>
          <a:xfrm>
            <a:off x="642960" y="57168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Documents and Settings\yjf\桌面\1\2.png"/>
          <p:cNvPicPr/>
          <p:nvPr/>
        </p:nvPicPr>
        <p:blipFill>
          <a:blip r:embed="rId3"/>
          <a:stretch/>
        </p:blipFill>
        <p:spPr>
          <a:xfrm>
            <a:off x="928800" y="1285920"/>
            <a:ext cx="7284960" cy="498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yjf\桌面\1\3.png"/>
          <p:cNvPicPr/>
          <p:nvPr/>
        </p:nvPicPr>
        <p:blipFill>
          <a:blip r:embed="rId4"/>
          <a:stretch/>
        </p:blipFill>
        <p:spPr>
          <a:xfrm>
            <a:off x="1042920" y="1562040"/>
            <a:ext cx="67039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295280" y="2109960"/>
            <a:ext cx="655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诚信可以扔掉吗？我们用这个故事做个小测试，问问周围的人，如果让他们来选择，他们会怎么做，看看他们会不会扔掉诚信，并问问为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371600" y="4313160"/>
            <a:ext cx="6477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这个故事还没完，让我们续写下去，设想一下，这个青年扔掉诚信后会怎样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4479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曾经有过这样一篇报道：一个在国外留学的青年，在校学习成绩很好，也很精明能干。毕业后，他满以为凭着自己的学识和才华，能够找到一份很好的工作，都被拒聘了。当他询问拒聘的原因时，得到的答复是：“因为你有三次逃票的记录。我们不会录用一个不诚实的人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E:\work\新课标配套课件全集\小学全集\mxy\品德与社会\五年级上（1）\诚信是金\求职被拒.png"/>
          <p:cNvPicPr/>
          <p:nvPr/>
        </p:nvPicPr>
        <p:blipFill>
          <a:blip r:embed="rId2"/>
          <a:stretch/>
        </p:blipFill>
        <p:spPr>
          <a:xfrm>
            <a:off x="2847960" y="1600200"/>
            <a:ext cx="34336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E:\work\新课标配套课件全集\小学全集\mxy\品德与社会\五年级上（1）\诚信是金\男孩在思考.png"/>
          <p:cNvPicPr/>
          <p:nvPr/>
        </p:nvPicPr>
        <p:blipFill>
          <a:blip r:embed="rId2"/>
          <a:stretch/>
        </p:blipFill>
        <p:spPr>
          <a:xfrm>
            <a:off x="4952880" y="2286000"/>
            <a:ext cx="293688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8"/>
          <p:cNvGrpSpPr/>
          <p:nvPr/>
        </p:nvGrpSpPr>
        <p:grpSpPr>
          <a:xfrm>
            <a:off x="609480" y="1828800"/>
            <a:ext cx="5105520" cy="2057400"/>
            <a:chOff x="609480" y="1828800"/>
            <a:chExt cx="5105520" cy="2057400"/>
          </a:xfrm>
        </p:grpSpPr>
        <p:sp>
          <p:nvSpPr>
            <p:cNvPr id="143" name="AutoShape 7"/>
            <p:cNvSpPr/>
            <p:nvPr/>
          </p:nvSpPr>
          <p:spPr>
            <a:xfrm>
              <a:off x="609480" y="1828800"/>
              <a:ext cx="5105520" cy="2057400"/>
            </a:xfrm>
            <a:prstGeom prst="cloudCallout">
              <a:avLst>
                <a:gd name="adj1" fmla="val 53453"/>
                <a:gd name="adj2" fmla="val 47763"/>
              </a:avLst>
            </a:prstGeom>
            <a:solidFill>
              <a:srgbClr val="ccff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874800" y="2286000"/>
              <a:ext cx="475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议一议：这些公司为什么把诚实看得这么重要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文本框 8199"/>
          <p:cNvSpPr/>
          <p:nvPr/>
        </p:nvSpPr>
        <p:spPr>
          <a:xfrm>
            <a:off x="1887480" y="89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2590920" y="2651040"/>
            <a:ext cx="3429000" cy="1778760"/>
          </a:xfrm>
          <a:prstGeom prst="rect">
            <a:avLst/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无信不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     　——孔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566440" y="45100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孔子的这句话是什么意思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5"/>
          <p:cNvSpPr/>
          <p:nvPr/>
        </p:nvSpPr>
        <p:spPr>
          <a:xfrm>
            <a:off x="344808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3820680" y="1843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做人要讲信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50706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7E3-8003-40C0-9B06-4167772EC61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1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28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