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42.jpeg" ContentType="image/jpeg"/>
  <Override PartName="/ppt/media/image24.png" ContentType="image/png"/>
  <Override PartName="/ppt/media/image11.jpeg" ContentType="image/jpeg"/>
  <Override PartName="/ppt/media/image18.wmf" ContentType="image/x-wmf"/>
  <Override PartName="/ppt/media/image2.jpeg" ContentType="image/jpeg"/>
  <Override PartName="/ppt/media/image21.jpeg" ContentType="image/jpeg"/>
  <Override PartName="/ppt/media/chimes.wav" ContentType="audio/x-wav"/>
  <Override PartName="/ppt/media/image29.png" ContentType="image/png"/>
  <Override PartName="/ppt/media/camera.wav" ContentType="audio/x-wav"/>
  <Override PartName="/ppt/media/image17.gif" ContentType="image/gif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5.wmf" ContentType="image/x-wmf"/>
  <Override PartName="/ppt/media/click.wav" ContentType="audio/x-wav"/>
  <Override PartName="/ppt/media/image41.jpeg" ContentType="image/jpeg"/>
  <Override PartName="/ppt/media/image31.png" ContentType="image/png"/>
  <Override PartName="/ppt/media/image20.jpeg" ContentType="image/jpeg"/>
  <Override PartName="/ppt/media/type.wav" ContentType="audio/x-wav"/>
  <Override PartName="/ppt/media/image32.jpeg" ContentType="image/jpeg"/>
  <Override PartName="/ppt/media/image35.png" ContentType="image/png"/>
  <Override PartName="/ppt/media/wind.wav" ContentType="audio/x-wav"/>
  <Override PartName="/ppt/media/suction.wav" ContentType="audio/x-wav"/>
  <Override PartName="/ppt/media/image37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whoosh.wav" ContentType="audio/x-wav"/>
  <Override PartName="/ppt/media/image28.png" ContentType="image/png"/>
  <Override PartName="/ppt/media/image7.jpeg" ContentType="image/jpeg"/>
  <Override PartName="/ppt/media/image30.png" ContentType="image/png"/>
  <Override PartName="/ppt/media/voltage.wav" ContentType="audio/x-wav"/>
  <Override PartName="/ppt/media/image6.png" ContentType="image/png"/>
  <Override PartName="/ppt/media/image36.png" ContentType="image/png"/>
  <Override PartName="/ppt/media/image4.png" ContentType="image/png"/>
  <Override PartName="/ppt/media/image34.png" ContentType="image/pn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7AEF-21F1-455A-9252-01876836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75B-0987-4C5A-A65C-8B819D52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D69-7477-4F80-80F2-1F53E76E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B29F-136B-472B-BF0A-BF57512D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FEF2-84E8-4190-8A9F-549458EA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7902-308E-49DE-8E89-C39932BD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28F3-AC40-4D34-8E7B-F78D135B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9633-8DC6-40F2-B5C0-6B6CF90C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6F73-65BA-4C69-9C99-5D15FE2D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FA29-07B4-45C7-A55A-92012C64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3D38-88E5-4C77-A5E3-4D2123DA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129-9487-4064-B513-20E532F4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E82D-B580-411B-86A0-C01C8EE6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45AF-BACF-4D66-A18A-0052DBF5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94F4-8D10-470C-8284-B756812E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2766-4010-4969-9D6C-7020410D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83F8-CBA0-4A40-B5E3-9EBCD95C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221-CD94-43AA-B7AE-49873E89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2AB5-2A92-4C7B-9367-63B8E637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12C-4BFE-496B-8F91-A0B2ADEF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4B49-3D0C-4B03-88B2-56CC9D53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3D2F-97DF-4B70-AA1C-01C3A790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890-5978-4BC3-9BAE-DC3005F6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DF3-DE78-4418-8016-30B0C868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D83A-8BD8-4BA5-AF0C-A93290644D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9132-B485-4202-BD9E-54B9EAF861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audio" Target="../media/click.wav"/><Relationship Id="rId6" Type="http://schemas.openxmlformats.org/officeDocument/2006/relationships/audio" Target="../media/voltage.wav"/><Relationship Id="rId7" Type="http://schemas.openxmlformats.org/officeDocument/2006/relationships/audio" Target="../media/chimes.wav"/><Relationship Id="rId8" Type="http://schemas.openxmlformats.org/officeDocument/2006/relationships/audio" Target="../media/suction.wav"/><Relationship Id="rId9" Type="http://schemas.openxmlformats.org/officeDocument/2006/relationships/audio" Target="../media/wind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voltage.wav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audio" Target="../media/suction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audio" Target="../media/voltage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826920" y="1592280"/>
            <a:ext cx="75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磁现象磁场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826920" y="67932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二十章　电与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685800" y="380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幼圆"/>
              </a:rPr>
              <a:t>磁现象在现代科技生产生活中的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1523880" y="990720"/>
            <a:ext cx="2819520" cy="2303640"/>
            <a:chOff x="1523880" y="990720"/>
            <a:chExt cx="2819520" cy="2303640"/>
          </a:xfrm>
        </p:grpSpPr>
        <p:pic>
          <p:nvPicPr>
            <p:cNvPr id="136" name="Object 4" descr=""/>
            <p:cNvPicPr/>
            <p:nvPr/>
          </p:nvPicPr>
          <p:blipFill>
            <a:blip r:embed="rId1"/>
            <a:stretch/>
          </p:blipFill>
          <p:spPr>
            <a:xfrm>
              <a:off x="1523880" y="990720"/>
              <a:ext cx="2819520" cy="192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5"/>
            <p:cNvSpPr/>
            <p:nvPr/>
          </p:nvSpPr>
          <p:spPr>
            <a:xfrm>
              <a:off x="1600200" y="2895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ff"/>
                  </a:solidFill>
                  <a:latin typeface="Times New Roman"/>
                </a:rPr>
                <a:t>地质工作者正在进行磁法勘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6"/>
          <p:cNvGrpSpPr/>
          <p:nvPr/>
        </p:nvGrpSpPr>
        <p:grpSpPr>
          <a:xfrm>
            <a:off x="5181480" y="1600200"/>
            <a:ext cx="3581280" cy="2456280"/>
            <a:chOff x="5181480" y="1600200"/>
            <a:chExt cx="3581280" cy="2456280"/>
          </a:xfrm>
        </p:grpSpPr>
        <p:pic>
          <p:nvPicPr>
            <p:cNvPr id="139" name="Object 7" descr=""/>
            <p:cNvPicPr/>
            <p:nvPr/>
          </p:nvPicPr>
          <p:blipFill>
            <a:blip r:embed="rId2"/>
            <a:stretch/>
          </p:blipFill>
          <p:spPr>
            <a:xfrm>
              <a:off x="5410080" y="1600200"/>
              <a:ext cx="3048120" cy="20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5181480" y="3657600"/>
              <a:ext cx="358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Times New Roman"/>
                </a:rPr>
                <a:t>磁共振成像的胸部显影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9"/>
          <p:cNvGrpSpPr/>
          <p:nvPr/>
        </p:nvGrpSpPr>
        <p:grpSpPr>
          <a:xfrm>
            <a:off x="457200" y="3870360"/>
            <a:ext cx="3048120" cy="2837520"/>
            <a:chOff x="457200" y="3870360"/>
            <a:chExt cx="3048120" cy="2837520"/>
          </a:xfrm>
        </p:grpSpPr>
        <p:pic>
          <p:nvPicPr>
            <p:cNvPr id="142" name="Object 10" descr=""/>
            <p:cNvPicPr/>
            <p:nvPr/>
          </p:nvPicPr>
          <p:blipFill>
            <a:blip r:embed="rId3"/>
            <a:stretch/>
          </p:blipFill>
          <p:spPr>
            <a:xfrm>
              <a:off x="457200" y="3870360"/>
              <a:ext cx="304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1"/>
            <p:cNvSpPr/>
            <p:nvPr/>
          </p:nvSpPr>
          <p:spPr>
            <a:xfrm>
              <a:off x="914400" y="600408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计算机房的磁带和磁盘存储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12" descr="disk"/>
          <p:cNvPicPr/>
          <p:nvPr/>
        </p:nvPicPr>
        <p:blipFill>
          <a:blip r:embed="rId4"/>
          <a:stretch/>
        </p:blipFill>
        <p:spPr>
          <a:xfrm>
            <a:off x="3124080" y="5334120"/>
            <a:ext cx="1163880" cy="121896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13"/>
          <p:cNvGrpSpPr/>
          <p:nvPr/>
        </p:nvGrpSpPr>
        <p:grpSpPr>
          <a:xfrm>
            <a:off x="5105520" y="4419720"/>
            <a:ext cx="2666880" cy="1999080"/>
            <a:chOff x="5105520" y="4419720"/>
            <a:chExt cx="2666880" cy="1999080"/>
          </a:xfrm>
        </p:grpSpPr>
        <p:pic>
          <p:nvPicPr>
            <p:cNvPr id="146" name="Picture 14" descr="74"/>
            <p:cNvPicPr/>
            <p:nvPr/>
          </p:nvPicPr>
          <p:blipFill>
            <a:blip r:embed="rId5"/>
            <a:stretch/>
          </p:blipFill>
          <p:spPr>
            <a:xfrm>
              <a:off x="5410440" y="4419720"/>
              <a:ext cx="236196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5"/>
            <p:cNvSpPr/>
            <p:nvPr/>
          </p:nvSpPr>
          <p:spPr>
            <a:xfrm>
              <a:off x="5105520" y="601992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ff"/>
                  </a:solidFill>
                  <a:latin typeface="Arial"/>
                </a:rPr>
                <a:t>录音带、录像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39640" y="2168640"/>
            <a:ext cx="8209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体能够吸引含铁质物体的性质，叫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有这一性质的物体叫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根磁铁上磁性最强的部分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个部分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分别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极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一根细线系在一根条形磁铁的中间，悬挂在空气静止，可发现条形磁铁总是指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向，条形磁铁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极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极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555480" y="514440"/>
            <a:ext cx="17290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练习</a:t>
            </a:r>
            <a:endParaRPr b="0" lang="en-US" sz="2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一、磁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0" y="141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磁场是磁体周围存在的一种能使小磁针发生偏转的，看不见，摸不着的特殊物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84360" y="4149720"/>
            <a:ext cx="7846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磁场是确实存在的一种物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磁极间的相互作用就是通过磁场传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324000" y="2781360"/>
            <a:ext cx="2232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说明：</a:t>
            </a:r>
            <a:endParaRPr b="0" lang="en-US" sz="2000" spc="-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431640" y="2889360"/>
            <a:ext cx="8244000" cy="6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将几个小磁针放在条形磁体周围的不同地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2" descr="98931a528b469e30a41e46660dc73c31.jpg"/>
          <p:cNvPicPr/>
          <p:nvPr/>
        </p:nvPicPr>
        <p:blipFill>
          <a:blip r:embed="rId1"/>
          <a:stretch/>
        </p:blipFill>
        <p:spPr>
          <a:xfrm>
            <a:off x="5040360" y="360828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3"/>
          <p:cNvSpPr/>
          <p:nvPr/>
        </p:nvSpPr>
        <p:spPr>
          <a:xfrm>
            <a:off x="431640" y="3645000"/>
            <a:ext cx="4392720" cy="2226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针所指的方向相同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小磁针所受磁力的方向相同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样的现象反映了磁场有什么性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431640" y="79524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物理学中把磁场对小磁针作用力的方向，即小磁针静止时北极所指的方向规定为该点的磁场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431640" y="2278080"/>
            <a:ext cx="202428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431640" y="3141720"/>
            <a:ext cx="58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　　在磁体周围放很多小磁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2"/>
          <p:cNvSpPr/>
          <p:nvPr/>
        </p:nvSpPr>
        <p:spPr>
          <a:xfrm>
            <a:off x="431640" y="1268280"/>
            <a:ext cx="81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　　如果我们想知道磁体周围整个磁场的分布，要怎样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9" descr="20.1-5.jpg"/>
          <p:cNvPicPr/>
          <p:nvPr/>
        </p:nvPicPr>
        <p:blipFill>
          <a:blip r:embed="rId1"/>
          <a:stretch/>
        </p:blipFill>
        <p:spPr>
          <a:xfrm>
            <a:off x="179280" y="2349360"/>
            <a:ext cx="4572000" cy="31323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65" name="图片 10" descr="20.1-6.jpg"/>
          <p:cNvPicPr/>
          <p:nvPr/>
        </p:nvPicPr>
        <p:blipFill>
          <a:blip r:embed="rId2"/>
          <a:stretch/>
        </p:blipFill>
        <p:spPr>
          <a:xfrm>
            <a:off x="4751280" y="2349360"/>
            <a:ext cx="4143600" cy="312588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166" name="TextBox 1"/>
          <p:cNvSpPr/>
          <p:nvPr/>
        </p:nvSpPr>
        <p:spPr>
          <a:xfrm>
            <a:off x="431640" y="1268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在磁体上面放一块有机玻璃，玻璃上均匀地撒一些铁屑，轻敲玻璃，观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431640" y="730080"/>
            <a:ext cx="202428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431640" y="5589720"/>
            <a:ext cx="819000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4f81bd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楷体_GB2312"/>
              </a:rPr>
              <a:t>　　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磁化后的铁屑就像一个个小磁针，在磁场的作用下，形象地显示出磁场的分布</a:t>
            </a:r>
            <a:r>
              <a:rPr b="1" lang="zh-CN" sz="2800" spc="-1" strike="noStrike">
                <a:solidFill>
                  <a:srgbClr val="0066cc"/>
                </a:solidFill>
                <a:latin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431640" y="62064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我们把小磁针在磁场中排列情况，用一根带箭头的曲线画出来，形象地描述磁场，这样的曲线叫做磁感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1672920" y="5013360"/>
            <a:ext cx="51609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磁感线用来描述磁场，是假想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磁体外部的磁感线都是从磁体的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极出发，回到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磁感线上任意一点的方向，与该点的磁场方向相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ZVETUM46U6YG7P2OBOR~[2E"/>
          <p:cNvPicPr/>
          <p:nvPr/>
        </p:nvPicPr>
        <p:blipFill>
          <a:blip r:embed="rId1"/>
          <a:stretch/>
        </p:blipFill>
        <p:spPr>
          <a:xfrm>
            <a:off x="755640" y="2168640"/>
            <a:ext cx="3375000" cy="2760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P8A`_SZ@9NBS6KDQ~A}Z$0"/>
          <p:cNvPicPr/>
          <p:nvPr/>
        </p:nvPicPr>
        <p:blipFill>
          <a:blip r:embed="rId2"/>
          <a:stretch/>
        </p:blipFill>
        <p:spPr>
          <a:xfrm>
            <a:off x="4643280" y="2023920"/>
            <a:ext cx="3587760" cy="2827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79280" y="404640"/>
            <a:ext cx="3961080" cy="4176720"/>
            <a:chOff x="179280" y="404640"/>
            <a:chExt cx="3961080" cy="4176720"/>
          </a:xfrm>
        </p:grpSpPr>
        <p:pic>
          <p:nvPicPr>
            <p:cNvPr id="176" name="Picture 3" descr=""/>
            <p:cNvPicPr/>
            <p:nvPr/>
          </p:nvPicPr>
          <p:blipFill>
            <a:blip r:embed="rId1"/>
            <a:stretch/>
          </p:blipFill>
          <p:spPr>
            <a:xfrm>
              <a:off x="179280" y="404640"/>
              <a:ext cx="396108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4"/>
            <p:cNvSpPr/>
            <p:nvPr/>
          </p:nvSpPr>
          <p:spPr>
            <a:xfrm>
              <a:off x="1403280" y="232092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5"/>
            <p:cNvSpPr/>
            <p:nvPr/>
          </p:nvSpPr>
          <p:spPr>
            <a:xfrm>
              <a:off x="2411280" y="230472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6"/>
          <p:cNvGrpSpPr/>
          <p:nvPr/>
        </p:nvGrpSpPr>
        <p:grpSpPr>
          <a:xfrm>
            <a:off x="4643280" y="333360"/>
            <a:ext cx="4356000" cy="4076640"/>
            <a:chOff x="4643280" y="333360"/>
            <a:chExt cx="4356000" cy="4076640"/>
          </a:xfrm>
        </p:grpSpPr>
        <p:pic>
          <p:nvPicPr>
            <p:cNvPr id="180" name="Picture 7" descr=""/>
            <p:cNvPicPr/>
            <p:nvPr/>
          </p:nvPicPr>
          <p:blipFill>
            <a:blip r:embed="rId2"/>
            <a:stretch/>
          </p:blipFill>
          <p:spPr>
            <a:xfrm>
              <a:off x="4643280" y="333360"/>
              <a:ext cx="4356000" cy="40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8"/>
            <p:cNvSpPr/>
            <p:nvPr/>
          </p:nvSpPr>
          <p:spPr>
            <a:xfrm>
              <a:off x="6060960" y="2290680"/>
              <a:ext cx="553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7096320" y="2274840"/>
              <a:ext cx="553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10"/>
          <p:cNvSpPr/>
          <p:nvPr/>
        </p:nvSpPr>
        <p:spPr>
          <a:xfrm>
            <a:off x="179280" y="40464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异名磁极的磁场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4788000" y="40464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名磁极磁场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3"/>
          <a:stretch/>
        </p:blipFill>
        <p:spPr>
          <a:xfrm>
            <a:off x="541440" y="4149720"/>
            <a:ext cx="3166920" cy="2187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"/>
          <p:cNvPicPr/>
          <p:nvPr/>
        </p:nvPicPr>
        <p:blipFill>
          <a:blip r:embed="rId4"/>
          <a:stretch/>
        </p:blipFill>
        <p:spPr>
          <a:xfrm>
            <a:off x="5292720" y="4383000"/>
            <a:ext cx="3208320" cy="207036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14"/>
          <p:cNvGrpSpPr/>
          <p:nvPr/>
        </p:nvGrpSpPr>
        <p:grpSpPr>
          <a:xfrm>
            <a:off x="2058120" y="5287680"/>
            <a:ext cx="211320" cy="114120"/>
            <a:chOff x="2058120" y="5287680"/>
            <a:chExt cx="211320" cy="114120"/>
          </a:xfrm>
        </p:grpSpPr>
        <p:grpSp>
          <p:nvGrpSpPr>
            <p:cNvPr id="188" name=""/>
            <p:cNvGrpSpPr/>
            <p:nvPr/>
          </p:nvGrpSpPr>
          <p:grpSpPr>
            <a:xfrm>
              <a:off x="2058120" y="5287680"/>
              <a:ext cx="208800" cy="56160"/>
              <a:chOff x="2058120" y="5287680"/>
              <a:chExt cx="208800" cy="56160"/>
            </a:xfrm>
          </p:grpSpPr>
          <p:sp>
            <p:nvSpPr>
              <p:cNvPr id="189" name="Line 15"/>
              <p:cNvSpPr/>
              <p:nvPr/>
            </p:nvSpPr>
            <p:spPr>
              <a:xfrm flipV="1">
                <a:off x="2058120" y="5287680"/>
                <a:ext cx="208800" cy="5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 rot="15300000">
                <a:off x="2162160" y="520740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060640" y="5345640"/>
              <a:ext cx="208800" cy="56160"/>
              <a:chOff x="2060640" y="5345640"/>
              <a:chExt cx="208800" cy="56160"/>
            </a:xfrm>
          </p:grpSpPr>
          <p:sp>
            <p:nvSpPr>
              <p:cNvPr id="192" name="Line 16"/>
              <p:cNvSpPr/>
              <p:nvPr/>
            </p:nvSpPr>
            <p:spPr>
              <a:xfrm>
                <a:off x="2060640" y="5346000"/>
                <a:ext cx="208800" cy="5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 rot="17100000">
                <a:off x="2164680" y="52657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Group 17"/>
          <p:cNvGrpSpPr/>
          <p:nvPr/>
        </p:nvGrpSpPr>
        <p:grpSpPr>
          <a:xfrm>
            <a:off x="2084040" y="5648040"/>
            <a:ext cx="210960" cy="112680"/>
            <a:chOff x="2084040" y="5648040"/>
            <a:chExt cx="210960" cy="112680"/>
          </a:xfrm>
        </p:grpSpPr>
        <p:grpSp>
          <p:nvGrpSpPr>
            <p:cNvPr id="195" name=""/>
            <p:cNvGrpSpPr/>
            <p:nvPr/>
          </p:nvGrpSpPr>
          <p:grpSpPr>
            <a:xfrm>
              <a:off x="2084040" y="5648040"/>
              <a:ext cx="208800" cy="56160"/>
              <a:chOff x="2084040" y="5648040"/>
              <a:chExt cx="208800" cy="56160"/>
            </a:xfrm>
          </p:grpSpPr>
          <p:sp>
            <p:nvSpPr>
              <p:cNvPr id="196" name="Line 18"/>
              <p:cNvSpPr/>
              <p:nvPr/>
            </p:nvSpPr>
            <p:spPr>
              <a:xfrm flipV="1">
                <a:off x="2084040" y="5648040"/>
                <a:ext cx="208440" cy="5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 rot="15300000">
                <a:off x="2188080" y="55677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086200" y="5704560"/>
              <a:ext cx="208800" cy="56160"/>
              <a:chOff x="2086200" y="5704560"/>
              <a:chExt cx="208800" cy="56160"/>
            </a:xfrm>
          </p:grpSpPr>
          <p:sp>
            <p:nvSpPr>
              <p:cNvPr id="199" name="Line 19"/>
              <p:cNvSpPr/>
              <p:nvPr/>
            </p:nvSpPr>
            <p:spPr>
              <a:xfrm>
                <a:off x="2086200" y="5704920"/>
                <a:ext cx="208440" cy="5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 rot="17100000">
                <a:off x="2190240" y="562464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1" name="Group 20"/>
          <p:cNvGrpSpPr/>
          <p:nvPr/>
        </p:nvGrpSpPr>
        <p:grpSpPr>
          <a:xfrm>
            <a:off x="2084040" y="4911480"/>
            <a:ext cx="210960" cy="112680"/>
            <a:chOff x="2084040" y="4911480"/>
            <a:chExt cx="210960" cy="112680"/>
          </a:xfrm>
        </p:grpSpPr>
        <p:grpSp>
          <p:nvGrpSpPr>
            <p:cNvPr id="202" name=""/>
            <p:cNvGrpSpPr/>
            <p:nvPr/>
          </p:nvGrpSpPr>
          <p:grpSpPr>
            <a:xfrm>
              <a:off x="2084040" y="4911480"/>
              <a:ext cx="208800" cy="56160"/>
              <a:chOff x="2084040" y="4911480"/>
              <a:chExt cx="208800" cy="56160"/>
            </a:xfrm>
          </p:grpSpPr>
          <p:sp>
            <p:nvSpPr>
              <p:cNvPr id="203" name="Line 21"/>
              <p:cNvSpPr/>
              <p:nvPr/>
            </p:nvSpPr>
            <p:spPr>
              <a:xfrm flipV="1">
                <a:off x="2084040" y="4911480"/>
                <a:ext cx="208440" cy="5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 rot="15300000">
                <a:off x="2188080" y="483120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2086200" y="4968000"/>
              <a:ext cx="208800" cy="56160"/>
              <a:chOff x="2086200" y="4968000"/>
              <a:chExt cx="208800" cy="56160"/>
            </a:xfrm>
          </p:grpSpPr>
          <p:sp>
            <p:nvSpPr>
              <p:cNvPr id="206" name="Line 22"/>
              <p:cNvSpPr/>
              <p:nvPr/>
            </p:nvSpPr>
            <p:spPr>
              <a:xfrm>
                <a:off x="2086200" y="4968360"/>
                <a:ext cx="208440" cy="5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 txBox="1"/>
              <p:nvPr/>
            </p:nvSpPr>
            <p:spPr>
              <a:xfrm rot="17100000">
                <a:off x="2190240" y="488808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8" name="Group 23"/>
          <p:cNvGrpSpPr/>
          <p:nvPr/>
        </p:nvGrpSpPr>
        <p:grpSpPr>
          <a:xfrm>
            <a:off x="2083680" y="5859720"/>
            <a:ext cx="211320" cy="113760"/>
            <a:chOff x="2083680" y="5859720"/>
            <a:chExt cx="211320" cy="113760"/>
          </a:xfrm>
        </p:grpSpPr>
        <p:grpSp>
          <p:nvGrpSpPr>
            <p:cNvPr id="209" name=""/>
            <p:cNvGrpSpPr/>
            <p:nvPr/>
          </p:nvGrpSpPr>
          <p:grpSpPr>
            <a:xfrm>
              <a:off x="2083680" y="5859720"/>
              <a:ext cx="208800" cy="56160"/>
              <a:chOff x="2083680" y="5859720"/>
              <a:chExt cx="208800" cy="56160"/>
            </a:xfrm>
          </p:grpSpPr>
          <p:sp>
            <p:nvSpPr>
              <p:cNvPr id="210" name="Line 24"/>
              <p:cNvSpPr/>
              <p:nvPr/>
            </p:nvSpPr>
            <p:spPr>
              <a:xfrm flipV="1">
                <a:off x="2083680" y="5859720"/>
                <a:ext cx="208800" cy="5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 rot="15300000">
                <a:off x="2187720" y="577944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086200" y="5917320"/>
              <a:ext cx="208800" cy="56160"/>
              <a:chOff x="2086200" y="5917320"/>
              <a:chExt cx="208800" cy="56160"/>
            </a:xfrm>
          </p:grpSpPr>
          <p:sp>
            <p:nvSpPr>
              <p:cNvPr id="213" name="Line 25"/>
              <p:cNvSpPr/>
              <p:nvPr/>
            </p:nvSpPr>
            <p:spPr>
              <a:xfrm>
                <a:off x="2086200" y="5917680"/>
                <a:ext cx="208800" cy="5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 rot="17100000">
                <a:off x="2190240" y="583740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Group 26"/>
          <p:cNvGrpSpPr/>
          <p:nvPr/>
        </p:nvGrpSpPr>
        <p:grpSpPr>
          <a:xfrm>
            <a:off x="2096280" y="4706640"/>
            <a:ext cx="211320" cy="114120"/>
            <a:chOff x="2096280" y="4706640"/>
            <a:chExt cx="211320" cy="114120"/>
          </a:xfrm>
        </p:grpSpPr>
        <p:grpSp>
          <p:nvGrpSpPr>
            <p:cNvPr id="216" name=""/>
            <p:cNvGrpSpPr/>
            <p:nvPr/>
          </p:nvGrpSpPr>
          <p:grpSpPr>
            <a:xfrm>
              <a:off x="2096280" y="4706640"/>
              <a:ext cx="208800" cy="56160"/>
              <a:chOff x="2096280" y="4706640"/>
              <a:chExt cx="208800" cy="56160"/>
            </a:xfrm>
          </p:grpSpPr>
          <p:sp>
            <p:nvSpPr>
              <p:cNvPr id="217" name="Line 27"/>
              <p:cNvSpPr/>
              <p:nvPr/>
            </p:nvSpPr>
            <p:spPr>
              <a:xfrm flipV="1">
                <a:off x="2096280" y="4706640"/>
                <a:ext cx="208800" cy="5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 rot="15300000">
                <a:off x="2200320" y="46263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098800" y="4764600"/>
              <a:ext cx="208800" cy="56160"/>
              <a:chOff x="2098800" y="4764600"/>
              <a:chExt cx="208800" cy="56160"/>
            </a:xfrm>
          </p:grpSpPr>
          <p:sp>
            <p:nvSpPr>
              <p:cNvPr id="220" name="Line 28"/>
              <p:cNvSpPr/>
              <p:nvPr/>
            </p:nvSpPr>
            <p:spPr>
              <a:xfrm>
                <a:off x="2098800" y="4764960"/>
                <a:ext cx="208800" cy="5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 rot="17100000">
                <a:off x="2202840" y="468468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Group 29"/>
          <p:cNvGrpSpPr/>
          <p:nvPr/>
        </p:nvGrpSpPr>
        <p:grpSpPr>
          <a:xfrm>
            <a:off x="2630520" y="5839920"/>
            <a:ext cx="189720" cy="187200"/>
            <a:chOff x="2630520" y="5839920"/>
            <a:chExt cx="189720" cy="187200"/>
          </a:xfrm>
        </p:grpSpPr>
        <p:grpSp>
          <p:nvGrpSpPr>
            <p:cNvPr id="223" name=""/>
            <p:cNvGrpSpPr/>
            <p:nvPr/>
          </p:nvGrpSpPr>
          <p:grpSpPr>
            <a:xfrm>
              <a:off x="2630520" y="5839920"/>
              <a:ext cx="108360" cy="187200"/>
              <a:chOff x="2630520" y="5839920"/>
              <a:chExt cx="108360" cy="187200"/>
            </a:xfrm>
          </p:grpSpPr>
          <p:sp>
            <p:nvSpPr>
              <p:cNvPr id="224" name="Line 30"/>
              <p:cNvSpPr/>
              <p:nvPr/>
            </p:nvSpPr>
            <p:spPr>
              <a:xfrm flipV="1">
                <a:off x="2630880" y="5839920"/>
                <a:ext cx="108000" cy="18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 rot="12600000">
                <a:off x="2684520" y="58251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2633040" y="5917680"/>
              <a:ext cx="187200" cy="108360"/>
              <a:chOff x="2633040" y="5917680"/>
              <a:chExt cx="187200" cy="108360"/>
            </a:xfrm>
          </p:grpSpPr>
          <p:sp>
            <p:nvSpPr>
              <p:cNvPr id="227" name="Line 31"/>
              <p:cNvSpPr/>
              <p:nvPr/>
            </p:nvSpPr>
            <p:spPr>
              <a:xfrm flipV="1">
                <a:off x="2633040" y="5918040"/>
                <a:ext cx="187200" cy="10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 rot="14400000">
                <a:off x="2726280" y="586368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Group 32"/>
          <p:cNvGrpSpPr/>
          <p:nvPr/>
        </p:nvGrpSpPr>
        <p:grpSpPr>
          <a:xfrm>
            <a:off x="2601360" y="4602240"/>
            <a:ext cx="193320" cy="201960"/>
            <a:chOff x="2601360" y="4602240"/>
            <a:chExt cx="193320" cy="201960"/>
          </a:xfrm>
        </p:grpSpPr>
        <p:grpSp>
          <p:nvGrpSpPr>
            <p:cNvPr id="230" name=""/>
            <p:cNvGrpSpPr/>
            <p:nvPr/>
          </p:nvGrpSpPr>
          <p:grpSpPr>
            <a:xfrm>
              <a:off x="2607480" y="4602240"/>
              <a:ext cx="187200" cy="108360"/>
              <a:chOff x="2607480" y="4602240"/>
              <a:chExt cx="187200" cy="108360"/>
            </a:xfrm>
          </p:grpSpPr>
          <p:sp>
            <p:nvSpPr>
              <p:cNvPr id="231" name="Line 33"/>
              <p:cNvSpPr/>
              <p:nvPr/>
            </p:nvSpPr>
            <p:spPr>
              <a:xfrm>
                <a:off x="2607480" y="4602600"/>
                <a:ext cx="186840" cy="10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 rot="18000000">
                <a:off x="2700720" y="454824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2601360" y="4617000"/>
              <a:ext cx="108360" cy="187200"/>
              <a:chOff x="2601360" y="4617000"/>
              <a:chExt cx="108360" cy="187200"/>
            </a:xfrm>
          </p:grpSpPr>
          <p:sp>
            <p:nvSpPr>
              <p:cNvPr id="234" name="Line 34"/>
              <p:cNvSpPr/>
              <p:nvPr/>
            </p:nvSpPr>
            <p:spPr>
              <a:xfrm>
                <a:off x="2601360" y="4617000"/>
                <a:ext cx="108000" cy="18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 txBox="1"/>
              <p:nvPr/>
            </p:nvSpPr>
            <p:spPr>
              <a:xfrm rot="19800000">
                <a:off x="2655000" y="460224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35"/>
          <p:cNvGrpSpPr/>
          <p:nvPr/>
        </p:nvGrpSpPr>
        <p:grpSpPr>
          <a:xfrm>
            <a:off x="1598400" y="4640400"/>
            <a:ext cx="168120" cy="203040"/>
            <a:chOff x="1598400" y="4640400"/>
            <a:chExt cx="168120" cy="203040"/>
          </a:xfrm>
        </p:grpSpPr>
        <p:grpSp>
          <p:nvGrpSpPr>
            <p:cNvPr id="237" name=""/>
            <p:cNvGrpSpPr/>
            <p:nvPr/>
          </p:nvGrpSpPr>
          <p:grpSpPr>
            <a:xfrm>
              <a:off x="1598400" y="4640400"/>
              <a:ext cx="74160" cy="203040"/>
              <a:chOff x="1598400" y="4640400"/>
              <a:chExt cx="74160" cy="203040"/>
            </a:xfrm>
          </p:grpSpPr>
          <p:sp>
            <p:nvSpPr>
              <p:cNvPr id="238" name="Line 36"/>
              <p:cNvSpPr/>
              <p:nvPr/>
            </p:nvSpPr>
            <p:spPr>
              <a:xfrm flipV="1">
                <a:off x="1598760" y="4640400"/>
                <a:ext cx="73800" cy="203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 txBox="1"/>
              <p:nvPr/>
            </p:nvSpPr>
            <p:spPr>
              <a:xfrm rot="12000000">
                <a:off x="1635120" y="46335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1600560" y="4703040"/>
              <a:ext cx="165960" cy="138960"/>
              <a:chOff x="1600560" y="4703040"/>
              <a:chExt cx="165960" cy="138960"/>
            </a:xfrm>
          </p:grpSpPr>
          <p:sp>
            <p:nvSpPr>
              <p:cNvPr id="241" name="Line 37"/>
              <p:cNvSpPr/>
              <p:nvPr/>
            </p:nvSpPr>
            <p:spPr>
              <a:xfrm flipV="1">
                <a:off x="1600920" y="4703040"/>
                <a:ext cx="165240" cy="138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 txBox="1"/>
              <p:nvPr/>
            </p:nvSpPr>
            <p:spPr>
              <a:xfrm rot="13800000">
                <a:off x="1683000" y="46641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Group 38"/>
          <p:cNvGrpSpPr/>
          <p:nvPr/>
        </p:nvGrpSpPr>
        <p:grpSpPr>
          <a:xfrm>
            <a:off x="1602360" y="5854680"/>
            <a:ext cx="172080" cy="183600"/>
            <a:chOff x="1602360" y="5854680"/>
            <a:chExt cx="172080" cy="183600"/>
          </a:xfrm>
        </p:grpSpPr>
        <p:grpSp>
          <p:nvGrpSpPr>
            <p:cNvPr id="244" name=""/>
            <p:cNvGrpSpPr/>
            <p:nvPr/>
          </p:nvGrpSpPr>
          <p:grpSpPr>
            <a:xfrm>
              <a:off x="1605240" y="5854680"/>
              <a:ext cx="169200" cy="97920"/>
              <a:chOff x="1605240" y="5854680"/>
              <a:chExt cx="169200" cy="97920"/>
            </a:xfrm>
          </p:grpSpPr>
          <p:sp>
            <p:nvSpPr>
              <p:cNvPr id="245" name="Line 39"/>
              <p:cNvSpPr/>
              <p:nvPr/>
            </p:nvSpPr>
            <p:spPr>
              <a:xfrm>
                <a:off x="1605240" y="5855040"/>
                <a:ext cx="169200" cy="9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 rot="18000000">
                <a:off x="1689480" y="5806080"/>
                <a:ext cx="360" cy="19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1602360" y="5869080"/>
              <a:ext cx="97920" cy="169200"/>
              <a:chOff x="1602360" y="5869080"/>
              <a:chExt cx="97920" cy="169200"/>
            </a:xfrm>
          </p:grpSpPr>
          <p:sp>
            <p:nvSpPr>
              <p:cNvPr id="248" name="Line 40"/>
              <p:cNvSpPr/>
              <p:nvPr/>
            </p:nvSpPr>
            <p:spPr>
              <a:xfrm>
                <a:off x="1602360" y="5869080"/>
                <a:ext cx="97560" cy="16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 rot="19800000">
                <a:off x="1650960" y="5855760"/>
                <a:ext cx="360" cy="19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Group 41"/>
          <p:cNvGrpSpPr/>
          <p:nvPr/>
        </p:nvGrpSpPr>
        <p:grpSpPr>
          <a:xfrm>
            <a:off x="6878520" y="5020200"/>
            <a:ext cx="153000" cy="211680"/>
            <a:chOff x="6878520" y="5020200"/>
            <a:chExt cx="153000" cy="211680"/>
          </a:xfrm>
        </p:grpSpPr>
        <p:grpSp>
          <p:nvGrpSpPr>
            <p:cNvPr id="251" name=""/>
            <p:cNvGrpSpPr/>
            <p:nvPr/>
          </p:nvGrpSpPr>
          <p:grpSpPr>
            <a:xfrm>
              <a:off x="6878520" y="5078880"/>
              <a:ext cx="153000" cy="153000"/>
              <a:chOff x="6878520" y="5078880"/>
              <a:chExt cx="153000" cy="153000"/>
            </a:xfrm>
          </p:grpSpPr>
          <p:sp>
            <p:nvSpPr>
              <p:cNvPr id="252" name="Line 42"/>
              <p:cNvSpPr/>
              <p:nvPr/>
            </p:nvSpPr>
            <p:spPr>
              <a:xfrm flipH="1" flipV="1">
                <a:off x="6878880" y="5078880"/>
                <a:ext cx="15264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 txBox="1"/>
              <p:nvPr/>
            </p:nvSpPr>
            <p:spPr>
              <a:xfrm rot="8100000">
                <a:off x="6954840" y="504720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975000" y="5020200"/>
              <a:ext cx="56160" cy="208800"/>
              <a:chOff x="6975000" y="5020200"/>
              <a:chExt cx="56160" cy="208800"/>
            </a:xfrm>
          </p:grpSpPr>
          <p:sp>
            <p:nvSpPr>
              <p:cNvPr id="255" name="Line 43"/>
              <p:cNvSpPr/>
              <p:nvPr/>
            </p:nvSpPr>
            <p:spPr>
              <a:xfrm flipH="1" flipV="1">
                <a:off x="6975360" y="5020560"/>
                <a:ext cx="55800" cy="20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 rot="9900000">
                <a:off x="7002720" y="501660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7" name="Group 44"/>
          <p:cNvGrpSpPr/>
          <p:nvPr/>
        </p:nvGrpSpPr>
        <p:grpSpPr>
          <a:xfrm>
            <a:off x="6702120" y="5047920"/>
            <a:ext cx="141120" cy="212760"/>
            <a:chOff x="6702120" y="5047920"/>
            <a:chExt cx="141120" cy="212760"/>
          </a:xfrm>
        </p:grpSpPr>
        <p:grpSp>
          <p:nvGrpSpPr>
            <p:cNvPr id="258" name=""/>
            <p:cNvGrpSpPr/>
            <p:nvPr/>
          </p:nvGrpSpPr>
          <p:grpSpPr>
            <a:xfrm>
              <a:off x="6702120" y="5047920"/>
              <a:ext cx="37800" cy="212760"/>
              <a:chOff x="6702120" y="5047920"/>
              <a:chExt cx="37800" cy="212760"/>
            </a:xfrm>
          </p:grpSpPr>
          <p:sp>
            <p:nvSpPr>
              <p:cNvPr id="259" name="Line 45"/>
              <p:cNvSpPr/>
              <p:nvPr/>
            </p:nvSpPr>
            <p:spPr>
              <a:xfrm flipV="1">
                <a:off x="6702480" y="5047920"/>
                <a:ext cx="37440" cy="212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 rot="11400000">
                <a:off x="6720840" y="50461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703920" y="5093640"/>
              <a:ext cx="139320" cy="165600"/>
              <a:chOff x="6703920" y="5093640"/>
              <a:chExt cx="139320" cy="165600"/>
            </a:xfrm>
          </p:grpSpPr>
          <p:sp>
            <p:nvSpPr>
              <p:cNvPr id="262" name="Line 46"/>
              <p:cNvSpPr/>
              <p:nvPr/>
            </p:nvSpPr>
            <p:spPr>
              <a:xfrm flipV="1">
                <a:off x="6704280" y="5093640"/>
                <a:ext cx="138960" cy="165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 rot="13200000">
                <a:off x="6773040" y="506808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Group 47"/>
          <p:cNvGrpSpPr/>
          <p:nvPr/>
        </p:nvGrpSpPr>
        <p:grpSpPr>
          <a:xfrm>
            <a:off x="7173720" y="4719960"/>
            <a:ext cx="112680" cy="210960"/>
            <a:chOff x="7173720" y="4719960"/>
            <a:chExt cx="112680" cy="210960"/>
          </a:xfrm>
        </p:grpSpPr>
        <p:grpSp>
          <p:nvGrpSpPr>
            <p:cNvPr id="265" name=""/>
            <p:cNvGrpSpPr/>
            <p:nvPr/>
          </p:nvGrpSpPr>
          <p:grpSpPr>
            <a:xfrm>
              <a:off x="7173720" y="4722120"/>
              <a:ext cx="56160" cy="208800"/>
              <a:chOff x="7173720" y="4722120"/>
              <a:chExt cx="56160" cy="208800"/>
            </a:xfrm>
          </p:grpSpPr>
          <p:sp>
            <p:nvSpPr>
              <p:cNvPr id="266" name="Line 48"/>
              <p:cNvSpPr/>
              <p:nvPr/>
            </p:nvSpPr>
            <p:spPr>
              <a:xfrm flipH="1" flipV="1">
                <a:off x="7173720" y="4722480"/>
                <a:ext cx="56160" cy="20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 rot="9900000">
                <a:off x="7201440" y="47185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7230240" y="4719960"/>
              <a:ext cx="56160" cy="208800"/>
              <a:chOff x="7230240" y="4719960"/>
              <a:chExt cx="56160" cy="208800"/>
            </a:xfrm>
          </p:grpSpPr>
          <p:sp>
            <p:nvSpPr>
              <p:cNvPr id="269" name="Line 49"/>
              <p:cNvSpPr/>
              <p:nvPr/>
            </p:nvSpPr>
            <p:spPr>
              <a:xfrm flipV="1">
                <a:off x="7230600" y="4720320"/>
                <a:ext cx="55800" cy="20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 rot="11700000">
                <a:off x="7257960" y="47163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" name="Group 50"/>
          <p:cNvGrpSpPr/>
          <p:nvPr/>
        </p:nvGrpSpPr>
        <p:grpSpPr>
          <a:xfrm>
            <a:off x="6462360" y="4750200"/>
            <a:ext cx="112680" cy="210960"/>
            <a:chOff x="6462360" y="4750200"/>
            <a:chExt cx="112680" cy="210960"/>
          </a:xfrm>
        </p:grpSpPr>
        <p:grpSp>
          <p:nvGrpSpPr>
            <p:cNvPr id="272" name=""/>
            <p:cNvGrpSpPr/>
            <p:nvPr/>
          </p:nvGrpSpPr>
          <p:grpSpPr>
            <a:xfrm>
              <a:off x="6462360" y="4752360"/>
              <a:ext cx="56160" cy="208800"/>
              <a:chOff x="6462360" y="4752360"/>
              <a:chExt cx="56160" cy="208800"/>
            </a:xfrm>
          </p:grpSpPr>
          <p:sp>
            <p:nvSpPr>
              <p:cNvPr id="273" name="Line 51"/>
              <p:cNvSpPr/>
              <p:nvPr/>
            </p:nvSpPr>
            <p:spPr>
              <a:xfrm flipH="1" flipV="1">
                <a:off x="6462360" y="4752720"/>
                <a:ext cx="56160" cy="20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 rot="9900000">
                <a:off x="6490080" y="47487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6518880" y="4750200"/>
              <a:ext cx="56160" cy="208800"/>
              <a:chOff x="6518880" y="4750200"/>
              <a:chExt cx="56160" cy="208800"/>
            </a:xfrm>
          </p:grpSpPr>
          <p:sp>
            <p:nvSpPr>
              <p:cNvPr id="276" name="Line 52"/>
              <p:cNvSpPr/>
              <p:nvPr/>
            </p:nvSpPr>
            <p:spPr>
              <a:xfrm flipV="1">
                <a:off x="6519240" y="4750560"/>
                <a:ext cx="55800" cy="20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 txBox="1"/>
              <p:nvPr/>
            </p:nvSpPr>
            <p:spPr>
              <a:xfrm rot="11700000">
                <a:off x="6546600" y="474660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Group 53"/>
          <p:cNvGrpSpPr/>
          <p:nvPr/>
        </p:nvGrpSpPr>
        <p:grpSpPr>
          <a:xfrm>
            <a:off x="7164360" y="5886000"/>
            <a:ext cx="112680" cy="210960"/>
            <a:chOff x="7164360" y="5886000"/>
            <a:chExt cx="112680" cy="210960"/>
          </a:xfrm>
        </p:grpSpPr>
        <p:grpSp>
          <p:nvGrpSpPr>
            <p:cNvPr id="279" name=""/>
            <p:cNvGrpSpPr/>
            <p:nvPr/>
          </p:nvGrpSpPr>
          <p:grpSpPr>
            <a:xfrm>
              <a:off x="7220880" y="5886000"/>
              <a:ext cx="56160" cy="208800"/>
              <a:chOff x="7220880" y="5886000"/>
              <a:chExt cx="56160" cy="208800"/>
            </a:xfrm>
          </p:grpSpPr>
          <p:sp>
            <p:nvSpPr>
              <p:cNvPr id="280" name="Line 54"/>
              <p:cNvSpPr/>
              <p:nvPr/>
            </p:nvSpPr>
            <p:spPr>
              <a:xfrm>
                <a:off x="7220880" y="5886000"/>
                <a:ext cx="56160" cy="20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 rot="20700000">
                <a:off x="7248600" y="588204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7164360" y="5888160"/>
              <a:ext cx="56160" cy="208800"/>
              <a:chOff x="7164360" y="5888160"/>
              <a:chExt cx="56160" cy="208800"/>
            </a:xfrm>
          </p:grpSpPr>
          <p:sp>
            <p:nvSpPr>
              <p:cNvPr id="283" name="Line 55"/>
              <p:cNvSpPr/>
              <p:nvPr/>
            </p:nvSpPr>
            <p:spPr>
              <a:xfrm flipH="1">
                <a:off x="7164360" y="5888160"/>
                <a:ext cx="55800" cy="20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 rot="900000">
                <a:off x="7192080" y="588420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Group 56"/>
          <p:cNvGrpSpPr/>
          <p:nvPr/>
        </p:nvGrpSpPr>
        <p:grpSpPr>
          <a:xfrm>
            <a:off x="6462720" y="5933520"/>
            <a:ext cx="112680" cy="210960"/>
            <a:chOff x="6462720" y="5933520"/>
            <a:chExt cx="112680" cy="210960"/>
          </a:xfrm>
        </p:grpSpPr>
        <p:grpSp>
          <p:nvGrpSpPr>
            <p:cNvPr id="286" name=""/>
            <p:cNvGrpSpPr/>
            <p:nvPr/>
          </p:nvGrpSpPr>
          <p:grpSpPr>
            <a:xfrm>
              <a:off x="6519240" y="5933520"/>
              <a:ext cx="56160" cy="208800"/>
              <a:chOff x="6519240" y="5933520"/>
              <a:chExt cx="56160" cy="208800"/>
            </a:xfrm>
          </p:grpSpPr>
          <p:sp>
            <p:nvSpPr>
              <p:cNvPr id="287" name="Line 57"/>
              <p:cNvSpPr/>
              <p:nvPr/>
            </p:nvSpPr>
            <p:spPr>
              <a:xfrm>
                <a:off x="6519240" y="5933520"/>
                <a:ext cx="56160" cy="20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 rot="20700000">
                <a:off x="6546960" y="59295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6462720" y="5935680"/>
              <a:ext cx="56160" cy="208800"/>
              <a:chOff x="6462720" y="5935680"/>
              <a:chExt cx="56160" cy="208800"/>
            </a:xfrm>
          </p:grpSpPr>
          <p:sp>
            <p:nvSpPr>
              <p:cNvPr id="290" name="Line 58"/>
              <p:cNvSpPr/>
              <p:nvPr/>
            </p:nvSpPr>
            <p:spPr>
              <a:xfrm flipH="1">
                <a:off x="6462720" y="5935680"/>
                <a:ext cx="55800" cy="20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 rot="900000">
                <a:off x="6490440" y="59317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Group 59"/>
          <p:cNvGrpSpPr/>
          <p:nvPr/>
        </p:nvGrpSpPr>
        <p:grpSpPr>
          <a:xfrm>
            <a:off x="6984360" y="5714640"/>
            <a:ext cx="154800" cy="208800"/>
            <a:chOff x="6984360" y="5714640"/>
            <a:chExt cx="154800" cy="208800"/>
          </a:xfrm>
        </p:grpSpPr>
        <p:grpSp>
          <p:nvGrpSpPr>
            <p:cNvPr id="293" name=""/>
            <p:cNvGrpSpPr/>
            <p:nvPr/>
          </p:nvGrpSpPr>
          <p:grpSpPr>
            <a:xfrm>
              <a:off x="7083000" y="5714640"/>
              <a:ext cx="56160" cy="208800"/>
              <a:chOff x="7083000" y="5714640"/>
              <a:chExt cx="56160" cy="208800"/>
            </a:xfrm>
          </p:grpSpPr>
          <p:sp>
            <p:nvSpPr>
              <p:cNvPr id="294" name="Line 60"/>
              <p:cNvSpPr/>
              <p:nvPr/>
            </p:nvSpPr>
            <p:spPr>
              <a:xfrm flipH="1">
                <a:off x="7083000" y="5714640"/>
                <a:ext cx="55800" cy="20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 txBox="1"/>
              <p:nvPr/>
            </p:nvSpPr>
            <p:spPr>
              <a:xfrm rot="900000">
                <a:off x="7110720" y="571068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6984360" y="5715720"/>
              <a:ext cx="153000" cy="153000"/>
              <a:chOff x="6984360" y="5715720"/>
              <a:chExt cx="153000" cy="153000"/>
            </a:xfrm>
          </p:grpSpPr>
          <p:sp>
            <p:nvSpPr>
              <p:cNvPr id="297" name="Line 61"/>
              <p:cNvSpPr/>
              <p:nvPr/>
            </p:nvSpPr>
            <p:spPr>
              <a:xfrm flipH="1">
                <a:off x="6984360" y="5716080"/>
                <a:ext cx="15264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 txBox="1"/>
              <p:nvPr/>
            </p:nvSpPr>
            <p:spPr>
              <a:xfrm rot="2700000">
                <a:off x="7060320" y="568404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Group 62"/>
          <p:cNvGrpSpPr/>
          <p:nvPr/>
        </p:nvGrpSpPr>
        <p:grpSpPr>
          <a:xfrm>
            <a:off x="6622560" y="5743800"/>
            <a:ext cx="153000" cy="211680"/>
            <a:chOff x="6622560" y="5743800"/>
            <a:chExt cx="153000" cy="211680"/>
          </a:xfrm>
        </p:grpSpPr>
        <p:grpSp>
          <p:nvGrpSpPr>
            <p:cNvPr id="300" name=""/>
            <p:cNvGrpSpPr/>
            <p:nvPr/>
          </p:nvGrpSpPr>
          <p:grpSpPr>
            <a:xfrm>
              <a:off x="6622560" y="5743800"/>
              <a:ext cx="153000" cy="153000"/>
              <a:chOff x="6622560" y="5743800"/>
              <a:chExt cx="153000" cy="153000"/>
            </a:xfrm>
          </p:grpSpPr>
          <p:sp>
            <p:nvSpPr>
              <p:cNvPr id="301" name="Line 63"/>
              <p:cNvSpPr/>
              <p:nvPr/>
            </p:nvSpPr>
            <p:spPr>
              <a:xfrm>
                <a:off x="6622560" y="5744160"/>
                <a:ext cx="15264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 rot="18900000">
                <a:off x="6698520" y="57121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6622920" y="5746680"/>
              <a:ext cx="56160" cy="208800"/>
              <a:chOff x="6622920" y="5746680"/>
              <a:chExt cx="56160" cy="208800"/>
            </a:xfrm>
          </p:grpSpPr>
          <p:sp>
            <p:nvSpPr>
              <p:cNvPr id="304" name="Line 64"/>
              <p:cNvSpPr/>
              <p:nvPr/>
            </p:nvSpPr>
            <p:spPr>
              <a:xfrm>
                <a:off x="6622920" y="5746680"/>
                <a:ext cx="55800" cy="20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 rot="20700000">
                <a:off x="6650640" y="57427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6" name="Group 65"/>
          <p:cNvGrpSpPr/>
          <p:nvPr/>
        </p:nvGrpSpPr>
        <p:grpSpPr>
          <a:xfrm>
            <a:off x="6647760" y="5502240"/>
            <a:ext cx="153000" cy="211680"/>
            <a:chOff x="6647760" y="5502240"/>
            <a:chExt cx="153000" cy="211680"/>
          </a:xfrm>
        </p:grpSpPr>
        <p:grpSp>
          <p:nvGrpSpPr>
            <p:cNvPr id="307" name=""/>
            <p:cNvGrpSpPr/>
            <p:nvPr/>
          </p:nvGrpSpPr>
          <p:grpSpPr>
            <a:xfrm>
              <a:off x="6647760" y="5502240"/>
              <a:ext cx="153000" cy="153000"/>
              <a:chOff x="6647760" y="5502240"/>
              <a:chExt cx="153000" cy="153000"/>
            </a:xfrm>
          </p:grpSpPr>
          <p:sp>
            <p:nvSpPr>
              <p:cNvPr id="308" name="Line 66"/>
              <p:cNvSpPr/>
              <p:nvPr/>
            </p:nvSpPr>
            <p:spPr>
              <a:xfrm>
                <a:off x="6647760" y="5502600"/>
                <a:ext cx="15264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 rot="18900000">
                <a:off x="6723720" y="54705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648120" y="5505120"/>
              <a:ext cx="56160" cy="208800"/>
              <a:chOff x="6648120" y="5505120"/>
              <a:chExt cx="56160" cy="208800"/>
            </a:xfrm>
          </p:grpSpPr>
          <p:sp>
            <p:nvSpPr>
              <p:cNvPr id="311" name="Line 67"/>
              <p:cNvSpPr/>
              <p:nvPr/>
            </p:nvSpPr>
            <p:spPr>
              <a:xfrm>
                <a:off x="6648120" y="5505120"/>
                <a:ext cx="55800" cy="20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 txBox="1"/>
              <p:nvPr/>
            </p:nvSpPr>
            <p:spPr>
              <a:xfrm rot="20700000">
                <a:off x="6675840" y="55011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Group 68"/>
          <p:cNvGrpSpPr/>
          <p:nvPr/>
        </p:nvGrpSpPr>
        <p:grpSpPr>
          <a:xfrm>
            <a:off x="6946200" y="5522400"/>
            <a:ext cx="154800" cy="208800"/>
            <a:chOff x="6946200" y="5522400"/>
            <a:chExt cx="154800" cy="208800"/>
          </a:xfrm>
        </p:grpSpPr>
        <p:grpSp>
          <p:nvGrpSpPr>
            <p:cNvPr id="314" name=""/>
            <p:cNvGrpSpPr/>
            <p:nvPr/>
          </p:nvGrpSpPr>
          <p:grpSpPr>
            <a:xfrm>
              <a:off x="7044840" y="5522400"/>
              <a:ext cx="56160" cy="208800"/>
              <a:chOff x="7044840" y="5522400"/>
              <a:chExt cx="56160" cy="208800"/>
            </a:xfrm>
          </p:grpSpPr>
          <p:sp>
            <p:nvSpPr>
              <p:cNvPr id="315" name="Line 69"/>
              <p:cNvSpPr/>
              <p:nvPr/>
            </p:nvSpPr>
            <p:spPr>
              <a:xfrm flipH="1">
                <a:off x="7044840" y="5522400"/>
                <a:ext cx="55800" cy="20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 txBox="1"/>
              <p:nvPr/>
            </p:nvSpPr>
            <p:spPr>
              <a:xfrm rot="900000">
                <a:off x="7072560" y="551844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6946200" y="5523480"/>
              <a:ext cx="153000" cy="153000"/>
              <a:chOff x="6946200" y="5523480"/>
              <a:chExt cx="153000" cy="153000"/>
            </a:xfrm>
          </p:grpSpPr>
          <p:sp>
            <p:nvSpPr>
              <p:cNvPr id="318" name="Line 70"/>
              <p:cNvSpPr/>
              <p:nvPr/>
            </p:nvSpPr>
            <p:spPr>
              <a:xfrm flipH="1">
                <a:off x="6946200" y="5523840"/>
                <a:ext cx="15264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 txBox="1"/>
              <p:nvPr/>
            </p:nvSpPr>
            <p:spPr>
              <a:xfrm rot="2700000">
                <a:off x="7022160" y="549180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0" name="Group 71"/>
          <p:cNvGrpSpPr/>
          <p:nvPr/>
        </p:nvGrpSpPr>
        <p:grpSpPr>
          <a:xfrm>
            <a:off x="7004160" y="4929840"/>
            <a:ext cx="108720" cy="218880"/>
            <a:chOff x="7004160" y="4929840"/>
            <a:chExt cx="108720" cy="218880"/>
          </a:xfrm>
        </p:grpSpPr>
        <p:grpSp>
          <p:nvGrpSpPr>
            <p:cNvPr id="321" name=""/>
            <p:cNvGrpSpPr/>
            <p:nvPr/>
          </p:nvGrpSpPr>
          <p:grpSpPr>
            <a:xfrm>
              <a:off x="7004160" y="4961160"/>
              <a:ext cx="108360" cy="187560"/>
              <a:chOff x="7004160" y="4961160"/>
              <a:chExt cx="108360" cy="187560"/>
            </a:xfrm>
          </p:grpSpPr>
          <p:sp>
            <p:nvSpPr>
              <p:cNvPr id="322" name="Line 72"/>
              <p:cNvSpPr/>
              <p:nvPr/>
            </p:nvSpPr>
            <p:spPr>
              <a:xfrm flipH="1" flipV="1">
                <a:off x="7004520" y="4961160"/>
                <a:ext cx="108000" cy="18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 txBox="1"/>
              <p:nvPr/>
            </p:nvSpPr>
            <p:spPr>
              <a:xfrm rot="9000000">
                <a:off x="7058160" y="49467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7112520" y="4929840"/>
              <a:ext cx="360" cy="216000"/>
              <a:chOff x="7112520" y="4929840"/>
              <a:chExt cx="360" cy="216000"/>
            </a:xfrm>
          </p:grpSpPr>
          <p:sp>
            <p:nvSpPr>
              <p:cNvPr id="325" name="Line 73"/>
              <p:cNvSpPr/>
              <p:nvPr/>
            </p:nvSpPr>
            <p:spPr>
              <a:xfrm flipV="1">
                <a:off x="7112880" y="492984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 txBox="1"/>
              <p:nvPr/>
            </p:nvSpPr>
            <p:spPr>
              <a:xfrm rot="10800000">
                <a:off x="7112520" y="492984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7" name="Group 74"/>
          <p:cNvGrpSpPr/>
          <p:nvPr/>
        </p:nvGrpSpPr>
        <p:grpSpPr>
          <a:xfrm>
            <a:off x="6638400" y="4919400"/>
            <a:ext cx="109800" cy="216000"/>
            <a:chOff x="6638400" y="4919400"/>
            <a:chExt cx="109800" cy="216000"/>
          </a:xfrm>
        </p:grpSpPr>
        <p:grpSp>
          <p:nvGrpSpPr>
            <p:cNvPr id="328" name=""/>
            <p:cNvGrpSpPr/>
            <p:nvPr/>
          </p:nvGrpSpPr>
          <p:grpSpPr>
            <a:xfrm>
              <a:off x="6638400" y="4919400"/>
              <a:ext cx="360" cy="216000"/>
              <a:chOff x="6638400" y="4919400"/>
              <a:chExt cx="360" cy="216000"/>
            </a:xfrm>
          </p:grpSpPr>
          <p:sp>
            <p:nvSpPr>
              <p:cNvPr id="329" name="Line 75"/>
              <p:cNvSpPr/>
              <p:nvPr/>
            </p:nvSpPr>
            <p:spPr>
              <a:xfrm flipV="1">
                <a:off x="6638760" y="491940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 txBox="1"/>
              <p:nvPr/>
            </p:nvSpPr>
            <p:spPr>
              <a:xfrm rot="10800000">
                <a:off x="6638400" y="491940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6639840" y="4946400"/>
              <a:ext cx="108360" cy="187200"/>
              <a:chOff x="6639840" y="4946400"/>
              <a:chExt cx="108360" cy="187200"/>
            </a:xfrm>
          </p:grpSpPr>
          <p:sp>
            <p:nvSpPr>
              <p:cNvPr id="332" name="Line 76"/>
              <p:cNvSpPr/>
              <p:nvPr/>
            </p:nvSpPr>
            <p:spPr>
              <a:xfrm flipV="1">
                <a:off x="6640200" y="4946400"/>
                <a:ext cx="108000" cy="18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 txBox="1"/>
              <p:nvPr/>
            </p:nvSpPr>
            <p:spPr>
              <a:xfrm rot="12600000">
                <a:off x="6693840" y="493164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539640" y="2241720"/>
            <a:ext cx="7885080" cy="2485800"/>
          </a:xfrm>
          <a:prstGeom prst="rect">
            <a:avLst/>
          </a:prstGeom>
          <a:ln w="0">
            <a:noFill/>
          </a:ln>
        </p:spPr>
      </p:pic>
      <p:sp>
        <p:nvSpPr>
          <p:cNvPr id="335" name="矩形 2"/>
          <p:cNvSpPr/>
          <p:nvPr/>
        </p:nvSpPr>
        <p:spPr>
          <a:xfrm>
            <a:off x="431640" y="126828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标出磁极的名称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点的磁场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230560" y="4253040"/>
            <a:ext cx="555480" cy="6120"/>
            <a:chOff x="2230560" y="4253040"/>
            <a:chExt cx="555480" cy="6120"/>
          </a:xfrm>
        </p:grpSpPr>
        <p:sp>
          <p:nvSpPr>
            <p:cNvPr id="337" name="Line 4"/>
            <p:cNvSpPr/>
            <p:nvPr/>
          </p:nvSpPr>
          <p:spPr>
            <a:xfrm>
              <a:off x="2230560" y="4253040"/>
              <a:ext cx="555480" cy="6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2230560" y="4253040"/>
              <a:ext cx="55548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622920" y="4114800"/>
            <a:ext cx="360" cy="457200"/>
            <a:chOff x="6622920" y="4114800"/>
            <a:chExt cx="360" cy="457200"/>
          </a:xfrm>
        </p:grpSpPr>
        <p:sp>
          <p:nvSpPr>
            <p:cNvPr id="340" name="Line 5"/>
            <p:cNvSpPr/>
            <p:nvPr/>
          </p:nvSpPr>
          <p:spPr>
            <a:xfrm>
              <a:off x="6622920" y="41148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6622920" y="41148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6"/>
          <p:cNvSpPr/>
          <p:nvPr/>
        </p:nvSpPr>
        <p:spPr>
          <a:xfrm>
            <a:off x="1079640" y="31748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3166920" y="3178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5357880" y="32180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7451640" y="3214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11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348" name="圆角矩形 1" descr=""/>
            <p:cNvPicPr/>
            <p:nvPr/>
          </p:nvPicPr>
          <p:blipFill>
            <a:blip r:embed="rId3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16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431640" y="1268280"/>
            <a:ext cx="8101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关于磁感线的说法正确的是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            )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磁感线是由小铁屑形成的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磁场中有许多曲线，这些曲线叫磁感线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小磁针在磁感线上才受力，在两条磁感线之间不受力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磁感线是人们为了形象地描述磁场的分布而假想出来的，实际并不存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7264080" y="133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353" name="Group 5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354" name="圆角矩形 1" descr=""/>
            <p:cNvPicPr/>
            <p:nvPr/>
          </p:nvPicPr>
          <p:blipFill>
            <a:blip r:embed="rId2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Text Box 7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428760" y="1484280"/>
            <a:ext cx="4221000" cy="4915080"/>
            <a:chOff x="428760" y="1484280"/>
            <a:chExt cx="4221000" cy="4915080"/>
          </a:xfrm>
        </p:grpSpPr>
        <p:sp>
          <p:nvSpPr>
            <p:cNvPr id="86" name="TextBox 5"/>
            <p:cNvSpPr/>
            <p:nvPr/>
          </p:nvSpPr>
          <p:spPr>
            <a:xfrm>
              <a:off x="500040" y="1484280"/>
              <a:ext cx="4143600" cy="162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　　公元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世纪初，东汉学者王充在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《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论衡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》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中记载“司南之杓，投之于地，其柢指南。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图片 6" descr="司南：由青铜地盘和磁勺组成。地盘内圆外方，中心圆而下凹，圆外盘面分层次铸有八天干、十二地支、四卦，三者穿插排列，标示着二十四个方位。磁勺置于中心圆面上，勺头为北、勺尾为南。司南是磁性指南工具的早期阶段，后世发展为指南针。.bmp"/>
            <p:cNvPicPr/>
            <p:nvPr/>
          </p:nvPicPr>
          <p:blipFill>
            <a:blip r:embed="rId1"/>
            <a:stretch/>
          </p:blipFill>
          <p:spPr>
            <a:xfrm>
              <a:off x="428760" y="4184640"/>
              <a:ext cx="4221000" cy="221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89" name="矩形 4"/>
          <p:cNvSpPr/>
          <p:nvPr/>
        </p:nvSpPr>
        <p:spPr>
          <a:xfrm>
            <a:off x="848520" y="411120"/>
            <a:ext cx="140004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磁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4824360" y="1282680"/>
            <a:ext cx="4044960" cy="4128480"/>
            <a:chOff x="4824360" y="1282680"/>
            <a:chExt cx="4044960" cy="4128480"/>
          </a:xfrm>
        </p:grpSpPr>
        <p:sp>
          <p:nvSpPr>
            <p:cNvPr id="91" name="TextBox 3"/>
            <p:cNvSpPr/>
            <p:nvPr/>
          </p:nvSpPr>
          <p:spPr>
            <a:xfrm>
              <a:off x="4868640" y="4805280"/>
              <a:ext cx="4000680" cy="60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060"/>
                  </a:solidFill>
                  <a:latin typeface="宋体"/>
                </a:rPr>
                <a:t>　　中国人很早就利用罗盘（指南针）在航海中指示方向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1" descr=""/>
            <p:cNvPicPr/>
            <p:nvPr/>
          </p:nvPicPr>
          <p:blipFill>
            <a:blip r:embed="rId3"/>
            <a:stretch/>
          </p:blipFill>
          <p:spPr>
            <a:xfrm>
              <a:off x="4824360" y="1282680"/>
              <a:ext cx="3936960" cy="3009960"/>
            </a:xfrm>
            <a:prstGeom prst="rect">
              <a:avLst/>
            </a:prstGeom>
            <a:ln w="0">
              <a:noFill/>
            </a:ln>
            <a:effectLst>
              <a:outerShdw dist="89604" dir="2700000" blurRad="0" rotWithShape="0">
                <a:srgbClr val="848484"/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2420640" y="3284640"/>
            <a:ext cx="12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标出磁感线的方向及小磁针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2195640" y="3716280"/>
            <a:ext cx="4518000" cy="21319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4"/>
          <p:cNvSpPr/>
          <p:nvPr/>
        </p:nvSpPr>
        <p:spPr>
          <a:xfrm>
            <a:off x="1872000" y="469800"/>
            <a:ext cx="23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标出磁体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极以及磁感线的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>
            <a:off x="2916360" y="817560"/>
            <a:ext cx="3095640" cy="239544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6"/>
          <p:cNvSpPr/>
          <p:nvPr/>
        </p:nvSpPr>
        <p:spPr>
          <a:xfrm rot="900000">
            <a:off x="4643280" y="2498760"/>
            <a:ext cx="144720" cy="2887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7"/>
          <p:cNvSpPr/>
          <p:nvPr/>
        </p:nvSpPr>
        <p:spPr>
          <a:xfrm rot="9900000">
            <a:off x="4681080" y="1421640"/>
            <a:ext cx="144720" cy="289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 rot="20700000">
            <a:off x="4127040" y="2498760"/>
            <a:ext cx="144720" cy="2887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5075280" y="17524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3419640" y="17524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1"/>
          <p:cNvSpPr/>
          <p:nvPr/>
        </p:nvSpPr>
        <p:spPr>
          <a:xfrm rot="16200000">
            <a:off x="4394160" y="4051080"/>
            <a:ext cx="69840" cy="2764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2"/>
          <p:cNvSpPr/>
          <p:nvPr/>
        </p:nvSpPr>
        <p:spPr>
          <a:xfrm rot="16200000">
            <a:off x="4432320" y="5337000"/>
            <a:ext cx="69840" cy="2764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3"/>
          <p:cNvSpPr/>
          <p:nvPr/>
        </p:nvSpPr>
        <p:spPr>
          <a:xfrm rot="16200000">
            <a:off x="4111560" y="4701960"/>
            <a:ext cx="69840" cy="2761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4211640" y="47912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5"/>
          <p:cNvSpPr/>
          <p:nvPr/>
        </p:nvSpPr>
        <p:spPr>
          <a:xfrm>
            <a:off x="4643280" y="47912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431640" y="2057760"/>
            <a:ext cx="817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磁针受力转动是磁场作用的结果，那么指南针在世界各地都能够指南北又是谁的磁场在施加作用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7"/>
          <p:cNvSpPr/>
          <p:nvPr/>
        </p:nvSpPr>
        <p:spPr>
          <a:xfrm>
            <a:off x="431640" y="3213000"/>
            <a:ext cx="3240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地球周围存在的磁场叫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地磁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图片 8" descr="01300000251452125879405799673.jpg"/>
          <p:cNvPicPr/>
          <p:nvPr/>
        </p:nvPicPr>
        <p:blipFill>
          <a:blip r:embed="rId1"/>
          <a:stretch/>
        </p:blipFill>
        <p:spPr>
          <a:xfrm>
            <a:off x="3743280" y="2997360"/>
            <a:ext cx="4762440" cy="3571560"/>
          </a:xfrm>
          <a:prstGeom prst="rect">
            <a:avLst/>
          </a:prstGeom>
          <a:ln w="0">
            <a:noFill/>
          </a:ln>
        </p:spPr>
      </p:pic>
      <p:sp>
        <p:nvSpPr>
          <p:cNvPr id="373" name="矩形 9"/>
          <p:cNvSpPr/>
          <p:nvPr/>
        </p:nvSpPr>
        <p:spPr>
          <a:xfrm>
            <a:off x="431640" y="4678200"/>
            <a:ext cx="3492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研究表明地磁场的形状与条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磁体的磁场很相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375" name="矩形 4"/>
          <p:cNvSpPr/>
          <p:nvPr/>
        </p:nvSpPr>
        <p:spPr>
          <a:xfrm>
            <a:off x="1365120" y="411120"/>
            <a:ext cx="366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地磁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3"/>
          <p:cNvSpPr/>
          <p:nvPr/>
        </p:nvSpPr>
        <p:spPr>
          <a:xfrm>
            <a:off x="431640" y="1268280"/>
            <a:ext cx="3276720" cy="520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539640" y="1557360"/>
            <a:ext cx="341964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地磁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极在地理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极附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地磁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极在地理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极附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3"/>
          <p:cNvSpPr/>
          <p:nvPr/>
        </p:nvSpPr>
        <p:spPr>
          <a:xfrm>
            <a:off x="503280" y="4184640"/>
            <a:ext cx="345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地理两极与地磁两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相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且并不完全重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821880" y="74916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地磁场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2Z3()~5]{~)FQP_4_IX29OP"/>
          <p:cNvPicPr/>
          <p:nvPr/>
        </p:nvPicPr>
        <p:blipFill>
          <a:blip r:embed="rId2"/>
          <a:stretch/>
        </p:blipFill>
        <p:spPr>
          <a:xfrm>
            <a:off x="4067280" y="1268280"/>
            <a:ext cx="484488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468360" y="2276640"/>
            <a:ext cx="7920000" cy="2052360"/>
          </a:xfrm>
          <a:prstGeom prst="rect">
            <a:avLst/>
          </a:prstGeom>
          <a:solidFill>
            <a:srgbClr val="ff99cc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一现象最早由我国宋代学者沈括记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沈括的这一发现比西方早了四百多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385" name="Group 3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386" name="圆角矩形 1" descr=""/>
            <p:cNvPicPr/>
            <p:nvPr/>
          </p:nvPicPr>
          <p:blipFill>
            <a:blip r:embed="rId2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Text Box 9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课堂小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6"/>
          <p:cNvGrpSpPr/>
          <p:nvPr/>
        </p:nvGrpSpPr>
        <p:grpSpPr>
          <a:xfrm>
            <a:off x="431640" y="2735280"/>
            <a:ext cx="2657520" cy="2468520"/>
            <a:chOff x="431640" y="2735280"/>
            <a:chExt cx="2657520" cy="2468520"/>
          </a:xfrm>
        </p:grpSpPr>
        <p:pic>
          <p:nvPicPr>
            <p:cNvPr id="389" name="单圆角矩形 2" descr=""/>
            <p:cNvPicPr/>
            <p:nvPr/>
          </p:nvPicPr>
          <p:blipFill>
            <a:blip r:embed="rId3"/>
            <a:stretch/>
          </p:blipFill>
          <p:spPr>
            <a:xfrm>
              <a:off x="431640" y="2735280"/>
              <a:ext cx="26575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 Box 12"/>
            <p:cNvSpPr/>
            <p:nvPr/>
          </p:nvSpPr>
          <p:spPr>
            <a:xfrm>
              <a:off x="615960" y="2840040"/>
              <a:ext cx="1487160" cy="22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磁现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9"/>
          <p:cNvGrpSpPr/>
          <p:nvPr/>
        </p:nvGrpSpPr>
        <p:grpSpPr>
          <a:xfrm>
            <a:off x="3382920" y="2664000"/>
            <a:ext cx="1999800" cy="2468520"/>
            <a:chOff x="3382920" y="2664000"/>
            <a:chExt cx="1999800" cy="2468520"/>
          </a:xfrm>
        </p:grpSpPr>
        <p:pic>
          <p:nvPicPr>
            <p:cNvPr id="392" name="单圆角矩形 3" descr=""/>
            <p:cNvPicPr/>
            <p:nvPr/>
          </p:nvPicPr>
          <p:blipFill>
            <a:blip r:embed="rId4"/>
            <a:stretch/>
          </p:blipFill>
          <p:spPr>
            <a:xfrm>
              <a:off x="3382920" y="2664000"/>
              <a:ext cx="199980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Text Box 15"/>
            <p:cNvSpPr/>
            <p:nvPr/>
          </p:nvSpPr>
          <p:spPr>
            <a:xfrm>
              <a:off x="3542760" y="2786400"/>
              <a:ext cx="1626840" cy="22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磁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2"/>
          <p:cNvGrpSpPr/>
          <p:nvPr/>
        </p:nvGrpSpPr>
        <p:grpSpPr>
          <a:xfrm>
            <a:off x="2592360" y="3321000"/>
            <a:ext cx="615960" cy="1322280"/>
            <a:chOff x="2592360" y="3321000"/>
            <a:chExt cx="615960" cy="1322280"/>
          </a:xfrm>
        </p:grpSpPr>
        <p:pic>
          <p:nvPicPr>
            <p:cNvPr id="395" name="燕尾形 5" descr=""/>
            <p:cNvPicPr/>
            <p:nvPr/>
          </p:nvPicPr>
          <p:blipFill>
            <a:blip r:embed="rId5"/>
            <a:stretch/>
          </p:blipFill>
          <p:spPr>
            <a:xfrm>
              <a:off x="2592360" y="3321000"/>
              <a:ext cx="6159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Text Box 18"/>
            <p:cNvSpPr/>
            <p:nvPr/>
          </p:nvSpPr>
          <p:spPr>
            <a:xfrm>
              <a:off x="2654280" y="3357360"/>
              <a:ext cx="50004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5"/>
          <p:cNvGrpSpPr/>
          <p:nvPr/>
        </p:nvGrpSpPr>
        <p:grpSpPr>
          <a:xfrm>
            <a:off x="5616720" y="2687760"/>
            <a:ext cx="3168000" cy="2469960"/>
            <a:chOff x="5616720" y="2687760"/>
            <a:chExt cx="3168000" cy="2469960"/>
          </a:xfrm>
        </p:grpSpPr>
        <p:grpSp>
          <p:nvGrpSpPr>
            <p:cNvPr id="398" name="Group 16"/>
            <p:cNvGrpSpPr/>
            <p:nvPr/>
          </p:nvGrpSpPr>
          <p:grpSpPr>
            <a:xfrm>
              <a:off x="5616720" y="2687760"/>
              <a:ext cx="3168000" cy="2469960"/>
              <a:chOff x="5616720" y="2687760"/>
              <a:chExt cx="3168000" cy="2469960"/>
            </a:xfrm>
          </p:grpSpPr>
          <p:pic>
            <p:nvPicPr>
              <p:cNvPr id="399" name="单圆角矩形 4" descr=""/>
              <p:cNvPicPr/>
              <p:nvPr/>
            </p:nvPicPr>
            <p:blipFill>
              <a:blip r:embed="rId6"/>
              <a:stretch/>
            </p:blipFill>
            <p:spPr>
              <a:xfrm>
                <a:off x="5616720" y="2687760"/>
                <a:ext cx="3168000" cy="246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Text Box 22"/>
              <p:cNvSpPr/>
              <p:nvPr/>
            </p:nvSpPr>
            <p:spPr>
              <a:xfrm>
                <a:off x="6741360" y="2790720"/>
                <a:ext cx="1764720" cy="22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地磁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19"/>
            <p:cNvGrpSpPr/>
            <p:nvPr/>
          </p:nvGrpSpPr>
          <p:grpSpPr>
            <a:xfrm>
              <a:off x="5686200" y="3320640"/>
              <a:ext cx="614160" cy="1328400"/>
              <a:chOff x="5686200" y="3320640"/>
              <a:chExt cx="614160" cy="1328400"/>
            </a:xfrm>
          </p:grpSpPr>
          <p:pic>
            <p:nvPicPr>
              <p:cNvPr id="402" name="燕尾形 6" descr=""/>
              <p:cNvPicPr/>
              <p:nvPr/>
            </p:nvPicPr>
            <p:blipFill>
              <a:blip r:embed="rId7"/>
              <a:stretch/>
            </p:blipFill>
            <p:spPr>
              <a:xfrm>
                <a:off x="5686200" y="3320640"/>
                <a:ext cx="614160" cy="132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Text Box 25"/>
              <p:cNvSpPr/>
              <p:nvPr/>
            </p:nvSpPr>
            <p:spPr>
              <a:xfrm>
                <a:off x="5743080" y="3358440"/>
                <a:ext cx="499680" cy="121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9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7" descr="slide0017_image007"/>
          <p:cNvPicPr/>
          <p:nvPr/>
        </p:nvPicPr>
        <p:blipFill>
          <a:blip r:embed="rId2"/>
          <a:stretch/>
        </p:blipFill>
        <p:spPr>
          <a:xfrm>
            <a:off x="0" y="-7308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407" name="TextBox 3"/>
          <p:cNvSpPr/>
          <p:nvPr/>
        </p:nvSpPr>
        <p:spPr>
          <a:xfrm>
            <a:off x="431640" y="638280"/>
            <a:ext cx="817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　　你知道吗？美丽的极光的发生与地球的磁场有密切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2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2A5E-04E3-4C2B-80F6-1A4DD7B4C2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3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121932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能吸引铁、钴、镍 等物质的性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36232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具有磁性的物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11280" y="3716280"/>
            <a:ext cx="9145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14240" y="121428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磁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971640" y="234936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磁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ject 8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4314600" cy="29620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9"/>
          <p:cNvSpPr/>
          <p:nvPr/>
        </p:nvSpPr>
        <p:spPr>
          <a:xfrm>
            <a:off x="5410080" y="34290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形、针形、蹄形、圆柱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24000" y="404640"/>
            <a:ext cx="10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095480" y="117000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42920" y="13096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铁屑均匀地铺在白纸上，将磁体依次平放在铁屑上，然后将磁体提起，观察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317520" y="252360"/>
            <a:ext cx="3276720" cy="304920"/>
          </a:xfrm>
          <a:prstGeom prst="cloudCallout">
            <a:avLst>
              <a:gd name="adj1" fmla="val -1791"/>
              <a:gd name="adj2" fmla="val 326564"/>
            </a:avLst>
          </a:prstGeom>
          <a:solidFill>
            <a:srgbClr val="ffcc00"/>
          </a:solidFill>
          <a:ln w="93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</a:rPr>
              <a:t>实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638680" y="25146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磁体两端的磁性最强，中间磁性最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1"/>
          <p:cNvPicPr/>
          <p:nvPr/>
        </p:nvPicPr>
        <p:blipFill>
          <a:blip r:embed="rId1"/>
          <a:stretch/>
        </p:blipFill>
        <p:spPr>
          <a:xfrm>
            <a:off x="0" y="2590920"/>
            <a:ext cx="5410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"/>
          <p:cNvPicPr/>
          <p:nvPr/>
        </p:nvPicPr>
        <p:blipFill>
          <a:blip r:embed="rId1"/>
          <a:stretch/>
        </p:blipFill>
        <p:spPr>
          <a:xfrm>
            <a:off x="2700360" y="1684440"/>
            <a:ext cx="5649840" cy="42051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431640" y="795240"/>
            <a:ext cx="835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磁体上吸引能力最强的两个部位叫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磁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（每个磁体都有两个磁极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"/>
          <p:cNvSpPr/>
          <p:nvPr/>
        </p:nvSpPr>
        <p:spPr>
          <a:xfrm>
            <a:off x="431640" y="5337000"/>
            <a:ext cx="820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能够自由转动的磁体，静止时指南的那个磁极叫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南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指北的那个磁极叫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北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431640" y="2097000"/>
            <a:ext cx="202428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演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324000" y="260280"/>
            <a:ext cx="2190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</a:t>
            </a:r>
            <a:endParaRPr b="0" lang="en-US" sz="2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187280" y="129528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磁体被分割成两段或几段后，每一段磁体上是否仍然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极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143000" y="2438280"/>
            <a:ext cx="740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一段磁体上仍然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极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554040" y="3249720"/>
            <a:ext cx="7696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431640" y="765000"/>
            <a:ext cx="7929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磁体间相互作用的规律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同名磁极相互排斥，异名磁极相互吸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431640" y="2097000"/>
            <a:ext cx="202428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演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1" descr=""/>
          <p:cNvPicPr/>
          <p:nvPr/>
        </p:nvPicPr>
        <p:blipFill>
          <a:blip r:embed="rId2"/>
          <a:stretch/>
        </p:blipFill>
        <p:spPr>
          <a:xfrm>
            <a:off x="3132000" y="2097000"/>
            <a:ext cx="485784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431640" y="795240"/>
            <a:ext cx="82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一些物体在某些条件下可以获得磁性，这种现象叫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磁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431640" y="2097000"/>
            <a:ext cx="202428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演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2664000" y="1808280"/>
            <a:ext cx="6121440" cy="4389480"/>
            <a:chOff x="2664000" y="1808280"/>
            <a:chExt cx="6121440" cy="4389480"/>
          </a:xfrm>
        </p:grpSpPr>
        <p:pic>
          <p:nvPicPr>
            <p:cNvPr id="124" name="Picture 7" descr="图片1"/>
            <p:cNvPicPr/>
            <p:nvPr/>
          </p:nvPicPr>
          <p:blipFill>
            <a:blip r:embed="rId2"/>
            <a:stretch/>
          </p:blipFill>
          <p:spPr>
            <a:xfrm>
              <a:off x="2664000" y="1808280"/>
              <a:ext cx="61214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8"/>
            <p:cNvSpPr/>
            <p:nvPr/>
          </p:nvSpPr>
          <p:spPr>
            <a:xfrm>
              <a:off x="7306200" y="3439080"/>
              <a:ext cx="48528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4477680" y="3537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软铁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8041680" y="3608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软铁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3438000" y="5445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f497d"/>
                  </a:solidFill>
                  <a:latin typeface="Arial"/>
                </a:rPr>
                <a:t>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2"/>
            <p:cNvSpPr/>
            <p:nvPr/>
          </p:nvSpPr>
          <p:spPr>
            <a:xfrm>
              <a:off x="7110000" y="5445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f497d"/>
                  </a:solidFill>
                  <a:latin typeface="Arial"/>
                </a:rPr>
                <a:t>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图框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826920" y="260280"/>
            <a:ext cx="69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隶书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应用：磁悬浮列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磁悬浮列车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95280" y="3284640"/>
            <a:ext cx="8424720" cy="33890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2052000" y="1197000"/>
            <a:ext cx="487476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上海国际机场与市区的磁悬浮列车最高速度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3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时，全线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该列车由德国磁悬浮高速列车国际公司承建，并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首次通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15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14Z</dcterms:modified>
  <cp:revision>49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