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mera.wav" ContentType="audio/x-wav"/>
  <Override PartName="/ppt/media/image7.png" ContentType="image/png"/>
  <Override PartName="/ppt/media/cashreg.wav" ContentType="audio/x-wav"/>
  <Override PartName="/ppt/media/image1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whoosh.wav" ContentType="audio/x-wav"/>
  <Override PartName="/ppt/media/image5.jpeg" ContentType="image/jpeg"/>
  <Override PartName="/ppt/media/image4.png" ContentType="image/png"/>
  <Override PartName="/ppt/media/image9.jpeg" ContentType="image/jpeg"/>
  <Override PartName="/ppt/media/image11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projctor.wav" ContentType="audio/x-wav"/>
  <Override PartName="/ppt/media/chimes.wav" ContentType="audio/x-wav"/>
  <Override PartName="/ppt/media/image16.wmf" ContentType="image/x-wmf"/>
  <Override PartName="/ppt/media/image14.jpeg" ContentType="image/jpeg"/>
  <Override PartName="/ppt/media/image2.png" ContentType="image/png"/>
  <Override PartName="/ppt/media/image1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459-FAB6-4FB6-9259-4C9B6EE1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DE9-8A54-4DBA-872C-14F85B0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A93-74BE-4D2B-A3A3-F3FCEB38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F6C-5DAA-435F-86C1-A1258226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DD95-6F70-498A-BBE1-511D0233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A623-F52C-4886-B23F-44DE03C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3EC0-9399-4EF5-920F-FC88BB7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E7A8-083C-480E-B844-16FB4CC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6E94-1105-4513-9EC0-C4ECC65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E054-3FF4-411E-9F99-6850E342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4D18-8BC3-44B9-B6C7-FA44221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6F0-6E3B-4951-84E2-E4F8DC8F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4E8-F896-46A2-8250-FE7414C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C699-E135-4405-869E-8F683589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1569-FA72-4FEF-970F-4A2456A7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ED3C-4E27-4D1A-9818-AF28DF0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8C0C-976E-451A-9697-7E6A9F19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70D-F908-4DF2-954A-B7B6B46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B77-5965-4B40-9E34-E23A4950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A1F-E0F7-4F55-8FA5-824C3D22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CBC-3BA7-43FF-A130-B9FDF195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7AA-BC8A-417F-8044-B845BE7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DFD-79BE-484C-86A1-4F850EB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C34-38E6-4A64-A132-C6A2B00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A72-6EBF-47A5-8F63-5C9530B20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DED-1D20-4B0D-9406-B49E84266B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yoto.com/writer/&#37711;&#26495;&#31390;&#37927;&#35763;&#31801;&#37826;&#22247;&#23538;&#28028;&#29363;&#25393;&#37832;&#22800;&#27322;&#37711;&#57600;&#24451;&#37927;&#35763;&#31801;&#29825;&#25424;&#57720;&#23480;&#12516;&#32148;&#28729;?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pep.com.cn/200503/ca676109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http://www.pep.com.cn/200503/ca676109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pep.com.cn/200503/ca676109.htm" TargetMode="External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26" descr=""/>
          <p:cNvPicPr/>
          <p:nvPr/>
        </p:nvPicPr>
        <p:blipFill>
          <a:blip r:embed="rId1"/>
          <a:srcRect l="23551" t="23093" r="23796" b="20756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6802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安徒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安徒生童话故事选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ext Box 1028" descr=""/>
          <p:cNvPicPr/>
          <p:nvPr/>
        </p:nvPicPr>
        <p:blipFill>
          <a:blip r:embed="rId2"/>
          <a:stretch/>
        </p:blipFill>
        <p:spPr>
          <a:xfrm>
            <a:off x="2016000" y="1066680"/>
            <a:ext cx="6019920" cy="701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在小学学过安徒生的什么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27" descr="未标题-13"/>
          <p:cNvPicPr/>
          <p:nvPr/>
        </p:nvPicPr>
        <p:blipFill>
          <a:blip r:embed="rId1"/>
          <a:stretch/>
        </p:blipFill>
        <p:spPr>
          <a:xfrm>
            <a:off x="4952880" y="1700280"/>
            <a:ext cx="4191120" cy="515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8" descr="未标题-14"/>
          <p:cNvPicPr/>
          <p:nvPr/>
        </p:nvPicPr>
        <p:blipFill>
          <a:blip r:embed="rId2"/>
          <a:stretch/>
        </p:blipFill>
        <p:spPr>
          <a:xfrm>
            <a:off x="0" y="1700280"/>
            <a:ext cx="49258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"/>
          <p:cNvPicPr/>
          <p:nvPr/>
        </p:nvPicPr>
        <p:blipFill>
          <a:blip r:embed="rId1"/>
          <a:srcRect l="29216" t="21338" r="10377" b="13866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432160" y="4361040"/>
            <a:ext cx="42955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皇 帝 的 新 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学过安徒生的什么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199"/>
          <p:cNvSpPr/>
          <p:nvPr/>
        </p:nvSpPr>
        <p:spPr>
          <a:xfrm>
            <a:off x="2050920" y="9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6" descr="PE02043_"/>
          <p:cNvPicPr/>
          <p:nvPr/>
        </p:nvPicPr>
        <p:blipFill>
          <a:blip r:embed="rId1"/>
          <a:stretch/>
        </p:blipFill>
        <p:spPr>
          <a:xfrm>
            <a:off x="6095880" y="2438280"/>
            <a:ext cx="2921040" cy="4267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79711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童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儿童文学的一种。它按照儿童的心理特点，通过丰富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想象、幻想和夸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采用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化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的手法。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主人公可以让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动物、植物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像人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一样地说话、活动，故事情节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曲折离奇，激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孩子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的想象，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并对他们进行思想和知识的教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育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6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了解安徒生和他的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积累课文中的生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认识丑小鸭这一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的社会意义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培养对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学作品的欣赏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28" descr="chouA[1]"/>
          <p:cNvPicPr/>
          <p:nvPr/>
        </p:nvPicPr>
        <p:blipFill>
          <a:blip r:embed="rId1"/>
          <a:stretch/>
        </p:blipFill>
        <p:spPr>
          <a:xfrm>
            <a:off x="6012000" y="3645000"/>
            <a:ext cx="2808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彩云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丑小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彩云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的重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练口才　讲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（复述课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5229360"/>
            <a:ext cx="3240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98184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口才：战争时期的武器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三寸之舌，可胜百万之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2421000"/>
            <a:ext cx="6923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口才：和平年代的饭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口才出色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金饭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口才不佳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泥饭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27367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方法程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朗读课文，扫除生字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熟悉情节，列出提纲（可看提纲复述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标出生动形象的词语，尽量用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斟酌语气、表情、体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27367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chouA[1]"/>
          <p:cNvPicPr/>
          <p:nvPr/>
        </p:nvPicPr>
        <p:blipFill>
          <a:blip r:embed="rId1"/>
          <a:stretch/>
        </p:blipFill>
        <p:spPr>
          <a:xfrm>
            <a:off x="6156360" y="4437000"/>
            <a:ext cx="2987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68360" y="260280"/>
            <a:ext cx="849636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初读课文    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作者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国）作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的童话作品另外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掌握字的读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释下列词语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讪笑：              弥漫：           来势汹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课文，并用一句话概括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几个短语说出故事的主要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声朗读课文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以后看谁回答最准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体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9280" y="259920"/>
            <a:ext cx="860436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者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国）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他的童话作品另外还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2005641611269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9640" y="491328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580000" y="19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丹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476360" y="314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安徒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6836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卖火柴的小女孩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348000" y="41497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皇帝的新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58000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海的女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156360" y="4941720"/>
            <a:ext cx="12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380880" y="3049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6666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读一读  写一写</a:t>
            </a:r>
            <a:endParaRPr b="1" lang="en-US" sz="1800" spc="1" strike="noStrike">
              <a:ln w="19080">
                <a:solidFill>
                  <a:srgbClr val="6666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50920" y="1557360"/>
            <a:ext cx="858204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丑陋      讪笑       嫉妒       来势汹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沼泽      铰链      迸出       木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飕飕      弥漫      排挤        灯芯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98520" y="306864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z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359600" y="1628640"/>
            <a:ext cx="13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jí d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948720" y="48690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xī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14520" y="4797360"/>
            <a:ext cx="106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197800" y="162864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h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948360" y="32130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j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997800" y="321300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bè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2127960" y="321300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j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7313040" y="162864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xiō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13800" y="16286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lò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219640" y="692280"/>
            <a:ext cx="35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吐绶鸡（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hò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同学们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有这样一句俗语：</a:t>
            </a:r>
            <a:r>
              <a:rPr b="1" lang="zh-CN" sz="3200" spc="-1" strike="noStrike">
                <a:solidFill>
                  <a:srgbClr val="ff0066"/>
                </a:solidFill>
                <a:latin typeface="经典特宋简"/>
                <a:ea typeface="经典特宋简"/>
              </a:rPr>
              <a:t>只要你能经受住磨难，丑小鸭也会变成白天鹅。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你知道这句话是从哪儿来的吗？它来自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安徒生的</a:t>
            </a:r>
            <a:r>
              <a:rPr b="1" lang="en-US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《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丑小鸭</a:t>
            </a:r>
            <a:r>
              <a:rPr b="1" lang="en-US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》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。如今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经典特宋简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丑小鸭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经典特宋简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已经成为人们经常使用的一个文学典故，成为激励身处逆境的人们不断进取追求美好生活的典型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houA[1]"/>
          <p:cNvPicPr/>
          <p:nvPr/>
        </p:nvPicPr>
        <p:blipFill>
          <a:blip r:embed="rId1"/>
          <a:stretch/>
        </p:blipFill>
        <p:spPr>
          <a:xfrm>
            <a:off x="6012000" y="5084640"/>
            <a:ext cx="280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0920" y="260280"/>
            <a:ext cx="86421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释下列词语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讪笑：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漫：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势汹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排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利用势力或手段使不利于自己的人失去地位或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嫉妒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忌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797360"/>
            <a:ext cx="291636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403280" y="126828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讥笑和嘲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258920" y="19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烟尘、雾气、水等）充满；布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411280" y="2492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形容气势很盛或很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84360" y="4941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读课文，并概括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3284640"/>
            <a:ext cx="2916360" cy="1800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0" y="1916280"/>
            <a:ext cx="9144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本文写了一只天生丑陋的小鸭在众人的欺凌中被迫离家流浪，后来在逃跑途中经受种种磨难，并最终变成仰慕已久的美丽的天鹅的故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一句话概括课文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84360" y="4941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941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只丑小鸭变成白天鹅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0920" y="260280"/>
            <a:ext cx="8642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几个短语说出故事的主要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3665520"/>
            <a:ext cx="2916360" cy="1800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684360" y="4100400"/>
            <a:ext cx="338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24000" y="24433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出生下来被嫌弃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708360" y="25858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沼泽地连猎狗都不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68360" y="32338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农家小屋里饱受猫和母鸡的歧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250920" y="39546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湖泊看到美丽的天鹅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11280" y="46753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被一个种田人救回，后又被追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24000" y="55389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花园里丑小鸭费力飞向天空，变成天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从这篇文章中我们得到什么启示？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要不懈追求，努力进取，即使身处逆境，也终能实现自己的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762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第一段告诉我们什么信息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开篇即概括点明丑小鸭的处境，激起读者的阅读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雄吐绶鸡有什么特点</a:t>
            </a: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自以为是，骄傲自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如何理解“后来一天比一天更糟”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头还只是邻居的鸡嘲笑他，如果这些还可以忍受的话，那么现在连自己的兄弟姐妹都对他生起气来，则让他感到莫大的悲伤，无限的孤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199"/>
          <p:cNvSpPr/>
          <p:nvPr/>
        </p:nvSpPr>
        <p:spPr>
          <a:xfrm>
            <a:off x="2050920" y="177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丑小鸭为什么要“尽可能对大家恭恭敬敬的行礼。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因为受到别人的嘲笑本来就感到非常自卑，现在来到陌生的地方，明显带有寄人篱下的感觉，所以他处处小心，唯恐得罪新邻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公雁稍微有点同情丑小鸭的遭遇，作者为什么给他们安排了这样的情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给走投无路的丑小鸭带来一点生活转机，但这种转机并没有在他的生活中实现，这样写一方面使故事情节波澜起伏，另一方面增强了丑小鸭命运的悲剧色彩，使丑小鸭的命运更令人同情。文中的猎人实际是丑小鸭命运转机的终结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24280"/>
            <a:ext cx="2987640" cy="1944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24000" y="1125360"/>
            <a:ext cx="691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404640"/>
            <a:ext cx="8893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再读课文    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“丑”在什么地方？它刚出生时的处境是怎样的？请联系书中的语句来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知道贯穿全文的线索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全文写了丑小鸭在那几个地方的流浪生活？请分别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在成长过程中遭遇哪些歧视和打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联系具体的语句，简要概括丑小鸭在各个地方发生的故事。（大家是怎样对它的？丑小鸭又是怎样对待自己的生活的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的形象有什么现实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人小组讨论以上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24280"/>
            <a:ext cx="2987640" cy="1944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481320"/>
            <a:ext cx="6070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Arial"/>
              <a:ea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4000" y="1125360"/>
            <a:ext cx="691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50920" y="189000"/>
            <a:ext cx="8893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再读课文    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“丑”在什么地方？它刚出生时的处境是怎样的？请联系书中的语句来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知道贯穿全文的线索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全文写了丑小鸭在那几个地方的流浪生活？请分别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00000" y="2997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丑小鸭的流浪足迹为线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26920" y="4869000"/>
            <a:ext cx="61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沼泽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老太婆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灌木林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种田人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花园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安徒生"/>
          <p:cNvPicPr/>
          <p:nvPr/>
        </p:nvPicPr>
        <p:blipFill>
          <a:blip r:embed="rId1"/>
          <a:stretch/>
        </p:blipFill>
        <p:spPr>
          <a:xfrm>
            <a:off x="6916680" y="457200"/>
            <a:ext cx="2227320" cy="3276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8600" y="1052640"/>
            <a:ext cx="65041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丹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纪著名童话作家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世界文学童话创始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他生于一个贫苦鞋匠家庭。安徒生终生未成家室。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</a:rPr>
              <a:t>代表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拇指姑娘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海的女儿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丑小鸭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659640" y="4038480"/>
            <a:ext cx="24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徒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0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324000" y="0"/>
            <a:ext cx="3168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作者简介</a:t>
            </a:r>
            <a:endParaRPr b="0" lang="en-US" sz="1800" spc="1" strike="noStrike">
              <a:ln w="9360">
                <a:solidFill>
                  <a:srgbClr val="3366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" name="Picture 6" descr="pic_2542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5445000"/>
            <a:ext cx="32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81080" y="2133720"/>
          <a:ext cx="8712000" cy="3919320"/>
        </p:xfrm>
        <a:graphic>
          <a:graphicData uri="http://schemas.openxmlformats.org/drawingml/2006/table">
            <a:tbl>
              <a:tblPr/>
              <a:tblGrid>
                <a:gridCol w="2158560"/>
                <a:gridCol w="4610160"/>
                <a:gridCol w="1943280"/>
              </a:tblGrid>
              <a:tr h="58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　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　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鸭群鸡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沼泽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农家小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广大世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种田人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大花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熟悉情节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丑小鸭遇到哪些人？他们怎样对待它？ （可做复述提纲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84360" y="2708280"/>
            <a:ext cx="51847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鸡鸭 兄弟姐妹 妈妈 女佣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野鸭　大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鸡太太　猫绅士　老太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天鹅　种田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种田人的妻子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天鹅　小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732360" cy="528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丑小鸭遇到的“人物”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冷酷无情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最狂妄无知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恨毒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财迷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尚属友好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真诚赞美的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5240" y="1413000"/>
            <a:ext cx="30924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他的妈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鸡太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女佣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老太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两只公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小孩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04000" y="484200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丑小鸭在成长过程中遭遇哪些歧视和打击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820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地 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歧视与打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鸡鸭群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野鸭群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农家小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种田人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65"/>
          <p:cNvSpPr/>
          <p:nvPr/>
        </p:nvSpPr>
        <p:spPr>
          <a:xfrm>
            <a:off x="435600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被排挤、被讪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6"/>
          <p:cNvSpPr/>
          <p:nvPr/>
        </p:nvSpPr>
        <p:spPr>
          <a:xfrm>
            <a:off x="4427640" y="3645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被嘲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4500720" y="4653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被嘲弄、取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8"/>
          <p:cNvSpPr/>
          <p:nvPr/>
        </p:nvSpPr>
        <p:spPr>
          <a:xfrm>
            <a:off x="4500720" y="55166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遭打、又哭又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0920" y="476280"/>
            <a:ext cx="871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鸭群和鸡群中他处处挨啄，被排挤，被讪笑；大家都要赶走他，连自己的兄弟姊妹也不欢迎他。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喂鸡鸭的那个女佣人也用脚踢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独自流浪到一块沼泽地，讨好那些野鸭们，但野鸭也不喜欢他。他还差点被猎人打死。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在黑夜里，他顶着狂风跑到一个农舍。但因为他不能生蛋，发不出咪咪的叫声和迸不出火花，又被母鸡和雄猫赶走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丑小鸭还受尽严冬的折磨，差点被冻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打击面前，丑小鸭持怎样的态度？有何追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170080"/>
                <a:gridCol w="6059520"/>
              </a:tblGrid>
              <a:tr h="82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地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态度（追求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鸡鸭群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野鸭群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农家小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种田人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60"/>
          <p:cNvSpPr/>
          <p:nvPr/>
        </p:nvSpPr>
        <p:spPr>
          <a:xfrm>
            <a:off x="4067280" y="2492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逃    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1"/>
          <p:cNvSpPr/>
          <p:nvPr/>
        </p:nvSpPr>
        <p:spPr>
          <a:xfrm>
            <a:off x="4067280" y="3357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感谢上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3"/>
          <p:cNvSpPr/>
          <p:nvPr/>
        </p:nvSpPr>
        <p:spPr>
          <a:xfrm>
            <a:off x="3059280" y="4365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渴望走到广大的世界中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3059280" y="51577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躲避伤害，勇敢地飞向天鹅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199"/>
          <p:cNvSpPr/>
          <p:nvPr/>
        </p:nvSpPr>
        <p:spPr>
          <a:xfrm>
            <a:off x="234000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95280" y="907920"/>
            <a:ext cx="83818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这些打击面前，丑小鸭始终不屈不挠，相信自己，以乐观的态度对待艰难困苦。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相信即使身处逆境，经过不懈追求，努力进取，美好的理想一定能实现，幸福一定会来到身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xy"/>
          <p:cNvPicPr/>
          <p:nvPr/>
        </p:nvPicPr>
        <p:blipFill>
          <a:blip r:embed="rId1"/>
          <a:stretch/>
        </p:blipFill>
        <p:spPr>
          <a:xfrm>
            <a:off x="7421400" y="4673520"/>
            <a:ext cx="1722600" cy="21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三读课文，探究研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老太婆为什么要留下丑小鸭呢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希望丑小鸭将来能下蛋，从而使自己受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为什么猫和鸡在老太婆家里有这么高的地位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因为猫能博得老太婆的欢心；鸡能下蛋，使老太婆得到实际利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9900"/>
                </a:solidFill>
                <a:latin typeface="华文楷体"/>
                <a:ea typeface="华文楷体"/>
              </a:rPr>
              <a:t>.  </a:t>
            </a:r>
            <a:r>
              <a:rPr b="1" lang="en-US" sz="3200" spc="-1" strike="noStrike">
                <a:solidFill>
                  <a:srgbClr val="cc9900"/>
                </a:solidFill>
                <a:latin typeface="华文楷体"/>
                <a:ea typeface="华文楷体"/>
              </a:rPr>
              <a:t>3</a:t>
            </a:r>
            <a:r>
              <a:rPr b="1" lang="en-US" sz="4800" spc="-1" strike="noStrike">
                <a:solidFill>
                  <a:srgbClr val="cc9900"/>
                </a:solidFill>
                <a:latin typeface="华文楷体"/>
                <a:ea typeface="华文楷体"/>
              </a:rPr>
              <a:t>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从鸡和猫与丑小鸭的谈话中，你对这两只动物和老太婆有怎样的认识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它们在看待别人的时候，只是拿自己的优点来衡量别人的缺点，盲目自大而瞧不起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鸡的目光短浅，自高自大而又愚蠢，却又愿意对别人指手划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老太婆把自己的利益放在第一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丑小鸭在有了到水里游泳的念头之后，为什么不直接付诸实际行动，而是先向母鸡诉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说明丑小鸭在长期不被别人理解的情况下，希望得到周围人的理解与认可；同时，也抱有一种担心：一旦自己的行动不被别人接受，那么它将受到别人更多的嘲弄与批评。在这种情况下，它才把自己的想法先向母鸡诉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DotumChe"/>
                <a:ea typeface="DotumChe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DotumChe"/>
                <a:ea typeface="DotumChe"/>
              </a:rPr>
              <a:t>5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009999"/>
                </a:solidFill>
                <a:latin typeface="DotumChe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想我还是走到广大的世界里去好。</a:t>
            </a:r>
            <a:r>
              <a:rPr b="1" lang="zh-CN" sz="3200" spc="-1" strike="noStrike">
                <a:solidFill>
                  <a:srgbClr val="009999"/>
                </a:solidFill>
                <a:latin typeface="DotumChe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一句话可以看出丑小鸭怎样的思想品质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执着追求自己的生活理想，虽然遇到很多困难和挫折，却从不轻言放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段描写秋天的景色有什么特点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起到了怎样的作用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景色萧条、冷落。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楷体_GB2312"/>
              </a:rPr>
              <a:t>衬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出丑小鸭处境的悲惨和情绪的低落。与其说是自然环境凄凉、冷落，不如说是丑小鸭所处的生活环境冷漠、缺少同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"/>
          <p:cNvSpPr/>
          <p:nvPr/>
        </p:nvSpPr>
        <p:spPr>
          <a:xfrm>
            <a:off x="1295280" y="2971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1640" y="609480"/>
            <a:ext cx="38862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雕塑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安徒生和孩子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0" y="2565000"/>
            <a:ext cx="4176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是世界级的童话大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的作品让世界各国的无数少年儿童着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安徒生和孩子们"/>
          <p:cNvPicPr/>
          <p:nvPr/>
        </p:nvPicPr>
        <p:blipFill>
          <a:blip r:embed="rId1"/>
          <a:stretch/>
        </p:blipFill>
        <p:spPr>
          <a:xfrm>
            <a:off x="650880" y="576360"/>
            <a:ext cx="3432240" cy="48686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7.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34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段作者把天鹅描写得怎样？这样写有什么作用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天鹅描写得很美丽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幸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柔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此采烘托丑小鸭此时的心情，越能体现出丑小鸭此时内心的喜悦和对美丽天鹅的羡慕，越能体现出丑小鸭对美好未来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271404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바탕"/>
                <a:ea typeface="바탕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바탕"/>
                <a:ea typeface="바탕"/>
              </a:rPr>
              <a:t>8</a:t>
            </a:r>
            <a:r>
              <a:rPr b="1" lang="en-US" sz="4400" spc="-1" strike="noStrike">
                <a:solidFill>
                  <a:srgbClr val="333399"/>
                </a:solidFill>
                <a:latin typeface="바탕"/>
                <a:ea typeface="바탕"/>
              </a:rPr>
              <a:t>.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如何理解丑小鸭此时</a:t>
            </a:r>
            <a:r>
              <a:rPr b="1" lang="zh-CN" sz="3200" spc="-1" strike="noStrike">
                <a:solidFill>
                  <a:srgbClr val="990000"/>
                </a:solidFill>
                <a:latin typeface="바탕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并不嫉妒他们</a:t>
            </a:r>
            <a:r>
              <a:rPr b="1" lang="zh-CN" sz="3200" spc="-1" strike="noStrike">
                <a:solidFill>
                  <a:srgbClr val="990000"/>
                </a:solidFill>
                <a:latin typeface="바탕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的心情</a:t>
            </a: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方面，说明长时间以来，周围的人给予它太多的嘲弄与挖苦，使它形成一种非常强烈的自卑心理；另一方面，为了摆脱目前的这种处境，它没有过高的要求，而要求越低，越可以体现出它在生活中承受的压力之大。    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嫉妒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对才能、名誉、地位或境遇比自己好的人心怀怨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9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段描写冬天的寒冷，有什么作用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示着丑小鸭的命运已经到了最困难的时候，也是最关键的时候，同时也是丑小鸭的命运即将有很大转机的一个暗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果丑小鸭不能摆脱目前的困境，那么丑小鸭就将悲惨地死去，这样就引起读者对丑小鸭未来命运的担忧：如此可怜的丑小鸭难道就这样带着对生活的遗憾死去吗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丑小鸭后来的命运怎样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从而吸引着读者迫切地阅读下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已录下的6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6" dur="5036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作者为什么要再次插入小鸭与小孩这样一个故事呢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增强丑小鸭遭遇的悲惨，从而使故事情节波澜起伏，渲染出一种悲凉的气氛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795B-CFA4-4E67-B10A-0BE3BD63A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219320" y="0"/>
            <a:ext cx="16761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养鸭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048120" y="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受排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048120" y="838080"/>
            <a:ext cx="2286000" cy="360"/>
            <a:chOff x="3048120" y="838080"/>
            <a:chExt cx="2286000" cy="360"/>
          </a:xfrm>
        </p:grpSpPr>
        <p:sp>
          <p:nvSpPr>
            <p:cNvPr id="241" name="Line 4"/>
            <p:cNvSpPr/>
            <p:nvPr/>
          </p:nvSpPr>
          <p:spPr>
            <a:xfrm>
              <a:off x="3048120" y="838080"/>
              <a:ext cx="2286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3048120" y="8380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5"/>
          <p:cNvSpPr/>
          <p:nvPr/>
        </p:nvSpPr>
        <p:spPr>
          <a:xfrm>
            <a:off x="5334120" y="0"/>
            <a:ext cx="1828800" cy="825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沼泽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315200" y="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遇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7467480" y="9144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391520" y="1752480"/>
            <a:ext cx="14475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农家小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121880" y="3124080"/>
            <a:ext cx="1642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不忘追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8001000" y="3200400"/>
            <a:ext cx="360" cy="2209680"/>
            <a:chOff x="8001000" y="3200400"/>
            <a:chExt cx="360" cy="2209680"/>
          </a:xfrm>
        </p:grpSpPr>
        <p:sp>
          <p:nvSpPr>
            <p:cNvPr id="249" name="Line 10"/>
            <p:cNvSpPr/>
            <p:nvPr/>
          </p:nvSpPr>
          <p:spPr>
            <a:xfrm>
              <a:off x="8001000" y="3200400"/>
              <a:ext cx="0" cy="22096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8001000" y="320040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1"/>
          <p:cNvSpPr/>
          <p:nvPr/>
        </p:nvSpPr>
        <p:spPr>
          <a:xfrm>
            <a:off x="7238880" y="5638680"/>
            <a:ext cx="160020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湖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495840" y="3124080"/>
            <a:ext cx="152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00"/>
                </a:solidFill>
                <a:latin typeface="Arial"/>
              </a:rPr>
              <a:t>自愿离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352680" y="990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逃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924680" y="609480"/>
            <a:ext cx="1600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逃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952880" y="5181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被冻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4280" y="6095880"/>
            <a:ext cx="2438640" cy="360"/>
            <a:chOff x="4724280" y="6095880"/>
            <a:chExt cx="2438640" cy="360"/>
          </a:xfrm>
        </p:grpSpPr>
        <p:sp>
          <p:nvSpPr>
            <p:cNvPr id="257" name="Line 16"/>
            <p:cNvSpPr/>
            <p:nvPr/>
          </p:nvSpPr>
          <p:spPr>
            <a:xfrm flipH="1">
              <a:off x="4724280" y="6095880"/>
              <a:ext cx="2438640" cy="0"/>
            </a:xfrm>
            <a:prstGeom prst="line">
              <a:avLst/>
            </a:prstGeom>
            <a:ln w="7632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724280" y="609588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7"/>
          <p:cNvSpPr/>
          <p:nvPr/>
        </p:nvSpPr>
        <p:spPr>
          <a:xfrm>
            <a:off x="5029200" y="60958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被救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895480" y="5302080"/>
            <a:ext cx="1676520" cy="825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Arial"/>
              </a:rPr>
              <a:t>种田人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685800" y="57913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被追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0"/>
          <p:cNvSpPr/>
          <p:nvPr/>
        </p:nvSpPr>
        <p:spPr>
          <a:xfrm>
            <a:off x="685800" y="4724280"/>
            <a:ext cx="942840" cy="1204920"/>
          </a:xfrm>
          <a:prstGeom prst="upArrow">
            <a:avLst>
              <a:gd name="adj1" fmla="val 50000"/>
              <a:gd name="adj2" fmla="val 319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1161720" y="4648320"/>
            <a:ext cx="152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逃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228600" y="22860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0" y="2209680"/>
            <a:ext cx="304812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304920" y="2438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大花园里变成天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352680" y="1600200"/>
            <a:ext cx="266724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429000" y="18288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丑小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3048120" y="3429000"/>
            <a:ext cx="3886200" cy="1434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历经磨难不懈追求理想终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9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380880" y="228600"/>
            <a:ext cx="15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背景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112536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安徒生一生境遇坎坷。他家境贫寒，没有受过正规的学校教育。他最初想做一名芭蕾舞演员，后来又想当一名歌剧演员，但都没能实现。他开始从事创作，但因出身贫穷而不断遭到别人的嘲笑排挤。但是他毫不气馁，不懈努力，终于成为一名享有世界声誉的童话大师。正是由于这种深厚的生活体验，丑小鸭的形象才塑造得生动感人。这正应验了作者本人的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：“生活本身就是童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ic_254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5229360"/>
            <a:ext cx="32400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1382400"/>
            <a:ext cx="5616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生于鞋匠家庭，出身贫寒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安徒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对于社会上贫富不均、弱肉强食的现象感受极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他的作品一方面以真挚的笔触热烈歌颂劳动人民，另一方面又愤怒地鞭挞残暴、贪婪、愚蠢的反动统治阶级，不遗余力地批判社会的罪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28" descr="安徒生"/>
          <p:cNvPicPr/>
          <p:nvPr/>
        </p:nvPicPr>
        <p:blipFill>
          <a:blip r:embed="rId1"/>
          <a:stretch/>
        </p:blipFill>
        <p:spPr>
          <a:xfrm>
            <a:off x="6372360" y="333360"/>
            <a:ext cx="2382840" cy="3456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安徒生作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4" descr="pic_2542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5229360"/>
            <a:ext cx="3240000" cy="1628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651280" y="3357360"/>
            <a:ext cx="2949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的遗物都是丹麦国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27" descr="工作室"/>
          <p:cNvPicPr/>
          <p:nvPr/>
        </p:nvPicPr>
        <p:blipFill>
          <a:blip r:embed="rId1"/>
          <a:stretch/>
        </p:blipFill>
        <p:spPr>
          <a:xfrm>
            <a:off x="611280" y="2565360"/>
            <a:ext cx="4678200" cy="3465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106" name="Picture 1028" descr="故居4"/>
          <p:cNvPicPr/>
          <p:nvPr/>
        </p:nvPicPr>
        <p:blipFill>
          <a:blip r:embed="rId2"/>
          <a:stretch/>
        </p:blipFill>
        <p:spPr>
          <a:xfrm>
            <a:off x="5364000" y="260280"/>
            <a:ext cx="3353040" cy="230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徒生故居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工作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374508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他的故居保存完好，因为他是丹麦的骄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12000" y="3357720"/>
            <a:ext cx="273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徒生故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故居"/>
          <p:cNvPicPr/>
          <p:nvPr/>
        </p:nvPicPr>
        <p:blipFill>
          <a:blip r:embed="rId1"/>
          <a:stretch/>
        </p:blipFill>
        <p:spPr>
          <a:xfrm>
            <a:off x="71280" y="2708280"/>
            <a:ext cx="5796000" cy="41054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111" name="Picture 5" descr="故居6"/>
          <p:cNvPicPr/>
          <p:nvPr/>
        </p:nvPicPr>
        <p:blipFill>
          <a:blip r:embed="rId2"/>
          <a:stretch/>
        </p:blipFill>
        <p:spPr>
          <a:xfrm>
            <a:off x="4537080" y="0"/>
            <a:ext cx="4572000" cy="31431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25560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昆明世博园有一个丹麦馆，你猜猜主体建筑是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5734080"/>
            <a:ext cx="23400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安徒生故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28" descr="故居5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ransition>
    <p:random/>
    <p:sndAc>
      <p:stSnd>
        <p:snd r:embed="rId2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10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48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