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3.gif" ContentType="image/gif"/>
  <Override PartName="/ppt/media/image7.png" ContentType="image/png"/>
  <Override PartName="/ppt/media/image1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FDBD-AF05-42A2-B3CF-7FC08B3B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3E05-31B3-425A-8346-637D8382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D0FB-488D-40A0-8F78-C6AB87069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CCEA-7C28-4C15-9FC1-CEDAEF278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F087-641B-4D09-AD15-BF054651B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7484-79A6-48E4-BEEC-3E7C76F8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1D42-55CF-404B-9AB5-F0A4A708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CED3-F1B5-4576-BB5C-DCEC38F8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4DF1-DC83-480C-AF36-5FB0AB2A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CB35-3F4E-461B-8C2D-0321B934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EF4E-F718-4FD5-8AAE-56BF358D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2D61-4609-4166-B921-DF0ADF31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4615-2066-4B2C-A346-783820A7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54F6-B502-4B01-A89C-04393EB2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5176-8D55-4EBA-A118-838EDC3A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DC84-4F09-4BF0-BC42-7FD274E13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8EFA-5D90-488E-B48E-CB012837B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57B8-E3F2-4A3F-A250-5AA51E2B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C677-7904-4493-815E-89B052B9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36A5-46A5-4C07-BF27-ACE41335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BB15-12A0-4074-8392-19BD60D1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C8CA-536F-49D2-9004-0F1EF67B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07A0-4ABF-431E-B948-9383000A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BB89-C2BA-4EEC-B4DB-A21527EF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1CAE-700E-4C4F-A2E5-B2AB465A5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765A-4D6A-47B8-AF5D-1B4377E7FAD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1"/>
          <a:srcRect l="0" t="0" r="14250" b="0"/>
          <a:stretch/>
        </p:blipFill>
        <p:spPr>
          <a:xfrm>
            <a:off x="-698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1"/>
          <p:cNvSpPr/>
          <p:nvPr/>
        </p:nvSpPr>
        <p:spPr>
          <a:xfrm>
            <a:off x="2467800" y="16812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唱响自信之歌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课件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243"/>
          <p:cNvPicPr/>
          <p:nvPr/>
        </p:nvPicPr>
        <p:blipFill>
          <a:blip r:embed="rId1"/>
          <a:srcRect l="0" t="0" r="0" b="332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92320" y="2685600"/>
            <a:ext cx="850680" cy="5086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、做自信的中国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482840" y="5638680"/>
            <a:ext cx="528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神舟五号”载人航天飞船发射成功，你当时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心理感受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杨利伟1.mpg" descr=""/>
          <p:cNvPicPr/>
          <p:nvPr/>
        </p:nvPicPr>
        <p:blipFill>
          <a:blip r:embed="rId2"/>
          <a:stretch/>
        </p:blipFill>
        <p:spPr>
          <a:xfrm>
            <a:off x="1523880" y="304920"/>
            <a:ext cx="7010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5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007"/>
          <p:cNvPicPr/>
          <p:nvPr/>
        </p:nvPicPr>
        <p:blipFill>
          <a:blip r:embed="rId1"/>
          <a:srcRect l="3337" t="0" r="0" b="275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"/>
          <p:cNvSpPr/>
          <p:nvPr/>
        </p:nvSpPr>
        <p:spPr>
          <a:xfrm>
            <a:off x="838080" y="2347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我们只有把个人的命运与祖国的发展结合在一起，我们的自信才有坚如磐石的根基。一个有强烈民族自尊心的人，必定会时时、处处自觉展示中国人的气度和风采，不会做出有损国格的事情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055"/>
          <p:cNvPicPr/>
          <p:nvPr/>
        </p:nvPicPr>
        <p:blipFill>
          <a:blip r:embed="rId1"/>
          <a:srcRect l="11679" t="0" r="6674" b="1254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838080" y="1762200"/>
            <a:ext cx="701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阅读课文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3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页，并思考问题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为什么童第周对同室的留学生的话很生气？在他身上体现了作为一个中国人的哪些宝贵品质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898560" y="4829040"/>
            <a:ext cx="672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在当今社会，我们怎样在日常生活中表现出中国人的自信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0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0" y="836640"/>
            <a:ext cx="6732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新宋体"/>
              </a:rPr>
              <a:t>当今社会，我们每一个中国人都能在国际舞台上感受到前所未有的自尊与自信。每个中国人都代表着中国的形象，民族自信心和每个人密切相关。在日常生活中，我们每个人都应该做到自尊、自信、自爱，不做又损国格、人格的事，不卑不亢，落落大方，做一个自信的中国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C693-4926-4AE8-88DC-8DA2721D96F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0" y="2492280"/>
            <a:ext cx="1247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唱响自信之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1332000" y="765000"/>
            <a:ext cx="288720" cy="5183280"/>
          </a:xfrm>
          <a:custGeom>
            <a:avLst/>
            <a:gdLst>
              <a:gd name="textAreaLeft" fmla="*/ 184680 w 288720"/>
              <a:gd name="textAreaRight" fmla="*/ 289080 w 288720"/>
              <a:gd name="textAreaTop" fmla="*/ 135000 h 5183280"/>
              <a:gd name="textAreaBottom" fmla="*/ 5048280 h 518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619280" y="692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看到进步与长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692360" y="270828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增强信心与实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619280" y="4937040"/>
            <a:ext cx="54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做自信的中国人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7"/>
          <p:cNvSpPr/>
          <p:nvPr/>
        </p:nvSpPr>
        <p:spPr>
          <a:xfrm>
            <a:off x="3419640" y="1268280"/>
            <a:ext cx="647640" cy="287640"/>
          </a:xfrm>
          <a:prstGeom prst="rightArrow">
            <a:avLst>
              <a:gd name="adj1" fmla="val 50000"/>
              <a:gd name="adj2" fmla="val 5626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4067280" y="98100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是自信的基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9"/>
          <p:cNvSpPr/>
          <p:nvPr/>
        </p:nvSpPr>
        <p:spPr>
          <a:xfrm>
            <a:off x="4643280" y="3284640"/>
            <a:ext cx="648000" cy="360360"/>
          </a:xfrm>
          <a:prstGeom prst="rightArrow">
            <a:avLst>
              <a:gd name="adj1" fmla="val 50000"/>
              <a:gd name="adj2" fmla="val 449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6012000" y="2565360"/>
            <a:ext cx="313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实力才是撑起信心的最重要的支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文本框 8194"/>
          <p:cNvSpPr/>
          <p:nvPr/>
        </p:nvSpPr>
        <p:spPr>
          <a:xfrm>
            <a:off x="2155680" y="20271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2004318154529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1638360" y="533520"/>
            <a:ext cx="577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Times New Roman"/>
              </a:rPr>
              <a:t>阅读课文</a:t>
            </a:r>
            <a:r>
              <a:rPr b="1" lang="en-US" sz="3200" spc="-1" strike="noStrike">
                <a:solidFill>
                  <a:srgbClr val="ff99ff"/>
                </a:solidFill>
                <a:latin typeface="Times New Roman"/>
              </a:rPr>
              <a:t>27</a:t>
            </a:r>
            <a:r>
              <a:rPr b="1" lang="zh-CN" sz="3200" spc="-1" strike="noStrike">
                <a:solidFill>
                  <a:srgbClr val="ff99ff"/>
                </a:solidFill>
                <a:latin typeface="Times New Roman"/>
              </a:rPr>
              <a:t>页“盲人弹琴的故事”，并思考问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个盲人为什么能用自己的琴声唱响自信之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个故事给我们什么启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41360" y="2774880"/>
            <a:ext cx="809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每个人身上都存在一些不足，但并非每个人都产生自卑。其中主要的原因就是面对不足时，你采取了什么样的态度。 自信是人们成功与成材不可缺少的一种重要的心理品质。所以，自信是迈向成功的第一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14"/>
          <p:cNvPicPr/>
          <p:nvPr/>
        </p:nvPicPr>
        <p:blipFill>
          <a:blip r:embed="rId2"/>
          <a:stretch/>
        </p:blipFill>
        <p:spPr>
          <a:xfrm>
            <a:off x="6858000" y="5410080"/>
            <a:ext cx="22860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50920" y="1125360"/>
            <a:ext cx="86421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发现自己的长处</a:t>
            </a:r>
            <a:r>
              <a:rPr b="1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是自信的基础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因为在不同的环境里，优点显露的机会并不均等。所以我们在评价自己的时候，可以采用场景变换的方法，寻找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立体的我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，这样我们可能会意外地发现，自己原来有很多优点与长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215360" y="282600"/>
            <a:ext cx="25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看到进步与长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abg0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3475080" y="763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狮子的故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468360" y="692280"/>
            <a:ext cx="82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头母狮子，读了很多有关素质教育的书，觉得自己的孩子迪奥完全可以被培养成为一头完美的狮子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304920" y="1447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3333cc"/>
                </a:solidFill>
                <a:latin typeface="华文新魏"/>
                <a:ea typeface="华文新魏"/>
              </a:rPr>
              <a:t>几年后，少年狮子迪奥对自己和世界有了许多观察和思考。他发现，虽然兽类都认为狮子是草原之王，但有个明显弱点，就是在中长跑项目中的耐力要比羚羊弱。很多时候，就因为这个弱点，羚羊从嘴边溜掉了。 通过查询文献和实验研究，他弄明白了，羚羊耐力好的原因是他们的食物。于是，他瞒着母狮子，每天偷偷地吃草。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52280" y="3657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周后，奄奄一息的迪奥被母亲送到医院。由于治疗及时，他恢复了体力，但坚持要继续吃草。他埋怨母亲中断了他的计划。他说，再给他几天时间，效果就出来了，他会成为草原上真正的王者。 几经劝说无效，母狮子在医生的建议下，带迪奥定期去见心理治疗师。了解了迪奥的情况后，心理治疗师为他安排了为期一个月的认知行为治疗。 治疗师首先帮迪奥认识到他的错误观念，那就是狮子没有缺点才是真正的草原之王而正确的观念是，不管有没有缺点，狮子从来就是草原之王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304920" y="838080"/>
            <a:ext cx="8154720" cy="1922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成为草原之王，不是因为他没有缺点，而是因为他的优点突出。他是靠突出的观察力、优异的爆发力、锋利的牙齿和精准的扑跳动作而不是靠完美才称霸于草原的，没有缺点的狮子是不存在的。迪奥可能成为最优秀的狮子，但一定不是完美的狮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8"/>
          <p:cNvSpPr/>
          <p:nvPr/>
        </p:nvSpPr>
        <p:spPr>
          <a:xfrm>
            <a:off x="2627280" y="6237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cabg0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380880" y="76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迪奥现在开始要努力接受自己的缺点和优点，这才是真正的自信心的体现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心理治疗师给他安排了行为治疗的作业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80880" y="838080"/>
            <a:ext cx="8382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把自己的优点和缺点都写在纸上，贴在墙上。迪奥写了很多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　 我的优点：爆发力强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……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我的缺点：耐力差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……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每天对着镜子说：虽然我有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（缺点），但我仍是草原之王，因为我有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（优点）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　 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每周记录自己捕捉到的羚羊数，而不是从嘴边溜掉的羚羊数，并把捕捉记录与同伴和家人分享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　 </a:t>
            </a:r>
            <a:r>
              <a:rPr b="1" lang="en-US" sz="2400" spc="-1" strike="noStrike">
                <a:solidFill>
                  <a:srgbClr val="3333ff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在捕猎失败时，告诉自己，我的耐力的确比不上羚羊，但我要充分发挥我的优势。下次捕食时，要靠得更近些再动手，并且一定要选好顺风的位置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57200" y="48769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年后，迪奥成为了那片草原最好的狮子。他是靠反应灵敏、选择捕食位置恰当而成名的。当然，同其他狮子一样，他的中长跑成绩仍然比不上羚羊，但他已经不在意这一点了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班会上，老师要求每个同学夸夸自己，写出自己身上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个优点。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钟过去了，小李同学一条也写不出来。他说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没有优点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告诉我们           （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人不应该骄傲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                            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人要善于认识自已的优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看自已应该只看自已的长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                 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看自已应该只看自已的不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7596360" y="1773360"/>
            <a:ext cx="29520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B</a:t>
            </a:r>
            <a:endParaRPr b="1" lang="en-US" sz="44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4" name="文本框 8194"/>
          <p:cNvSpPr/>
          <p:nvPr/>
        </p:nvSpPr>
        <p:spPr>
          <a:xfrm>
            <a:off x="1677960" y="57006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U397P249T3D79053F37DT20040820020915"/>
          <p:cNvPicPr/>
          <p:nvPr/>
        </p:nvPicPr>
        <p:blipFill>
          <a:blip r:embed="rId1"/>
          <a:stretch/>
        </p:blipFill>
        <p:spPr>
          <a:xfrm>
            <a:off x="5715000" y="1295280"/>
            <a:ext cx="3429000" cy="4419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2005179594561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609480" y="25884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隶书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华文隶书"/>
              </a:rPr>
              <a:t>、增强信心与实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5" descr="200482085910_Img221630017"/>
          <p:cNvPicPr/>
          <p:nvPr/>
        </p:nvPicPr>
        <p:blipFill>
          <a:blip r:embed="rId3"/>
          <a:stretch/>
        </p:blipFill>
        <p:spPr>
          <a:xfrm>
            <a:off x="5815080" y="1219320"/>
            <a:ext cx="3176640" cy="44193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8"/>
          <p:cNvSpPr/>
          <p:nvPr/>
        </p:nvSpPr>
        <p:spPr>
          <a:xfrm>
            <a:off x="228600" y="96840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0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日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分张军、高凌在第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届雅典奥运会羽毛球混合双打中获得冠军，对手是英国的一对选手。第一局二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狂胜英国队；第二局英国选手针对张军、高凌的打法进行调整，结果中国队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负于英国队；第三局，张军、高凌二人再次调整战术，平衡心态，凭借精湛的球技，优秀的心理素质以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获胜。张军、高凌在赛后对记者说：“当打第三局时，压力确实很大，但我们及时调整好心态，我们一定要坚持下去，为祖国赢得这枚金牌，我们一定能行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U773P249T3D79035F37DT20040820020029"/>
          <p:cNvPicPr/>
          <p:nvPr/>
        </p:nvPicPr>
        <p:blipFill>
          <a:blip r:embed="rId4"/>
          <a:stretch/>
        </p:blipFill>
        <p:spPr>
          <a:xfrm>
            <a:off x="5715000" y="1219320"/>
            <a:ext cx="3276720" cy="4419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9"/>
          <p:cNvSpPr/>
          <p:nvPr/>
        </p:nvSpPr>
        <p:spPr>
          <a:xfrm>
            <a:off x="530640" y="5859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问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4198680" y="58881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在第二局结束后，张军、高凌做了哪些准备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2687040" y="5888160"/>
            <a:ext cx="456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在第三局压力很大的情况下，是什么力量支撑着他们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争取胜利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4165560" y="5791320"/>
            <a:ext cx="219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张军、高凌的成功是不是只有自信就够了呢，还有什么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成功也是非常重要的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如何增强自己的信心呢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我们要在回忆过去成功的经历中体验信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更要多做事，力争把事情做成，从中受到更多的鼓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对于前进过程中的问题、困难乃至失败，看得淡一点，从容应对，把注意力集中到完成任务上，加速增强实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实力是撑起信心的最重要支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50920" y="83628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自信永远是准确的自我定位和客观的自我评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自信永远是一种进取精神和科学态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自信永远是遇到困难永不低头的巨大精神力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自信永远是我们人生道路上最宝贵的财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0T13:54:3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7:06Z</dcterms:modified>
  <cp:revision>3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