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B2F-9C18-4E22-9CFF-8515932B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FC2-0FC1-4075-B255-D3A0B6CE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3E9-4BB0-4CB0-9FC4-372CB550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D58-9752-4D7C-A7FC-5B8AB2F8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C0A4-60E8-41B1-94D4-8D5C2FB9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5F5-A16A-4FEA-BAA2-8A146221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3A36-18CD-472B-8C93-DD338283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9A1E-2264-4B8D-A307-EC4A71F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8F7D-1A16-4FFD-B862-546BEC91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F23C-F998-472F-AB20-C6E77EA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A6FD-CCB5-49F3-8DC9-2D34BD3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A4F-BE04-4C5A-B792-7058993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755C-2B5C-47C8-BC00-9AA2F23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E74C-CAAA-419E-8388-4B702CA5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ED98-0081-4242-9A06-2B95A6B8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C69F-2859-42C4-9ED0-EF3E5A58A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B4E0-BE36-43AD-84E7-4C889C4F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5BE1-615D-42CE-8E43-9070A39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F2EF-4EA4-47E3-8104-C8DE05C0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7116-02A0-4CBF-8841-A4E9AF64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1CEE-54D7-4332-98CF-36A4882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34DB9-04E6-4ECD-9BC3-6D1C4069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98C-CAA6-46B1-B97D-B63C2D83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FF22-FFBD-4611-BC91-A17CA0F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9233-594A-4B9A-A8A4-2A35A442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87851-5B9A-45D1-B2CA-ED6012A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F1BDD-3304-4E50-8BAB-E4D9E6B2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7B3F2-328A-4F7F-B709-CB8F0EF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8705-4405-4C89-961F-2AD11C64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56554-48F4-4677-91BC-B07C77F1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A1CA-EDDC-48FE-ADCF-0BF8DCFC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42A0-2180-418B-8BD7-AED20B53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FC0DE-0CC1-4C60-9887-8B462C6A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B298-F332-48D3-B3DA-20A84A2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1664-6456-44FC-B33D-222FDC4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F7D3-5F4D-4F3D-ACD6-DA87BCF0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6262F-B341-4056-9235-0CFC18B4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4DAE6-CB8F-4A79-8EBB-0D61CF4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DD8C2-113C-424A-8E66-E122B41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3A711-1C69-4306-8216-3E2A9343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F8BC-EF15-4B82-BBC2-835A3380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AB6E-6B79-40E1-BB49-8D983592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7D880-E902-48B5-B41D-2076D3DF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A2E-79CF-4E1F-8F9F-8C93F0B9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88B-DFB6-43E9-9D2B-432D4F19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5A8-F707-4435-9B8C-2F63D49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197-5817-40E4-B279-E2BF104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CBB-0FDE-4E64-9F29-A5123277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175-C035-4B93-91D4-E937E87BB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AF6-A642-4691-9F27-F655D5AF8A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1D0F-34EE-4943-B454-B1B6B4A80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4E3B-0A4D-420F-83A1-97A941E3B91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2"/>
          <p:cNvSpPr/>
          <p:nvPr/>
        </p:nvSpPr>
        <p:spPr>
          <a:xfrm>
            <a:off x="2152800" y="14842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抽样课件</a:t>
            </a:r>
            <a:r>
              <a:rPr b="1" lang="en-US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PPT</a:t>
            </a:r>
            <a:r>
              <a:rPr b="1" lang="zh-CN" sz="4000" spc="-1" strike="noStrike">
                <a:solidFill>
                  <a:srgbClr val="080808"/>
                </a:solidFill>
                <a:latin typeface="华文中宋"/>
                <a:ea typeface="华文中宋"/>
              </a:rPr>
              <a:t>模板打包下载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0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8080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7989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  <a:ea typeface="方正姚体"/>
              </a:rPr>
              <a:t>4</a:t>
            </a:r>
            <a:r>
              <a:rPr b="1" lang="zh-CN" sz="5400" spc="-1" strike="noStrike">
                <a:solidFill>
                  <a:srgbClr val="00cc99"/>
                </a:solidFill>
                <a:latin typeface="Arial"/>
                <a:ea typeface="方正姚体"/>
              </a:rPr>
              <a:t>、探究提高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843280" y="393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1844640"/>
            <a:ext cx="82803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猪八戒卖西瓜的故事：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猪八戒挑了一担西瓜去卖．有人问：你的西瓜甜吗？猪八戒说：当然了，个个都甜．那人问：你是怎么确定的？猪八戒说：我每个都尝了一遍．那人转身就走了．猪八戒顶着烈日，卖了一天的瓜，但一个也没卖掉，猪八戒实在想不通，为什么他的西瓜会卖不掉？你能帮猪八戒想想为什么吗？如果是你去卖西瓜，你会怎样告诉顾客你的西瓜是甜的？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40" name="Picture 6" descr="57"/>
          <p:cNvPicPr/>
          <p:nvPr/>
        </p:nvPicPr>
        <p:blipFill>
          <a:blip r:embed="rId1"/>
          <a:stretch/>
        </p:blipFill>
        <p:spPr>
          <a:xfrm>
            <a:off x="500364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HaoSc19_806_200524224742371"/>
          <p:cNvPicPr/>
          <p:nvPr/>
        </p:nvPicPr>
        <p:blipFill>
          <a:blip r:embed="rId2"/>
          <a:stretch/>
        </p:blipFill>
        <p:spPr>
          <a:xfrm>
            <a:off x="0" y="2781360"/>
            <a:ext cx="714240" cy="5713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9"/>
          <p:cNvGrpSpPr/>
          <p:nvPr/>
        </p:nvGrpSpPr>
        <p:grpSpPr>
          <a:xfrm>
            <a:off x="6588000" y="549360"/>
            <a:ext cx="2232000" cy="1872720"/>
            <a:chOff x="6588000" y="549360"/>
            <a:chExt cx="2232000" cy="1872720"/>
          </a:xfrm>
        </p:grpSpPr>
        <p:pic>
          <p:nvPicPr>
            <p:cNvPr id="243" name="Picture 8" descr="u=4202495749,2245564389&amp;gp=1"/>
            <p:cNvPicPr/>
            <p:nvPr/>
          </p:nvPicPr>
          <p:blipFill>
            <a:blip r:embed="rId3"/>
            <a:stretch/>
          </p:blipFill>
          <p:spPr>
            <a:xfrm>
              <a:off x="6588000" y="549360"/>
              <a:ext cx="2106720" cy="182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3" descr="u=827787602,3667177475&amp;gp=2"/>
            <p:cNvPicPr/>
            <p:nvPr/>
          </p:nvPicPr>
          <p:blipFill>
            <a:blip r:embed="rId4"/>
            <a:stretch/>
          </p:blipFill>
          <p:spPr>
            <a:xfrm>
              <a:off x="7812000" y="1414440"/>
              <a:ext cx="1008000" cy="100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5"/>
          <p:cNvSpPr txBox="1"/>
          <p:nvPr/>
        </p:nvSpPr>
        <p:spPr>
          <a:xfrm>
            <a:off x="1763640" y="1844640"/>
            <a:ext cx="61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谈谈这堂课你的收获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8172360" y="595008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10800"/>
                </a:moveTo>
                <a:lnTo>
                  <a:pt x="20902" y="3794"/>
                </a:lnTo>
                <a:lnTo>
                  <a:pt x="2090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5"/>
          <p:cNvSpPr txBox="1"/>
          <p:nvPr/>
        </p:nvSpPr>
        <p:spPr>
          <a:xfrm>
            <a:off x="539640" y="62064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后任务：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539640" y="141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我校同学中有多少学生知道父母的生日，请同学们设计调查方案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50" name="Picture 8" descr="u=2088086157,2025069223&amp;gp=1"/>
          <p:cNvPicPr/>
          <p:nvPr/>
        </p:nvPicPr>
        <p:blipFill>
          <a:blip r:embed="rId3"/>
          <a:stretch/>
        </p:blipFill>
        <p:spPr>
          <a:xfrm>
            <a:off x="6443640" y="1052640"/>
            <a:ext cx="1620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1692360" y="2205000"/>
            <a:ext cx="5975280" cy="21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再见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635E-D0A8-4061-AA25-FB5426C72572}" type="slidenum">
              <a:rPr b="0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755640" y="1125360"/>
            <a:ext cx="741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知识窗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们在研究某个自然现象或社会现象时，往往会遇到不方便、不可能或不必要对所有的对象作调查的情况，于是从中抽取一部分对象作调查分析，这就是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抽样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AutoShape 7">
            <a:hlinkClick r:id="" action="ppaction://hlinkshowjump?jump=previousslide"/>
          </p:cNvPr>
          <p:cNvSpPr/>
          <p:nvPr/>
        </p:nvSpPr>
        <p:spPr>
          <a:xfrm>
            <a:off x="7885080" y="602136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15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1116000" y="2565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调查方法一：像这样为一定目的而全面的调查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普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例如人口普查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11280" y="364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小知识：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人口普查是指在国家统一规定的时间内，按照统一的方法、统一的项目、统一的调查表和统一的标准，对全国人口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逐户逐人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进行的一次性调查登记。它包括对人口普查资料的搜集、数据汇总、资料评价、分析研究等全部过程。 </a:t>
            </a:r>
            <a:br>
              <a:rPr sz="2400"/>
            </a:b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1484280"/>
            <a:ext cx="201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任务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2411280" y="177336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调查我班所以同学的身高情况。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bj1"/>
          <p:cNvPicPr/>
          <p:nvPr/>
        </p:nvPicPr>
        <p:blipFill>
          <a:blip r:embed="rId1"/>
          <a:stretch/>
        </p:blipFill>
        <p:spPr>
          <a:xfrm>
            <a:off x="0" y="-1066680"/>
            <a:ext cx="9144000" cy="7545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1143000" y="228600"/>
            <a:ext cx="58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生活中的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小插曲</a:t>
            </a:r>
            <a:r>
              <a:rPr b="0" lang="zh-CN" sz="4400" spc="-1" strike="noStrike">
                <a:solidFill>
                  <a:srgbClr val="080808"/>
                </a:solidFill>
                <a:latin typeface="Times New Roman"/>
                <a:ea typeface="隶书"/>
              </a:rPr>
              <a:t>”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85800" y="1371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孩子，再帮妈妈买鸡蛋去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685800" y="19051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这次注意点，上次你买的鸡蛋有好几个是坏的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85800" y="2362320"/>
            <a:ext cx="8001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5800" y="2895480"/>
            <a:ext cx="800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孩子高兴地跑回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685800" y="3352680"/>
            <a:ext cx="5715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孩子：“妈妈，这次的鸡蛋全是好的，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每个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都打开看过了”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685800" y="41911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9ac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妈妈：“啊！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……”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8" name="Picture 10" descr="107360_1_small_jpg"/>
          <p:cNvPicPr/>
          <p:nvPr/>
        </p:nvPicPr>
        <p:blipFill>
          <a:blip r:embed="rId2"/>
          <a:stretch/>
        </p:blipFill>
        <p:spPr>
          <a:xfrm>
            <a:off x="6553080" y="3873600"/>
            <a:ext cx="1828800" cy="1460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121701"/>
          <p:cNvPicPr/>
          <p:nvPr/>
        </p:nvPicPr>
        <p:blipFill>
          <a:blip r:embed="rId3"/>
          <a:stretch/>
        </p:blipFill>
        <p:spPr>
          <a:xfrm>
            <a:off x="6553080" y="2359080"/>
            <a:ext cx="1828800" cy="1450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684360" y="5445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注：这种调查方法具有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破坏性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，一般不采取普查的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611280" y="692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明明、红红、丁丁三位同学设计了下面三种调查方法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2" name="Picture 5" descr="5200541174843"/>
          <p:cNvPicPr/>
          <p:nvPr/>
        </p:nvPicPr>
        <p:blipFill>
          <a:blip r:embed="rId1"/>
          <a:stretch/>
        </p:blipFill>
        <p:spPr>
          <a:xfrm>
            <a:off x="684360" y="1484280"/>
            <a:ext cx="419040" cy="1104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1187280" y="184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明明：我将全国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有的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初中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4" name="Picture 7" descr="11200541173909"/>
          <p:cNvPicPr/>
          <p:nvPr/>
        </p:nvPicPr>
        <p:blipFill>
          <a:blip r:embed="rId2"/>
          <a:stretch/>
        </p:blipFill>
        <p:spPr>
          <a:xfrm>
            <a:off x="684360" y="2637000"/>
            <a:ext cx="438120" cy="971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8"/>
          <p:cNvSpPr/>
          <p:nvPr/>
        </p:nvSpPr>
        <p:spPr>
          <a:xfrm>
            <a:off x="1116000" y="292428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红红：我只要对飞云镇中学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一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学校的学生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86" name="Picture 9" descr="14200541144012"/>
          <p:cNvPicPr/>
          <p:nvPr/>
        </p:nvPicPr>
        <p:blipFill>
          <a:blip r:embed="rId3"/>
          <a:stretch/>
        </p:blipFill>
        <p:spPr>
          <a:xfrm>
            <a:off x="539640" y="3645000"/>
            <a:ext cx="50328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1116000" y="357336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丁丁：我要在全国按东、西、南、北、中分片，每个区域各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抽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cc3300"/>
                </a:solidFill>
                <a:latin typeface="Arial"/>
              </a:rPr>
              <a:t>所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中学，对这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所中学的全体初中生（共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名）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39640" y="4724280"/>
            <a:ext cx="79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问题：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明明采用什么调查方法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332000" y="5084640"/>
            <a:ext cx="72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红红、丁丁的调查方 法有什么共同特点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332000" y="551664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你认为采用哪一种调查方法比较合适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291960" y="379440"/>
            <a:ext cx="12240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2" name="AutoShape 15">
            <a:hlinkClick r:id="" action="ppaction://hlinkshowjump?jump=lastslide"/>
          </p:cNvPr>
          <p:cNvSpPr/>
          <p:nvPr/>
        </p:nvSpPr>
        <p:spPr>
          <a:xfrm>
            <a:off x="8172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3794"/>
                </a:moveTo>
                <a:lnTo>
                  <a:pt x="25018" y="10800"/>
                </a:lnTo>
                <a:lnTo>
                  <a:pt x="1100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258920" y="227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属于普查，工作量太大，不方便，没有必要</a:t>
            </a: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1332000" y="328464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缺乏普遍性，不合适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2411280" y="4292640"/>
            <a:ext cx="59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这种抽样调查方法具有可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操作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及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0" lang="zh-CN" sz="18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4"/>
          <p:cNvSpPr txBox="1"/>
          <p:nvPr/>
        </p:nvSpPr>
        <p:spPr>
          <a:xfrm>
            <a:off x="468360" y="549360"/>
            <a:ext cx="208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95280" y="162864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指出下列调查哪些应作普查，哪些应作抽样调查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468360" y="2276640"/>
            <a:ext cx="806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日光灯管厂要检测一批灯管的寿命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居民对废电池的处理情况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了解现代大学生的主要娱乐方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防治某种突发性传染病期间，某校对学生测量体温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360" y="4365720"/>
            <a:ext cx="74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锅水饺的味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68360" y="4797360"/>
            <a:ext cx="448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旅客上飞机前的安全检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324000" y="404640"/>
            <a:ext cx="82072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要了解全国初中生的身高情况，丁丁同学设计了下面的调查方案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①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按东、西、南、北、中分片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②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每个区域各抽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 ③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对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所中学的全部初中生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人进行身高测量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0" y="2708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我们把所要考察的对象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全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总体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0" y="3141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把组成总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每一个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考察对象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0" y="3645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从总体中抽取出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一部分个体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的集体叫做一个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4920" y="4221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样本中个体的</a:t>
            </a:r>
            <a:r>
              <a:rPr b="1" lang="zh-CN" sz="2400" spc="-1" strike="noStrike">
                <a:solidFill>
                  <a:srgbClr val="0039ac"/>
                </a:solidFill>
                <a:latin typeface="Arial"/>
              </a:rPr>
              <a:t>数目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样本的容量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324000" y="465300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( 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注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样本的容量是个体的数目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所以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不带单位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084720" y="2637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全国初中生的身高</a:t>
            </a:r>
            <a:r>
              <a:rPr b="1" lang="zh-CN" sz="2000" spc="-1" strike="noStrike">
                <a:solidFill>
                  <a:srgbClr val="3333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084720" y="3141720"/>
            <a:ext cx="30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每一个初中生的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020000" y="37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抽取的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1" lang="zh-CN" sz="2000" spc="-1" strike="noStrike">
                <a:solidFill>
                  <a:srgbClr val="990033"/>
                </a:solidFill>
                <a:latin typeface="Arial"/>
              </a:rPr>
              <a:t>名学生身高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003640" y="429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1500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9" descr="104494_083948"/>
          <p:cNvPicPr/>
          <p:nvPr/>
        </p:nvPicPr>
        <p:blipFill>
          <a:blip r:embed="rId1">
            <a:lum contrast="-20000"/>
          </a:blip>
          <a:stretch/>
        </p:blipFill>
        <p:spPr>
          <a:xfrm>
            <a:off x="5865840" y="1773360"/>
            <a:ext cx="3278160" cy="5084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790560" y="476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6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日，“蒙牛城市之间”来温海选，中央电视台为了调查“蒙牛城市之间”节目在我市满意程度 ，请同学帮忙设计调查方案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WordArt 17"/>
          <p:cNvSpPr txBox="1"/>
          <p:nvPr/>
        </p:nvSpPr>
        <p:spPr>
          <a:xfrm>
            <a:off x="0" y="0"/>
            <a:ext cx="1467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例题 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WordArt 22"/>
          <p:cNvSpPr txBox="1"/>
          <p:nvPr/>
        </p:nvSpPr>
        <p:spPr>
          <a:xfrm>
            <a:off x="0" y="191628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2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0" y="2924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一。试比较普查和抽样调查的优缺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0" y="51577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二。如何提高抽样调查的准确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Text Box 25"/>
          <p:cNvSpPr/>
          <p:nvPr/>
        </p:nvSpPr>
        <p:spPr>
          <a:xfrm>
            <a:off x="0" y="3357720"/>
            <a:ext cx="57592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普查的准确度高，但工作量大。一般”不方便“或”不必要“的事件调查都不会采用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0" y="4149720"/>
            <a:ext cx="576108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调查可以减少工作量，对事件的调查快捷、方便，但准确度没有普查高，且对重大事件，如”传染病的检查“、”人口调查“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0" y="5661000"/>
            <a:ext cx="5834160" cy="3988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抽样应具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代表性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、样本要有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足够的容量</a:t>
            </a:r>
            <a:r>
              <a:rPr b="1" lang="zh-CN" sz="2000" spc="-1" strike="noStrike">
                <a:solidFill>
                  <a:srgbClr val="000f2e"/>
                </a:solidFill>
                <a:latin typeface="Arial"/>
              </a:rPr>
              <a:t>等基本原则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AutoShape 28"/>
          <p:cNvSpPr/>
          <p:nvPr/>
        </p:nvSpPr>
        <p:spPr>
          <a:xfrm>
            <a:off x="8423280" y="635472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395280" y="260280"/>
            <a:ext cx="201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合作学习 </a:t>
            </a:r>
            <a:endParaRPr b="0" lang="en-US" sz="2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556000" y="836640"/>
            <a:ext cx="532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50920" y="836640"/>
            <a:ext cx="8642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瑞安市今年约有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5 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学生参加初中毕业升学考试。为了了解数学考试成绩，从中抽取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学生的答卷来统计合格率、优秀率和平均分，问应怎样取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份答卷，使所了解的数据具有代表性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抽样在卷头拆封前进行（即看不见考生的姓名、所在学校、准考证号码等；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每个考场有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考生，每个考场考生的答卷装订成一叠，包装袋写有考场编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）参加考试的同一所学校的各个考场连续编号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395280" y="3789360"/>
            <a:ext cx="813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不能按所在学校或准考证号码抽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95280" y="414972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表明有考场约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25000÷25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（个），也就是约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，从中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份学生答卷也就是从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试卷中抽取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95280" y="508464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第（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）条信息说明抽取</a:t>
            </a:r>
            <a:r>
              <a:rPr b="1" lang="en-US" sz="2000" spc="-1" strike="noStrike">
                <a:solidFill>
                  <a:srgbClr val="0039ac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袋答卷时，不能根据试卷袋的序号连续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9ac"/>
                </a:solidFill>
                <a:latin typeface="Arial"/>
              </a:rPr>
              <a:t>抽取，连续抽取可能使抽取的答卷集中在少数学校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95280" y="569916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注意：抽样时既要抽足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40</a:t>
            </a: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袋答卷，又要使抽取的样本具有代表性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</a:rPr>
              <a:t>随机性，普遍性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4"/>
          <p:cNvSpPr txBox="1"/>
          <p:nvPr/>
        </p:nvSpPr>
        <p:spPr>
          <a:xfrm>
            <a:off x="468360" y="333360"/>
            <a:ext cx="1942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68360" y="98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为了了解学生对学校伙食的满意程度，制定了以下方案，你认为哪种最好？（       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11280" y="213372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男生和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女生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611280" y="2492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611280" y="292428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访问七年级、八年级和九年级各个年级的男生和女生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名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611280" y="4797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要了解市民对自来水水质的满意程度，是否需要问遍每个市民？对一个居民区的调查结果是否能代表全市市民的意见？你认为怎样的抽样调查比较合理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611280" y="33577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某厂家在某城市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经销该厂产品的大商场进行调查，发现该厂产品的销售量占这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个大商场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，于是该厂声称，他们的产品占国内同类产品销售量的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</a:rPr>
              <a:t>。你认为这种宣传可信吗？为什么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1T10:1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5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