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13D-514B-4FEA-9465-54581A68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148-0B5D-49B0-80F0-4C71210C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329-1991-4F31-A43A-10AA2687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BDE-AB50-48BD-83B3-7F0E0C6F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7316-47AA-4821-A72D-44B54BA4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5156-8C8E-490D-BD39-9215A0E1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1E1A-A627-4615-A0A0-C1387829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C2CF-91C8-47B9-8F00-779BD44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A47E-BE8A-41F3-A70B-2A05C7A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ECC4-CAA3-4261-9744-8DC3362D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5990-AA2F-4A26-B3A2-2BD41F2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940-C3F8-4DD4-A74D-15103FC9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695F-9EAB-4CF1-B0FF-F318ADB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9EBF-64F2-4D92-B284-DC835F7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1D10-9797-4619-8A54-B5C4581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65AE-4A73-4F1E-8D3C-33985B7B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56A-8193-4B97-92A9-D2022458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F5B-BDFC-4F4B-9BBD-4128CD72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55B-F032-4B1F-A083-D65C90D7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EF1-53E4-472E-A190-9F59971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4C2-534B-42FC-955F-5F8B12D7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6C6-46A2-420C-9CFE-D1EDA72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E8B-CD66-4285-A4EB-2CA3C263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7D2-9800-4EAF-8BCE-BD9A48A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0248-0DC8-4F57-87B8-AF42FA97A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9F9-66C6-489B-8F6E-5DDFFC331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044720" y="1052640"/>
            <a:ext cx="68133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初一语文狼课件</a:t>
            </a:r>
            <a:r>
              <a:rPr b="0" lang="en-US" sz="2400" spc="-1" strike="noStrike">
                <a:ln w="0">
                  <a:noFill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PPT</a:t>
            </a:r>
            <a:r>
              <a:rPr b="0" lang="zh-CN" sz="2400" spc="-1" strike="noStrike">
                <a:ln w="0">
                  <a:noFill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模板下载</a:t>
            </a:r>
            <a:endParaRPr b="0" lang="en-US" sz="2400" spc="-1" strike="noStrike">
              <a:ln w="0">
                <a:noFill/>
              </a:ln>
              <a:solidFill>
                <a:srgbClr val="d60093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880520" y="4724280"/>
            <a:ext cx="38379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阅读专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990720" y="457200"/>
            <a:ext cx="24764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唇枪舌剑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286000" y="685800"/>
            <a:ext cx="4419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99ff"/>
                </a:solidFill>
                <a:latin typeface="Times New Roman"/>
              </a:rPr>
              <a:t>辩 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34876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：人类应当猎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方：人类应当护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4920" y="44280"/>
            <a:ext cx="914400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生物学角度：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狼在客观上对维持生态平衡有一定的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用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社会学角度：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类的有关社会学知识，是从狼那里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来的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领地意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森严的等级制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狩猎生活中的协作方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文学艺术角度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用词的褒贬由作者的立场和情感态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决定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语、谚语、寓言、童话、歌曲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3635280" y="220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533520" y="152280"/>
            <a:ext cx="20574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启示：</a:t>
            </a:r>
            <a:endParaRPr b="0" i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14479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要辨证地分析和看待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事物的正确答案不止一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要有丰富的知识，这是具有创造性思维的必备要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写作要有点新意，要不落俗套、匠心独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238880" y="304920"/>
            <a:ext cx="549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狼"/>
          <p:cNvPicPr/>
          <p:nvPr/>
        </p:nvPicPr>
        <p:blipFill>
          <a:blip r:embed="rId1"/>
          <a:stretch/>
        </p:blipFill>
        <p:spPr>
          <a:xfrm>
            <a:off x="6705720" y="380880"/>
            <a:ext cx="28191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533520"/>
            <a:ext cx="89154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华文彩云"/>
              </a:rPr>
              <a:t>课后延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请同学们就今天所探讨的问题继续展开讨论，并选取一个角度，从各种参考书和网络上进一步搜集资料，写一篇有关狼的小论文。参考题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说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狼仇恨和狼崇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从成语等材料看对狼的认识的差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谈谈狼和其他野生动物的生存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20574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一只饥饿的瘦狼找不到猎物，正无精打采地游荡着。迎面走过来一只肥胖的狗，狗也正无聊地闲逛。他俩相遇无心交战，便边走边攀谈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狼殷切地对狗说：“你真胖，一定是天天有好吃的，太让我羡慕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狗听了得意地说：“那还用说吗，我的主人每天定时喂我饭菜，还时常赏赐骨头给我吃呢。你如果愿意就跟我一起去吧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04920" y="38088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狼和狗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4920" y="-17136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狼由于饿的慌，听狗这么一说，还真有些动心了。然而，狼猛然发现狗的脖子上戴着皮套，底下还挂着一个铁环儿，就问道：“是谁给你拴的脖套！这样还会有自由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狗急忙回答道“是主人拴的，但没关系，这丝毫不影响运动，只要你听从主人的使唤，不到处乱跑乱咬，主人就会经常放开锁链，你看我现在不就是自由自在地随便走动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狼突然醒悟，振作起精神说道：“我还是不跟你去的好，我宁可挨饿，也比戴上沉重的脖套，失去自由好受得多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这故事是说，为了求得生活待遇的改善而失去自由是可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44280"/>
            <a:ext cx="914400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母狼的智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毕淑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仅次于人聪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物是狼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位老猎人，在大兴安岭蜂蜜般粘稠的篝火旁，对我说。猎人是个渐趋消亡的职业，他不再打猎，成了护林员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那是我年轻的时候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猎人舒展胸膛，好像恢复了当年的神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母爱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4920" y="-27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狼带着小狼过河，怎么办呢？要是只有一只小狼，它会把它叼在嘴里。若有好几只，它不放心一只只带过去，怕它在河里游的时候，留在岸边的“子女”会出什么事，于是狼就咬死一只动物的胃吹足了气，再用牙齿牢牢紧住蒂处，让它胀鼓鼓的好似一只皮筏，它把所有的小狼背负在身上，借着那救生圈的浮力，全家过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有一次，我追捕一只带着两只小崽的母狼，它跑得不快，因为小狼脚力不健。我和狼的距离渐渐缩短，狼妈妈头转向一座巨大的沙丘爬去。我很吃惊，通常狼在危急时，会在草木茂盛处兜圈子，借复杂地形，伺机脱逃，如果爬向沙坡，狼虽然爬得快，好像比人占便宜，但人一旦爬上坡顶，就一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无余，狼就再也跑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是一只奇怪的狼，也许昏了头。我这样想着，一步一滑爬上了高高的沙丘。果然看得很清楚，狼在飞快地逃向远方。我下坡去追，突然发现小狼不见了，当时顾不得多想，拼命追下去。那是我生平见的跑得最快的一只狼，不知它从哪儿来那么大的力气，像贴着地皮的一只黑箭。追到太阳下山，才将它击毙，累得我几乎吐了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把狼皮剥下来，挑在枪尖往回走。一边走一边想，真是一只不可思议的狼，它为什么如此犯忌呢？那两只小狼到哪里去了呢？已经快走回家了，我决定再回到那个沙丘看看。快半夜才到，天气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8200"/>
          <p:cNvSpPr/>
          <p:nvPr/>
        </p:nvSpPr>
        <p:spPr>
          <a:xfrm>
            <a:off x="3132000" y="476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4920" y="-270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极了，惨白的月光下，沙丘好似一座银子筑成的坟，毫无动静。我想真是多此一举，那不过是一只傻狼罢了。正打算走，突然看到一个隐蔽的凹陷初，像白色的烛火一样，悠悠地升起两道青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跑过去，看到一大堆干骆驼粪，白气正从其中冒出来。我轻轻扒开驼粪，看到白天失踪的两只小狼，正在温暖的驼粪下均匀地喘着气。地上有狼尾巴轻轻地扫过的痕迹，活干得很巧妙，在白天居然瞒过了我这个老猎人的眼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那只母狼，为了保护他的幼崽，先是用爬坡延迟了我的速度，赢得了隐藏儿女的时间，又从容的用自己的尾巴抹平痕迹，并用全力向相反的方向奔跑，以一死换回孩子的生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981080" y="762120"/>
            <a:ext cx="5105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438280" y="44956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知识积累  语言实践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2F42-D5D8-40B0-95AF-5AC0604C9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505320" y="4038480"/>
            <a:ext cx="213336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</a:t>
            </a:r>
            <a:endParaRPr b="0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6"/>
          <p:cNvSpPr/>
          <p:nvPr/>
        </p:nvSpPr>
        <p:spPr>
          <a:xfrm>
            <a:off x="1447920" y="12636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一、填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27"/>
          <p:cNvSpPr/>
          <p:nvPr/>
        </p:nvSpPr>
        <p:spPr>
          <a:xfrm>
            <a:off x="1295280" y="2711520"/>
            <a:ext cx="4496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二、说成语   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1295280" y="43876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三、看图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30"/>
          <p:cNvSpPr/>
          <p:nvPr/>
        </p:nvSpPr>
        <p:spPr>
          <a:xfrm>
            <a:off x="457200" y="1371600"/>
            <a:ext cx="533520" cy="457200"/>
          </a:xfrm>
          <a:prstGeom prst="smileyFace">
            <a:avLst>
              <a:gd name="adj" fmla="val 4653"/>
            </a:avLst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31"/>
          <p:cNvSpPr/>
          <p:nvPr/>
        </p:nvSpPr>
        <p:spPr>
          <a:xfrm>
            <a:off x="457200" y="2819520"/>
            <a:ext cx="533520" cy="457200"/>
          </a:xfrm>
          <a:prstGeom prst="smileyFace">
            <a:avLst>
              <a:gd name="adj" fmla="val 4653"/>
            </a:avLst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32"/>
          <p:cNvSpPr/>
          <p:nvPr/>
        </p:nvSpPr>
        <p:spPr>
          <a:xfrm>
            <a:off x="457200" y="4419720"/>
            <a:ext cx="533520" cy="457200"/>
          </a:xfrm>
          <a:prstGeom prst="smileyFace">
            <a:avLst>
              <a:gd name="adj" fmla="val 4653"/>
            </a:avLst>
          </a:pr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18288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90720" y="2286000"/>
          <a:ext cx="7340400" cy="3513240"/>
        </p:xfrm>
        <a:graphic>
          <a:graphicData uri="http://schemas.openxmlformats.org/drawingml/2006/table">
            <a:tbl>
              <a:tblPr/>
              <a:tblGrid>
                <a:gridCol w="685440"/>
                <a:gridCol w="685800"/>
                <a:gridCol w="685800"/>
                <a:gridCol w="685800"/>
                <a:gridCol w="2500200"/>
                <a:gridCol w="1047960"/>
                <a:gridCol w="1049400"/>
              </a:tblGrid>
              <a:tr h="1227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外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食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分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53"/>
          <p:cNvSpPr/>
          <p:nvPr/>
        </p:nvSpPr>
        <p:spPr>
          <a:xfrm>
            <a:off x="53352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正方：根据所查资料，完成下面有关狼的栏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64"/>
          <p:cNvSpPr/>
          <p:nvPr/>
        </p:nvSpPr>
        <p:spPr>
          <a:xfrm>
            <a:off x="1752480" y="3581280"/>
            <a:ext cx="914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97"/>
          <p:cNvSpPr/>
          <p:nvPr/>
        </p:nvSpPr>
        <p:spPr>
          <a:xfrm>
            <a:off x="2438280" y="3657600"/>
            <a:ext cx="76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98"/>
          <p:cNvSpPr/>
          <p:nvPr/>
        </p:nvSpPr>
        <p:spPr>
          <a:xfrm>
            <a:off x="3124080" y="3657600"/>
            <a:ext cx="609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99"/>
          <p:cNvSpPr/>
          <p:nvPr/>
        </p:nvSpPr>
        <p:spPr>
          <a:xfrm flipH="1">
            <a:off x="5485680" y="396252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01"/>
          <p:cNvSpPr/>
          <p:nvPr/>
        </p:nvSpPr>
        <p:spPr>
          <a:xfrm>
            <a:off x="6175800" y="3581280"/>
            <a:ext cx="1155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野生禽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家禽家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03"/>
          <p:cNvSpPr/>
          <p:nvPr/>
        </p:nvSpPr>
        <p:spPr>
          <a:xfrm>
            <a:off x="7318800" y="3581280"/>
            <a:ext cx="1155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欧亚大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美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14"/>
          <p:cNvSpPr/>
          <p:nvPr/>
        </p:nvSpPr>
        <p:spPr>
          <a:xfrm>
            <a:off x="3706920" y="3657600"/>
            <a:ext cx="2617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吻略尖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稍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耳竖不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尾挺下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毛色棕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8200"/>
          <p:cNvSpPr/>
          <p:nvPr/>
        </p:nvSpPr>
        <p:spPr>
          <a:xfrm>
            <a:off x="2266920" y="4726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04920" y="1219320"/>
          <a:ext cx="8153280" cy="5317920"/>
        </p:xfrm>
        <a:graphic>
          <a:graphicData uri="http://schemas.openxmlformats.org/drawingml/2006/table">
            <a:tbl>
              <a:tblPr/>
              <a:tblGrid>
                <a:gridCol w="1427040"/>
                <a:gridCol w="1087560"/>
                <a:gridCol w="5638680"/>
              </a:tblGrid>
              <a:tr h="66852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状    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表达的意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声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狂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尾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摇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竖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行楷"/>
                        </a:rPr>
                        <a:t>面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笑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鬼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080"/>
          <p:cNvSpPr/>
          <p:nvPr/>
        </p:nvSpPr>
        <p:spPr>
          <a:xfrm>
            <a:off x="380880" y="5335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81"/>
          <p:cNvSpPr/>
          <p:nvPr/>
        </p:nvSpPr>
        <p:spPr>
          <a:xfrm>
            <a:off x="4572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反方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：根据阅读资料，完成下面有关狼的栏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85"/>
          <p:cNvSpPr/>
          <p:nvPr/>
        </p:nvSpPr>
        <p:spPr>
          <a:xfrm>
            <a:off x="2971800" y="18288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联络同伴   宣布活动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86"/>
          <p:cNvSpPr/>
          <p:nvPr/>
        </p:nvSpPr>
        <p:spPr>
          <a:xfrm>
            <a:off x="3048120" y="23623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         警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87"/>
          <p:cNvSpPr/>
          <p:nvPr/>
        </p:nvSpPr>
        <p:spPr>
          <a:xfrm>
            <a:off x="2971800" y="2971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服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88"/>
          <p:cNvSpPr/>
          <p:nvPr/>
        </p:nvSpPr>
        <p:spPr>
          <a:xfrm>
            <a:off x="2895480" y="3763800"/>
            <a:ext cx="22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89"/>
          <p:cNvSpPr/>
          <p:nvPr/>
        </p:nvSpPr>
        <p:spPr>
          <a:xfrm>
            <a:off x="2666880" y="47242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地位表示自己正在保护大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90"/>
          <p:cNvSpPr/>
          <p:nvPr/>
        </p:nvSpPr>
        <p:spPr>
          <a:xfrm>
            <a:off x="2844720" y="580536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轻蔑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92"/>
          <p:cNvSpPr/>
          <p:nvPr/>
        </p:nvSpPr>
        <p:spPr>
          <a:xfrm>
            <a:off x="3429000" y="5257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93"/>
          <p:cNvSpPr/>
          <p:nvPr/>
        </p:nvSpPr>
        <p:spPr>
          <a:xfrm>
            <a:off x="2971800" y="762120"/>
            <a:ext cx="380880" cy="30456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7"/>
          <p:cNvSpPr/>
          <p:nvPr/>
        </p:nvSpPr>
        <p:spPr>
          <a:xfrm>
            <a:off x="6084720" y="220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0880" y="609480"/>
            <a:ext cx="48006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隶书"/>
              </a:rPr>
              <a:t>从成语看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狼心狗肺      狼子野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声名狼藉      狼狈为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狼奔豕突      狼狈不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鬼哭狼嚎      杯盘狼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狼吞虎咽      狼烟四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窥视"/>
          <p:cNvPicPr/>
          <p:nvPr/>
        </p:nvPicPr>
        <p:blipFill>
          <a:blip r:embed="rId1"/>
          <a:stretch/>
        </p:blipFill>
        <p:spPr>
          <a:xfrm>
            <a:off x="5257800" y="1066680"/>
            <a:ext cx="3387600" cy="45039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8458200" y="6477120"/>
            <a:ext cx="304920" cy="3808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狼1"/>
          <p:cNvPicPr/>
          <p:nvPr/>
        </p:nvPicPr>
        <p:blipFill>
          <a:blip r:embed="rId1"/>
          <a:stretch/>
        </p:blipFill>
        <p:spPr>
          <a:xfrm>
            <a:off x="1187280" y="404640"/>
            <a:ext cx="670572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母爱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3:37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