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448-CBF7-4488-A614-3F2C6618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2C2-9706-461D-A0AD-BF947CAE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759-094B-4FDF-B98C-B985AE4B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1871-6A52-42CE-8597-CE48F870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030-DCD9-495A-B6D3-9D4C9184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AB66-CC05-4EB0-9F15-F5865823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C212-E3FA-47E6-BB57-DA0D00EC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E7D-BDA2-448E-B50B-58353E96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37B-A761-42A7-8C89-9ECBA998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99C-4232-4815-B8BE-D2892D71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6BDB-69C7-481A-87F8-512919B0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AA0C-E3F6-437D-A724-F3AE0527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DEBED-A361-48B8-AF3A-91D00CC3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A197-5964-4DB2-9D9B-C92ED2D6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831F-E4F0-42D8-95BD-160C72B9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EACD-FDAB-4A36-A7BB-92A919E2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9F590-6452-4461-9F2F-EA4513A4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53D7-B7BA-4DEA-AC25-87FB0AAC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C311-2280-4B4B-945F-002DED9F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E16F-429F-4EFC-AC52-1D5D327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BAF9-3279-4A41-9F63-2A53E1F9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0E6B-CD67-4B95-B750-D33EB72B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76FD-7C63-4808-8913-6BE08BB0A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5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36600" y="3808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251424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575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36600" y="3565080"/>
            <a:ext cx="196272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8D1A-3E35-4A66-8A79-B561168F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480" y="7652520"/>
            <a:ext cx="137160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37960" y="35650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1424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37960" y="380880"/>
            <a:ext cx="29746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514240" y="3565080"/>
            <a:ext cx="60958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R02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R04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C4A0-A30B-476E-82DD-C4F79C104C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2" name="Picture 3" descr="R02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4" descr="R04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R01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1024-71FD-4701-9367-DBC47E9C2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矩形 3" descr=""/>
          <p:cNvPicPr/>
          <p:nvPr/>
        </p:nvPicPr>
        <p:blipFill>
          <a:blip r:embed="rId1"/>
          <a:stretch/>
        </p:blipFill>
        <p:spPr>
          <a:xfrm>
            <a:off x="1606680" y="2421000"/>
            <a:ext cx="6302160" cy="70164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6155"/>
          <p:cNvSpPr/>
          <p:nvPr/>
        </p:nvSpPr>
        <p:spPr>
          <a:xfrm>
            <a:off x="176364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30200" y="366840"/>
            <a:ext cx="752472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隶书"/>
                <a:ea typeface="隶书"/>
              </a:rPr>
              <a:t>乡   色  酒</a:t>
            </a:r>
            <a:br>
              <a:rPr sz="4000"/>
            </a:br>
            <a:r>
              <a:rPr b="1" lang="zh-CN" sz="4000" spc="-1" strike="noStrike">
                <a:solidFill>
                  <a:srgbClr val="993300"/>
                </a:solidFill>
                <a:latin typeface="隶书"/>
                <a:ea typeface="隶书"/>
              </a:rPr>
              <a:t>         舒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437920" y="1828800"/>
            <a:ext cx="2971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三十年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你从柳树梢头望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我正年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乡色也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你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隶书"/>
              </a:rPr>
              <a:t>人也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5257800" y="1870200"/>
            <a:ext cx="358128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三十年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我从椰树梢头望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你是一杯乡色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你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乡愁也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8672400" y="6429240"/>
            <a:ext cx="471600" cy="428760"/>
          </a:xfrm>
          <a:custGeom>
            <a:avLst/>
            <a:gdLst>
              <a:gd name="textAreaLeft" fmla="*/ 27720 w 471600"/>
              <a:gd name="textAreaRight" fmla="*/ 443880 w 47160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23756" h="21600">
                <a:moveTo>
                  <a:pt x="0" y="0"/>
                </a:moveTo>
                <a:lnTo>
                  <a:pt x="23756" y="0"/>
                </a:lnTo>
                <a:lnTo>
                  <a:pt x="23756" y="21600"/>
                </a:lnTo>
                <a:lnTo>
                  <a:pt x="0" y="21600"/>
                </a:lnTo>
                <a:close/>
              </a:path>
              <a:path fill="lightenLess" w="23756" h="21600">
                <a:moveTo>
                  <a:pt x="0" y="0"/>
                </a:moveTo>
                <a:lnTo>
                  <a:pt x="23756" y="0"/>
                </a:lnTo>
                <a:lnTo>
                  <a:pt x="22356" y="1400"/>
                </a:lnTo>
                <a:lnTo>
                  <a:pt x="1400" y="1400"/>
                </a:lnTo>
                <a:close/>
              </a:path>
              <a:path fill="darken" w="23756" h="21600">
                <a:moveTo>
                  <a:pt x="23756" y="0"/>
                </a:moveTo>
                <a:lnTo>
                  <a:pt x="23756" y="21600"/>
                </a:lnTo>
                <a:lnTo>
                  <a:pt x="22356" y="20200"/>
                </a:lnTo>
                <a:lnTo>
                  <a:pt x="22356" y="1400"/>
                </a:lnTo>
                <a:close/>
              </a:path>
              <a:path fill="darkenLess" w="23756" h="21600">
                <a:moveTo>
                  <a:pt x="237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6" y="20200"/>
                </a:lnTo>
                <a:close/>
              </a:path>
              <a:path fill="lighten" w="237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6" h="21600">
                <a:moveTo>
                  <a:pt x="4872" y="10800"/>
                </a:moveTo>
                <a:lnTo>
                  <a:pt x="18885" y="3794"/>
                </a:lnTo>
                <a:lnTo>
                  <a:pt x="18885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勾画出你最喜欢的细节，说说理由，尽量读出情趣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508680" y="1989000"/>
            <a:ext cx="1399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品  读  课  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8" descr="BS00559_"/>
          <p:cNvPicPr/>
          <p:nvPr/>
        </p:nvPicPr>
        <p:blipFill>
          <a:blip r:embed="rId1"/>
          <a:stretch/>
        </p:blipFill>
        <p:spPr>
          <a:xfrm>
            <a:off x="5638680" y="426708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段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母亲给我在小酒杯底里只倒一点点，我端着、闻着，走来走去，有一次一不小心，跨门槛时跌了一跤，杯子捏在手里，酒却全洒在衣襟上了。抱着小花猫时，它直舔，舔完了就呼呼地睡觉。原来我的小花猫也是个酒仙呢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评析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这段文字活泼生动，夸张中透着情趣，比喻中透着诙谐，字里行间流露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我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对春酒的珍视。儿时的欢乐跃然纸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191240" y="1600200"/>
            <a:ext cx="789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5ab5"/>
                </a:solidFill>
                <a:latin typeface="楷体_GB2312"/>
                <a:ea typeface="楷体_GB2312"/>
              </a:rPr>
              <a:t>范    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5" descr="008"/>
          <p:cNvPicPr/>
          <p:nvPr/>
        </p:nvPicPr>
        <p:blipFill>
          <a:blip r:embed="rId1"/>
          <a:stretch/>
        </p:blipFill>
        <p:spPr>
          <a:xfrm>
            <a:off x="0" y="426708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220" name="文本框 8194"/>
          <p:cNvSpPr/>
          <p:nvPr/>
        </p:nvSpPr>
        <p:spPr>
          <a:xfrm>
            <a:off x="3419640" y="5877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琦君认为：好的文章必须语语动人，字字珠玑。她的散文不雕琢，不粉饰，文笔如行云流水，舒放自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细细品味她的这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思乡之情、怀母之心、童年之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纷纷涌上心头。让我们也拿起手中的笔，为逝去的、进行的美好时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摄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435960" y="1773360"/>
            <a:ext cx="13993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5ab5"/>
                </a:solidFill>
                <a:latin typeface="Times New Roman"/>
                <a:ea typeface="楷体_GB2312"/>
              </a:rPr>
              <a:t>课  文  小  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8AB3-7B9C-4B4B-8925-0E4118E7D3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14600" y="380880"/>
            <a:ext cx="6378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酒有一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民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味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遥知兄弟登高处，遍插茱萸少一人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千门万户瞳瞳日，总把新桃换旧符。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春酒有一种＿＿的味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08680" y="1844640"/>
            <a:ext cx="13993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5ab5"/>
                </a:solidFill>
                <a:latin typeface="Times New Roman"/>
                <a:ea typeface="楷体_GB2312"/>
              </a:rPr>
              <a:t>拓  展  延  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5" descr="200432002820"/>
          <p:cNvPicPr/>
          <p:nvPr/>
        </p:nvPicPr>
        <p:blipFill>
          <a:blip r:embed="rId1"/>
          <a:stretch/>
        </p:blipFill>
        <p:spPr>
          <a:xfrm>
            <a:off x="4191120" y="2895480"/>
            <a:ext cx="3124080" cy="3733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96336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078d8"/>
                </a:solidFill>
                <a:latin typeface="Times New Roman"/>
                <a:ea typeface="楷体_GB2312"/>
              </a:rPr>
              <a:t>作家简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268360" y="838080"/>
            <a:ext cx="65628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琦君</a:t>
            </a:r>
            <a:r>
              <a:rPr b="1" lang="zh-CN" sz="3600" spc="-1" strike="noStrike">
                <a:solidFill>
                  <a:srgbClr val="0080c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） 现、当代女作家。原名潘希真，浙江永嘉人。毕业于杭州之江大学中文系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赴台湾，曾任台湾中国文化学院、中央大学中文系教授。后定居美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琦君的散文，多写童年记忆，母女之情，友伴之谊。她以中国传统温柔敦厚的情怀，以细腻温婉的笔致，将这些营造成了一个艺术世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35280" y="1125360"/>
            <a:ext cx="28224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薏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仁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枸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橄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煨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法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炮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家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866920" y="1052640"/>
            <a:ext cx="2963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ǒu  q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ǎn  lǎ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ēi  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ē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059840" y="981000"/>
            <a:ext cx="106416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看清字形、读准字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矩形 6"/>
          <p:cNvSpPr/>
          <p:nvPr/>
        </p:nvSpPr>
        <p:spPr>
          <a:xfrm>
            <a:off x="5651640" y="47242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514240" y="0"/>
            <a:ext cx="60958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找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主要记叙了哪几件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08680" y="1052640"/>
            <a:ext cx="13993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听读课文，整体感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1" descr="a3"/>
          <p:cNvPicPr/>
          <p:nvPr/>
        </p:nvPicPr>
        <p:blipFill>
          <a:blip r:embed="rId1"/>
          <a:stretch/>
        </p:blipFill>
        <p:spPr>
          <a:xfrm>
            <a:off x="3962520" y="3657600"/>
            <a:ext cx="495288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1371600" cy="609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85aa2"/>
              </a:solidFill>
              <a:latin typeface="Times New Roman"/>
              <a:ea typeface="楷体_GB2312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514240" y="380880"/>
            <a:ext cx="60958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酒之中凝聚了作者怎样的情感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118160" y="836640"/>
            <a:ext cx="7898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85aa2"/>
                </a:solidFill>
                <a:latin typeface="Times New Roman"/>
                <a:ea typeface="楷体_GB2312"/>
              </a:rPr>
              <a:t>细读课文、合作研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361960" y="304920"/>
            <a:ext cx="629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    君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： 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1918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年出生，现当代女作家。原名潘希真。浙江永嘉人。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14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岁就读于教会中学。毕业于杭州三江大学中文系，师从词学家夏承焘。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1949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年赴台湾，在司法部门工作了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26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年，并任台湾中国文化学院、中央大学中文系教授，后定居美国。琦君以撰写散文开始她的创作生涯，而她现在已成散文大家。她的名字总是与台湾散文连在一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            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君出版有散文集、小说集及儿童文学作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30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余种，包括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烟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细纱灯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(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获中山文艺创作奖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三更有梦书当枕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桂花雨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细雨灯花落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读书与生活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千里怀人月在峰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与我同车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留子他年说梦痕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)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君寄小读者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琴心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菁姐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七月的哀伤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以及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琦君自选集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等。她是著名电视连续剧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《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橘子红了</a:t>
            </a:r>
            <a:r>
              <a:rPr b="1" lang="en-US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》</a:t>
            </a:r>
            <a:r>
              <a:rPr b="1" lang="zh-CN" sz="2400" spc="-1" strike="noStrike">
                <a:solidFill>
                  <a:srgbClr val="993300"/>
                </a:solidFill>
                <a:latin typeface="华文楷体"/>
                <a:ea typeface="华文楷体"/>
              </a:rPr>
              <a:t>的作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8736120" y="6567480"/>
            <a:ext cx="407880" cy="290520"/>
          </a:xfrm>
          <a:custGeom>
            <a:avLst/>
            <a:gdLst>
              <a:gd name="textAreaLeft" fmla="*/ 18720 w 407880"/>
              <a:gd name="textAreaRight" fmla="*/ 389160 w 407880"/>
              <a:gd name="textAreaTop" fmla="*/ 18720 h 290520"/>
              <a:gd name="textAreaBottom" fmla="*/ 271800 h 290520"/>
            </a:gdLst>
            <a:ahLst/>
            <a:rect l="textAreaLeft" t="textAreaTop" r="textAreaRight" b="textAreaBottom"/>
            <a:pathLst>
              <a:path w="30315" h="21600">
                <a:moveTo>
                  <a:pt x="0" y="0"/>
                </a:moveTo>
                <a:lnTo>
                  <a:pt x="30315" y="0"/>
                </a:lnTo>
                <a:lnTo>
                  <a:pt x="30315" y="21600"/>
                </a:lnTo>
                <a:lnTo>
                  <a:pt x="0" y="21600"/>
                </a:lnTo>
                <a:close/>
              </a:path>
              <a:path fill="lightenLess" w="30315" h="21600">
                <a:moveTo>
                  <a:pt x="0" y="0"/>
                </a:moveTo>
                <a:lnTo>
                  <a:pt x="30315" y="0"/>
                </a:lnTo>
                <a:lnTo>
                  <a:pt x="28915" y="1400"/>
                </a:lnTo>
                <a:lnTo>
                  <a:pt x="1400" y="1400"/>
                </a:lnTo>
                <a:close/>
              </a:path>
              <a:path fill="darken" w="30315" h="21600">
                <a:moveTo>
                  <a:pt x="30315" y="0"/>
                </a:moveTo>
                <a:lnTo>
                  <a:pt x="30315" y="21600"/>
                </a:lnTo>
                <a:lnTo>
                  <a:pt x="28915" y="20200"/>
                </a:lnTo>
                <a:lnTo>
                  <a:pt x="28915" y="1400"/>
                </a:lnTo>
                <a:close/>
              </a:path>
              <a:path fill="darkenLess" w="30315" h="21600">
                <a:moveTo>
                  <a:pt x="30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5" y="20200"/>
                </a:lnTo>
                <a:close/>
              </a:path>
              <a:path fill="lighten" w="30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5" h="21600">
                <a:moveTo>
                  <a:pt x="8151" y="10800"/>
                </a:moveTo>
                <a:lnTo>
                  <a:pt x="22164" y="3794"/>
                </a:lnTo>
                <a:lnTo>
                  <a:pt x="2216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285640" y="1652760"/>
            <a:ext cx="6629400" cy="40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．给下列加点字注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枸杞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gouqi)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门槛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kan)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过瘾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yin)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凑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cou)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酬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chou)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谢  煨炖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weidun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）两颊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jia)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家醅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(pe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1027"/>
          <p:cNvGrpSpPr/>
          <p:nvPr/>
        </p:nvGrpSpPr>
        <p:grpSpPr>
          <a:xfrm>
            <a:off x="1797120" y="2595600"/>
            <a:ext cx="183240" cy="153720"/>
            <a:chOff x="1797120" y="2595600"/>
            <a:chExt cx="183240" cy="153720"/>
          </a:xfrm>
        </p:grpSpPr>
        <p:grpSp>
          <p:nvGrpSpPr>
            <p:cNvPr id="145" name=""/>
            <p:cNvGrpSpPr/>
            <p:nvPr/>
          </p:nvGrpSpPr>
          <p:grpSpPr>
            <a:xfrm>
              <a:off x="1797120" y="2595600"/>
              <a:ext cx="88200" cy="149040"/>
              <a:chOff x="1797120" y="2595600"/>
              <a:chExt cx="88200" cy="149040"/>
            </a:xfrm>
          </p:grpSpPr>
          <p:sp>
            <p:nvSpPr>
              <p:cNvPr id="146" name="Line 1028"/>
              <p:cNvSpPr/>
              <p:nvPr/>
            </p:nvSpPr>
            <p:spPr>
              <a:xfrm>
                <a:off x="1797120" y="2595600"/>
                <a:ext cx="8820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>
                <a:off x="1797120" y="2595600"/>
                <a:ext cx="88200" cy="14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904400" y="2600280"/>
              <a:ext cx="75960" cy="149040"/>
              <a:chOff x="1904400" y="2600280"/>
              <a:chExt cx="75960" cy="149040"/>
            </a:xfrm>
          </p:grpSpPr>
          <p:sp>
            <p:nvSpPr>
              <p:cNvPr id="149" name="Line 1029"/>
              <p:cNvSpPr/>
              <p:nvPr/>
            </p:nvSpPr>
            <p:spPr>
              <a:xfrm flipH="1">
                <a:off x="1904400" y="2600280"/>
                <a:ext cx="7596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 txBox="1"/>
              <p:nvPr/>
            </p:nvSpPr>
            <p:spPr>
              <a:xfrm rot="5400000">
                <a:off x="1867680" y="2636640"/>
                <a:ext cx="14904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Group 1030"/>
          <p:cNvGrpSpPr/>
          <p:nvPr/>
        </p:nvGrpSpPr>
        <p:grpSpPr>
          <a:xfrm>
            <a:off x="2406600" y="2619360"/>
            <a:ext cx="183600" cy="153720"/>
            <a:chOff x="2406600" y="2619360"/>
            <a:chExt cx="183600" cy="153720"/>
          </a:xfrm>
        </p:grpSpPr>
        <p:grpSp>
          <p:nvGrpSpPr>
            <p:cNvPr id="152" name=""/>
            <p:cNvGrpSpPr/>
            <p:nvPr/>
          </p:nvGrpSpPr>
          <p:grpSpPr>
            <a:xfrm>
              <a:off x="2406600" y="2619360"/>
              <a:ext cx="88560" cy="149040"/>
              <a:chOff x="2406600" y="2619360"/>
              <a:chExt cx="88560" cy="149040"/>
            </a:xfrm>
          </p:grpSpPr>
          <p:sp>
            <p:nvSpPr>
              <p:cNvPr id="153" name="Line 1031"/>
              <p:cNvSpPr/>
              <p:nvPr/>
            </p:nvSpPr>
            <p:spPr>
              <a:xfrm>
                <a:off x="2406600" y="2619360"/>
                <a:ext cx="8856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 txBox="1"/>
              <p:nvPr/>
            </p:nvSpPr>
            <p:spPr>
              <a:xfrm>
                <a:off x="2406600" y="2619360"/>
                <a:ext cx="88560" cy="14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514240" y="2624040"/>
              <a:ext cx="75960" cy="149040"/>
              <a:chOff x="2514240" y="2624040"/>
              <a:chExt cx="75960" cy="149040"/>
            </a:xfrm>
          </p:grpSpPr>
          <p:sp>
            <p:nvSpPr>
              <p:cNvPr id="156" name="Line 1032"/>
              <p:cNvSpPr/>
              <p:nvPr/>
            </p:nvSpPr>
            <p:spPr>
              <a:xfrm flipH="1">
                <a:off x="2514240" y="2624040"/>
                <a:ext cx="7596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 rot="5400000">
                <a:off x="2477520" y="2660400"/>
                <a:ext cx="14904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8" name="Group 1033"/>
          <p:cNvGrpSpPr/>
          <p:nvPr/>
        </p:nvGrpSpPr>
        <p:grpSpPr>
          <a:xfrm>
            <a:off x="4035600" y="2604960"/>
            <a:ext cx="183240" cy="153720"/>
            <a:chOff x="4035600" y="2604960"/>
            <a:chExt cx="183240" cy="153720"/>
          </a:xfrm>
        </p:grpSpPr>
        <p:grpSp>
          <p:nvGrpSpPr>
            <p:cNvPr id="159" name=""/>
            <p:cNvGrpSpPr/>
            <p:nvPr/>
          </p:nvGrpSpPr>
          <p:grpSpPr>
            <a:xfrm>
              <a:off x="4035600" y="2604960"/>
              <a:ext cx="88200" cy="149040"/>
              <a:chOff x="4035600" y="2604960"/>
              <a:chExt cx="88200" cy="149040"/>
            </a:xfrm>
          </p:grpSpPr>
          <p:sp>
            <p:nvSpPr>
              <p:cNvPr id="160" name="Line 1034"/>
              <p:cNvSpPr/>
              <p:nvPr/>
            </p:nvSpPr>
            <p:spPr>
              <a:xfrm>
                <a:off x="4035600" y="2604960"/>
                <a:ext cx="8820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4035600" y="2604960"/>
                <a:ext cx="88200" cy="14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142880" y="2609640"/>
              <a:ext cx="75960" cy="149040"/>
              <a:chOff x="4142880" y="2609640"/>
              <a:chExt cx="75960" cy="149040"/>
            </a:xfrm>
          </p:grpSpPr>
          <p:sp>
            <p:nvSpPr>
              <p:cNvPr id="163" name="Line 1035"/>
              <p:cNvSpPr/>
              <p:nvPr/>
            </p:nvSpPr>
            <p:spPr>
              <a:xfrm flipH="1">
                <a:off x="4142880" y="2609640"/>
                <a:ext cx="7596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 rot="5400000">
                <a:off x="4106160" y="2646000"/>
                <a:ext cx="14904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5" name="Group 1036"/>
          <p:cNvGrpSpPr/>
          <p:nvPr/>
        </p:nvGrpSpPr>
        <p:grpSpPr>
          <a:xfrm>
            <a:off x="6135840" y="2604960"/>
            <a:ext cx="183240" cy="153720"/>
            <a:chOff x="6135840" y="2604960"/>
            <a:chExt cx="183240" cy="153720"/>
          </a:xfrm>
        </p:grpSpPr>
        <p:grpSp>
          <p:nvGrpSpPr>
            <p:cNvPr id="166" name=""/>
            <p:cNvGrpSpPr/>
            <p:nvPr/>
          </p:nvGrpSpPr>
          <p:grpSpPr>
            <a:xfrm>
              <a:off x="6135840" y="2604960"/>
              <a:ext cx="88200" cy="149040"/>
              <a:chOff x="6135840" y="2604960"/>
              <a:chExt cx="88200" cy="149040"/>
            </a:xfrm>
          </p:grpSpPr>
          <p:sp>
            <p:nvSpPr>
              <p:cNvPr id="167" name="Line 1037"/>
              <p:cNvSpPr/>
              <p:nvPr/>
            </p:nvSpPr>
            <p:spPr>
              <a:xfrm>
                <a:off x="6135840" y="2604960"/>
                <a:ext cx="8820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6135840" y="2604960"/>
                <a:ext cx="88200" cy="14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243120" y="2609640"/>
              <a:ext cx="75960" cy="149040"/>
              <a:chOff x="6243120" y="2609640"/>
              <a:chExt cx="75960" cy="149040"/>
            </a:xfrm>
          </p:grpSpPr>
          <p:sp>
            <p:nvSpPr>
              <p:cNvPr id="170" name="Line 1038"/>
              <p:cNvSpPr/>
              <p:nvPr/>
            </p:nvSpPr>
            <p:spPr>
              <a:xfrm flipH="1">
                <a:off x="6243120" y="2609640"/>
                <a:ext cx="75960" cy="14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 rot="5400000">
                <a:off x="6206400" y="2646000"/>
                <a:ext cx="14904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7607160" y="2625840"/>
            <a:ext cx="101880" cy="101520"/>
            <a:chOff x="7607160" y="2625840"/>
            <a:chExt cx="101880" cy="101520"/>
          </a:xfrm>
        </p:grpSpPr>
        <p:sp>
          <p:nvSpPr>
            <p:cNvPr id="173" name="Line 1039"/>
            <p:cNvSpPr/>
            <p:nvPr/>
          </p:nvSpPr>
          <p:spPr>
            <a:xfrm>
              <a:off x="7607160" y="2625840"/>
              <a:ext cx="101880" cy="101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7607160" y="2625840"/>
              <a:ext cx="10188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559400" y="3606840"/>
            <a:ext cx="101520" cy="101520"/>
            <a:chOff x="4559400" y="3606840"/>
            <a:chExt cx="101520" cy="101520"/>
          </a:xfrm>
        </p:grpSpPr>
        <p:sp>
          <p:nvSpPr>
            <p:cNvPr id="176" name="Line 1040"/>
            <p:cNvSpPr/>
            <p:nvPr/>
          </p:nvSpPr>
          <p:spPr>
            <a:xfrm>
              <a:off x="4559400" y="3606840"/>
              <a:ext cx="101520" cy="101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4559400" y="36068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682280" y="3559320"/>
            <a:ext cx="102240" cy="101520"/>
            <a:chOff x="1682280" y="3559320"/>
            <a:chExt cx="102240" cy="101520"/>
          </a:xfrm>
        </p:grpSpPr>
        <p:sp>
          <p:nvSpPr>
            <p:cNvPr id="179" name="Line 1041"/>
            <p:cNvSpPr/>
            <p:nvPr/>
          </p:nvSpPr>
          <p:spPr>
            <a:xfrm flipH="1">
              <a:off x="1682280" y="3559320"/>
              <a:ext cx="101880" cy="10152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1682640" y="3559320"/>
              <a:ext cx="101880" cy="1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678720" y="3597120"/>
            <a:ext cx="101520" cy="101880"/>
            <a:chOff x="6678720" y="3597120"/>
            <a:chExt cx="101520" cy="101880"/>
          </a:xfrm>
        </p:grpSpPr>
        <p:sp>
          <p:nvSpPr>
            <p:cNvPr id="182" name="Line 1042"/>
            <p:cNvSpPr/>
            <p:nvPr/>
          </p:nvSpPr>
          <p:spPr>
            <a:xfrm flipH="1">
              <a:off x="6678720" y="3597120"/>
              <a:ext cx="101520" cy="1018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6678720" y="3597120"/>
              <a:ext cx="101520" cy="10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8273880" y="3692520"/>
            <a:ext cx="189000" cy="360"/>
            <a:chOff x="8273880" y="3692520"/>
            <a:chExt cx="189000" cy="360"/>
          </a:xfrm>
        </p:grpSpPr>
        <p:sp>
          <p:nvSpPr>
            <p:cNvPr id="185" name="Line 1043"/>
            <p:cNvSpPr/>
            <p:nvPr/>
          </p:nvSpPr>
          <p:spPr>
            <a:xfrm>
              <a:off x="8273880" y="3692520"/>
              <a:ext cx="18900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8273880" y="3692520"/>
              <a:ext cx="189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4043160" y="3715920"/>
            <a:ext cx="169920" cy="1800"/>
            <a:chOff x="4043160" y="3715920"/>
            <a:chExt cx="169920" cy="1800"/>
          </a:xfrm>
        </p:grpSpPr>
        <p:sp>
          <p:nvSpPr>
            <p:cNvPr id="188" name="Line 1044"/>
            <p:cNvSpPr/>
            <p:nvPr/>
          </p:nvSpPr>
          <p:spPr>
            <a:xfrm flipV="1">
              <a:off x="4043520" y="3715920"/>
              <a:ext cx="169560" cy="18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10800000">
              <a:off x="4043160" y="3715920"/>
              <a:ext cx="1695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AutoShape 1045"/>
          <p:cNvSpPr/>
          <p:nvPr/>
        </p:nvSpPr>
        <p:spPr>
          <a:xfrm>
            <a:off x="8664480" y="6485040"/>
            <a:ext cx="479520" cy="372960"/>
          </a:xfrm>
          <a:custGeom>
            <a:avLst/>
            <a:gdLst>
              <a:gd name="textAreaLeft" fmla="*/ 24120 w 479520"/>
              <a:gd name="textAreaRight" fmla="*/ 455400 w 479520"/>
              <a:gd name="textAreaTop" fmla="*/ 24120 h 372960"/>
              <a:gd name="textAreaBottom" fmla="*/ 348840 h 372960"/>
            </a:gdLst>
            <a:ahLst/>
            <a:rect l="textAreaLeft" t="textAreaTop" r="textAreaRight" b="textAreaBottom"/>
            <a:pathLst>
              <a:path w="27765" h="21600">
                <a:moveTo>
                  <a:pt x="0" y="0"/>
                </a:moveTo>
                <a:lnTo>
                  <a:pt x="27765" y="0"/>
                </a:lnTo>
                <a:lnTo>
                  <a:pt x="27765" y="21600"/>
                </a:lnTo>
                <a:lnTo>
                  <a:pt x="0" y="21600"/>
                </a:lnTo>
                <a:close/>
              </a:path>
              <a:path fill="lightenLess" w="27765" h="21600">
                <a:moveTo>
                  <a:pt x="0" y="0"/>
                </a:moveTo>
                <a:lnTo>
                  <a:pt x="27765" y="0"/>
                </a:lnTo>
                <a:lnTo>
                  <a:pt x="26365" y="1400"/>
                </a:lnTo>
                <a:lnTo>
                  <a:pt x="1400" y="1400"/>
                </a:lnTo>
                <a:close/>
              </a:path>
              <a:path fill="darken" w="27765" h="21600">
                <a:moveTo>
                  <a:pt x="27765" y="0"/>
                </a:moveTo>
                <a:lnTo>
                  <a:pt x="27765" y="21600"/>
                </a:lnTo>
                <a:lnTo>
                  <a:pt x="26365" y="20200"/>
                </a:lnTo>
                <a:lnTo>
                  <a:pt x="26365" y="1400"/>
                </a:lnTo>
                <a:close/>
              </a:path>
              <a:path fill="darkenLess" w="27765" h="21600">
                <a:moveTo>
                  <a:pt x="277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5" y="20200"/>
                </a:lnTo>
                <a:close/>
              </a:path>
              <a:path fill="lighten" w="277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5" h="21600">
                <a:moveTo>
                  <a:pt x="6876" y="10800"/>
                </a:moveTo>
                <a:lnTo>
                  <a:pt x="20889" y="3794"/>
                </a:lnTo>
                <a:lnTo>
                  <a:pt x="20889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文本框 8194"/>
          <p:cNvSpPr/>
          <p:nvPr/>
        </p:nvSpPr>
        <p:spPr>
          <a:xfrm>
            <a:off x="1044720" y="5661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929040"/>
            <a:ext cx="13716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动动脑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14240" y="623520"/>
            <a:ext cx="60958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作者怀念的仅仅是家乡的春酒吗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文章主要记叙了哪几件事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表达了作者怎么样的思想感情 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357120" y="1459080"/>
            <a:ext cx="8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春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2060640" y="865080"/>
            <a:ext cx="11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过新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936800" y="1817640"/>
            <a:ext cx="11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喝春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906560" y="283356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喝会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3692520" y="1525680"/>
            <a:ext cx="117648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风俗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人情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5245200" y="1782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家乡的味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7656480" y="1512720"/>
            <a:ext cx="10368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思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</a:rPr>
              <a:t>怀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AutoShape 10"/>
          <p:cNvCxnSpPr>
            <a:stCxn id="194" idx="3"/>
            <a:endCxn id="195" idx="1"/>
          </p:cNvCxnSpPr>
          <p:nvPr/>
        </p:nvCxnSpPr>
        <p:spPr>
          <a:xfrm flipV="1">
            <a:off x="1218960" y="1093320"/>
            <a:ext cx="842040" cy="9612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2" name="AutoShape 11"/>
          <p:cNvCxnSpPr>
            <a:stCxn id="194" idx="3"/>
            <a:endCxn id="196" idx="1"/>
          </p:cNvCxnSpPr>
          <p:nvPr/>
        </p:nvCxnSpPr>
        <p:spPr>
          <a:xfrm flipV="1">
            <a:off x="1218960" y="2045880"/>
            <a:ext cx="717840" cy="864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3" name="AutoShape 12"/>
          <p:cNvCxnSpPr>
            <a:stCxn id="194" idx="3"/>
            <a:endCxn id="197" idx="1"/>
          </p:cNvCxnSpPr>
          <p:nvPr/>
        </p:nvCxnSpPr>
        <p:spPr>
          <a:xfrm>
            <a:off x="1218960" y="2054160"/>
            <a:ext cx="687960" cy="10087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4" name="AutoShape 13"/>
          <p:cNvCxnSpPr>
            <a:stCxn id="195" idx="3"/>
            <a:endCxn id="198" idx="1"/>
          </p:cNvCxnSpPr>
          <p:nvPr/>
        </p:nvCxnSpPr>
        <p:spPr>
          <a:xfrm>
            <a:off x="3164040" y="1093320"/>
            <a:ext cx="529200" cy="9406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5" name="AutoShape 14"/>
          <p:cNvCxnSpPr>
            <a:stCxn id="197" idx="3"/>
            <a:endCxn id="198" idx="1"/>
          </p:cNvCxnSpPr>
          <p:nvPr/>
        </p:nvCxnSpPr>
        <p:spPr>
          <a:xfrm flipV="1">
            <a:off x="3095640" y="2033280"/>
            <a:ext cx="597600" cy="10288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6" name="AutoShape 15"/>
          <p:cNvCxnSpPr>
            <a:stCxn id="198" idx="3"/>
            <a:endCxn id="199" idx="1"/>
          </p:cNvCxnSpPr>
          <p:nvPr/>
        </p:nvCxnSpPr>
        <p:spPr>
          <a:xfrm flipV="1">
            <a:off x="4868640" y="2010960"/>
            <a:ext cx="376920" cy="230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7" name="AutoShape 16"/>
          <p:cNvCxnSpPr>
            <a:stCxn id="199" idx="3"/>
            <a:endCxn id="200" idx="1"/>
          </p:cNvCxnSpPr>
          <p:nvPr/>
        </p:nvCxnSpPr>
        <p:spPr>
          <a:xfrm>
            <a:off x="6972480" y="2010960"/>
            <a:ext cx="684720" cy="10440"/>
          </a:xfrm>
          <a:prstGeom prst="straightConnector1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8" name="AutoShape 17"/>
          <p:cNvCxnSpPr>
            <a:stCxn id="196" idx="3"/>
            <a:endCxn id="198" idx="1"/>
          </p:cNvCxnSpPr>
          <p:nvPr/>
        </p:nvCxnSpPr>
        <p:spPr>
          <a:xfrm flipV="1">
            <a:off x="3097080" y="2032920"/>
            <a:ext cx="596160" cy="1332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sp>
        <p:nvSpPr>
          <p:cNvPr id="209" name="AutoShape 18"/>
          <p:cNvSpPr/>
          <p:nvPr/>
        </p:nvSpPr>
        <p:spPr>
          <a:xfrm>
            <a:off x="8645400" y="6451560"/>
            <a:ext cx="498600" cy="406440"/>
          </a:xfrm>
          <a:custGeom>
            <a:avLst/>
            <a:gdLst>
              <a:gd name="textAreaLeft" fmla="*/ 26280 w 498600"/>
              <a:gd name="textAreaRight" fmla="*/ 472320 w 498600"/>
              <a:gd name="textAreaTop" fmla="*/ 26280 h 406440"/>
              <a:gd name="textAreaBottom" fmla="*/ 380160 h 406440"/>
            </a:gdLst>
            <a:ahLst/>
            <a:rect l="textAreaLeft" t="textAreaTop" r="textAreaRight" b="textAreaBottom"/>
            <a:pathLst>
              <a:path w="26493" h="21600">
                <a:moveTo>
                  <a:pt x="0" y="0"/>
                </a:moveTo>
                <a:lnTo>
                  <a:pt x="26493" y="0"/>
                </a:lnTo>
                <a:lnTo>
                  <a:pt x="26493" y="21600"/>
                </a:lnTo>
                <a:lnTo>
                  <a:pt x="0" y="21600"/>
                </a:lnTo>
                <a:close/>
              </a:path>
              <a:path fill="lightenLess" w="26493" h="21600">
                <a:moveTo>
                  <a:pt x="0" y="0"/>
                </a:moveTo>
                <a:lnTo>
                  <a:pt x="26493" y="0"/>
                </a:lnTo>
                <a:lnTo>
                  <a:pt x="25093" y="1400"/>
                </a:lnTo>
                <a:lnTo>
                  <a:pt x="1400" y="1400"/>
                </a:lnTo>
                <a:close/>
              </a:path>
              <a:path fill="darken" w="26493" h="21600">
                <a:moveTo>
                  <a:pt x="26493" y="0"/>
                </a:moveTo>
                <a:lnTo>
                  <a:pt x="26493" y="21600"/>
                </a:lnTo>
                <a:lnTo>
                  <a:pt x="25093" y="20200"/>
                </a:lnTo>
                <a:lnTo>
                  <a:pt x="25093" y="1400"/>
                </a:lnTo>
                <a:close/>
              </a:path>
              <a:path fill="darkenLess" w="26493" h="21600">
                <a:moveTo>
                  <a:pt x="264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3" y="20200"/>
                </a:lnTo>
                <a:close/>
              </a:path>
              <a:path fill="lighten" w="264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93" h="21600">
                <a:moveTo>
                  <a:pt x="6240" y="10800"/>
                </a:moveTo>
                <a:lnTo>
                  <a:pt x="20253" y="3794"/>
                </a:lnTo>
                <a:lnTo>
                  <a:pt x="20253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13:53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22Z</dcterms:modified>
  <cp:revision>4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