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22C8-65A2-4D59-B488-0F24648E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884D-579E-4BFC-BF90-ACF9E530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B22F-10CE-41AE-9583-7670C203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CBC4-9635-4CEB-92A0-E522D2BF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5784-2A46-4A86-887D-5CBE0C0B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21BF-9BC6-414A-AE89-A3D7EBDF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71A6-E902-48EB-A5EF-5D9A60CC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2533-A5F7-4D18-B18C-8C1D62BC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1353-5CE0-433A-A582-C64FD64A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6204-16F0-4437-AC0C-B294CCB4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2C42-E583-414E-A54C-0DE805BE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CAD9-1F79-449C-B7C4-99C7E0E7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2D07-6E6F-4EBD-80B6-A8A2A0B9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9378-EF1E-4E19-9176-AEC5C2C2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2341-6291-4AE2-97A0-7557A060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E9E1-1AAC-4D80-9A5F-FC034570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74C3-2B43-4046-AF03-79721872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20D6-B019-4F04-955D-AE25C538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8764-088E-4A61-9174-4974362E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BF72-D3B3-4A8E-B412-325789A0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367-2EBC-4ACC-95B4-8B546F8F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15D3-2F96-4135-840A-ADF70CD6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DDAD-51E2-4113-926B-BC164163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9B54-59CB-4342-B95A-A77971B1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E585-FAB0-4B5F-891C-67E94480394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7CFE-6685-4784-A4DA-8809EE78DA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8081-36EF-480C-A6F5-4B2C67D253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7200" y="692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实验活动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8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粗盐中难溶性杂质的去除课件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图片 2" descr=""/>
          <p:cNvPicPr/>
          <p:nvPr/>
        </p:nvPicPr>
        <p:blipFill>
          <a:blip r:embed="rId1"/>
          <a:stretch/>
        </p:blipFill>
        <p:spPr>
          <a:xfrm>
            <a:off x="1913040" y="3068640"/>
            <a:ext cx="5400720" cy="303840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360360" y="2781360"/>
            <a:ext cx="60120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-39600" y="3240"/>
            <a:ext cx="641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粗盐中难溶性杂质的去除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4000" y="747720"/>
            <a:ext cx="212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黑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黑体"/>
              </a:rPr>
              <a:t>、溶解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309760" y="765000"/>
            <a:ext cx="204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黑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黑体"/>
              </a:rPr>
              <a:t>、过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4448160" y="765000"/>
            <a:ext cx="222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黑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黑体"/>
              </a:rPr>
              <a:t>、蒸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50920" y="37893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过滤中应注意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黑体"/>
              </a:rPr>
              <a:t>:“</a:t>
            </a:r>
            <a:r>
              <a:rPr b="1" lang="zh-CN" sz="3600" spc="-1" strike="noStrike">
                <a:solidFill>
                  <a:srgbClr val="ff3300"/>
                </a:solidFill>
                <a:latin typeface="Calibri"/>
                <a:ea typeface="黑体"/>
              </a:rPr>
              <a:t>一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贴</a:t>
            </a:r>
            <a:r>
              <a:rPr b="1" lang="zh-CN" sz="3600" spc="-1" strike="noStrike">
                <a:solidFill>
                  <a:srgbClr val="ff3300"/>
                </a:solidFill>
                <a:latin typeface="Calibri"/>
                <a:ea typeface="黑体"/>
              </a:rPr>
              <a:t>两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低</a:t>
            </a:r>
            <a:r>
              <a:rPr b="1" lang="zh-CN" sz="3600" spc="-1" strike="noStrike">
                <a:solidFill>
                  <a:srgbClr val="ff3300"/>
                </a:solidFill>
                <a:latin typeface="Calibri"/>
                <a:ea typeface="黑体"/>
              </a:rPr>
              <a:t>三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靠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581040" y="4724280"/>
            <a:ext cx="160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  <a:ea typeface="黑体"/>
              </a:rPr>
              <a:t>4.</a:t>
            </a:r>
            <a:r>
              <a:rPr b="1" lang="zh-CN" sz="4000" spc="-1" strike="noStrike">
                <a:solidFill>
                  <a:srgbClr val="ff3300"/>
                </a:solidFill>
                <a:latin typeface="Calibri"/>
                <a:ea typeface="黑体"/>
              </a:rPr>
              <a:t>产率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325440" y="2925720"/>
            <a:ext cx="57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Calibri"/>
                <a:ea typeface="黑体"/>
              </a:rPr>
              <a:t>除去粗盐中的不溶性杂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2482920" y="1628640"/>
            <a:ext cx="504720" cy="1008360"/>
          </a:xfrm>
          <a:prstGeom prst="downArrow">
            <a:avLst>
              <a:gd name="adj1" fmla="val 50000"/>
              <a:gd name="adj2" fmla="val 49928"/>
            </a:avLst>
          </a:prstGeom>
          <a:solidFill>
            <a:srgbClr val="ffffff"/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2762280" y="4581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Calibri"/>
                <a:ea typeface="黑体"/>
              </a:rPr>
              <a:t>精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2762280" y="5373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Calibri"/>
                <a:ea typeface="黑体"/>
              </a:rPr>
              <a:t>粗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266560" y="5301720"/>
            <a:ext cx="1800720" cy="360"/>
            <a:chOff x="2266560" y="5301720"/>
            <a:chExt cx="1800720" cy="360"/>
          </a:xfrm>
        </p:grpSpPr>
        <p:sp>
          <p:nvSpPr>
            <p:cNvPr id="97" name="Line 16"/>
            <p:cNvSpPr/>
            <p:nvPr/>
          </p:nvSpPr>
          <p:spPr>
            <a:xfrm>
              <a:off x="2266920" y="5302080"/>
              <a:ext cx="1800360" cy="0"/>
            </a:xfrm>
            <a:prstGeom prst="line">
              <a:avLst/>
            </a:prstGeom>
            <a:ln w="572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 rot="10800000">
              <a:off x="2266560" y="5301720"/>
              <a:ext cx="180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Text Box 17"/>
          <p:cNvSpPr/>
          <p:nvPr/>
        </p:nvSpPr>
        <p:spPr>
          <a:xfrm>
            <a:off x="3851280" y="4581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黑体"/>
                <a:ea typeface="黑体"/>
              </a:rPr>
              <a:t>×100</a:t>
            </a:r>
            <a:r>
              <a:rPr b="1" lang="en-US" sz="7200" spc="-1" strike="noStrike">
                <a:solidFill>
                  <a:srgbClr val="3333ff"/>
                </a:solidFill>
                <a:latin typeface="黑体"/>
                <a:ea typeface="黑体"/>
              </a:rPr>
              <a:t>%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8" descr="过滤食盐水"/>
          <p:cNvPicPr/>
          <p:nvPr/>
        </p:nvPicPr>
        <p:blipFill>
          <a:blip r:embed="rId1"/>
          <a:stretch/>
        </p:blipFill>
        <p:spPr>
          <a:xfrm>
            <a:off x="6580080" y="189000"/>
            <a:ext cx="2563920" cy="2784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9" descr="蒸发食盐水"/>
          <p:cNvPicPr/>
          <p:nvPr/>
        </p:nvPicPr>
        <p:blipFill>
          <a:blip r:embed="rId2"/>
          <a:stretch/>
        </p:blipFill>
        <p:spPr>
          <a:xfrm>
            <a:off x="6580080" y="2997360"/>
            <a:ext cx="256392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684360" y="476280"/>
            <a:ext cx="25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溶解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87240" y="1413000"/>
            <a:ext cx="52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oudy Old Style"/>
                <a:ea typeface="华文中宋"/>
              </a:rPr>
              <a:t>①</a:t>
            </a:r>
            <a:r>
              <a:rPr b="1" lang="zh-CN" sz="3600" spc="-1" strike="noStrike">
                <a:solidFill>
                  <a:srgbClr val="3333cc"/>
                </a:solidFill>
                <a:latin typeface="Goudy Old Style"/>
                <a:ea typeface="华文中宋"/>
              </a:rPr>
              <a:t>仪器：</a:t>
            </a:r>
            <a:r>
              <a:rPr b="1" lang="zh-CN" sz="3600" spc="-1" strike="noStrike">
                <a:solidFill>
                  <a:srgbClr val="000000"/>
                </a:solidFill>
                <a:latin typeface="Goudy Old Style"/>
                <a:ea typeface="华文中宋"/>
              </a:rPr>
              <a:t>烧杯、玻璃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87240" y="2276640"/>
            <a:ext cx="7988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玻璃棒的作用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4237200" y="2276640"/>
            <a:ext cx="44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oudy Old Style"/>
                <a:ea typeface="华文中宋"/>
              </a:rPr>
              <a:t>加快粗盐的溶解速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7240" y="3284640"/>
          <a:ext cx="7988400" cy="1592280"/>
        </p:xfrm>
        <a:graphic>
          <a:graphicData uri="http://schemas.openxmlformats.org/drawingml/2006/table">
            <a:tbl>
              <a:tblPr/>
              <a:tblGrid>
                <a:gridCol w="2664000"/>
                <a:gridCol w="2662200"/>
                <a:gridCol w="266220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称取粗盐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剩余粗盐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溶解粗盐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2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0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7" name="TextBox 15"/>
          <p:cNvSpPr/>
          <p:nvPr/>
        </p:nvSpPr>
        <p:spPr>
          <a:xfrm>
            <a:off x="3348000" y="414972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25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6012000" y="414972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.75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9"/>
          <p:cNvSpPr/>
          <p:nvPr/>
        </p:nvSpPr>
        <p:spPr>
          <a:xfrm>
            <a:off x="701640" y="47628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过滤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Group 10"/>
          <p:cNvGrpSpPr/>
          <p:nvPr/>
        </p:nvGrpSpPr>
        <p:grpSpPr>
          <a:xfrm>
            <a:off x="650880" y="1341360"/>
            <a:ext cx="8242200" cy="1290240"/>
            <a:chOff x="650880" y="1341360"/>
            <a:chExt cx="8242200" cy="1290240"/>
          </a:xfrm>
        </p:grpSpPr>
        <p:sp>
          <p:nvSpPr>
            <p:cNvPr id="111" name="Text Box 11"/>
            <p:cNvSpPr/>
            <p:nvPr/>
          </p:nvSpPr>
          <p:spPr>
            <a:xfrm>
              <a:off x="650880" y="1341360"/>
              <a:ext cx="824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Goudy Old Style"/>
                  <a:ea typeface="华文中宋"/>
                </a:rPr>
                <a:t>①</a:t>
              </a:r>
              <a:r>
                <a:rPr b="1" lang="zh-CN" sz="3600" spc="-1" strike="noStrike">
                  <a:solidFill>
                    <a:srgbClr val="3333cc"/>
                  </a:solidFill>
                  <a:latin typeface="Goudy Old Style"/>
                  <a:ea typeface="华文中宋"/>
                </a:rPr>
                <a:t>仪器：</a:t>
              </a:r>
              <a:r>
                <a:rPr b="1" lang="zh-CN" sz="3600" spc="-1" strike="noStrike">
                  <a:solidFill>
                    <a:srgbClr val="000000"/>
                  </a:solidFill>
                  <a:latin typeface="Goudy Old Style"/>
                  <a:ea typeface="华文中宋"/>
                </a:rPr>
                <a:t>带铁圈的铁架台、漏斗、烧杯、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 Box 12"/>
            <p:cNvSpPr/>
            <p:nvPr/>
          </p:nvSpPr>
          <p:spPr>
            <a:xfrm>
              <a:off x="2484720" y="1989000"/>
              <a:ext cx="368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Goudy Old Style"/>
                  <a:ea typeface="华文中宋"/>
                </a:rPr>
                <a:t>滤纸、玻璃棒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Text Box 13"/>
          <p:cNvSpPr/>
          <p:nvPr/>
        </p:nvSpPr>
        <p:spPr>
          <a:xfrm>
            <a:off x="657360" y="2781360"/>
            <a:ext cx="5032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oudy Old Style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Goudy Old Style"/>
              </a:rPr>
              <a:t>玻璃棒的作用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4284720" y="2781360"/>
            <a:ext cx="163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oudy Old Style"/>
                <a:ea typeface="华文中宋"/>
              </a:rPr>
              <a:t>引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657360" y="3716280"/>
            <a:ext cx="61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oudy Old Style"/>
                <a:ea typeface="华文中宋"/>
              </a:rPr>
              <a:t>③</a:t>
            </a:r>
            <a:r>
              <a:rPr b="1" lang="zh-CN" sz="3600" spc="-1" strike="noStrike">
                <a:solidFill>
                  <a:srgbClr val="3333cc"/>
                </a:solidFill>
                <a:latin typeface="Goudy Old Style"/>
                <a:ea typeface="华文中宋"/>
              </a:rPr>
              <a:t>注意：</a:t>
            </a:r>
            <a:r>
              <a:rPr b="1" lang="zh-CN" sz="3600" spc="-1" strike="noStrike">
                <a:solidFill>
                  <a:srgbClr val="000000"/>
                </a:solidFill>
                <a:latin typeface="Goudy Old Style"/>
                <a:ea typeface="华文中宋"/>
              </a:rPr>
              <a:t>一贴、二低、三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720720" y="1268280"/>
            <a:ext cx="83883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贴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滤纸紧贴漏斗内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低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滤纸边缘低于漏斗边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滤液边缘低于滤纸边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三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靠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烧杯口紧靠玻璃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玻璃棒紧靠三层滤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漏斗尖嘴紧靠烧杯内壁。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84360" y="50004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过  滤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723960" y="476280"/>
            <a:ext cx="249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蒸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Group 5"/>
          <p:cNvGrpSpPr/>
          <p:nvPr/>
        </p:nvGrpSpPr>
        <p:grpSpPr>
          <a:xfrm>
            <a:off x="757080" y="1341360"/>
            <a:ext cx="8386920" cy="1220400"/>
            <a:chOff x="757080" y="1341360"/>
            <a:chExt cx="8386920" cy="1220400"/>
          </a:xfrm>
        </p:grpSpPr>
        <p:sp>
          <p:nvSpPr>
            <p:cNvPr id="120" name="Text Box 6"/>
            <p:cNvSpPr/>
            <p:nvPr/>
          </p:nvSpPr>
          <p:spPr>
            <a:xfrm>
              <a:off x="757080" y="1341360"/>
              <a:ext cx="838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Goudy Old Style"/>
                  <a:ea typeface="华文中宋"/>
                </a:rPr>
                <a:t>①</a:t>
              </a:r>
              <a:r>
                <a:rPr b="1" lang="zh-CN" sz="3600" spc="-1" strike="noStrike">
                  <a:solidFill>
                    <a:srgbClr val="0000ff"/>
                  </a:solidFill>
                  <a:latin typeface="Goudy Old Style"/>
                  <a:ea typeface="华文中宋"/>
                </a:rPr>
                <a:t>仪器：</a:t>
              </a:r>
              <a:r>
                <a:rPr b="1" lang="zh-CN" sz="3600" spc="-1" strike="noStrike">
                  <a:solidFill>
                    <a:srgbClr val="000000"/>
                  </a:solidFill>
                  <a:latin typeface="Goudy Old Style"/>
                  <a:ea typeface="华文中宋"/>
                </a:rPr>
                <a:t>带铁圈的铁架台、蒸发皿、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Text Box 7"/>
            <p:cNvSpPr/>
            <p:nvPr/>
          </p:nvSpPr>
          <p:spPr>
            <a:xfrm>
              <a:off x="4139640" y="1919160"/>
              <a:ext cx="38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Goudy Old Style"/>
                  <a:ea typeface="华文中宋"/>
                </a:rPr>
                <a:t>酒精灯、玻璃棒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Text Box 8"/>
          <p:cNvSpPr/>
          <p:nvPr/>
        </p:nvSpPr>
        <p:spPr>
          <a:xfrm>
            <a:off x="647640" y="2781360"/>
            <a:ext cx="781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中宋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华文中宋"/>
              </a:rPr>
              <a:t>玻璃棒的作用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3949560" y="2781360"/>
            <a:ext cx="45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oudy Old Style"/>
                <a:ea typeface="华文中宋"/>
              </a:rPr>
              <a:t>防止液体由于受热不均，造成液滴飞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Group 10"/>
          <p:cNvGrpSpPr/>
          <p:nvPr/>
        </p:nvGrpSpPr>
        <p:grpSpPr>
          <a:xfrm>
            <a:off x="576360" y="4292640"/>
            <a:ext cx="8567280" cy="1220400"/>
            <a:chOff x="576360" y="4292640"/>
            <a:chExt cx="8567280" cy="1220400"/>
          </a:xfrm>
        </p:grpSpPr>
        <p:sp>
          <p:nvSpPr>
            <p:cNvPr id="125" name="Text Box 11"/>
            <p:cNvSpPr/>
            <p:nvPr/>
          </p:nvSpPr>
          <p:spPr>
            <a:xfrm>
              <a:off x="576360" y="4292640"/>
              <a:ext cx="856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宋体"/>
                  <a:ea typeface="华文中宋"/>
                </a:rPr>
                <a:t>③</a:t>
              </a:r>
              <a:r>
                <a:rPr b="1" lang="zh-CN" sz="3600" spc="-1" strike="noStrike">
                  <a:solidFill>
                    <a:srgbClr val="0000ff"/>
                  </a:solidFill>
                  <a:latin typeface="Goudy Old Style"/>
                  <a:ea typeface="华文中宋"/>
                </a:rPr>
                <a:t>注意：</a:t>
              </a:r>
              <a:r>
                <a:rPr b="1" lang="zh-CN" sz="3600" spc="-1" strike="noStrike">
                  <a:solidFill>
                    <a:srgbClr val="000000"/>
                  </a:solidFill>
                  <a:latin typeface="Goudy Old Style"/>
                  <a:ea typeface="华文中宋"/>
                </a:rPr>
                <a:t>待蒸发皿中出现较多固体时，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 Box 12"/>
            <p:cNvSpPr/>
            <p:nvPr/>
          </p:nvSpPr>
          <p:spPr>
            <a:xfrm>
              <a:off x="2862000" y="487044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Goudy Old Style"/>
                  <a:ea typeface="华文中宋"/>
                </a:rPr>
                <a:t>停止加热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文本框 8199"/>
          <p:cNvSpPr/>
          <p:nvPr/>
        </p:nvSpPr>
        <p:spPr>
          <a:xfrm>
            <a:off x="2590920" y="8049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5A72-175F-409D-8EE5-1B3844464C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1"/>
          <p:cNvSpPr/>
          <p:nvPr/>
        </p:nvSpPr>
        <p:spPr>
          <a:xfrm>
            <a:off x="682560" y="484200"/>
            <a:ext cx="47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计算产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687240" y="1392120"/>
            <a:ext cx="74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oudy Old Style"/>
                <a:ea typeface="华文中宋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玻璃棒把固体食盐转移到纸上，称量计算产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739800" y="2852640"/>
            <a:ext cx="6064200" cy="642600"/>
          </a:xfrm>
          <a:prstGeom prst="rect">
            <a:avLst/>
          </a:prstGeom>
          <a:solidFill>
            <a:srgbClr val="b7dee8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中宋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玻璃棒的作用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4"/>
          <p:cNvSpPr/>
          <p:nvPr/>
        </p:nvSpPr>
        <p:spPr>
          <a:xfrm>
            <a:off x="4788000" y="285264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oudy Old Style"/>
                <a:ea typeface="华文中宋"/>
              </a:rPr>
              <a:t>转移固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7240" y="3852720"/>
          <a:ext cx="7988400" cy="1592280"/>
        </p:xfrm>
        <a:graphic>
          <a:graphicData uri="http://schemas.openxmlformats.org/drawingml/2006/table">
            <a:tbl>
              <a:tblPr/>
              <a:tblGrid>
                <a:gridCol w="2664000"/>
                <a:gridCol w="2662200"/>
                <a:gridCol w="266220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溶解粗盐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精盐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精盐产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2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37" name="TextBox 6"/>
          <p:cNvSpPr/>
          <p:nvPr/>
        </p:nvSpPr>
        <p:spPr>
          <a:xfrm>
            <a:off x="755640" y="473724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.75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3348000" y="473724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.4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6012000" y="473724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0.7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01:16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9:24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