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whoosh.wav" ContentType="audio/x-wav"/>
  <Override PartName="/ppt/media/image3.jpeg" ContentType="image/jpeg"/>
  <Override PartName="/ppt/media/image4.png" ContentType="image/png"/>
  <Override PartName="/ppt/media/image6.wmf" ContentType="image/x-wmf"/>
  <Override PartName="/ppt/media/driveby.wav" ContentType="audio/x-wav"/>
  <Override PartName="/ppt/media/image7.jpeg" ContentType="image/jpe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3C7D7-32AB-416F-8411-8F737A6CD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80FA6-56ED-4E9A-98B1-E36FACF0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536CA-1F8B-4A3E-A447-C22346C1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13027-E64E-4801-BCA8-7AB0FF89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2F930-4722-427F-81BE-F79C62CD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09320" y="152280"/>
            <a:ext cx="63248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1D7D1-4151-4FF9-8083-21172368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15985-B590-4473-A2B2-0723470D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83582-95BE-40D5-840F-A1F5BB87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3B712-8C74-49FF-8BD0-3C826DDD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E0D44-CECC-4F3D-A0CF-C7F9594A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3CAB1-6792-4CC8-B0A4-C6345E7C5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58D739-2EB1-4DE5-B929-72FEAFD74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0E4468-A0B1-47A3-A9F8-F2820A290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2FBB25-43D1-495E-B1B7-1179F694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2E80B0-6D50-4D34-82DC-FDD0B397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D30F7A-CFCB-4B5C-AD1D-352F0BD5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ED1867-0837-418C-AB02-25B8449D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209320" y="152280"/>
            <a:ext cx="63248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B2DD8F-EC7E-421B-9C53-E231B56D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A829A8-B8CD-4626-869B-2A07AA1E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DB411C-4D09-427D-A5B0-8361D18E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44003B-9A5B-4E63-BDF4-12B097B6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6DC797-9886-4C37-8903-97686C5A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FC135C-72BD-4819-AC8B-775DD0F72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7A69F0-8315-4FEA-93B6-B464C9CD6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09320" y="152280"/>
            <a:ext cx="63248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AE03-E7E2-43FF-A335-360B8F42519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191D-7BD7-47E1-9A21-4B95BFEC499B}" type="slidenum"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whoosh.wav"/><Relationship Id="rId4" Type="http://schemas.openxmlformats.org/officeDocument/2006/relationships/audio" Target="../media/driveby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6"/>
          <p:cNvSpPr/>
          <p:nvPr/>
        </p:nvSpPr>
        <p:spPr>
          <a:xfrm>
            <a:off x="1619280" y="2781360"/>
            <a:ext cx="629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曹刿论战课件</a:t>
            </a:r>
            <a:r>
              <a:rPr b="0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4876920" y="3664080"/>
            <a:ext cx="236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《左传》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33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333333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7"/>
          <p:cNvSpPr/>
          <p:nvPr/>
        </p:nvSpPr>
        <p:spPr>
          <a:xfrm>
            <a:off x="3074760" y="121932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9900"/>
                </a:solidFill>
                <a:latin typeface="华文新魏"/>
                <a:ea typeface="华文新魏"/>
              </a:rPr>
              <a:t>如何评价曹刿这一人物形象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380880" y="2362320"/>
            <a:ext cx="6324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333333"/>
                </a:solidFill>
                <a:latin typeface="华文新魏"/>
                <a:ea typeface="华文新魏"/>
              </a:rPr>
              <a:t>他是一个</a:t>
            </a:r>
            <a:r>
              <a:rPr b="1" lang="zh-CN" sz="4000" spc="-1" strike="noStrike" u="sng">
                <a:solidFill>
                  <a:srgbClr val="333333"/>
                </a:solidFill>
                <a:uFillTx/>
                <a:latin typeface="华文新魏"/>
                <a:ea typeface="华文新魏"/>
              </a:rPr>
              <a:t>深谋远虑的军事家</a:t>
            </a:r>
            <a:r>
              <a:rPr b="1" lang="zh-CN" sz="4000" spc="-1" strike="noStrike">
                <a:solidFill>
                  <a:srgbClr val="333333"/>
                </a:solidFill>
                <a:latin typeface="华文新魏"/>
                <a:ea typeface="华文新魏"/>
              </a:rPr>
              <a:t>，论战表现出他的</a:t>
            </a:r>
            <a:r>
              <a:rPr b="1" lang="zh-CN" sz="4000" spc="-1" strike="noStrike" u="sng">
                <a:solidFill>
                  <a:srgbClr val="333333"/>
                </a:solidFill>
                <a:uFillTx/>
                <a:latin typeface="华文新魏"/>
                <a:ea typeface="华文新魏"/>
              </a:rPr>
              <a:t>勇气</a:t>
            </a:r>
            <a:r>
              <a:rPr b="1" lang="zh-CN" sz="4000" spc="-1" strike="noStrike">
                <a:solidFill>
                  <a:srgbClr val="333333"/>
                </a:solidFill>
                <a:latin typeface="华文新魏"/>
                <a:ea typeface="华文新魏"/>
              </a:rPr>
              <a:t>，作战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“</a:t>
            </a:r>
            <a:r>
              <a:rPr b="1" lang="zh-CN" sz="4000" spc="-1" strike="noStrike">
                <a:solidFill>
                  <a:srgbClr val="333333"/>
                </a:solidFill>
                <a:latin typeface="华文新魏"/>
                <a:ea typeface="华文新魏"/>
              </a:rPr>
              <a:t>下视其辙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”“</a:t>
            </a:r>
            <a:r>
              <a:rPr b="1" lang="zh-CN" sz="4000" spc="-1" strike="noStrike">
                <a:solidFill>
                  <a:srgbClr val="333333"/>
                </a:solidFill>
                <a:latin typeface="华文新魏"/>
                <a:ea typeface="华文新魏"/>
              </a:rPr>
              <a:t>登轼而望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”</a:t>
            </a:r>
            <a:r>
              <a:rPr b="1" lang="zh-CN" sz="4000" spc="-1" strike="noStrike">
                <a:solidFill>
                  <a:srgbClr val="333333"/>
                </a:solidFill>
                <a:latin typeface="华文新魏"/>
                <a:ea typeface="华文新魏"/>
              </a:rPr>
              <a:t>，充分体现了他</a:t>
            </a:r>
            <a:r>
              <a:rPr b="1" lang="zh-CN" sz="4000" spc="-1" strike="noStrike" u="sng">
                <a:solidFill>
                  <a:srgbClr val="333333"/>
                </a:solidFill>
                <a:uFillTx/>
                <a:latin typeface="华文新魏"/>
                <a:ea typeface="华文新魏"/>
              </a:rPr>
              <a:t>审慎和丰富的军事经验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WordArt 9"/>
          <p:cNvSpPr txBox="1"/>
          <p:nvPr/>
        </p:nvSpPr>
        <p:spPr>
          <a:xfrm>
            <a:off x="6553080" y="914400"/>
            <a:ext cx="17528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？</a:t>
            </a:r>
            <a:endParaRPr b="0" lang="en-US" sz="4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094760" y="12384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Times New Roman"/>
              </a:rPr>
              <a:t>我眼中的鲁庄公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3468600" y="1523880"/>
            <a:ext cx="231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一、鲁庄公广开言路，使一介草民曹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刿得以参与论战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1959120" y="3505320"/>
            <a:ext cx="4669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二、鲁庄公面对曹刿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肉食者鄙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”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的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批评和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小惠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”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、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小信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”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的刺耳意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见，仍能虚怀若谷，唯才是用；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708560" y="2514600"/>
            <a:ext cx="542988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四、鲁庄公不被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齐人三鼓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”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势头吓懵头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，用人决心坚定，不收回成命，不打退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堂鼓，不干扰能人的作战部署；五赞鲁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庄公善于总结经验，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既克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”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之后能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问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其故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”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，向内行请教，学习如何掌握战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争的规律。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宋体"/>
              </a:rPr>
              <a:t>　　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477440" y="304920"/>
            <a:ext cx="5124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三、鲁庄公不高高在上，而是亲临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第一线深入实际，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战于长勺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”“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与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之乘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”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，甘当配角，让能人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掌旗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”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；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文本框 8198"/>
          <p:cNvSpPr/>
          <p:nvPr/>
        </p:nvSpPr>
        <p:spPr>
          <a:xfrm>
            <a:off x="1187280" y="213372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C:\Documents and Settings\Administrator\My Documents\倩倩\春望\da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7"/>
          <p:cNvSpPr/>
          <p:nvPr/>
        </p:nvSpPr>
        <p:spPr>
          <a:xfrm>
            <a:off x="1254240" y="372960"/>
            <a:ext cx="255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四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、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解析课文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1250640" y="1654200"/>
            <a:ext cx="454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“</a:t>
            </a:r>
            <a:r>
              <a:rPr b="0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曹刿请见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”</a:t>
            </a:r>
            <a:r>
              <a:rPr b="0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的原因是什么？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4159440" y="334980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肉食者鄙，未能远谋。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C:\Documents and Settings\Administrator\My Documents\倩倩\春望\da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3"/>
          <p:cNvSpPr/>
          <p:nvPr/>
        </p:nvSpPr>
        <p:spPr>
          <a:xfrm>
            <a:off x="0" y="6858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表现鲁庄公取信于民的句子是哪句？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244240" y="1981080"/>
            <a:ext cx="427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小大之狱，虽不能察，必以情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131120" y="3352680"/>
            <a:ext cx="428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“忠之属也”具体指什么？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2167920" y="5105520"/>
            <a:ext cx="427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小大之狱，虽不能察，必以情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:\Documents and Settings\Administrator\My Documents\倩倩\春望\未命名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/>
          <p:cNvSpPr/>
          <p:nvPr/>
        </p:nvSpPr>
        <p:spPr>
          <a:xfrm>
            <a:off x="0" y="60948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、曹刿分析取胜的原因有两条：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一条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是选择有利于进攻的时机，即文中的哪一句？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一条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是把握有利于追击的时机，又是哪一句</a:t>
            </a:r>
            <a:r>
              <a:rPr b="1" lang="zh-CN" sz="4000" spc="-1" strike="noStrike">
                <a:solidFill>
                  <a:srgbClr val="ff9900"/>
                </a:solidFill>
                <a:latin typeface="宋体"/>
              </a:rPr>
              <a:t>？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3976200" y="4419720"/>
            <a:ext cx="87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彼竭我盈。辙乱旗靡。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357560" y="3394080"/>
            <a:ext cx="44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1" name="Object 6" descr=""/>
          <p:cNvPicPr/>
          <p:nvPr/>
        </p:nvPicPr>
        <p:blipFill>
          <a:blip r:embed="rId2"/>
          <a:stretch/>
        </p:blipFill>
        <p:spPr>
          <a:xfrm>
            <a:off x="2743200" y="3338640"/>
            <a:ext cx="3657600" cy="18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283560" y="1371600"/>
            <a:ext cx="92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、本文的成语是什么？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4168080" y="2554200"/>
            <a:ext cx="118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一鼓作气，再而衰，三而竭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一鼓作气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41907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六、请试一试：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848720" cy="43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据斜体字相应的成语： 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齐人三</a:t>
            </a:r>
            <a:r>
              <a:rPr b="1" i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鼓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一鼓作气            望其旗</a:t>
            </a:r>
            <a:r>
              <a:rPr b="1" i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靡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所向披靡 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惧有</a:t>
            </a:r>
            <a:r>
              <a:rPr b="1" i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伏</a:t>
            </a:r>
            <a:r>
              <a:rPr b="0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焉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危机四伏           故</a:t>
            </a:r>
            <a:r>
              <a:rPr b="1" i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克</a:t>
            </a:r>
            <a:r>
              <a:rPr b="0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之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克敌制胜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 </a:t>
            </a:r>
            <a:r>
              <a:rPr b="0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攻无不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三而</a:t>
            </a:r>
            <a:r>
              <a:rPr b="1" i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竭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殚精竭虑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 </a:t>
            </a:r>
            <a:r>
              <a:rPr b="0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精疲力竭   观其</a:t>
            </a:r>
            <a:r>
              <a:rPr b="1" i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辙</a:t>
            </a:r>
            <a:r>
              <a:rPr b="0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南辕北辙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 </a:t>
            </a:r>
            <a:r>
              <a:rPr b="0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重蹈覆辙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6560" y="4652640"/>
            <a:ext cx="632484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33"/>
                </a:solidFill>
                <a:latin typeface="宋体"/>
                <a:ea typeface="宋体"/>
              </a:rPr>
              <a:t>总结全文</a:t>
            </a:r>
            <a:r>
              <a:rPr b="1" lang="zh-CN" sz="1800" spc="-1" strike="noStrike">
                <a:solidFill>
                  <a:srgbClr val="333333"/>
                </a:solidFill>
                <a:latin typeface="宋体"/>
                <a:ea typeface="宋体"/>
              </a:rPr>
              <a:t>　</a:t>
            </a:r>
            <a:br>
              <a:rPr sz="1800"/>
            </a:b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　   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文章思考问题，既赞颂长勺战争舞台上的主角曹刿，也肯定了历来被人们否定为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宋体"/>
              </a:rPr>
              <a:t>“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未能远谋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宋体"/>
              </a:rPr>
              <a:t>”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的鲁庄公。希望同学们提出学习提出自己的独特见解。 </a:t>
            </a:r>
            <a:br>
              <a:rPr sz="3200"/>
            </a:b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7F8F-1EA7-4B15-85F7-5B0D99615338}" type="slidenum">
              <a:rPr b="0" lang="zh-CN" sz="1400" spc="-1" strike="noStrike">
                <a:solidFill>
                  <a:srgbClr val="333333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63244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33"/>
                </a:solidFill>
                <a:latin typeface="Times New Roman"/>
              </a:rPr>
              <a:t>教学目标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21333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、理解文义，试背全文。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、能准确生动地讲解这个故事。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、能创造性地评价曹刿和齐桓公。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崖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2433600" y="321300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  <a:ea typeface="黑体"/>
              </a:rPr>
              <a:t>谢谢指导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5"/>
          <p:cNvSpPr/>
          <p:nvPr/>
        </p:nvSpPr>
        <p:spPr>
          <a:xfrm>
            <a:off x="304920" y="2133720"/>
            <a:ext cx="85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宋体"/>
              </a:rPr>
              <a:t>     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《左传》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是我国第一部叙事详细、完整的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编年体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史书。原名《左氏春秋》，又称《春秋左氏传》，相传为鲁国史官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左丘明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所著。具有很高的文学价值，对后世影响很大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685800" y="89856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Times New Roman"/>
                <a:ea typeface="华文新魏"/>
              </a:rPr>
              <a:t>一 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、</a:t>
            </a:r>
            <a:r>
              <a:rPr b="1" lang="zh-CN" sz="4800" spc="-1" strike="noStrike">
                <a:solidFill>
                  <a:srgbClr val="993300"/>
                </a:solidFill>
                <a:latin typeface="Times New Roman"/>
                <a:ea typeface="华文新魏"/>
              </a:rPr>
              <a:t>简介《左传》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995840" y="504720"/>
            <a:ext cx="4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9900"/>
                </a:solidFill>
                <a:latin typeface="隶书"/>
                <a:ea typeface="隶书"/>
              </a:rPr>
              <a:t>二、试译文章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299240" y="1752480"/>
            <a:ext cx="3470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、十年春，齐师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伐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我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、肉食者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鄙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、又何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间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焉？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、小惠未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牺牲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玉帛，弗敢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加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也，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必以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信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626080" y="175248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伐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：攻打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5457600" y="2362320"/>
            <a:ext cx="23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鄙</a:t>
            </a:r>
            <a:r>
              <a:rPr b="1" lang="zh-CN" sz="3200" spc="-1" strike="noStrike">
                <a:solidFill>
                  <a:srgbClr val="333333"/>
                </a:solidFill>
                <a:latin typeface="华文中宋"/>
                <a:ea typeface="华文中宋"/>
              </a:rPr>
              <a:t>：鄙陋，在文中指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华文中宋"/>
                <a:ea typeface="华文中宋"/>
              </a:rPr>
              <a:t>目光短浅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6194160" y="3429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间</a:t>
            </a:r>
            <a:r>
              <a:rPr b="1" lang="zh-CN" sz="3200" spc="-1" strike="noStrike">
                <a:solidFill>
                  <a:srgbClr val="333333"/>
                </a:solidFill>
                <a:latin typeface="华文中宋"/>
                <a:ea typeface="华文中宋"/>
              </a:rPr>
              <a:t>：参与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5626440" y="4038480"/>
            <a:ext cx="185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33"/>
                </a:solidFill>
                <a:uFillTx/>
                <a:latin typeface="宋体"/>
              </a:rPr>
              <a:t>    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通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遍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，遍及，普遍。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6884640" y="4924440"/>
            <a:ext cx="126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牺牲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：指猪、牛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羊等。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加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：虚报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信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：实情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811880" y="838080"/>
            <a:ext cx="20098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、小信未孚，神弗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福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也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、小大之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狱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虽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不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能察，必以情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、忠之属也。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可以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一战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9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、既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克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，公问其故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816520" y="78120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福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：赐福，保佑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140520" y="2000160"/>
            <a:ext cx="170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狱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：案件。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虽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：即使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5984280" y="3200400"/>
            <a:ext cx="199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可以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：可以凭借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6195600" y="4495680"/>
            <a:ext cx="12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克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：战胜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657000" y="1676520"/>
            <a:ext cx="2945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、一鼓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作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气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再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而衰，三而竭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11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、夫大国，难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测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也，惧有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伏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焉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6172560" y="1752480"/>
            <a:ext cx="116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作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：振作。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再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：第二次。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759640" y="2990880"/>
            <a:ext cx="170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测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：估计。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伏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：埋伏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5"/>
          <p:cNvSpPr/>
          <p:nvPr/>
        </p:nvSpPr>
        <p:spPr>
          <a:xfrm>
            <a:off x="5334120" y="2743200"/>
            <a:ext cx="380880" cy="1295280"/>
          </a:xfrm>
          <a:custGeom>
            <a:avLst/>
            <a:gdLst>
              <a:gd name="textAreaLeft" fmla="*/ 0 w 380880"/>
              <a:gd name="textAreaRight" fmla="*/ 137520 w 3808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5791320" y="30481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政治远见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1295280" y="106668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论战前准备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685800" y="2514600"/>
            <a:ext cx="4495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请见——肉食者鄙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何以战——取信于民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746280" y="96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1160640" y="317520"/>
            <a:ext cx="233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三</a:t>
            </a:r>
            <a:r>
              <a:rPr b="1" lang="zh-CN" sz="4000" spc="-1" strike="noStrike">
                <a:solidFill>
                  <a:srgbClr val="cc9900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分析人物形象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4"/>
          <p:cNvSpPr/>
          <p:nvPr/>
        </p:nvSpPr>
        <p:spPr>
          <a:xfrm>
            <a:off x="5334120" y="2819520"/>
            <a:ext cx="380880" cy="1295280"/>
          </a:xfrm>
          <a:custGeom>
            <a:avLst/>
            <a:gdLst>
              <a:gd name="textAreaLeft" fmla="*/ 0 w 380880"/>
              <a:gd name="textAreaRight" fmla="*/ 137520 w 3808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5791320" y="31240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军事才能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1295280" y="12193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从战指挥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1219320" y="2590920"/>
            <a:ext cx="40384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齐人三鼓——反击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下视探望——遂逐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AutoShape 4"/>
          <p:cNvSpPr/>
          <p:nvPr/>
        </p:nvSpPr>
        <p:spPr>
          <a:xfrm>
            <a:off x="5715000" y="2895480"/>
            <a:ext cx="380880" cy="1295640"/>
          </a:xfrm>
          <a:custGeom>
            <a:avLst/>
            <a:gdLst>
              <a:gd name="textAreaLeft" fmla="*/ 0 w 380880"/>
              <a:gd name="textAreaRight" fmla="*/ 137520 w 3808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6172200" y="31687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军事才能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457200" y="2646360"/>
            <a:ext cx="510552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彼竭我盈——敌疲我打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辙乱旗靡——敌退我追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762120" y="135576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论战胜原因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0T10:19:5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3:26Z</dcterms:modified>
  <cp:revision>6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