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projctor.wav" ContentType="audio/x-wav"/>
  <Override PartName="/ppt/media/image3.png" ContentType="image/png"/>
  <Override PartName="/ppt/media/image26.png" ContentType="image/png"/>
  <Override PartName="/ppt/media/image21.jpeg" ContentType="image/jpeg"/>
  <Override PartName="/ppt/media/image17.gif" ContentType="image/gif"/>
  <Override PartName="/ppt/media/image2.jpeg" ContentType="image/jpeg"/>
  <Override PartName="/ppt/media/image19.png" ContentType="image/png"/>
  <Override PartName="/ppt/media/image16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E9B-E2BC-407D-AFC0-6A14E64C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F54-B2FF-45E6-8A54-E226F8E6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24D-DE39-40F0-9EAF-EA2D45F8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30E-AA0F-42C0-A847-C70CC252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6C6-A992-47DA-BBD7-B3E3EF03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F5FB-366A-465F-B543-CDB81A80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986E-9207-42D9-A462-75A3F1B6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193B-5178-4A3B-B506-86E246C6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9B0F-50DF-4D8B-80EB-7F1B5A61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A8F2-D458-4A51-8FC0-36CA545A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66A4-EC61-4DA5-9DFD-00E4EB1E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280-39C3-43A0-98FD-D21CDC35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75AC-D153-4A32-ABBF-6589796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9A40-7E61-4D77-AC77-9F23B32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D332-FC8B-44A2-BA9F-232E7F14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0285-04D1-4C69-87DC-F130BF97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7F55-DBE9-429E-9395-F02FAA1C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F6A-874F-46D0-AE67-69F8A68F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72F-C8D2-43CE-910D-EFFEF067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856-A1CB-4A0A-944A-609FDEC1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D08-1C18-42D9-9D0A-8787DC96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EE4-12A5-4C22-A58A-456B9FA9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0A1-E3FD-47E0-B0DC-A7C266E8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3B6-F3EA-4A0D-AF39-F1BE1B43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D9C3-DE1C-4833-94EE-C050B5045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3F36-750B-41DE-87FE-FC4A177191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ews.shangdu.com/17/2005-01-14/20050114-723670-17.s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.baidu.com/i?ct=503316480&amp;z=800856600&amp;tn=baiduimagedetail&amp;word=&#27779;&#20262;.&#24052;&#33778;&#29305;" TargetMode="External"/><Relationship Id="rId4" Type="http://schemas.openxmlformats.org/officeDocument/2006/relationships/hyperlink" Target="259,5,&#24187;&#28783;&#29255; 5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ews.shangdu.com/17/2005-01-14/20050114-723670-17.shtm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1%EE%D5%F1%C4%FE%B2%A9&#703;&amp;in=30293&amp;cl=2&amp;lm=-1&amp;pn=5&amp;rn=1&amp;di=10828158075&amp;ln=2000&amp;fr=&amp;fmq=&amp;ic=&amp;s=&amp;se=&amp;sme=0&amp;tab=&amp;width=&amp;height=&amp;face=&amp;is=&amp;istype=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6224101&amp;tn=baiduimagedetail&amp;word=&#22823;&#21483;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.baidu.com/i?ct=503316480&amp;z=0&amp;tn=baiduimagedetail&amp;word=%C2%C3%D3%CE&amp;in=7&amp;cl=2&amp;cm=1&amp;sc=0&amp;lm=-1&amp;pn=6&amp;rn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.baidu.com/i?ct=503316480&amp;z=0&amp;tn=baiduimagedetail&amp;word=%CC%E5%D3%FD%B9&#1726;%FC&amp;in=14&amp;cl=2&amp;cm=1&amp;sc=0&amp;lm=-1&amp;pn=13&amp;rn=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igson.81088.net/v2ka.wml" TargetMode="External"/><Relationship Id="rId2" Type="http://schemas.openxmlformats.org/officeDocument/2006/relationships/image" Target="../media/image16.gif"/><Relationship Id="rId3" Type="http://schemas.openxmlformats.org/officeDocument/2006/relationships/hyperlink" Target="http://www.6270586.com/forum_view.asp?forum_id=21&amp;view_id=2303" TargetMode="External"/><Relationship Id="rId4" Type="http://schemas.openxmlformats.org/officeDocument/2006/relationships/image" Target="../media/image17.gif"/><Relationship Id="rId5" Type="http://schemas.openxmlformats.org/officeDocument/2006/relationships/hyperlink" Target="http://imgnews.baidu.com/i?ct=520093696&amp;z=0&amp;tn=baiduimagenewsdetail&amp;word=%D0%C4%C0%ED%D7%C9&#1135;&amp;in=5&amp;cl=3&amp;lm=-1&amp;pn=4&amp;rn=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803160" y="3352680"/>
            <a:ext cx="7620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00b0f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uFillTx/>
                <a:latin typeface="宋体"/>
              </a:rPr>
              <a:t>挫折面前也从容</a:t>
            </a:r>
            <a:r>
              <a:rPr b="1" lang="en-US" sz="40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00b0f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uFillTx/>
                <a:latin typeface="宋体"/>
              </a:rPr>
              <a:t>PPT</a:t>
            </a:r>
            <a:r>
              <a:rPr b="1" lang="zh-CN" sz="40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00b0f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uFillTx/>
                <a:latin typeface="宋体"/>
              </a:rPr>
              <a:t>课件免费下载</a:t>
            </a:r>
            <a:endParaRPr b="1" lang="en-US" sz="40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00b0f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幻灯片之家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901960" y="730080"/>
            <a:ext cx="42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华文彩云"/>
                <a:ea typeface="华文彩云"/>
              </a:rPr>
              <a:t>名人的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“</a:t>
            </a:r>
            <a:r>
              <a:rPr b="1" lang="zh-CN" sz="3600" spc="-1" strike="noStrike">
                <a:solidFill>
                  <a:srgbClr val="ff9900"/>
                </a:solidFill>
                <a:latin typeface="华文彩云"/>
                <a:ea typeface="华文彩云"/>
              </a:rPr>
              <a:t>挫折档案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2" name="Picture 3" descr="17_14_42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4000" y="1444680"/>
            <a:ext cx="4464000" cy="3889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2771640" y="3429000"/>
            <a:ext cx="2286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029200" y="3429000"/>
            <a:ext cx="1390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701800" y="5105520"/>
            <a:ext cx="5832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永不退缩的林肯总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7" name="Picture 8" descr="hb50"/>
          <p:cNvPicPr/>
          <p:nvPr/>
        </p:nvPicPr>
        <p:blipFill>
          <a:blip r:embed="rId5"/>
          <a:stretch/>
        </p:blipFill>
        <p:spPr>
          <a:xfrm>
            <a:off x="1692360" y="5877000"/>
            <a:ext cx="64008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685800"/>
            <a:ext cx="8229600" cy="58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林肯失业了，这显然使他很伤心，但他下定决心要当政治家，当州议员。糟糕的是，他 竞选失败了。在一年里遭受两次打击，这对他来说无疑是痛苦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着，林肯着手自己开办企业，可一年不到，这家企业又倒闭了。在以后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间，他不得不为 偿还企业倒闭时所欠的债务而到处奔波，历经磨难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后，林肯再一次决定参加竞选州议员，这次他成功了。他内心萌发了一丝希望。认为自己的生 活有了转机：“可能我可以成功了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他订婚了。但离结婚的日子还差几个月的时候，未婚妻不幸去世。这对他精神上的打击 实在太大了，他心力交瘁，数月卧床不起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得了精神衰弱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林肯觉得身体良好，于是决定竞选州议会议长，可他失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他又参加竞选美 国国会议员，但这次仍然没有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虽然一次次地尝试，但却是一次次地遭受失败：企业倒闭、情人去世，竞选败北。要是你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这一切，你会不会放弃？放弃这些对你来说是重要的事情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没有放弃，他也没有说：“要是失败会怎样？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他又一次参加竞选国会议员，他又 一次参加竞选国会议员，最后终于当选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年任期很快过去了，他决定要争取连任。他认为自己作为国会议员表现是出色的，相信选民会 继续选举他。但结果很遗憾，他落选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09480" y="9144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，林肯没有服输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他竞选参议员，但失败了；两年后他竞选美国副总统提名，结果 被对手击败；又过了两年，他再一次竞选参议员，还是失败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肯一直没有放弃自己的追求，他一直在做自己生活的主宰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他当选为美国总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914400" y="5638680"/>
            <a:ext cx="7772400" cy="144720"/>
            <a:chOff x="914400" y="5638680"/>
            <a:chExt cx="7772400" cy="144720"/>
          </a:xfrm>
        </p:grpSpPr>
        <p:sp>
          <p:nvSpPr>
            <p:cNvPr id="132" name="Line 2"/>
            <p:cNvSpPr/>
            <p:nvPr/>
          </p:nvSpPr>
          <p:spPr>
            <a:xfrm flipV="1">
              <a:off x="914400" y="5638680"/>
              <a:ext cx="7772400" cy="1447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 rot="10800000">
              <a:off x="914400" y="5638320"/>
              <a:ext cx="777240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4" name="Text Box 3"/>
          <p:cNvSpPr/>
          <p:nvPr/>
        </p:nvSpPr>
        <p:spPr>
          <a:xfrm>
            <a:off x="1045080" y="595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694520" y="595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440800" y="5943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845440" y="595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566160" y="595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574160" y="595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69800" y="587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374520" y="587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166520" y="587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760" y="3284640"/>
            <a:ext cx="667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商失败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1623600" y="238860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选众议员失败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846080" y="3645000"/>
            <a:ext cx="10335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恋人死去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2421000" y="3357720"/>
            <a:ext cx="10335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神崩溃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496680" y="246024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选州议长失败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504680" y="2035080"/>
            <a:ext cx="6069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争取国会提名失败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800320" y="238860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选参议员失败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376320" y="238860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选副总统失败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7168680" y="2388600"/>
            <a:ext cx="60696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选参议员失败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2" name="Picture 21" descr="17_14_42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0"/>
            <a:ext cx="28065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22"/>
          <p:cNvSpPr txBox="1"/>
          <p:nvPr/>
        </p:nvSpPr>
        <p:spPr>
          <a:xfrm>
            <a:off x="1066680" y="1447920"/>
            <a:ext cx="4191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 u="sng">
                <a:ln w="1260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uFillTx/>
                <a:latin typeface="宋体"/>
              </a:rPr>
              <a:t>林肯的挫折</a:t>
            </a:r>
            <a:endParaRPr b="0" lang="en-US" sz="1800" spc="1" strike="noStrike" u="sng">
              <a:ln w="12600">
                <a:solidFill>
                  <a:srgbClr val="000000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54" name="AutoShape 23"/>
          <p:cNvSpPr/>
          <p:nvPr/>
        </p:nvSpPr>
        <p:spPr>
          <a:xfrm>
            <a:off x="1143000" y="5638680"/>
            <a:ext cx="304920" cy="30492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AutoShape 24"/>
          <p:cNvSpPr/>
          <p:nvPr/>
        </p:nvSpPr>
        <p:spPr>
          <a:xfrm>
            <a:off x="1752480" y="5638680"/>
            <a:ext cx="304920" cy="30492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AutoShape 25"/>
          <p:cNvSpPr/>
          <p:nvPr/>
        </p:nvSpPr>
        <p:spPr>
          <a:xfrm>
            <a:off x="3657600" y="5562720"/>
            <a:ext cx="304920" cy="30456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AutoShape 26"/>
          <p:cNvSpPr/>
          <p:nvPr/>
        </p:nvSpPr>
        <p:spPr>
          <a:xfrm>
            <a:off x="2514600" y="5562720"/>
            <a:ext cx="304920" cy="30456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AutoShape 27"/>
          <p:cNvSpPr/>
          <p:nvPr/>
        </p:nvSpPr>
        <p:spPr>
          <a:xfrm>
            <a:off x="2971800" y="5562720"/>
            <a:ext cx="304920" cy="30456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AutoShape 28"/>
          <p:cNvSpPr/>
          <p:nvPr/>
        </p:nvSpPr>
        <p:spPr>
          <a:xfrm>
            <a:off x="4648320" y="5562720"/>
            <a:ext cx="304560" cy="30456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AutoShape 29"/>
          <p:cNvSpPr/>
          <p:nvPr/>
        </p:nvSpPr>
        <p:spPr>
          <a:xfrm>
            <a:off x="5943600" y="5486400"/>
            <a:ext cx="304920" cy="30492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AutoShape 30"/>
          <p:cNvSpPr/>
          <p:nvPr/>
        </p:nvSpPr>
        <p:spPr>
          <a:xfrm>
            <a:off x="6553080" y="5486400"/>
            <a:ext cx="304920" cy="30492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AutoShape 31"/>
          <p:cNvSpPr/>
          <p:nvPr/>
        </p:nvSpPr>
        <p:spPr>
          <a:xfrm>
            <a:off x="7315200" y="5486400"/>
            <a:ext cx="304920" cy="30492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7848720" y="5486400"/>
            <a:ext cx="304560" cy="304920"/>
          </a:xfrm>
          <a:prstGeom prst="sun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7852680" y="272628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担任美国总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7850880" y="586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6" name="Picture 36" descr="xhxz017"/>
          <p:cNvPicPr/>
          <p:nvPr/>
        </p:nvPicPr>
        <p:blipFill>
          <a:blip r:embed="rId3"/>
          <a:stretch/>
        </p:blipFill>
        <p:spPr>
          <a:xfrm>
            <a:off x="304920" y="6172200"/>
            <a:ext cx="60948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029200" y="638640"/>
            <a:ext cx="40384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肯的经历如此坎坷、曲折，但他为什么仍然走向了成功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066680" y="68472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艰难困苦，玉汝于成：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62120" y="246744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意志坚强，百折不挠 ；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914400" y="43261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在挫折中增长了才干和智慧。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990720" y="3519000"/>
            <a:ext cx="72388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智慧就是人们在战胜一次又一次挫折后获得的最宝贵的礼物。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33520" y="1881360"/>
            <a:ext cx="761976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挫折带给我们的馈赠是什么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842160" y="1981080"/>
            <a:ext cx="13111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6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19280" y="1700280"/>
            <a:ext cx="590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方正姚体"/>
              </a:rPr>
              <a:t>战胜挫折后的智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9640" y="3213000"/>
          <a:ext cx="8136000" cy="2881440"/>
        </p:xfrm>
        <a:graphic>
          <a:graphicData uri="http://schemas.openxmlformats.org/drawingml/2006/table">
            <a:tbl>
              <a:tblPr/>
              <a:tblGrid>
                <a:gridCol w="2565360"/>
                <a:gridCol w="5570640"/>
              </a:tblGrid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智慧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习智慧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它智慧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7"/>
          <p:cNvSpPr/>
          <p:nvPr/>
        </p:nvSpPr>
        <p:spPr>
          <a:xfrm>
            <a:off x="684360" y="40464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WordArt 18"/>
          <p:cNvSpPr txBox="1"/>
          <p:nvPr/>
        </p:nvSpPr>
        <p:spPr>
          <a:xfrm>
            <a:off x="4114800" y="914400"/>
            <a:ext cx="4191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 u="sng">
                <a:ln w="12600">
                  <a:solidFill>
                    <a:srgbClr val="ff66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说一说</a:t>
            </a:r>
            <a:endParaRPr b="0" lang="en-US" sz="1800" spc="1" strike="noStrike" u="sng">
              <a:ln w="12600">
                <a:solidFill>
                  <a:srgbClr val="ff6600"/>
                </a:solidFill>
                <a:round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762120"/>
            <a:ext cx="7391520" cy="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276720" y="1676520"/>
            <a:ext cx="563868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忠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入国家女排当陪练，与中国女排一起在低谷中卧薪尝胆十七载，每逢大赛对于陈忠和来说，既要承受比赛压力，更要接受命运无情的摆布，少年丧兄，中年丧妻，父亲病故，母亲瘫痪，这一切对他打击太大了，但仍没动摇他深埋在心中的信念，那就是率领低谷中的中国女排东山再起，登上世界之巅峰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2" name="Picture 9" descr="图片1"/>
          <p:cNvPicPr/>
          <p:nvPr/>
        </p:nvPicPr>
        <p:blipFill>
          <a:blip r:embed="rId1"/>
          <a:stretch/>
        </p:blipFill>
        <p:spPr>
          <a:xfrm>
            <a:off x="152280" y="304920"/>
            <a:ext cx="3022560" cy="3429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228600" y="5181480"/>
            <a:ext cx="2895480" cy="94716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他为什么没有被不幸所击败呢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886200" y="5029200"/>
            <a:ext cx="5638680" cy="2286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树立正确的人生目标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3886200" y="304920"/>
            <a:ext cx="411480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应对挫折的有效方法</a:t>
            </a:r>
            <a:endParaRPr b="1" lang="en-US" sz="18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304920" y="3886200"/>
            <a:ext cx="2743200" cy="52056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陈忠和曾遇到了怎样的压力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181480" y="3429000"/>
            <a:ext cx="3505320" cy="360"/>
            <a:chOff x="5181480" y="3429000"/>
            <a:chExt cx="3505320" cy="360"/>
          </a:xfrm>
        </p:grpSpPr>
        <p:sp>
          <p:nvSpPr>
            <p:cNvPr id="188" name="Line 14"/>
            <p:cNvSpPr/>
            <p:nvPr/>
          </p:nvSpPr>
          <p:spPr>
            <a:xfrm>
              <a:off x="5181480" y="34290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5181480" y="3429000"/>
              <a:ext cx="3505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505320" y="3886200"/>
            <a:ext cx="5105160" cy="360"/>
            <a:chOff x="3505320" y="3886200"/>
            <a:chExt cx="5105160" cy="360"/>
          </a:xfrm>
        </p:grpSpPr>
        <p:sp>
          <p:nvSpPr>
            <p:cNvPr id="191" name="Line 15"/>
            <p:cNvSpPr/>
            <p:nvPr/>
          </p:nvSpPr>
          <p:spPr>
            <a:xfrm>
              <a:off x="3505320" y="3886200"/>
              <a:ext cx="51051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505320" y="3886200"/>
              <a:ext cx="510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505320" y="4343400"/>
            <a:ext cx="4572000" cy="360"/>
            <a:chOff x="3505320" y="4343400"/>
            <a:chExt cx="4572000" cy="360"/>
          </a:xfrm>
        </p:grpSpPr>
        <p:sp>
          <p:nvSpPr>
            <p:cNvPr id="194" name="Line 16"/>
            <p:cNvSpPr/>
            <p:nvPr/>
          </p:nvSpPr>
          <p:spPr>
            <a:xfrm>
              <a:off x="3505320" y="4343400"/>
              <a:ext cx="4572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3505320" y="4343400"/>
              <a:ext cx="457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72400" y="4800600"/>
            <a:ext cx="914400" cy="360"/>
            <a:chOff x="7772400" y="4800600"/>
            <a:chExt cx="914400" cy="360"/>
          </a:xfrm>
        </p:grpSpPr>
        <p:sp>
          <p:nvSpPr>
            <p:cNvPr id="197" name="Line 17"/>
            <p:cNvSpPr/>
            <p:nvPr/>
          </p:nvSpPr>
          <p:spPr>
            <a:xfrm>
              <a:off x="7772400" y="48006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7772400" y="48006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429000" y="5181480"/>
            <a:ext cx="3200400" cy="360"/>
            <a:chOff x="3429000" y="5181480"/>
            <a:chExt cx="3200400" cy="360"/>
          </a:xfrm>
        </p:grpSpPr>
        <p:sp>
          <p:nvSpPr>
            <p:cNvPr id="200" name="Line 18"/>
            <p:cNvSpPr/>
            <p:nvPr/>
          </p:nvSpPr>
          <p:spPr>
            <a:xfrm>
              <a:off x="3429000" y="518148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3429000" y="5181480"/>
              <a:ext cx="3200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609480" y="4419720"/>
            <a:ext cx="3581640" cy="52056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杨振宁博士是如何战胜挫折的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3" name="Picture 6" descr="u=1532456574,635502952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114800" cy="27925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572000" y="1905120"/>
            <a:ext cx="4114800" cy="18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著名物理学家，诺贝尔奖的获得者杨振宁博士曾在美国攻读实验物理，可是由于他动手能力很差，经常在实验中发生事故，以至有人说笑话道：“哪里听见爆炸声，哪里就有杨振宁。”后来他调整方向，转到理论物理，结果获得科学界最高奖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-838080" y="4648320"/>
            <a:ext cx="6095880" cy="28954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确地认识挫折，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采取恰当的解决方法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WordArt 13"/>
          <p:cNvSpPr txBox="1"/>
          <p:nvPr/>
        </p:nvSpPr>
        <p:spPr>
          <a:xfrm>
            <a:off x="4724280" y="762120"/>
            <a:ext cx="411480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应对挫折的有效方法</a:t>
            </a:r>
            <a:endParaRPr b="1" lang="en-US" sz="18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609480" y="3276720"/>
            <a:ext cx="3505320" cy="52056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杨振宁博士曾遇到了怎样的压力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0800" y="3657600"/>
            <a:ext cx="1828800" cy="360"/>
            <a:chOff x="6400800" y="3657600"/>
            <a:chExt cx="1828800" cy="360"/>
          </a:xfrm>
        </p:grpSpPr>
        <p:sp>
          <p:nvSpPr>
            <p:cNvPr id="209" name="Line 15"/>
            <p:cNvSpPr/>
            <p:nvPr/>
          </p:nvSpPr>
          <p:spPr>
            <a:xfrm>
              <a:off x="6400800" y="3657600"/>
              <a:ext cx="18288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6400800" y="36576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724280" y="4114800"/>
            <a:ext cx="3810240" cy="360"/>
            <a:chOff x="4724280" y="4114800"/>
            <a:chExt cx="3810240" cy="360"/>
          </a:xfrm>
        </p:grpSpPr>
        <p:sp>
          <p:nvSpPr>
            <p:cNvPr id="212" name="Line 16"/>
            <p:cNvSpPr/>
            <p:nvPr/>
          </p:nvSpPr>
          <p:spPr>
            <a:xfrm>
              <a:off x="4724280" y="4114800"/>
              <a:ext cx="38102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4724280" y="4114800"/>
              <a:ext cx="3810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648320" y="4495680"/>
            <a:ext cx="533160" cy="360"/>
            <a:chOff x="4648320" y="4495680"/>
            <a:chExt cx="533160" cy="360"/>
          </a:xfrm>
        </p:grpSpPr>
        <p:sp>
          <p:nvSpPr>
            <p:cNvPr id="215" name="Line 17"/>
            <p:cNvSpPr/>
            <p:nvPr/>
          </p:nvSpPr>
          <p:spPr>
            <a:xfrm>
              <a:off x="4648320" y="449568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4648320" y="44956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8001000" y="5410080"/>
            <a:ext cx="457200" cy="360"/>
            <a:chOff x="8001000" y="5410080"/>
            <a:chExt cx="457200" cy="360"/>
          </a:xfrm>
        </p:grpSpPr>
        <p:sp>
          <p:nvSpPr>
            <p:cNvPr id="218" name="Line 18"/>
            <p:cNvSpPr/>
            <p:nvPr/>
          </p:nvSpPr>
          <p:spPr>
            <a:xfrm>
              <a:off x="8001000" y="54100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8001000" y="54100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00600" y="5791320"/>
            <a:ext cx="3505320" cy="360"/>
            <a:chOff x="4800600" y="5791320"/>
            <a:chExt cx="3505320" cy="360"/>
          </a:xfrm>
        </p:grpSpPr>
        <p:sp>
          <p:nvSpPr>
            <p:cNvPr id="221" name="Line 19"/>
            <p:cNvSpPr/>
            <p:nvPr/>
          </p:nvSpPr>
          <p:spPr>
            <a:xfrm>
              <a:off x="4800600" y="579132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4800600" y="5791320"/>
              <a:ext cx="3505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3" name="文本框 8199"/>
          <p:cNvSpPr/>
          <p:nvPr/>
        </p:nvSpPr>
        <p:spPr>
          <a:xfrm>
            <a:off x="4419720" y="4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457200" y="1523880"/>
            <a:ext cx="8497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黑体"/>
              </a:rPr>
              <a:t>隐形翅膀——无臂钢琴师刘伟的故事</a:t>
            </a:r>
            <a:endParaRPr b="1" lang="en-US" sz="1800" spc="1" strike="noStrike" u="sng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黑体"/>
              <a:ea typeface="黑体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33520" y="3048120"/>
            <a:ext cx="5790960" cy="99036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伟面对挫折采取了什么心态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心态给了我们什么启示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6095880" y="2590920"/>
            <a:ext cx="3048120" cy="17524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容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609480" y="4343400"/>
            <a:ext cx="800100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在挫折面前采取挑战的姿态，不但能战胜挫折，而且还能增长知识、发展能力，成为一个成功的人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巴斯德1"/>
          <p:cNvPicPr/>
          <p:nvPr/>
        </p:nvPicPr>
        <p:blipFill>
          <a:blip r:embed="rId1"/>
          <a:stretch/>
        </p:blipFill>
        <p:spPr>
          <a:xfrm>
            <a:off x="533520" y="1752480"/>
            <a:ext cx="353196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4343400" y="3581280"/>
            <a:ext cx="4038480" cy="6426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为什么会获得最后的成功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343400" y="1523880"/>
            <a:ext cx="4038480" cy="11912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关链接：巴斯德曾遇到了怎样的压力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2133720" y="4495680"/>
            <a:ext cx="7543800" cy="3200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激发探索创新的热情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WordArt 11"/>
          <p:cNvSpPr txBox="1"/>
          <p:nvPr/>
        </p:nvSpPr>
        <p:spPr>
          <a:xfrm>
            <a:off x="4267080" y="457200"/>
            <a:ext cx="411480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应对挫折的有效方法</a:t>
            </a:r>
            <a:endParaRPr b="1" lang="en-US" sz="18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3886200" y="83808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应对挫折的有效方法</a:t>
            </a:r>
            <a:endParaRPr b="1" lang="en-US" sz="18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990720" y="2362320"/>
            <a:ext cx="5486400" cy="58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疏导的方法有哪几种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-228600" y="3505320"/>
            <a:ext cx="3352680" cy="25146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我疏导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266720" y="360360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、合理宣泄法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07720" y="44416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、移情法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266720" y="528012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、目标升华法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2666880" y="342900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Picture 12" descr="u=3862290345,2199128355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2640" y="3200400"/>
            <a:ext cx="1611360" cy="1414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6"/>
          <p:cNvGrpSpPr/>
          <p:nvPr/>
        </p:nvGrpSpPr>
        <p:grpSpPr>
          <a:xfrm>
            <a:off x="6248520" y="3809880"/>
            <a:ext cx="2133000" cy="2644920"/>
            <a:chOff x="6248520" y="3809880"/>
            <a:chExt cx="2133000" cy="2644920"/>
          </a:xfrm>
        </p:grpSpPr>
        <p:pic>
          <p:nvPicPr>
            <p:cNvPr id="238" name="Picture 17" descr="u=42294589,2615162225&amp;gp=4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48520" y="3809880"/>
              <a:ext cx="161424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18"/>
            <p:cNvSpPr/>
            <p:nvPr/>
          </p:nvSpPr>
          <p:spPr>
            <a:xfrm>
              <a:off x="6419880" y="5813640"/>
              <a:ext cx="1961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7391520" y="4876920"/>
            <a:ext cx="2074680" cy="2766600"/>
            <a:chOff x="7391520" y="4876920"/>
            <a:chExt cx="2074680" cy="2766600"/>
          </a:xfrm>
        </p:grpSpPr>
        <p:pic>
          <p:nvPicPr>
            <p:cNvPr id="241" name="Picture 20" descr="u=3459951471,3582262595&amp;gp=12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530120" y="4876920"/>
              <a:ext cx="1696320" cy="19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1"/>
            <p:cNvSpPr/>
            <p:nvPr/>
          </p:nvSpPr>
          <p:spPr>
            <a:xfrm>
              <a:off x="7391520" y="7003080"/>
              <a:ext cx="2074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533520" y="2133720"/>
            <a:ext cx="8153280" cy="10688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69-7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镜头，说说上面三个主人公分别用什么方式自我疏导情绪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520" y="3352680"/>
            <a:ext cx="8076960" cy="5814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其他自我疏导的方法吗？请你说一说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5" name="Picture 6" descr="0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3886200"/>
            <a:ext cx="2376360" cy="17064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0"/>
          <p:cNvGrpSpPr/>
          <p:nvPr/>
        </p:nvGrpSpPr>
        <p:grpSpPr>
          <a:xfrm>
            <a:off x="5867280" y="4038480"/>
            <a:ext cx="2286000" cy="2604960"/>
            <a:chOff x="5867280" y="4038480"/>
            <a:chExt cx="2286000" cy="2604960"/>
          </a:xfrm>
        </p:grpSpPr>
        <p:pic>
          <p:nvPicPr>
            <p:cNvPr id="248" name="Picture 11" descr="it?u=3738549700,714105999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867280" y="4038480"/>
              <a:ext cx="2147040" cy="19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2"/>
            <p:cNvSpPr/>
            <p:nvPr/>
          </p:nvSpPr>
          <p:spPr>
            <a:xfrm>
              <a:off x="5867280" y="6064200"/>
              <a:ext cx="2286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50" name="WordArt 13"/>
          <p:cNvSpPr txBox="1"/>
          <p:nvPr/>
        </p:nvSpPr>
        <p:spPr>
          <a:xfrm>
            <a:off x="4267080" y="990720"/>
            <a:ext cx="411480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应对挫折的有效方法</a:t>
            </a:r>
            <a:endParaRPr b="1" lang="en-US" sz="18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219320" y="5715000"/>
            <a:ext cx="7617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哭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3200400" y="5638680"/>
            <a:ext cx="20574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大声叫喊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5791320" y="6019920"/>
            <a:ext cx="32004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向他人求助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838080" y="2298600"/>
            <a:ext cx="73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要树立正确的人生目标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407880" y="38862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应激发探索创新的热情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407880" y="4648320"/>
            <a:ext cx="49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会自我疏导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07880" y="3078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要正确的认识挫折，采取恰当的解决办法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685800" y="1371600"/>
            <a:ext cx="762012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应对挫折有哪些方法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6994440" y="1447920"/>
            <a:ext cx="1311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67-69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1763640" y="60948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cap="sq"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隶书"/>
              </a:rPr>
              <a:t>一封求助信</a:t>
            </a:r>
            <a:endParaRPr b="1" lang="en-US" sz="1800" spc="1" strike="noStrike" u="sng">
              <a:ln cap="sq"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63560" y="1981080"/>
            <a:ext cx="785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张老师：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您好！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我是一名刚刚入学的中学生，近来我一直被烦恼困扰着，整日闷闷不乐，情绪很糟糕。妈妈和爸爸一年前离婚了，我被安排在奶奶家生活。我整日要看别人的脸色行事，不敢随便说笑。在学校，我不愿与同学过多交谈，不希望别人了解我的一切。前天，老师通知我请家长到校，因为我几次考试都不及格。我不知道该怎样面对发生的事情，有时我甚至想告别眼前的一切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张老师，您会帮我吗？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　　　　　　　　　　　　　　　　　小烦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WordArt 2" descr=""/>
          <p:cNvPicPr/>
          <p:nvPr/>
        </p:nvPicPr>
        <p:blipFill>
          <a:blip r:embed="rId1"/>
          <a:stretch/>
        </p:blipFill>
        <p:spPr>
          <a:xfrm>
            <a:off x="1825560" y="1547640"/>
            <a:ext cx="544536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学们：“一把钥匙开一把锁”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找到战胜挫折的办法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514240"/>
            <a:ext cx="822960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我们要有面对挫折的正确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我们要有战胜挫折的有效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挫折不可怕，“艰难困苦，玉汝于成”挫折孕育着成功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3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0" y="1828800"/>
            <a:ext cx="533520" cy="308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挫折面前也从容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990720"/>
            <a:ext cx="16002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艰难困苦，玉汝于成”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733920" y="297180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990720" y="4038480"/>
            <a:ext cx="167616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寻找应对挫折的有效方法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2666880" y="6094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048120" y="609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挫折对人生的影响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248520" y="914400"/>
            <a:ext cx="457200" cy="360"/>
            <a:chOff x="6248520" y="914400"/>
            <a:chExt cx="457200" cy="360"/>
          </a:xfrm>
        </p:grpSpPr>
        <p:sp>
          <p:nvSpPr>
            <p:cNvPr id="273" name="Line 11"/>
            <p:cNvSpPr/>
            <p:nvPr/>
          </p:nvSpPr>
          <p:spPr>
            <a:xfrm>
              <a:off x="6248520" y="914400"/>
              <a:ext cx="457200" cy="0"/>
            </a:xfrm>
            <a:prstGeom prst="line">
              <a:avLst/>
            </a:prstGeom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248520" y="9144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75" name="Text Box 12"/>
          <p:cNvSpPr/>
          <p:nvPr/>
        </p:nvSpPr>
        <p:spPr>
          <a:xfrm>
            <a:off x="6934320" y="609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重性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048120" y="21477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受挫折带给我们的馈赠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7" name="AutoShape 17"/>
          <p:cNvSpPr/>
          <p:nvPr/>
        </p:nvSpPr>
        <p:spPr>
          <a:xfrm>
            <a:off x="533520" y="1066680"/>
            <a:ext cx="457200" cy="4419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4840 h 4419720"/>
              <a:gd name="textAreaBottom" fmla="*/ 430488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8" name="AutoShape 18"/>
          <p:cNvSpPr/>
          <p:nvPr/>
        </p:nvSpPr>
        <p:spPr>
          <a:xfrm>
            <a:off x="2743200" y="342900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200 h 2362320"/>
              <a:gd name="textAreaBottom" fmla="*/ 230112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3048120" y="3200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树立正确的人生目标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0" name="Rectangle 20"/>
          <p:cNvSpPr/>
          <p:nvPr/>
        </p:nvSpPr>
        <p:spPr>
          <a:xfrm>
            <a:off x="3048120" y="3733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确地认识挫折，采取恰当的解决方法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Rectangle 21"/>
          <p:cNvSpPr/>
          <p:nvPr/>
        </p:nvSpPr>
        <p:spPr>
          <a:xfrm>
            <a:off x="4711680" y="48006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激发探索创新的热情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Rectangle 22"/>
          <p:cNvSpPr/>
          <p:nvPr/>
        </p:nvSpPr>
        <p:spPr>
          <a:xfrm>
            <a:off x="3783600" y="54100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我疏导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6224760" y="533412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合理宣泄法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5918400" y="5867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移情法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6224760" y="640080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目标升华法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AutoShape 28"/>
          <p:cNvSpPr/>
          <p:nvPr/>
        </p:nvSpPr>
        <p:spPr>
          <a:xfrm>
            <a:off x="5105520" y="541008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WordArt 3"/>
          <p:cNvSpPr txBox="1"/>
          <p:nvPr/>
        </p:nvSpPr>
        <p:spPr>
          <a:xfrm rot="5400000">
            <a:off x="-419400" y="2400120"/>
            <a:ext cx="34290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ln w="0">
                  <a:noFill/>
                </a:ln>
                <a:solidFill>
                  <a:srgbClr val="cc0000"/>
                </a:solidFill>
                <a:uFillTx/>
                <a:latin typeface="宋体"/>
              </a:rPr>
              <a:t>心灵解码</a:t>
            </a:r>
            <a:endParaRPr b="0" lang="en-US" sz="1800" spc="-1" strike="noStrike" u="sng">
              <a:ln w="0">
                <a:noFill/>
              </a:ln>
              <a:solidFill>
                <a:srgbClr val="cc0000"/>
              </a:solidFill>
              <a:uFillTx/>
              <a:latin typeface="宋体"/>
              <a:ea typeface="宋体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2743200" y="15238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00406c"/>
                </a:solidFill>
                <a:latin typeface="Tahoma"/>
                <a:ea typeface="方正姚体"/>
              </a:rPr>
              <a:t>挫折并不可怕，可怕的是没有战胜挫折的勇气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文本框 8199"/>
          <p:cNvSpPr/>
          <p:nvPr/>
        </p:nvSpPr>
        <p:spPr>
          <a:xfrm>
            <a:off x="132732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40640" cy="3124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301680" y="4165560"/>
            <a:ext cx="8540640" cy="2540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"/>
          <p:cNvPicPr/>
          <p:nvPr/>
        </p:nvPicPr>
        <p:blipFill>
          <a:blip r:embed="rId3"/>
          <a:stretch/>
        </p:blipFill>
        <p:spPr>
          <a:xfrm>
            <a:off x="152280" y="0"/>
            <a:ext cx="6334200" cy="11286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7778520" y="2624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777384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57720"/>
            <a:ext cx="80647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八大山人 V2007"/>
              </a:rPr>
              <a:t>大家猜一猜他在这个学校可能会有哪些表现？三年后又会有什么结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理想中的学校是东外，可惜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之差，我没有被东外录取，只好进入一所不怎么喜欢的学校。”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0098511725905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00985111350256"/>
          <p:cNvPicPr/>
          <p:nvPr/>
        </p:nvPicPr>
        <p:blipFill>
          <a:blip r:embed="rId2"/>
          <a:stretch/>
        </p:blipFill>
        <p:spPr>
          <a:xfrm>
            <a:off x="0" y="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540640" cy="236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854064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7761240" y="1138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7778520" y="297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822240" y="5051520"/>
            <a:ext cx="397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66E-A6B4-4786-85F8-CC07655CE2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01680" y="914400"/>
            <a:ext cx="8540640" cy="46483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7926120" y="144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11280" y="119700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11480" cy="452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局一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正进入新的学校后很沮丧，对待学习不认真，不愿和同学交往，成绩不好也不坏。最后勉强考上了一所高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4343400" cy="472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局二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李正开始有点灰心丧气，后来他认识到了自己的现状，于是分析自己的不足，发奋学习，始终把东外作为目标。三年后，他终于以优异的成绩考上了东外的高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530280" y="4130640"/>
            <a:ext cx="4940280" cy="5814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有利于人们磨练意志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增长才干和智慧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7162920" y="2668680"/>
            <a:ext cx="228600" cy="2438280"/>
          </a:xfrm>
          <a:custGeom>
            <a:avLst/>
            <a:gdLst>
              <a:gd name="textAreaLeft" fmla="*/ 0 w 228600"/>
              <a:gd name="textAreaRight" fmla="*/ 8244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73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696080" y="2211480"/>
            <a:ext cx="577800" cy="3506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挫折具有两重性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09480" y="2790000"/>
            <a:ext cx="48769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使人们前进的步伐受阻，从而产生忧愁、焦虑、不安、恐惧等消极心理。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486400" y="3125880"/>
            <a:ext cx="609480" cy="360"/>
            <a:chOff x="5486400" y="3125880"/>
            <a:chExt cx="609480" cy="360"/>
          </a:xfrm>
        </p:grpSpPr>
        <p:sp>
          <p:nvSpPr>
            <p:cNvPr id="101" name="Line 14"/>
            <p:cNvSpPr/>
            <p:nvPr/>
          </p:nvSpPr>
          <p:spPr>
            <a:xfrm>
              <a:off x="5486400" y="3125880"/>
              <a:ext cx="609480" cy="0"/>
            </a:xfrm>
            <a:prstGeom prst="line">
              <a:avLst/>
            </a:prstGeom>
            <a:ln w="7632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5486400" y="31258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486400" y="4497480"/>
            <a:ext cx="609480" cy="360"/>
            <a:chOff x="5486400" y="4497480"/>
            <a:chExt cx="609480" cy="360"/>
          </a:xfrm>
        </p:grpSpPr>
        <p:sp>
          <p:nvSpPr>
            <p:cNvPr id="104" name="Line 15"/>
            <p:cNvSpPr/>
            <p:nvPr/>
          </p:nvSpPr>
          <p:spPr>
            <a:xfrm>
              <a:off x="5486400" y="4497480"/>
              <a:ext cx="609480" cy="0"/>
            </a:xfrm>
            <a:prstGeom prst="line">
              <a:avLst/>
            </a:prstGeom>
            <a:ln w="7632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5486400" y="44974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6" name="Text Box 16"/>
          <p:cNvSpPr/>
          <p:nvPr/>
        </p:nvSpPr>
        <p:spPr>
          <a:xfrm>
            <a:off x="6248520" y="2516040"/>
            <a:ext cx="68580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消极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248520" y="3963960"/>
            <a:ext cx="68580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积极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533520" y="1449360"/>
            <a:ext cx="761976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挫折对人的影响有哪些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765840" y="1449360"/>
            <a:ext cx="1311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1042920"/>
            <a:ext cx="8076960" cy="388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Comic Sans MS"/>
                <a:ea typeface="黑体"/>
              </a:rPr>
              <a:t>挫折是坏事：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张三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期中考试成绩退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名，从此一蹶不振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;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李四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因上课讲话受到老师批评，想不开而服毒    自杀；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王五－竞选班长失败，从此自暴自弃经常违反纪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朱九－是奶奶一手带大的，她对奶奶的感情特别深，奶奶的去世她无法接受。她不上学，不出家门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仿宋"/>
              </a:rPr>
              <a:t>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109440"/>
            <a:ext cx="5029200" cy="132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挫折是好事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被人誉为乐圣的德国作曲家贝多芬，一生中屡遭磨难，尤其是耳聋对他的打击最为惨重。这打击曾使他痛苦得关在房子里不愿与人见面。但是，不甘就此退出乐坛的强烈信念，使他重新振作起来，并且发出了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“要扼住命运的咽喉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坚强吼声。并创作出气势雄伟，举世闻名的命运交响曲。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5105520" y="0"/>
            <a:ext cx="4038480" cy="6553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 rot="5400000">
            <a:off x="6132240" y="27036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“</a:t>
            </a:r>
            <a:r>
              <a:rPr b="1" lang="zh-CN" sz="1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我要扼住命运的喉咙！”</a:t>
            </a:r>
            <a:endParaRPr b="1" lang="en-US" sz="18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cc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941840" y="1853640"/>
            <a:ext cx="4414320" cy="6426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我们应该怎样正确面对挫折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38080" y="3649320"/>
            <a:ext cx="739152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积极的态度对待挫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要坚强地迎接挫折的挑战，将挫折变成成功路上的垫脚石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艰难困苦，玉汝于成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5"/>
          <p:cNvSpPr/>
          <p:nvPr/>
        </p:nvSpPr>
        <p:spPr>
          <a:xfrm>
            <a:off x="2590920" y="35053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3520" y="1652760"/>
            <a:ext cx="761976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如何理解“艰难困苦，玉汝于成”？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160" y="3123720"/>
            <a:ext cx="8080200" cy="312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般来说，艰难的环境会令人意志消沉，丧失斗志。然而，在具有坚强意志、积极进取的人面前，艰难的环境却可以使他们抖擞精神，发奋努力。困难被克服了，就会有出色的成就。这就是所谓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艰难困苦，玉汝于成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42160" y="1676520"/>
            <a:ext cx="13111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8:13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03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