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583-699E-444E-AA84-3A133F74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B77-4CBE-4386-A2FA-4F4F4689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446-FB9B-4228-82E9-66CBB1D0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B43-904C-4322-BC0C-6A772D7F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06DD-CFBB-4D82-81D7-67714C5D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96D1-5510-40A9-93A3-04F01002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0F9E-3E05-4466-A617-D168BC67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53DF-E808-4604-837B-9524D63F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0190-E43A-4A4D-B3FA-4CB4CCA9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2B17-6849-4F64-9565-EE26CF05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A00D-A391-4FD7-AEC6-3FF6520D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733-44B0-4441-A050-51BABC88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79B6-531D-4F58-8F58-3C6BBF91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1A9F-DD10-49B2-B907-A093E08F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9CC1-52A6-4E51-9625-B10AD3FE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28F0-221C-4939-8340-C74277B9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BBF6-2E76-40C4-BD97-C971A61F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06C-FA68-4FE4-A18C-BD697B6C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D8B-34FE-4991-A3D9-29A474D0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54E-8507-4188-9CA5-5B672BFF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5F5-9B82-42EE-AA1C-7A200ADC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A8B-BB2A-46C2-BF92-3C365759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A96-6131-4D1A-BC61-76AEA360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31A-D78C-48F9-A3FB-F924B7E8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14E5-38A5-4752-B9E9-652C0088D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963E-ED3D-4624-AA02-0CB1C21E90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"/>
          <p:cNvSpPr/>
          <p:nvPr/>
        </p:nvSpPr>
        <p:spPr>
          <a:xfrm>
            <a:off x="1116000" y="4255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9"/>
          <p:cNvPicPr/>
          <p:nvPr/>
        </p:nvPicPr>
        <p:blipFill>
          <a:blip r:embed="rId1"/>
          <a:srcRect l="2750" t="3387" r="2750" b="71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13"/>
          <p:cNvSpPr txBox="1"/>
          <p:nvPr/>
        </p:nvSpPr>
        <p:spPr>
          <a:xfrm>
            <a:off x="5484960" y="4508640"/>
            <a:ext cx="1150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布丰</a:t>
            </a:r>
            <a:endParaRPr b="1" lang="en-US" sz="4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1503360" y="1081080"/>
            <a:ext cx="705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华文行楷"/>
                <a:ea typeface="华文行楷"/>
              </a:rPr>
              <a:t>初中语文马课件</a:t>
            </a:r>
            <a:r>
              <a:rPr b="0" lang="en-US" sz="4000" spc="-1" strike="noStrike">
                <a:solidFill>
                  <a:srgbClr val="d60093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d60093"/>
                </a:solidFill>
                <a:latin typeface="华文行楷"/>
                <a:ea typeface="华文行楷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10"/>
          <p:cNvPicPr/>
          <p:nvPr/>
        </p:nvPicPr>
        <p:blipFill>
          <a:blip r:embed="rId1">
            <a:lum bright="70000" contrast="-70000"/>
          </a:blip>
          <a:srcRect l="8592" t="9517" r="22439" b="9517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2129400" y="1916280"/>
            <a:ext cx="5200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让我们从这篇文章中去感悟生命的可贵，让我们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视生命，关爱动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这是一篇介绍马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科学小品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也是一篇优美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散文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者用文学的笔调，描绘了马只两种生存状态下的不同形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字里行间，流露出作者对“在无垠的草原上”“自由自在地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活着的马匹”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由衷赞美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对“被人养育”“经过训练”“供人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使”的马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深刻同情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学习本文作比较的方法，课外仔细观察动物的活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描述一个自己养过或见过的小动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06"/>
          <p:cNvPicPr/>
          <p:nvPr/>
        </p:nvPicPr>
        <p:blipFill>
          <a:blip r:embed="rId2"/>
          <a:srcRect l="350" t="67605" r="82128" b="26109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684360" y="549360"/>
            <a:ext cx="360360" cy="3585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927800" y="476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迷你简启体"/>
              </a:rPr>
              <a:t>交流感受，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10"/>
          <p:cNvPicPr/>
          <p:nvPr/>
        </p:nvPicPr>
        <p:blipFill>
          <a:blip r:embed="rId1">
            <a:lum bright="70000" contrast="-70000"/>
          </a:blip>
          <a:srcRect l="8592" t="9517" r="22439" b="9517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938320" y="2073240"/>
            <a:ext cx="351828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迷你简启体"/>
                <a:ea typeface="迷你简启体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迷你简启体"/>
                <a:ea typeface="迷你简启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迷你简启体"/>
                <a:ea typeface="迷你简启体"/>
              </a:rPr>
              <a:t>、整体感知课文内容，理解人工驯良的马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迷你简启体"/>
                <a:ea typeface="迷你简启体"/>
              </a:rPr>
              <a:t>天然野生的马的特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迷你简启体"/>
                <a:ea typeface="迷你简启体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迷你简启体"/>
                <a:ea typeface="迷你简启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迷你简启体"/>
                <a:ea typeface="迷你简启体"/>
              </a:rPr>
              <a:t>、学习对比的写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迷你简启体"/>
                <a:ea typeface="迷你简启体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迷你简启体"/>
                <a:ea typeface="迷你简启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迷你简启体"/>
                <a:ea typeface="迷你简启体"/>
              </a:rPr>
              <a:t>、理解课文一些含义深刻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06"/>
          <p:cNvPicPr/>
          <p:nvPr/>
        </p:nvPicPr>
        <p:blipFill>
          <a:blip r:embed="rId2"/>
          <a:srcRect l="350" t="67605" r="82128" b="26109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684360" y="549360"/>
            <a:ext cx="360360" cy="3585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62936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迷你简启体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10"/>
          <p:cNvPicPr/>
          <p:nvPr/>
        </p:nvPicPr>
        <p:blipFill>
          <a:blip r:embed="rId1">
            <a:lum bright="70000" contrast="-70000"/>
          </a:blip>
          <a:srcRect l="8592" t="9517" r="22439" b="9517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2283480" y="2071800"/>
            <a:ext cx="43214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觑      鬣     窥伺        剽悍    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疆场       驯良         勇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迎合  枉然       阔绰         观瞻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妍丽       庇荫           疮痍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犷野        畸形      慷慨以赴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颚骨       相得益彰          有过之无不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犀牛     鬃      妒忌         遒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6"/>
          <p:cNvPicPr/>
          <p:nvPr/>
        </p:nvPicPr>
        <p:blipFill>
          <a:blip r:embed="rId2"/>
          <a:srcRect l="350" t="67605" r="82128" b="26109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684360" y="549360"/>
            <a:ext cx="360360" cy="3585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337480" y="4762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迷你简启体"/>
              </a:rPr>
              <a:t>读一读，写一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460520" y="2063880"/>
            <a:ext cx="68468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qù         liè           kuī  sì           piāo   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jiāng           xù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ǎng             chuò              z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yán              bì   yìn              chuāng   y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uǎng              jī                     kāng  kǎ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è                          zh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ī        zōng           dù  jì               qi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10"/>
          <p:cNvPicPr/>
          <p:nvPr/>
        </p:nvPicPr>
        <p:blipFill>
          <a:blip r:embed="rId1">
            <a:lum bright="70000" contrast="-70000"/>
          </a:blip>
          <a:srcRect l="8592" t="9517" r="22439" b="9517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2221560" y="1844640"/>
            <a:ext cx="5087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今天我们要认识的法国博物学家、作家布封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进化思想的先躯者，从小受教会教育，爱好自然科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他善于借用文学笔调，用形象的描写手法来对自然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物进行说明。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就很好地体现了这一风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马是人类忠诚而高贵的朋友。当你看到一匹拉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车的马喘息着默默地走过的时候，你是否会想到在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漠的草原纵情奔腾的成群的野马，它们的生存状态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同，外形、性格也迥然不同，你注意到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课文是一篇介绍马的科学小品，也是一篇优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的散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06"/>
          <p:cNvPicPr/>
          <p:nvPr/>
        </p:nvPicPr>
        <p:blipFill>
          <a:blip r:embed="rId2"/>
          <a:srcRect l="350" t="67605" r="82128" b="26109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684360" y="549360"/>
            <a:ext cx="360360" cy="3585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55808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迷你简启体"/>
              </a:rPr>
              <a:t>作者和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10"/>
          <p:cNvPicPr/>
          <p:nvPr/>
        </p:nvPicPr>
        <p:blipFill>
          <a:blip r:embed="rId1">
            <a:lum bright="70000" contrast="-70000"/>
          </a:blip>
          <a:srcRect l="8592" t="9517" r="22439" b="9517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2050200" y="1773360"/>
            <a:ext cx="512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跳读课文，从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描写的角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本文称得上是优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散文的原因。要求找出描绘马的四字雅词；描绘马的佳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表现马高贵美丽的句子；表现马忠诚善良的句子；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马勇敢无畏的句子；表现马生活自由的句子；表现马团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友好的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06"/>
          <p:cNvPicPr/>
          <p:nvPr/>
        </p:nvPicPr>
        <p:blipFill>
          <a:blip r:embed="rId2"/>
          <a:srcRect l="350" t="67605" r="82128" b="26109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684360" y="549360"/>
            <a:ext cx="360360" cy="3585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019240" y="476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迷你简启体"/>
              </a:rPr>
              <a:t>朗读课文，体验文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756240" y="3789360"/>
            <a:ext cx="13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如：慷慨以赴、兴奋鼓舞、精神抖擞、耀武扬威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豪迈剽悍、相得益彰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79812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954440" y="522936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布封对马的描绘是用形象的语言来画像，因而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生动具体，饶有兴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10"/>
          <p:cNvPicPr/>
          <p:nvPr/>
        </p:nvPicPr>
        <p:blipFill>
          <a:blip r:embed="rId1">
            <a:lum bright="70000" contrast="-70000"/>
          </a:blip>
          <a:srcRect l="8592" t="9517" r="22439" b="9517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1875960" y="1413000"/>
            <a:ext cx="549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品读课文，从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情感的角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本文称得上是优美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原因。问题探究：本文既写了人工驯养的马，又写了天然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的马。反复阅读课文，说说这两种生存状态中的马各有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特性，你更欣赏哪种马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06"/>
          <p:cNvPicPr/>
          <p:nvPr/>
        </p:nvPicPr>
        <p:blipFill>
          <a:blip r:embed="rId2"/>
          <a:srcRect l="350" t="67605" r="82128" b="26109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611280" y="476280"/>
            <a:ext cx="360360" cy="35892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76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迷你简启体"/>
              </a:rPr>
              <a:t>朗读课文，体验文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908000" y="5516640"/>
            <a:ext cx="53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作者的笔触满怀情感，既有对“在无垠的草原上”“自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自在地生活着的马匹”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由衷赞美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又流露出对“被人养育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经过训练”“供人驱使”的马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深刻同情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726480" y="5157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787760" y="2924280"/>
            <a:ext cx="564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人工驯养的马：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勇毅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与主人同生死，共荣辱；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驯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服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主人的操纵，满足主人的愿望，无保留地贡献自己，甚至是生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天然野生的马：有大自然富予的美质，即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充沛的精力和高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的精神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天性绝不凶猛，只是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豪迈而犷野，热爱和平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；他们群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行动，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团结和睦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；相互之间没有“妒忌”，从不为一己之私争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它们的身体是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大自然的杰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10"/>
          <p:cNvPicPr/>
          <p:nvPr/>
        </p:nvPicPr>
        <p:blipFill>
          <a:blip r:embed="rId1">
            <a:lum bright="70000" contrast="-70000"/>
          </a:blip>
          <a:srcRect l="8592" t="9517" r="22439" b="9517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684360" y="1773360"/>
            <a:ext cx="8459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背读课文，从句式的角度说明本文称得上是优美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散文的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求背诵最喜欢的三句话，并仿写其中的一句。如“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人分担着疆场的劳苦，同享着战斗的光荣”“它们行走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奔驰着，它们腾跃着，既不受拘束，又没有节制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42480" y="429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06"/>
          <p:cNvPicPr/>
          <p:nvPr/>
        </p:nvPicPr>
        <p:blipFill>
          <a:blip r:embed="rId2"/>
          <a:srcRect l="350" t="67605" r="82128" b="26109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684360" y="549360"/>
            <a:ext cx="360360" cy="3585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019240" y="476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迷你简启体"/>
              </a:rPr>
              <a:t>朗读课文，体验文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018680" y="4797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文章句式优美，长短相间，很有节奏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8200"/>
          <p:cNvSpPr/>
          <p:nvPr/>
        </p:nvSpPr>
        <p:spPr>
          <a:xfrm>
            <a:off x="2050920" y="1557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10"/>
          <p:cNvPicPr/>
          <p:nvPr/>
        </p:nvPicPr>
        <p:blipFill>
          <a:blip r:embed="rId1">
            <a:lum bright="70000" contrast="-70000"/>
          </a:blip>
          <a:srcRect l="8592" t="9517" r="22439" b="9517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3733920" y="12682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文章在描述马的外在特征时，用了其他七种动物作比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样写有什么好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6"/>
          <p:cNvPicPr/>
          <p:nvPr/>
        </p:nvPicPr>
        <p:blipFill>
          <a:blip r:embed="rId2"/>
          <a:srcRect l="350" t="67605" r="82128" b="26109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539640" y="404640"/>
            <a:ext cx="360360" cy="35892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947600" y="333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迷你简启体"/>
              </a:rPr>
              <a:t>深入探究，体验反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779480" y="2060640"/>
            <a:ext cx="54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比较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突出的描写马的身体是大自然的杰作，盛赞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高贵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姿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179280" y="285264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马是人类忠诚而高贵的朋友，但是人是不是马的朋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如何理解“它的教育以丧失自由而开始，以接受束缚而告终”这句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24000" y="400536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首先，“教育”一词是拟人化用法，指的是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人类对马的驯养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其次，“以丧失自由而开始”指马一出生就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受到人的照料，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喂养，而不是自由自在地自己去觅食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；“以接受束缚而告终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包含两层含义：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指马被套上缰绳，披上鞍辔，戴上衔铁，钉上蹄铁；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指马从思想上接受服从的观念，服从成为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天性。文章用这一句话概括了人类对马所做的一切，表达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作者对马的深刻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同情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同时也寄托了作者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政治理想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7ABB-6F94-4707-AA3E-2A88F855FD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3:08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20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