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AFC-F23B-461D-903C-E99BA23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6D6-49B0-43A5-AAF8-D06F2555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8A3-6DFF-49CA-9800-6A6BF992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EDA-E6C5-49AA-B204-B13F14B7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A15A-410A-4F25-8804-70B063E0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1BE9-E4F0-4AB2-9131-E6E5708D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AF1D-5D24-4B9D-9C3A-D7755F9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8A9D-F46F-4B2B-860B-EA2E06EC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9F0-973E-4BB5-AEF1-8DC2DB9F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E7CE-7B9C-44E2-B13B-7DBE6731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8EB1-6BD9-4D42-9F79-D6646F2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B1F-8488-4541-BC3C-E281FA6B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E70E-9676-4A80-BA1A-2174EF0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DF2-7CF2-44C3-99B4-BACE6FE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66C7-0777-4430-8B2C-F46FCF9C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72A1-A8E8-4861-BEFE-CFB25491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DCF-1EDC-4B64-AA9C-20BC8867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FF83-6288-4F20-89A3-63F00856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2E06-69F0-41F4-9445-4D7F81F2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FE6E-66D2-4B6D-BF3A-C70175E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6BE6-169D-4749-8F0C-FE23FF5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ED24-412E-4315-872D-7AB59CAE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8CF-3477-4387-AF2D-EE0A96AE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8282-0EC1-4476-A47F-42FD976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542E-AD16-40C7-ACBC-AA8025B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1ED7-15B1-404B-96D2-3897D1F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7603-632D-4A3F-8558-54CF70A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819A-1789-44D2-AD7C-8688150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D768-A3B8-403C-BB11-5824C62A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7229-A9E3-426D-AE6C-1AD294B7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C622-3367-4063-BB9F-DC4D7533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F834-9F7F-45E1-B100-E305E46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FBDA-0464-4950-A829-8CB3C4E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14C-E262-4F8F-9788-51E95A12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19D1-62CB-4739-AC2C-CE2D754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577D-8FD3-42CB-B8DD-0DFAB3C2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0200-33D7-4C4E-BC29-F8BAE1AD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41BF-6B75-4A83-855F-ED4FAB1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54A2-3179-4B3E-AD64-81942B8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24B7-B4C1-4BA0-9277-057607B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01C1-D125-4454-8F4C-35426895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C041-BE1F-45EF-8EA5-32AE7644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B693-0BD1-4EB4-9F56-8174215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305-29C0-4F07-85F8-6C624DE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FD3-A16F-489E-9A4B-0CAA3EF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DE0-F1EF-46B1-9251-6D01131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2BB-8372-44B5-BC79-8306F46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399-9809-48BD-A720-88228D1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E:\制作工作\2014\1\PPT模板\样例\2 初中物理\模板1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2D7-72BA-4176-9D71-F3A93D69026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1BB5-4424-4B1A-ACD5-E9A354AA20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CAD-ACA0-43E0-936D-A3CF618273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675-4EEA-4033-B0FA-6D338541F3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ECB-9020-4756-BEA2-A79254833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E:\制作工作\2014\1\PPT模板\样例\2 初中物理\模板1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制作工作\2014\1\PPT模板\样例\2 初中物理\模板1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制作工作\2014\1\PPT模板\样例\2 初中物理\模板1-1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9F9-7741-46A4-8A81-30880662DF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8967-8AAB-4051-86FE-9441FB541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9040" y="1166400"/>
            <a:ext cx="7364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二十一章　信息的传递</a:t>
            </a:r>
            <a:br>
              <a:rPr sz="32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电磁波的海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6155"/>
          <p:cNvSpPr/>
          <p:nvPr/>
        </p:nvSpPr>
        <p:spPr>
          <a:xfrm>
            <a:off x="115920" y="621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755640" y="1197000"/>
            <a:ext cx="30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光是一种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31640" y="3608280"/>
            <a:ext cx="65008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光速即为电磁波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31640" y="4365720"/>
            <a:ext cx="6929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空光速：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8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/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图片1"/>
          <p:cNvPicPr/>
          <p:nvPr/>
        </p:nvPicPr>
        <p:blipFill>
          <a:blip r:embed="rId1"/>
          <a:stretch/>
        </p:blipFill>
        <p:spPr>
          <a:xfrm>
            <a:off x="611280" y="2133720"/>
            <a:ext cx="8175600" cy="955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31640" y="1267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雷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工作依靠电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http://www.xjedu.gov.cn/webpub/articleimgs/2012_12/87451/20121227110414732.jpg"/>
          <p:cNvPicPr/>
          <p:nvPr/>
        </p:nvPicPr>
        <p:blipFill>
          <a:blip r:embed="rId1"/>
          <a:stretch/>
        </p:blipFill>
        <p:spPr>
          <a:xfrm>
            <a:off x="5364000" y="2349360"/>
            <a:ext cx="3024360" cy="2438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DILC5)[WCFYN2BAI3@}G4SK"/>
          <p:cNvPicPr/>
          <p:nvPr/>
        </p:nvPicPr>
        <p:blipFill>
          <a:blip r:embed="rId2"/>
          <a:stretch/>
        </p:blipFill>
        <p:spPr>
          <a:xfrm>
            <a:off x="1187280" y="1916280"/>
            <a:ext cx="3302280" cy="388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8199"/>
          <p:cNvSpPr/>
          <p:nvPr/>
        </p:nvSpPr>
        <p:spPr>
          <a:xfrm>
            <a:off x="826920" y="170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31640" y="112392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微波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31640" y="1628640"/>
            <a:ext cx="7499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和内部同时加热（水分子共振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将电磁波的能量转化为食物的内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006"/>
          <p:cNvPicPr/>
          <p:nvPr/>
        </p:nvPicPr>
        <p:blipFill>
          <a:blip r:embed="rId1"/>
          <a:stretch/>
        </p:blipFill>
        <p:spPr>
          <a:xfrm>
            <a:off x="236520" y="3608280"/>
            <a:ext cx="3875040" cy="220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29040" cy="29667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3672000" y="2997360"/>
            <a:ext cx="1044360" cy="431640"/>
          </a:xfrm>
          <a:prstGeom prst="wedgeRectCallout">
            <a:avLst>
              <a:gd name="adj1" fmla="val 138148"/>
              <a:gd name="adj2" fmla="val 143013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风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048360" y="2852640"/>
            <a:ext cx="1044720" cy="432000"/>
          </a:xfrm>
          <a:prstGeom prst="wedgeRectCallout">
            <a:avLst>
              <a:gd name="adj1" fmla="val 7296"/>
              <a:gd name="adj2" fmla="val 225365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波导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7343640" y="5842080"/>
            <a:ext cx="1260720" cy="431640"/>
          </a:xfrm>
          <a:prstGeom prst="wedgeRectCallout">
            <a:avLst>
              <a:gd name="adj1" fmla="val -93703"/>
              <a:gd name="adj2" fmla="val -19081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控制面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5435640" y="5950080"/>
            <a:ext cx="1260360" cy="431640"/>
          </a:xfrm>
          <a:prstGeom prst="wedgeRectCallout">
            <a:avLst>
              <a:gd name="adj1" fmla="val -83500"/>
              <a:gd name="adj2" fmla="val -168750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屏蔽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3311640" y="5950080"/>
            <a:ext cx="649080" cy="431640"/>
          </a:xfrm>
          <a:prstGeom prst="wedgeRectCallout">
            <a:avLst>
              <a:gd name="adj1" fmla="val 150490"/>
              <a:gd name="adj2" fmla="val -84189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7667640" y="3033720"/>
            <a:ext cx="1044720" cy="431640"/>
          </a:xfrm>
          <a:prstGeom prst="wedgeRectCallout">
            <a:avLst>
              <a:gd name="adj1" fmla="val -113069"/>
              <a:gd name="adj2" fmla="val 232722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磁控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5"/>
          <p:cNvSpPr/>
          <p:nvPr/>
        </p:nvSpPr>
        <p:spPr>
          <a:xfrm>
            <a:off x="826920" y="134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广播和电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2987640" y="1341360"/>
            <a:ext cx="46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磁波能够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MCj03439610000[1]"/>
          <p:cNvPicPr/>
          <p:nvPr/>
        </p:nvPicPr>
        <p:blipFill>
          <a:blip r:embed="rId1"/>
          <a:stretch/>
        </p:blipFill>
        <p:spPr>
          <a:xfrm rot="20696400">
            <a:off x="1197000" y="3186000"/>
            <a:ext cx="3457440" cy="1386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MCj04169840000[1]"/>
          <p:cNvPicPr/>
          <p:nvPr/>
        </p:nvPicPr>
        <p:blipFill>
          <a:blip r:embed="rId2"/>
          <a:stretch/>
        </p:blipFill>
        <p:spPr>
          <a:xfrm>
            <a:off x="5076720" y="1916280"/>
            <a:ext cx="3063960" cy="394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B8C1-36DE-496E-B9C0-0C95E5EC5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7"/>
          <p:cNvSpPr/>
          <p:nvPr/>
        </p:nvSpPr>
        <p:spPr>
          <a:xfrm>
            <a:off x="463680" y="1768320"/>
            <a:ext cx="7908840" cy="59148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线中电流的迅速变化会在空间激起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468360" y="2924280"/>
            <a:ext cx="791064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既可以在介质中传播也可以在真空中传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468360" y="4076640"/>
            <a:ext cx="7956360" cy="1049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在真空中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2.997 924 58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/s ≈3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m/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多伦多电视塔"/>
          <p:cNvPicPr/>
          <p:nvPr/>
        </p:nvPicPr>
        <p:blipFill>
          <a:blip r:embed="rId1"/>
          <a:stretch/>
        </p:blipFill>
        <p:spPr>
          <a:xfrm>
            <a:off x="1486080" y="1214280"/>
            <a:ext cx="1430280" cy="1897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电视台通过电磁波，将精彩的电视节目展现给我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电视机1"/>
          <p:cNvPicPr/>
          <p:nvPr/>
        </p:nvPicPr>
        <p:blipFill>
          <a:blip r:embed="rId2"/>
          <a:stretch/>
        </p:blipFill>
        <p:spPr>
          <a:xfrm>
            <a:off x="900000" y="3189240"/>
            <a:ext cx="2816280" cy="1968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手机2"/>
          <p:cNvPicPr/>
          <p:nvPr/>
        </p:nvPicPr>
        <p:blipFill>
          <a:blip r:embed="rId3"/>
          <a:stretch/>
        </p:blipFill>
        <p:spPr>
          <a:xfrm>
            <a:off x="6804000" y="1197000"/>
            <a:ext cx="1835280" cy="2001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"/>
          <p:cNvSpPr/>
          <p:nvPr/>
        </p:nvSpPr>
        <p:spPr>
          <a:xfrm>
            <a:off x="5000760" y="507204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移动通信设备极大地方便了我们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无线上网"/>
          <p:cNvPicPr/>
          <p:nvPr/>
        </p:nvPicPr>
        <p:blipFill>
          <a:blip r:embed="rId4"/>
          <a:stretch/>
        </p:blipFill>
        <p:spPr>
          <a:xfrm>
            <a:off x="5724360" y="3384720"/>
            <a:ext cx="2095560" cy="14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http://p11.jtimg.com/bizinfo/20137/2013-7-16/11/2013716115840585.jpg"/>
          <p:cNvPicPr/>
          <p:nvPr/>
        </p:nvPicPr>
        <p:blipFill>
          <a:blip r:embed="rId5"/>
          <a:stretch/>
        </p:blipFill>
        <p:spPr>
          <a:xfrm>
            <a:off x="5219640" y="1268280"/>
            <a:ext cx="946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雷达站"/>
          <p:cNvPicPr/>
          <p:nvPr/>
        </p:nvPicPr>
        <p:blipFill>
          <a:blip r:embed="rId1"/>
          <a:stretch/>
        </p:blipFill>
        <p:spPr>
          <a:xfrm>
            <a:off x="5003640" y="1143000"/>
            <a:ext cx="34261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雷达扫描图"/>
          <p:cNvPicPr/>
          <p:nvPr/>
        </p:nvPicPr>
        <p:blipFill>
          <a:blip r:embed="rId2"/>
          <a:stretch/>
        </p:blipFill>
        <p:spPr>
          <a:xfrm>
            <a:off x="5076720" y="3714840"/>
            <a:ext cx="3353040" cy="2376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500040" y="4995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雷达设备在军事、气象等方面有广泛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pic.5ijunshi.com:96/img1/images/201112/02/1322786987_64833400.jpg"/>
          <p:cNvPicPr/>
          <p:nvPr/>
        </p:nvPicPr>
        <p:blipFill>
          <a:blip r:embed="rId3"/>
          <a:stretch/>
        </p:blipFill>
        <p:spPr>
          <a:xfrm>
            <a:off x="500040" y="1285920"/>
            <a:ext cx="4143240" cy="3321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42920" y="1866960"/>
            <a:ext cx="3071880" cy="27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714240" y="4933800"/>
            <a:ext cx="378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调节台灯亮度旋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716360" y="5391720"/>
            <a:ext cx="3672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导线时断时续接触电池的一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835280" y="5934240"/>
            <a:ext cx="615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收音机：发出“喀喀”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E:\教科研、论文资料\人教版教学参考编制\21图\21图\21-2-2.jpg"/>
          <p:cNvPicPr/>
          <p:nvPr/>
        </p:nvPicPr>
        <p:blipFill>
          <a:blip r:embed="rId2"/>
          <a:stretch/>
        </p:blipFill>
        <p:spPr>
          <a:xfrm>
            <a:off x="4932360" y="1927080"/>
            <a:ext cx="295920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431640" y="125424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一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8199"/>
          <p:cNvSpPr/>
          <p:nvPr/>
        </p:nvSpPr>
        <p:spPr>
          <a:xfrm>
            <a:off x="2563920" y="1346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5"/>
          <p:cNvSpPr/>
          <p:nvPr/>
        </p:nvSpPr>
        <p:spPr>
          <a:xfrm>
            <a:off x="2195640" y="5229360"/>
            <a:ext cx="6192720" cy="57672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迅速变化的电流能在周围产生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503280" y="5230800"/>
            <a:ext cx="147636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 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电磁波产生.mp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37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99"/>
          <p:cNvSpPr/>
          <p:nvPr/>
        </p:nvSpPr>
        <p:spPr>
          <a:xfrm>
            <a:off x="431640" y="12682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音的传播需要固体、液体、气体等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433440" y="1916280"/>
            <a:ext cx="71978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磁波的传播需要介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99"/>
          <p:cNvSpPr/>
          <p:nvPr/>
        </p:nvSpPr>
        <p:spPr>
          <a:xfrm>
            <a:off x="468360" y="3213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  <a:ea typeface="宋体"/>
              </a:rPr>
              <a:t>　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一个移动电话放入真空罩中，拨打这个手机的号码，手机有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258920" y="5157720"/>
            <a:ext cx="439272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电磁波的传播不需要介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31640" y="2529000"/>
            <a:ext cx="202428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  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68360" y="4365720"/>
            <a:ext cx="2023920" cy="520560"/>
          </a:xfrm>
          <a:prstGeom prst="rect">
            <a:avLst/>
          </a:prstGeom>
          <a:gradFill rotWithShape="0">
            <a:gsLst>
              <a:gs pos="0">
                <a:srgbClr val="d1e8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　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31640" y="1881360"/>
            <a:ext cx="5400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的几个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486828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波长：相邻的两个波峰（或波谷）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31640" y="1268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可以在真空中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2268360" y="3340080"/>
            <a:ext cx="5185080" cy="684360"/>
          </a:xfrm>
          <a:custGeom>
            <a:avLst/>
            <a:gdLst/>
            <a:ahLst/>
            <a:rect l="l" t="t" r="r" b="b"/>
            <a:pathLst>
              <a:path w="21633" h="4000">
                <a:moveTo>
                  <a:pt x="0" y="2000"/>
                </a:moveTo>
                <a:cubicBezTo>
                  <a:pt x="66" y="1883"/>
                  <a:pt x="133" y="1767"/>
                  <a:pt x="200" y="1653"/>
                </a:cubicBezTo>
                <a:cubicBezTo>
                  <a:pt x="267" y="1539"/>
                  <a:pt x="333" y="1425"/>
                  <a:pt x="400" y="1316"/>
                </a:cubicBezTo>
                <a:cubicBezTo>
                  <a:pt x="467" y="1207"/>
                  <a:pt x="533" y="1100"/>
                  <a:pt x="600" y="1000"/>
                </a:cubicBezTo>
                <a:cubicBezTo>
                  <a:pt x="667" y="900"/>
                  <a:pt x="733" y="803"/>
                  <a:pt x="800" y="714"/>
                </a:cubicBezTo>
                <a:cubicBezTo>
                  <a:pt x="867" y="625"/>
                  <a:pt x="933" y="542"/>
                  <a:pt x="1000" y="468"/>
                </a:cubicBezTo>
                <a:cubicBezTo>
                  <a:pt x="1067" y="394"/>
                  <a:pt x="1133" y="326"/>
                  <a:pt x="1200" y="268"/>
                </a:cubicBezTo>
                <a:cubicBezTo>
                  <a:pt x="1267" y="210"/>
                  <a:pt x="1333" y="161"/>
                  <a:pt x="1400" y="121"/>
                </a:cubicBezTo>
                <a:cubicBezTo>
                  <a:pt x="1467" y="81"/>
                  <a:pt x="1533" y="50"/>
                  <a:pt x="1600" y="30"/>
                </a:cubicBezTo>
                <a:cubicBezTo>
                  <a:pt x="1667" y="10"/>
                  <a:pt x="1733" y="0"/>
                  <a:pt x="1800" y="0"/>
                </a:cubicBezTo>
                <a:cubicBezTo>
                  <a:pt x="1867" y="0"/>
                  <a:pt x="1933" y="10"/>
                  <a:pt x="2000" y="30"/>
                </a:cubicBezTo>
                <a:cubicBezTo>
                  <a:pt x="2067" y="50"/>
                  <a:pt x="2133" y="81"/>
                  <a:pt x="2200" y="121"/>
                </a:cubicBezTo>
                <a:cubicBezTo>
                  <a:pt x="2267" y="161"/>
                  <a:pt x="2333" y="210"/>
                  <a:pt x="2400" y="268"/>
                </a:cubicBezTo>
                <a:cubicBezTo>
                  <a:pt x="2467" y="326"/>
                  <a:pt x="2533" y="394"/>
                  <a:pt x="2600" y="468"/>
                </a:cubicBezTo>
                <a:cubicBezTo>
                  <a:pt x="2667" y="542"/>
                  <a:pt x="2733" y="625"/>
                  <a:pt x="2800" y="714"/>
                </a:cubicBezTo>
                <a:cubicBezTo>
                  <a:pt x="2867" y="803"/>
                  <a:pt x="2933" y="900"/>
                  <a:pt x="3000" y="1000"/>
                </a:cubicBezTo>
                <a:cubicBezTo>
                  <a:pt x="3067" y="1100"/>
                  <a:pt x="3133" y="1207"/>
                  <a:pt x="3200" y="1316"/>
                </a:cubicBezTo>
                <a:cubicBezTo>
                  <a:pt x="3267" y="1425"/>
                  <a:pt x="3333" y="1539"/>
                  <a:pt x="3400" y="1653"/>
                </a:cubicBezTo>
                <a:cubicBezTo>
                  <a:pt x="3467" y="1767"/>
                  <a:pt x="3533" y="1884"/>
                  <a:pt x="3600" y="2000"/>
                </a:cubicBezTo>
                <a:cubicBezTo>
                  <a:pt x="3667" y="2116"/>
                  <a:pt x="3733" y="2233"/>
                  <a:pt x="3800" y="2347"/>
                </a:cubicBezTo>
                <a:cubicBezTo>
                  <a:pt x="3867" y="2461"/>
                  <a:pt x="3933" y="2575"/>
                  <a:pt x="4000" y="2684"/>
                </a:cubicBezTo>
                <a:cubicBezTo>
                  <a:pt x="4067" y="2793"/>
                  <a:pt x="4133" y="2900"/>
                  <a:pt x="4200" y="3000"/>
                </a:cubicBezTo>
                <a:cubicBezTo>
                  <a:pt x="4267" y="3100"/>
                  <a:pt x="4333" y="3196"/>
                  <a:pt x="4400" y="3285"/>
                </a:cubicBezTo>
                <a:cubicBezTo>
                  <a:pt x="4467" y="3374"/>
                  <a:pt x="4533" y="3458"/>
                  <a:pt x="4600" y="3532"/>
                </a:cubicBezTo>
                <a:cubicBezTo>
                  <a:pt x="4667" y="3606"/>
                  <a:pt x="4733" y="3674"/>
                  <a:pt x="4800" y="3732"/>
                </a:cubicBezTo>
                <a:cubicBezTo>
                  <a:pt x="4867" y="3790"/>
                  <a:pt x="4933" y="3839"/>
                  <a:pt x="5000" y="3879"/>
                </a:cubicBezTo>
                <a:cubicBezTo>
                  <a:pt x="5067" y="3919"/>
                  <a:pt x="5133" y="3950"/>
                  <a:pt x="5200" y="3970"/>
                </a:cubicBezTo>
                <a:cubicBezTo>
                  <a:pt x="5267" y="3990"/>
                  <a:pt x="5333" y="4000"/>
                  <a:pt x="5400" y="4000"/>
                </a:cubicBezTo>
                <a:cubicBezTo>
                  <a:pt x="5467" y="4000"/>
                  <a:pt x="5533" y="3990"/>
                  <a:pt x="5600" y="3970"/>
                </a:cubicBezTo>
                <a:cubicBezTo>
                  <a:pt x="5667" y="3950"/>
                  <a:pt x="5733" y="3919"/>
                  <a:pt x="5800" y="3879"/>
                </a:cubicBezTo>
                <a:cubicBezTo>
                  <a:pt x="5867" y="3839"/>
                  <a:pt x="5933" y="3790"/>
                  <a:pt x="6000" y="3732"/>
                </a:cubicBezTo>
                <a:cubicBezTo>
                  <a:pt x="6067" y="3674"/>
                  <a:pt x="6133" y="3606"/>
                  <a:pt x="6200" y="3532"/>
                </a:cubicBezTo>
                <a:cubicBezTo>
                  <a:pt x="6267" y="3458"/>
                  <a:pt x="6333" y="3375"/>
                  <a:pt x="6400" y="3286"/>
                </a:cubicBezTo>
                <a:cubicBezTo>
                  <a:pt x="6467" y="3197"/>
                  <a:pt x="6533" y="3100"/>
                  <a:pt x="6600" y="3000"/>
                </a:cubicBezTo>
                <a:cubicBezTo>
                  <a:pt x="6667" y="2900"/>
                  <a:pt x="6733" y="2793"/>
                  <a:pt x="6800" y="2684"/>
                </a:cubicBezTo>
                <a:cubicBezTo>
                  <a:pt x="6867" y="2575"/>
                  <a:pt x="6933" y="2462"/>
                  <a:pt x="7000" y="2348"/>
                </a:cubicBezTo>
                <a:cubicBezTo>
                  <a:pt x="7067" y="2234"/>
                  <a:pt x="7133" y="2116"/>
                  <a:pt x="7200" y="2000"/>
                </a:cubicBezTo>
                <a:cubicBezTo>
                  <a:pt x="7267" y="1884"/>
                  <a:pt x="7333" y="1767"/>
                  <a:pt x="7400" y="1653"/>
                </a:cubicBezTo>
                <a:cubicBezTo>
                  <a:pt x="7467" y="1539"/>
                  <a:pt x="7533" y="1425"/>
                  <a:pt x="7600" y="1316"/>
                </a:cubicBezTo>
                <a:cubicBezTo>
                  <a:pt x="7667" y="1207"/>
                  <a:pt x="7733" y="1100"/>
                  <a:pt x="7800" y="1000"/>
                </a:cubicBezTo>
                <a:cubicBezTo>
                  <a:pt x="7867" y="900"/>
                  <a:pt x="7933" y="804"/>
                  <a:pt x="8000" y="715"/>
                </a:cubicBezTo>
                <a:cubicBezTo>
                  <a:pt x="8067" y="626"/>
                  <a:pt x="8133" y="542"/>
                  <a:pt x="8200" y="468"/>
                </a:cubicBezTo>
                <a:cubicBezTo>
                  <a:pt x="8267" y="394"/>
                  <a:pt x="8333" y="326"/>
                  <a:pt x="8400" y="268"/>
                </a:cubicBezTo>
                <a:cubicBezTo>
                  <a:pt x="8467" y="210"/>
                  <a:pt x="8533" y="161"/>
                  <a:pt x="8600" y="121"/>
                </a:cubicBezTo>
                <a:cubicBezTo>
                  <a:pt x="8667" y="81"/>
                  <a:pt x="8733" y="50"/>
                  <a:pt x="8800" y="30"/>
                </a:cubicBezTo>
                <a:cubicBezTo>
                  <a:pt x="8867" y="10"/>
                  <a:pt x="8933" y="0"/>
                  <a:pt x="9000" y="0"/>
                </a:cubicBezTo>
                <a:cubicBezTo>
                  <a:pt x="9067" y="0"/>
                  <a:pt x="9133" y="10"/>
                  <a:pt x="9200" y="30"/>
                </a:cubicBezTo>
                <a:cubicBezTo>
                  <a:pt x="9267" y="50"/>
                  <a:pt x="9333" y="80"/>
                  <a:pt x="9400" y="120"/>
                </a:cubicBezTo>
                <a:cubicBezTo>
                  <a:pt x="9467" y="160"/>
                  <a:pt x="9533" y="210"/>
                  <a:pt x="9600" y="268"/>
                </a:cubicBezTo>
                <a:cubicBezTo>
                  <a:pt x="9667" y="326"/>
                  <a:pt x="9733" y="394"/>
                  <a:pt x="9800" y="468"/>
                </a:cubicBezTo>
                <a:cubicBezTo>
                  <a:pt x="9867" y="542"/>
                  <a:pt x="9933" y="625"/>
                  <a:pt x="10000" y="714"/>
                </a:cubicBezTo>
                <a:cubicBezTo>
                  <a:pt x="10067" y="803"/>
                  <a:pt x="10133" y="900"/>
                  <a:pt x="10200" y="1000"/>
                </a:cubicBezTo>
                <a:cubicBezTo>
                  <a:pt x="10267" y="1100"/>
                  <a:pt x="10333" y="1206"/>
                  <a:pt x="10400" y="1315"/>
                </a:cubicBezTo>
                <a:cubicBezTo>
                  <a:pt x="10467" y="1424"/>
                  <a:pt x="10533" y="1538"/>
                  <a:pt x="10600" y="1652"/>
                </a:cubicBezTo>
                <a:cubicBezTo>
                  <a:pt x="10667" y="1766"/>
                  <a:pt x="10733" y="1883"/>
                  <a:pt x="10800" y="1999"/>
                </a:cubicBezTo>
                <a:cubicBezTo>
                  <a:pt x="10867" y="2115"/>
                  <a:pt x="10933" y="2233"/>
                  <a:pt x="11000" y="2347"/>
                </a:cubicBezTo>
                <a:cubicBezTo>
                  <a:pt x="11067" y="2461"/>
                  <a:pt x="11133" y="2574"/>
                  <a:pt x="11200" y="2683"/>
                </a:cubicBezTo>
                <a:cubicBezTo>
                  <a:pt x="11267" y="2792"/>
                  <a:pt x="11333" y="2899"/>
                  <a:pt x="11400" y="2999"/>
                </a:cubicBezTo>
                <a:cubicBezTo>
                  <a:pt x="11467" y="3099"/>
                  <a:pt x="11533" y="3196"/>
                  <a:pt x="11600" y="3285"/>
                </a:cubicBezTo>
                <a:cubicBezTo>
                  <a:pt x="11667" y="3374"/>
                  <a:pt x="11733" y="3458"/>
                  <a:pt x="11800" y="3532"/>
                </a:cubicBezTo>
                <a:cubicBezTo>
                  <a:pt x="11867" y="3606"/>
                  <a:pt x="11933" y="3674"/>
                  <a:pt x="12000" y="3732"/>
                </a:cubicBezTo>
                <a:cubicBezTo>
                  <a:pt x="12067" y="3790"/>
                  <a:pt x="12133" y="3839"/>
                  <a:pt x="12200" y="3879"/>
                </a:cubicBezTo>
                <a:cubicBezTo>
                  <a:pt x="12267" y="3919"/>
                  <a:pt x="12333" y="3950"/>
                  <a:pt x="12400" y="3970"/>
                </a:cubicBezTo>
                <a:cubicBezTo>
                  <a:pt x="12467" y="3990"/>
                  <a:pt x="12533" y="4000"/>
                  <a:pt x="12600" y="4000"/>
                </a:cubicBezTo>
                <a:cubicBezTo>
                  <a:pt x="12667" y="4000"/>
                  <a:pt x="12733" y="3990"/>
                  <a:pt x="12800" y="3970"/>
                </a:cubicBezTo>
                <a:cubicBezTo>
                  <a:pt x="12867" y="3950"/>
                  <a:pt x="12933" y="3920"/>
                  <a:pt x="13000" y="3880"/>
                </a:cubicBezTo>
                <a:cubicBezTo>
                  <a:pt x="13067" y="3840"/>
                  <a:pt x="13133" y="3790"/>
                  <a:pt x="13200" y="3732"/>
                </a:cubicBezTo>
                <a:cubicBezTo>
                  <a:pt x="13267" y="3674"/>
                  <a:pt x="13333" y="3607"/>
                  <a:pt x="13400" y="3533"/>
                </a:cubicBezTo>
                <a:cubicBezTo>
                  <a:pt x="13467" y="3459"/>
                  <a:pt x="13533" y="3375"/>
                  <a:pt x="13600" y="3286"/>
                </a:cubicBezTo>
                <a:cubicBezTo>
                  <a:pt x="13667" y="3197"/>
                  <a:pt x="13733" y="3101"/>
                  <a:pt x="13800" y="3001"/>
                </a:cubicBezTo>
                <a:cubicBezTo>
                  <a:pt x="13867" y="2901"/>
                  <a:pt x="13933" y="2794"/>
                  <a:pt x="14000" y="2685"/>
                </a:cubicBezTo>
                <a:cubicBezTo>
                  <a:pt x="14067" y="2576"/>
                  <a:pt x="14133" y="2462"/>
                  <a:pt x="14200" y="2348"/>
                </a:cubicBezTo>
                <a:cubicBezTo>
                  <a:pt x="14267" y="2234"/>
                  <a:pt x="14333" y="2117"/>
                  <a:pt x="14400" y="2001"/>
                </a:cubicBezTo>
                <a:cubicBezTo>
                  <a:pt x="14467" y="1885"/>
                  <a:pt x="14533" y="1767"/>
                  <a:pt x="14600" y="1653"/>
                </a:cubicBezTo>
                <a:cubicBezTo>
                  <a:pt x="14667" y="1539"/>
                  <a:pt x="14733" y="1426"/>
                  <a:pt x="14800" y="1317"/>
                </a:cubicBezTo>
                <a:cubicBezTo>
                  <a:pt x="14867" y="1208"/>
                  <a:pt x="14933" y="1101"/>
                  <a:pt x="15000" y="1001"/>
                </a:cubicBezTo>
                <a:cubicBezTo>
                  <a:pt x="15067" y="901"/>
                  <a:pt x="15133" y="804"/>
                  <a:pt x="15200" y="715"/>
                </a:cubicBezTo>
                <a:cubicBezTo>
                  <a:pt x="15267" y="626"/>
                  <a:pt x="15333" y="542"/>
                  <a:pt x="15400" y="468"/>
                </a:cubicBezTo>
                <a:cubicBezTo>
                  <a:pt x="15467" y="394"/>
                  <a:pt x="15533" y="326"/>
                  <a:pt x="15600" y="268"/>
                </a:cubicBezTo>
                <a:cubicBezTo>
                  <a:pt x="15667" y="210"/>
                  <a:pt x="15733" y="161"/>
                  <a:pt x="15800" y="121"/>
                </a:cubicBezTo>
                <a:cubicBezTo>
                  <a:pt x="15867" y="81"/>
                  <a:pt x="15933" y="51"/>
                  <a:pt x="16000" y="31"/>
                </a:cubicBezTo>
                <a:cubicBezTo>
                  <a:pt x="16067" y="11"/>
                  <a:pt x="16133" y="0"/>
                  <a:pt x="16200" y="0"/>
                </a:cubicBezTo>
                <a:cubicBezTo>
                  <a:pt x="16267" y="0"/>
                  <a:pt x="16333" y="10"/>
                  <a:pt x="16400" y="30"/>
                </a:cubicBezTo>
                <a:cubicBezTo>
                  <a:pt x="16467" y="50"/>
                  <a:pt x="16533" y="80"/>
                  <a:pt x="16600" y="120"/>
                </a:cubicBezTo>
                <a:cubicBezTo>
                  <a:pt x="16667" y="160"/>
                  <a:pt x="16733" y="210"/>
                  <a:pt x="16800" y="268"/>
                </a:cubicBezTo>
                <a:cubicBezTo>
                  <a:pt x="16867" y="326"/>
                  <a:pt x="16933" y="393"/>
                  <a:pt x="17000" y="467"/>
                </a:cubicBezTo>
                <a:cubicBezTo>
                  <a:pt x="17067" y="541"/>
                  <a:pt x="17133" y="625"/>
                  <a:pt x="17200" y="714"/>
                </a:cubicBezTo>
                <a:cubicBezTo>
                  <a:pt x="17267" y="803"/>
                  <a:pt x="17333" y="899"/>
                  <a:pt x="17400" y="999"/>
                </a:cubicBezTo>
                <a:cubicBezTo>
                  <a:pt x="17467" y="1099"/>
                  <a:pt x="17533" y="1206"/>
                  <a:pt x="17600" y="1315"/>
                </a:cubicBezTo>
                <a:cubicBezTo>
                  <a:pt x="17667" y="1424"/>
                  <a:pt x="17733" y="1538"/>
                  <a:pt x="17800" y="1652"/>
                </a:cubicBezTo>
                <a:cubicBezTo>
                  <a:pt x="17867" y="1766"/>
                  <a:pt x="17933" y="1883"/>
                  <a:pt x="18000" y="1999"/>
                </a:cubicBezTo>
                <a:cubicBezTo>
                  <a:pt x="18067" y="2115"/>
                  <a:pt x="18133" y="2232"/>
                  <a:pt x="18200" y="2346"/>
                </a:cubicBezTo>
                <a:cubicBezTo>
                  <a:pt x="18267" y="2460"/>
                  <a:pt x="18333" y="2574"/>
                  <a:pt x="18400" y="2683"/>
                </a:cubicBezTo>
                <a:cubicBezTo>
                  <a:pt x="18467" y="2792"/>
                  <a:pt x="18533" y="2899"/>
                  <a:pt x="18600" y="2999"/>
                </a:cubicBezTo>
                <a:cubicBezTo>
                  <a:pt x="18667" y="3099"/>
                  <a:pt x="18733" y="3196"/>
                  <a:pt x="18800" y="3285"/>
                </a:cubicBezTo>
                <a:cubicBezTo>
                  <a:pt x="18867" y="3374"/>
                  <a:pt x="18933" y="3456"/>
                  <a:pt x="19000" y="3531"/>
                </a:cubicBezTo>
                <a:cubicBezTo>
                  <a:pt x="19067" y="3606"/>
                  <a:pt x="19133" y="3674"/>
                  <a:pt x="19200" y="3732"/>
                </a:cubicBezTo>
                <a:cubicBezTo>
                  <a:pt x="19267" y="3790"/>
                  <a:pt x="19333" y="3839"/>
                  <a:pt x="19400" y="3879"/>
                </a:cubicBezTo>
                <a:cubicBezTo>
                  <a:pt x="19467" y="3919"/>
                  <a:pt x="19533" y="3949"/>
                  <a:pt x="19600" y="3969"/>
                </a:cubicBezTo>
                <a:cubicBezTo>
                  <a:pt x="19667" y="3989"/>
                  <a:pt x="19733" y="4000"/>
                  <a:pt x="19800" y="4000"/>
                </a:cubicBezTo>
                <a:cubicBezTo>
                  <a:pt x="19867" y="4000"/>
                  <a:pt x="19933" y="3990"/>
                  <a:pt x="20000" y="3970"/>
                </a:cubicBezTo>
                <a:cubicBezTo>
                  <a:pt x="20067" y="3950"/>
                  <a:pt x="20133" y="3920"/>
                  <a:pt x="20200" y="3880"/>
                </a:cubicBezTo>
                <a:cubicBezTo>
                  <a:pt x="20267" y="3840"/>
                  <a:pt x="20333" y="3791"/>
                  <a:pt x="20400" y="3733"/>
                </a:cubicBezTo>
                <a:cubicBezTo>
                  <a:pt x="20467" y="3675"/>
                  <a:pt x="20533" y="3608"/>
                  <a:pt x="20600" y="3533"/>
                </a:cubicBezTo>
                <a:cubicBezTo>
                  <a:pt x="20667" y="3458"/>
                  <a:pt x="20733" y="3375"/>
                  <a:pt x="20800" y="3286"/>
                </a:cubicBezTo>
                <a:cubicBezTo>
                  <a:pt x="20867" y="3197"/>
                  <a:pt x="20933" y="3101"/>
                  <a:pt x="21000" y="3001"/>
                </a:cubicBezTo>
                <a:cubicBezTo>
                  <a:pt x="21067" y="2901"/>
                  <a:pt x="21133" y="2794"/>
                  <a:pt x="21200" y="2685"/>
                </a:cubicBezTo>
                <a:cubicBezTo>
                  <a:pt x="21267" y="2576"/>
                  <a:pt x="21333" y="2462"/>
                  <a:pt x="21400" y="2348"/>
                </a:cubicBezTo>
                <a:cubicBezTo>
                  <a:pt x="21467" y="2234"/>
                  <a:pt x="21567" y="2059"/>
                  <a:pt x="21600" y="2001"/>
                </a:cubicBezTo>
                <a:cubicBezTo>
                  <a:pt x="21633" y="1943"/>
                  <a:pt x="21616" y="1972"/>
                  <a:pt x="21600" y="2001"/>
                </a:cubicBezTo>
              </a:path>
            </a:pathLst>
          </a:custGeom>
          <a:noFill/>
          <a:ln w="2844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5"/>
          <p:cNvSpPr/>
          <p:nvPr/>
        </p:nvSpPr>
        <p:spPr>
          <a:xfrm flipH="1">
            <a:off x="1196280" y="2889360"/>
            <a:ext cx="1066680" cy="576000"/>
          </a:xfrm>
          <a:prstGeom prst="wedgeRoundRectCallout">
            <a:avLst>
              <a:gd name="adj1" fmla="val -93601"/>
              <a:gd name="adj2" fmla="val 30712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波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 flipH="1">
            <a:off x="1197000" y="3878280"/>
            <a:ext cx="1008000" cy="576360"/>
          </a:xfrm>
          <a:prstGeom prst="wedgeRoundRectCallout">
            <a:avLst>
              <a:gd name="adj1" fmla="val -181185"/>
              <a:gd name="adj2" fmla="val -238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波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4427640" y="2924280"/>
            <a:ext cx="1729080" cy="520560"/>
            <a:chOff x="4427640" y="2924280"/>
            <a:chExt cx="1729080" cy="520560"/>
          </a:xfrm>
        </p:grpSpPr>
        <p:grpSp>
          <p:nvGrpSpPr>
            <p:cNvPr id="207" name=""/>
            <p:cNvGrpSpPr/>
            <p:nvPr/>
          </p:nvGrpSpPr>
          <p:grpSpPr>
            <a:xfrm>
              <a:off x="4427640" y="3011760"/>
              <a:ext cx="360" cy="323640"/>
              <a:chOff x="4427640" y="3011760"/>
              <a:chExt cx="360" cy="323640"/>
            </a:xfrm>
          </p:grpSpPr>
          <p:sp>
            <p:nvSpPr>
              <p:cNvPr id="208" name="Line 10"/>
              <p:cNvSpPr/>
              <p:nvPr/>
            </p:nvSpPr>
            <p:spPr>
              <a:xfrm>
                <a:off x="4427640" y="301176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4427640" y="301176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156360" y="3046680"/>
              <a:ext cx="360" cy="323640"/>
              <a:chOff x="6156360" y="3046680"/>
              <a:chExt cx="360" cy="323640"/>
            </a:xfrm>
          </p:grpSpPr>
          <p:sp>
            <p:nvSpPr>
              <p:cNvPr id="211" name="Line 11"/>
              <p:cNvSpPr/>
              <p:nvPr/>
            </p:nvSpPr>
            <p:spPr>
              <a:xfrm>
                <a:off x="6156360" y="304668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6156360" y="304668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464000" y="3191040"/>
              <a:ext cx="395280" cy="360"/>
              <a:chOff x="4464000" y="3191040"/>
              <a:chExt cx="395280" cy="360"/>
            </a:xfrm>
          </p:grpSpPr>
          <p:sp>
            <p:nvSpPr>
              <p:cNvPr id="214" name="Line 12"/>
              <p:cNvSpPr/>
              <p:nvPr/>
            </p:nvSpPr>
            <p:spPr>
              <a:xfrm flipH="1">
                <a:off x="4464000" y="319104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4464000" y="319104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688000" y="3191040"/>
              <a:ext cx="395280" cy="360"/>
              <a:chOff x="5688000" y="3191040"/>
              <a:chExt cx="395280" cy="360"/>
            </a:xfrm>
          </p:grpSpPr>
          <p:sp>
            <p:nvSpPr>
              <p:cNvPr id="217" name="Line 13"/>
              <p:cNvSpPr/>
              <p:nvPr/>
            </p:nvSpPr>
            <p:spPr>
              <a:xfrm>
                <a:off x="5688000" y="319104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688000" y="319104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4"/>
            <p:cNvSpPr/>
            <p:nvPr/>
          </p:nvSpPr>
          <p:spPr>
            <a:xfrm>
              <a:off x="4969800" y="292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"/>
          <p:cNvGrpSpPr/>
          <p:nvPr/>
        </p:nvGrpSpPr>
        <p:grpSpPr>
          <a:xfrm>
            <a:off x="5292720" y="3989520"/>
            <a:ext cx="1729080" cy="520560"/>
            <a:chOff x="5292720" y="3989520"/>
            <a:chExt cx="1729080" cy="520560"/>
          </a:xfrm>
        </p:grpSpPr>
        <p:grpSp>
          <p:nvGrpSpPr>
            <p:cNvPr id="221" name=""/>
            <p:cNvGrpSpPr/>
            <p:nvPr/>
          </p:nvGrpSpPr>
          <p:grpSpPr>
            <a:xfrm>
              <a:off x="5292720" y="4077000"/>
              <a:ext cx="360" cy="323640"/>
              <a:chOff x="5292720" y="4077000"/>
              <a:chExt cx="360" cy="323640"/>
            </a:xfrm>
          </p:grpSpPr>
          <p:sp>
            <p:nvSpPr>
              <p:cNvPr id="222" name="Line 16"/>
              <p:cNvSpPr/>
              <p:nvPr/>
            </p:nvSpPr>
            <p:spPr>
              <a:xfrm>
                <a:off x="5292720" y="407700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5292720" y="407700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021440" y="4111920"/>
              <a:ext cx="360" cy="323640"/>
              <a:chOff x="7021440" y="4111920"/>
              <a:chExt cx="360" cy="323640"/>
            </a:xfrm>
          </p:grpSpPr>
          <p:sp>
            <p:nvSpPr>
              <p:cNvPr id="225" name="Line 17"/>
              <p:cNvSpPr/>
              <p:nvPr/>
            </p:nvSpPr>
            <p:spPr>
              <a:xfrm>
                <a:off x="7021440" y="4111920"/>
                <a:ext cx="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7021440" y="411192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329080" y="4256280"/>
              <a:ext cx="395280" cy="360"/>
              <a:chOff x="5329080" y="4256280"/>
              <a:chExt cx="395280" cy="360"/>
            </a:xfrm>
          </p:grpSpPr>
          <p:sp>
            <p:nvSpPr>
              <p:cNvPr id="228" name="Line 18"/>
              <p:cNvSpPr/>
              <p:nvPr/>
            </p:nvSpPr>
            <p:spPr>
              <a:xfrm flipH="1">
                <a:off x="5329080" y="425628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5329080" y="425628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553080" y="4256280"/>
              <a:ext cx="395280" cy="360"/>
              <a:chOff x="6553080" y="4256280"/>
              <a:chExt cx="395280" cy="360"/>
            </a:xfrm>
          </p:grpSpPr>
          <p:sp>
            <p:nvSpPr>
              <p:cNvPr id="231" name="Line 19"/>
              <p:cNvSpPr/>
              <p:nvPr/>
            </p:nvSpPr>
            <p:spPr>
              <a:xfrm>
                <a:off x="6553080" y="4256280"/>
                <a:ext cx="39528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6553080" y="4256280"/>
                <a:ext cx="3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20"/>
            <p:cNvSpPr/>
            <p:nvPr/>
          </p:nvSpPr>
          <p:spPr>
            <a:xfrm>
              <a:off x="5834880" y="3989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24000" y="357336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电磁波的传播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73080" y="4076640"/>
            <a:ext cx="6120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空中：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2.997 924 58 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8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/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971640" y="4581360"/>
            <a:ext cx="3924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中：接近真空光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50920" y="2923560"/>
            <a:ext cx="813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波速：波传播的快慢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24000" y="152460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频率：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有多少次波峰或波谷通过，波的频率就是多少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单位：赫兹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千赫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k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兆赫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Hz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是怎样传播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332000" y="333360"/>
            <a:ext cx="72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电磁波与我们的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D:\工作文件夹\专题建设\21.2电磁波的海洋\教材插图\原图\15204004.jpg"/>
          <p:cNvPicPr/>
          <p:nvPr/>
        </p:nvPicPr>
        <p:blipFill>
          <a:blip r:embed="rId1"/>
          <a:stretch/>
        </p:blipFill>
        <p:spPr>
          <a:xfrm>
            <a:off x="250920" y="2133720"/>
            <a:ext cx="86025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1:57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37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