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2.jpeg" ContentType="image/jpeg"/>
  <Override PartName="/ppt/media/image18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4E7-E8D1-47C0-A9CF-A570362E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157-26D2-42F1-BE04-8779CA7F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FD9-965E-491B-99A0-C83E947C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1FB-0360-4BAD-B47B-FB6648A3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4588-B045-4408-B3B6-5EB57E53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E580-8C1E-4104-BB5A-192531A5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0E80-7C20-45EA-B66E-1AB493C0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D6BF-42EE-4777-A997-73C861C6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AC3A-C9C9-4371-8666-1393E5EC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40A1-69EA-4CDE-9848-7D073CD9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F832-2830-4344-AB92-A10B9999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0D6-A96A-431C-A2F0-90D344CC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8650-EECA-4DD7-9D31-69446C7C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114A-B48C-4DDF-84E2-B0D8CAB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18C2-DA18-47BD-BF19-CBBB1343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6CBA-609E-44D0-AF54-911B5739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636C-3A5C-4546-B442-21FBB80F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06D-9B99-42D8-80C5-C15BC301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0E8-409C-4AA3-A715-30E66F77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14F-5054-43CD-B19A-1B5E35E0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6998-FB36-4548-ADBE-40946FB4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E4E-5D40-4036-BB78-22714AAD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024-CBD5-4AB3-BEBE-F130058B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80D-B36D-454E-913E-C1BABD3D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1F8D-8544-42A9-82C5-255A9BFE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89B0-7A79-422A-A80A-C64D3C5112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打电话"/>
          <p:cNvPicPr/>
          <p:nvPr/>
        </p:nvPicPr>
        <p:blipFill>
          <a:blip r:embed="rId2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 rot="5400000">
            <a:off x="4893840" y="2309760"/>
            <a:ext cx="5254560" cy="20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16200000"/>
                </a:gradFill>
                <a:latin typeface="华文新魏"/>
              </a:rPr>
              <a:t>打电话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16200000"/>
              </a:gradFill>
              <a:latin typeface="华文新魏"/>
              <a:ea typeface="华文新魏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614960" y="1890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打电话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{5872D9B9-914F-4236-859E-F910D73530FA}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96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900000" y="220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）对，是我，我找小王讲话，我的未婚妻，她是女的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908000" y="400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隶书"/>
              </a:rPr>
              <a:t>─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明知故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无标题l"/>
          <p:cNvPicPr/>
          <p:nvPr/>
        </p:nvPicPr>
        <p:blipFill>
          <a:blip r:embed="rId2"/>
          <a:srcRect l="5014" t="5115" r="9347" b="4233"/>
          <a:stretch/>
        </p:blipFill>
        <p:spPr>
          <a:xfrm>
            <a:off x="611280" y="83664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3" descr="{5872D9B9-914F-4236-859E-F910D73530FA}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960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1"/>
          <p:cNvSpPr/>
          <p:nvPr/>
        </p:nvSpPr>
        <p:spPr>
          <a:xfrm>
            <a:off x="971640" y="20494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 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我正找你呢。今天晚上有什么事吗？学习吗？不学习呀。开会吗？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不开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050920" y="4292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隶书"/>
              </a:rPr>
              <a:t>─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没话找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4" descr="无标题l"/>
          <p:cNvPicPr/>
          <p:nvPr/>
        </p:nvPicPr>
        <p:blipFill>
          <a:blip r:embed="rId2"/>
          <a:srcRect l="5014" t="5115" r="9347" b="4233"/>
          <a:stretch/>
        </p:blipFill>
        <p:spPr>
          <a:xfrm>
            <a:off x="611280" y="83664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{5872D9B9-914F-4236-859E-F910D73530FA}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96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900000" y="1844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票价八毛一张的，我买了两张，一块六。是一块六，我给了他五块，他找我三块四。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476360" y="4508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　──东拉西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无标题l"/>
          <p:cNvPicPr/>
          <p:nvPr/>
        </p:nvPicPr>
        <p:blipFill>
          <a:blip r:embed="rId2"/>
          <a:srcRect l="5014" t="5115" r="9347" b="4233"/>
          <a:stretch/>
        </p:blipFill>
        <p:spPr>
          <a:xfrm>
            <a:off x="611280" y="83664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q4"/>
          <p:cNvPicPr/>
          <p:nvPr/>
        </p:nvPicPr>
        <p:blipFill>
          <a:blip r:embed="rId1"/>
          <a:stretch/>
        </p:blipFill>
        <p:spPr>
          <a:xfrm>
            <a:off x="611280" y="1052640"/>
            <a:ext cx="914400" cy="544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3"/>
          <p:cNvSpPr/>
          <p:nvPr/>
        </p:nvSpPr>
        <p:spPr>
          <a:xfrm>
            <a:off x="826920" y="299736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给人物起名叫啰唆，是编创者有意安排的，暗示此人说话絮絮叨叨，重复烦琐。姓氏上根本没有姓啰的，以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啰唆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命名，增强语言的幽默感，名实相符，突出了对文中打电话人的讽刺意味。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619280" y="98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词句解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826920" y="177336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呃，猜不着我告诉你。我姓啰，我叫啰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7" descr="无标题l"/>
          <p:cNvPicPr/>
          <p:nvPr/>
        </p:nvPicPr>
        <p:blipFill>
          <a:blip r:embed="rId2"/>
          <a:srcRect l="9325" t="5116" r="4990" b="4234"/>
          <a:stretch/>
        </p:blipFill>
        <p:spPr>
          <a:xfrm>
            <a:off x="7812000" y="836640"/>
            <a:ext cx="792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{4062839F-D7F5-4BAD-9D74-D9CC0E1BA091}"/>
          <p:cNvPicPr/>
          <p:nvPr/>
        </p:nvPicPr>
        <p:blipFill>
          <a:blip r:embed="rId1"/>
          <a:stretch/>
        </p:blipFill>
        <p:spPr>
          <a:xfrm>
            <a:off x="0" y="0"/>
            <a:ext cx="9144000" cy="6659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0" y="90792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）语言情境一：甲没有太高的文化水平，而又喜欢夸夸其谈显示自已有知识，仅就</a:t>
            </a:r>
            <a:r>
              <a:rPr b="1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海马</a:t>
            </a:r>
            <a:r>
              <a:rPr b="1" lang="zh-CN" sz="3200" spc="-1" strike="noStrike">
                <a:solidFill>
                  <a:srgbClr val="ff6600"/>
                </a:solidFill>
                <a:latin typeface="华文中宋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一词，就出入意料地闹出了一连串的笑话。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）语言情境二：悦悦是一个冒失鬼，又是一个机灵鬼，他常常用机智巧妙的语言帮自己摆脱困境。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）语言情境三：有两个小朋友常常在一块比吹牛，谁也不服谁，这不，他们又吹上啦。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）语言情境四：小明是一个很具幽默感的孩子，同学们常被他逗得开怀大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619280" y="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创设情境，尝试创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{4062839F-D7F5-4BAD-9D74-D9CC0E1BA091}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468360" y="1052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相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相声是所有说唱艺术之中最为人们熟悉的品种，起源于北京，流行全国各地。相声是语言的艺术，也是幽默的艺术，运用说学逗唱的技巧，组织包袱逗观众哈哈一笑，并有针砭世俗、寓教于乐的功能。包袱又称“哏”，也就是现代人所说的“笑点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8199"/>
          <p:cNvSpPr/>
          <p:nvPr/>
        </p:nvSpPr>
        <p:spPr>
          <a:xfrm>
            <a:off x="1692360" y="331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609480" y="1828800"/>
            <a:ext cx="6934320" cy="360"/>
            <a:chOff x="609480" y="1828800"/>
            <a:chExt cx="6934320" cy="360"/>
          </a:xfrm>
        </p:grpSpPr>
        <p:sp>
          <p:nvSpPr>
            <p:cNvPr id="167" name="Line 2"/>
            <p:cNvSpPr/>
            <p:nvPr/>
          </p:nvSpPr>
          <p:spPr>
            <a:xfrm>
              <a:off x="609480" y="1828800"/>
              <a:ext cx="69343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609480" y="1828800"/>
              <a:ext cx="693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3"/>
          <p:cNvSpPr/>
          <p:nvPr/>
        </p:nvSpPr>
        <p:spPr>
          <a:xfrm>
            <a:off x="533520" y="914400"/>
            <a:ext cx="4267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彩云"/>
              </a:rPr>
              <a:t>相声语言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762120" y="2133720"/>
            <a:ext cx="7315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通俗、贴近生活、幽默、有很浓的讽刺意味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343400" y="3581280"/>
            <a:ext cx="4800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B910-CDFF-4673-849B-CD53FED222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{4062839F-D7F5-4BAD-9D74-D9CC0E1BA091}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039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042920" y="105264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单口相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一人演出，类似说书，与说书最大差别在于说书不一定要有哏，相声则无哏难以成立。单口相声内容通常具有故事性。如，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隶书"/>
              </a:rPr>
              <a:t>《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连升三级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隶书"/>
              </a:rPr>
              <a:t>》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对口相声二人演出，主述者称为“逗哏”，帮腔者称为“捧哏”。依捧、逗分量不同，又可分为“一头沉”和“子母哏”，一头沉以逗哏为主，捧哏为辅。子母哏则二人等量齐观，多半为争辩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042920" y="5300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口相声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隶书"/>
              </a:rPr>
              <a:t>三人或三人以上演出，演员之间必须有绝佳的默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"/>
                            </p:stCondLst>
                            <p:childTnLst>
                              <p:par>
                                <p:cTn id="16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1835280" y="836640"/>
            <a:ext cx="49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请欣赏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: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白吃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7" name="白吃(相声).mp3" descr=""/>
          <p:cNvPicPr/>
          <p:nvPr/>
        </p:nvPicPr>
        <p:blipFill>
          <a:blip r:embed="rId1"/>
          <a:stretch/>
        </p:blipFill>
        <p:spPr>
          <a:xfrm>
            <a:off x="4419720" y="2781360"/>
            <a:ext cx="7999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3718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2700360" y="1601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{68CD1432-D27E-4BE7-89B5-3BFBC60B25F2}"/>
          <p:cNvPicPr/>
          <p:nvPr/>
        </p:nvPicPr>
        <p:blipFill>
          <a:blip r:embed="rId1"/>
          <a:stretch/>
        </p:blipFill>
        <p:spPr>
          <a:xfrm>
            <a:off x="179280" y="595440"/>
            <a:ext cx="8785440" cy="5970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900000" y="184464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幼圆"/>
                <a:ea typeface="幼圆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幼圆"/>
                <a:ea typeface="幼圆"/>
              </a:rPr>
              <a:t>文艺节目可以分成歌舞类、语言类等，其中语言类节目中有一种很受欢迎的艺术形式是相声。今天我们要学习的课文就是一则相声──</a:t>
            </a:r>
            <a:r>
              <a:rPr b="1" lang="en-US" sz="3600" spc="-1" strike="noStrike">
                <a:solidFill>
                  <a:srgbClr val="0066ff"/>
                </a:solidFill>
                <a:latin typeface="幼圆"/>
                <a:ea typeface="幼圆"/>
              </a:rPr>
              <a:t>《</a:t>
            </a:r>
            <a:r>
              <a:rPr b="1" lang="zh-CN" sz="3600" spc="-1" strike="noStrike">
                <a:solidFill>
                  <a:srgbClr val="0066ff"/>
                </a:solidFill>
                <a:latin typeface="幼圆"/>
                <a:ea typeface="幼圆"/>
              </a:rPr>
              <a:t>打电话</a:t>
            </a:r>
            <a:r>
              <a:rPr b="1" lang="en-US" sz="3600" spc="-1" strike="noStrike">
                <a:solidFill>
                  <a:srgbClr val="0066ff"/>
                </a:solidFill>
                <a:latin typeface="幼圆"/>
                <a:ea typeface="幼圆"/>
              </a:rPr>
              <a:t>》</a:t>
            </a:r>
            <a:r>
              <a:rPr b="1" lang="zh-CN" sz="3600" spc="-1" strike="noStrike">
                <a:solidFill>
                  <a:srgbClr val="0066ff"/>
                </a:solidFill>
                <a:latin typeface="幼圆"/>
                <a:ea typeface="幼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611280" y="692280"/>
            <a:ext cx="215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文学常识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492360" y="1341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Arial"/>
                <a:ea typeface="华文中宋"/>
              </a:rPr>
              <a:t>相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"/>
                            </p:stCondLst>
                            <p:childTnLst>
                              <p:par>
                                <p:cTn id="3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457200" y="1295280"/>
            <a:ext cx="6934320" cy="360"/>
            <a:chOff x="457200" y="1295280"/>
            <a:chExt cx="6934320" cy="360"/>
          </a:xfrm>
        </p:grpSpPr>
        <p:sp>
          <p:nvSpPr>
            <p:cNvPr id="94" name="Line 2"/>
            <p:cNvSpPr/>
            <p:nvPr/>
          </p:nvSpPr>
          <p:spPr>
            <a:xfrm>
              <a:off x="457200" y="1295280"/>
              <a:ext cx="69343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457200" y="1295280"/>
              <a:ext cx="693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3"/>
          <p:cNvSpPr/>
          <p:nvPr/>
        </p:nvSpPr>
        <p:spPr>
          <a:xfrm>
            <a:off x="380880" y="380880"/>
            <a:ext cx="22860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彩云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1371600" y="2857680"/>
            <a:ext cx="7592760" cy="812520"/>
            <a:chOff x="1371600" y="2857680"/>
            <a:chExt cx="7592760" cy="812520"/>
          </a:xfrm>
        </p:grpSpPr>
        <p:sp>
          <p:nvSpPr>
            <p:cNvPr id="98" name="AutoShape 5"/>
            <p:cNvSpPr/>
            <p:nvPr/>
          </p:nvSpPr>
          <p:spPr>
            <a:xfrm>
              <a:off x="1846440" y="2950920"/>
              <a:ext cx="7117920" cy="5918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6"/>
            <p:cNvGrpSpPr/>
            <p:nvPr/>
          </p:nvGrpSpPr>
          <p:grpSpPr>
            <a:xfrm>
              <a:off x="1371600" y="2857680"/>
              <a:ext cx="1167840" cy="812520"/>
              <a:chOff x="1371600" y="2857680"/>
              <a:chExt cx="1167840" cy="8125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1371600" y="2857680"/>
                <a:ext cx="1167840" cy="812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8"/>
              <p:cNvSpPr/>
              <p:nvPr/>
            </p:nvSpPr>
            <p:spPr>
              <a:xfrm>
                <a:off x="1554120" y="2979360"/>
                <a:ext cx="810000" cy="5634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9"/>
          <p:cNvGrpSpPr/>
          <p:nvPr/>
        </p:nvGrpSpPr>
        <p:grpSpPr>
          <a:xfrm>
            <a:off x="1371600" y="3797280"/>
            <a:ext cx="6729120" cy="812880"/>
            <a:chOff x="1371600" y="3797280"/>
            <a:chExt cx="6729120" cy="812880"/>
          </a:xfrm>
        </p:grpSpPr>
        <p:sp>
          <p:nvSpPr>
            <p:cNvPr id="103" name="AutoShape 10"/>
            <p:cNvSpPr/>
            <p:nvPr/>
          </p:nvSpPr>
          <p:spPr>
            <a:xfrm>
              <a:off x="1792440" y="3891240"/>
              <a:ext cx="6308280" cy="59184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1"/>
            <p:cNvGrpSpPr/>
            <p:nvPr/>
          </p:nvGrpSpPr>
          <p:grpSpPr>
            <a:xfrm>
              <a:off x="1371600" y="3797280"/>
              <a:ext cx="1035000" cy="812880"/>
              <a:chOff x="1371600" y="3797280"/>
              <a:chExt cx="1035000" cy="812880"/>
            </a:xfrm>
          </p:grpSpPr>
          <p:sp>
            <p:nvSpPr>
              <p:cNvPr id="105" name="AutoShape 12"/>
              <p:cNvSpPr/>
              <p:nvPr/>
            </p:nvSpPr>
            <p:spPr>
              <a:xfrm>
                <a:off x="1371600" y="3797280"/>
                <a:ext cx="1035000" cy="812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3"/>
              <p:cNvSpPr/>
              <p:nvPr/>
            </p:nvSpPr>
            <p:spPr>
              <a:xfrm>
                <a:off x="1533240" y="3919680"/>
                <a:ext cx="717840" cy="5634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Rectangle 14"/>
          <p:cNvSpPr/>
          <p:nvPr/>
        </p:nvSpPr>
        <p:spPr>
          <a:xfrm>
            <a:off x="2362320" y="297180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故事里的那个人说话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2362320" y="3886200"/>
            <a:ext cx="593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个相声对你的启发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1587600" y="394956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"/>
          <p:cNvGrpSpPr/>
          <p:nvPr/>
        </p:nvGrpSpPr>
        <p:grpSpPr>
          <a:xfrm>
            <a:off x="1371600" y="1930320"/>
            <a:ext cx="7232040" cy="812520"/>
            <a:chOff x="1371600" y="1930320"/>
            <a:chExt cx="7232040" cy="812520"/>
          </a:xfrm>
        </p:grpSpPr>
        <p:sp>
          <p:nvSpPr>
            <p:cNvPr id="111" name="AutoShape 18"/>
            <p:cNvSpPr/>
            <p:nvPr/>
          </p:nvSpPr>
          <p:spPr>
            <a:xfrm>
              <a:off x="1823760" y="2023920"/>
              <a:ext cx="6779880" cy="59220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9"/>
            <p:cNvGrpSpPr/>
            <p:nvPr/>
          </p:nvGrpSpPr>
          <p:grpSpPr>
            <a:xfrm>
              <a:off x="1371600" y="1930320"/>
              <a:ext cx="1112400" cy="812520"/>
              <a:chOff x="1371600" y="1930320"/>
              <a:chExt cx="1112400" cy="812520"/>
            </a:xfrm>
          </p:grpSpPr>
          <p:sp>
            <p:nvSpPr>
              <p:cNvPr id="113" name="AutoShape 20"/>
              <p:cNvSpPr/>
              <p:nvPr/>
            </p:nvSpPr>
            <p:spPr>
              <a:xfrm>
                <a:off x="1371600" y="1930320"/>
                <a:ext cx="1112400" cy="812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21"/>
              <p:cNvSpPr/>
              <p:nvPr/>
            </p:nvSpPr>
            <p:spPr>
              <a:xfrm>
                <a:off x="1545480" y="2052360"/>
                <a:ext cx="771480" cy="56376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Rectangle 22"/>
          <p:cNvSpPr/>
          <p:nvPr/>
        </p:nvSpPr>
        <p:spPr>
          <a:xfrm>
            <a:off x="2362320" y="2006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浏览全文，想想说的是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1574640" y="2095560"/>
            <a:ext cx="370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1574640" y="3009960"/>
            <a:ext cx="3700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5"/>
          <p:cNvGrpSpPr/>
          <p:nvPr/>
        </p:nvGrpSpPr>
        <p:grpSpPr>
          <a:xfrm>
            <a:off x="1332000" y="5084640"/>
            <a:ext cx="7376400" cy="1223280"/>
            <a:chOff x="1332000" y="5084640"/>
            <a:chExt cx="7376400" cy="1223280"/>
          </a:xfrm>
        </p:grpSpPr>
        <p:sp>
          <p:nvSpPr>
            <p:cNvPr id="119" name="AutoShape 26"/>
            <p:cNvSpPr/>
            <p:nvPr/>
          </p:nvSpPr>
          <p:spPr>
            <a:xfrm>
              <a:off x="1793160" y="5225400"/>
              <a:ext cx="6915240" cy="891360"/>
            </a:xfrm>
            <a:prstGeom prst="roundRect">
              <a:avLst>
                <a:gd name="adj" fmla="val 50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7"/>
            <p:cNvGrpSpPr/>
            <p:nvPr/>
          </p:nvGrpSpPr>
          <p:grpSpPr>
            <a:xfrm>
              <a:off x="1332000" y="5084640"/>
              <a:ext cx="1134360" cy="1223280"/>
              <a:chOff x="1332000" y="5084640"/>
              <a:chExt cx="1134360" cy="1223280"/>
            </a:xfrm>
          </p:grpSpPr>
          <p:sp>
            <p:nvSpPr>
              <p:cNvPr id="121" name="AutoShape 28"/>
              <p:cNvSpPr/>
              <p:nvPr/>
            </p:nvSpPr>
            <p:spPr>
              <a:xfrm>
                <a:off x="1332000" y="5084640"/>
                <a:ext cx="1134360" cy="122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29"/>
              <p:cNvSpPr/>
              <p:nvPr/>
            </p:nvSpPr>
            <p:spPr>
              <a:xfrm>
                <a:off x="1509120" y="5268240"/>
                <a:ext cx="786600" cy="84816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Rectangle 30"/>
          <p:cNvSpPr/>
          <p:nvPr/>
        </p:nvSpPr>
        <p:spPr>
          <a:xfrm>
            <a:off x="2340000" y="5084640"/>
            <a:ext cx="62658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说说这个相声或听听其他相声，感受相声语言的艺术特点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1574640" y="4826160"/>
            <a:ext cx="37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{994B30E2-A8A3-4A16-AB4A-AD9B3794FE66}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15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324000" y="1773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《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打电话</a:t>
            </a:r>
            <a:r>
              <a:rPr b="1" lang="en-US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》</a:t>
            </a:r>
            <a:r>
              <a:rPr b="1" lang="zh-CN" sz="4000" spc="-1" strike="noStrike">
                <a:solidFill>
                  <a:srgbClr val="009999"/>
                </a:solidFill>
                <a:latin typeface="华文中宋"/>
                <a:ea typeface="华文中宋"/>
              </a:rPr>
              <a:t>就是一段惹人发笑、发人深省的相声，它讽刺了一个在公用电话亭打电话，缺乏公共道德的年轻人。一句话就能说清楚的小事，结果被这个人东拉西扯，说了两个多小时，既误了自己的事，又耽误了别人的时间。</a:t>
            </a:r>
            <a:r>
              <a:rPr b="0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无标题l"/>
          <p:cNvPicPr/>
          <p:nvPr/>
        </p:nvPicPr>
        <p:blipFill>
          <a:blip r:embed="rId2"/>
          <a:srcRect l="5014" t="5115" r="9347" b="4233"/>
          <a:stretch/>
        </p:blipFill>
        <p:spPr>
          <a:xfrm>
            <a:off x="611280" y="836640"/>
            <a:ext cx="1224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80880" y="1905120"/>
            <a:ext cx="6934320" cy="360"/>
            <a:chOff x="380880" y="1905120"/>
            <a:chExt cx="6934320" cy="360"/>
          </a:xfrm>
        </p:grpSpPr>
        <p:sp>
          <p:nvSpPr>
            <p:cNvPr id="129" name="Line 2"/>
            <p:cNvSpPr/>
            <p:nvPr/>
          </p:nvSpPr>
          <p:spPr>
            <a:xfrm>
              <a:off x="380880" y="1905120"/>
              <a:ext cx="69343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380880" y="1905120"/>
              <a:ext cx="693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3"/>
          <p:cNvSpPr/>
          <p:nvPr/>
        </p:nvSpPr>
        <p:spPr>
          <a:xfrm>
            <a:off x="0" y="251460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这个相声主要讽刺了一个在公用电话亭打电话，缺乏公共道德的年轻人。一句话就能说清楚的小事，结果被这个人东拉西扯，说了两个多小时，既误了自己的事，又耽误了别人的时间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914400" y="990720"/>
            <a:ext cx="2879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故事内容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008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16813358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54936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24000" y="765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95280" y="213372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原指老鼠</a:t>
            </a:r>
            <a:r>
              <a:rPr b="1" lang="en-US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耗子</a:t>
            </a:r>
            <a:r>
              <a:rPr b="1" lang="en-US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、麻雀、苍蝇、蚊子。麻雀是益鸟，但是由于当时认识有误，人们认为麻雀糟蹋粮食，所以把它列为四害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3"/>
          <p:cNvSpPr txBox="1"/>
          <p:nvPr/>
        </p:nvSpPr>
        <p:spPr>
          <a:xfrm>
            <a:off x="684360" y="2276640"/>
            <a:ext cx="7848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找出“打电话”的句子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{5872D9B9-914F-4236-859E-F910D73530FA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826920" y="198900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你贵姓呀？哦，老胡呀。呃，不是老胡？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老张呀。哎呀，我没听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呃，不是老张，是老刘呀。呃，不是老刘。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是耗子呀。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对，是我，我找小王讲话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042920" y="765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这些句子，连起来读读，有什么感受，举例说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50920" y="5805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隶书"/>
              </a:rPr>
              <a:t>──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隶书"/>
              </a:rPr>
              <a:t>说话绕圈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无标题l"/>
          <p:cNvPicPr/>
          <p:nvPr/>
        </p:nvPicPr>
        <p:blipFill>
          <a:blip r:embed="rId2"/>
          <a:srcRect l="5014" t="5115" r="9347" b="4233"/>
          <a:stretch/>
        </p:blipFill>
        <p:spPr>
          <a:xfrm>
            <a:off x="250920" y="836640"/>
            <a:ext cx="1224000" cy="129528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8199"/>
          <p:cNvSpPr/>
          <p:nvPr/>
        </p:nvSpPr>
        <p:spPr>
          <a:xfrm>
            <a:off x="1763640" y="331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43Z</dcterms:modified>
  <cp:revision>9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