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9.gif" ContentType="image/gif"/>
  <Override PartName="/ppt/media/image34.png" ContentType="image/png"/>
  <Override PartName="/ppt/media/image29.jpeg" ContentType="image/jpeg"/>
  <Override PartName="/ppt/media/image14.png" ContentType="image/png"/>
  <Override PartName="/ppt/media/image10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13.png" ContentType="image/png"/>
  <Override PartName="/ppt/media/image11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900F-81BC-4231-A55F-FB7817DAE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980F-CB48-4F18-886E-7CB668FD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D25B-7738-41D5-88E9-F8D4C81AF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6EFA-5822-41C7-9CCB-CA1DB7BB9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AE61-CD99-49E3-BCD3-E30F8C264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A5BE-4782-4326-A8AC-4FD523F8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1AFB-D132-42DB-A87F-E04AB4E7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C601-1611-44FD-9738-0BCD9B53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0381-F509-4EA1-A5C8-48FB759E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1C39-C686-4518-874C-DEF1D8E8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23DB-9C46-42CD-8CB7-93E69627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3D5E-2856-41CC-B686-19BE236C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31C1-42DB-440B-926A-4F560686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5213-5F32-40CE-8EA7-FA7F430F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1BCF-BC47-42BC-B3F9-1E7E8F68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9F51-C7E5-44DA-843A-8D335577B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6F6B-338F-4354-A4E8-146C96E7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7717-AAB3-47DA-8EB3-57E5AA78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63AF-84D7-4AC7-9396-B3CB079B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9A25-9AB9-4732-9B19-B93D3B94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6422-E3F6-4071-8913-317187EC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115C-18A7-4987-AD3D-37ACE957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48BD-373B-40F5-973F-B6DC073F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8883-5A20-4CE7-80E3-A806BB12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19B4-E09B-4259-9C15-A28273490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5AD7-5130-469F-8A0A-A4947160BA9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avi%5C&#22235;&#39033;&#22522;&#26412;&#21407;&#21017;%20jsp9s021208001.wmv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avi%5C&#25913;&#38761;&#24320;&#25918;30&#24180;&#30340;&#20255;&#22823;&#25104;&#23601;%20jsp9s021208002.wmv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hyperlink" Target="avi%5C&#25105;&#22269;&#19982;&#19990;&#30028;&#21457;&#36798;&#22269;&#23478;&#30340;&#24046;&#36317;%20jsp9s021208003.wmv" TargetMode="External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2516040" y="1227240"/>
            <a:ext cx="40388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6480">
                  <a:solidFill>
                    <a:srgbClr val="ff6600"/>
                  </a:solidFill>
                  <a:round/>
                </a:ln>
                <a:solidFill>
                  <a:srgbClr val="0000ff"/>
                </a:solidFill>
                <a:latin typeface="华文新魏"/>
              </a:rPr>
              <a:t>第三课  认清基本国情</a:t>
            </a:r>
            <a:endParaRPr b="1" lang="en-US" sz="1800" spc="1" strike="noStrike">
              <a:ln w="6480">
                <a:solidFill>
                  <a:srgbClr val="ff6600"/>
                </a:solidFill>
                <a:round/>
              </a:ln>
              <a:solidFill>
                <a:srgbClr val="0000ff"/>
              </a:solidFill>
              <a:latin typeface="华文新魏"/>
              <a:ea typeface="华文新魏"/>
            </a:endParaRPr>
          </a:p>
        </p:txBody>
      </p:sp>
      <p:sp>
        <p:nvSpPr>
          <p:cNvPr id="83" name="WordArt 8"/>
          <p:cNvSpPr txBox="1"/>
          <p:nvPr/>
        </p:nvSpPr>
        <p:spPr>
          <a:xfrm>
            <a:off x="1555920" y="2590920"/>
            <a:ext cx="6032160" cy="66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党的基本路线课件</a:t>
            </a:r>
            <a:r>
              <a:rPr b="1" lang="en-US" sz="40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模板下载</a:t>
            </a:r>
            <a:endParaRPr b="1" lang="en-US" sz="4000" spc="1" strike="noStrike">
              <a:ln w="9360">
                <a:solidFill>
                  <a:srgbClr val="ffff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7" descr="2003－2007年我国GDP增长表"/>
          <p:cNvPicPr/>
          <p:nvPr/>
        </p:nvPicPr>
        <p:blipFill>
          <a:blip r:embed="rId1"/>
          <a:stretch/>
        </p:blipFill>
        <p:spPr>
          <a:xfrm>
            <a:off x="990720" y="0"/>
            <a:ext cx="7010280" cy="5257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36" name="Text Box 18"/>
          <p:cNvSpPr/>
          <p:nvPr/>
        </p:nvSpPr>
        <p:spPr>
          <a:xfrm>
            <a:off x="0" y="5334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改革开放以来我国国内生产总值增长很快，证明了我们坚持以经济建设为中心，大力发展社会生产力是英明、正确的。所以，我们应该一如既往地以经济建设为中心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0" y="5105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虽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00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年我国国内生产总值已位于世界第四位，但人均国内生产总值与世界发达国家相比仍有较大的差距，要解决这个问题，我们只有毫不动摇地坚持以经济建设为中心，大力发展社会生产力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2007年各国（地区）人均GDP比较表"/>
          <p:cNvPicPr/>
          <p:nvPr/>
        </p:nvPicPr>
        <p:blipFill>
          <a:blip r:embed="rId1"/>
          <a:stretch/>
        </p:blipFill>
        <p:spPr>
          <a:xfrm>
            <a:off x="1066680" y="0"/>
            <a:ext cx="7010640" cy="5105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76320" y="3049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）四项基本原则是立国之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53352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观看下列视频，结合教材内容回答下一页的两个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9" descr="未命名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2133720"/>
            <a:ext cx="3657600" cy="2743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42" name="Text Box 21"/>
          <p:cNvSpPr/>
          <p:nvPr/>
        </p:nvSpPr>
        <p:spPr>
          <a:xfrm>
            <a:off x="4014720" y="5043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四项基本原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3"/>
          <p:cNvGrpSpPr/>
          <p:nvPr/>
        </p:nvGrpSpPr>
        <p:grpSpPr>
          <a:xfrm>
            <a:off x="0" y="0"/>
            <a:ext cx="1447560" cy="547560"/>
            <a:chOff x="0" y="0"/>
            <a:chExt cx="1447560" cy="547560"/>
          </a:xfrm>
        </p:grpSpPr>
        <p:sp>
          <p:nvSpPr>
            <p:cNvPr id="144" name="WordArt 4"/>
            <p:cNvSpPr txBox="1"/>
            <p:nvPr/>
          </p:nvSpPr>
          <p:spPr>
            <a:xfrm>
              <a:off x="643320" y="11880"/>
              <a:ext cx="804240" cy="40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cc99ff"/>
                    </a:solidFill>
                    <a:round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华文新魏"/>
                </a:rPr>
                <a:t>请你思考</a:t>
              </a:r>
              <a:endPara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  <a:ea typeface="华文新魏"/>
              </a:endParaRPr>
            </a:p>
          </p:txBody>
        </p:sp>
        <p:pic>
          <p:nvPicPr>
            <p:cNvPr id="145" name="Picture 5" descr="0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35760" cy="54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Text Box 6"/>
          <p:cNvSpPr/>
          <p:nvPr/>
        </p:nvSpPr>
        <p:spPr>
          <a:xfrm>
            <a:off x="228600" y="6094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什么是四项基本原则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0" y="44197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项基本原则的重要性是什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609480" y="2209680"/>
            <a:ext cx="8153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根本制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国家性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领导核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导思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0" y="48481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项基本原则是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立国之本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坚持四项基本原则是全国人民团结奋进的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共同政治基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是全国人民的根本利益所在，是社会主义现代化建设事业的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政治保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如果动摇了其中任何一项，都会动摇整个社会主义事业和现代化事业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251460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黑体"/>
              </a:rPr>
              <a:t>社会主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2514600" y="2743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黑体"/>
              </a:rPr>
              <a:t>人民民主专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2514600" y="3276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黑体"/>
              </a:rPr>
              <a:t>中国共产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2514600" y="38862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黑体"/>
              </a:rPr>
              <a:t>马克思列宁主义、毛泽东思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380880" y="9907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项基本原则：第一，必须坚持社会主义道路；第二，必须坚持人民民主专政；第三，必须坚持中国共产党的领导；第四，必须坚持马列主义、毛泽东思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380880" y="5335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）改革开放是强国之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53352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观看下列视频，结合教材内容回答下一页的两个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2743200" y="49528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  <a:ea typeface="Times New Roman"/>
              </a:rPr>
              <a:t>改革开放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  <a:ea typeface="Times New Roman"/>
              </a:rPr>
              <a:t>30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  <a:ea typeface="Times New Roman"/>
              </a:rPr>
              <a:t>年的伟大成就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未命名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1981080"/>
            <a:ext cx="3651120" cy="2691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1026"/>
          <p:cNvGrpSpPr/>
          <p:nvPr/>
        </p:nvGrpSpPr>
        <p:grpSpPr>
          <a:xfrm>
            <a:off x="152280" y="380880"/>
            <a:ext cx="1447560" cy="547920"/>
            <a:chOff x="152280" y="380880"/>
            <a:chExt cx="1447560" cy="547920"/>
          </a:xfrm>
        </p:grpSpPr>
        <p:sp>
          <p:nvSpPr>
            <p:cNvPr id="160" name="WordArt 1027"/>
            <p:cNvSpPr txBox="1"/>
            <p:nvPr/>
          </p:nvSpPr>
          <p:spPr>
            <a:xfrm>
              <a:off x="795600" y="392760"/>
              <a:ext cx="804240" cy="408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cc99ff"/>
                    </a:solidFill>
                    <a:round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华文新魏"/>
                </a:rPr>
                <a:t>请你思考</a:t>
              </a:r>
              <a:endPara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  <a:ea typeface="华文新魏"/>
              </a:endParaRPr>
            </a:p>
          </p:txBody>
        </p:sp>
        <p:pic>
          <p:nvPicPr>
            <p:cNvPr id="161" name="Picture 1028" descr="0"/>
            <p:cNvPicPr/>
            <p:nvPr/>
          </p:nvPicPr>
          <p:blipFill>
            <a:blip r:embed="rId1"/>
            <a:stretch/>
          </p:blipFill>
          <p:spPr>
            <a:xfrm>
              <a:off x="152280" y="380880"/>
              <a:ext cx="635760" cy="54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Text Box 1029"/>
          <p:cNvSpPr/>
          <p:nvPr/>
        </p:nvSpPr>
        <p:spPr>
          <a:xfrm>
            <a:off x="304920" y="9907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什么是改革开放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30"/>
          <p:cNvSpPr/>
          <p:nvPr/>
        </p:nvSpPr>
        <p:spPr>
          <a:xfrm>
            <a:off x="228600" y="30481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国为什么要实行对外开放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31"/>
          <p:cNvSpPr/>
          <p:nvPr/>
        </p:nvSpPr>
        <p:spPr>
          <a:xfrm>
            <a:off x="304920" y="14796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改革不是对社会主义制度的否定，不是全盘推翻，而是社会主义制度的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自我完善和发展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对外开放则是改革和建设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必不可少的条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32"/>
          <p:cNvSpPr/>
          <p:nvPr/>
        </p:nvSpPr>
        <p:spPr>
          <a:xfrm>
            <a:off x="228600" y="3584520"/>
            <a:ext cx="8153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历史经验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国长期处于停滞和落后的一个重要原因就是闭关自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践证明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国实行对外开放取得了很大的成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所以，实行对外开放，是建设中国特色社会主义的必然选择，是我国必须长期坚持的一项基本国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1"/>
          <p:cNvSpPr/>
          <p:nvPr/>
        </p:nvSpPr>
        <p:spPr>
          <a:xfrm>
            <a:off x="533520" y="11430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青一家过上幸福生活的主要原因是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3" descr="中年人抱书-向左"/>
          <p:cNvPicPr/>
          <p:nvPr/>
        </p:nvPicPr>
        <p:blipFill>
          <a:blip r:embed="rId1"/>
          <a:stretch/>
        </p:blipFill>
        <p:spPr>
          <a:xfrm>
            <a:off x="6858000" y="4114800"/>
            <a:ext cx="2071800" cy="2286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4" descr="ityio"/>
          <p:cNvPicPr/>
          <p:nvPr/>
        </p:nvPicPr>
        <p:blipFill>
          <a:blip r:embed="rId2"/>
          <a:stretch/>
        </p:blipFill>
        <p:spPr>
          <a:xfrm>
            <a:off x="0" y="81000"/>
            <a:ext cx="9144000" cy="6811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5"/>
          <p:cNvSpPr/>
          <p:nvPr/>
        </p:nvSpPr>
        <p:spPr>
          <a:xfrm>
            <a:off x="990720" y="22096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国共产党的正确领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6"/>
          <p:cNvSpPr/>
          <p:nvPr/>
        </p:nvSpPr>
        <p:spPr>
          <a:xfrm>
            <a:off x="990720" y="27432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经济建设为中心，大力发展生产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990720" y="32767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走改革开放的强国之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8"/>
          <p:cNvSpPr/>
          <p:nvPr/>
        </p:nvSpPr>
        <p:spPr>
          <a:xfrm>
            <a:off x="990720" y="38098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稳定的社会环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9"/>
          <p:cNvSpPr/>
          <p:nvPr/>
        </p:nvSpPr>
        <p:spPr>
          <a:xfrm>
            <a:off x="5943600" y="2362320"/>
            <a:ext cx="228600" cy="1828800"/>
          </a:xfrm>
          <a:custGeom>
            <a:avLst/>
            <a:gdLst>
              <a:gd name="textAreaLeft" fmla="*/ 0 w 228600"/>
              <a:gd name="textAreaRight" fmla="*/ 8244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6248520" y="3200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党的基本路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1026"/>
          <p:cNvSpPr txBox="1"/>
          <p:nvPr/>
        </p:nvSpPr>
        <p:spPr>
          <a:xfrm>
            <a:off x="762120" y="2209680"/>
            <a:ext cx="76197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08080"/>
                  </a:outerShdw>
                </a:effectLst>
                <a:latin typeface="华文行楷"/>
              </a:rPr>
              <a:t>二、坚持党的基本路线不动摇</a:t>
            </a:r>
            <a:endParaRPr b="1" lang="en-US" sz="1800" spc="-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808080"/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1"/>
          <p:cNvPicPr/>
          <p:nvPr/>
        </p:nvPicPr>
        <p:blipFill>
          <a:blip r:embed="rId1"/>
          <a:stretch/>
        </p:blipFill>
        <p:spPr>
          <a:xfrm>
            <a:off x="914400" y="1905120"/>
            <a:ext cx="6705720" cy="4451400"/>
          </a:xfrm>
          <a:prstGeom prst="rect">
            <a:avLst/>
          </a:prstGeom>
          <a:ln w="0">
            <a:noFill/>
          </a:ln>
        </p:spPr>
      </p:pic>
      <p:sp>
        <p:nvSpPr>
          <p:cNvPr id="177" name="WordArt 3"/>
          <p:cNvSpPr txBox="1"/>
          <p:nvPr/>
        </p:nvSpPr>
        <p:spPr>
          <a:xfrm>
            <a:off x="838080" y="990720"/>
            <a:ext cx="743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吃</a:t>
            </a:r>
            <a:endParaRPr b="0" lang="en-US" sz="44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990720" y="55627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全国油料、肉类产量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762120" y="5335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为什么要坚持党的基本路线不动摇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8199"/>
          <p:cNvSpPr/>
          <p:nvPr/>
        </p:nvSpPr>
        <p:spPr>
          <a:xfrm>
            <a:off x="2714760" y="11667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10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3"/>
          <p:cNvGrpSpPr/>
          <p:nvPr/>
        </p:nvGrpSpPr>
        <p:grpSpPr>
          <a:xfrm>
            <a:off x="380880" y="533520"/>
            <a:ext cx="4267440" cy="5081760"/>
            <a:chOff x="380880" y="533520"/>
            <a:chExt cx="4267440" cy="5081760"/>
          </a:xfrm>
        </p:grpSpPr>
        <p:pic>
          <p:nvPicPr>
            <p:cNvPr id="183" name="Picture 4" descr="2"/>
            <p:cNvPicPr/>
            <p:nvPr/>
          </p:nvPicPr>
          <p:blipFill>
            <a:blip r:embed="rId2"/>
            <a:stretch/>
          </p:blipFill>
          <p:spPr>
            <a:xfrm>
              <a:off x="516240" y="533520"/>
              <a:ext cx="4132080" cy="34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5"/>
            <p:cNvSpPr/>
            <p:nvPr/>
          </p:nvSpPr>
          <p:spPr>
            <a:xfrm>
              <a:off x="380880" y="4668120"/>
              <a:ext cx="3996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宋体"/>
                  <a:ea typeface="黑体"/>
                </a:rPr>
                <a:t>    </a:t>
              </a:r>
              <a:r>
                <a:rPr b="1" lang="en-US" sz="2800" spc="-1" strike="noStrike">
                  <a:solidFill>
                    <a:srgbClr val="0000cc"/>
                  </a:solidFill>
                  <a:latin typeface="宋体"/>
                  <a:ea typeface="黑体"/>
                </a:rPr>
                <a:t>60</a:t>
              </a:r>
              <a:r>
                <a:rPr b="1" lang="zh-CN" sz="2800" spc="-1" strike="noStrike">
                  <a:solidFill>
                    <a:srgbClr val="0000cc"/>
                  </a:solidFill>
                  <a:latin typeface="宋体"/>
                  <a:ea typeface="黑体"/>
                </a:rPr>
                <a:t>年代，人们平均两个月才可以领到半斤</a:t>
              </a: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肉，并且还要凭票供应。</a:t>
              </a:r>
              <a:r>
                <a:rPr b="0" lang="zh-CN" sz="28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6"/>
            <p:cNvSpPr/>
            <p:nvPr/>
          </p:nvSpPr>
          <p:spPr>
            <a:xfrm rot="16200000">
              <a:off x="2026440" y="4213800"/>
              <a:ext cx="637200" cy="27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7"/>
          <p:cNvGrpSpPr/>
          <p:nvPr/>
        </p:nvGrpSpPr>
        <p:grpSpPr>
          <a:xfrm>
            <a:off x="4572000" y="1676520"/>
            <a:ext cx="4266720" cy="5014440"/>
            <a:chOff x="4572000" y="1676520"/>
            <a:chExt cx="4266720" cy="5014440"/>
          </a:xfrm>
        </p:grpSpPr>
        <p:pic>
          <p:nvPicPr>
            <p:cNvPr id="187" name="Picture 8" descr="3"/>
            <p:cNvPicPr/>
            <p:nvPr/>
          </p:nvPicPr>
          <p:blipFill>
            <a:blip r:embed="rId3"/>
            <a:stretch/>
          </p:blipFill>
          <p:spPr>
            <a:xfrm>
              <a:off x="4572000" y="3205800"/>
              <a:ext cx="4197960" cy="348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9"/>
            <p:cNvSpPr/>
            <p:nvPr/>
          </p:nvSpPr>
          <p:spPr>
            <a:xfrm>
              <a:off x="5122440" y="1676520"/>
              <a:ext cx="371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        </a:t>
              </a: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今天，超市出售的肉类食品，种类繁多。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10"/>
            <p:cNvSpPr/>
            <p:nvPr/>
          </p:nvSpPr>
          <p:spPr>
            <a:xfrm rot="5400000">
              <a:off x="6314760" y="2746800"/>
              <a:ext cx="642600" cy="275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5" descr="QQ截图未命名"/>
          <p:cNvPicPr/>
          <p:nvPr/>
        </p:nvPicPr>
        <p:blipFill>
          <a:blip r:embed="rId1"/>
          <a:stretch/>
        </p:blipFill>
        <p:spPr>
          <a:xfrm>
            <a:off x="1467000" y="2313000"/>
            <a:ext cx="5943600" cy="433692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37"/>
          <p:cNvGrpSpPr/>
          <p:nvPr/>
        </p:nvGrpSpPr>
        <p:grpSpPr>
          <a:xfrm>
            <a:off x="152280" y="0"/>
            <a:ext cx="2514600" cy="914040"/>
            <a:chOff x="152280" y="0"/>
            <a:chExt cx="2514600" cy="914040"/>
          </a:xfrm>
        </p:grpSpPr>
        <p:sp>
          <p:nvSpPr>
            <p:cNvPr id="87" name="AutoShape 38"/>
            <p:cNvSpPr/>
            <p:nvPr/>
          </p:nvSpPr>
          <p:spPr>
            <a:xfrm>
              <a:off x="342720" y="158760"/>
              <a:ext cx="2324160" cy="609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39"/>
            <p:cNvSpPr/>
            <p:nvPr/>
          </p:nvSpPr>
          <p:spPr>
            <a:xfrm>
              <a:off x="152280" y="0"/>
              <a:ext cx="342720" cy="9140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WordArt 40"/>
          <p:cNvSpPr txBox="1"/>
          <p:nvPr/>
        </p:nvSpPr>
        <p:spPr>
          <a:xfrm>
            <a:off x="571680" y="228600"/>
            <a:ext cx="1866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20">
                  <a:solidFill>
                    <a:srgbClr val="ffff00"/>
                  </a:solidFill>
                  <a:round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华文新魏"/>
              </a:rPr>
              <a:t>导入新课</a:t>
            </a:r>
            <a:endParaRPr b="1" lang="en-US" sz="1800" spc="1" strike="noStrike">
              <a:ln w="2520">
                <a:solidFill>
                  <a:srgbClr val="ffff00"/>
                </a:solidFill>
                <a:round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0" name="Text Box 41"/>
          <p:cNvSpPr/>
          <p:nvPr/>
        </p:nvSpPr>
        <p:spPr>
          <a:xfrm>
            <a:off x="380880" y="10987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改革开放后，人民的生活过得越来越有滋味了。有的住上了更宽敞的房子；有的让自己的子女接受到更好的教育；我们国家也更加繁荣昌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这些美好的愿望是如何变成现实的呢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4"/>
          <p:cNvPicPr/>
          <p:nvPr/>
        </p:nvPicPr>
        <p:blipFill>
          <a:blip r:embed="rId1"/>
          <a:stretch/>
        </p:blipFill>
        <p:spPr>
          <a:xfrm>
            <a:off x="1066680" y="1519200"/>
            <a:ext cx="7315200" cy="5024520"/>
          </a:xfrm>
          <a:prstGeom prst="rect">
            <a:avLst/>
          </a:prstGeom>
          <a:ln w="0">
            <a:noFill/>
          </a:ln>
        </p:spPr>
      </p:pic>
      <p:sp>
        <p:nvSpPr>
          <p:cNvPr id="191" name="WordArt 3"/>
          <p:cNvSpPr txBox="1"/>
          <p:nvPr/>
        </p:nvSpPr>
        <p:spPr>
          <a:xfrm>
            <a:off x="838080" y="762120"/>
            <a:ext cx="74304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9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穿</a:t>
            </a:r>
            <a:endParaRPr b="0" lang="en-US" sz="4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20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3" name="Group 3"/>
          <p:cNvGrpSpPr/>
          <p:nvPr/>
        </p:nvGrpSpPr>
        <p:grpSpPr>
          <a:xfrm>
            <a:off x="380880" y="533520"/>
            <a:ext cx="4267440" cy="3602160"/>
            <a:chOff x="380880" y="533520"/>
            <a:chExt cx="4267440" cy="3602160"/>
          </a:xfrm>
        </p:grpSpPr>
        <p:pic>
          <p:nvPicPr>
            <p:cNvPr id="194" name="Picture 4" descr="5"/>
            <p:cNvPicPr/>
            <p:nvPr/>
          </p:nvPicPr>
          <p:blipFill>
            <a:blip r:embed="rId2"/>
            <a:stretch/>
          </p:blipFill>
          <p:spPr>
            <a:xfrm>
              <a:off x="447480" y="533520"/>
              <a:ext cx="4133880" cy="250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5"/>
            <p:cNvSpPr/>
            <p:nvPr/>
          </p:nvSpPr>
          <p:spPr>
            <a:xfrm>
              <a:off x="380880" y="3615120"/>
              <a:ext cx="426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宋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000cc"/>
                  </a:solidFill>
                  <a:latin typeface="宋体"/>
                  <a:ea typeface="黑体"/>
                </a:rPr>
                <a:t>六、七十年代，由于物质匮乏，人们只能穿蓝色制服。</a:t>
              </a: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6"/>
            <p:cNvSpPr/>
            <p:nvPr/>
          </p:nvSpPr>
          <p:spPr>
            <a:xfrm rot="16200000">
              <a:off x="1889640" y="3216960"/>
              <a:ext cx="582840" cy="26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7"/>
          <p:cNvGrpSpPr/>
          <p:nvPr/>
        </p:nvGrpSpPr>
        <p:grpSpPr>
          <a:xfrm>
            <a:off x="914400" y="1143000"/>
            <a:ext cx="8000640" cy="5410440"/>
            <a:chOff x="914400" y="1143000"/>
            <a:chExt cx="8000640" cy="5410440"/>
          </a:xfrm>
        </p:grpSpPr>
        <p:pic>
          <p:nvPicPr>
            <p:cNvPr id="198" name="Picture 8" descr="20080103073957917"/>
            <p:cNvPicPr/>
            <p:nvPr/>
          </p:nvPicPr>
          <p:blipFill>
            <a:blip r:embed="rId3"/>
            <a:stretch/>
          </p:blipFill>
          <p:spPr>
            <a:xfrm>
              <a:off x="4993560" y="1143000"/>
              <a:ext cx="3921480" cy="541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 Box 9"/>
            <p:cNvSpPr/>
            <p:nvPr/>
          </p:nvSpPr>
          <p:spPr>
            <a:xfrm>
              <a:off x="914400" y="5259240"/>
              <a:ext cx="3263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今天，一样的蓝色，不一样的感觉。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10"/>
            <p:cNvSpPr/>
            <p:nvPr/>
          </p:nvSpPr>
          <p:spPr>
            <a:xfrm>
              <a:off x="4251600" y="5569920"/>
              <a:ext cx="667440" cy="281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30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WordArt 3"/>
          <p:cNvSpPr txBox="1"/>
          <p:nvPr/>
        </p:nvSpPr>
        <p:spPr>
          <a:xfrm>
            <a:off x="685800" y="533520"/>
            <a:ext cx="743040" cy="5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住</a:t>
            </a:r>
            <a:endParaRPr b="0" lang="en-US" sz="4400" spc="-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203" name="Group 4"/>
          <p:cNvGrpSpPr/>
          <p:nvPr/>
        </p:nvGrpSpPr>
        <p:grpSpPr>
          <a:xfrm>
            <a:off x="609480" y="3770280"/>
            <a:ext cx="8153280" cy="2914560"/>
            <a:chOff x="609480" y="3770280"/>
            <a:chExt cx="8153280" cy="2914560"/>
          </a:xfrm>
        </p:grpSpPr>
        <p:pic>
          <p:nvPicPr>
            <p:cNvPr id="204" name="Picture 5" descr="7"/>
            <p:cNvPicPr/>
            <p:nvPr/>
          </p:nvPicPr>
          <p:blipFill>
            <a:blip r:embed="rId2"/>
            <a:stretch/>
          </p:blipFill>
          <p:spPr>
            <a:xfrm>
              <a:off x="609480" y="3770280"/>
              <a:ext cx="4586400" cy="29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6"/>
            <p:cNvSpPr/>
            <p:nvPr/>
          </p:nvSpPr>
          <p:spPr>
            <a:xfrm>
              <a:off x="5996520" y="5056920"/>
              <a:ext cx="276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    </a:t>
              </a: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70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年代，人们普遍居住在低矮的平房里。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7"/>
            <p:cNvSpPr/>
            <p:nvPr/>
          </p:nvSpPr>
          <p:spPr>
            <a:xfrm rot="10800000">
              <a:off x="5341320" y="5508720"/>
              <a:ext cx="655200" cy="257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8"/>
          <p:cNvGrpSpPr/>
          <p:nvPr/>
        </p:nvGrpSpPr>
        <p:grpSpPr>
          <a:xfrm>
            <a:off x="457200" y="609480"/>
            <a:ext cx="8305560" cy="3238560"/>
            <a:chOff x="457200" y="609480"/>
            <a:chExt cx="8305560" cy="3238560"/>
          </a:xfrm>
        </p:grpSpPr>
        <p:pic>
          <p:nvPicPr>
            <p:cNvPr id="208" name="Picture 9" descr="8"/>
            <p:cNvPicPr/>
            <p:nvPr/>
          </p:nvPicPr>
          <p:blipFill>
            <a:blip r:embed="rId3"/>
            <a:stretch/>
          </p:blipFill>
          <p:spPr>
            <a:xfrm>
              <a:off x="3996000" y="609480"/>
              <a:ext cx="4766760" cy="323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AutoShape 10"/>
            <p:cNvSpPr/>
            <p:nvPr/>
          </p:nvSpPr>
          <p:spPr>
            <a:xfrm>
              <a:off x="3273840" y="1917720"/>
              <a:ext cx="649800" cy="261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1"/>
            <p:cNvSpPr/>
            <p:nvPr/>
          </p:nvSpPr>
          <p:spPr>
            <a:xfrm>
              <a:off x="457200" y="1523880"/>
              <a:ext cx="288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宋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黑体"/>
                </a:rPr>
                <a:t>今天，人们已经住进了规划整齐的高级公寓里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40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12" name="WordArt 3"/>
          <p:cNvSpPr txBox="1"/>
          <p:nvPr/>
        </p:nvSpPr>
        <p:spPr>
          <a:xfrm>
            <a:off x="685800" y="380880"/>
            <a:ext cx="74304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3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用</a:t>
            </a:r>
            <a:endParaRPr b="0" lang="en-US" sz="4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457200" y="1219320"/>
            <a:ext cx="4190760" cy="3990240"/>
            <a:chOff x="457200" y="1219320"/>
            <a:chExt cx="4190760" cy="3990240"/>
          </a:xfrm>
        </p:grpSpPr>
        <p:pic>
          <p:nvPicPr>
            <p:cNvPr id="214" name="Picture 5" descr="9"/>
            <p:cNvPicPr/>
            <p:nvPr/>
          </p:nvPicPr>
          <p:blipFill>
            <a:blip r:embed="rId2"/>
            <a:stretch/>
          </p:blipFill>
          <p:spPr>
            <a:xfrm>
              <a:off x="583920" y="1219320"/>
              <a:ext cx="4064040" cy="29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6"/>
            <p:cNvSpPr/>
            <p:nvPr/>
          </p:nvSpPr>
          <p:spPr>
            <a:xfrm>
              <a:off x="457200" y="468900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宋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黑体"/>
                </a:rPr>
                <a:t>七、八十年代，人们娱乐和获取信息的主要途径是小小的半导体收音机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7"/>
            <p:cNvSpPr/>
            <p:nvPr/>
          </p:nvSpPr>
          <p:spPr>
            <a:xfrm rot="16200000">
              <a:off x="1813320" y="4332960"/>
              <a:ext cx="588960" cy="253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8"/>
          <p:cNvGrpSpPr/>
          <p:nvPr/>
        </p:nvGrpSpPr>
        <p:grpSpPr>
          <a:xfrm>
            <a:off x="4572000" y="1447920"/>
            <a:ext cx="4267080" cy="5257440"/>
            <a:chOff x="4572000" y="1447920"/>
            <a:chExt cx="4267080" cy="5257440"/>
          </a:xfrm>
        </p:grpSpPr>
        <p:pic>
          <p:nvPicPr>
            <p:cNvPr id="218" name="Picture 9" descr="10"/>
            <p:cNvPicPr/>
            <p:nvPr/>
          </p:nvPicPr>
          <p:blipFill>
            <a:blip r:embed="rId3">
              <a:lum bright="20000"/>
            </a:blip>
            <a:stretch/>
          </p:blipFill>
          <p:spPr>
            <a:xfrm>
              <a:off x="4572000" y="3438000"/>
              <a:ext cx="4267080" cy="326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 Box 10"/>
            <p:cNvSpPr/>
            <p:nvPr/>
          </p:nvSpPr>
          <p:spPr>
            <a:xfrm>
              <a:off x="5411160" y="1447920"/>
              <a:ext cx="335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今天，拥有大屏幕的彩色电视机已经不是什么新鲜的事了。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11"/>
            <p:cNvSpPr/>
            <p:nvPr/>
          </p:nvSpPr>
          <p:spPr>
            <a:xfrm rot="5400000">
              <a:off x="6420600" y="2907360"/>
              <a:ext cx="63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50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WordArt 3"/>
          <p:cNvSpPr txBox="1"/>
          <p:nvPr/>
        </p:nvSpPr>
        <p:spPr>
          <a:xfrm>
            <a:off x="609480" y="457200"/>
            <a:ext cx="81936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行</a:t>
            </a:r>
            <a:endParaRPr b="0" lang="en-US" sz="4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304920" y="12952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13"/>
          <p:cNvGrpSpPr/>
          <p:nvPr/>
        </p:nvGrpSpPr>
        <p:grpSpPr>
          <a:xfrm>
            <a:off x="380880" y="960480"/>
            <a:ext cx="4635720" cy="5745240"/>
            <a:chOff x="380880" y="960480"/>
            <a:chExt cx="4635720" cy="5745240"/>
          </a:xfrm>
        </p:grpSpPr>
        <p:pic>
          <p:nvPicPr>
            <p:cNvPr id="225" name="Picture 6" descr="11"/>
            <p:cNvPicPr/>
            <p:nvPr/>
          </p:nvPicPr>
          <p:blipFill>
            <a:blip r:embed="rId2"/>
            <a:stretch/>
          </p:blipFill>
          <p:spPr>
            <a:xfrm>
              <a:off x="380880" y="3259080"/>
              <a:ext cx="4635720" cy="34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Text Box 7"/>
            <p:cNvSpPr/>
            <p:nvPr/>
          </p:nvSpPr>
          <p:spPr>
            <a:xfrm>
              <a:off x="380880" y="960480"/>
              <a:ext cx="403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宋体"/>
                  <a:ea typeface="黑体"/>
                </a:rPr>
                <a:t>    </a:t>
              </a:r>
              <a:r>
                <a:rPr b="1" lang="en-US" sz="2800" spc="-1" strike="noStrike">
                  <a:solidFill>
                    <a:srgbClr val="0000ff"/>
                  </a:solidFill>
                  <a:latin typeface="宋体"/>
                  <a:ea typeface="黑体"/>
                </a:rPr>
                <a:t>60</a:t>
              </a: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黑体"/>
                </a:rPr>
                <a:t>年代，凹凸不平的马路上，骑着永久牌自行车上下班成为当时的一道风景线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8"/>
            <p:cNvSpPr/>
            <p:nvPr/>
          </p:nvSpPr>
          <p:spPr>
            <a:xfrm rot="5400000">
              <a:off x="2234160" y="2788560"/>
              <a:ext cx="700200" cy="298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9"/>
          <p:cNvGrpSpPr/>
          <p:nvPr/>
        </p:nvGrpSpPr>
        <p:grpSpPr>
          <a:xfrm>
            <a:off x="4572000" y="1219320"/>
            <a:ext cx="4343040" cy="4257720"/>
            <a:chOff x="4572000" y="1219320"/>
            <a:chExt cx="4343040" cy="4257720"/>
          </a:xfrm>
        </p:grpSpPr>
        <p:pic>
          <p:nvPicPr>
            <p:cNvPr id="229" name="Picture 10" descr="12"/>
            <p:cNvPicPr/>
            <p:nvPr/>
          </p:nvPicPr>
          <p:blipFill>
            <a:blip r:embed="rId3"/>
            <a:stretch/>
          </p:blipFill>
          <p:spPr>
            <a:xfrm>
              <a:off x="4572000" y="1219320"/>
              <a:ext cx="4278240" cy="313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AutoShape 11"/>
            <p:cNvSpPr/>
            <p:nvPr/>
          </p:nvSpPr>
          <p:spPr>
            <a:xfrm rot="16200000">
              <a:off x="6685560" y="4541400"/>
              <a:ext cx="569880" cy="25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12"/>
            <p:cNvSpPr/>
            <p:nvPr/>
          </p:nvSpPr>
          <p:spPr>
            <a:xfrm>
              <a:off x="5414760" y="4956480"/>
              <a:ext cx="350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今天，宽阔的街道和便捷的交通工具已经解决了出行难的问题。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838080" y="2209680"/>
            <a:ext cx="784872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改革开放之后，我国以经济建设为中心，大力发展生产力，极大地丰富了人民群众的物质文化生活，使人民群众过上了富裕的生活，实践证明党的基本路线是正确的，所以我们要坚持党的基本路线不动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WordArt 3"/>
          <p:cNvSpPr txBox="1"/>
          <p:nvPr/>
        </p:nvSpPr>
        <p:spPr>
          <a:xfrm>
            <a:off x="1752480" y="1600200"/>
            <a:ext cx="9907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小结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34" name="Picture 4" descr="先阅读，后回答"/>
          <p:cNvPicPr/>
          <p:nvPr/>
        </p:nvPicPr>
        <p:blipFill>
          <a:blip r:embed="rId3"/>
          <a:stretch/>
        </p:blipFill>
        <p:spPr>
          <a:xfrm>
            <a:off x="457200" y="1219320"/>
            <a:ext cx="1405080" cy="80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76320" y="3049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如何坚持党的基本路线不动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2"/>
          <p:cNvSpPr/>
          <p:nvPr/>
        </p:nvSpPr>
        <p:spPr>
          <a:xfrm>
            <a:off x="228600" y="8380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关键是坚持以经济建设为中心不动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4"/>
          <p:cNvSpPr/>
          <p:nvPr/>
        </p:nvSpPr>
        <p:spPr>
          <a:xfrm>
            <a:off x="2971800" y="42051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我国与世界发达国家的差距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36"/>
          <p:cNvGrpSpPr/>
          <p:nvPr/>
        </p:nvGrpSpPr>
        <p:grpSpPr>
          <a:xfrm>
            <a:off x="0" y="4495680"/>
            <a:ext cx="1447560" cy="547920"/>
            <a:chOff x="0" y="4495680"/>
            <a:chExt cx="1447560" cy="547920"/>
          </a:xfrm>
        </p:grpSpPr>
        <p:sp>
          <p:nvSpPr>
            <p:cNvPr id="239" name="WordArt 37"/>
            <p:cNvSpPr txBox="1"/>
            <p:nvPr/>
          </p:nvSpPr>
          <p:spPr>
            <a:xfrm>
              <a:off x="643320" y="4507560"/>
              <a:ext cx="804240" cy="408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cc99ff"/>
                    </a:solidFill>
                    <a:round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华文新魏"/>
                </a:rPr>
                <a:t>请你思考</a:t>
              </a:r>
              <a:endPara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  <a:ea typeface="华文新魏"/>
              </a:endParaRPr>
            </a:p>
          </p:txBody>
        </p:sp>
        <p:pic>
          <p:nvPicPr>
            <p:cNvPr id="240" name="Picture 38" descr="0"/>
            <p:cNvPicPr/>
            <p:nvPr/>
          </p:nvPicPr>
          <p:blipFill>
            <a:blip r:embed="rId1"/>
            <a:stretch/>
          </p:blipFill>
          <p:spPr>
            <a:xfrm>
              <a:off x="0" y="4495680"/>
              <a:ext cx="635760" cy="54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1" name="Text Box 39"/>
          <p:cNvSpPr/>
          <p:nvPr/>
        </p:nvSpPr>
        <p:spPr>
          <a:xfrm>
            <a:off x="380880" y="495288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前我国在各个领域与世界先进国家之间存在一定的差距，要缩小这些差距甚至赶上和超越这些先进国家，我们应该把重点工作放在哪方面？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0" descr="未命名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43200" y="1676520"/>
            <a:ext cx="3352680" cy="2403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838080" y="2209680"/>
            <a:ext cx="7848720" cy="13816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重点放在以经济建设为中心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只有坚持以经济建设为中心，大力发展生存力，才能从根本上巩固和发展社会主义制度，才能不断满足人民日益增长的物质文化需要，才能推动社会全面进步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WordArt 3"/>
          <p:cNvSpPr txBox="1"/>
          <p:nvPr/>
        </p:nvSpPr>
        <p:spPr>
          <a:xfrm>
            <a:off x="1752480" y="1600200"/>
            <a:ext cx="9907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小结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45" name="Picture 4" descr="先阅读，后回答"/>
          <p:cNvPicPr/>
          <p:nvPr/>
        </p:nvPicPr>
        <p:blipFill>
          <a:blip r:embed="rId3"/>
          <a:stretch/>
        </p:blipFill>
        <p:spPr>
          <a:xfrm>
            <a:off x="457200" y="1219320"/>
            <a:ext cx="1405080" cy="804600"/>
          </a:xfrm>
          <a:prstGeom prst="rect">
            <a:avLst/>
          </a:prstGeom>
          <a:ln w="0">
            <a:noFill/>
          </a:ln>
        </p:spPr>
      </p:pic>
      <p:sp>
        <p:nvSpPr>
          <p:cNvPr id="246" name="文本框 8199"/>
          <p:cNvSpPr/>
          <p:nvPr/>
        </p:nvSpPr>
        <p:spPr>
          <a:xfrm>
            <a:off x="1862280" y="884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7"/>
          <p:cNvSpPr/>
          <p:nvPr/>
        </p:nvSpPr>
        <p:spPr>
          <a:xfrm>
            <a:off x="228600" y="4572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必须正确处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个中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两个基本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Object 14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629400" cy="519264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5"/>
          <p:cNvSpPr/>
          <p:nvPr/>
        </p:nvSpPr>
        <p:spPr>
          <a:xfrm>
            <a:off x="2438280" y="3381480"/>
            <a:ext cx="457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隶书"/>
              </a:rPr>
              <a:t>导航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6"/>
          <p:cNvSpPr/>
          <p:nvPr/>
        </p:nvSpPr>
        <p:spPr>
          <a:xfrm>
            <a:off x="3429000" y="3962520"/>
            <a:ext cx="152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隶书"/>
              </a:rPr>
              <a:t>工作仓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隶书"/>
              </a:rPr>
              <a:t>(</a:t>
            </a:r>
            <a:r>
              <a:rPr b="1" lang="zh-CN" sz="2800" spc="-1" strike="noStrike">
                <a:solidFill>
                  <a:srgbClr val="00cc00"/>
                </a:solidFill>
                <a:latin typeface="Tahoma"/>
                <a:ea typeface="隶书"/>
              </a:rPr>
              <a:t>中心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7"/>
          <p:cNvSpPr/>
          <p:nvPr/>
        </p:nvSpPr>
        <p:spPr>
          <a:xfrm>
            <a:off x="5486400" y="3429000"/>
            <a:ext cx="60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  <a:ea typeface="隶书"/>
              </a:rPr>
              <a:t>动力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8"/>
          <p:cNvGrpSpPr/>
          <p:nvPr/>
        </p:nvGrpSpPr>
        <p:grpSpPr>
          <a:xfrm>
            <a:off x="457200" y="2971800"/>
            <a:ext cx="2057400" cy="1373760"/>
            <a:chOff x="457200" y="2971800"/>
            <a:chExt cx="2057400" cy="1373760"/>
          </a:xfrm>
        </p:grpSpPr>
        <p:sp>
          <p:nvSpPr>
            <p:cNvPr id="253" name="Text Box 19"/>
            <p:cNvSpPr/>
            <p:nvPr/>
          </p:nvSpPr>
          <p:spPr>
            <a:xfrm>
              <a:off x="457200" y="2971800"/>
              <a:ext cx="6098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ahoma"/>
                  <a:ea typeface="黑体"/>
                </a:rPr>
                <a:t>四项基本原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1066680" y="4343400"/>
              <a:ext cx="1447920" cy="360"/>
              <a:chOff x="1066680" y="4343400"/>
              <a:chExt cx="1447920" cy="360"/>
            </a:xfrm>
          </p:grpSpPr>
          <p:sp>
            <p:nvSpPr>
              <p:cNvPr id="255" name="Line 20"/>
              <p:cNvSpPr/>
              <p:nvPr/>
            </p:nvSpPr>
            <p:spPr>
              <a:xfrm flipH="1">
                <a:off x="1066680" y="4343400"/>
                <a:ext cx="1447560" cy="0"/>
              </a:xfrm>
              <a:prstGeom prst="line">
                <a:avLst/>
              </a:prstGeom>
              <a:ln w="8892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 txBox="1"/>
              <p:nvPr/>
            </p:nvSpPr>
            <p:spPr>
              <a:xfrm>
                <a:off x="1067040" y="4343400"/>
                <a:ext cx="1447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7" name="Group 21"/>
          <p:cNvGrpSpPr/>
          <p:nvPr/>
        </p:nvGrpSpPr>
        <p:grpSpPr>
          <a:xfrm>
            <a:off x="3124080" y="762120"/>
            <a:ext cx="1904760" cy="3047040"/>
            <a:chOff x="3124080" y="762120"/>
            <a:chExt cx="1904760" cy="3047040"/>
          </a:xfrm>
        </p:grpSpPr>
        <p:sp>
          <p:nvSpPr>
            <p:cNvPr id="258" name="Text Box 22"/>
            <p:cNvSpPr/>
            <p:nvPr/>
          </p:nvSpPr>
          <p:spPr>
            <a:xfrm>
              <a:off x="3124080" y="76212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ahoma"/>
                  <a:ea typeface="黑体"/>
                </a:rPr>
                <a:t>以经济建设为中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038120" y="1904400"/>
              <a:ext cx="360" cy="1904760"/>
              <a:chOff x="4038120" y="1904400"/>
              <a:chExt cx="360" cy="1904760"/>
            </a:xfrm>
          </p:grpSpPr>
          <p:sp>
            <p:nvSpPr>
              <p:cNvPr id="260" name="Line 23"/>
              <p:cNvSpPr/>
              <p:nvPr/>
            </p:nvSpPr>
            <p:spPr>
              <a:xfrm flipV="1">
                <a:off x="4038480" y="1904400"/>
                <a:ext cx="0" cy="1904760"/>
              </a:xfrm>
              <a:prstGeom prst="line">
                <a:avLst/>
              </a:prstGeom>
              <a:ln w="8892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 txBox="1"/>
              <p:nvPr/>
            </p:nvSpPr>
            <p:spPr>
              <a:xfrm rot="10800000">
                <a:off x="4038120" y="1904400"/>
                <a:ext cx="360" cy="1904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2" name="Group 24"/>
          <p:cNvGrpSpPr/>
          <p:nvPr/>
        </p:nvGrpSpPr>
        <p:grpSpPr>
          <a:xfrm>
            <a:off x="837720" y="913320"/>
            <a:ext cx="7386840" cy="2352600"/>
            <a:chOff x="837720" y="913320"/>
            <a:chExt cx="7386840" cy="2352600"/>
          </a:xfrm>
        </p:grpSpPr>
        <p:grpSp>
          <p:nvGrpSpPr>
            <p:cNvPr id="263" name=""/>
            <p:cNvGrpSpPr/>
            <p:nvPr/>
          </p:nvGrpSpPr>
          <p:grpSpPr>
            <a:xfrm>
              <a:off x="4957920" y="1305720"/>
              <a:ext cx="3266640" cy="1960200"/>
              <a:chOff x="4957920" y="1305720"/>
              <a:chExt cx="3266640" cy="1960200"/>
            </a:xfrm>
          </p:grpSpPr>
          <p:sp>
            <p:nvSpPr>
              <p:cNvPr id="264" name="Line 25"/>
              <p:cNvSpPr/>
              <p:nvPr/>
            </p:nvSpPr>
            <p:spPr>
              <a:xfrm flipH="1" flipV="1">
                <a:off x="5114160" y="1306080"/>
                <a:ext cx="2954160" cy="1959840"/>
              </a:xfrm>
              <a:prstGeom prst="line">
                <a:avLst/>
              </a:prstGeom>
              <a:ln w="76320">
                <a:solidFill>
                  <a:srgbClr val="0000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 txBox="1"/>
              <p:nvPr/>
            </p:nvSpPr>
            <p:spPr>
              <a:xfrm rot="11121000">
                <a:off x="5028840" y="1447560"/>
                <a:ext cx="3124080" cy="1676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Group 26"/>
            <p:cNvGrpSpPr/>
            <p:nvPr/>
          </p:nvGrpSpPr>
          <p:grpSpPr>
            <a:xfrm>
              <a:off x="837720" y="913320"/>
              <a:ext cx="2057760" cy="1981800"/>
              <a:chOff x="837720" y="913320"/>
              <a:chExt cx="2057760" cy="198180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837720" y="1294920"/>
                <a:ext cx="2057760" cy="1600200"/>
                <a:chOff x="837720" y="1294920"/>
                <a:chExt cx="2057760" cy="1600200"/>
              </a:xfrm>
            </p:grpSpPr>
            <p:sp>
              <p:nvSpPr>
                <p:cNvPr id="268" name="Line 27"/>
                <p:cNvSpPr/>
                <p:nvPr/>
              </p:nvSpPr>
              <p:spPr>
                <a:xfrm flipV="1">
                  <a:off x="838080" y="1294920"/>
                  <a:ext cx="2057400" cy="1600200"/>
                </a:xfrm>
                <a:prstGeom prst="line">
                  <a:avLst/>
                </a:prstGeom>
                <a:ln w="76320">
                  <a:solidFill>
                    <a:srgbClr val="0000c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 txBox="1"/>
                <p:nvPr/>
              </p:nvSpPr>
              <p:spPr>
                <a:xfrm rot="10800000">
                  <a:off x="837720" y="1294920"/>
                  <a:ext cx="2057400" cy="160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0" name="Text Box 28"/>
              <p:cNvSpPr/>
              <p:nvPr/>
            </p:nvSpPr>
            <p:spPr>
              <a:xfrm rot="19412400">
                <a:off x="961920" y="1356840"/>
                <a:ext cx="1665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服务于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Text Box 29"/>
            <p:cNvSpPr/>
            <p:nvPr/>
          </p:nvSpPr>
          <p:spPr>
            <a:xfrm rot="1935000">
              <a:off x="6452280" y="1711440"/>
              <a:ext cx="167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服务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30"/>
          <p:cNvGrpSpPr/>
          <p:nvPr/>
        </p:nvGrpSpPr>
        <p:grpSpPr>
          <a:xfrm>
            <a:off x="5943600" y="3152880"/>
            <a:ext cx="2895120" cy="1066680"/>
            <a:chOff x="5943600" y="3152880"/>
            <a:chExt cx="2895120" cy="1066680"/>
          </a:xfrm>
        </p:grpSpPr>
        <p:sp>
          <p:nvSpPr>
            <p:cNvPr id="273" name="Text Box 31"/>
            <p:cNvSpPr/>
            <p:nvPr/>
          </p:nvSpPr>
          <p:spPr>
            <a:xfrm>
              <a:off x="8076960" y="3152880"/>
              <a:ext cx="761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ahoma"/>
                  <a:ea typeface="黑体"/>
                </a:rPr>
                <a:t>改革开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5943600" y="4219200"/>
              <a:ext cx="2057040" cy="360"/>
              <a:chOff x="5943600" y="4219200"/>
              <a:chExt cx="2057040" cy="360"/>
            </a:xfrm>
          </p:grpSpPr>
          <p:sp>
            <p:nvSpPr>
              <p:cNvPr id="275" name="Line 32"/>
              <p:cNvSpPr/>
              <p:nvPr/>
            </p:nvSpPr>
            <p:spPr>
              <a:xfrm>
                <a:off x="5943600" y="4219200"/>
                <a:ext cx="2057040" cy="0"/>
              </a:xfrm>
              <a:prstGeom prst="line">
                <a:avLst/>
              </a:prstGeom>
              <a:ln w="8892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 txBox="1"/>
              <p:nvPr/>
            </p:nvSpPr>
            <p:spPr>
              <a:xfrm>
                <a:off x="5943600" y="4219200"/>
                <a:ext cx="2057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0" y="4572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必须正确处理改革、发展、稳定三者之间的关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2"/>
          <p:cNvSpPr/>
          <p:nvPr/>
        </p:nvSpPr>
        <p:spPr>
          <a:xfrm>
            <a:off x="324000" y="968400"/>
            <a:ext cx="8640720" cy="459720"/>
          </a:xfrm>
          <a:prstGeom prst="rect">
            <a:avLst/>
          </a:prstGeom>
          <a:solidFill>
            <a:srgbClr val="ffffcc"/>
          </a:solidFill>
          <a:ln w="442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改革是动力，发展是硬道理，稳定压倒一切。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只有正确处理好改革、发展和稳定的关系，才能总揽全局，保证经济社会的蓬勃发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23"/>
          <p:cNvGrpSpPr/>
          <p:nvPr/>
        </p:nvGrpSpPr>
        <p:grpSpPr>
          <a:xfrm>
            <a:off x="971640" y="2590920"/>
            <a:ext cx="6840000" cy="2516400"/>
            <a:chOff x="971640" y="2590920"/>
            <a:chExt cx="6840000" cy="2516400"/>
          </a:xfrm>
        </p:grpSpPr>
        <p:sp>
          <p:nvSpPr>
            <p:cNvPr id="280" name="Text Box 24"/>
            <p:cNvSpPr/>
            <p:nvPr/>
          </p:nvSpPr>
          <p:spPr>
            <a:xfrm>
              <a:off x="3562200" y="2590920"/>
              <a:ext cx="1464840" cy="52056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稳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3256920" y="3329640"/>
              <a:ext cx="349200" cy="758160"/>
              <a:chOff x="3256920" y="3329640"/>
              <a:chExt cx="349200" cy="758160"/>
            </a:xfrm>
          </p:grpSpPr>
          <p:sp>
            <p:nvSpPr>
              <p:cNvPr id="282" name="Line 25"/>
              <p:cNvSpPr/>
              <p:nvPr/>
            </p:nvSpPr>
            <p:spPr>
              <a:xfrm flipH="1">
                <a:off x="3256920" y="3329640"/>
                <a:ext cx="348840" cy="758160"/>
              </a:xfrm>
              <a:prstGeom prst="line">
                <a:avLst/>
              </a:prstGeom>
              <a:ln w="57240">
                <a:solidFill>
                  <a:srgbClr val="d6009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 txBox="1"/>
              <p:nvPr/>
            </p:nvSpPr>
            <p:spPr>
              <a:xfrm>
                <a:off x="3257280" y="3329640"/>
                <a:ext cx="348840" cy="758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Text Box 26"/>
            <p:cNvSpPr/>
            <p:nvPr/>
          </p:nvSpPr>
          <p:spPr>
            <a:xfrm>
              <a:off x="971640" y="3279240"/>
              <a:ext cx="23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黑体"/>
                </a:rPr>
                <a:t>前提、保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7"/>
            <p:cNvSpPr/>
            <p:nvPr/>
          </p:nvSpPr>
          <p:spPr>
            <a:xfrm>
              <a:off x="5314680" y="3076920"/>
              <a:ext cx="249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黑体"/>
                </a:rPr>
                <a:t>前提、保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28"/>
            <p:cNvSpPr/>
            <p:nvPr/>
          </p:nvSpPr>
          <p:spPr>
            <a:xfrm>
              <a:off x="1885680" y="4155840"/>
              <a:ext cx="1447560" cy="52056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发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29"/>
            <p:cNvSpPr/>
            <p:nvPr/>
          </p:nvSpPr>
          <p:spPr>
            <a:xfrm>
              <a:off x="5391000" y="4141800"/>
              <a:ext cx="1294920" cy="94716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改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3541680" y="4425120"/>
              <a:ext cx="1655280" cy="360"/>
              <a:chOff x="3541680" y="4425120"/>
              <a:chExt cx="1655280" cy="360"/>
            </a:xfrm>
          </p:grpSpPr>
          <p:sp>
            <p:nvSpPr>
              <p:cNvPr id="289" name="Line 30"/>
              <p:cNvSpPr/>
              <p:nvPr/>
            </p:nvSpPr>
            <p:spPr>
              <a:xfrm>
                <a:off x="3541680" y="4425120"/>
                <a:ext cx="1655280" cy="0"/>
              </a:xfrm>
              <a:prstGeom prst="line">
                <a:avLst/>
              </a:prstGeom>
              <a:ln w="57240">
                <a:solidFill>
                  <a:srgbClr val="d6009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 txBox="1"/>
              <p:nvPr/>
            </p:nvSpPr>
            <p:spPr>
              <a:xfrm>
                <a:off x="3541680" y="4425120"/>
                <a:ext cx="1655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3541680" y="4627440"/>
              <a:ext cx="1584000" cy="360"/>
              <a:chOff x="3541680" y="4627440"/>
              <a:chExt cx="1584000" cy="360"/>
            </a:xfrm>
          </p:grpSpPr>
          <p:sp>
            <p:nvSpPr>
              <p:cNvPr id="292" name="Line 31"/>
              <p:cNvSpPr/>
              <p:nvPr/>
            </p:nvSpPr>
            <p:spPr>
              <a:xfrm flipH="1">
                <a:off x="3541680" y="4627440"/>
                <a:ext cx="1584000" cy="0"/>
              </a:xfrm>
              <a:prstGeom prst="line">
                <a:avLst/>
              </a:prstGeom>
              <a:ln w="57240">
                <a:solidFill>
                  <a:srgbClr val="d6009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 txBox="1"/>
              <p:nvPr/>
            </p:nvSpPr>
            <p:spPr>
              <a:xfrm>
                <a:off x="3541680" y="4627440"/>
                <a:ext cx="158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Text Box 32"/>
            <p:cNvSpPr/>
            <p:nvPr/>
          </p:nvSpPr>
          <p:spPr>
            <a:xfrm>
              <a:off x="3790800" y="4586760"/>
              <a:ext cx="118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黑体"/>
                </a:rPr>
                <a:t>动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33"/>
            <p:cNvSpPr/>
            <p:nvPr/>
          </p:nvSpPr>
          <p:spPr>
            <a:xfrm>
              <a:off x="3714480" y="3779280"/>
              <a:ext cx="118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黑体"/>
                </a:rPr>
                <a:t>目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5086080" y="3329640"/>
              <a:ext cx="348840" cy="758160"/>
              <a:chOff x="5086080" y="3329640"/>
              <a:chExt cx="348840" cy="758160"/>
            </a:xfrm>
          </p:grpSpPr>
          <p:sp>
            <p:nvSpPr>
              <p:cNvPr id="297" name="Line 34"/>
              <p:cNvSpPr/>
              <p:nvPr/>
            </p:nvSpPr>
            <p:spPr>
              <a:xfrm>
                <a:off x="5086080" y="3329640"/>
                <a:ext cx="348840" cy="758160"/>
              </a:xfrm>
              <a:prstGeom prst="line">
                <a:avLst/>
              </a:prstGeom>
              <a:ln w="57240">
                <a:solidFill>
                  <a:srgbClr val="d6009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 txBox="1"/>
              <p:nvPr/>
            </p:nvSpPr>
            <p:spPr>
              <a:xfrm>
                <a:off x="5086080" y="3329640"/>
                <a:ext cx="348840" cy="758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9" name="Text Box 35"/>
          <p:cNvSpPr/>
          <p:nvPr/>
        </p:nvSpPr>
        <p:spPr>
          <a:xfrm>
            <a:off x="395280" y="5486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改革、发展中实现社会政治稳定，在社会政治稳定中推进改革、发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16"/>
          <p:cNvSpPr txBox="1"/>
          <p:nvPr/>
        </p:nvSpPr>
        <p:spPr>
          <a:xfrm>
            <a:off x="914400" y="2666880"/>
            <a:ext cx="7467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08080"/>
                  </a:outerShdw>
                </a:effectLst>
                <a:latin typeface="华文行楷"/>
              </a:rPr>
              <a:t>一、“一个中心，两个基本点”</a:t>
            </a:r>
            <a:endParaRPr b="1" lang="en-US" sz="1800" spc="-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808080"/>
                </a:outerShdw>
              </a:effectLst>
              <a:latin typeface="华文行楷"/>
              <a:ea typeface="华文行楷"/>
            </a:endParaRPr>
          </a:p>
        </p:txBody>
      </p:sp>
      <p:grpSp>
        <p:nvGrpSpPr>
          <p:cNvPr id="92" name="Group 18"/>
          <p:cNvGrpSpPr/>
          <p:nvPr/>
        </p:nvGrpSpPr>
        <p:grpSpPr>
          <a:xfrm>
            <a:off x="152280" y="0"/>
            <a:ext cx="2514600" cy="914040"/>
            <a:chOff x="152280" y="0"/>
            <a:chExt cx="2514600" cy="914040"/>
          </a:xfrm>
        </p:grpSpPr>
        <p:sp>
          <p:nvSpPr>
            <p:cNvPr id="93" name="AutoShape 19"/>
            <p:cNvSpPr/>
            <p:nvPr/>
          </p:nvSpPr>
          <p:spPr>
            <a:xfrm>
              <a:off x="342720" y="158760"/>
              <a:ext cx="2324160" cy="609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20"/>
            <p:cNvSpPr/>
            <p:nvPr/>
          </p:nvSpPr>
          <p:spPr>
            <a:xfrm>
              <a:off x="152280" y="0"/>
              <a:ext cx="342720" cy="9140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WordArt 21"/>
          <p:cNvSpPr txBox="1"/>
          <p:nvPr/>
        </p:nvSpPr>
        <p:spPr>
          <a:xfrm>
            <a:off x="571680" y="228600"/>
            <a:ext cx="1866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20">
                  <a:solidFill>
                    <a:srgbClr val="ffff00"/>
                  </a:solidFill>
                  <a:round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华文新魏"/>
              </a:rPr>
              <a:t>新课教学</a:t>
            </a:r>
            <a:endParaRPr b="1" lang="en-US" sz="1800" spc="1" strike="noStrike">
              <a:ln w="2520">
                <a:solidFill>
                  <a:srgbClr val="ffff00"/>
                </a:solidFill>
                <a:round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4EAB-5205-41D2-AD07-D9E50C8232C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Group 7"/>
          <p:cNvGrpSpPr/>
          <p:nvPr/>
        </p:nvGrpSpPr>
        <p:grpSpPr>
          <a:xfrm>
            <a:off x="152280" y="0"/>
            <a:ext cx="2514600" cy="914040"/>
            <a:chOff x="152280" y="0"/>
            <a:chExt cx="2514600" cy="914040"/>
          </a:xfrm>
        </p:grpSpPr>
        <p:sp>
          <p:nvSpPr>
            <p:cNvPr id="305" name="AutoShape 8"/>
            <p:cNvSpPr/>
            <p:nvPr/>
          </p:nvSpPr>
          <p:spPr>
            <a:xfrm>
              <a:off x="342720" y="158760"/>
              <a:ext cx="2324160" cy="609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9"/>
            <p:cNvSpPr/>
            <p:nvPr/>
          </p:nvSpPr>
          <p:spPr>
            <a:xfrm>
              <a:off x="152280" y="0"/>
              <a:ext cx="342720" cy="9140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WordArt 11"/>
          <p:cNvSpPr txBox="1"/>
          <p:nvPr/>
        </p:nvSpPr>
        <p:spPr>
          <a:xfrm>
            <a:off x="571680" y="228600"/>
            <a:ext cx="1866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20">
                  <a:solidFill>
                    <a:srgbClr val="ffff00"/>
                  </a:solidFill>
                  <a:round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华文新魏"/>
              </a:rPr>
              <a:t>巩固新课</a:t>
            </a:r>
            <a:endParaRPr b="1" lang="en-US" sz="1800" spc="1" strike="noStrike">
              <a:ln w="2520">
                <a:solidFill>
                  <a:srgbClr val="ffff00"/>
                </a:solidFill>
                <a:round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08" name="Text Box 13"/>
          <p:cNvSpPr/>
          <p:nvPr/>
        </p:nvSpPr>
        <p:spPr>
          <a:xfrm>
            <a:off x="380880" y="4818240"/>
            <a:ext cx="8534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党的基本路线关系着国家的前途、民族的命运，必须长期坚持下去，牢牢把握党的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一个中心，两个基本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的基本路线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一百年不动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，国家就能长治久安，中国就大有希望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邓小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5" descr="0002"/>
          <p:cNvPicPr/>
          <p:nvPr/>
        </p:nvPicPr>
        <p:blipFill>
          <a:blip r:embed="rId1"/>
          <a:stretch/>
        </p:blipFill>
        <p:spPr>
          <a:xfrm>
            <a:off x="2133720" y="1057320"/>
            <a:ext cx="4647960" cy="3514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8"/>
          <p:cNvSpPr/>
          <p:nvPr/>
        </p:nvSpPr>
        <p:spPr>
          <a:xfrm>
            <a:off x="2300400" y="3238560"/>
            <a:ext cx="73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838080" y="6858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党的基本路线的制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9" descr="1"/>
          <p:cNvPicPr/>
          <p:nvPr/>
        </p:nvPicPr>
        <p:blipFill>
          <a:blip r:embed="rId1"/>
          <a:stretch/>
        </p:blipFill>
        <p:spPr>
          <a:xfrm>
            <a:off x="282600" y="1295280"/>
            <a:ext cx="5181480" cy="3886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99" name="Picture 30" descr="2"/>
          <p:cNvPicPr/>
          <p:nvPr/>
        </p:nvPicPr>
        <p:blipFill>
          <a:blip r:embed="rId2"/>
          <a:stretch/>
        </p:blipFill>
        <p:spPr>
          <a:xfrm>
            <a:off x="4336920" y="1752480"/>
            <a:ext cx="4496040" cy="3741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0" name="Text Box 31"/>
          <p:cNvSpPr/>
          <p:nvPr/>
        </p:nvSpPr>
        <p:spPr>
          <a:xfrm>
            <a:off x="303120" y="57150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1978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年，党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十一届三中全会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在总结历史经验的基础上，开始形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“一个中心、两个基本点”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的基本思想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4"/>
          <p:cNvPicPr/>
          <p:nvPr/>
        </p:nvPicPr>
        <p:blipFill>
          <a:blip r:embed="rId1"/>
          <a:stretch/>
        </p:blipFill>
        <p:spPr>
          <a:xfrm>
            <a:off x="152280" y="1447920"/>
            <a:ext cx="4343400" cy="3354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2" name="Picture 7" descr="3"/>
          <p:cNvPicPr/>
          <p:nvPr/>
        </p:nvPicPr>
        <p:blipFill>
          <a:blip r:embed="rId2"/>
          <a:stretch/>
        </p:blipFill>
        <p:spPr>
          <a:xfrm>
            <a:off x="3886200" y="271440"/>
            <a:ext cx="4952880" cy="3861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3" name="Text Box 8"/>
          <p:cNvSpPr/>
          <p:nvPr/>
        </p:nvSpPr>
        <p:spPr>
          <a:xfrm>
            <a:off x="228600" y="487692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1982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年，党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十二大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提出了党在新的历史时期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总任务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：团结全国各族人民，自力更生，艰苦奋斗，逐步实现工业、农业、国防和科学技术的现代化，把我国建设成为高度文明、高度民主的社会主义国家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5"/>
          <p:cNvPicPr/>
          <p:nvPr/>
        </p:nvPicPr>
        <p:blipFill>
          <a:blip r:embed="rId1"/>
          <a:stretch/>
        </p:blipFill>
        <p:spPr>
          <a:xfrm>
            <a:off x="685800" y="533520"/>
            <a:ext cx="5257800" cy="3811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5" name="Picture 7" descr="6"/>
          <p:cNvPicPr/>
          <p:nvPr/>
        </p:nvPicPr>
        <p:blipFill>
          <a:blip r:embed="rId2"/>
          <a:stretch/>
        </p:blipFill>
        <p:spPr>
          <a:xfrm>
            <a:off x="6248520" y="533520"/>
            <a:ext cx="2514600" cy="3809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6" name="Text Box 8"/>
          <p:cNvSpPr/>
          <p:nvPr/>
        </p:nvSpPr>
        <p:spPr>
          <a:xfrm>
            <a:off x="228600" y="461952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1987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年，党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十三大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明确提出党在社会主义初级阶段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基本路线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：领导和团结全国各族人民，以经济建设为中心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,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坚持四顶基本原则，坚持改革开放，自力更生，艰苦创业，为把我国建设成为富强、民主、文明的社会主义现代化国家而奋斗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447920" y="1371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定这一路线的根本依据和根本目的是什么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3"/>
          <p:cNvGrpSpPr/>
          <p:nvPr/>
        </p:nvGrpSpPr>
        <p:grpSpPr>
          <a:xfrm>
            <a:off x="457200" y="838080"/>
            <a:ext cx="1447560" cy="547920"/>
            <a:chOff x="457200" y="838080"/>
            <a:chExt cx="1447560" cy="547920"/>
          </a:xfrm>
        </p:grpSpPr>
        <p:sp>
          <p:nvSpPr>
            <p:cNvPr id="109" name="WordArt 4"/>
            <p:cNvSpPr txBox="1"/>
            <p:nvPr/>
          </p:nvSpPr>
          <p:spPr>
            <a:xfrm>
              <a:off x="1100520" y="849960"/>
              <a:ext cx="804240" cy="408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cc99ff"/>
                    </a:solidFill>
                    <a:round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华文新魏"/>
                </a:rPr>
                <a:t>请你思考</a:t>
              </a:r>
              <a:endPara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  <a:ea typeface="华文新魏"/>
              </a:endParaRPr>
            </a:p>
          </p:txBody>
        </p:sp>
        <p:pic>
          <p:nvPicPr>
            <p:cNvPr id="110" name="Picture 5" descr="0"/>
            <p:cNvPicPr/>
            <p:nvPr/>
          </p:nvPicPr>
          <p:blipFill>
            <a:blip r:embed="rId1"/>
            <a:stretch/>
          </p:blipFill>
          <p:spPr>
            <a:xfrm>
              <a:off x="457200" y="838080"/>
              <a:ext cx="635760" cy="54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Text Box 6"/>
          <p:cNvSpPr/>
          <p:nvPr/>
        </p:nvSpPr>
        <p:spPr>
          <a:xfrm>
            <a:off x="457200" y="24382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依据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80880" y="380988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目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57200" y="29718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我国正处于并将长期处于社会主义初级阶段的基本国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380880" y="44197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实现和维护全国各族人民的根本利益。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770040" y="457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党的基本路线的内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533520" y="1600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下面表格中列出的几个方面归纳党的基本路线包括哪些内容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62120" y="2735280"/>
          <a:ext cx="7924680" cy="2979720"/>
        </p:xfrm>
        <a:graphic>
          <a:graphicData uri="http://schemas.openxmlformats.org/drawingml/2006/table">
            <a:tbl>
              <a:tblPr/>
              <a:tblGrid>
                <a:gridCol w="1828800"/>
                <a:gridCol w="6095880"/>
              </a:tblGrid>
              <a:tr h="55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领导核心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依靠力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核心内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bc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bc3"/>
                    </a:solidFill>
                  </a:tcPr>
                </a:tc>
              </a:tr>
              <a:tr h="53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实现途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c5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c5d9"/>
                    </a:solidFill>
                  </a:tcPr>
                </a:tc>
              </a:tr>
              <a:tr h="82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奋斗目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2e7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2e7fc"/>
                    </a:solidFill>
                  </a:tcPr>
                </a:tc>
              </a:tr>
            </a:tbl>
          </a:graphicData>
        </a:graphic>
      </p:graphicFrame>
      <p:grpSp>
        <p:nvGrpSpPr>
          <p:cNvPr id="118" name="Group 29"/>
          <p:cNvGrpSpPr/>
          <p:nvPr/>
        </p:nvGrpSpPr>
        <p:grpSpPr>
          <a:xfrm>
            <a:off x="228600" y="990720"/>
            <a:ext cx="1447560" cy="547560"/>
            <a:chOff x="228600" y="990720"/>
            <a:chExt cx="1447560" cy="547560"/>
          </a:xfrm>
        </p:grpSpPr>
        <p:sp>
          <p:nvSpPr>
            <p:cNvPr id="119" name="WordArt 30"/>
            <p:cNvSpPr txBox="1"/>
            <p:nvPr/>
          </p:nvSpPr>
          <p:spPr>
            <a:xfrm>
              <a:off x="871920" y="1002600"/>
              <a:ext cx="804240" cy="40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cc99ff"/>
                    </a:solidFill>
                    <a:round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华文新魏"/>
                </a:rPr>
                <a:t>请你思考</a:t>
              </a:r>
              <a:endPara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  <a:ea typeface="华文新魏"/>
              </a:endParaRPr>
            </a:p>
          </p:txBody>
        </p:sp>
        <p:pic>
          <p:nvPicPr>
            <p:cNvPr id="120" name="Picture 31" descr="0"/>
            <p:cNvPicPr/>
            <p:nvPr/>
          </p:nvPicPr>
          <p:blipFill>
            <a:blip r:embed="rId1"/>
            <a:stretch/>
          </p:blipFill>
          <p:spPr>
            <a:xfrm>
              <a:off x="228600" y="990720"/>
              <a:ext cx="635760" cy="54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ext Box 44"/>
          <p:cNvSpPr/>
          <p:nvPr/>
        </p:nvSpPr>
        <p:spPr>
          <a:xfrm>
            <a:off x="2743200" y="2819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国共产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5"/>
          <p:cNvSpPr/>
          <p:nvPr/>
        </p:nvSpPr>
        <p:spPr>
          <a:xfrm>
            <a:off x="2743200" y="3352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全国各族人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6"/>
          <p:cNvSpPr/>
          <p:nvPr/>
        </p:nvSpPr>
        <p:spPr>
          <a:xfrm>
            <a:off x="2743200" y="3886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个中心、两个基本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7"/>
          <p:cNvSpPr/>
          <p:nvPr/>
        </p:nvSpPr>
        <p:spPr>
          <a:xfrm>
            <a:off x="2666880" y="44197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自力更生、艰苦创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9"/>
          <p:cNvSpPr/>
          <p:nvPr/>
        </p:nvSpPr>
        <p:spPr>
          <a:xfrm>
            <a:off x="2666880" y="489276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富强（经）、民主（政）、文明（文化）、和谐的社会主义现代化国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76320" y="3049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）以经济建设为中心是兴国之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33"/>
          <p:cNvGrpSpPr/>
          <p:nvPr/>
        </p:nvGrpSpPr>
        <p:grpSpPr>
          <a:xfrm>
            <a:off x="152280" y="1052640"/>
            <a:ext cx="1447560" cy="547560"/>
            <a:chOff x="152280" y="1052640"/>
            <a:chExt cx="1447560" cy="547560"/>
          </a:xfrm>
        </p:grpSpPr>
        <p:sp>
          <p:nvSpPr>
            <p:cNvPr id="128" name="WordArt 34"/>
            <p:cNvSpPr txBox="1"/>
            <p:nvPr/>
          </p:nvSpPr>
          <p:spPr>
            <a:xfrm>
              <a:off x="795600" y="1064520"/>
              <a:ext cx="804240" cy="40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cc99ff"/>
                    </a:solidFill>
                    <a:round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华文新魏"/>
                </a:rPr>
                <a:t>请你思考</a:t>
              </a:r>
              <a:endPara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  <a:ea typeface="华文新魏"/>
              </a:endParaRPr>
            </a:p>
          </p:txBody>
        </p:sp>
        <p:pic>
          <p:nvPicPr>
            <p:cNvPr id="129" name="Picture 35" descr="0"/>
            <p:cNvPicPr/>
            <p:nvPr/>
          </p:nvPicPr>
          <p:blipFill>
            <a:blip r:embed="rId1"/>
            <a:stretch/>
          </p:blipFill>
          <p:spPr>
            <a:xfrm>
              <a:off x="152280" y="1052640"/>
              <a:ext cx="635760" cy="54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Text Box 36"/>
          <p:cNvSpPr/>
          <p:nvPr/>
        </p:nvSpPr>
        <p:spPr>
          <a:xfrm>
            <a:off x="380880" y="16765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什么是以经济建设为中心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7"/>
          <p:cNvSpPr/>
          <p:nvPr/>
        </p:nvSpPr>
        <p:spPr>
          <a:xfrm>
            <a:off x="304920" y="3657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要以经济建设为中心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8"/>
          <p:cNvSpPr/>
          <p:nvPr/>
        </p:nvSpPr>
        <p:spPr>
          <a:xfrm>
            <a:off x="304920" y="22096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就是在整个社会主义初级阶段，各项工作必须都服从和服务于经济建设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就是要把集中力量发展生产力摆在首要地位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9"/>
          <p:cNvSpPr/>
          <p:nvPr/>
        </p:nvSpPr>
        <p:spPr>
          <a:xfrm>
            <a:off x="304920" y="41911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只有坚持以经济建设为中心，大力发展生产力，才能从根本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巩固和发展社会主义制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才能不断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满足人民群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日益增长的物质文化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需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才能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推动社会的全面进步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这也是全面建设小康社会的需要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8199"/>
          <p:cNvSpPr/>
          <p:nvPr/>
        </p:nvSpPr>
        <p:spPr>
          <a:xfrm>
            <a:off x="2563920" y="1052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05:48:4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4:33Z</dcterms:modified>
  <cp:revision>13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