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BC1-770B-4D5A-A0A1-F0B531FF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1CD-CD8B-4377-9BBE-50ABD6FC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C4B-2B76-48AE-B9E1-D17FADE4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E86-0A2A-435C-B99D-984A56A8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53CC-62C9-4215-B8F9-3A8BED2F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385-7F76-450B-8EFF-84843B00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C91A-8D1B-4A02-A4A7-130738A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02FD-07A7-4E4F-966C-4BCCC166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6AA-B234-441F-A298-08945195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2462-8A98-4BEC-9B4D-6D2D37A9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99B4-42E5-4D3F-BB50-21A49163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870-688A-4DB9-93DF-E9E3ABDB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6A51-BA1F-41B7-96B2-669D359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C239-9C83-46F2-B0FD-9619604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FDE8-B5A8-41DE-B268-53A28265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0E6-DEDC-40DE-95AC-A37C58F9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12CC-1D23-4CBF-A2C9-B313DBC1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895F-145A-451E-A2D4-C1914C9A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A9C1-7CE5-4D35-B7D0-E5B3A47C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C1B7-7524-4C06-8DF3-91B5E1FD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EDDA-47AD-4A88-83CA-52BF9029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B30C-7204-48D5-ABDD-A4789ECA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9C9-BBDD-42AD-B167-4F94E6F5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983E-A417-4BB0-9131-9F7EA5DC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5F8E-5651-427C-B044-8FC1BB7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BFFC1-45C7-416E-B641-22A423DB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EB48-4542-4A33-B51F-C3235C5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2187-92DD-42E6-9CC4-28EAE3DA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D365-C5E8-4D1E-A116-A814E030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AD4D-B94A-4402-9E49-62F574D8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498-145E-4CD1-9FB8-A5FFE57C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81C-3F26-40C6-801B-7F8EC9D5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E00-BD08-4506-8064-F7570F99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39E-F3CA-4BCB-BE3F-18E55905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543-98CC-4FC4-9CE1-E740E284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81F-619F-4DC7-8C25-319572D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C412-97BC-41B3-A0AC-78A28C1B270D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9EA9-07BB-4C8F-B2F7-F237BB646D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15AF-ACF5-440F-91A9-9FECECA3BD25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2414880" y="620640"/>
            <a:ext cx="43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三年级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品德与社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上册  第二单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1279440" y="2057400"/>
            <a:ext cx="65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99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家都在学</a:t>
            </a:r>
            <a:r>
              <a:rPr b="0" lang="en-US" sz="4000" spc="1" strike="noStrike">
                <a:ln w="12600">
                  <a:solidFill>
                    <a:srgbClr val="99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99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打包下载</a:t>
            </a:r>
            <a:endParaRPr b="0" lang="en-US" sz="4000" spc="1" strike="noStrike">
              <a:ln w="12600">
                <a:solidFill>
                  <a:srgbClr val="9900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3" descr=""/>
          <p:cNvPicPr/>
          <p:nvPr/>
        </p:nvPicPr>
        <p:blipFill>
          <a:blip r:embed="rId1"/>
          <a:stretch/>
        </p:blipFill>
        <p:spPr>
          <a:xfrm>
            <a:off x="1908000" y="293760"/>
            <a:ext cx="4248360" cy="687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"/>
          <p:cNvPicPr/>
          <p:nvPr/>
        </p:nvPicPr>
        <p:blipFill>
          <a:blip r:embed="rId3"/>
          <a:stretch/>
        </p:blipFill>
        <p:spPr>
          <a:xfrm>
            <a:off x="108000" y="0"/>
            <a:ext cx="183528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4" descr=""/>
          <p:cNvPicPr/>
          <p:nvPr/>
        </p:nvPicPr>
        <p:blipFill>
          <a:blip r:embed="rId1"/>
          <a:stretch/>
        </p:blipFill>
        <p:spPr>
          <a:xfrm>
            <a:off x="-28440" y="1628640"/>
            <a:ext cx="4841640" cy="5229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/>
          <p:cNvPicPr/>
          <p:nvPr/>
        </p:nvPicPr>
        <p:blipFill>
          <a:blip r:embed="rId2"/>
          <a:stretch/>
        </p:blipFill>
        <p:spPr>
          <a:xfrm>
            <a:off x="5070600" y="1484280"/>
            <a:ext cx="410976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"/>
          <p:cNvPicPr/>
          <p:nvPr/>
        </p:nvPicPr>
        <p:blipFill>
          <a:blip r:embed="rId3"/>
          <a:stretch/>
        </p:blipFill>
        <p:spPr>
          <a:xfrm>
            <a:off x="468360" y="438120"/>
            <a:ext cx="4248000" cy="6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850400" y="757080"/>
            <a:ext cx="2466720" cy="100836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经典空趣体简"/>
              </a:rPr>
              <a:t>怎么学？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92760" y="2349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养成良好学习习惯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927000" y="3500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主动学习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927000" y="4653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独立思考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09880" y="5805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讲求学习效率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581800" y="2421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终身学习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581800" y="3681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全民学习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856120" y="4941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ahoma"/>
                <a:ea typeface="经典叠圆体简"/>
              </a:rPr>
              <a:t>构建学习型社会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060B-617A-4E60-BB7C-F6FDC385A0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3"/>
          <p:cNvSpPr txBox="1"/>
          <p:nvPr/>
        </p:nvSpPr>
        <p:spPr>
          <a:xfrm>
            <a:off x="2050920" y="1341360"/>
            <a:ext cx="4896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ccff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1" lang="en-US" sz="1800" spc="1" strike="noStrike">
              <a:ln w="9360">
                <a:solidFill>
                  <a:srgbClr val="ccccff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219760" y="1062000"/>
            <a:ext cx="282168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活动一  我的小调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318560" y="2260440"/>
            <a:ext cx="9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、每个同学调查自己的家里人或亲戚朋友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35120" y="3213000"/>
            <a:ext cx="58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们这两年来学到了哪些知识和本领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542960" y="4149720"/>
            <a:ext cx="56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们现在还在学什么？为什么要学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04960" y="522936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们还想学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219760" y="1062000"/>
            <a:ext cx="282168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活动一  我的小调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65560" y="2421000"/>
            <a:ext cx="243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访问社区干部，了解大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的学习情况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208680" y="4465800"/>
            <a:ext cx="243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上，大家交流自己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情况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6410520" cy="79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135" name="Text Box 7"/>
          <p:cNvSpPr/>
          <p:nvPr/>
        </p:nvSpPr>
        <p:spPr>
          <a:xfrm>
            <a:off x="108000" y="29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看一看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640720" cy="5400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1070280" y="1574640"/>
            <a:ext cx="261900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习使用电子家具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889680" y="4941720"/>
            <a:ext cx="170460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学书法绘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222800" y="974160"/>
            <a:ext cx="100332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为充实生活学习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0"/>
          <p:cNvSpPr/>
          <p:nvPr/>
        </p:nvSpPr>
        <p:spPr>
          <a:xfrm>
            <a:off x="2909880" y="249228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6410520" cy="79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142" name="Text Box 3"/>
          <p:cNvSpPr/>
          <p:nvPr/>
        </p:nvSpPr>
        <p:spPr>
          <a:xfrm>
            <a:off x="108000" y="29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看一看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2000" cy="4967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084320" y="1484280"/>
            <a:ext cx="200952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习使用电脑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007040" y="4724280"/>
            <a:ext cx="140004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习外语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243680" y="560880"/>
            <a:ext cx="8506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为跟上时代发展学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6410520" cy="79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148" name="Text Box 3"/>
          <p:cNvSpPr/>
          <p:nvPr/>
        </p:nvSpPr>
        <p:spPr>
          <a:xfrm>
            <a:off x="108000" y="29988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看一看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80360" cy="4896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30440" y="1341360"/>
            <a:ext cx="170460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上夜校补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908680" y="1413000"/>
            <a:ext cx="200952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习驾驶技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215960" y="3780000"/>
            <a:ext cx="9115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为进一步发展学习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6410520" cy="79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154" name="Text Box 3"/>
          <p:cNvSpPr/>
          <p:nvPr/>
        </p:nvSpPr>
        <p:spPr>
          <a:xfrm>
            <a:off x="108000" y="29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看一看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353440" cy="5111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231920" y="1484280"/>
            <a:ext cx="353340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新手艺，拓宽就业门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264280" y="4941720"/>
            <a:ext cx="292392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学新科技，提高产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04480" y="153540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为就业致富学习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533520" y="549360"/>
            <a:ext cx="7993080" cy="47512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8199"/>
          <p:cNvSpPr/>
          <p:nvPr/>
        </p:nvSpPr>
        <p:spPr>
          <a:xfrm>
            <a:off x="2097000" y="214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551400" y="2173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为充实生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798360" y="3397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为跟上时代发展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467240" y="4621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为进一步发展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551400" y="5845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为就业致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59600" y="949320"/>
            <a:ext cx="347256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Tahoma"/>
                <a:ea typeface="楷体_GB2312"/>
              </a:rPr>
              <a:t>大家为什么还要学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851040" y="2403360"/>
            <a:ext cx="1849320" cy="3960720"/>
            <a:chOff x="851040" y="2403360"/>
            <a:chExt cx="1849320" cy="3960720"/>
          </a:xfrm>
        </p:grpSpPr>
        <p:sp>
          <p:nvSpPr>
            <p:cNvPr id="167" name="Text Box 9"/>
            <p:cNvSpPr/>
            <p:nvPr/>
          </p:nvSpPr>
          <p:spPr>
            <a:xfrm>
              <a:off x="851040" y="3690720"/>
              <a:ext cx="1095120" cy="10083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0000"/>
                  </a:solidFill>
                  <a:latin typeface="Tahoma"/>
                  <a:ea typeface="汉仪雪峰体简"/>
                </a:rPr>
                <a:t>学习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2556000" y="2403360"/>
              <a:ext cx="144360" cy="3960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02960 h 3960720"/>
                <a:gd name="textAreaBottom" fmla="*/ 385776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9:15:5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48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