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camera.wav" ContentType="audio/x-wav"/>
  <Override PartName="/ppt/media/image6.png" ContentType="image/pn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2A3-5BD2-42BE-8548-F356E3A3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D30-5CE8-42A7-9C3D-E66E0711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AB8-1C22-47C0-959E-1753BD52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F09-8618-4CF7-A850-AD98F646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9BAD-F713-4587-A3EE-61425135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3121-BE67-4D53-85FA-27F8313D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34BA-8449-4561-ABBF-6501E7BF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0D7B-1496-4AF6-A529-A1142224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E74B-6E65-496C-8BFE-4C3711A7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6FD2-BF5B-41CC-864F-DF116E7F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D3E0-92A4-4FAF-922A-E9C2F696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F8A-994A-4B85-BE77-266D904C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B527-BFC5-487C-973E-AB0E5AC8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CE12-B33E-4F16-B56E-DD59E773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D8FC-DF8D-4DEA-BB76-A28F44A1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37F0-446A-4F4B-8F98-97D46290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6C37-56A7-4F6E-A9DC-8D12BBD3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29D22-D0E5-455E-B9D7-3C157E7C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B4EE3-D351-478A-B71F-CF1942FD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D3A66-F772-4C25-B4E0-055CA3AA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FE3E-1F12-47E0-853A-588DA60C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79BC-F179-411D-8870-49C73372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DFD-A336-49AF-96D3-9BEC570F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F50A3-55B3-4D82-A854-F918236D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72ED3-4B46-4A17-A8EB-E9957A4A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B2085-6885-4B66-AD39-8F97E289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71925-B1EC-44BB-80FB-DB4084E5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A2970-02F9-478E-872C-553A34D8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CA9B9-DE27-47ED-9B80-C7A6346D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AD08A-029E-4E11-B257-4D64CA13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280-0D60-4B6F-BA7F-E328B516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EA5-C6BC-402C-A8DD-01C0CFDA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0E1B-8CF3-4498-A500-03E0BB90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A8A-35DB-4B44-A6A9-52CEDA36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F3D3-EEB1-4E4C-A1B7-E2540031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F8E-BCDD-4E9D-AFDA-478349BD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5AD3-D36E-484C-8516-40CC4C866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CA7A-61EE-4D9D-A52E-2A4FF38B7B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86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28A1-5017-4094-B65B-359BC6E28F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jx3"/>
          <p:cNvPicPr/>
          <p:nvPr/>
        </p:nvPicPr>
        <p:blipFill>
          <a:blip r:embed="rId1"/>
          <a:stretch/>
        </p:blipFill>
        <p:spPr>
          <a:xfrm>
            <a:off x="293760" y="260280"/>
            <a:ext cx="4998960" cy="633096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  <p:sp>
        <p:nvSpPr>
          <p:cNvPr id="130" name="文本框 6155"/>
          <p:cNvSpPr/>
          <p:nvPr/>
        </p:nvSpPr>
        <p:spPr>
          <a:xfrm>
            <a:off x="324000" y="6237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2690640" y="333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邓稼先语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课件免费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9144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66"/>
                </a:solidFill>
                <a:latin typeface="Arial"/>
              </a:rPr>
              <a:t>作业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762120" y="2438280"/>
            <a:ext cx="8001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熟悉全文，思考课后练习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巩固生字词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114800" y="304812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站起来了”又是如何写的？联系现实中的事情说一说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6" descr="{319FDB19-0701-450E-9996-A4C752A16C6E}0"/>
          <p:cNvPicPr/>
          <p:nvPr/>
        </p:nvPicPr>
        <p:blipFill>
          <a:blip r:embed="rId1"/>
          <a:stretch/>
        </p:blipFill>
        <p:spPr>
          <a:xfrm>
            <a:off x="0" y="304920"/>
            <a:ext cx="3809880" cy="4743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4114800" y="1066680"/>
            <a:ext cx="4800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任人宰割”在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章中是如何写的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0" y="51814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Arial"/>
              </a:rPr>
              <a:t>虎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代表英国      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</a:rPr>
              <a:t>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代表俄国  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</a:rPr>
              <a:t>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代表德国      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</a:rPr>
              <a:t>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代表法国  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</a:rPr>
              <a:t>老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代表美国  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</a:rPr>
              <a:t>太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代表日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amera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304920" y="3049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邓稼先与奥本海默比较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380880" y="990720"/>
            <a:ext cx="2774880" cy="2666880"/>
            <a:chOff x="380880" y="990720"/>
            <a:chExt cx="2774880" cy="2666880"/>
          </a:xfrm>
        </p:grpSpPr>
        <p:sp>
          <p:nvSpPr>
            <p:cNvPr id="179" name="Rectangle 4"/>
            <p:cNvSpPr/>
            <p:nvPr/>
          </p:nvSpPr>
          <p:spPr>
            <a:xfrm>
              <a:off x="380880" y="198108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2438280" y="990720"/>
              <a:ext cx="457200" cy="2666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9480 h 2666880"/>
                <a:gd name="textAreaBottom" fmla="*/ 25974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2971800" y="990720"/>
              <a:ext cx="18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2971800" y="1981080"/>
              <a:ext cx="183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Rectangle 8"/>
            <p:cNvSpPr/>
            <p:nvPr/>
          </p:nvSpPr>
          <p:spPr>
            <a:xfrm>
              <a:off x="2971800" y="2971800"/>
              <a:ext cx="183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914400" y="3657600"/>
            <a:ext cx="3962520" cy="2746080"/>
            <a:chOff x="914400" y="3657600"/>
            <a:chExt cx="3962520" cy="2746080"/>
          </a:xfrm>
        </p:grpSpPr>
        <p:sp>
          <p:nvSpPr>
            <p:cNvPr id="185" name="Rectangle 10"/>
            <p:cNvSpPr/>
            <p:nvPr/>
          </p:nvSpPr>
          <p:spPr>
            <a:xfrm>
              <a:off x="914400" y="464796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2438640" y="3657600"/>
              <a:ext cx="457200" cy="2666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9480 h 2666880"/>
                <a:gd name="textAreaBottom" fmla="*/ 25974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12"/>
            <p:cNvSpPr/>
            <p:nvPr/>
          </p:nvSpPr>
          <p:spPr>
            <a:xfrm>
              <a:off x="2971800" y="3733560"/>
              <a:ext cx="1905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13"/>
            <p:cNvSpPr/>
            <p:nvPr/>
          </p:nvSpPr>
          <p:spPr>
            <a:xfrm>
              <a:off x="2971800" y="5029200"/>
              <a:ext cx="184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14"/>
            <p:cNvSpPr/>
            <p:nvPr/>
          </p:nvSpPr>
          <p:spPr>
            <a:xfrm>
              <a:off x="3124440" y="5762520"/>
              <a:ext cx="18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AutoShape 15"/>
          <p:cNvSpPr/>
          <p:nvPr/>
        </p:nvSpPr>
        <p:spPr>
          <a:xfrm>
            <a:off x="4876920" y="4800600"/>
            <a:ext cx="83808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791320" y="4114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更能突出邓稼先的性格品质和奉献精神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380880" y="1752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奥本海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048120" y="1066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锋芒毕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3048120" y="2057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善于辞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3124080" y="30481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复杂的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380880" y="45720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邓稼先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2819520" y="36576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最不引人注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2743200" y="4495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忠厚平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2971800" y="5562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纯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23880" y="449568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Times New Roman"/>
                <a:ea typeface="幼圆"/>
              </a:rPr>
              <a:t>对这两句话你是怎样理解的，用课文中的话回答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676520" y="533520"/>
            <a:ext cx="67816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  <a:ea typeface="幼圆"/>
              </a:rPr>
              <a:t>“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幼圆"/>
              </a:rPr>
              <a:t>邓稼先是中国几千年传统文化孕育出来的有最高奉献精神的儿子。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676520" y="29718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  <a:ea typeface="幼圆"/>
              </a:rPr>
              <a:t>“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幼圆"/>
              </a:rPr>
              <a:t>邓稼先是中国共产党的理      想党员。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often_055"/>
          <p:cNvPicPr/>
          <p:nvPr/>
        </p:nvPicPr>
        <p:blipFill>
          <a:blip r:embed="rId1"/>
          <a:stretch/>
        </p:blipFill>
        <p:spPr>
          <a:xfrm>
            <a:off x="331920" y="609480"/>
            <a:ext cx="12920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380880" y="457200"/>
            <a:ext cx="7772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幼圆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幼圆"/>
              </a:rPr>
              <a:t>中国几千年的传统文化讲究人与人之间关系和谐，和睦相处，讲究为人忠厚、谦虚、真诚、朴实。邓稼先汲取了中国传统文化中的优秀部分，并变成了自己的气质品格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04920" y="281952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幼圆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幼圆"/>
              </a:rPr>
              <a:t>他没有私心，人们绝对相信他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幼圆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幼圆"/>
              </a:rPr>
              <a:t>文革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幼圆"/>
              </a:rPr>
              <a:t>中能说服两派群众组织，能说服工宣队、军宣队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幼圆"/>
              </a:rPr>
              <a:t>中国共产党的宗旨是全心全意为人民服务，邓稼先就是把这些奉为自己的行动准则，因此他是理想的党员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533520" y="6094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如果稼先再次选择他的人生的话，他仍会走他已走过的道路。这是他的性格与品质。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试说说你对这两句话的理解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57200" y="2895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幼圆"/>
              </a:rPr>
              <a:t>为中华民族的崛起，为广大人民的利益，奉献自己的一生，这是邓稼先的人生。走这样的人生道路，是邓稼先的性格与品质决定的。所以作者说，如果邓稼先再次选择人还会这么走。这两句话总写出了邓稼先的伟大之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0202[1].mid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8"/>
          <p:cNvSpPr/>
          <p:nvPr/>
        </p:nvSpPr>
        <p:spPr>
          <a:xfrm>
            <a:off x="609480" y="838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世界上不断涌现一些杰出的人物。这些人物在不同的领域开拓进取，对人类文明的发展产生了很大影响。邓稼先就是这样一位在核武器领域里奋斗一生的卓越的科学家。掩卷沉思，我们对邓稼先的敬佩仰慕之情油然而生。这真是一篇荡气回肠的元勋颂，一曲情文并茂的正气歌。在我国，邓稼先这样的英雄你能想到几个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2" descr="诸葛亮"/>
          <p:cNvPicPr/>
          <p:nvPr/>
        </p:nvPicPr>
        <p:blipFill>
          <a:blip r:embed="rId1"/>
          <a:stretch/>
        </p:blipFill>
        <p:spPr>
          <a:xfrm>
            <a:off x="457200" y="457200"/>
            <a:ext cx="4686480" cy="5943600"/>
          </a:xfrm>
          <a:prstGeom prst="rect">
            <a:avLst/>
          </a:prstGeom>
          <a:ln w="0">
            <a:noFill/>
          </a:ln>
        </p:spPr>
      </p:pic>
      <p:sp>
        <p:nvSpPr>
          <p:cNvPr id="216" name="WordArt 3"/>
          <p:cNvSpPr txBox="1"/>
          <p:nvPr/>
        </p:nvSpPr>
        <p:spPr>
          <a:xfrm rot="5400000">
            <a:off x="3885840" y="2438280"/>
            <a:ext cx="541008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鞠躬尽瘁 死而后已</a:t>
            </a:r>
            <a:endParaRPr b="0" lang="en-US" sz="80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7" name="文本框 8200"/>
          <p:cNvSpPr/>
          <p:nvPr/>
        </p:nvSpPr>
        <p:spPr>
          <a:xfrm>
            <a:off x="682560" y="117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2" descr="jyl"/>
          <p:cNvPicPr/>
          <p:nvPr/>
        </p:nvPicPr>
        <p:blipFill>
          <a:blip r:embed="rId1"/>
          <a:stretch/>
        </p:blipFill>
        <p:spPr>
          <a:xfrm>
            <a:off x="380880" y="457200"/>
            <a:ext cx="3733920" cy="4876920"/>
          </a:xfrm>
          <a:prstGeom prst="rect">
            <a:avLst/>
          </a:prstGeom>
          <a:ln w="0">
            <a:noFill/>
          </a:ln>
        </p:spPr>
      </p:pic>
      <p:sp>
        <p:nvSpPr>
          <p:cNvPr id="220" name="WordArt 3"/>
          <p:cNvSpPr txBox="1"/>
          <p:nvPr/>
        </p:nvSpPr>
        <p:spPr>
          <a:xfrm>
            <a:off x="533520" y="5562720"/>
            <a:ext cx="3276360" cy="78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焦裕禄</a:t>
            </a:r>
            <a:endParaRPr b="0" lang="en-US" sz="5400" spc="1" strike="noStrike">
              <a:ln w="12600">
                <a:solidFill>
                  <a:srgbClr val="ffffff"/>
                </a:solidFill>
                <a:round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4191120" y="990720"/>
            <a:ext cx="38862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幼圆"/>
                <a:ea typeface="幼圆"/>
              </a:rPr>
              <a:t>党的好干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幼圆"/>
                <a:ea typeface="幼圆"/>
              </a:rPr>
              <a:t>为人民而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幼圆"/>
                <a:ea typeface="幼圆"/>
              </a:rPr>
              <a:t>虽死犹荣</a:t>
            </a:r>
            <a:r>
              <a:rPr b="1" lang="zh-CN" sz="4800" spc="-1" strike="noStrike">
                <a:solidFill>
                  <a:srgbClr val="00ffff"/>
                </a:solidFill>
                <a:latin typeface="幼圆"/>
                <a:ea typeface="幼圆"/>
              </a:rPr>
              <a:t>                      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521D-7874-47BE-8394-ED73C634D8DE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7"/>
          <p:cNvSpPr/>
          <p:nvPr/>
        </p:nvSpPr>
        <p:spPr>
          <a:xfrm>
            <a:off x="612720" y="270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3048120" y="160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NewsMedia_114288"/>
          <p:cNvPicPr/>
          <p:nvPr/>
        </p:nvPicPr>
        <p:blipFill>
          <a:blip r:embed="rId1"/>
          <a:stretch/>
        </p:blipFill>
        <p:spPr>
          <a:xfrm>
            <a:off x="0" y="838080"/>
            <a:ext cx="4379760" cy="5410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4419720" y="619200"/>
            <a:ext cx="426708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Arial"/>
                <a:ea typeface="幼圆"/>
              </a:rPr>
              <a:t>邓稼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_x000b__x000c_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_x000b__x000c_"/>
              </a:rPr>
              <a:t>192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_x000b__x000c_"/>
              </a:rPr>
              <a:t>年出生于安徽怀宁县一个书香门第之家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便在学生运动中担任了北大教职工联合会主席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在美国成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娃娃博士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；取得学位后第九天便回国，进入中国科学院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以后神秘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消失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。在戈壁大漠中，创造出世界上研制氢弹的最快速度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■临终前叮咛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不要让人家把我们落得太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2514600" y="68580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33"/>
                </a:solidFill>
                <a:latin typeface="Times New Roman"/>
              </a:rPr>
              <a:t>作业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838080" y="2286000"/>
            <a:ext cx="83059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学习本文的写法，写一篇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于人物的随笔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查找贝多芬和闻一多的资料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5867280" y="114300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964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年</a:t>
            </a: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0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月</a:t>
            </a: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6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日中国爆炸了第一颗原子弹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3" descr="k129061210981825292"/>
          <p:cNvPicPr/>
          <p:nvPr/>
        </p:nvPicPr>
        <p:blipFill>
          <a:blip r:embed="rId1"/>
          <a:stretch/>
        </p:blipFill>
        <p:spPr>
          <a:xfrm>
            <a:off x="609480" y="380880"/>
            <a:ext cx="4953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867280" y="114300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967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年</a:t>
            </a: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6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月</a:t>
            </a: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7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日中国爆炸了第一颗氢弹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3" descr="yz1"/>
          <p:cNvPicPr/>
          <p:nvPr/>
        </p:nvPicPr>
        <p:blipFill>
          <a:blip r:embed="rId1"/>
          <a:stretch/>
        </p:blipFill>
        <p:spPr>
          <a:xfrm>
            <a:off x="380880" y="457200"/>
            <a:ext cx="5238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2" descr="hr_yangzhn_a"/>
          <p:cNvPicPr/>
          <p:nvPr/>
        </p:nvPicPr>
        <p:blipFill>
          <a:blip r:embed="rId1"/>
          <a:stretch/>
        </p:blipFill>
        <p:spPr>
          <a:xfrm>
            <a:off x="457200" y="533520"/>
            <a:ext cx="3429000" cy="4724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3962520" y="16002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4000" spc="-1" strike="noStrike">
                <a:solidFill>
                  <a:srgbClr val="00ffff"/>
                </a:solidFill>
                <a:latin typeface="幼圆"/>
                <a:ea typeface="幼圆"/>
              </a:rPr>
              <a:t>美籍华裔物理学家，获</a:t>
            </a:r>
            <a:r>
              <a:rPr b="1" lang="en-US" sz="4000" spc="-1" strike="noStrike">
                <a:solidFill>
                  <a:srgbClr val="00ffff"/>
                </a:solidFill>
                <a:latin typeface="幼圆"/>
                <a:ea typeface="幼圆"/>
              </a:rPr>
              <a:t>1957</a:t>
            </a:r>
            <a:r>
              <a:rPr b="1" lang="zh-CN" sz="4000" spc="-1" strike="noStrike">
                <a:solidFill>
                  <a:srgbClr val="00ffff"/>
                </a:solidFill>
                <a:latin typeface="幼圆"/>
                <a:ea typeface="幼圆"/>
              </a:rPr>
              <a:t>年诺贝尔物理学奖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1143000" y="5715000"/>
            <a:ext cx="18288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0033"/>
                </a:solidFill>
                <a:latin typeface="方正魏碑简体"/>
              </a:rPr>
              <a:t>杨振宁</a:t>
            </a:r>
            <a:endParaRPr b="0" lang="en-US" sz="4800" spc="1" strike="noStrike">
              <a:ln w="9360">
                <a:solidFill>
                  <a:srgbClr val="ffffff"/>
                </a:solidFill>
                <a:round/>
              </a:ln>
              <a:solidFill>
                <a:srgbClr val="ff0033"/>
              </a:solidFill>
              <a:latin typeface="方正魏碑简体"/>
              <a:ea typeface="方正魏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28600" y="1143000"/>
            <a:ext cx="8915400" cy="36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一正音识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热泪盈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可歌可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泣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鞠躬尽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瘁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彷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殷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红                      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殷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切                      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为人知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066680" y="17524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uàng          qì                cuì pánghuá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209680" y="32004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ā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315200" y="3124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xiā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209680" y="41148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ī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315200" y="4038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xiǎ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143000" y="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邓稼先对中国从“任人宰割”到“中华人民站起来了”的转变做出了巨大贡献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066680" y="12193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简介邓稼先的生平经历和贡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赞扬了他光辉的一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066680" y="2286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过和奥本海默的对比来突出表现邓稼先的气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品格和精神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066680" y="3505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作者得知原子弹是由中国人自力更生搞出来的而为民族自豪，为朋友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990720" y="4876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在荒凉无边的沙漠中，邓稼先率领部下进行核研究，身先士卒，不怕牺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066680" y="6019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六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总体评价邓稼先，也是全文的总结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960" y="1371600"/>
            <a:ext cx="1094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33"/>
                </a:solidFill>
                <a:latin typeface="Times New Roman"/>
              </a:rPr>
              <a:t>整体感知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3352680" y="1066680"/>
            <a:ext cx="624852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最感人的事迹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最深刻的感受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最精彩的段落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思考"/>
          <p:cNvPicPr/>
          <p:nvPr/>
        </p:nvPicPr>
        <p:blipFill>
          <a:blip r:embed="rId1"/>
          <a:stretch/>
        </p:blipFill>
        <p:spPr>
          <a:xfrm>
            <a:off x="0" y="0"/>
            <a:ext cx="3695760" cy="3301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380880" y="304920"/>
            <a:ext cx="201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33"/>
                </a:solidFill>
                <a:latin typeface="Times New Roman"/>
              </a:rPr>
              <a:t>思考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文本框 8200"/>
          <p:cNvSpPr/>
          <p:nvPr/>
        </p:nvSpPr>
        <p:spPr>
          <a:xfrm>
            <a:off x="1187280" y="57340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371600" y="1143000"/>
            <a:ext cx="6629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33"/>
                </a:solidFill>
                <a:latin typeface="Times New Roman"/>
              </a:rPr>
              <a:t>问题探讨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最突出的写法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最难懂的部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03:16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16Z</dcterms:modified>
  <cp:revision>1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