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41.jpeg" ContentType="image/jpeg"/>
  <Override PartName="/ppt/media/image45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png" ContentType="image/png"/>
  <Override PartName="/ppt/media/image44.jpeg" ContentType="image/jpeg"/>
  <Override PartName="/ppt/media/image38.jpeg" ContentType="image/jpeg"/>
  <Override PartName="/ppt/media/image31.wmf" ContentType="image/x-wmf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893-D504-4B41-99C6-534518AB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C17-8E7A-463B-A495-19104D5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975-3B24-4CE1-8BB4-64A031A7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43D-382F-492A-B2C7-C45751F1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466-A23D-4D65-B0D9-F6BC0410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1E8-D57A-4A82-A741-928CB69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A5B0-91A8-47A0-B6E9-FC7A73B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167D-1BA5-4CA8-89F0-DAA290D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3823-5F4C-4FDE-ADBA-E246573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8478-8967-42AA-A1C1-43A1C83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E54-831E-44DD-AEE0-00EECD1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E1F-95C9-4541-B2ED-70C48A5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2521-D15F-4C22-8E12-E4B22C5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66EC-2EFA-495F-806F-E0FA430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791-F3B2-4784-A8EB-CD69663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FCF8-AB07-4410-B1DB-BD4DB6AC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15D2-898B-46BB-B7B7-75016619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53FC-630A-4F78-A0A2-66F5BAD3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9F2D-097A-430C-81A7-687497B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80B1-7F66-4DA6-A3B5-86115D6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779B-9B47-4864-B49D-18FC0AC0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00DD-298B-4BBA-934D-401EC85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DDB-6882-4541-B42A-2482588B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1D9F-0613-4DEE-830B-6C8DC29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9BF3-3C7F-43C4-ABFA-BDB8DD5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CAF7-BCDD-4B91-921A-C2F5460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CB28-9D9E-40E5-8321-D5AC7F5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1FE1-2744-4A4D-BA41-498619E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A472-4284-468F-B4B0-C8956EC7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BF17-9CFD-4A7D-8BF5-80C7C6F7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30E2-6051-403C-B7F4-BDD84C0C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2E6B-C0AD-4DA5-9613-0C0C047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42EC-F277-4407-AE9A-57A6839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D6B-4BA6-4BA6-95E9-50A4B6B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753A-99BC-478F-A2CE-E11E8360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8C06-8E32-4285-8524-5C2BB94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1774-C1BE-4A70-968F-2E4B737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BD0A-1A3A-4152-8603-A1C7039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C7C3-02A8-4C51-BCF2-02C7521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DB25-B8AA-4510-BF42-791C379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BE92-6A31-43FE-B23C-2F5B3B9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A238-826A-4136-A67A-E2881FCF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B1EC-7043-443B-A5A1-B7047DC6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2CB-39C2-4472-B500-EA833DD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A51-C0B2-4F13-8E84-DAF1EFA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0AD-9845-448D-881F-E821540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D1A-88B2-47D8-A01C-34275E1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80E-1691-4D81-A0DF-0BB1694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84d"/>
            </a:gs>
            <a:gs pos="100000">
              <a:srgbClr val="001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021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804600" indent="-4021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06720" indent="-80460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9200" indent="-12067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9200" indent="-120672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9200" indent="-120672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edf8f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2DE-6D45-4AD4-A45E-557CAF4DFAC8}" type="datetime">
              <a:rPr b="0" lang="zh-CN" sz="900" spc="-1" strike="noStrike">
                <a:solidFill>
                  <a:srgbClr val="edf8fe"/>
                </a:solidFill>
                <a:latin typeface="Verdana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edf8f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8B7-5A20-47F3-AACC-AF9F7D2DB382}" type="slidenum">
              <a:rPr b="0" lang="zh-CN" sz="1800" spc="-1" strike="noStrike">
                <a:solidFill>
                  <a:srgbClr val="edf8fe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oup 60" descr=""/>
          <p:cNvPicPr/>
          <p:nvPr/>
        </p:nvPicPr>
        <p:blipFill>
          <a:blip r:embed="rId2"/>
          <a:stretch/>
        </p:blipFill>
        <p:spPr>
          <a:xfrm>
            <a:off x="-96840" y="-50760"/>
            <a:ext cx="9456840" cy="695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1D40-3295-454B-8816-BC3B614885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00E-7F56-440B-86F0-1F1889B28A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079-F31B-4EBB-BAB6-272A011954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84d"/>
            </a:gs>
            <a:gs pos="100000">
              <a:srgbClr val="001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oup 60" descr=""/>
          <p:cNvPicPr/>
          <p:nvPr/>
        </p:nvPicPr>
        <p:blipFill>
          <a:blip r:embed="rId2"/>
          <a:stretch/>
        </p:blipFill>
        <p:spPr>
          <a:xfrm>
            <a:off x="-96840" y="-50760"/>
            <a:ext cx="9456840" cy="6959520"/>
          </a:xfrm>
          <a:prstGeom prst="rect">
            <a:avLst/>
          </a:prstGeom>
          <a:ln w="0">
            <a:noFill/>
          </a:ln>
        </p:spPr>
      </p:pic>
      <p:pic>
        <p:nvPicPr>
          <p:cNvPr id="125" name="Oval 31" descr=""/>
          <p:cNvPicPr/>
          <p:nvPr/>
        </p:nvPicPr>
        <p:blipFill>
          <a:blip r:embed="rId3"/>
          <a:stretch/>
        </p:blipFill>
        <p:spPr>
          <a:xfrm>
            <a:off x="5473800" y="143028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126" name="Oval 32" descr=""/>
          <p:cNvPicPr/>
          <p:nvPr/>
        </p:nvPicPr>
        <p:blipFill>
          <a:blip r:embed="rId4"/>
          <a:stretch/>
        </p:blipFill>
        <p:spPr>
          <a:xfrm>
            <a:off x="5645160" y="1405080"/>
            <a:ext cx="841320" cy="842760"/>
          </a:xfrm>
          <a:prstGeom prst="rect">
            <a:avLst/>
          </a:prstGeom>
          <a:ln w="0">
            <a:noFill/>
          </a:ln>
        </p:spPr>
      </p:pic>
      <p:pic>
        <p:nvPicPr>
          <p:cNvPr id="127" name="Oval 28" descr=""/>
          <p:cNvPicPr/>
          <p:nvPr/>
        </p:nvPicPr>
        <p:blipFill>
          <a:blip r:embed="rId5"/>
          <a:stretch/>
        </p:blipFill>
        <p:spPr>
          <a:xfrm>
            <a:off x="5249880" y="188748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28" name="Oval 30" descr=""/>
          <p:cNvPicPr/>
          <p:nvPr/>
        </p:nvPicPr>
        <p:blipFill>
          <a:blip r:embed="rId6"/>
          <a:stretch/>
        </p:blipFill>
        <p:spPr>
          <a:xfrm>
            <a:off x="5418000" y="1805040"/>
            <a:ext cx="501840" cy="501480"/>
          </a:xfrm>
          <a:prstGeom prst="rect">
            <a:avLst/>
          </a:prstGeom>
          <a:ln w="0">
            <a:noFill/>
          </a:ln>
        </p:spPr>
      </p:pic>
      <p:pic>
        <p:nvPicPr>
          <p:cNvPr id="129" name="Oval 27" descr=""/>
          <p:cNvPicPr/>
          <p:nvPr/>
        </p:nvPicPr>
        <p:blipFill>
          <a:blip r:embed="rId7"/>
          <a:stretch/>
        </p:blipFill>
        <p:spPr>
          <a:xfrm>
            <a:off x="4711680" y="2071800"/>
            <a:ext cx="270000" cy="276120"/>
          </a:xfrm>
          <a:prstGeom prst="rect">
            <a:avLst/>
          </a:prstGeom>
          <a:ln w="0">
            <a:noFill/>
          </a:ln>
        </p:spPr>
      </p:pic>
      <p:pic>
        <p:nvPicPr>
          <p:cNvPr id="130" name="Oval 29" descr=""/>
          <p:cNvPicPr/>
          <p:nvPr/>
        </p:nvPicPr>
        <p:blipFill>
          <a:blip r:embed="rId8"/>
          <a:stretch/>
        </p:blipFill>
        <p:spPr>
          <a:xfrm>
            <a:off x="6126120" y="981000"/>
            <a:ext cx="268200" cy="276480"/>
          </a:xfrm>
          <a:prstGeom prst="rect">
            <a:avLst/>
          </a:prstGeom>
          <a:ln w="0">
            <a:noFill/>
          </a:ln>
        </p:spPr>
      </p:pic>
      <p:pic>
        <p:nvPicPr>
          <p:cNvPr id="131" name="Oval 33" descr=""/>
          <p:cNvPicPr/>
          <p:nvPr/>
        </p:nvPicPr>
        <p:blipFill>
          <a:blip r:embed="rId9"/>
          <a:stretch/>
        </p:blipFill>
        <p:spPr>
          <a:xfrm>
            <a:off x="5052960" y="1852560"/>
            <a:ext cx="209520" cy="276120"/>
          </a:xfrm>
          <a:prstGeom prst="rect">
            <a:avLst/>
          </a:prstGeom>
          <a:ln w="0">
            <a:noFill/>
          </a:ln>
        </p:spPr>
      </p:pic>
      <p:pic>
        <p:nvPicPr>
          <p:cNvPr id="132" name="Oval 34" descr=""/>
          <p:cNvPicPr/>
          <p:nvPr/>
        </p:nvPicPr>
        <p:blipFill>
          <a:blip r:embed="rId10"/>
          <a:stretch/>
        </p:blipFill>
        <p:spPr>
          <a:xfrm>
            <a:off x="6141960" y="1019160"/>
            <a:ext cx="209520" cy="276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021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804600" indent="-4021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06720" indent="-80460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9200" indent="-1206720"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9200" indent="-120672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9200" indent="-120672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edf8f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F48-4128-48A3-AD0C-F3293F681BAF}" type="datetime">
              <a:rPr b="0" lang="zh-CN" sz="900" spc="-1" strike="noStrike">
                <a:solidFill>
                  <a:srgbClr val="edf8fe"/>
                </a:solidFill>
                <a:latin typeface="Verdana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edf8f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203-0B81-411E-A115-778A870ADAF3}" type="slidenum">
              <a:rPr b="0" lang="zh-CN" sz="1800" spc="-1" strike="noStrike">
                <a:solidFill>
                  <a:srgbClr val="edf8fe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矩形 2" descr=""/>
          <p:cNvPicPr/>
          <p:nvPr/>
        </p:nvPicPr>
        <p:blipFill>
          <a:blip r:embed="rId1"/>
          <a:stretch/>
        </p:blipFill>
        <p:spPr>
          <a:xfrm>
            <a:off x="1432080" y="1473120"/>
            <a:ext cx="6221160" cy="7002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99640" y="14842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很多的房屋和桥梁都是依靠直立的材料（柱子）和横放的材料（横梁）支撑住的。当它们受压时，横梁比柱子容易弯曲和断裂，所以，横梁抗弯曲能力是建筑学上要研究的重要问题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N9_1MAX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5219640" y="2852640"/>
            <a:ext cx="289080" cy="288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 rot="15298800">
            <a:off x="7340040" y="1501560"/>
            <a:ext cx="219240" cy="340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矩形 1" descr=""/>
          <p:cNvPicPr/>
          <p:nvPr/>
        </p:nvPicPr>
        <p:blipFill>
          <a:blip r:embed="rId2"/>
          <a:stretch/>
        </p:blipFill>
        <p:spPr>
          <a:xfrm>
            <a:off x="0" y="0"/>
            <a:ext cx="424656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3ac6e615c873f9b6a7d424403e123f06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 rot="21405600">
            <a:off x="6372360" y="1988640"/>
            <a:ext cx="647640" cy="46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 rot="14344200">
            <a:off x="4127040" y="-1361880"/>
            <a:ext cx="581040" cy="684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矩形 1" descr=""/>
          <p:cNvPicPr/>
          <p:nvPr/>
        </p:nvPicPr>
        <p:blipFill>
          <a:blip r:embed="rId2"/>
          <a:stretch/>
        </p:blipFill>
        <p:spPr>
          <a:xfrm>
            <a:off x="0" y="-108000"/>
            <a:ext cx="455940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3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200" y="907920"/>
            <a:ext cx="82090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桥梁的抗弯能力与哪些因素有关系呢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384280"/>
            <a:ext cx="822960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我认为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桥梁的材料有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桥梁的长短有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桥梁的宽度有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4.</a:t>
            </a:r>
            <a:r>
              <a:rPr b="0" lang="zh-CN" sz="3600" spc="-1" strike="noStrike">
                <a:solidFill>
                  <a:srgbClr val="00b050"/>
                </a:solidFill>
                <a:latin typeface="华文行楷"/>
                <a:ea typeface="华文行楷"/>
              </a:rPr>
              <a:t>桥梁的厚度有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755640" y="1413000"/>
          <a:ext cx="7704000" cy="4039920"/>
        </p:xfrm>
        <a:graphic>
          <a:graphicData uri="http://schemas.openxmlformats.org/drawingml/2006/table">
            <a:tbl>
              <a:tblPr/>
              <a:tblGrid>
                <a:gridCol w="2087640"/>
                <a:gridCol w="5616360"/>
              </a:tblGrid>
              <a:tr h="73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内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纸的宽度与抗弯曲能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我们的猜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中改变的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中不变的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19"/>
          <p:cNvSpPr/>
          <p:nvPr/>
        </p:nvSpPr>
        <p:spPr>
          <a:xfrm>
            <a:off x="2340000" y="6021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2916360" y="2997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宽度（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倍宽，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倍宽，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倍宽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2819520" y="3886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材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长度、厚度，纸架空的间距，纸的弯曲程度，单个垫圈的重量，放垫圈的位置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5424840" y="227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抗弯曲能力与纸的宽度有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f8fe"/>
                </a:solidFill>
                <a:latin typeface="Arial"/>
                <a:ea typeface="微软雅黑"/>
              </a:rPr>
              <a:t>宽度对抗弯曲能力的影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矩形 22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DSC03839"/>
          <p:cNvPicPr/>
          <p:nvPr/>
        </p:nvPicPr>
        <p:blipFill>
          <a:blip r:embed="rId2"/>
          <a:srcRect l="0" t="0" r="-2391" b="0"/>
          <a:stretch/>
        </p:blipFill>
        <p:spPr>
          <a:xfrm>
            <a:off x="144360" y="325440"/>
            <a:ext cx="8964720" cy="62532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2"/>
          <p:cNvGrpSpPr/>
          <p:nvPr/>
        </p:nvGrpSpPr>
        <p:grpSpPr>
          <a:xfrm>
            <a:off x="6948360" y="2995560"/>
            <a:ext cx="1438560" cy="3457440"/>
            <a:chOff x="6948360" y="2995560"/>
            <a:chExt cx="1438560" cy="3457440"/>
          </a:xfrm>
        </p:grpSpPr>
        <p:grpSp>
          <p:nvGrpSpPr>
            <p:cNvPr id="247" name="Group 8"/>
            <p:cNvGrpSpPr/>
            <p:nvPr/>
          </p:nvGrpSpPr>
          <p:grpSpPr>
            <a:xfrm>
              <a:off x="7092720" y="3789000"/>
              <a:ext cx="573120" cy="2664000"/>
              <a:chOff x="7092720" y="3789000"/>
              <a:chExt cx="573120" cy="2664000"/>
            </a:xfrm>
          </p:grpSpPr>
          <p:sp>
            <p:nvSpPr>
              <p:cNvPr id="248" name="AutoShape 9"/>
              <p:cNvSpPr/>
              <p:nvPr/>
            </p:nvSpPr>
            <p:spPr>
              <a:xfrm flipH="1" rot="16200000">
                <a:off x="6846120" y="4035240"/>
                <a:ext cx="1065960" cy="573120"/>
              </a:xfrm>
              <a:prstGeom prst="rightArrow">
                <a:avLst>
                  <a:gd name="adj1" fmla="val 50000"/>
                  <a:gd name="adj2" fmla="val 46481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AutoShape 10"/>
              <p:cNvSpPr/>
              <p:nvPr/>
            </p:nvSpPr>
            <p:spPr>
              <a:xfrm rot="16200000">
                <a:off x="6846120" y="5633280"/>
                <a:ext cx="1065960" cy="573120"/>
              </a:xfrm>
              <a:prstGeom prst="rightArrow">
                <a:avLst>
                  <a:gd name="adj1" fmla="val 50000"/>
                  <a:gd name="adj2" fmla="val 46481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Text Box 11"/>
            <p:cNvSpPr/>
            <p:nvPr/>
          </p:nvSpPr>
          <p:spPr>
            <a:xfrm>
              <a:off x="6948360" y="2995560"/>
              <a:ext cx="14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2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2554200" y="1197000"/>
            <a:ext cx="3457440" cy="3598920"/>
            <a:chOff x="2554200" y="1197000"/>
            <a:chExt cx="3457440" cy="3598920"/>
          </a:xfrm>
        </p:grpSpPr>
        <p:sp>
          <p:nvSpPr>
            <p:cNvPr id="252" name="Oval 7"/>
            <p:cNvSpPr/>
            <p:nvPr/>
          </p:nvSpPr>
          <p:spPr>
            <a:xfrm>
              <a:off x="3922560" y="4363920"/>
              <a:ext cx="576360" cy="4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2554200" y="1197000"/>
              <a:ext cx="3457440" cy="3142800"/>
              <a:chOff x="2554200" y="1197000"/>
              <a:chExt cx="3457440" cy="3142800"/>
            </a:xfrm>
          </p:grpSpPr>
          <p:sp>
            <p:nvSpPr>
              <p:cNvPr id="254" name="AutoShape 19"/>
              <p:cNvSpPr/>
              <p:nvPr/>
            </p:nvSpPr>
            <p:spPr>
              <a:xfrm flipH="1" rot="16200000">
                <a:off x="3174120" y="3162600"/>
                <a:ext cx="2066760" cy="287280"/>
              </a:xfrm>
              <a:prstGeom prst="rightArrow">
                <a:avLst>
                  <a:gd name="adj1" fmla="val 50000"/>
                  <a:gd name="adj2" fmla="val 179756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Text Box 21"/>
              <p:cNvSpPr/>
              <p:nvPr/>
            </p:nvSpPr>
            <p:spPr>
              <a:xfrm>
                <a:off x="2554200" y="1197000"/>
                <a:ext cx="34574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Verdana"/>
                    <a:ea typeface="微软雅黑"/>
                  </a:rPr>
                  <a:t>螺丝帽的个数代表抗弯曲的能力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37"/>
          <p:cNvGrpSpPr/>
          <p:nvPr/>
        </p:nvGrpSpPr>
        <p:grpSpPr>
          <a:xfrm>
            <a:off x="208080" y="2405160"/>
            <a:ext cx="2989080" cy="1953000"/>
            <a:chOff x="208080" y="2405160"/>
            <a:chExt cx="2989080" cy="1953000"/>
          </a:xfrm>
        </p:grpSpPr>
        <p:sp>
          <p:nvSpPr>
            <p:cNvPr id="257" name="Text Box 25"/>
            <p:cNvSpPr/>
            <p:nvPr/>
          </p:nvSpPr>
          <p:spPr>
            <a:xfrm>
              <a:off x="208080" y="2405160"/>
              <a:ext cx="298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分别选用不同宽度的纸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 flipH="1" rot="12292200">
              <a:off x="1143000" y="3771720"/>
              <a:ext cx="1487160" cy="286920"/>
            </a:xfrm>
            <a:prstGeom prst="rightArrow">
              <a:avLst>
                <a:gd name="adj1" fmla="val 50000"/>
                <a:gd name="adj2" fmla="val 12953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36"/>
          <p:cNvGrpSpPr/>
          <p:nvPr/>
        </p:nvGrpSpPr>
        <p:grpSpPr>
          <a:xfrm>
            <a:off x="1510200" y="4938840"/>
            <a:ext cx="5292720" cy="582840"/>
            <a:chOff x="1510200" y="4938840"/>
            <a:chExt cx="5292720" cy="582840"/>
          </a:xfrm>
        </p:grpSpPr>
        <p:sp>
          <p:nvSpPr>
            <p:cNvPr id="260" name="AutoShape 31"/>
            <p:cNvSpPr/>
            <p:nvPr/>
          </p:nvSpPr>
          <p:spPr>
            <a:xfrm flipH="1" rot="10795200">
              <a:off x="1509840" y="4939560"/>
              <a:ext cx="1271160" cy="430200"/>
            </a:xfrm>
            <a:prstGeom prst="rightArrow">
              <a:avLst>
                <a:gd name="adj1" fmla="val 50000"/>
                <a:gd name="adj2" fmla="val 7382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rot="10800000">
              <a:off x="5668560" y="4939920"/>
              <a:ext cx="1134360" cy="430200"/>
            </a:xfrm>
            <a:prstGeom prst="rightArrow">
              <a:avLst>
                <a:gd name="adj1" fmla="val 50000"/>
                <a:gd name="adj2" fmla="val 65896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33"/>
            <p:cNvSpPr/>
            <p:nvPr/>
          </p:nvSpPr>
          <p:spPr>
            <a:xfrm>
              <a:off x="3629880" y="4940280"/>
              <a:ext cx="180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10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35"/>
          <p:cNvGrpSpPr/>
          <p:nvPr/>
        </p:nvGrpSpPr>
        <p:grpSpPr>
          <a:xfrm>
            <a:off x="2987640" y="5280840"/>
            <a:ext cx="3168720" cy="1305000"/>
            <a:chOff x="2987640" y="5280840"/>
            <a:chExt cx="3168720" cy="1305000"/>
          </a:xfrm>
        </p:grpSpPr>
        <p:sp>
          <p:nvSpPr>
            <p:cNvPr id="264" name="Text Box 13"/>
            <p:cNvSpPr/>
            <p:nvPr/>
          </p:nvSpPr>
          <p:spPr>
            <a:xfrm>
              <a:off x="2987640" y="600444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刚接触桌面为准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H="1" rot="7374000">
              <a:off x="3179160" y="5596200"/>
              <a:ext cx="907920" cy="287280"/>
            </a:xfrm>
            <a:prstGeom prst="rightArrow">
              <a:avLst>
                <a:gd name="adj1" fmla="val 50000"/>
                <a:gd name="adj2" fmla="val 789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2276640"/>
          <a:ext cx="7416720" cy="3143160"/>
        </p:xfrm>
        <a:graphic>
          <a:graphicData uri="http://schemas.openxmlformats.org/drawingml/2006/table">
            <a:tbl>
              <a:tblPr/>
              <a:tblGrid>
                <a:gridCol w="2685960"/>
                <a:gridCol w="1020960"/>
                <a:gridCol w="1236600"/>
                <a:gridCol w="1236600"/>
                <a:gridCol w="1236600"/>
              </a:tblGrid>
              <a:tr h="8233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纸梁的宽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（以最窄的为标准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倍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倍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倍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765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抗弯曲能力的大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预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实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我们的发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7" name="Text Box 29"/>
          <p:cNvSpPr/>
          <p:nvPr/>
        </p:nvSpPr>
        <p:spPr>
          <a:xfrm>
            <a:off x="900000" y="1089000"/>
            <a:ext cx="714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琥珀"/>
                <a:ea typeface="华文琥珀"/>
              </a:rPr>
              <a:t>纸梁的宽度与抗弯曲能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TextBox1" descr=""/>
          <p:cNvPicPr/>
          <p:nvPr/>
        </p:nvPicPr>
        <p:blipFill>
          <a:blip r:embed="rId1"/>
          <a:stretch/>
        </p:blipFill>
        <p:spPr>
          <a:xfrm>
            <a:off x="4608360" y="314172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2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3" descr=""/>
          <p:cNvPicPr/>
          <p:nvPr/>
        </p:nvPicPr>
        <p:blipFill>
          <a:blip r:embed="rId3"/>
          <a:stretch/>
        </p:blipFill>
        <p:spPr>
          <a:xfrm>
            <a:off x="7128000" y="31766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71" name="TextBox4" descr=""/>
          <p:cNvPicPr/>
          <p:nvPr/>
        </p:nvPicPr>
        <p:blipFill>
          <a:blip r:embed="rId4"/>
          <a:stretch/>
        </p:blipFill>
        <p:spPr>
          <a:xfrm>
            <a:off x="4608360" y="389736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5" descr=""/>
          <p:cNvPicPr/>
          <p:nvPr/>
        </p:nvPicPr>
        <p:blipFill>
          <a:blip r:embed="rId5"/>
          <a:stretch/>
        </p:blipFill>
        <p:spPr>
          <a:xfrm>
            <a:off x="5867280" y="389736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6" descr=""/>
          <p:cNvPicPr/>
          <p:nvPr/>
        </p:nvPicPr>
        <p:blipFill>
          <a:blip r:embed="rId6"/>
          <a:stretch/>
        </p:blipFill>
        <p:spPr>
          <a:xfrm>
            <a:off x="7128000" y="3897360"/>
            <a:ext cx="91440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矩形 1" descr=""/>
          <p:cNvPicPr/>
          <p:nvPr/>
        </p:nvPicPr>
        <p:blipFill>
          <a:blip r:embed="rId1"/>
          <a:stretch/>
        </p:blipFill>
        <p:spPr>
          <a:xfrm>
            <a:off x="1440" y="1463760"/>
            <a:ext cx="9144000" cy="3879720"/>
          </a:xfrm>
          <a:prstGeom prst="rect">
            <a:avLst/>
          </a:prstGeom>
          <a:ln w="0">
            <a:noFill/>
          </a:ln>
        </p:spPr>
      </p:pic>
      <p:pic>
        <p:nvPicPr>
          <p:cNvPr id="275" name="矩形 2" descr=""/>
          <p:cNvPicPr/>
          <p:nvPr/>
        </p:nvPicPr>
        <p:blipFill>
          <a:blip r:embed="rId2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矩形 7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172800"/>
            <a:ext cx="756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edf8fe"/>
                </a:solidFill>
                <a:latin typeface="华文琥珀"/>
                <a:ea typeface="华文琥珀"/>
              </a:rPr>
              <a:t>纸的厚度与抗弯曲能力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4" descr="DSC03839"/>
          <p:cNvPicPr/>
          <p:nvPr/>
        </p:nvPicPr>
        <p:blipFill>
          <a:blip r:embed="rId2"/>
          <a:srcRect l="0" t="0" r="-2389" b="0"/>
          <a:stretch/>
        </p:blipFill>
        <p:spPr>
          <a:xfrm>
            <a:off x="1116000" y="1773360"/>
            <a:ext cx="7056360" cy="4476600"/>
          </a:xfrm>
          <a:prstGeom prst="rect">
            <a:avLst/>
          </a:prstGeom>
          <a:ln w="0">
            <a:noFill/>
          </a:ln>
        </p:spPr>
      </p:pic>
      <p:sp>
        <p:nvSpPr>
          <p:cNvPr id="279" name="Oval 5"/>
          <p:cNvSpPr/>
          <p:nvPr/>
        </p:nvSpPr>
        <p:spPr>
          <a:xfrm>
            <a:off x="539640" y="3573360"/>
            <a:ext cx="2303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3205080" y="5229360"/>
            <a:ext cx="2303640" cy="2142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3995640" y="4653000"/>
            <a:ext cx="576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2124000" y="6237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f8fe"/>
                </a:solidFill>
                <a:latin typeface="华文琥珀"/>
                <a:ea typeface="华文琥珀"/>
              </a:rPr>
              <a:t>怎样表示增加了纸梁的厚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971640" y="1397160"/>
          <a:ext cx="7632720" cy="4047840"/>
        </p:xfrm>
        <a:graphic>
          <a:graphicData uri="http://schemas.openxmlformats.org/drawingml/2006/table">
            <a:tbl>
              <a:tblPr/>
              <a:tblGrid>
                <a:gridCol w="2087640"/>
                <a:gridCol w="5545080"/>
              </a:tblGrid>
              <a:tr h="663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内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纸的厚度与抗弯曲能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我们的猜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中改变的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中不变的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9"/>
          <p:cNvSpPr/>
          <p:nvPr/>
        </p:nvSpPr>
        <p:spPr>
          <a:xfrm>
            <a:off x="5667840" y="21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抗弯曲能力与纸的厚度有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754080" y="28684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厚度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倍厚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倍厚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倍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124080" y="373392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纸的材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微软雅黑"/>
              </a:rPr>
              <a:t>长度、宽度，纸架空的间距，纸的弯曲程度，单个垫圈的重量，放垫圈的位置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372120" y="18900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df8fe"/>
                </a:solidFill>
                <a:latin typeface="Verdana"/>
                <a:ea typeface="微软雅黑"/>
              </a:rPr>
              <a:t>厚度对抗弯曲能力的影响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55640" y="198864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很多的房屋和桥梁都是依靠直立的材料（</a:t>
            </a:r>
            <a:r>
              <a:rPr b="1" lang="zh-CN" sz="2800" spc="-1" strike="noStrike">
                <a:solidFill>
                  <a:srgbClr val="edf8fe"/>
                </a:solidFill>
                <a:latin typeface="Verdana"/>
              </a:rPr>
              <a:t>柱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和横放的材料（</a:t>
            </a:r>
            <a:r>
              <a:rPr b="1" lang="zh-CN" sz="2800" spc="-1" strike="noStrike">
                <a:solidFill>
                  <a:srgbClr val="edf8fe"/>
                </a:solidFill>
                <a:latin typeface="Verdana"/>
              </a:rPr>
              <a:t>横梁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支撑住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纸梁的厚度与抗弯曲能力的测试记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4360" y="1989000"/>
          <a:ext cx="7704000" cy="4140360"/>
        </p:xfrm>
        <a:graphic>
          <a:graphicData uri="http://schemas.openxmlformats.org/drawingml/2006/table">
            <a:tbl>
              <a:tblPr/>
              <a:tblGrid>
                <a:gridCol w="1511280"/>
                <a:gridCol w="1081080"/>
                <a:gridCol w="1519200"/>
                <a:gridCol w="1890720"/>
                <a:gridCol w="1701720"/>
              </a:tblGrid>
              <a:tr h="5302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纸的厚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一倍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二倍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四倍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10335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抗弯曲能力的大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预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95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实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我们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发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华文琥珀"/>
                          <a:ea typeface="华文琥珀"/>
                        </a:rPr>
                        <a:t>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87cddd"/>
                      </a:solidFill>
                    </a:lnL>
                    <a:lnR w="9360">
                      <a:solidFill>
                        <a:srgbClr val="87cddd"/>
                      </a:solidFill>
                    </a:lnR>
                    <a:lnT w="9360">
                      <a:solidFill>
                        <a:srgbClr val="87cddd"/>
                      </a:solidFill>
                    </a:lnT>
                    <a:lnB w="9360">
                      <a:solidFill>
                        <a:srgbClr val="87c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0" name="TextBox1" descr=""/>
          <p:cNvPicPr/>
          <p:nvPr/>
        </p:nvPicPr>
        <p:blipFill>
          <a:blip r:embed="rId1"/>
          <a:stretch/>
        </p:blipFill>
        <p:spPr>
          <a:xfrm>
            <a:off x="3600360" y="270828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91" name="TextBox2" descr=""/>
          <p:cNvPicPr/>
          <p:nvPr/>
        </p:nvPicPr>
        <p:blipFill>
          <a:blip r:embed="rId2"/>
          <a:stretch/>
        </p:blipFill>
        <p:spPr>
          <a:xfrm>
            <a:off x="5278320" y="270828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3" descr=""/>
          <p:cNvPicPr/>
          <p:nvPr/>
        </p:nvPicPr>
        <p:blipFill>
          <a:blip r:embed="rId3"/>
          <a:stretch/>
        </p:blipFill>
        <p:spPr>
          <a:xfrm>
            <a:off x="7113600" y="267336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93" name="TextBox4" descr=""/>
          <p:cNvPicPr/>
          <p:nvPr/>
        </p:nvPicPr>
        <p:blipFill>
          <a:blip r:embed="rId4"/>
          <a:stretch/>
        </p:blipFill>
        <p:spPr>
          <a:xfrm>
            <a:off x="3600360" y="36464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5" descr=""/>
          <p:cNvPicPr/>
          <p:nvPr/>
        </p:nvPicPr>
        <p:blipFill>
          <a:blip r:embed="rId5"/>
          <a:stretch/>
        </p:blipFill>
        <p:spPr>
          <a:xfrm>
            <a:off x="5278320" y="36464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6" descr=""/>
          <p:cNvPicPr/>
          <p:nvPr/>
        </p:nvPicPr>
        <p:blipFill>
          <a:blip r:embed="rId6"/>
          <a:stretch/>
        </p:blipFill>
        <p:spPr>
          <a:xfrm>
            <a:off x="7113600" y="3610080"/>
            <a:ext cx="914400" cy="68256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矩形 1" descr=""/>
          <p:cNvPicPr/>
          <p:nvPr/>
        </p:nvPicPr>
        <p:blipFill>
          <a:blip r:embed="rId1"/>
          <a:stretch/>
        </p:blipFill>
        <p:spPr>
          <a:xfrm>
            <a:off x="0" y="1319040"/>
            <a:ext cx="9144000" cy="3884760"/>
          </a:xfrm>
          <a:prstGeom prst="rect">
            <a:avLst/>
          </a:prstGeom>
          <a:ln w="0">
            <a:noFill/>
          </a:ln>
        </p:spPr>
      </p:pic>
      <p:pic>
        <p:nvPicPr>
          <p:cNvPr id="298" name="矩形 2" descr=""/>
          <p:cNvPicPr/>
          <p:nvPr/>
        </p:nvPicPr>
        <p:blipFill>
          <a:blip r:embed="rId2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矩形 6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3203280" y="3715920"/>
            <a:ext cx="5832360" cy="30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增加材料的宽度，可以增强抗弯曲能力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增加材料的厚度，可以明显增强抗弯曲能力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2" name="Picture 4" descr="3"/>
            <p:cNvPicPr/>
            <p:nvPr/>
          </p:nvPicPr>
          <p:blipFill>
            <a:blip r:embed="rId2"/>
            <a:stretch/>
          </p:blipFill>
          <p:spPr>
            <a:xfrm>
              <a:off x="0" y="2997360"/>
              <a:ext cx="3102120" cy="38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" descr="2"/>
            <p:cNvPicPr/>
            <p:nvPr/>
          </p:nvPicPr>
          <p:blipFill>
            <a:blip r:embed="rId3"/>
            <a:stretch/>
          </p:blipFill>
          <p:spPr>
            <a:xfrm>
              <a:off x="1547640" y="0"/>
              <a:ext cx="7596360" cy="357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5" descr="0WK23"/>
          <p:cNvPicPr/>
          <p:nvPr/>
        </p:nvPicPr>
        <p:blipFill>
          <a:blip r:embed="rId1"/>
          <a:stretch/>
        </p:blipFill>
        <p:spPr>
          <a:xfrm>
            <a:off x="0" y="114480"/>
            <a:ext cx="9524880" cy="69055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1835280" y="4005360"/>
            <a:ext cx="1439640" cy="647640"/>
          </a:xfrm>
          <a:prstGeom prst="rect">
            <a:avLst/>
          </a:prstGeom>
          <a:solidFill>
            <a:srgbClr val="477a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835280" y="4005360"/>
            <a:ext cx="1439640" cy="647640"/>
          </a:xfrm>
          <a:prstGeom prst="rect">
            <a:avLst/>
          </a:prstGeom>
          <a:solidFill>
            <a:srgbClr val="477ab1">
              <a:alpha val="63000"/>
            </a:srgbClr>
          </a:solidFill>
          <a:ln w="1260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067280" y="2205000"/>
            <a:ext cx="649080" cy="1368360"/>
          </a:xfrm>
          <a:prstGeom prst="rect">
            <a:avLst/>
          </a:prstGeom>
          <a:solidFill>
            <a:srgbClr val="477a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1763640" y="2349360"/>
            <a:ext cx="158436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4847" y="0"/>
                </a:lnTo>
                <a:lnTo>
                  <a:pt x="14847" y="5513"/>
                </a:lnTo>
                <a:lnTo>
                  <a:pt x="12427" y="5513"/>
                </a:lnTo>
                <a:cubicBezTo>
                  <a:pt x="5564" y="5513"/>
                  <a:pt x="0" y="8488"/>
                  <a:pt x="0" y="12158"/>
                </a:cubicBezTo>
                <a:lnTo>
                  <a:pt x="0" y="21600"/>
                </a:lnTo>
                <a:lnTo>
                  <a:pt x="1157" y="21600"/>
                </a:lnTo>
                <a:lnTo>
                  <a:pt x="1157" y="12158"/>
                </a:lnTo>
                <a:cubicBezTo>
                  <a:pt x="1157" y="9113"/>
                  <a:pt x="6203" y="6645"/>
                  <a:pt x="12427" y="6645"/>
                </a:cubicBezTo>
                <a:lnTo>
                  <a:pt x="14847" y="6645"/>
                </a:lnTo>
                <a:lnTo>
                  <a:pt x="14847" y="12158"/>
                </a:lnTo>
                <a:close/>
              </a:path>
            </a:pathLst>
          </a:custGeom>
          <a:gradFill rotWithShape="0">
            <a:gsLst>
              <a:gs pos="0">
                <a:srgbClr val="f70909"/>
              </a:gs>
              <a:gs pos="100000">
                <a:srgbClr val="72040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05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横梁平放好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还是立着放好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矩形 7" descr=""/>
          <p:cNvPicPr/>
          <p:nvPr/>
        </p:nvPicPr>
        <p:blipFill>
          <a:blip r:embed="rId1"/>
          <a:stretch/>
        </p:blipFill>
        <p:spPr>
          <a:xfrm>
            <a:off x="81000" y="52560"/>
            <a:ext cx="2973240" cy="2346120"/>
          </a:xfrm>
          <a:prstGeom prst="rect">
            <a:avLst/>
          </a:prstGeom>
          <a:ln w="0">
            <a:noFill/>
          </a:ln>
        </p:spPr>
      </p:pic>
      <p:pic>
        <p:nvPicPr>
          <p:cNvPr id="311" name="矩形 6" descr=""/>
          <p:cNvPicPr/>
          <p:nvPr/>
        </p:nvPicPr>
        <p:blipFill>
          <a:blip r:embed="rId2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DSC_1407"/>
          <p:cNvPicPr/>
          <p:nvPr/>
        </p:nvPicPr>
        <p:blipFill>
          <a:blip r:embed="rId3"/>
          <a:stretch/>
        </p:blipFill>
        <p:spPr>
          <a:xfrm>
            <a:off x="4896000" y="0"/>
            <a:ext cx="4241520" cy="3141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图片3"/>
          <p:cNvPicPr/>
          <p:nvPr/>
        </p:nvPicPr>
        <p:blipFill>
          <a:blip r:embed="rId4"/>
          <a:stretch/>
        </p:blipFill>
        <p:spPr>
          <a:xfrm>
            <a:off x="0" y="0"/>
            <a:ext cx="4896000" cy="3492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图片2"/>
          <p:cNvPicPr/>
          <p:nvPr/>
        </p:nvPicPr>
        <p:blipFill>
          <a:blip r:embed="rId5"/>
          <a:stretch/>
        </p:blipFill>
        <p:spPr>
          <a:xfrm>
            <a:off x="-9360" y="4292640"/>
            <a:ext cx="9121680" cy="256536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" descr=""/>
          <p:cNvPicPr/>
          <p:nvPr/>
        </p:nvPicPr>
        <p:blipFill>
          <a:blip r:embed="rId6"/>
          <a:stretch/>
        </p:blipFill>
        <p:spPr>
          <a:xfrm>
            <a:off x="2057400" y="9144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0" y="3527280"/>
            <a:ext cx="91123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探究：横梁为什么要立着安放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538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横梁平着放好，还是立着放好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edf8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</a:rPr>
              <a:t>厚度比宽度更能提高梁的抗弯曲能力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89532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横梁的抗弯曲能力与什么有关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826920" y="2565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横梁的抗弯曲能力与材料有关；与长短有关；与横梁的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宽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横梁的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厚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矩形 1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1392120" y="1773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判  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581920" y="2349360"/>
            <a:ext cx="389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纸的厚度与抗弯曲能力成正比。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梁平放比立放更能承受巨大的压力。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横梁比柱子容易弯曲和断裂。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两张纸的抗弯曲能力一定比一张纸强。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627804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Verdana"/>
                <a:ea typeface="微软雅黑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92748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Verdana"/>
                <a:ea typeface="微软雅黑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7214760" y="49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Verdana"/>
                <a:ea typeface="微软雅黑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598032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Verdana"/>
                <a:ea typeface="微软雅黑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矩形 8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3"/>
          <p:cNvSpPr/>
          <p:nvPr/>
        </p:nvSpPr>
        <p:spPr>
          <a:xfrm>
            <a:off x="3431880" y="1700280"/>
            <a:ext cx="2657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材料的抗弯曲能力（       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只与材料厚度有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只与材料宽度有关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与材料宽度和厚度都有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材料的厚度和宽度，材料（        ）地影响抵抗弯曲的能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同样程度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厚度更多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宽度更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在研究纸的宽度与抗弯曲能力的关系时，要改变的条件是（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厚度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宽度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长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在研究纸的厚度与抗弯曲能力的关系时，要改变的条件是（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材质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宽度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厚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362880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42814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76309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0"/>
          <p:cNvSpPr/>
          <p:nvPr/>
        </p:nvSpPr>
        <p:spPr>
          <a:xfrm>
            <a:off x="7634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矩形 7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4"/>
          <p:cNvSpPr/>
          <p:nvPr/>
        </p:nvSpPr>
        <p:spPr>
          <a:xfrm>
            <a:off x="3017880" y="2004840"/>
            <a:ext cx="327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在研究纸的宽度与抗弯曲能力的关系时，下列条件不变的是（   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长度、厚度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长、宽、厚度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宽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在研究纸梁的宽度与抗弯曲能力的关系时，要改变的条件是（    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在研究纸梁的厚度与抗弯曲能力的关系时，要保持不变的条件是（            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材质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厚度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宽度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纸的长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单个垫圈的轻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759240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766116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7576920" y="4076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AC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矩形 5" descr=""/>
          <p:cNvPicPr/>
          <p:nvPr/>
        </p:nvPicPr>
        <p:blipFill>
          <a:blip r:embed="rId2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6"/>
          <p:cNvSpPr/>
          <p:nvPr/>
        </p:nvSpPr>
        <p:spPr>
          <a:xfrm>
            <a:off x="525960" y="120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3040200" y="1766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纸的厚度与抗弯曲能力的大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0" y="2328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猜想一下，厚度增加，纸的抗弯曲能力会怎样？用实验的方法来验证这个猜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2042640" y="29606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实验中应该控制哪些量不变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187280" y="3146400"/>
            <a:ext cx="424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垫起纸梁高度不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弯曲的标准不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纸梁架空的距离不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放垫圈的位置不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纸梁宽度不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矩形 7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549720" y="120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153800" y="16574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数据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9" descr="抗弯曲能力"/>
          <p:cNvPicPr/>
          <p:nvPr/>
        </p:nvPicPr>
        <p:blipFill>
          <a:blip r:embed="rId1"/>
          <a:stretch/>
        </p:blipFill>
        <p:spPr>
          <a:xfrm>
            <a:off x="2100240" y="1857240"/>
            <a:ext cx="6048360" cy="1243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抗弯曲能力1"/>
          <p:cNvPicPr/>
          <p:nvPr/>
        </p:nvPicPr>
        <p:blipFill>
          <a:blip r:embed="rId2"/>
          <a:stretch/>
        </p:blipFill>
        <p:spPr>
          <a:xfrm>
            <a:off x="3565440" y="3141720"/>
            <a:ext cx="4751640" cy="33843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1"/>
          <p:cNvSpPr/>
          <p:nvPr/>
        </p:nvSpPr>
        <p:spPr>
          <a:xfrm>
            <a:off x="1788480" y="311796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把实测数据制成曲线图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836360" y="35002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抗弯曲能力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放垫圈个数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3377160" y="606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355200" y="580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33552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377160" y="52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287520" y="4940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287520" y="4724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287520" y="443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3287520" y="414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3287520" y="38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287520" y="364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6395760" y="6381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纸的张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393120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5"/>
          <p:cNvSpPr/>
          <p:nvPr/>
        </p:nvSpPr>
        <p:spPr>
          <a:xfrm>
            <a:off x="443448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486648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537120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8"/>
          <p:cNvSpPr/>
          <p:nvPr/>
        </p:nvSpPr>
        <p:spPr>
          <a:xfrm>
            <a:off x="580284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9"/>
          <p:cNvSpPr/>
          <p:nvPr/>
        </p:nvSpPr>
        <p:spPr>
          <a:xfrm>
            <a:off x="342648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矩形 25" descr=""/>
          <p:cNvPicPr/>
          <p:nvPr/>
        </p:nvPicPr>
        <p:blipFill>
          <a:blip r:embed="rId3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文本框 8199"/>
          <p:cNvSpPr/>
          <p:nvPr/>
        </p:nvSpPr>
        <p:spPr>
          <a:xfrm>
            <a:off x="2724120" y="525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628920" y="124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83680" y="170028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数据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5" descr="抗弯曲能力"/>
          <p:cNvPicPr/>
          <p:nvPr/>
        </p:nvPicPr>
        <p:blipFill>
          <a:blip r:embed="rId1"/>
          <a:stretch/>
        </p:blipFill>
        <p:spPr>
          <a:xfrm>
            <a:off x="2232000" y="1825560"/>
            <a:ext cx="604836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抗弯曲能力1"/>
          <p:cNvPicPr/>
          <p:nvPr/>
        </p:nvPicPr>
        <p:blipFill>
          <a:blip r:embed="rId2"/>
          <a:stretch/>
        </p:blipFill>
        <p:spPr>
          <a:xfrm>
            <a:off x="3565440" y="3141720"/>
            <a:ext cx="4751640" cy="33843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1771200" y="30686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把实测数据制成曲线图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038320" y="34290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抗弯曲能力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放垫圈个数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3305880" y="606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3283560" y="580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328356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3305880" y="52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216240" y="4940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3216240" y="4724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3216240" y="443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3216240" y="414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3216240" y="38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216240" y="364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633000" y="638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纸的张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400284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448380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491544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534744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4"/>
          <p:cNvSpPr/>
          <p:nvPr/>
        </p:nvSpPr>
        <p:spPr>
          <a:xfrm>
            <a:off x="5852160" y="645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6"/>
          <p:cNvSpPr/>
          <p:nvPr/>
        </p:nvSpPr>
        <p:spPr>
          <a:xfrm>
            <a:off x="3426480" y="638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31"/>
          <p:cNvGrpSpPr/>
          <p:nvPr/>
        </p:nvGrpSpPr>
        <p:grpSpPr>
          <a:xfrm>
            <a:off x="4140000" y="3789360"/>
            <a:ext cx="1800360" cy="2376360"/>
            <a:chOff x="4140000" y="3789360"/>
            <a:chExt cx="1800360" cy="2376360"/>
          </a:xfrm>
        </p:grpSpPr>
        <p:grpSp>
          <p:nvGrpSpPr>
            <p:cNvPr id="401" name=""/>
            <p:cNvGrpSpPr/>
            <p:nvPr/>
          </p:nvGrpSpPr>
          <p:grpSpPr>
            <a:xfrm>
              <a:off x="4140000" y="5373720"/>
              <a:ext cx="432000" cy="792000"/>
              <a:chOff x="4140000" y="5373720"/>
              <a:chExt cx="432000" cy="792000"/>
            </a:xfrm>
          </p:grpSpPr>
          <p:sp>
            <p:nvSpPr>
              <p:cNvPr id="402" name="Line 27"/>
              <p:cNvSpPr/>
              <p:nvPr/>
            </p:nvSpPr>
            <p:spPr>
              <a:xfrm flipV="1">
                <a:off x="4140360" y="5373720"/>
                <a:ext cx="431640" cy="792000"/>
              </a:xfrm>
              <a:prstGeom prst="line">
                <a:avLst/>
              </a:prstGeom>
              <a:ln w="28440">
                <a:solidFill>
                  <a:srgbClr val="0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4140000" y="5373720"/>
                <a:ext cx="43164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571640" y="4724280"/>
              <a:ext cx="432000" cy="649440"/>
              <a:chOff x="4571640" y="4724280"/>
              <a:chExt cx="432000" cy="649440"/>
            </a:xfrm>
          </p:grpSpPr>
          <p:sp>
            <p:nvSpPr>
              <p:cNvPr id="405" name="Line 28"/>
              <p:cNvSpPr/>
              <p:nvPr/>
            </p:nvSpPr>
            <p:spPr>
              <a:xfrm flipV="1">
                <a:off x="4572000" y="4724280"/>
                <a:ext cx="431640" cy="649440"/>
              </a:xfrm>
              <a:prstGeom prst="line">
                <a:avLst/>
              </a:prstGeom>
              <a:ln w="28440">
                <a:solidFill>
                  <a:srgbClr val="0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4571640" y="4724280"/>
                <a:ext cx="431640" cy="64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03280" y="4005000"/>
              <a:ext cx="505440" cy="718920"/>
              <a:chOff x="5003280" y="4005000"/>
              <a:chExt cx="505440" cy="718920"/>
            </a:xfrm>
          </p:grpSpPr>
          <p:sp>
            <p:nvSpPr>
              <p:cNvPr id="408" name="Line 29"/>
              <p:cNvSpPr/>
              <p:nvPr/>
            </p:nvSpPr>
            <p:spPr>
              <a:xfrm flipV="1">
                <a:off x="5003640" y="4005000"/>
                <a:ext cx="505080" cy="718920"/>
              </a:xfrm>
              <a:prstGeom prst="line">
                <a:avLst/>
              </a:prstGeom>
              <a:ln w="28440">
                <a:solidFill>
                  <a:srgbClr val="0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5003280" y="4005000"/>
                <a:ext cx="505080" cy="71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508360" y="3789360"/>
              <a:ext cx="432000" cy="216000"/>
              <a:chOff x="5508360" y="3789360"/>
              <a:chExt cx="432000" cy="216000"/>
            </a:xfrm>
          </p:grpSpPr>
          <p:sp>
            <p:nvSpPr>
              <p:cNvPr id="411" name="Line 30"/>
              <p:cNvSpPr/>
              <p:nvPr/>
            </p:nvSpPr>
            <p:spPr>
              <a:xfrm flipV="1">
                <a:off x="5508720" y="3789360"/>
                <a:ext cx="431640" cy="216000"/>
              </a:xfrm>
              <a:prstGeom prst="line">
                <a:avLst/>
              </a:prstGeom>
              <a:ln w="28440">
                <a:solidFill>
                  <a:srgbClr val="0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 rot="10800000">
                <a:off x="5508360" y="3789360"/>
                <a:ext cx="4316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13" name="矩形 30" descr=""/>
          <p:cNvPicPr/>
          <p:nvPr/>
        </p:nvPicPr>
        <p:blipFill>
          <a:blip r:embed="rId3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9"/>
          <p:cNvSpPr/>
          <p:nvPr/>
        </p:nvSpPr>
        <p:spPr>
          <a:xfrm>
            <a:off x="115740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纸梁宽度与抗弯曲能力的实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1473120" y="2422440"/>
            <a:ext cx="109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猜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器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相同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同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结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3382920" y="278136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ff"/>
                </a:solidFill>
                <a:latin typeface="Arial"/>
              </a:rPr>
              <a:t>纸梁宽度与抗弯曲能力有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627280" y="3213000"/>
            <a:ext cx="5977080" cy="360"/>
            <a:chOff x="2627280" y="3213000"/>
            <a:chExt cx="5977080" cy="360"/>
          </a:xfrm>
        </p:grpSpPr>
        <p:sp>
          <p:nvSpPr>
            <p:cNvPr id="419" name="Line 26"/>
            <p:cNvSpPr/>
            <p:nvPr/>
          </p:nvSpPr>
          <p:spPr>
            <a:xfrm>
              <a:off x="2627280" y="321300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2627280" y="321300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627280" y="3933720"/>
            <a:ext cx="5977080" cy="360"/>
            <a:chOff x="2627280" y="3933720"/>
            <a:chExt cx="5977080" cy="360"/>
          </a:xfrm>
        </p:grpSpPr>
        <p:sp>
          <p:nvSpPr>
            <p:cNvPr id="422" name="Line 27"/>
            <p:cNvSpPr/>
            <p:nvPr/>
          </p:nvSpPr>
          <p:spPr>
            <a:xfrm>
              <a:off x="2627280" y="393372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627280" y="393372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27280" y="4654440"/>
            <a:ext cx="5977080" cy="360"/>
            <a:chOff x="2627280" y="4654440"/>
            <a:chExt cx="5977080" cy="360"/>
          </a:xfrm>
        </p:grpSpPr>
        <p:sp>
          <p:nvSpPr>
            <p:cNvPr id="425" name="Line 28"/>
            <p:cNvSpPr/>
            <p:nvPr/>
          </p:nvSpPr>
          <p:spPr>
            <a:xfrm>
              <a:off x="2627280" y="465444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2627280" y="465444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627280" y="5375160"/>
            <a:ext cx="5977080" cy="360"/>
            <a:chOff x="2627280" y="5375160"/>
            <a:chExt cx="5977080" cy="360"/>
          </a:xfrm>
        </p:grpSpPr>
        <p:sp>
          <p:nvSpPr>
            <p:cNvPr id="428" name="Line 29"/>
            <p:cNvSpPr/>
            <p:nvPr/>
          </p:nvSpPr>
          <p:spPr>
            <a:xfrm>
              <a:off x="2627280" y="537516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627280" y="537516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627280" y="6095880"/>
            <a:ext cx="5977080" cy="360"/>
            <a:chOff x="2627280" y="6095880"/>
            <a:chExt cx="5977080" cy="360"/>
          </a:xfrm>
        </p:grpSpPr>
        <p:sp>
          <p:nvSpPr>
            <p:cNvPr id="431" name="Line 30"/>
            <p:cNvSpPr/>
            <p:nvPr/>
          </p:nvSpPr>
          <p:spPr>
            <a:xfrm>
              <a:off x="2627280" y="609588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627280" y="609588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4475520" y="342432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纸梁（卡纸</a:t>
            </a: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4</a:t>
            </a: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8</a:t>
            </a: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厘米各一张）；相同大小垫圈若干个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直尺一根，科学书两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3726360" y="414324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垫起纸梁高度不变；弯曲的标准不变；纸梁架空的距离不变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放垫圈的位置不变；纸梁厚度不变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3108240" y="5013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ff"/>
                </a:solidFill>
                <a:latin typeface="Arial"/>
              </a:rPr>
              <a:t>纸梁宽度成倍变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4799160" y="5661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ff"/>
                </a:solidFill>
                <a:latin typeface="Arial"/>
              </a:rPr>
              <a:t>纸梁宽度增加，抗弯曲能力也会增加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35">
            <a:hlinkClick r:id="" action="ppaction://hlinkshowjump?jump=firstslide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477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矩形 15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68E7-0278-4042-9A56-BF39E3B2A24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116000" y="1916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纸梁厚度与抗弯曲能力的实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9844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抵抗弯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73120" y="2422440"/>
            <a:ext cx="109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猜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器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相同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同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结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532680" y="2746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纸梁厚度与抗弯曲能力有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627280" y="3213000"/>
            <a:ext cx="5977080" cy="360"/>
            <a:chOff x="2627280" y="3213000"/>
            <a:chExt cx="5977080" cy="360"/>
          </a:xfrm>
        </p:grpSpPr>
        <p:sp>
          <p:nvSpPr>
            <p:cNvPr id="449" name="Line 6"/>
            <p:cNvSpPr/>
            <p:nvPr/>
          </p:nvSpPr>
          <p:spPr>
            <a:xfrm>
              <a:off x="2627280" y="321300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2627280" y="321300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27280" y="3933720"/>
            <a:ext cx="5977080" cy="360"/>
            <a:chOff x="2627280" y="3933720"/>
            <a:chExt cx="5977080" cy="360"/>
          </a:xfrm>
        </p:grpSpPr>
        <p:sp>
          <p:nvSpPr>
            <p:cNvPr id="452" name="Line 7"/>
            <p:cNvSpPr/>
            <p:nvPr/>
          </p:nvSpPr>
          <p:spPr>
            <a:xfrm>
              <a:off x="2627280" y="393372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2627280" y="393372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627280" y="4654440"/>
            <a:ext cx="5977080" cy="360"/>
            <a:chOff x="2627280" y="4654440"/>
            <a:chExt cx="5977080" cy="360"/>
          </a:xfrm>
        </p:grpSpPr>
        <p:sp>
          <p:nvSpPr>
            <p:cNvPr id="455" name="Line 8"/>
            <p:cNvSpPr/>
            <p:nvPr/>
          </p:nvSpPr>
          <p:spPr>
            <a:xfrm>
              <a:off x="2627280" y="465444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2627280" y="465444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627280" y="5375160"/>
            <a:ext cx="5977080" cy="360"/>
            <a:chOff x="2627280" y="5375160"/>
            <a:chExt cx="5977080" cy="360"/>
          </a:xfrm>
        </p:grpSpPr>
        <p:sp>
          <p:nvSpPr>
            <p:cNvPr id="458" name="Line 9"/>
            <p:cNvSpPr/>
            <p:nvPr/>
          </p:nvSpPr>
          <p:spPr>
            <a:xfrm>
              <a:off x="2627280" y="537516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2627280" y="537516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27280" y="6095880"/>
            <a:ext cx="5977080" cy="360"/>
            <a:chOff x="2627280" y="6095880"/>
            <a:chExt cx="5977080" cy="360"/>
          </a:xfrm>
        </p:grpSpPr>
        <p:sp>
          <p:nvSpPr>
            <p:cNvPr id="461" name="Line 10"/>
            <p:cNvSpPr/>
            <p:nvPr/>
          </p:nvSpPr>
          <p:spPr>
            <a:xfrm>
              <a:off x="2627280" y="6095880"/>
              <a:ext cx="59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2627280" y="609588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11"/>
          <p:cNvSpPr/>
          <p:nvPr/>
        </p:nvSpPr>
        <p:spPr>
          <a:xfrm>
            <a:off x="5500440" y="3417840"/>
            <a:ext cx="4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相同宽度和厚度的纸梁若干根；胶水一瓶；相同大小垫圈若干个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直尺一根，科学书两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3726360" y="407664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垫起纸梁高度不变；弯曲的标准不变；纸梁架空的距离不变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ff"/>
                </a:solidFill>
                <a:latin typeface="Arial"/>
              </a:rPr>
              <a:t>放垫圈的位置不变；纸梁宽度不变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3219120" y="4913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纸梁厚度成倍变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411880" y="5661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Arial"/>
              </a:rPr>
              <a:t>纸梁厚度增加，抗弯曲能力会大大增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5">
            <a:hlinkClick r:id="" action="ppaction://hlinkshowjump?jump=firs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50" y="17989"/>
                </a:lnTo>
                <a:lnTo>
                  <a:pt x="8550" y="10800"/>
                </a:lnTo>
                <a:lnTo>
                  <a:pt x="6896" y="10800"/>
                </a:lnTo>
                <a:close/>
              </a:path>
              <a:path fill="darkenLess" w="27718" h="21600">
                <a:moveTo>
                  <a:pt x="16435" y="6448"/>
                </a:move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close/>
              </a:path>
              <a:path fill="darkenLess" w="27718" h="21600">
                <a:moveTo>
                  <a:pt x="12936" y="14299"/>
                </a:moveTo>
                <a:lnTo>
                  <a:pt x="14782" y="14299"/>
                </a:lnTo>
                <a:lnTo>
                  <a:pt x="14782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50" y="10800"/>
                </a:lnTo>
                <a:lnTo>
                  <a:pt x="8550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477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矩形 15" descr=""/>
          <p:cNvPicPr/>
          <p:nvPr/>
        </p:nvPicPr>
        <p:blipFill>
          <a:blip r:embed="rId1"/>
          <a:stretch/>
        </p:blipFill>
        <p:spPr>
          <a:xfrm>
            <a:off x="-4680" y="-71280"/>
            <a:ext cx="354816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9"/>
          <p:cNvSpPr/>
          <p:nvPr/>
        </p:nvSpPr>
        <p:spPr>
          <a:xfrm>
            <a:off x="3776760" y="3068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矩形 7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DSCN3317"/>
          <p:cNvPicPr/>
          <p:nvPr/>
        </p:nvPicPr>
        <p:blipFill>
          <a:blip r:embed="rId2"/>
          <a:stretch/>
        </p:blipFill>
        <p:spPr>
          <a:xfrm>
            <a:off x="4608360" y="3500280"/>
            <a:ext cx="4248360" cy="3168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DSC_1408"/>
          <p:cNvPicPr/>
          <p:nvPr/>
        </p:nvPicPr>
        <p:blipFill>
          <a:blip r:embed="rId3"/>
          <a:stretch/>
        </p:blipFill>
        <p:spPr>
          <a:xfrm>
            <a:off x="192240" y="3610080"/>
            <a:ext cx="428436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SC_1407"/>
          <p:cNvPicPr/>
          <p:nvPr/>
        </p:nvPicPr>
        <p:blipFill>
          <a:blip r:embed="rId4"/>
          <a:stretch/>
        </p:blipFill>
        <p:spPr>
          <a:xfrm>
            <a:off x="4608360" y="333360"/>
            <a:ext cx="4248360" cy="305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5"/>
          <a:stretch/>
        </p:blipFill>
        <p:spPr>
          <a:xfrm>
            <a:off x="214200" y="333360"/>
            <a:ext cx="432144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矩形 5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DSC05838"/>
          <p:cNvPicPr/>
          <p:nvPr/>
        </p:nvPicPr>
        <p:blipFill>
          <a:blip r:embed="rId2"/>
          <a:stretch/>
        </p:blipFill>
        <p:spPr>
          <a:xfrm>
            <a:off x="-181080" y="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 rot="21270000">
            <a:off x="1566360" y="1407960"/>
            <a:ext cx="720720" cy="3384720"/>
          </a:xfrm>
          <a:prstGeom prst="rect">
            <a:avLst/>
          </a:prstGeom>
          <a:noFill/>
          <a:ln w="2844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 rot="15748200">
            <a:off x="5079600" y="-3036600"/>
            <a:ext cx="766800" cy="6834240"/>
          </a:xfrm>
          <a:prstGeom prst="rect">
            <a:avLst/>
          </a:prstGeom>
          <a:noFill/>
          <a:ln w="2844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矩形 5" descr=""/>
          <p:cNvPicPr/>
          <p:nvPr/>
        </p:nvPicPr>
        <p:blipFill>
          <a:blip r:embed="rId1"/>
          <a:stretch/>
        </p:blipFill>
        <p:spPr>
          <a:xfrm>
            <a:off x="-71280" y="-98280"/>
            <a:ext cx="2973240" cy="2344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SC_1407000"/>
          <p:cNvPicPr/>
          <p:nvPr/>
        </p:nvPicPr>
        <p:blipFill>
          <a:blip r:embed="rId2"/>
          <a:stretch/>
        </p:blipFill>
        <p:spPr>
          <a:xfrm>
            <a:off x="34920" y="7920"/>
            <a:ext cx="4413240" cy="3384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11111"/>
          <p:cNvPicPr/>
          <p:nvPr/>
        </p:nvPicPr>
        <p:blipFill>
          <a:blip r:embed="rId3"/>
          <a:stretch/>
        </p:blipFill>
        <p:spPr>
          <a:xfrm>
            <a:off x="684360" y="3421080"/>
            <a:ext cx="7812000" cy="3481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8c.jpg"/>
          <p:cNvPicPr/>
          <p:nvPr/>
        </p:nvPicPr>
        <p:blipFill>
          <a:blip r:embed="rId4"/>
          <a:stretch/>
        </p:blipFill>
        <p:spPr>
          <a:xfrm>
            <a:off x="4448160" y="7920"/>
            <a:ext cx="470844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3" descr="20090321064601893"/>
          <p:cNvPicPr/>
          <p:nvPr/>
        </p:nvPicPr>
        <p:blipFill>
          <a:blip r:embed="rId1"/>
          <a:stretch/>
        </p:blipFill>
        <p:spPr>
          <a:xfrm>
            <a:off x="0" y="0"/>
            <a:ext cx="4572000" cy="426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1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572000" y="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1447920" y="4800600"/>
            <a:ext cx="6553080" cy="1434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微软雅黑"/>
              </a:rPr>
              <a:t>桥梁和房屋在结构上，有什么相似的地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 rot="21195000">
            <a:off x="3538440" y="1668600"/>
            <a:ext cx="422280" cy="2666880"/>
          </a:xfrm>
          <a:prstGeom prst="rect">
            <a:avLst/>
          </a:prstGeom>
          <a:noFill/>
          <a:ln w="7632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 rot="20259600">
            <a:off x="5501880" y="1366920"/>
            <a:ext cx="130176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 rot="194400">
            <a:off x="5778000" y="1447560"/>
            <a:ext cx="533520" cy="2817720"/>
          </a:xfrm>
          <a:prstGeom prst="rect">
            <a:avLst/>
          </a:prstGeom>
          <a:noFill/>
          <a:ln w="7632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 rot="5400000">
            <a:off x="1866600" y="-495360"/>
            <a:ext cx="1143000" cy="4267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691440" y="236232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微软雅黑"/>
              </a:rPr>
              <a:t>立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572000" y="2286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横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10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10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0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九江大桥3"/>
          <p:cNvPicPr/>
          <p:nvPr/>
        </p:nvPicPr>
        <p:blipFill>
          <a:blip r:embed="rId1"/>
          <a:stretch/>
        </p:blipFill>
        <p:spPr>
          <a:xfrm>
            <a:off x="5923080" y="1996920"/>
            <a:ext cx="3220920" cy="4861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2881186077925793"/>
          <p:cNvPicPr/>
          <p:nvPr/>
        </p:nvPicPr>
        <p:blipFill>
          <a:blip r:embed="rId2"/>
          <a:stretch/>
        </p:blipFill>
        <p:spPr>
          <a:xfrm>
            <a:off x="0" y="0"/>
            <a:ext cx="3606840" cy="548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未命名"/>
          <p:cNvPicPr/>
          <p:nvPr/>
        </p:nvPicPr>
        <p:blipFill>
          <a:blip r:embed="rId3"/>
          <a:stretch/>
        </p:blipFill>
        <p:spPr>
          <a:xfrm>
            <a:off x="3581280" y="0"/>
            <a:ext cx="5562720" cy="288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0"/>
          <p:cNvGrpSpPr/>
          <p:nvPr/>
        </p:nvGrpSpPr>
        <p:grpSpPr>
          <a:xfrm>
            <a:off x="-360" y="5181120"/>
            <a:ext cx="3580920" cy="1676520"/>
            <a:chOff x="-360" y="5181120"/>
            <a:chExt cx="3580920" cy="1676520"/>
          </a:xfrm>
        </p:grpSpPr>
        <p:sp>
          <p:nvSpPr>
            <p:cNvPr id="206" name="AutoShape 9"/>
            <p:cNvSpPr/>
            <p:nvPr/>
          </p:nvSpPr>
          <p:spPr>
            <a:xfrm rot="10800000">
              <a:off x="-360" y="5181120"/>
              <a:ext cx="3580920" cy="1676520"/>
            </a:xfrm>
            <a:prstGeom prst="wedgeRectCallout">
              <a:avLst>
                <a:gd name="adj1" fmla="val -43750"/>
                <a:gd name="adj2" fmla="val 70000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89640" y="5734800"/>
              <a:ext cx="33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美国一桥梁坍塌，５０多辆汽车坠河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造成至少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人死亡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3465000" y="4495680"/>
            <a:ext cx="2554920" cy="2667240"/>
            <a:chOff x="3465000" y="4495680"/>
            <a:chExt cx="2554920" cy="2667240"/>
          </a:xfrm>
        </p:grpSpPr>
        <p:sp>
          <p:nvSpPr>
            <p:cNvPr id="209" name="AutoShape 12"/>
            <p:cNvSpPr/>
            <p:nvPr/>
          </p:nvSpPr>
          <p:spPr>
            <a:xfrm rot="10800000">
              <a:off x="3581280" y="4495680"/>
              <a:ext cx="2438640" cy="2362320"/>
            </a:xfrm>
            <a:prstGeom prst="wedgeEllipseCallout">
              <a:avLst>
                <a:gd name="adj1" fmla="val -49611"/>
                <a:gd name="adj2" fmla="val 47444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65000" y="4724280"/>
              <a:ext cx="23133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广东九        江大桥垮塌，四辆车坠河，       九人遇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3581280" y="2819520"/>
            <a:ext cx="2438640" cy="1676160"/>
            <a:chOff x="3581280" y="2819520"/>
            <a:chExt cx="2438640" cy="1676160"/>
          </a:xfrm>
        </p:grpSpPr>
        <p:sp>
          <p:nvSpPr>
            <p:cNvPr id="212" name="AutoShape 11"/>
            <p:cNvSpPr/>
            <p:nvPr/>
          </p:nvSpPr>
          <p:spPr>
            <a:xfrm rot="10800000">
              <a:off x="3581280" y="2819520"/>
              <a:ext cx="2362320" cy="1676160"/>
            </a:xfrm>
            <a:prstGeom prst="wedgeRoundRectCallout">
              <a:avLst>
                <a:gd name="adj1" fmla="val -49800"/>
                <a:gd name="adj2" fmla="val 7007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733920" y="2971800"/>
              <a:ext cx="22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湖南株洲桥高架坍塌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人遇难。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WordArt 17"/>
          <p:cNvSpPr txBox="1"/>
          <p:nvPr/>
        </p:nvSpPr>
        <p:spPr>
          <a:xfrm>
            <a:off x="1284120" y="1557360"/>
            <a:ext cx="685800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桥的哪个部分容易出事故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4818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柱子和横梁哪个容易弯曲断裂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6" name="Group 13"/>
          <p:cNvGrpSpPr/>
          <p:nvPr/>
        </p:nvGrpSpPr>
        <p:grpSpPr>
          <a:xfrm>
            <a:off x="2843280" y="1485000"/>
            <a:ext cx="286920" cy="3384000"/>
            <a:chOff x="2843280" y="1485000"/>
            <a:chExt cx="286920" cy="3384000"/>
          </a:xfrm>
        </p:grpSpPr>
        <p:sp>
          <p:nvSpPr>
            <p:cNvPr id="217" name="AutoShape 14"/>
            <p:cNvSpPr/>
            <p:nvPr/>
          </p:nvSpPr>
          <p:spPr>
            <a:xfrm flipH="1" rot="16200000">
              <a:off x="2309400" y="2018520"/>
              <a:ext cx="1353960" cy="286920"/>
            </a:xfrm>
            <a:prstGeom prst="rightArrow">
              <a:avLst>
                <a:gd name="adj1" fmla="val 50000"/>
                <a:gd name="adj2" fmla="val 11793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 rot="16200000">
              <a:off x="2309760" y="4048560"/>
              <a:ext cx="1353960" cy="286920"/>
            </a:xfrm>
            <a:prstGeom prst="rightArrow">
              <a:avLst>
                <a:gd name="adj1" fmla="val 50000"/>
                <a:gd name="adj2" fmla="val 11793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19"/>
          <p:cNvGrpSpPr/>
          <p:nvPr/>
        </p:nvGrpSpPr>
        <p:grpSpPr>
          <a:xfrm>
            <a:off x="7093080" y="189000"/>
            <a:ext cx="287280" cy="6379920"/>
            <a:chOff x="7093080" y="189000"/>
            <a:chExt cx="287280" cy="6379920"/>
          </a:xfrm>
        </p:grpSpPr>
        <p:sp>
          <p:nvSpPr>
            <p:cNvPr id="220" name="AutoShape 17"/>
            <p:cNvSpPr/>
            <p:nvPr/>
          </p:nvSpPr>
          <p:spPr>
            <a:xfrm flipV="1" rot="16200000">
              <a:off x="6674760" y="5863320"/>
              <a:ext cx="1123920" cy="287280"/>
            </a:xfrm>
            <a:prstGeom prst="rightArrow">
              <a:avLst>
                <a:gd name="adj1" fmla="val 50000"/>
                <a:gd name="adj2" fmla="val 9775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 flipH="1" rot="16200000">
              <a:off x="6674760" y="607320"/>
              <a:ext cx="1123920" cy="287280"/>
            </a:xfrm>
            <a:prstGeom prst="rightArrow">
              <a:avLst>
                <a:gd name="adj1" fmla="val 50000"/>
                <a:gd name="adj2" fmla="val 9775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2" name="Picture 21" descr="QQ截图未命名"/>
          <p:cNvPicPr/>
          <p:nvPr/>
        </p:nvPicPr>
        <p:blipFill>
          <a:blip r:embed="rId1"/>
          <a:stretch/>
        </p:blipFill>
        <p:spPr>
          <a:xfrm>
            <a:off x="684360" y="2781360"/>
            <a:ext cx="5113080" cy="88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QQ截图未命名"/>
          <p:cNvPicPr/>
          <p:nvPr/>
        </p:nvPicPr>
        <p:blipFill>
          <a:blip r:embed="rId2"/>
          <a:stretch/>
        </p:blipFill>
        <p:spPr>
          <a:xfrm>
            <a:off x="6732720" y="1341360"/>
            <a:ext cx="1015920" cy="41054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3"/>
          <p:cNvSpPr/>
          <p:nvPr/>
        </p:nvSpPr>
        <p:spPr>
          <a:xfrm>
            <a:off x="826920" y="494172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  <a:ea typeface="微软雅黑"/>
              </a:rPr>
              <a:t>横梁比柱子容易弯曲和断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8199"/>
          <p:cNvSpPr/>
          <p:nvPr/>
        </p:nvSpPr>
        <p:spPr>
          <a:xfrm>
            <a:off x="826920" y="1031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3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50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