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815-5737-49CF-BDA6-4DEB4224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2207-5BAC-4ECC-970E-7B5FCC58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5E618A-FA9D-491D-A44E-E8F72887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5D5B3-CA30-4A42-9878-1E5CB400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21D6C0-1CA7-4F41-B4A8-C7520B8C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2DE98-444B-4E8E-AB5A-4BBA2F1E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AF830-5DBC-4AFC-AE50-061616DF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37BAA-3B47-41FA-A374-21D28538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9570D-291C-4B08-B4FE-ABA3E0CC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30D23-28FF-4079-AF99-6393D6E7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9B4D4-8F56-45CD-8104-F04EF853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E3D78-19FD-4A88-A9C4-4794A0B1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CF7-1644-40AE-B116-A887461C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9FFB5-4DA4-4219-9643-9D81C0B1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F993E-A429-4771-983B-D2B1826C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A5850-AC14-4D4C-84C5-1408F687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10A6E-27EE-4FCE-AE2A-AA4041D8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B4A84-F6B5-477A-A7C2-43BC3FA6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F52B8-4F91-4408-9A4D-2E6E394C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8998D-C774-47D8-85D7-DC35AB4F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E9CA9-B142-4E44-BF58-2C0F1E04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13D24B-7B14-4D2F-98C2-4317CDE7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5B8F3-4664-4B3D-83A5-EF9825AB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53D1-9404-42ED-85BB-BB376E4F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8EB03C-0B0A-4B32-B213-B3D88786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899C8-D12E-4E34-8749-F0C83FE1F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294BA-DBD3-43B2-9633-B2CA904F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606D8-F314-4D05-82A4-834D73B7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3DF3D-B9D5-45A4-9197-E2259E5E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04C8C-65A0-4D05-B83D-EA68240F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3BE33-7EA3-408C-88BA-C1ED0F2A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2A764-9C59-46C0-A8CE-4EF211E8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6BB7F-F777-4B7A-BE3A-DEC35A23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EF14A-6C19-450A-880A-FEB99257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938A-C6A3-44B7-B19C-16DA61DF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181A7-1E12-40D2-A1A2-A974D469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34B43-1A65-4684-B9BE-31D0EDA6B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23888-7894-4D10-A103-5D3B8185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6E6A8-8608-4E56-B275-6371ACBC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F4205-41AA-41A7-8CD9-F232EE8D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C0694-DCC9-453C-B73D-7DB0361E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8DF1F0-681F-4916-B96A-AC98931D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8DD7E-6279-4AC6-A158-6E97D100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C0C84-C3B1-4DD6-9798-E06B136A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A1A37-8535-4BF5-B47F-BCB37119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1DE9-858F-461F-BCE6-2D9C87B4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2088D2-834E-4A35-9B1E-04EEC8F1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03E7D7-B6B1-4A29-960F-758C033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8725A-9E56-4AE4-B093-58F6F6F4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0EB292-5E7E-4699-A097-70A8A9B9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81550-980B-48BC-A7E3-CB55E950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AD55C-7323-43DA-9E98-968435AF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515CB-EB37-4B9D-882C-3C72C107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C273A7-7DFD-4462-9DB2-AE3D8BD1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2E21E6-F712-44EF-9546-F519A6BB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2FC41-C17C-486C-9715-93EFA393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8046-562E-44A7-90AF-8F9DC136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D51369-E5E4-4605-A00E-4578AD4C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BD9AE-FC3B-45BB-A389-4AE16297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F599C-DC39-459F-8039-4D5138FB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99B51-D72C-4883-A702-513AD9E8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8D998-F5E1-4550-ADD8-785A117D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74C9EE-5D94-40A5-B00F-DD71F071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8D9BB9-F868-4402-A623-68E8674D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B94E-0B2C-4725-8FDB-9D502407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4BB8-A5E0-4258-BCC0-0FB3DBB0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5136-9CBA-4F33-B263-7EF2C572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39DB-1A4C-44D6-878E-582519CF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B386-0D67-4B35-A753-CAEFB5FB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B106-5953-4711-9372-978CFCA9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620F-EC11-4494-8038-803E86BF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B185-3335-47B0-A2A9-93A32B34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CC8C-48A1-4465-A689-3B7DD3B5D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2551-A278-4BD4-B673-5C77B9AA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E6D5-4B4A-4E02-B73D-26D34C8A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0ADC4-436D-40C5-AD00-60F32C03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84547-FC70-4D19-B821-CEEBD03A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8578-1CC6-449E-90D6-4DE01D3D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B79E3-1A63-4C24-AE75-8CB6DA4A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23C-23A7-421F-8B16-13FD71FC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7E4ED-C21F-4B49-A1DF-E6B34D90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569E-BA81-49F7-9511-8BEA0BB3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5311-7F3F-4E74-9B76-7815CDCAF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B88F3-1692-4DC8-A746-BFB525F6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31C7-4053-41CF-A244-61109652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15086-9F98-48A6-92AA-91DC0E4A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480E7-5451-4AB7-A500-9078B113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E6D36-E3E3-4149-BEC8-853FCEB2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56B6A-CBD4-402B-91ED-983C709FB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316C6-12B1-46CD-B412-7A5A4346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C09-BEA3-488A-BB08-D560D385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74DB8-4FF9-45FE-B414-18FFDE53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DDB85-EA4B-46ED-BD34-479C820C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AA160-B5FA-407D-B1F6-741ADFE2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16A31-430D-45B0-815A-C56BE265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0421F-D356-4BD1-A20A-A2032D61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3EF41-61A3-44E2-8AA4-E2B3EF4C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90C85-1580-4027-98BF-88E56377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1EFAA-368F-43D5-A818-3E1A6D0A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F225A-4269-4AF7-A0F8-5A723DA4C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BE7D3-4DD2-4510-84AB-62F24185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3109-D520-476C-98CC-9ADB05C2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05F94-C2A3-4456-85EC-680733A7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D12D6-E0BE-432C-AD1B-DBC9CCF6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9D28D-DC18-412C-B051-5BC455CA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93101-72E3-4ABC-910E-DE422D04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633E9-629F-44DA-BFE6-F8E0BBCA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54851-B631-4F0A-B528-E43A0752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5EB98-810D-47DF-A988-3A1745F2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98601-484B-4B34-9FD6-219015FC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3FAEB-8658-448D-9669-38F5D094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00549-A538-4B63-8308-A34F3B0C0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AE2-2ED0-47CB-93A6-F0D08133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A3619-8FE7-4638-8B2C-A58CB1EC4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3DD77-975A-46F6-B65C-30A2F0781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691A2-E03E-476C-AFC7-E2A04370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8B55C-DF73-420B-B181-4BCDE602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85763-7A51-43D9-B566-98537E7A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1FB30-2E35-4AFC-81DE-DFE6C485C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0B1A9-A165-4203-A065-76A18E9C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E81E5-08FD-45E1-84F8-454FCCFD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D7391-7874-416F-AC43-FB38382B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FA43C-F930-4A4E-AC0C-60BA8698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A94-1416-43E3-A96E-A45740AC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AD195-2EE5-4F36-9369-6EF71C503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1E278-8D4E-4B3E-8DC9-B08B092F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62EC2-80E1-4872-B3F8-CDE2C4D9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A7C01-498E-4AF4-A73B-E319876F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BD071-15B6-4FE7-8DB5-D0B99846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3CDF7-CC4B-41BD-9125-009B924F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137DE-2156-4213-A771-20DFA009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3B3D4-7858-4715-8A5F-C6DE1465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B9A54-CA16-4689-B363-050E09F9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2E0D3F-CD92-4CC6-8187-5B320859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86F-BE50-4CFD-A8AB-57B9BDFC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0CBA9-6457-4295-A8CD-74418B6E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2EAA2-9D85-4AA5-9FBF-B45B4AD9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339F2-0D91-4692-A565-61FE09DB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BDCE0-F518-49BB-9838-F37ECA1A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3A631-E3E3-4690-9CE8-FEC5E9C5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D981A-7BC1-48EB-A96A-31CD1CE1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ADE68-D54C-481C-82B5-CE7DBD03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CD0EE-F493-4462-8D3E-4802AFA2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79105-27B1-45A7-8F1E-F5841CDE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D0978-0381-46A3-92D0-8E1F38B6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07E-FE5D-42D9-8271-ADC406A9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1E18A-FD7E-4CA8-90A3-168944C8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FB5C4-E045-4A9A-BDB3-404DC869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A9382-4B6E-446C-954A-318C8577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9D825-A30D-409E-82FE-CCEF9066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E5382-E0CE-48BA-81C3-355D9E57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54B2F-0405-456C-AA2F-C90740AB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59BB9-0356-48EF-AAF0-FEBA5C5E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8747B-DD06-4CE3-9390-DF2641C4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47E51-9E47-4540-BE79-84945B89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80D26-372F-41E1-945E-2D1BDD62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7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760" y="36813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00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36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70080" y="37256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16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302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480" y="36558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880" y="36957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480" y="37242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49720" y="37461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9200" y="37065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8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760" y="47894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8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17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70080" y="48337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397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83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480" y="47638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880" y="48038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480" y="48322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49720" y="48542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9200" y="48146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56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760" y="57992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79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5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70080" y="58435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495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81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480" y="57736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880" y="58136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480" y="58420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49720" y="58640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9200" y="58244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540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960" y="419904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32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4280" y="424332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4936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92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4680" y="417348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7080" y="421344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680" y="424188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3920" y="426384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400" y="422424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348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960" y="530712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5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40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4280" y="535140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744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600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4680" y="528156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7080" y="532152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680" y="534996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3920" y="537192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400" y="533232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2960" cy="4104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4320"/>
              <a:ext cx="533520" cy="4892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960" y="6357960"/>
              <a:ext cx="42480" cy="504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668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240"/>
              <a:ext cx="122040" cy="5868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4280" y="6402240"/>
              <a:ext cx="8892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8280"/>
              <a:ext cx="88560" cy="1908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840"/>
              <a:ext cx="68040" cy="3960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4680" y="6332400"/>
              <a:ext cx="88560" cy="4248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7080" y="6372360"/>
              <a:ext cx="12384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680" y="6400800"/>
              <a:ext cx="101520" cy="2700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3920" y="6422760"/>
              <a:ext cx="104760" cy="871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400" y="6383160"/>
              <a:ext cx="63360" cy="15840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132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160"/>
                <a:ext cx="18540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3400" y="1054440"/>
                <a:ext cx="16380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2240" y="476640"/>
                <a:ext cx="534960" cy="2430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080"/>
                <a:ext cx="383760" cy="39384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168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160" y="749520"/>
                <a:ext cx="30132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756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6680" y="1158840"/>
                <a:ext cx="44244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7520" y="1248120"/>
                <a:ext cx="455040" cy="36504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4520" y="1100160"/>
                <a:ext cx="25848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A8AE-9E15-4C84-ACB8-4622748E4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28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29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0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93DD-F760-46ED-BC3A-09327B2EA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012BC-F4AB-440C-8023-1FACB3651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3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3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3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652B-A4F7-4AAB-A4C7-A6B2E57A3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37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38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39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2DA0-29E5-473D-ABE8-E4E351C02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8BC9-B907-4F6F-A769-C4BCCF213D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141160" y="1036080"/>
              <a:ext cx="108972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6385680" y="2482920"/>
              <a:ext cx="795960" cy="82908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7986960" y="2661840"/>
              <a:ext cx="93888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540D-359A-4650-9E1B-1C09CFBE4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10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11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12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5E79-F1F8-4AA7-BFD4-96F6FB088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3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4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5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1CF7-F03C-425A-9A4B-4BB7C8D07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16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17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18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272C-EE4A-4F13-B0F3-7581FCF6C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67CC-BAFE-4A48-BBD4-CE6908642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22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23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24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592C-DF44-4FAF-A024-E3A8CCD4F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25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26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27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9417-56AC-4C71-B275-DC779F07F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矩形 2"/>
          <p:cNvSpPr/>
          <p:nvPr/>
        </p:nvSpPr>
        <p:spPr>
          <a:xfrm>
            <a:off x="0" y="1484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七章  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1"/>
          <p:cNvSpPr/>
          <p:nvPr/>
        </p:nvSpPr>
        <p:spPr>
          <a:xfrm>
            <a:off x="0" y="2924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节  弹力物理课件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8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例题</a:t>
            </a:r>
            <a:r>
              <a:rPr b="1" lang="en-US" sz="3200" spc="-1" strike="noStrike">
                <a:solidFill>
                  <a:srgbClr val="e40000"/>
                </a:solidFill>
                <a:latin typeface="黑体"/>
                <a:ea typeface="黑体"/>
              </a:rPr>
              <a:t>2.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分析以下现象中，哪些是弹力在起作用，是怎样作用的？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539280" y="1341000"/>
            <a:ext cx="815364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物体静止在桌面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栓细线的小球被悬挂在墙壁钉子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卫星绕地球运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射出的箭在水平运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E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乒乓球在桌面上被球拍来回击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5" descr="wps_clip_image-2308"/>
          <p:cNvPicPr/>
          <p:nvPr/>
        </p:nvPicPr>
        <p:blipFill>
          <a:blip r:embed="rId1"/>
          <a:stretch/>
        </p:blipFill>
        <p:spPr>
          <a:xfrm>
            <a:off x="468360" y="3860640"/>
            <a:ext cx="3672000" cy="270828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7" descr="wps_clip_image-2435"/>
          <p:cNvPicPr/>
          <p:nvPr/>
        </p:nvPicPr>
        <p:blipFill>
          <a:blip r:embed="rId2"/>
          <a:stretch/>
        </p:blipFill>
        <p:spPr>
          <a:xfrm>
            <a:off x="5364000" y="4365720"/>
            <a:ext cx="360072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12492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新魏"/>
              </a:rPr>
              <a:t>解析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611280" y="98064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A.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桌面产生向上的弹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B.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细线有向上的弹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C.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不是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D.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箭已离开弓，不再受弹力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E.</a:t>
            </a: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球拍和桌面对球都有弹力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（一） 你能用橡皮筋制作一个弹簧秤么？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问题</a:t>
            </a:r>
            <a:r>
              <a:rPr b="1" lang="en-US" sz="3200" spc="-1" strike="noStrike">
                <a:solidFill>
                  <a:srgbClr val="e4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除橡皮筋外，已提供了长木条、钉子和一个标准测力计，还需要什么器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问题</a:t>
            </a:r>
            <a:r>
              <a:rPr b="1" lang="en-US" sz="3200" spc="-1" strike="noStrike">
                <a:solidFill>
                  <a:srgbClr val="e4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怎样确定刻度线位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问题</a:t>
            </a:r>
            <a:r>
              <a:rPr b="1" lang="en-US" sz="3200" spc="-1" strike="noStrike">
                <a:solidFill>
                  <a:srgbClr val="e4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操作步骤如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问题</a:t>
            </a:r>
            <a:r>
              <a:rPr b="1" lang="en-US" sz="3200" spc="-1" strike="noStrike">
                <a:solidFill>
                  <a:srgbClr val="e4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的橡皮筋测力计刻度均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8200"/>
          <p:cNvSpPr/>
          <p:nvPr/>
        </p:nvSpPr>
        <p:spPr>
          <a:xfrm>
            <a:off x="2378160" y="1547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500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20000"/>
                </a:solidFill>
                <a:latin typeface="Arial"/>
                <a:ea typeface="华文新魏"/>
              </a:rPr>
              <a:t>设计方案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609120" y="1196640"/>
            <a:ext cx="8153640" cy="49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还需要一个挂钩和一个指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以用标准测力计进行校对，确定刻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A.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将皮筋一端固定在长木条的一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B.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将挂钩固定在橡皮筋的自由端，在固定点上放好指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C.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将标准测力计与自制测力计挂钩钩在一起，平行木杆逐步增大拉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D.</a:t>
            </a:r>
            <a:r>
              <a:rPr b="1" lang="zh-CN" sz="2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对应标准测力计读数，将刻度标在木杆上，直至最大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橡皮筋刻度分布不均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1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500"/>
                                        <p:tgtEl>
                                          <p:spTgt spid="10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" dur="500"/>
                                        <p:tgtEl>
                                          <p:spTgt spid="10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0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10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3" dur="500"/>
                                        <p:tgtEl>
                                          <p:spTgt spid="10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500"/>
                                        <p:tgtEl>
                                          <p:spTgt spid="10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3" dur="500"/>
                                        <p:tgtEl>
                                          <p:spTgt spid="10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8DAE-2924-46A6-893B-9B39858F4B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5406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  <a:ea typeface="华文新魏"/>
              </a:rPr>
              <a:t>本节课学习了哪几个方面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黑体"/>
                <a:ea typeface="黑体"/>
              </a:rPr>
              <a:t>（一）弹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弹性形变与塑性形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弹力的产生及表现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黑体"/>
                <a:ea typeface="黑体"/>
              </a:rPr>
              <a:t>（二）弹簧测力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原理、构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使用方法步骤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读数调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操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点总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种多样的测力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黑体"/>
                <a:ea typeface="黑体"/>
              </a:rPr>
              <a:t>（三）现象解释与应用练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0" dur="500"/>
                                        <p:tgtEl>
                                          <p:spTgt spid="1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5" dur="500"/>
                                        <p:tgtEl>
                                          <p:spTgt spid="10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0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10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500"/>
                                        <p:tgtEl>
                                          <p:spTgt spid="10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5" dur="500"/>
                                        <p:tgtEl>
                                          <p:spTgt spid="10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0" dur="500"/>
                                        <p:tgtEl>
                                          <p:spTgt spid="10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" dur="500"/>
                                        <p:tgtEl>
                                          <p:spTgt spid="10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10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5" dur="500"/>
                                        <p:tgtEl>
                                          <p:spTgt spid="10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98080" y="228240"/>
            <a:ext cx="5497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华文行楷"/>
              </a:rPr>
              <a:t>生活中的弹力表现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684360" y="1988640"/>
            <a:ext cx="1079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蹦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9" name="Picture 5" descr="0021978a8edd0fcee3f20e"/>
          <p:cNvPicPr/>
          <p:nvPr/>
        </p:nvPicPr>
        <p:blipFill>
          <a:blip r:embed="rId1"/>
          <a:stretch/>
        </p:blipFill>
        <p:spPr>
          <a:xfrm>
            <a:off x="0" y="2554200"/>
            <a:ext cx="3014640" cy="4303800"/>
          </a:xfrm>
          <a:prstGeom prst="rect">
            <a:avLst/>
          </a:prstGeom>
          <a:ln w="0">
            <a:noFill/>
          </a:ln>
        </p:spPr>
      </p:pic>
      <p:grpSp>
        <p:nvGrpSpPr>
          <p:cNvPr id="960" name="Group 18"/>
          <p:cNvGrpSpPr/>
          <p:nvPr/>
        </p:nvGrpSpPr>
        <p:grpSpPr>
          <a:xfrm>
            <a:off x="2556000" y="1413000"/>
            <a:ext cx="2673360" cy="4897440"/>
            <a:chOff x="2556000" y="1413000"/>
            <a:chExt cx="2673360" cy="4897440"/>
          </a:xfrm>
        </p:grpSpPr>
        <p:pic>
          <p:nvPicPr>
            <p:cNvPr id="961" name="Picture 7" descr="xin_1830205130936796306283"/>
            <p:cNvPicPr/>
            <p:nvPr/>
          </p:nvPicPr>
          <p:blipFill>
            <a:blip r:embed="rId2"/>
            <a:stretch/>
          </p:blipFill>
          <p:spPr>
            <a:xfrm>
              <a:off x="2556000" y="2133720"/>
              <a:ext cx="267336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2" name="Rectangle 8"/>
            <p:cNvSpPr/>
            <p:nvPr/>
          </p:nvSpPr>
          <p:spPr>
            <a:xfrm>
              <a:off x="3276720" y="1413000"/>
              <a:ext cx="1224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行楷"/>
                </a:rPr>
                <a:t>蹦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Group 20"/>
          <p:cNvGrpSpPr/>
          <p:nvPr/>
        </p:nvGrpSpPr>
        <p:grpSpPr>
          <a:xfrm>
            <a:off x="5219640" y="3068640"/>
            <a:ext cx="2355840" cy="3357720"/>
            <a:chOff x="5219640" y="3068640"/>
            <a:chExt cx="2355840" cy="3357720"/>
          </a:xfrm>
        </p:grpSpPr>
        <p:pic>
          <p:nvPicPr>
            <p:cNvPr id="964" name="Picture 14" descr="2457331_160653849517_2"/>
            <p:cNvPicPr/>
            <p:nvPr/>
          </p:nvPicPr>
          <p:blipFill>
            <a:blip r:embed="rId3"/>
            <a:stretch/>
          </p:blipFill>
          <p:spPr>
            <a:xfrm>
              <a:off x="5219640" y="3068640"/>
              <a:ext cx="2355840" cy="335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5" name="Rectangle 10"/>
            <p:cNvSpPr/>
            <p:nvPr/>
          </p:nvSpPr>
          <p:spPr>
            <a:xfrm>
              <a:off x="5219640" y="5705640"/>
              <a:ext cx="1224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行楷"/>
                </a:rPr>
                <a:t>射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Group 19"/>
          <p:cNvGrpSpPr/>
          <p:nvPr/>
        </p:nvGrpSpPr>
        <p:grpSpPr>
          <a:xfrm>
            <a:off x="6227640" y="333360"/>
            <a:ext cx="2414520" cy="3241440"/>
            <a:chOff x="6227640" y="333360"/>
            <a:chExt cx="2414520" cy="3241440"/>
          </a:xfrm>
        </p:grpSpPr>
        <p:pic>
          <p:nvPicPr>
            <p:cNvPr id="967" name="Picture 12" descr="Img350102951"/>
            <p:cNvPicPr/>
            <p:nvPr/>
          </p:nvPicPr>
          <p:blipFill>
            <a:blip r:embed="rId4"/>
            <a:stretch/>
          </p:blipFill>
          <p:spPr>
            <a:xfrm>
              <a:off x="6227640" y="333360"/>
              <a:ext cx="2414520" cy="24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Rectangle 9"/>
            <p:cNvSpPr/>
            <p:nvPr/>
          </p:nvSpPr>
          <p:spPr>
            <a:xfrm>
              <a:off x="7057800" y="2854080"/>
              <a:ext cx="1584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行楷"/>
                </a:rPr>
                <a:t>撑杆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Group 21"/>
          <p:cNvGrpSpPr/>
          <p:nvPr/>
        </p:nvGrpSpPr>
        <p:grpSpPr>
          <a:xfrm>
            <a:off x="7201080" y="4581360"/>
            <a:ext cx="1942920" cy="2043360"/>
            <a:chOff x="7201080" y="4581360"/>
            <a:chExt cx="1942920" cy="2043360"/>
          </a:xfrm>
        </p:grpSpPr>
        <p:pic>
          <p:nvPicPr>
            <p:cNvPr id="970" name="Picture 16" descr="2-11111209592V52"/>
            <p:cNvPicPr/>
            <p:nvPr/>
          </p:nvPicPr>
          <p:blipFill>
            <a:blip r:embed="rId5"/>
            <a:stretch/>
          </p:blipFill>
          <p:spPr>
            <a:xfrm>
              <a:off x="7201080" y="5300640"/>
              <a:ext cx="194292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Rectangle 17"/>
            <p:cNvSpPr/>
            <p:nvPr/>
          </p:nvSpPr>
          <p:spPr>
            <a:xfrm>
              <a:off x="7559640" y="4581360"/>
              <a:ext cx="1584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行楷"/>
                </a:rPr>
                <a:t>拉力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  <a:ea typeface="华文行楷"/>
              </a:rPr>
              <a:t>物体产生弹力前后有什么变化？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形变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形状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弹性与塑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弹性形变与非弹性形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仿宋_GB2312"/>
              </a:rPr>
              <a:t>物体受力时有形变，不受力时又恢复原状的性质叫弹性，这时的形变叫弹性形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仿宋_GB2312"/>
              </a:rPr>
              <a:t>受力形变的物体撤力后不能恢复原状的性质叫塑性，这时的形变也叫非弹性形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弹力表现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拉力、压力、支持力、推力、张力、支撑力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9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9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9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9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9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小实验：</a:t>
            </a: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        </a:t>
            </a:r>
            <a:r>
              <a:rPr b="0" lang="en-US" sz="4000" spc="-1" strike="noStrike">
                <a:solidFill>
                  <a:srgbClr val="e40000"/>
                </a:solidFill>
                <a:latin typeface="Arial"/>
                <a:ea typeface="华文新魏"/>
              </a:rPr>
              <a:t>——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  <a:ea typeface="华文新魏"/>
              </a:rPr>
              <a:t>微小形变演示。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如何操作可使水柱上升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如何操作可使水柱下降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6" name="Picture 5" descr="wps_clip_image-27330"/>
          <p:cNvPicPr/>
          <p:nvPr/>
        </p:nvPicPr>
        <p:blipFill>
          <a:blip r:embed="rId1"/>
          <a:stretch/>
        </p:blipFill>
        <p:spPr>
          <a:xfrm>
            <a:off x="6948360" y="981000"/>
            <a:ext cx="1414440" cy="410364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6"/>
          <p:cNvSpPr/>
          <p:nvPr/>
        </p:nvSpPr>
        <p:spPr>
          <a:xfrm>
            <a:off x="1332000" y="321300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Arial"/>
                <a:ea typeface="仿宋_GB2312"/>
              </a:rPr>
              <a:t>①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仿宋_GB2312"/>
              </a:rPr>
              <a:t>扁向施压；②纵向施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500"/>
                                        <p:tgtEl>
                                          <p:spTgt spid="9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  <a:ea typeface="华文新魏"/>
              </a:rPr>
              <a:t>测力计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弹簧测力计的构造及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仿宋_GB2312"/>
              </a:rPr>
              <a:t>①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仿宋_GB2312"/>
              </a:rPr>
              <a:t>轻弹簧；②带刻度的外壳支架；③挂钩；④指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仿宋_GB2312"/>
              </a:rPr>
              <a:t>弹簧受的拉力越大伸长量越长。（成正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㈡如何使用测力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仿宋_GB2312"/>
              </a:rPr>
              <a:t>读数类似刻度尺，先读整刻度，再估读指针所在处数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9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1" dur="500"/>
                                        <p:tgtEl>
                                          <p:spTgt spid="9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4064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华文新魏"/>
                <a:ea typeface="华文新魏"/>
              </a:rPr>
              <a:t>[</a:t>
            </a:r>
            <a:r>
              <a:rPr b="0" lang="zh-CN" sz="4400" spc="-1" strike="noStrike">
                <a:solidFill>
                  <a:srgbClr val="e40000"/>
                </a:solidFill>
                <a:latin typeface="华文新魏"/>
                <a:ea typeface="华文新魏"/>
              </a:rPr>
              <a:t>回顾练习</a:t>
            </a:r>
            <a:r>
              <a:rPr b="0" lang="en-US" sz="4400" spc="-1" strike="noStrike">
                <a:solidFill>
                  <a:srgbClr val="e40000"/>
                </a:solidFill>
                <a:latin typeface="华文新魏"/>
                <a:ea typeface="华文新魏"/>
              </a:rPr>
              <a:t>]</a:t>
            </a:r>
            <a:r>
              <a:rPr b="0" lang="zh-CN" sz="4400" spc="-1" strike="noStrike">
                <a:solidFill>
                  <a:srgbClr val="e40000"/>
                </a:solidFill>
                <a:latin typeface="华文新魏"/>
                <a:ea typeface="华文新魏"/>
              </a:rPr>
              <a:t>：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刻度尺的读数。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图为毫米刻度尺的部分长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其中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点处的读数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B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C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点间的距离为</a:t>
            </a:r>
            <a:r>
              <a:rPr b="1" i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L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AC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2" name="Picture 5" descr="wps_clip_image-29286"/>
          <p:cNvPicPr/>
          <p:nvPr/>
        </p:nvPicPr>
        <p:blipFill>
          <a:blip r:embed="rId1"/>
          <a:stretch/>
        </p:blipFill>
        <p:spPr>
          <a:xfrm>
            <a:off x="1476360" y="2349360"/>
            <a:ext cx="5905440" cy="1384560"/>
          </a:xfrm>
          <a:prstGeom prst="rect">
            <a:avLst/>
          </a:prstGeom>
          <a:ln w="0">
            <a:noFill/>
          </a:ln>
        </p:spPr>
      </p:pic>
      <p:sp>
        <p:nvSpPr>
          <p:cNvPr id="983" name="Text Box 6"/>
          <p:cNvSpPr/>
          <p:nvPr/>
        </p:nvSpPr>
        <p:spPr>
          <a:xfrm>
            <a:off x="826920" y="4581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1.3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7"/>
          <p:cNvSpPr/>
          <p:nvPr/>
        </p:nvSpPr>
        <p:spPr>
          <a:xfrm>
            <a:off x="4427640" y="4581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2.46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8"/>
          <p:cNvSpPr/>
          <p:nvPr/>
        </p:nvSpPr>
        <p:spPr>
          <a:xfrm>
            <a:off x="5076720" y="5157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1.11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9"/>
          <p:cNvSpPr/>
          <p:nvPr/>
        </p:nvSpPr>
        <p:spPr>
          <a:xfrm>
            <a:off x="2556000" y="4581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</a:rPr>
              <a:t>2.0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文本框 8200"/>
          <p:cNvSpPr/>
          <p:nvPr/>
        </p:nvSpPr>
        <p:spPr>
          <a:xfrm>
            <a:off x="2470320" y="12654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9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500"/>
                                        <p:tgtEl>
                                          <p:spTgt spid="9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9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华文新魏"/>
                <a:ea typeface="华文新魏"/>
              </a:rPr>
              <a:t>思考练习：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读出下列各测力计的读 数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989" name="Picture 5" descr="wps_clip_image-31249"/>
          <p:cNvPicPr/>
          <p:nvPr/>
        </p:nvPicPr>
        <p:blipFill>
          <a:blip r:embed="rId1"/>
          <a:stretch/>
        </p:blipFill>
        <p:spPr>
          <a:xfrm>
            <a:off x="1258920" y="1413000"/>
            <a:ext cx="2017800" cy="352872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7" descr="wps_clip_image-31340"/>
          <p:cNvPicPr/>
          <p:nvPr/>
        </p:nvPicPr>
        <p:blipFill>
          <a:blip r:embed="rId2"/>
          <a:stretch/>
        </p:blipFill>
        <p:spPr>
          <a:xfrm>
            <a:off x="250920" y="5229360"/>
            <a:ext cx="5329080" cy="11970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9" descr="wps_clip_image-31425"/>
          <p:cNvPicPr/>
          <p:nvPr/>
        </p:nvPicPr>
        <p:blipFill>
          <a:blip r:embed="rId3"/>
          <a:stretch/>
        </p:blipFill>
        <p:spPr>
          <a:xfrm>
            <a:off x="6804000" y="836640"/>
            <a:ext cx="1027080" cy="5877000"/>
          </a:xfrm>
          <a:prstGeom prst="rect">
            <a:avLst/>
          </a:prstGeom>
          <a:ln w="0">
            <a:noFill/>
          </a:ln>
        </p:spPr>
      </p:pic>
      <p:sp>
        <p:nvSpPr>
          <p:cNvPr id="992" name="Text Box 10"/>
          <p:cNvSpPr/>
          <p:nvPr/>
        </p:nvSpPr>
        <p:spPr>
          <a:xfrm>
            <a:off x="5580000" y="234936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40000"/>
                </a:solidFill>
                <a:uFillTx/>
                <a:latin typeface="Arial"/>
              </a:rPr>
              <a:t>1.8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2"/>
          <p:cNvSpPr/>
          <p:nvPr/>
        </p:nvSpPr>
        <p:spPr>
          <a:xfrm>
            <a:off x="4284720" y="4508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40000"/>
                </a:solidFill>
                <a:uFillTx/>
                <a:latin typeface="Arial"/>
              </a:rPr>
              <a:t>2.60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3"/>
          <p:cNvSpPr/>
          <p:nvPr/>
        </p:nvSpPr>
        <p:spPr>
          <a:xfrm>
            <a:off x="3419640" y="2349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40000"/>
                </a:solidFill>
                <a:uFillTx/>
                <a:latin typeface="Arial"/>
              </a:rPr>
              <a:t>2.6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20000"/>
                </a:solidFill>
                <a:latin typeface="Arial"/>
                <a:ea typeface="隶书"/>
              </a:rPr>
              <a:t>注意事项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量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针调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仿宋_GB2312"/>
                <a:ea typeface="仿宋_GB2312"/>
              </a:rPr>
              <a:t>问题</a:t>
            </a:r>
            <a:r>
              <a:rPr b="1" lang="en-US" sz="3200" spc="-1" strike="noStrike">
                <a:solidFill>
                  <a:srgbClr val="e4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e40000"/>
                </a:solidFill>
                <a:latin typeface="仿宋_GB2312"/>
                <a:ea typeface="仿宋_GB2312"/>
              </a:rPr>
              <a:t>：如果不方便调零，能有办法使用它测出力的大小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仿宋_GB2312"/>
              </a:rPr>
              <a:t>（可以先读出不测拉力时读数，再测出某拉力时读数，两数之差就是该拉力大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沿弹簧轴线方向施加拉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准确读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" dur="500"/>
                                        <p:tgtEl>
                                          <p:spTgt spid="9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9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500"/>
                                        <p:tgtEl>
                                          <p:spTgt spid="9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9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9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506556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20000"/>
                </a:solidFill>
                <a:latin typeface="Arial"/>
                <a:ea typeface="华文隶书"/>
              </a:rPr>
              <a:t>概念辨析训练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468000" y="1125000"/>
            <a:ext cx="867564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40000"/>
                </a:solidFill>
                <a:latin typeface="黑体"/>
                <a:ea typeface="黑体"/>
              </a:rPr>
              <a:t>例题</a:t>
            </a:r>
            <a:r>
              <a:rPr b="1" lang="en-US" sz="2600" spc="-1" strike="noStrike">
                <a:solidFill>
                  <a:srgbClr val="e40000"/>
                </a:solidFill>
                <a:latin typeface="黑体"/>
                <a:ea typeface="黑体"/>
              </a:rPr>
              <a:t>1.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下面对弹力的理解是正确还是错误的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.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物体只要发生形变就能产生弹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.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发生弹性形变的物体要恢复原状产生了弹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C.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弹力的产生主要是为了反抗自身的形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D.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弹簧越长弹力越大，弹簧越短弹力越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"/>
          <p:cNvSpPr/>
          <p:nvPr/>
        </p:nvSpPr>
        <p:spPr>
          <a:xfrm>
            <a:off x="900000" y="3933720"/>
            <a:ext cx="7704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00"/>
                </a:solidFill>
                <a:latin typeface="仿宋_GB2312"/>
                <a:ea typeface="仿宋_GB2312"/>
              </a:rPr>
              <a:t>A</a:t>
            </a:r>
            <a:r>
              <a:rPr b="1" lang="zh-CN" sz="2400" spc="-1" strike="noStrike">
                <a:solidFill>
                  <a:srgbClr val="e40000"/>
                </a:solidFill>
                <a:latin typeface="仿宋_GB2312"/>
                <a:ea typeface="仿宋_GB2312"/>
              </a:rPr>
              <a:t>错。必须发生弹性形变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00"/>
                </a:solidFill>
                <a:latin typeface="仿宋_GB2312"/>
                <a:ea typeface="仿宋_GB2312"/>
              </a:rPr>
              <a:t>B</a:t>
            </a:r>
            <a:r>
              <a:rPr b="1" lang="zh-CN" sz="2400" spc="-1" strike="noStrike">
                <a:solidFill>
                  <a:srgbClr val="e40000"/>
                </a:solidFill>
                <a:latin typeface="仿宋_GB2312"/>
                <a:ea typeface="仿宋_GB2312"/>
              </a:rPr>
              <a:t>正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00"/>
                </a:solidFill>
                <a:latin typeface="仿宋_GB2312"/>
                <a:ea typeface="仿宋_GB2312"/>
              </a:rPr>
              <a:t>C</a:t>
            </a:r>
            <a:r>
              <a:rPr b="1" lang="zh-CN" sz="2400" spc="-1" strike="noStrike">
                <a:solidFill>
                  <a:srgbClr val="e40000"/>
                </a:solidFill>
                <a:latin typeface="仿宋_GB2312"/>
                <a:ea typeface="仿宋_GB2312"/>
              </a:rPr>
              <a:t>正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00"/>
                </a:solidFill>
                <a:latin typeface="仿宋_GB2312"/>
                <a:ea typeface="仿宋_GB2312"/>
              </a:rPr>
              <a:t>D</a:t>
            </a:r>
            <a:r>
              <a:rPr b="1" lang="zh-CN" sz="2400" spc="-1" strike="noStrike">
                <a:solidFill>
                  <a:srgbClr val="e40000"/>
                </a:solidFill>
                <a:latin typeface="仿宋_GB2312"/>
                <a:ea typeface="仿宋_GB2312"/>
              </a:rPr>
              <a:t>错。弹簧在伸长情况下，伸得越长弹力越大；在压缩状态下，缩得越短，弹力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500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9" dur="500"/>
                                        <p:tgtEl>
                                          <p:spTgt spid="9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4" dur="500"/>
                                        <p:tgtEl>
                                          <p:spTgt spid="9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9" dur="500"/>
                                        <p:tgtEl>
                                          <p:spTgt spid="9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500"/>
                                        <p:tgtEl>
                                          <p:spTgt spid="9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9:50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0:01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