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5FE4-C327-4497-BE3B-C3BBEE416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B373-2466-4AF6-ACA1-131AC939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A1AE-A4FD-4E85-AC4E-2F93F89E6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F8E3-2FB8-47C6-9BCF-DF1652587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1FF7-A474-4714-9921-47129536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DC74-590D-4FC9-BB32-FF778D80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B8F0-1837-45DA-8AA8-04967F45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82F2-33E5-4B22-A315-C269286B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50E3-8C24-43DC-9F46-0E9A09A5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443E-A70C-4BAA-A0B8-1374382B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28DF-4873-4C67-83AF-41477113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C33D-D58E-46A8-8E3E-60808FEB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7C11-BC63-464C-877C-89A9DFA5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7B4C-B8D7-4B36-BE15-4D2C6BF7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C1B0-C955-4807-BC94-1C2105B3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2CC9-AA01-401E-AD10-EB34CEF3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B7DA-06DE-4B00-B6F4-FBA7C31ED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88F8-718F-4619-A122-58F033D8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16AF-BCAC-4061-8A62-BCD8ABB1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C739-11F8-4637-B15E-AF5A3961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6666-968A-44D3-A99E-0B30DDDC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AE4A-ED9D-4CF3-AC27-52C5E836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CE6C-1110-43A5-A6B0-EB85A83C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D249-3E1F-4DAF-85AA-E3C9B6F4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2008623173623447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2-2-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四年级科学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B1FC-9401-4111-A984-B2B933D70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3897-0D2E-4E0D-9569-90840259A1C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388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点亮小灯泡课件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模板下载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3194280" y="9144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科学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2-2-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四年级科学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7A3E-67C8-4533-8108-433CA23B2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让小灯泡发光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9" name="Picture 4" descr="110424002370ea2034e55ed37b"/>
          <p:cNvPicPr/>
          <p:nvPr/>
        </p:nvPicPr>
        <p:blipFill>
          <a:blip r:embed="rId1"/>
          <a:stretch/>
        </p:blipFill>
        <p:spPr>
          <a:xfrm>
            <a:off x="0" y="1600200"/>
            <a:ext cx="6019920" cy="52578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6172200" y="19051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导线连接 小灯泡的锡粒与电池底部的锌壳，电池铜帽与小灯泡螺纹接触。小灯泡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2-2-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四年级科学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9FEA-68BF-4104-A173-BC40606AB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让小灯泡发光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5" name="Picture 4" descr="110424002370ea2034e55ed37b"/>
          <p:cNvPicPr/>
          <p:nvPr/>
        </p:nvPicPr>
        <p:blipFill>
          <a:blip r:embed="rId1"/>
          <a:stretch/>
        </p:blipFill>
        <p:spPr>
          <a:xfrm>
            <a:off x="457200" y="160020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5334120" y="205740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导线连接电池铜帽和小灯泡螺纹，小灯泡的锡粒与电池锌壳接触，小灯泡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2-2-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四年级科学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503D-57A4-4385-BA24-C854DC709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灯泡发光时，连接方法的相同点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两极连两点，形成一个通路，既完整的电路。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2-2-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四年级科学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C3E2-2082-4046-933A-61C4DC666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让小灯泡发光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7" name="Picture 4" descr="110424002370ea2034e55ed37b"/>
          <p:cNvPicPr/>
          <p:nvPr/>
        </p:nvPicPr>
        <p:blipFill>
          <a:blip r:embed="rId1"/>
          <a:stretch/>
        </p:blipFill>
        <p:spPr>
          <a:xfrm>
            <a:off x="457200" y="1600200"/>
            <a:ext cx="4648320" cy="44956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5410080" y="22096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导线连接小灯泡螺纹与电池旁的外壳，小灯泡的锡粒端接触电池铜帽。小灯泡不亮。断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2-2-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四年级科学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E471-DD33-4E8B-918D-81BFAB407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让小灯泡发光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64" name="Picture 4" descr="110424002370ea2034e55ed37b"/>
          <p:cNvPicPr/>
          <p:nvPr/>
        </p:nvPicPr>
        <p:blipFill>
          <a:blip r:embed="rId1"/>
          <a:srcRect l="0" t="0" r="-25858" b="0"/>
          <a:stretch/>
        </p:blipFill>
        <p:spPr>
          <a:xfrm>
            <a:off x="457200" y="1600200"/>
            <a:ext cx="5562720" cy="44956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5486400" y="19051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导线连接电池铜帽和底部的锌壳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小灯泡只有锡粒端接触电池铜帽。不亮。短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2-2-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四年级科学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2E32-5CEF-4816-BBF2-14DB7C3AD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短路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当电池的正负极被导线直接连接起来时，就会发生短路。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短路时，电池和导线会在一瞬间发热变烫，不仅小灯泡不能发光，电池也很快就会被损坏。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2-2-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四年级科学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36A7-D001-43D1-AA6E-C411860B4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短路与断路的相同点与不同点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不同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短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是指正负极直接相连形成一个回路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有电流通过 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断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是指正负极之间的线路断开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没有电流通过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不同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短路将致使系统烧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而断路只是造成系统的暂时无法使用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相同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最终系统都无法工作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系统消耗的功率均为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电阻近似认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. 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5BDC-D6F7-4B54-A0D0-ECB396C537F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2-2-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四年级科学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68FF-EC63-4B5E-BFC4-0BBA491A0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电的小常识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599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发电厂发出的、通过导线送到各家各户的电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20V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交流电，这是足经引发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触电事故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致人死亡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电，所以我们不能直接用家里、学校里插座中的电做实验！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2-2-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四年级科学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DFA3-6F99-402A-A1DB-520803DA0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复习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让电荷流动起来形成电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需要具备两个条件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是电源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;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二是电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;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2-2-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四年级科学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A099-A39B-4326-BF07-50F00CAE0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生活中最常见的借助电源、电路来来正常工作的电器是什么？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电灯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2-2-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四年级科学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20BE-E62B-49EC-B546-F17229002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请你画出印象中的小灯泡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2-2-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四年级科学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B0B7-840A-4724-9F1F-297DEDC66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小灯泡的构造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05" name="Picture 5" descr="2010061010081407"/>
          <p:cNvPicPr/>
          <p:nvPr/>
        </p:nvPicPr>
        <p:blipFill>
          <a:blip r:embed="rId1"/>
          <a:stretch/>
        </p:blipFill>
        <p:spPr>
          <a:xfrm>
            <a:off x="0" y="1600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6934320" y="2666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玻璃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858000" y="3809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灯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58000" y="51055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金属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6858000" y="6338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连接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2-2-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四年级科学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F1D2-9759-497A-9AA5-AEC2F680F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点亮小灯泡需要的材料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6" name="Picture 4" descr="u=719776394,2181254723&amp;fm=0&amp;gp=0"/>
          <p:cNvPicPr/>
          <p:nvPr/>
        </p:nvPicPr>
        <p:blipFill>
          <a:blip r:embed="rId1"/>
          <a:stretch/>
        </p:blipFill>
        <p:spPr>
          <a:xfrm>
            <a:off x="457200" y="2895480"/>
            <a:ext cx="2286000" cy="3200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01300000256295122613487123083"/>
          <p:cNvPicPr/>
          <p:nvPr/>
        </p:nvPicPr>
        <p:blipFill>
          <a:blip r:embed="rId2"/>
          <a:stretch/>
        </p:blipFill>
        <p:spPr>
          <a:xfrm>
            <a:off x="3276720" y="2971800"/>
            <a:ext cx="2286000" cy="3238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u=484105721,3592609259&amp;fm=0&amp;gp=0"/>
          <p:cNvPicPr/>
          <p:nvPr/>
        </p:nvPicPr>
        <p:blipFill>
          <a:blip r:embed="rId3"/>
          <a:stretch/>
        </p:blipFill>
        <p:spPr>
          <a:xfrm>
            <a:off x="6400800" y="3124080"/>
            <a:ext cx="2209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2-2-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四年级科学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FA0D-EF1F-41E7-9D9F-BBEC7A411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观察电线和电池的结构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电线由金属内心和塑料外皮组成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金属是导电的，塑料是绝缘的。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电池：一端是铜帽，称为正极；另一端是锌壳，称为负极。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2-2-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四年级科学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1F2C-0CA9-497B-ACD8-240CC4644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让我们来动手实验有几种点亮小灯泡的方法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2-2-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四年级科学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4849-4603-4858-93CC-86F6A921B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让小灯泡发光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3" name="Picture 8" descr="110424002370ea2034e55ed37b"/>
          <p:cNvPicPr/>
          <p:nvPr/>
        </p:nvPicPr>
        <p:blipFill>
          <a:blip r:embed="rId1"/>
          <a:stretch/>
        </p:blipFill>
        <p:spPr>
          <a:xfrm>
            <a:off x="0" y="-1371600"/>
            <a:ext cx="998208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1T03:18:3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5:57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