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chimes.wav" ContentType="audio/x-wav"/>
  <Override PartName="/ppt/media/image8.png" ContentType="image/png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66D3-8C0A-4F05-95FB-A7F31832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2A8F-149C-4D52-9213-0C73083FE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6BAB-B65B-4B3C-817D-B1D9CBBCE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82B7-71F5-45FE-A3A7-F674A18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41247-F0C3-45C5-AC86-62956608E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4C24-56FC-4C7D-BBD0-627D1FB74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CB542-B848-4043-9BC3-83384A571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1607-11CB-48B4-A27D-4927CF5D3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DCDF-8FDA-4597-A68E-E4493242B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E88C-0F8A-46B2-8D38-380B435E0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12FE8-AA7F-4B40-9852-129A7279C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C95-1861-4AE7-BD29-57E44D76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5EF3F-BE0F-4A76-A692-5260C9D7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DB990-CE03-42F5-A73B-FCCC46B52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81132-5242-4894-924D-3E54BCC17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09ABE-EFEE-4BB2-AD8C-989A569F1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F7644-6884-4CF9-856C-0D979A6B0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9AE88-1556-44E7-A5A4-65F8F86A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BDCA-A562-42FC-AE75-E65D5E30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B727-788B-4F24-9F86-72D77E4B4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7B60-C330-43DA-BEAE-DA1A25DBB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50EA-D025-4FB7-A5E5-675178DD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AFA3-3191-4933-9F2A-01B03F2E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EEB1-7348-4435-BA41-FA145A505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0C86-0AC0-4BBE-AE9F-998E395A9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E4BAC-4117-40C1-A2AF-B87F2B72459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9" descr="_DSC741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691920"/>
            <a:ext cx="6018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中宋"/>
                <a:ea typeface="华文中宋"/>
              </a:rPr>
              <a:t>第十八章  电功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8"/>
          <p:cNvSpPr txBox="1"/>
          <p:nvPr/>
        </p:nvSpPr>
        <p:spPr>
          <a:xfrm>
            <a:off x="1371600" y="2419200"/>
            <a:ext cx="6765840" cy="56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第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1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节　电能电功课件</a:t>
            </a:r>
            <a:r>
              <a:rPr b="1" lang="en-US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PPT</a:t>
            </a:r>
            <a:r>
              <a:rPr b="1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中宋"/>
              </a:rPr>
              <a:t>模板免费下载</a:t>
            </a:r>
            <a:endParaRPr b="1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Object 16" descr=""/>
          <p:cNvPicPr/>
          <p:nvPr/>
        </p:nvPicPr>
        <p:blipFill>
          <a:blip r:embed="rId1"/>
          <a:stretch/>
        </p:blipFill>
        <p:spPr>
          <a:xfrm>
            <a:off x="900000" y="2276640"/>
            <a:ext cx="2087640" cy="6159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27" name="WordArt 4"/>
          <p:cNvSpPr txBox="1"/>
          <p:nvPr/>
        </p:nvSpPr>
        <p:spPr>
          <a:xfrm>
            <a:off x="2556000" y="503280"/>
            <a:ext cx="33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电功的公式</a:t>
            </a:r>
            <a:endParaRPr b="0" lang="en-US" sz="1800" spc="1" strike="noStrike">
              <a:ln w="12600">
                <a:solidFill>
                  <a:srgbClr val="eaeaea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128" name="Object 20" descr=""/>
          <p:cNvPicPr/>
          <p:nvPr/>
        </p:nvPicPr>
        <p:blipFill>
          <a:blip r:embed="rId2"/>
          <a:stretch/>
        </p:blipFill>
        <p:spPr>
          <a:xfrm>
            <a:off x="6084720" y="2060640"/>
            <a:ext cx="2327400" cy="1563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129" name="Object 22" descr=""/>
          <p:cNvPicPr/>
          <p:nvPr/>
        </p:nvPicPr>
        <p:blipFill>
          <a:blip r:embed="rId3"/>
          <a:stretch/>
        </p:blipFill>
        <p:spPr>
          <a:xfrm>
            <a:off x="6156360" y="4653000"/>
            <a:ext cx="2421000" cy="7588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130" name="AutoShape 15"/>
          <p:cNvSpPr/>
          <p:nvPr/>
        </p:nvSpPr>
        <p:spPr>
          <a:xfrm rot="5400000">
            <a:off x="1653120" y="3175560"/>
            <a:ext cx="647640" cy="287280"/>
          </a:xfrm>
          <a:prstGeom prst="rightArrow">
            <a:avLst>
              <a:gd name="adj1" fmla="val 50000"/>
              <a:gd name="adj2" fmla="val 56318"/>
            </a:avLst>
          </a:prstGeom>
          <a:noFill/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5"/>
          <p:cNvSpPr/>
          <p:nvPr/>
        </p:nvSpPr>
        <p:spPr>
          <a:xfrm>
            <a:off x="5364000" y="2708280"/>
            <a:ext cx="505080" cy="2160720"/>
          </a:xfrm>
          <a:custGeom>
            <a:avLst/>
            <a:gdLst>
              <a:gd name="textAreaLeft" fmla="*/ 322920 w 505080"/>
              <a:gd name="textAreaRight" fmla="*/ 505440 w 50508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9"/>
          <p:cNvSpPr/>
          <p:nvPr/>
        </p:nvSpPr>
        <p:spPr>
          <a:xfrm>
            <a:off x="1042920" y="3789360"/>
            <a:ext cx="22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普遍适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0"/>
          <p:cNvSpPr/>
          <p:nvPr/>
        </p:nvSpPr>
        <p:spPr>
          <a:xfrm>
            <a:off x="4643280" y="2492280"/>
            <a:ext cx="576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纯电阻电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8696-9FB9-47FD-86F5-3FFAC52713A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当堂训练答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468360" y="1484280"/>
            <a:ext cx="83008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.3   4590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功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0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机械；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0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7" descr=""/>
          <p:cNvPicPr/>
          <p:nvPr/>
        </p:nvPicPr>
        <p:blipFill>
          <a:blip r:embed="rId1"/>
          <a:stretch/>
        </p:blipFill>
        <p:spPr>
          <a:xfrm>
            <a:off x="1116000" y="2455920"/>
            <a:ext cx="590400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8"/>
          <p:cNvSpPr/>
          <p:nvPr/>
        </p:nvSpPr>
        <p:spPr>
          <a:xfrm>
            <a:off x="900000" y="765000"/>
            <a:ext cx="403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楷体_GB2312"/>
                <a:ea typeface="楷体_GB2312"/>
              </a:rPr>
              <a:t>学习目标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611280" y="2216160"/>
            <a:ext cx="8101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知道电能的来源及电能的应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能够读懂电能表上的参数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知道电能的单位及换算关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会用电功的公式进行简单的计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88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自学指导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611280" y="2873520"/>
            <a:ext cx="79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同学们带着下列问题看课本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87-90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页内容，勾画知识点并记忆，可查资料但要独立完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47640" y="404280"/>
            <a:ext cx="454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自学检测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9280" y="2133720"/>
            <a:ext cx="79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合上书，独立完成自学检测，要求：书写认真规范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组的同学到黑板展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小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电能表：用来测量电路消耗电能的仪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2"/>
          <p:cNvPicPr/>
          <p:nvPr/>
        </p:nvPicPr>
        <p:blipFill>
          <a:blip r:embed="rId1"/>
          <a:stretch/>
        </p:blipFill>
        <p:spPr>
          <a:xfrm>
            <a:off x="250920" y="1052640"/>
            <a:ext cx="4535280" cy="45370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5292720" y="3573360"/>
            <a:ext cx="35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4786200" y="2081160"/>
            <a:ext cx="43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(4)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电能表能持续工作时的最大电流为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短时间内允许通过的最大电流为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4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788000" y="314172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0Hz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表示电能表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50Hz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的交流电中使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788000" y="3933720"/>
            <a:ext cx="43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00r/k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表示每消耗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kW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（度）的电能，转盘转动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300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752480" y="3886200"/>
            <a:ext cx="43200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209680" y="3886200"/>
            <a:ext cx="50328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2743200" y="3886200"/>
            <a:ext cx="428760" cy="216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1763640" y="3645000"/>
            <a:ext cx="1440000" cy="2156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4788000" y="5084640"/>
            <a:ext cx="405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示数：整数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一位小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读数为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45.5 k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1523880" y="2286000"/>
            <a:ext cx="1871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4788000" y="126828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20V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表示电能表适用的</a:t>
            </a:r>
            <a:r>
              <a:rPr b="1" lang="zh-CN" sz="1800" spc="-1" strike="noStrike">
                <a:solidFill>
                  <a:srgbClr val="ff0000"/>
                </a:solidFill>
                <a:latin typeface="Verdana"/>
              </a:rPr>
              <a:t>额定电压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为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20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5"/>
          <p:cNvSpPr/>
          <p:nvPr/>
        </p:nvSpPr>
        <p:spPr>
          <a:xfrm>
            <a:off x="324000" y="5586480"/>
            <a:ext cx="43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a)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感应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5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6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mph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 calcmode="discrete" valueType="str">
                                      <p:cBhvr additive="repl">
                                        <p:cTn id="8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normal"/>
                                          </p:val>
                                        </p:tav>
                                        <p:tav tm="50000">
                                          <p:val>
                                            <p:strVal val="bold"/>
                                          </p:val>
                                        </p:tav>
                                        <p:tav tm="60000">
                                          <p:val>
                                            <p:strVal val="normal"/>
                                          </p:val>
                                        </p:tav>
                                        <p:tav tm="100000">
                                          <p:val>
                                            <p:strVal val="normal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058c"/>
                </a:solidFill>
                <a:latin typeface="隶书"/>
                <a:ea typeface="隶书"/>
              </a:rPr>
              <a:t>精讲点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921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如何在电能表上读数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3225960" y="1700280"/>
            <a:ext cx="2761920" cy="2163600"/>
          </a:xfrm>
          <a:prstGeom prst="rect">
            <a:avLst/>
          </a:prstGeom>
          <a:ln w="0">
            <a:noFill/>
          </a:ln>
        </p:spPr>
      </p:pic>
      <p:sp>
        <p:nvSpPr>
          <p:cNvPr id="110" name="矩形 2"/>
          <p:cNvSpPr/>
          <p:nvPr/>
        </p:nvSpPr>
        <p:spPr>
          <a:xfrm>
            <a:off x="755640" y="4221000"/>
            <a:ext cx="792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58c"/>
                </a:solidFill>
                <a:latin typeface="Calibri"/>
              </a:rPr>
              <a:t>1.</a:t>
            </a:r>
            <a:r>
              <a:rPr b="1" lang="zh-CN" sz="2400" spc="-1" strike="noStrike">
                <a:solidFill>
                  <a:srgbClr val="02058c"/>
                </a:solidFill>
                <a:latin typeface="Calibri"/>
              </a:rPr>
              <a:t>电能表数字盘上有五个格，其中前四个小格表示整数，最后一个格是红色的，表示小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58c"/>
                </a:solidFill>
                <a:latin typeface="Calibri"/>
              </a:rPr>
              <a:t>2.</a:t>
            </a:r>
            <a:r>
              <a:rPr b="1" lang="zh-CN" sz="2400" spc="-1" strike="noStrike">
                <a:solidFill>
                  <a:srgbClr val="02058c"/>
                </a:solidFill>
                <a:latin typeface="Calibri"/>
              </a:rPr>
              <a:t>要知道在某一段时间内，接在电能表上的用电器消耗了多少电能，只需要算出这段时间内电能表前后两次示数之差就行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  <p:sndAc>
      <p:stSnd>
        <p:snd r:embed="rId2" name="chimes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619280" y="765000"/>
            <a:ext cx="5905440" cy="8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电流流动时能做功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168120" y="184464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流流过用电器，把电能转化为其他形式能的过程，也就是电流做功的过程，所以，电流能够做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5"/>
          <p:cNvSpPr/>
          <p:nvPr/>
        </p:nvSpPr>
        <p:spPr>
          <a:xfrm>
            <a:off x="369720" y="3301920"/>
            <a:ext cx="856152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电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电流所做的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符号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实质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2400" spc="-1" strike="noStrike">
                <a:solidFill>
                  <a:srgbClr val="ff00ff"/>
                </a:solidFill>
                <a:latin typeface="Arial"/>
              </a:rPr>
              <a:t>电流做功的过程实际上就是电能转  化为其他形式能量的过程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流作了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多少功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多少电能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转化为其他形式的能。也就是消耗了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能；获得了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多少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他形式的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8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395280" y="9460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点拨：科学家们用精确的实验研究得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95280" y="270828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电压和时间相等的条件下，电功跟电流成正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95280" y="35434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电压和电流相等的条件下，电功跟时间成正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395280" y="1817640"/>
            <a:ext cx="82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在电流和时间相等的条件下，电功跟电压成正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8199"/>
          <p:cNvSpPr/>
          <p:nvPr/>
        </p:nvSpPr>
        <p:spPr>
          <a:xfrm>
            <a:off x="755640" y="13161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184320" y="958680"/>
            <a:ext cx="87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结论：电流在某段电路上所做的功，跟这段电路两端的电压成正比；跟电路中的电流成正比；跟通电时间成正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24000" y="2133720"/>
            <a:ext cx="856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2057400"/>
            <a:ext cx="890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物理上，人们用“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表示电功，因此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514600" y="2895480"/>
            <a:ext cx="29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 I 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395280" y="3984480"/>
            <a:ext cx="78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电功的单位是“焦耳”，简称“焦”，符号是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843280" y="4941720"/>
            <a:ext cx="45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J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V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X1AX1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9"/>
          <p:cNvSpPr/>
          <p:nvPr/>
        </p:nvSpPr>
        <p:spPr>
          <a:xfrm>
            <a:off x="8459640" y="6381720"/>
            <a:ext cx="360360" cy="287280"/>
          </a:xfrm>
          <a:custGeom>
            <a:avLst/>
            <a:gdLst>
              <a:gd name="textAreaLeft" fmla="*/ 18360 w 360360"/>
              <a:gd name="textAreaRight" fmla="*/ 342000 w 360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27088" h="21600">
                <a:moveTo>
                  <a:pt x="0" y="0"/>
                </a:moveTo>
                <a:lnTo>
                  <a:pt x="27088" y="0"/>
                </a:lnTo>
                <a:lnTo>
                  <a:pt x="27088" y="21600"/>
                </a:lnTo>
                <a:lnTo>
                  <a:pt x="0" y="21600"/>
                </a:lnTo>
                <a:close/>
              </a:path>
              <a:path fill="lightenLess" w="27088" h="21600">
                <a:moveTo>
                  <a:pt x="0" y="0"/>
                </a:moveTo>
                <a:lnTo>
                  <a:pt x="27088" y="0"/>
                </a:lnTo>
                <a:lnTo>
                  <a:pt x="25688" y="1400"/>
                </a:lnTo>
                <a:lnTo>
                  <a:pt x="1400" y="1400"/>
                </a:lnTo>
                <a:close/>
              </a:path>
              <a:path fill="darken" w="27088" h="21600">
                <a:moveTo>
                  <a:pt x="27088" y="0"/>
                </a:moveTo>
                <a:lnTo>
                  <a:pt x="27088" y="21600"/>
                </a:lnTo>
                <a:lnTo>
                  <a:pt x="25688" y="20200"/>
                </a:lnTo>
                <a:lnTo>
                  <a:pt x="25688" y="1400"/>
                </a:lnTo>
                <a:close/>
              </a:path>
              <a:path fill="darkenLess" w="27088" h="21600">
                <a:moveTo>
                  <a:pt x="27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88" y="20200"/>
                </a:lnTo>
                <a:close/>
              </a:path>
              <a:path fill="lighten" w="27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88" h="21600">
                <a:moveTo>
                  <a:pt x="6537" y="3794"/>
                </a:moveTo>
                <a:lnTo>
                  <a:pt x="20550" y="10800"/>
                </a:lnTo>
                <a:lnTo>
                  <a:pt x="653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4T13:38:3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7:40Z</dcterms:modified>
  <cp:revision>2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