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chimes.wav" ContentType="audio/x-wav"/>
  <Override PartName="/ppt/media/type.wav" ContentType="audio/x-wav"/>
  <Override PartName="/ppt/media/image6.jpeg" ContentType="image/jpeg"/>
  <Override PartName="/ppt/media/projctor.wav" ContentType="audio/x-wav"/>
  <Override PartName="/ppt/media/image24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7.jpeg" ContentType="image/jpeg"/>
  <Override PartName="/ppt/media/image33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29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9F3-DC75-4987-ADC1-9BA48B9C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507-A472-45A8-8143-C8ABDC1D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2A7-2E3C-43B5-9127-0855FDF6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928-90E0-4640-9748-B8591948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4050-E9F9-463E-B609-BB81B102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064F-DF69-43D3-8EA6-BC720ABB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4358-60B1-487B-BDFC-59BE1772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5B6A-53E1-41D6-9CE2-A5B6B09E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AD79-5051-4A82-81B5-47922DD7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D69D-76DE-40A3-AA0F-8AD3F36E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EFE0-39EC-450A-AFF3-108825E1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4CD-1ED0-4215-ACE4-DEAA651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EB0F-C22E-45BF-B710-8CEF9043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99DE-3F59-4150-A4DD-ABC86378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E1DF-BFD9-4AF3-A536-A98F0188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FF23-8327-4959-A56A-4A4D825F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9111-9CB1-4D9C-95F9-D44D14E4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791BC-B6CD-447B-936C-BEF40D98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CD38-43B5-40E0-8817-F805237D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8F55-B8EC-42C5-BDAC-1BD6E18D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1E5A-30B5-4C0D-BFF2-3D07924E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0DE2-9E8A-4125-93CD-5B860EB7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57B-462A-405F-BAFA-F4BE8832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5AEF-D853-482C-B3C1-D34839B9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7E8D-11F4-4DCF-85A5-46766A5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503E-3B1C-43B0-9245-A35A90A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0BDF-0443-4723-A885-E26BBD8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E6BD-9F00-4B00-B8E5-C6960A6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073E-9584-4133-AD2B-7301AD36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54F3-74A5-499E-90DD-7B979963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FD1-4210-4E25-8B4E-4E4DD5C8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EBC-C23B-4246-B57A-04B6C62B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6AE-8B72-4C61-B093-474CCA5B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873-8F52-4A4F-ABC9-BF462C37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067-4C9D-438F-A017-1989F83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267-B31F-4A7D-8498-DC970C5F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1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65EF-298B-4522-920C-DE0948F1AF9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4D2B-DF62-4F54-9D8E-5F9CDAE5B1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118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153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34A4-4264-44E8-8AEB-B7AE1622DF2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278,23,&#24187;&#28783;&#29255; 23" TargetMode="External"/><Relationship Id="rId3" Type="http://schemas.openxmlformats.org/officeDocument/2006/relationships/hyperlink" Target="276,21,&#27233;&#33014;" TargetMode="External"/><Relationship Id="rId4" Type="http://schemas.openxmlformats.org/officeDocument/2006/relationships/hyperlink" Target="279,24,&#24187;&#28783;&#29255; 24" TargetMode="External"/><Relationship Id="rId5" Type="http://schemas.openxmlformats.org/officeDocument/2006/relationships/hyperlink" Target="277,22,&#24187;&#28783;&#29255; 22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97635img20099915544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1252440" y="3610080"/>
            <a:ext cx="69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东南亚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412720" y="765000"/>
            <a:ext cx="42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第七章 我们邻近的地区和国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东南亚地图（繁） 副本"/>
          <p:cNvPicPr/>
          <p:nvPr/>
        </p:nvPicPr>
        <p:blipFill>
          <a:blip r:embed="rId1"/>
          <a:stretch/>
        </p:blipFill>
        <p:spPr>
          <a:xfrm>
            <a:off x="826920" y="0"/>
            <a:ext cx="7596360" cy="569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3" name="Text Box 3"/>
          <p:cNvSpPr/>
          <p:nvPr/>
        </p:nvSpPr>
        <p:spPr>
          <a:xfrm>
            <a:off x="179280" y="0"/>
            <a:ext cx="611280" cy="3812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魏碑简体"/>
              </a:rPr>
              <a:t>东南亚的范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340000" y="18900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     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 rot="2446200">
            <a:off x="1186200" y="1483920"/>
            <a:ext cx="18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南半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 rot="3228600">
            <a:off x="1307160" y="28029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马来半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124000" y="4076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马           来             群              岛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308720" y="47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洋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 rot="1130400">
            <a:off x="3781800" y="1114560"/>
            <a:ext cx="36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819000" y="2205000"/>
            <a:ext cx="36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 rot="1938600">
            <a:off x="6434280" y="1412280"/>
            <a:ext cx="36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788000" y="333360"/>
            <a:ext cx="37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东南亚包括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中南半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马来群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两大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250920" y="5373720"/>
            <a:ext cx="861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3b3bff"/>
                </a:solidFill>
                <a:latin typeface="隶书"/>
                <a:ea typeface="隶书"/>
              </a:rPr>
              <a:t>中南半岛北部与我国山水相连，南部是狭长的马来半岛，延伸到赤道附近。马来群岛又称南洋群岛，横跨赤道两侧，由</a:t>
            </a:r>
            <a:r>
              <a:rPr b="1" lang="en-US" sz="2400" spc="-1" strike="noStrike">
                <a:solidFill>
                  <a:srgbClr val="3b3bff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3b3bff"/>
                </a:solidFill>
                <a:latin typeface="隶书"/>
                <a:ea typeface="隶书"/>
              </a:rPr>
              <a:t>万多个大小岛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0" y="3933720"/>
            <a:ext cx="7740720" cy="360"/>
            <a:chOff x="0" y="3933720"/>
            <a:chExt cx="7740720" cy="360"/>
          </a:xfrm>
        </p:grpSpPr>
        <p:sp>
          <p:nvSpPr>
            <p:cNvPr id="245" name="Line 14"/>
            <p:cNvSpPr/>
            <p:nvPr/>
          </p:nvSpPr>
          <p:spPr>
            <a:xfrm>
              <a:off x="0" y="3933720"/>
              <a:ext cx="774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0" y="3933720"/>
              <a:ext cx="774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15"/>
          <p:cNvSpPr/>
          <p:nvPr/>
        </p:nvSpPr>
        <p:spPr>
          <a:xfrm>
            <a:off x="7740720" y="36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8198"/>
          <p:cNvSpPr/>
          <p:nvPr/>
        </p:nvSpPr>
        <p:spPr>
          <a:xfrm>
            <a:off x="1619280" y="50385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东南亚地图（繁） 副本"/>
          <p:cNvPicPr/>
          <p:nvPr/>
        </p:nvPicPr>
        <p:blipFill>
          <a:blip r:embed="rId1"/>
          <a:stretch/>
        </p:blipFill>
        <p:spPr>
          <a:xfrm>
            <a:off x="2771640" y="1052640"/>
            <a:ext cx="6248520" cy="462276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4"/>
          <p:cNvGrpSpPr/>
          <p:nvPr/>
        </p:nvGrpSpPr>
        <p:grpSpPr>
          <a:xfrm>
            <a:off x="3995640" y="1773360"/>
            <a:ext cx="838080" cy="1342080"/>
            <a:chOff x="3995640" y="1773360"/>
            <a:chExt cx="838080" cy="1342080"/>
          </a:xfrm>
        </p:grpSpPr>
        <p:sp>
          <p:nvSpPr>
            <p:cNvPr id="251" name="Text Box 5"/>
            <p:cNvSpPr/>
            <p:nvPr/>
          </p:nvSpPr>
          <p:spPr>
            <a:xfrm>
              <a:off x="4376520" y="27781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"/>
            <p:cNvSpPr/>
            <p:nvPr/>
          </p:nvSpPr>
          <p:spPr>
            <a:xfrm>
              <a:off x="3995640" y="17733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1"/>
          <p:cNvGrpSpPr/>
          <p:nvPr/>
        </p:nvGrpSpPr>
        <p:grpSpPr>
          <a:xfrm>
            <a:off x="3419640" y="2133720"/>
            <a:ext cx="685800" cy="718200"/>
            <a:chOff x="3419640" y="2133720"/>
            <a:chExt cx="685800" cy="718200"/>
          </a:xfrm>
        </p:grpSpPr>
        <p:sp>
          <p:nvSpPr>
            <p:cNvPr id="254" name="Text Box 12"/>
            <p:cNvSpPr/>
            <p:nvPr/>
          </p:nvSpPr>
          <p:spPr>
            <a:xfrm>
              <a:off x="3648240" y="2514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3419640" y="2133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9"/>
          <p:cNvGrpSpPr/>
          <p:nvPr/>
        </p:nvGrpSpPr>
        <p:grpSpPr>
          <a:xfrm>
            <a:off x="2987640" y="1125360"/>
            <a:ext cx="5257800" cy="4252680"/>
            <a:chOff x="2987640" y="1125360"/>
            <a:chExt cx="5257800" cy="4252680"/>
          </a:xfrm>
        </p:grpSpPr>
        <p:sp>
          <p:nvSpPr>
            <p:cNvPr id="257" name="Text Box 3"/>
            <p:cNvSpPr/>
            <p:nvPr/>
          </p:nvSpPr>
          <p:spPr>
            <a:xfrm>
              <a:off x="3825720" y="11253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中　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7"/>
            <p:cNvGrpSpPr/>
            <p:nvPr/>
          </p:nvGrpSpPr>
          <p:grpSpPr>
            <a:xfrm>
              <a:off x="3695760" y="1857240"/>
              <a:ext cx="914400" cy="870480"/>
              <a:chOff x="3695760" y="1857240"/>
              <a:chExt cx="914400" cy="870480"/>
            </a:xfrm>
          </p:grpSpPr>
          <p:sp>
            <p:nvSpPr>
              <p:cNvPr id="259" name="Text Box 8"/>
              <p:cNvSpPr/>
              <p:nvPr/>
            </p:nvSpPr>
            <p:spPr>
              <a:xfrm>
                <a:off x="4152960" y="23904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9"/>
              <p:cNvSpPr/>
              <p:nvPr/>
            </p:nvSpPr>
            <p:spPr>
              <a:xfrm>
                <a:off x="3695760" y="185724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10"/>
            <p:cNvSpPr/>
            <p:nvPr/>
          </p:nvSpPr>
          <p:spPr>
            <a:xfrm>
              <a:off x="3840120" y="26478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柬埔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4"/>
            <p:cNvGrpSpPr/>
            <p:nvPr/>
          </p:nvGrpSpPr>
          <p:grpSpPr>
            <a:xfrm>
              <a:off x="2987640" y="1429920"/>
              <a:ext cx="533520" cy="946800"/>
              <a:chOff x="2987640" y="1429920"/>
              <a:chExt cx="533520" cy="946800"/>
            </a:xfrm>
          </p:grpSpPr>
          <p:sp>
            <p:nvSpPr>
              <p:cNvPr id="263" name="Text Box 15"/>
              <p:cNvSpPr/>
              <p:nvPr/>
            </p:nvSpPr>
            <p:spPr>
              <a:xfrm>
                <a:off x="3063960" y="14299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6"/>
              <p:cNvSpPr/>
              <p:nvPr/>
            </p:nvSpPr>
            <p:spPr>
              <a:xfrm>
                <a:off x="2987640" y="20394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17"/>
            <p:cNvSpPr/>
            <p:nvPr/>
          </p:nvSpPr>
          <p:spPr>
            <a:xfrm>
              <a:off x="3978360" y="402084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新加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8"/>
            <p:cNvGrpSpPr/>
            <p:nvPr/>
          </p:nvGrpSpPr>
          <p:grpSpPr>
            <a:xfrm>
              <a:off x="3521160" y="3411360"/>
              <a:ext cx="2057400" cy="794520"/>
              <a:chOff x="3521160" y="3411360"/>
              <a:chExt cx="2057400" cy="794520"/>
            </a:xfrm>
          </p:grpSpPr>
          <p:sp>
            <p:nvSpPr>
              <p:cNvPr id="267" name="Text Box 19"/>
              <p:cNvSpPr/>
              <p:nvPr/>
            </p:nvSpPr>
            <p:spPr>
              <a:xfrm>
                <a:off x="5045040" y="3760560"/>
                <a:ext cx="38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西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20"/>
              <p:cNvSpPr/>
              <p:nvPr/>
            </p:nvSpPr>
            <p:spPr>
              <a:xfrm>
                <a:off x="4816440" y="3792240"/>
                <a:ext cx="38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21"/>
              <p:cNvSpPr/>
              <p:nvPr/>
            </p:nvSpPr>
            <p:spPr>
              <a:xfrm>
                <a:off x="5273640" y="348768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22"/>
              <p:cNvSpPr/>
              <p:nvPr/>
            </p:nvSpPr>
            <p:spPr>
              <a:xfrm>
                <a:off x="4664160" y="386856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23"/>
              <p:cNvSpPr/>
              <p:nvPr/>
            </p:nvSpPr>
            <p:spPr>
              <a:xfrm>
                <a:off x="3826080" y="379224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24"/>
              <p:cNvSpPr/>
              <p:nvPr/>
            </p:nvSpPr>
            <p:spPr>
              <a:xfrm>
                <a:off x="3673440" y="3487680"/>
                <a:ext cx="38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25"/>
              <p:cNvSpPr/>
              <p:nvPr/>
            </p:nvSpPr>
            <p:spPr>
              <a:xfrm>
                <a:off x="3749760" y="363996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西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26"/>
              <p:cNvSpPr/>
              <p:nvPr/>
            </p:nvSpPr>
            <p:spPr>
              <a:xfrm>
                <a:off x="3521160" y="341136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27"/>
            <p:cNvSpPr/>
            <p:nvPr/>
          </p:nvSpPr>
          <p:spPr>
            <a:xfrm>
              <a:off x="3825720" y="4325760"/>
              <a:ext cx="441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印　　　度　　　尼　　　西　　　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8"/>
            <p:cNvSpPr/>
            <p:nvPr/>
          </p:nvSpPr>
          <p:spPr>
            <a:xfrm>
              <a:off x="5959440" y="2649240"/>
              <a:ext cx="304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菲律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29"/>
            <p:cNvGrpSpPr/>
            <p:nvPr/>
          </p:nvGrpSpPr>
          <p:grpSpPr>
            <a:xfrm>
              <a:off x="4968720" y="2928600"/>
              <a:ext cx="304920" cy="838080"/>
              <a:chOff x="4968720" y="2928600"/>
              <a:chExt cx="304920" cy="838080"/>
            </a:xfrm>
          </p:grpSpPr>
          <p:sp>
            <p:nvSpPr>
              <p:cNvPr id="278" name="Text Box 30"/>
              <p:cNvSpPr/>
              <p:nvPr/>
            </p:nvSpPr>
            <p:spPr>
              <a:xfrm>
                <a:off x="4968720" y="2928600"/>
                <a:ext cx="304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文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5197320" y="3462120"/>
                <a:ext cx="360" cy="304560"/>
                <a:chOff x="5197320" y="3462120"/>
                <a:chExt cx="360" cy="304560"/>
              </a:xfrm>
            </p:grpSpPr>
            <p:sp>
              <p:nvSpPr>
                <p:cNvPr id="280" name="Line 31"/>
                <p:cNvSpPr/>
                <p:nvPr/>
              </p:nvSpPr>
              <p:spPr>
                <a:xfrm>
                  <a:off x="5197320" y="3462120"/>
                  <a:ext cx="0" cy="304560"/>
                </a:xfrm>
                <a:prstGeom prst="line">
                  <a:avLst/>
                </a:prstGeom>
                <a:ln cap="sq" w="28440">
                  <a:solidFill>
                    <a:srgbClr val="808080"/>
                  </a:solidFill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 txBox="1"/>
                <p:nvPr/>
              </p:nvSpPr>
              <p:spPr>
                <a:xfrm>
                  <a:off x="5197320" y="34621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2" name="Text Box 32"/>
            <p:cNvSpPr/>
            <p:nvPr/>
          </p:nvSpPr>
          <p:spPr>
            <a:xfrm>
              <a:off x="6209280" y="5009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东帝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37"/>
          <p:cNvSpPr/>
          <p:nvPr/>
        </p:nvSpPr>
        <p:spPr>
          <a:xfrm>
            <a:off x="324000" y="189000"/>
            <a:ext cx="302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魏碑简体"/>
              </a:rPr>
              <a:t>东南亚的国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324000" y="7905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</a:rPr>
              <a:t>东南亚包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</a:rPr>
              <a:t>个国家，哪些是内陆国、临海国、岛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395280" y="27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内陆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老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2"/>
          <p:cNvSpPr/>
          <p:nvPr/>
        </p:nvSpPr>
        <p:spPr>
          <a:xfrm>
            <a:off x="395280" y="328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临海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柬埔寨 泰国  马来西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3"/>
          <p:cNvSpPr/>
          <p:nvPr/>
        </p:nvSpPr>
        <p:spPr>
          <a:xfrm>
            <a:off x="395280" y="41497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岛    国：印度尼西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4"/>
          <p:cNvSpPr/>
          <p:nvPr/>
        </p:nvSpPr>
        <p:spPr>
          <a:xfrm>
            <a:off x="6372360" y="112536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</a:rPr>
              <a:t>哪些国家和我国接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5"/>
          <p:cNvSpPr/>
          <p:nvPr/>
        </p:nvSpPr>
        <p:spPr>
          <a:xfrm>
            <a:off x="6767640" y="2133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越南，缅甸，老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6"/>
          <p:cNvSpPr/>
          <p:nvPr/>
        </p:nvSpPr>
        <p:spPr>
          <a:xfrm>
            <a:off x="395280" y="54450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与中国隔海相望的邻国 菲律宾、文莱、马来西亚及印度尼西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4248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99"/>
                </a:solidFill>
                <a:latin typeface="Arial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华文新魏"/>
              </a:rPr>
              <a:t>马六甲海峡的航线连接了哪些地区？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39640" y="4941720"/>
            <a:ext cx="8172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位于马来半岛和苏门答腊岛之间的马六甲海峡，是从欧洲、非洲向东航行到东南亚、东亚各港口最短航线的必经之地，是连接太平洋与印度洋的重要海上通道。</a:t>
            </a:r>
            <a:r>
              <a:rPr b="1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4716360" y="189000"/>
            <a:ext cx="1656000" cy="792000"/>
          </a:xfrm>
          <a:prstGeom prst="cloudCallout">
            <a:avLst>
              <a:gd name="adj1" fmla="val -79722"/>
              <a:gd name="adj2" fmla="val 60222"/>
            </a:avLst>
          </a:prstGeom>
          <a:solidFill>
            <a:srgbClr val="fff869"/>
          </a:solidFill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7"/>
          <p:cNvPicPr/>
          <p:nvPr/>
        </p:nvPicPr>
        <p:blipFill>
          <a:blip r:embed="rId1"/>
          <a:stretch/>
        </p:blipFill>
        <p:spPr>
          <a:xfrm>
            <a:off x="1187280" y="1125360"/>
            <a:ext cx="6228000" cy="400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7"/>
          <p:cNvPicPr/>
          <p:nvPr/>
        </p:nvPicPr>
        <p:blipFill>
          <a:blip r:embed="rId1"/>
          <a:stretch/>
        </p:blipFill>
        <p:spPr>
          <a:xfrm>
            <a:off x="250920" y="765000"/>
            <a:ext cx="8321760" cy="523584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5"/>
          <p:cNvSpPr/>
          <p:nvPr/>
        </p:nvSpPr>
        <p:spPr>
          <a:xfrm rot="20264400">
            <a:off x="3059280" y="2204640"/>
            <a:ext cx="91440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6105" y="4427"/>
                </a:lnTo>
                <a:lnTo>
                  <a:pt x="9354" y="4427"/>
                </a:lnTo>
                <a:lnTo>
                  <a:pt x="9354" y="9354"/>
                </a:lnTo>
                <a:lnTo>
                  <a:pt x="4427" y="9354"/>
                </a:lnTo>
                <a:lnTo>
                  <a:pt x="4427" y="6105"/>
                </a:lnTo>
                <a:lnTo>
                  <a:pt x="0" y="10800"/>
                </a:lnTo>
                <a:lnTo>
                  <a:pt x="4427" y="15495"/>
                </a:lnTo>
                <a:lnTo>
                  <a:pt x="4427" y="12246"/>
                </a:lnTo>
                <a:lnTo>
                  <a:pt x="9354" y="12246"/>
                </a:lnTo>
                <a:lnTo>
                  <a:pt x="9354" y="17173"/>
                </a:lnTo>
                <a:lnTo>
                  <a:pt x="6105" y="17173"/>
                </a:lnTo>
                <a:lnTo>
                  <a:pt x="10800" y="21600"/>
                </a:lnTo>
                <a:lnTo>
                  <a:pt x="15495" y="17173"/>
                </a:lnTo>
                <a:lnTo>
                  <a:pt x="12246" y="17173"/>
                </a:lnTo>
                <a:lnTo>
                  <a:pt x="12246" y="12246"/>
                </a:lnTo>
                <a:lnTo>
                  <a:pt x="17173" y="12246"/>
                </a:lnTo>
                <a:lnTo>
                  <a:pt x="17173" y="15495"/>
                </a:lnTo>
                <a:lnTo>
                  <a:pt x="21600" y="10800"/>
                </a:lnTo>
                <a:lnTo>
                  <a:pt x="17173" y="6105"/>
                </a:lnTo>
                <a:lnTo>
                  <a:pt x="17173" y="9354"/>
                </a:lnTo>
                <a:lnTo>
                  <a:pt x="12246" y="9354"/>
                </a:lnTo>
                <a:lnTo>
                  <a:pt x="12246" y="4427"/>
                </a:lnTo>
                <a:lnTo>
                  <a:pt x="15495" y="442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2771640" y="1628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亚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492360" y="3716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大洋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 rot="1786800">
            <a:off x="1978920" y="3357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印度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 rot="18996000">
            <a:off x="3924720" y="2420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太平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971640" y="566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东南亚地处亚洲与大洋洲、太平洋与印度洋之间的“十字路口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179280" y="11592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重要的交通位置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十字路口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1046244032079"/>
          <p:cNvPicPr/>
          <p:nvPr/>
        </p:nvPicPr>
        <p:blipFill>
          <a:blip r:embed="rId1"/>
          <a:stretch/>
        </p:blipFill>
        <p:spPr>
          <a:xfrm>
            <a:off x="2340000" y="836640"/>
            <a:ext cx="601344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539640" y="501336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马六甲海峡是中国去中东非洲欧洲的必经之路，所以战略价值对中国非常重要</a:t>
            </a:r>
            <a:r>
              <a:rPr b="0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!</a:t>
            </a: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马六甲海峡也是中国的生命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08000" y="1890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我国进口石油的线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 rot="1393800">
            <a:off x="3418920" y="213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伊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 rot="2931600">
            <a:off x="2556360" y="27759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沙特阿拉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1"/>
          <p:cNvSpPr/>
          <p:nvPr/>
        </p:nvSpPr>
        <p:spPr>
          <a:xfrm>
            <a:off x="3789360" y="2765520"/>
            <a:ext cx="3191040" cy="1380960"/>
          </a:xfrm>
          <a:custGeom>
            <a:avLst/>
            <a:gdLst/>
            <a:ahLst/>
            <a:rect l="l" t="t" r="r" b="b"/>
            <a:pathLst>
              <a:path w="2010" h="870">
                <a:moveTo>
                  <a:pt x="1978" y="146"/>
                </a:moveTo>
                <a:cubicBezTo>
                  <a:pt x="1976" y="194"/>
                  <a:pt x="1980" y="243"/>
                  <a:pt x="1971" y="291"/>
                </a:cubicBezTo>
                <a:cubicBezTo>
                  <a:pt x="1970" y="298"/>
                  <a:pt x="1955" y="293"/>
                  <a:pt x="1950" y="298"/>
                </a:cubicBezTo>
                <a:cubicBezTo>
                  <a:pt x="1945" y="303"/>
                  <a:pt x="1945" y="312"/>
                  <a:pt x="1943" y="319"/>
                </a:cubicBezTo>
                <a:cubicBezTo>
                  <a:pt x="1937" y="626"/>
                  <a:pt x="2010" y="619"/>
                  <a:pt x="1881" y="742"/>
                </a:cubicBezTo>
                <a:cubicBezTo>
                  <a:pt x="1876" y="756"/>
                  <a:pt x="1872" y="770"/>
                  <a:pt x="1867" y="784"/>
                </a:cubicBezTo>
                <a:cubicBezTo>
                  <a:pt x="1865" y="791"/>
                  <a:pt x="1853" y="789"/>
                  <a:pt x="1846" y="791"/>
                </a:cubicBezTo>
                <a:cubicBezTo>
                  <a:pt x="1808" y="801"/>
                  <a:pt x="1819" y="795"/>
                  <a:pt x="1784" y="805"/>
                </a:cubicBezTo>
                <a:cubicBezTo>
                  <a:pt x="1770" y="809"/>
                  <a:pt x="1742" y="819"/>
                  <a:pt x="1742" y="819"/>
                </a:cubicBezTo>
                <a:cubicBezTo>
                  <a:pt x="1722" y="839"/>
                  <a:pt x="1713" y="858"/>
                  <a:pt x="1687" y="867"/>
                </a:cubicBezTo>
                <a:cubicBezTo>
                  <a:pt x="1663" y="864"/>
                  <a:pt x="1634" y="870"/>
                  <a:pt x="1617" y="853"/>
                </a:cubicBezTo>
                <a:cubicBezTo>
                  <a:pt x="1579" y="817"/>
                  <a:pt x="1646" y="845"/>
                  <a:pt x="1589" y="826"/>
                </a:cubicBezTo>
                <a:cubicBezTo>
                  <a:pt x="1553" y="802"/>
                  <a:pt x="1544" y="784"/>
                  <a:pt x="1513" y="763"/>
                </a:cubicBezTo>
                <a:cubicBezTo>
                  <a:pt x="1506" y="741"/>
                  <a:pt x="1496" y="716"/>
                  <a:pt x="1472" y="708"/>
                </a:cubicBezTo>
                <a:cubicBezTo>
                  <a:pt x="1441" y="698"/>
                  <a:pt x="1417" y="706"/>
                  <a:pt x="1388" y="687"/>
                </a:cubicBezTo>
                <a:cubicBezTo>
                  <a:pt x="1374" y="678"/>
                  <a:pt x="1347" y="659"/>
                  <a:pt x="1347" y="659"/>
                </a:cubicBezTo>
                <a:cubicBezTo>
                  <a:pt x="1256" y="663"/>
                  <a:pt x="1191" y="659"/>
                  <a:pt x="1111" y="687"/>
                </a:cubicBezTo>
                <a:cubicBezTo>
                  <a:pt x="1081" y="732"/>
                  <a:pt x="1108" y="704"/>
                  <a:pt x="1013" y="715"/>
                </a:cubicBezTo>
                <a:cubicBezTo>
                  <a:pt x="987" y="718"/>
                  <a:pt x="962" y="728"/>
                  <a:pt x="937" y="735"/>
                </a:cubicBezTo>
                <a:cubicBezTo>
                  <a:pt x="902" y="733"/>
                  <a:pt x="867" y="734"/>
                  <a:pt x="833" y="729"/>
                </a:cubicBezTo>
                <a:cubicBezTo>
                  <a:pt x="778" y="722"/>
                  <a:pt x="734" y="683"/>
                  <a:pt x="687" y="659"/>
                </a:cubicBezTo>
                <a:cubicBezTo>
                  <a:pt x="619" y="625"/>
                  <a:pt x="734" y="668"/>
                  <a:pt x="625" y="631"/>
                </a:cubicBezTo>
                <a:cubicBezTo>
                  <a:pt x="609" y="626"/>
                  <a:pt x="583" y="604"/>
                  <a:pt x="583" y="604"/>
                </a:cubicBezTo>
                <a:cubicBezTo>
                  <a:pt x="550" y="555"/>
                  <a:pt x="569" y="572"/>
                  <a:pt x="535" y="548"/>
                </a:cubicBezTo>
                <a:cubicBezTo>
                  <a:pt x="513" y="515"/>
                  <a:pt x="503" y="493"/>
                  <a:pt x="472" y="472"/>
                </a:cubicBezTo>
                <a:cubicBezTo>
                  <a:pt x="467" y="465"/>
                  <a:pt x="464" y="457"/>
                  <a:pt x="458" y="451"/>
                </a:cubicBezTo>
                <a:cubicBezTo>
                  <a:pt x="452" y="445"/>
                  <a:pt x="442" y="444"/>
                  <a:pt x="437" y="437"/>
                </a:cubicBezTo>
                <a:cubicBezTo>
                  <a:pt x="428" y="425"/>
                  <a:pt x="431" y="408"/>
                  <a:pt x="424" y="395"/>
                </a:cubicBezTo>
                <a:cubicBezTo>
                  <a:pt x="397" y="347"/>
                  <a:pt x="371" y="295"/>
                  <a:pt x="340" y="250"/>
                </a:cubicBezTo>
                <a:cubicBezTo>
                  <a:pt x="338" y="248"/>
                  <a:pt x="284" y="224"/>
                  <a:pt x="278" y="222"/>
                </a:cubicBezTo>
                <a:cubicBezTo>
                  <a:pt x="273" y="215"/>
                  <a:pt x="270" y="207"/>
                  <a:pt x="264" y="201"/>
                </a:cubicBezTo>
                <a:cubicBezTo>
                  <a:pt x="258" y="195"/>
                  <a:pt x="249" y="193"/>
                  <a:pt x="243" y="187"/>
                </a:cubicBezTo>
                <a:cubicBezTo>
                  <a:pt x="197" y="135"/>
                  <a:pt x="237" y="154"/>
                  <a:pt x="195" y="139"/>
                </a:cubicBezTo>
                <a:cubicBezTo>
                  <a:pt x="193" y="132"/>
                  <a:pt x="192" y="124"/>
                  <a:pt x="188" y="118"/>
                </a:cubicBezTo>
                <a:cubicBezTo>
                  <a:pt x="180" y="103"/>
                  <a:pt x="176" y="80"/>
                  <a:pt x="160" y="76"/>
                </a:cubicBezTo>
                <a:cubicBezTo>
                  <a:pt x="132" y="69"/>
                  <a:pt x="114" y="64"/>
                  <a:pt x="90" y="48"/>
                </a:cubicBezTo>
                <a:cubicBezTo>
                  <a:pt x="67" y="13"/>
                  <a:pt x="34" y="17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108000" y="981000"/>
            <a:ext cx="2592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我国进口石油的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60%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来自中东地区的沙特，科威特和伊朗这三家，运输都是走水路，出波斯湾经阿拉伯海和印度洋走马六甲海峡进入南中国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4"/>
          <p:cNvSpPr/>
          <p:nvPr/>
        </p:nvSpPr>
        <p:spPr>
          <a:xfrm>
            <a:off x="4788000" y="4149720"/>
            <a:ext cx="1439640" cy="433440"/>
          </a:xfrm>
          <a:prstGeom prst="wedgeRoundRectCallout">
            <a:avLst>
              <a:gd name="adj1" fmla="val 55291"/>
              <a:gd name="adj2" fmla="val -73444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马六甲海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613200" y="0"/>
            <a:ext cx="253044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79280" y="333360"/>
            <a:ext cx="784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日本人为什么把马六甲海峡称为“海上生命线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4822920" y="1052640"/>
            <a:ext cx="4321080" cy="3624120"/>
            <a:chOff x="4822920" y="1052640"/>
            <a:chExt cx="4321080" cy="3624120"/>
          </a:xfrm>
        </p:grpSpPr>
        <p:pic>
          <p:nvPicPr>
            <p:cNvPr id="314" name="Picture 5" descr="东南亚"/>
            <p:cNvPicPr/>
            <p:nvPr/>
          </p:nvPicPr>
          <p:blipFill>
            <a:blip r:embed="rId1"/>
            <a:stretch/>
          </p:blipFill>
          <p:spPr>
            <a:xfrm>
              <a:off x="4822920" y="1052640"/>
              <a:ext cx="4321080" cy="36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6"/>
            <p:cNvSpPr/>
            <p:nvPr/>
          </p:nvSpPr>
          <p:spPr>
            <a:xfrm rot="1712400">
              <a:off x="6351120" y="2274480"/>
              <a:ext cx="378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66"/>
                  </a:solidFill>
                  <a:latin typeface="Arial"/>
                  <a:ea typeface="宋体"/>
                </a:rPr>
                <a:t>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66"/>
                  </a:solidFill>
                  <a:latin typeface="Arial"/>
                  <a:ea typeface="宋体"/>
                </a:rPr>
                <a:t>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66"/>
                  </a:solidFill>
                  <a:latin typeface="Arial"/>
                  <a:ea typeface="宋体"/>
                </a:rPr>
                <a:t>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66"/>
                  </a:solidFill>
                  <a:latin typeface="Arial"/>
                  <a:ea typeface="宋体"/>
                </a:rPr>
                <a:t>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66"/>
                  </a:solidFill>
                  <a:latin typeface="Arial"/>
                  <a:ea typeface="宋体"/>
                </a:rPr>
                <a:t>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5800680" y="3413520"/>
              <a:ext cx="444960" cy="244440"/>
            </a:xfrm>
            <a:custGeom>
              <a:avLst/>
              <a:gdLst/>
              <a:ahLst/>
              <a:rect l="l" t="t" r="r" b="b"/>
              <a:pathLst>
                <a:path w="287" h="160">
                  <a:moveTo>
                    <a:pt x="0" y="120"/>
                  </a:moveTo>
                  <a:cubicBezTo>
                    <a:pt x="26" y="123"/>
                    <a:pt x="109" y="160"/>
                    <a:pt x="157" y="140"/>
                  </a:cubicBezTo>
                  <a:cubicBezTo>
                    <a:pt x="259" y="112"/>
                    <a:pt x="260" y="29"/>
                    <a:pt x="287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8"/>
          <p:cNvSpPr/>
          <p:nvPr/>
        </p:nvSpPr>
        <p:spPr>
          <a:xfrm>
            <a:off x="539640" y="53060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提示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日本每年从非洲和中东地区进口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石油、大量原料和出口商品都由此输送，因此马六甲海峡又被视为日本的“海上生命线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9"/>
          <p:cNvGrpSpPr/>
          <p:nvPr/>
        </p:nvGrpSpPr>
        <p:grpSpPr>
          <a:xfrm>
            <a:off x="0" y="981000"/>
            <a:ext cx="4952880" cy="3689280"/>
            <a:chOff x="0" y="981000"/>
            <a:chExt cx="4952880" cy="3689280"/>
          </a:xfrm>
        </p:grpSpPr>
        <p:pic>
          <p:nvPicPr>
            <p:cNvPr id="319" name="Picture 10" descr="马六甲海峡"/>
            <p:cNvPicPr/>
            <p:nvPr/>
          </p:nvPicPr>
          <p:blipFill>
            <a:blip r:embed="rId2"/>
            <a:stretch/>
          </p:blipFill>
          <p:spPr>
            <a:xfrm>
              <a:off x="0" y="981000"/>
              <a:ext cx="495288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11"/>
            <p:cNvSpPr/>
            <p:nvPr/>
          </p:nvSpPr>
          <p:spPr>
            <a:xfrm>
              <a:off x="755640" y="4149720"/>
              <a:ext cx="3529080" cy="5205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马六甲海峡的航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763640" y="75240"/>
            <a:ext cx="502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  <a:ea typeface="楷体_GB2312"/>
              </a:rPr>
              <a:t>热带气候为主的地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1476360" y="981000"/>
            <a:ext cx="6553080" cy="4622760"/>
            <a:chOff x="1476360" y="981000"/>
            <a:chExt cx="6553080" cy="4622760"/>
          </a:xfrm>
        </p:grpSpPr>
        <p:grpSp>
          <p:nvGrpSpPr>
            <p:cNvPr id="323" name="Group 4"/>
            <p:cNvGrpSpPr/>
            <p:nvPr/>
          </p:nvGrpSpPr>
          <p:grpSpPr>
            <a:xfrm>
              <a:off x="1476360" y="981000"/>
              <a:ext cx="6553080" cy="4622760"/>
              <a:chOff x="1476360" y="981000"/>
              <a:chExt cx="6553080" cy="4622760"/>
            </a:xfrm>
          </p:grpSpPr>
          <p:pic>
            <p:nvPicPr>
              <p:cNvPr id="324" name="Picture 5" descr="东南亚地图（繁） 副本"/>
              <p:cNvPicPr/>
              <p:nvPr/>
            </p:nvPicPr>
            <p:blipFill>
              <a:blip r:embed="rId1"/>
              <a:stretch/>
            </p:blipFill>
            <p:spPr>
              <a:xfrm>
                <a:off x="1533600" y="981000"/>
                <a:ext cx="6248160" cy="4622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5" name="Group 6"/>
              <p:cNvGrpSpPr/>
              <p:nvPr/>
            </p:nvGrpSpPr>
            <p:grpSpPr>
              <a:xfrm>
                <a:off x="1476360" y="1263600"/>
                <a:ext cx="6553080" cy="4331520"/>
                <a:chOff x="1476360" y="1263600"/>
                <a:chExt cx="6553080" cy="433152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1552680" y="1616040"/>
                  <a:ext cx="6172200" cy="360"/>
                  <a:chOff x="1552680" y="1616040"/>
                  <a:chExt cx="6172200" cy="360"/>
                </a:xfrm>
              </p:grpSpPr>
              <p:sp>
                <p:nvSpPr>
                  <p:cNvPr id="327" name="Line 7"/>
                  <p:cNvSpPr/>
                  <p:nvPr/>
                </p:nvSpPr>
                <p:spPr>
                  <a:xfrm>
                    <a:off x="1552680" y="1616040"/>
                    <a:ext cx="617220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 txBox="1"/>
                  <p:nvPr/>
                </p:nvSpPr>
                <p:spPr>
                  <a:xfrm>
                    <a:off x="1552680" y="1616040"/>
                    <a:ext cx="6172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1476360" y="5283360"/>
                  <a:ext cx="6324480" cy="360"/>
                  <a:chOff x="1476360" y="5283360"/>
                  <a:chExt cx="6324480" cy="360"/>
                </a:xfrm>
              </p:grpSpPr>
              <p:sp>
                <p:nvSpPr>
                  <p:cNvPr id="330" name="Line 8"/>
                  <p:cNvSpPr/>
                  <p:nvPr/>
                </p:nvSpPr>
                <p:spPr>
                  <a:xfrm>
                    <a:off x="1476360" y="5283360"/>
                    <a:ext cx="6324480" cy="0"/>
                  </a:xfrm>
                  <a:prstGeom prst="line">
                    <a:avLst/>
                  </a:prstGeom>
                  <a:ln cap="sq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 txBox="1"/>
                  <p:nvPr/>
                </p:nvSpPr>
                <p:spPr>
                  <a:xfrm>
                    <a:off x="1476360" y="5283360"/>
                    <a:ext cx="6324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Text Box 9"/>
                <p:cNvSpPr/>
                <p:nvPr/>
              </p:nvSpPr>
              <p:spPr>
                <a:xfrm>
                  <a:off x="5743440" y="1263600"/>
                  <a:ext cx="1981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北回归线（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23.5°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）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1628640" y="4280040"/>
                  <a:ext cx="6172200" cy="360"/>
                  <a:chOff x="1628640" y="4280040"/>
                  <a:chExt cx="6172200" cy="360"/>
                </a:xfrm>
              </p:grpSpPr>
              <p:sp>
                <p:nvSpPr>
                  <p:cNvPr id="334" name="Line 10"/>
                  <p:cNvSpPr/>
                  <p:nvPr/>
                </p:nvSpPr>
                <p:spPr>
                  <a:xfrm>
                    <a:off x="1628640" y="4280040"/>
                    <a:ext cx="6172200" cy="0"/>
                  </a:xfrm>
                  <a:prstGeom prst="line">
                    <a:avLst/>
                  </a:prstGeom>
                  <a:ln cap="sq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 txBox="1"/>
                  <p:nvPr/>
                </p:nvSpPr>
                <p:spPr>
                  <a:xfrm>
                    <a:off x="1628640" y="4280040"/>
                    <a:ext cx="6172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Text Box 11"/>
                <p:cNvSpPr/>
                <p:nvPr/>
              </p:nvSpPr>
              <p:spPr>
                <a:xfrm>
                  <a:off x="6734160" y="3930480"/>
                  <a:ext cx="1295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赤道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0°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7115040" y="525780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0°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Text Box 13"/>
            <p:cNvSpPr/>
            <p:nvPr/>
          </p:nvSpPr>
          <p:spPr>
            <a:xfrm rot="20106600">
              <a:off x="2111760" y="4043160"/>
              <a:ext cx="33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4"/>
            <p:cNvSpPr/>
            <p:nvPr/>
          </p:nvSpPr>
          <p:spPr>
            <a:xfrm rot="19832400">
              <a:off x="5498640" y="2386080"/>
              <a:ext cx="33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5"/>
            <p:cNvSpPr/>
            <p:nvPr/>
          </p:nvSpPr>
          <p:spPr>
            <a:xfrm>
              <a:off x="3020400" y="1100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亚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 rot="1527600">
              <a:off x="6816240" y="47178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大洋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50920" y="537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东南亚大部分位于北回归线与南纬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度之间，地处热带，深受海洋影响；终年高温，降水丰沛，森林茂密。根据各地降水量的不同，分为热带雨林气候和热带季风气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3631320" y="1890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二、热带气候与农业生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1763640" y="75240"/>
            <a:ext cx="502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  <a:ea typeface="楷体_GB2312"/>
              </a:rPr>
              <a:t>热带气候为主的地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1332000" y="404640"/>
            <a:ext cx="6553080" cy="4622760"/>
            <a:chOff x="1332000" y="404640"/>
            <a:chExt cx="6553080" cy="4622760"/>
          </a:xfrm>
        </p:grpSpPr>
        <p:grpSp>
          <p:nvGrpSpPr>
            <p:cNvPr id="346" name="Group 4"/>
            <p:cNvGrpSpPr/>
            <p:nvPr/>
          </p:nvGrpSpPr>
          <p:grpSpPr>
            <a:xfrm>
              <a:off x="1332000" y="404640"/>
              <a:ext cx="6553080" cy="4622760"/>
              <a:chOff x="1332000" y="404640"/>
              <a:chExt cx="6553080" cy="4622760"/>
            </a:xfrm>
          </p:grpSpPr>
          <p:pic>
            <p:nvPicPr>
              <p:cNvPr id="347" name="Picture 5" descr="东南亚地图（繁） 副本"/>
              <p:cNvPicPr/>
              <p:nvPr/>
            </p:nvPicPr>
            <p:blipFill>
              <a:blip r:embed="rId1"/>
              <a:stretch/>
            </p:blipFill>
            <p:spPr>
              <a:xfrm>
                <a:off x="1389240" y="404640"/>
                <a:ext cx="6248160" cy="4622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8" name="Group 6"/>
              <p:cNvGrpSpPr/>
              <p:nvPr/>
            </p:nvGrpSpPr>
            <p:grpSpPr>
              <a:xfrm>
                <a:off x="1332000" y="687240"/>
                <a:ext cx="6553080" cy="4331520"/>
                <a:chOff x="1332000" y="687240"/>
                <a:chExt cx="6553080" cy="433152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1408320" y="1039680"/>
                  <a:ext cx="6172200" cy="360"/>
                  <a:chOff x="1408320" y="1039680"/>
                  <a:chExt cx="6172200" cy="360"/>
                </a:xfrm>
              </p:grpSpPr>
              <p:sp>
                <p:nvSpPr>
                  <p:cNvPr id="350" name="Line 7"/>
                  <p:cNvSpPr/>
                  <p:nvPr/>
                </p:nvSpPr>
                <p:spPr>
                  <a:xfrm>
                    <a:off x="1408320" y="1039680"/>
                    <a:ext cx="617220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 txBox="1"/>
                  <p:nvPr/>
                </p:nvSpPr>
                <p:spPr>
                  <a:xfrm>
                    <a:off x="1408320" y="1039680"/>
                    <a:ext cx="6172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1332000" y="4707000"/>
                  <a:ext cx="6324480" cy="360"/>
                  <a:chOff x="1332000" y="4707000"/>
                  <a:chExt cx="6324480" cy="360"/>
                </a:xfrm>
              </p:grpSpPr>
              <p:sp>
                <p:nvSpPr>
                  <p:cNvPr id="353" name="Line 8"/>
                  <p:cNvSpPr/>
                  <p:nvPr/>
                </p:nvSpPr>
                <p:spPr>
                  <a:xfrm>
                    <a:off x="1332000" y="4707000"/>
                    <a:ext cx="6324480" cy="0"/>
                  </a:xfrm>
                  <a:prstGeom prst="line">
                    <a:avLst/>
                  </a:prstGeom>
                  <a:ln cap="sq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 txBox="1"/>
                  <p:nvPr/>
                </p:nvSpPr>
                <p:spPr>
                  <a:xfrm>
                    <a:off x="1332000" y="4707000"/>
                    <a:ext cx="6324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5" name="Text Box 9"/>
                <p:cNvSpPr/>
                <p:nvPr/>
              </p:nvSpPr>
              <p:spPr>
                <a:xfrm>
                  <a:off x="5599080" y="687240"/>
                  <a:ext cx="1981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北回归线（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23.5°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）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1484280" y="3703680"/>
                  <a:ext cx="6172200" cy="360"/>
                  <a:chOff x="1484280" y="3703680"/>
                  <a:chExt cx="6172200" cy="360"/>
                </a:xfrm>
              </p:grpSpPr>
              <p:sp>
                <p:nvSpPr>
                  <p:cNvPr id="357" name="Line 10"/>
                  <p:cNvSpPr/>
                  <p:nvPr/>
                </p:nvSpPr>
                <p:spPr>
                  <a:xfrm>
                    <a:off x="1484280" y="3703680"/>
                    <a:ext cx="6172200" cy="0"/>
                  </a:xfrm>
                  <a:prstGeom prst="line">
                    <a:avLst/>
                  </a:prstGeom>
                  <a:ln cap="sq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 txBox="1"/>
                  <p:nvPr/>
                </p:nvSpPr>
                <p:spPr>
                  <a:xfrm>
                    <a:off x="1484280" y="3703680"/>
                    <a:ext cx="6172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9" name="Text Box 11"/>
                <p:cNvSpPr/>
                <p:nvPr/>
              </p:nvSpPr>
              <p:spPr>
                <a:xfrm>
                  <a:off x="6589800" y="3354120"/>
                  <a:ext cx="1295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赤道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0°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Text Box 12"/>
                <p:cNvSpPr/>
                <p:nvPr/>
              </p:nvSpPr>
              <p:spPr>
                <a:xfrm>
                  <a:off x="6970680" y="468144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0°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Text Box 13"/>
            <p:cNvSpPr/>
            <p:nvPr/>
          </p:nvSpPr>
          <p:spPr>
            <a:xfrm rot="20106600">
              <a:off x="1967400" y="3466800"/>
              <a:ext cx="33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"/>
            <p:cNvSpPr/>
            <p:nvPr/>
          </p:nvSpPr>
          <p:spPr>
            <a:xfrm rot="19832400">
              <a:off x="5354280" y="1809720"/>
              <a:ext cx="33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2874600" y="5238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亚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 rot="1527600">
              <a:off x="6669360" y="4141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大洋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18"/>
          <p:cNvSpPr/>
          <p:nvPr/>
        </p:nvSpPr>
        <p:spPr>
          <a:xfrm>
            <a:off x="468360" y="5013360"/>
            <a:ext cx="7920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马来半岛和马来群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大部分属于热带雨林气候。森林茂密。农作物随时可播种，四季都可收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1"/>
          <p:cNvSpPr/>
          <p:nvPr/>
        </p:nvSpPr>
        <p:spPr>
          <a:xfrm rot="3228600">
            <a:off x="1667520" y="27313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马来半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2340000" y="3716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马         来           群          岛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763640" y="75240"/>
            <a:ext cx="502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  <a:ea typeface="楷体_GB2312"/>
              </a:rPr>
              <a:t>热带气候为主的地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1258920" y="692280"/>
            <a:ext cx="6553080" cy="4622760"/>
            <a:chOff x="1258920" y="692280"/>
            <a:chExt cx="6553080" cy="4622760"/>
          </a:xfrm>
        </p:grpSpPr>
        <p:grpSp>
          <p:nvGrpSpPr>
            <p:cNvPr id="370" name="Group 4"/>
            <p:cNvGrpSpPr/>
            <p:nvPr/>
          </p:nvGrpSpPr>
          <p:grpSpPr>
            <a:xfrm>
              <a:off x="1258920" y="692280"/>
              <a:ext cx="6553080" cy="4622760"/>
              <a:chOff x="1258920" y="692280"/>
              <a:chExt cx="6553080" cy="4622760"/>
            </a:xfrm>
          </p:grpSpPr>
          <p:pic>
            <p:nvPicPr>
              <p:cNvPr id="371" name="Picture 5" descr="东南亚地图（繁） 副本"/>
              <p:cNvPicPr/>
              <p:nvPr/>
            </p:nvPicPr>
            <p:blipFill>
              <a:blip r:embed="rId1"/>
              <a:stretch/>
            </p:blipFill>
            <p:spPr>
              <a:xfrm>
                <a:off x="1316160" y="692280"/>
                <a:ext cx="6248160" cy="4622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2" name="Group 6"/>
              <p:cNvGrpSpPr/>
              <p:nvPr/>
            </p:nvGrpSpPr>
            <p:grpSpPr>
              <a:xfrm>
                <a:off x="1258920" y="974880"/>
                <a:ext cx="6553080" cy="4331520"/>
                <a:chOff x="1258920" y="974880"/>
                <a:chExt cx="6553080" cy="433152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1335240" y="1327320"/>
                  <a:ext cx="6172200" cy="360"/>
                  <a:chOff x="1335240" y="1327320"/>
                  <a:chExt cx="6172200" cy="360"/>
                </a:xfrm>
              </p:grpSpPr>
              <p:sp>
                <p:nvSpPr>
                  <p:cNvPr id="374" name="Line 7"/>
                  <p:cNvSpPr/>
                  <p:nvPr/>
                </p:nvSpPr>
                <p:spPr>
                  <a:xfrm>
                    <a:off x="1335240" y="1327320"/>
                    <a:ext cx="617220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 txBox="1"/>
                  <p:nvPr/>
                </p:nvSpPr>
                <p:spPr>
                  <a:xfrm>
                    <a:off x="1335240" y="1327320"/>
                    <a:ext cx="6172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1258920" y="4994640"/>
                  <a:ext cx="6324480" cy="360"/>
                  <a:chOff x="1258920" y="4994640"/>
                  <a:chExt cx="6324480" cy="360"/>
                </a:xfrm>
              </p:grpSpPr>
              <p:sp>
                <p:nvSpPr>
                  <p:cNvPr id="377" name="Line 8"/>
                  <p:cNvSpPr/>
                  <p:nvPr/>
                </p:nvSpPr>
                <p:spPr>
                  <a:xfrm>
                    <a:off x="1258920" y="4994640"/>
                    <a:ext cx="6324480" cy="0"/>
                  </a:xfrm>
                  <a:prstGeom prst="line">
                    <a:avLst/>
                  </a:prstGeom>
                  <a:ln cap="sq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 txBox="1"/>
                  <p:nvPr/>
                </p:nvSpPr>
                <p:spPr>
                  <a:xfrm>
                    <a:off x="1258920" y="4994640"/>
                    <a:ext cx="6324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" name="Text Box 9"/>
                <p:cNvSpPr/>
                <p:nvPr/>
              </p:nvSpPr>
              <p:spPr>
                <a:xfrm>
                  <a:off x="5526000" y="974880"/>
                  <a:ext cx="1981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北回归线（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23.5°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）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1411200" y="3991320"/>
                  <a:ext cx="6172200" cy="360"/>
                  <a:chOff x="1411200" y="3991320"/>
                  <a:chExt cx="6172200" cy="360"/>
                </a:xfrm>
              </p:grpSpPr>
              <p:sp>
                <p:nvSpPr>
                  <p:cNvPr id="381" name="Line 10"/>
                  <p:cNvSpPr/>
                  <p:nvPr/>
                </p:nvSpPr>
                <p:spPr>
                  <a:xfrm>
                    <a:off x="1411200" y="3991320"/>
                    <a:ext cx="6172200" cy="0"/>
                  </a:xfrm>
                  <a:prstGeom prst="line">
                    <a:avLst/>
                  </a:prstGeom>
                  <a:ln cap="sq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 txBox="1"/>
                  <p:nvPr/>
                </p:nvSpPr>
                <p:spPr>
                  <a:xfrm>
                    <a:off x="1411200" y="3991320"/>
                    <a:ext cx="6172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" name="Text Box 11"/>
                <p:cNvSpPr/>
                <p:nvPr/>
              </p:nvSpPr>
              <p:spPr>
                <a:xfrm>
                  <a:off x="6516720" y="3641760"/>
                  <a:ext cx="1295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赤道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0°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12"/>
                <p:cNvSpPr/>
                <p:nvPr/>
              </p:nvSpPr>
              <p:spPr>
                <a:xfrm>
                  <a:off x="6897600" y="496908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0°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13"/>
            <p:cNvSpPr/>
            <p:nvPr/>
          </p:nvSpPr>
          <p:spPr>
            <a:xfrm rot="20106600">
              <a:off x="1894320" y="3754440"/>
              <a:ext cx="33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4"/>
            <p:cNvSpPr/>
            <p:nvPr/>
          </p:nvSpPr>
          <p:spPr>
            <a:xfrm rot="19832400">
              <a:off x="5281200" y="2097360"/>
              <a:ext cx="33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5"/>
            <p:cNvSpPr/>
            <p:nvPr/>
          </p:nvSpPr>
          <p:spPr>
            <a:xfrm>
              <a:off x="2802960" y="811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亚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"/>
            <p:cNvSpPr/>
            <p:nvPr/>
          </p:nvSpPr>
          <p:spPr>
            <a:xfrm rot="1527600">
              <a:off x="6598800" y="44290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大洋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9"/>
          <p:cNvSpPr/>
          <p:nvPr/>
        </p:nvSpPr>
        <p:spPr>
          <a:xfrm>
            <a:off x="468360" y="5445000"/>
            <a:ext cx="8496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中南半岛和菲律宾群岛北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属于热带季风气候，农作物多在雨季播种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旱季收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 rot="2446200">
            <a:off x="1546560" y="1844280"/>
            <a:ext cx="18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南半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3"/>
          <p:cNvSpPr/>
          <p:nvPr/>
        </p:nvSpPr>
        <p:spPr>
          <a:xfrm rot="3300600">
            <a:off x="4321080" y="2544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菲律宾群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6227640" y="319428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隶书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东南亚人口稠密，耕地较少，因此开垦梯田就成了必然的选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②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东南亚山水相间，这是开垦梯田的必然选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1619280" y="404640"/>
            <a:ext cx="287640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东南亚的梯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梯田"/>
          <p:cNvPicPr/>
          <p:nvPr/>
        </p:nvPicPr>
        <p:blipFill>
          <a:blip r:embed="rId1"/>
          <a:stretch/>
        </p:blipFill>
        <p:spPr>
          <a:xfrm>
            <a:off x="407880" y="1036800"/>
            <a:ext cx="5832720" cy="5405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303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0066"/>
                </a:solidFill>
                <a:latin typeface="Arial"/>
                <a:ea typeface="隶书"/>
              </a:rPr>
              <a:t>识记基础知识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1170000"/>
            <a:ext cx="822960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．东南亚包括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和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两大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．东南亚是世界上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、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、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和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的最大产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．东南亚地处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洲与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洲、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洋与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洋之间的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十字路口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．位于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半岛和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岛之间的马六甲海峡，是从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洲、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洲向东航行到东南亚、东亚各港口最短航线的必经之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．东南亚地区的主要气候类型有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和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．东南亚的国家中，与我国隔海相望的有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、  和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华文新魏"/>
                <a:ea typeface="华文新魏"/>
              </a:rPr>
              <a:t>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67280" y="4941720"/>
            <a:ext cx="1657440" cy="360"/>
            <a:chOff x="5867280" y="4941720"/>
            <a:chExt cx="1657440" cy="360"/>
          </a:xfrm>
        </p:grpSpPr>
        <p:sp>
          <p:nvSpPr>
            <p:cNvPr id="204" name="Line 4"/>
            <p:cNvSpPr/>
            <p:nvPr/>
          </p:nvSpPr>
          <p:spPr>
            <a:xfrm>
              <a:off x="5867280" y="494172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867280" y="4941720"/>
              <a:ext cx="165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卡通 思考"/>
          <p:cNvPicPr/>
          <p:nvPr/>
        </p:nvPicPr>
        <p:blipFill>
          <a:blip r:embed="rId1"/>
          <a:stretch/>
        </p:blipFill>
        <p:spPr>
          <a:xfrm>
            <a:off x="5219640" y="404640"/>
            <a:ext cx="1127160" cy="137808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3"/>
          <p:cNvSpPr/>
          <p:nvPr/>
        </p:nvSpPr>
        <p:spPr>
          <a:xfrm>
            <a:off x="7093080" y="189000"/>
            <a:ext cx="1834920" cy="1052280"/>
          </a:xfrm>
          <a:prstGeom prst="cloudCallout">
            <a:avLst>
              <a:gd name="adj1" fmla="val -63666"/>
              <a:gd name="adj2" fmla="val 119833"/>
            </a:avLst>
          </a:prstGeom>
          <a:solidFill>
            <a:srgbClr val="fff869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796000" y="191628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东南亚居民为什么喜欢吃米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539640" y="4505400"/>
            <a:ext cx="86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气候、水稻和热带经济作物的生长习性、人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粮食的需求、种植业发展历史等多方面的条件，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了东南亚以水稻和热带经济作物种植为主的农业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②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将水稻作为主要的粮食作物是必然的选择。</a:t>
            </a: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684360" y="404640"/>
            <a:ext cx="384156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东南业居民喜食米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7"/>
          <p:cNvPicPr/>
          <p:nvPr/>
        </p:nvPicPr>
        <p:blipFill>
          <a:blip r:embed="rId2"/>
          <a:stretch/>
        </p:blipFill>
        <p:spPr>
          <a:xfrm>
            <a:off x="684360" y="1125360"/>
            <a:ext cx="5111640" cy="3186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图片1121212"/>
          <p:cNvPicPr/>
          <p:nvPr/>
        </p:nvPicPr>
        <p:blipFill>
          <a:blip r:embed="rId1"/>
          <a:stretch/>
        </p:blipFill>
        <p:spPr>
          <a:xfrm>
            <a:off x="-47520" y="-47520"/>
            <a:ext cx="9240840" cy="69548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3859560" y="260280"/>
            <a:ext cx="1793160" cy="87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泰国、缅甸、越南是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界重要的</a:t>
            </a:r>
            <a:r>
              <a:rPr b="0" lang="zh-CN" sz="2400" spc="-1" strike="noStrike" u="sng">
                <a:solidFill>
                  <a:srgbClr val="7e9ce8"/>
                </a:solidFill>
                <a:uFillTx/>
                <a:latin typeface="Arial"/>
                <a:ea typeface="隶书"/>
                <a:hlinkClick r:id="rId2"/>
              </a:rPr>
              <a:t>稻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出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4204080" y="1911240"/>
            <a:ext cx="1643760" cy="87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泰国是世界最大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e9ce8"/>
                </a:solidFill>
                <a:uFillTx/>
                <a:latin typeface="Arial"/>
                <a:ea typeface="隶书"/>
                <a:hlinkClick r:id="rId3"/>
              </a:rPr>
              <a:t>橡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生产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0" y="5799240"/>
            <a:ext cx="3276720" cy="87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马来西亚是世界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的</a:t>
            </a:r>
            <a:r>
              <a:rPr b="0" lang="zh-CN" sz="2400" spc="-1" strike="noStrike" u="sng">
                <a:solidFill>
                  <a:srgbClr val="7e9ce8"/>
                </a:solidFill>
                <a:uFillTx/>
                <a:latin typeface="Arial"/>
                <a:ea typeface="隶书"/>
                <a:hlinkClick r:id="rId4"/>
              </a:rPr>
              <a:t>棕榈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生产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7288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7359480" y="2565360"/>
            <a:ext cx="1795680" cy="87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菲律宾是世界最大的</a:t>
            </a:r>
            <a:r>
              <a:rPr b="0" lang="zh-CN" sz="2400" spc="-1" strike="noStrike" u="sng">
                <a:solidFill>
                  <a:srgbClr val="7e9ce8"/>
                </a:solidFill>
                <a:uFillTx/>
                <a:latin typeface="Arial"/>
                <a:ea typeface="隶书"/>
                <a:hlinkClick r:id="rId5"/>
              </a:rPr>
              <a:t>蕉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生产国和椰子出口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6804000" y="5445000"/>
            <a:ext cx="2062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印度尼西亚是世界最大的椰子生产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116000" y="620640"/>
            <a:ext cx="2016000" cy="287280"/>
            <a:chOff x="1116000" y="620640"/>
            <a:chExt cx="2016000" cy="287280"/>
          </a:xfrm>
        </p:grpSpPr>
        <p:sp>
          <p:nvSpPr>
            <p:cNvPr id="409" name="Line 9"/>
            <p:cNvSpPr/>
            <p:nvPr/>
          </p:nvSpPr>
          <p:spPr>
            <a:xfrm flipV="1">
              <a:off x="1116000" y="620640"/>
              <a:ext cx="2016000" cy="287280"/>
            </a:xfrm>
            <a:prstGeom prst="line">
              <a:avLst/>
            </a:prstGeom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 rot="10800000">
              <a:off x="1116000" y="620280"/>
              <a:ext cx="20160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908000" y="620640"/>
            <a:ext cx="1224000" cy="1440000"/>
            <a:chOff x="1908000" y="620640"/>
            <a:chExt cx="1224000" cy="1440000"/>
          </a:xfrm>
        </p:grpSpPr>
        <p:sp>
          <p:nvSpPr>
            <p:cNvPr id="412" name="Line 10"/>
            <p:cNvSpPr/>
            <p:nvPr/>
          </p:nvSpPr>
          <p:spPr>
            <a:xfrm flipV="1">
              <a:off x="1908000" y="620640"/>
              <a:ext cx="1224000" cy="1440000"/>
            </a:xfrm>
            <a:prstGeom prst="line">
              <a:avLst/>
            </a:prstGeom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 rot="10800000">
              <a:off x="1908000" y="620640"/>
              <a:ext cx="122400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843280" y="620640"/>
            <a:ext cx="288720" cy="1008000"/>
            <a:chOff x="2843280" y="620640"/>
            <a:chExt cx="288720" cy="1008000"/>
          </a:xfrm>
        </p:grpSpPr>
        <p:sp>
          <p:nvSpPr>
            <p:cNvPr id="415" name="Line 11"/>
            <p:cNvSpPr/>
            <p:nvPr/>
          </p:nvSpPr>
          <p:spPr>
            <a:xfrm flipH="1">
              <a:off x="2843280" y="620640"/>
              <a:ext cx="288720" cy="1008000"/>
            </a:xfrm>
            <a:prstGeom prst="line">
              <a:avLst/>
            </a:prstGeom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843280" y="620640"/>
              <a:ext cx="28872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484360" y="2204640"/>
            <a:ext cx="1224000" cy="144360"/>
            <a:chOff x="2484360" y="2204640"/>
            <a:chExt cx="1224000" cy="144360"/>
          </a:xfrm>
        </p:grpSpPr>
        <p:sp>
          <p:nvSpPr>
            <p:cNvPr id="418" name="Line 12"/>
            <p:cNvSpPr/>
            <p:nvPr/>
          </p:nvSpPr>
          <p:spPr>
            <a:xfrm flipV="1">
              <a:off x="2484360" y="2204640"/>
              <a:ext cx="1224000" cy="144360"/>
            </a:xfrm>
            <a:prstGeom prst="line">
              <a:avLst/>
            </a:prstGeom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 rot="10800000">
              <a:off x="2484360" y="2204640"/>
              <a:ext cx="122400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186920" y="4149720"/>
            <a:ext cx="864000" cy="1728720"/>
            <a:chOff x="1186920" y="4149720"/>
            <a:chExt cx="864000" cy="1728720"/>
          </a:xfrm>
        </p:grpSpPr>
        <p:sp>
          <p:nvSpPr>
            <p:cNvPr id="421" name="Line 13"/>
            <p:cNvSpPr/>
            <p:nvPr/>
          </p:nvSpPr>
          <p:spPr>
            <a:xfrm flipH="1">
              <a:off x="1186920" y="4149720"/>
              <a:ext cx="863640" cy="1728720"/>
            </a:xfrm>
            <a:prstGeom prst="line">
              <a:avLst/>
            </a:prstGeom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1187280" y="4149720"/>
              <a:ext cx="86364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019640" y="2708280"/>
            <a:ext cx="360720" cy="217440"/>
            <a:chOff x="7019640" y="2708280"/>
            <a:chExt cx="360720" cy="217440"/>
          </a:xfrm>
        </p:grpSpPr>
        <p:sp>
          <p:nvSpPr>
            <p:cNvPr id="424" name="Line 14"/>
            <p:cNvSpPr/>
            <p:nvPr/>
          </p:nvSpPr>
          <p:spPr>
            <a:xfrm flipV="1">
              <a:off x="7020000" y="2708280"/>
              <a:ext cx="360360" cy="217440"/>
            </a:xfrm>
            <a:prstGeom prst="line">
              <a:avLst/>
            </a:prstGeom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 rot="10800000">
              <a:off x="7019640" y="270828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300720" y="5300640"/>
            <a:ext cx="432000" cy="504720"/>
            <a:chOff x="6300720" y="5300640"/>
            <a:chExt cx="432000" cy="504720"/>
          </a:xfrm>
        </p:grpSpPr>
        <p:sp>
          <p:nvSpPr>
            <p:cNvPr id="427" name="Line 15"/>
            <p:cNvSpPr/>
            <p:nvPr/>
          </p:nvSpPr>
          <p:spPr>
            <a:xfrm>
              <a:off x="6300720" y="5300640"/>
              <a:ext cx="432000" cy="504720"/>
            </a:xfrm>
            <a:prstGeom prst="line">
              <a:avLst/>
            </a:prstGeom>
            <a:ln w="47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6300720" y="530064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16"/>
          <p:cNvSpPr/>
          <p:nvPr/>
        </p:nvSpPr>
        <p:spPr>
          <a:xfrm>
            <a:off x="3804480" y="64659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东南亚国家主要农作物的分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8198"/>
          <p:cNvSpPr/>
          <p:nvPr/>
        </p:nvSpPr>
        <p:spPr>
          <a:xfrm>
            <a:off x="3276720" y="12938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90520" y="1631520"/>
            <a:ext cx="236880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橡胶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2" name="Picture 3" descr="橡胶"/>
          <p:cNvPicPr/>
          <p:nvPr/>
        </p:nvPicPr>
        <p:blipFill>
          <a:blip r:embed="rId1"/>
          <a:stretch/>
        </p:blipFill>
        <p:spPr>
          <a:xfrm>
            <a:off x="4264200" y="0"/>
            <a:ext cx="4879800" cy="3209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橡胶种植园"/>
          <p:cNvPicPr/>
          <p:nvPr/>
        </p:nvPicPr>
        <p:blipFill>
          <a:blip r:embed="rId2"/>
          <a:stretch/>
        </p:blipFill>
        <p:spPr>
          <a:xfrm>
            <a:off x="0" y="2894040"/>
            <a:ext cx="5843520" cy="39909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5"/>
          <p:cNvSpPr/>
          <p:nvPr/>
        </p:nvSpPr>
        <p:spPr>
          <a:xfrm>
            <a:off x="6877080" y="5516640"/>
            <a:ext cx="1079640" cy="404640"/>
          </a:xfrm>
          <a:custGeom>
            <a:avLst/>
            <a:gdLst>
              <a:gd name="textAreaLeft" fmla="*/ 25920 w 1079640"/>
              <a:gd name="textAreaRight" fmla="*/ 1053720 w 107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0" h="21600">
                <a:moveTo>
                  <a:pt x="21794" y="10800"/>
                </a:moveTo>
                <a:lnTo>
                  <a:pt x="35806" y="3794"/>
                </a:lnTo>
                <a:lnTo>
                  <a:pt x="35806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蕉麻"/>
          <p:cNvPicPr/>
          <p:nvPr/>
        </p:nvPicPr>
        <p:blipFill>
          <a:blip r:embed="rId1"/>
          <a:stretch/>
        </p:blipFill>
        <p:spPr>
          <a:xfrm>
            <a:off x="108000" y="260280"/>
            <a:ext cx="3313080" cy="61930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"/>
          <p:cNvSpPr/>
          <p:nvPr/>
        </p:nvSpPr>
        <p:spPr>
          <a:xfrm>
            <a:off x="3352320" y="189000"/>
            <a:ext cx="606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蕉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t402-12"/>
          <p:cNvPicPr/>
          <p:nvPr/>
        </p:nvPicPr>
        <p:blipFill>
          <a:blip r:embed="rId2"/>
          <a:stretch/>
        </p:blipFill>
        <p:spPr>
          <a:xfrm>
            <a:off x="3851280" y="0"/>
            <a:ext cx="4392720" cy="3067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200862016548551"/>
          <p:cNvPicPr/>
          <p:nvPr/>
        </p:nvPicPr>
        <p:blipFill>
          <a:blip r:embed="rId3"/>
          <a:stretch/>
        </p:blipFill>
        <p:spPr>
          <a:xfrm>
            <a:off x="3780000" y="3213000"/>
            <a:ext cx="4500360" cy="314172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6"/>
          <p:cNvSpPr/>
          <p:nvPr/>
        </p:nvSpPr>
        <p:spPr>
          <a:xfrm>
            <a:off x="7596360" y="6453360"/>
            <a:ext cx="863280" cy="288720"/>
          </a:xfrm>
          <a:custGeom>
            <a:avLst/>
            <a:gdLst>
              <a:gd name="textAreaLeft" fmla="*/ 18720 w 863280"/>
              <a:gd name="textAreaRight" fmla="*/ 844560 w 86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2565360"/>
            <a:ext cx="5524560" cy="3743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水稻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09588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2077920" y="146988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水    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7020000" y="6165720"/>
            <a:ext cx="1079280" cy="405000"/>
          </a:xfrm>
          <a:custGeom>
            <a:avLst/>
            <a:gdLst>
              <a:gd name="textAreaLeft" fmla="*/ 25920 w 1079280"/>
              <a:gd name="textAreaRight" fmla="*/ 1053360 w 1079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57530" h="21600">
                <a:moveTo>
                  <a:pt x="0" y="0"/>
                </a:moveTo>
                <a:lnTo>
                  <a:pt x="57530" y="0"/>
                </a:lnTo>
                <a:lnTo>
                  <a:pt x="57530" y="21600"/>
                </a:lnTo>
                <a:lnTo>
                  <a:pt x="0" y="21600"/>
                </a:lnTo>
                <a:close/>
              </a:path>
              <a:path fill="lightenLess" w="57530" h="21600">
                <a:moveTo>
                  <a:pt x="0" y="0"/>
                </a:moveTo>
                <a:lnTo>
                  <a:pt x="57530" y="0"/>
                </a:lnTo>
                <a:lnTo>
                  <a:pt x="56130" y="1400"/>
                </a:lnTo>
                <a:lnTo>
                  <a:pt x="1400" y="1400"/>
                </a:lnTo>
                <a:close/>
              </a:path>
              <a:path fill="darken" w="57530" h="21600">
                <a:moveTo>
                  <a:pt x="57530" y="0"/>
                </a:moveTo>
                <a:lnTo>
                  <a:pt x="57530" y="21600"/>
                </a:lnTo>
                <a:lnTo>
                  <a:pt x="56130" y="20200"/>
                </a:lnTo>
                <a:lnTo>
                  <a:pt x="56130" y="1400"/>
                </a:lnTo>
                <a:close/>
              </a:path>
              <a:path fill="darkenLess" w="57530" h="21600">
                <a:moveTo>
                  <a:pt x="57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0" y="20200"/>
                </a:lnTo>
                <a:close/>
              </a:path>
              <a:path fill="lighten" w="57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0" h="21600">
                <a:moveTo>
                  <a:pt x="21758" y="10800"/>
                </a:moveTo>
                <a:lnTo>
                  <a:pt x="35771" y="3794"/>
                </a:lnTo>
                <a:lnTo>
                  <a:pt x="35771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油棕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0" y="476280"/>
            <a:ext cx="4572000" cy="3957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油棕2"/>
          <p:cNvPicPr/>
          <p:nvPr/>
        </p:nvPicPr>
        <p:blipFill>
          <a:blip r:embed="rId2"/>
          <a:stretch/>
        </p:blipFill>
        <p:spPr>
          <a:xfrm>
            <a:off x="0" y="2133720"/>
            <a:ext cx="4633920" cy="47242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1655640" y="1038240"/>
            <a:ext cx="14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油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6084720" y="558972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00" h="21600">
                <a:moveTo>
                  <a:pt x="19994" y="10800"/>
                </a:moveTo>
                <a:lnTo>
                  <a:pt x="34006" y="3794"/>
                </a:lnTo>
                <a:lnTo>
                  <a:pt x="34006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142920" y="720720"/>
            <a:ext cx="6070680" cy="5732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东南亚物产2"/>
          <p:cNvPicPr/>
          <p:nvPr/>
        </p:nvPicPr>
        <p:blipFill>
          <a:blip r:embed="rId2"/>
          <a:stretch/>
        </p:blipFill>
        <p:spPr>
          <a:xfrm>
            <a:off x="108000" y="658800"/>
            <a:ext cx="6119640" cy="579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14200" y="5084640"/>
          <a:ext cx="8929800" cy="1397160"/>
        </p:xfrm>
        <a:graphic>
          <a:graphicData uri="http://schemas.openxmlformats.org/drawingml/2006/table">
            <a:tbl>
              <a:tblPr/>
              <a:tblGrid>
                <a:gridCol w="1008000"/>
                <a:gridCol w="1728720"/>
                <a:gridCol w="1008360"/>
                <a:gridCol w="1223640"/>
                <a:gridCol w="1008360"/>
                <a:gridCol w="1008000"/>
                <a:gridCol w="936720"/>
                <a:gridCol w="1008000"/>
              </a:tblGrid>
              <a:tr h="54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物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天然橡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油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椰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蕉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稻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石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主要国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马来西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泰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马来西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菲律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印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菲律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泰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马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西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行楷"/>
                        </a:rPr>
                        <a:t>印尼文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1" name="Text Box 33"/>
          <p:cNvSpPr/>
          <p:nvPr/>
        </p:nvSpPr>
        <p:spPr>
          <a:xfrm>
            <a:off x="6300720" y="404640"/>
            <a:ext cx="2737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东南亚是世界上天然橡胶、棕油、椰子、蕉麻等热带经济作物产品的最大产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4"/>
          <p:cNvSpPr/>
          <p:nvPr/>
        </p:nvSpPr>
        <p:spPr>
          <a:xfrm>
            <a:off x="6227640" y="3284640"/>
            <a:ext cx="277344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东南亚的矿产以锡和石油最为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505152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东南亚的物产和矿产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50920" y="189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</a:rPr>
              <a:t>读图，总结热带雨林气候的特点。</a:t>
            </a:r>
            <a:r>
              <a:rPr b="1" lang="zh-CN" sz="2800" spc="-1" strike="noStrike">
                <a:solidFill>
                  <a:srgbClr val="33006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3" descr="图3"/>
          <p:cNvPicPr/>
          <p:nvPr/>
        </p:nvPicPr>
        <p:blipFill>
          <a:blip r:embed="rId1"/>
          <a:stretch/>
        </p:blipFill>
        <p:spPr>
          <a:xfrm>
            <a:off x="4356000" y="333360"/>
            <a:ext cx="3932280" cy="43657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900000" y="5229000"/>
            <a:ext cx="7129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热带雨林气候特点：终年高温多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68360" y="1773360"/>
            <a:ext cx="40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热带雨林气候：以新加坡为例，新加坡全年各月降水量都在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00mm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以上，月平均气温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摄氏度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395280" y="5300640"/>
            <a:ext cx="85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热带季风气候特点：全年高温，降水集中在夏季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隶书"/>
              </a:rPr>
              <a:t>—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月，降水季节分配不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395280" y="476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读图，总结热带季风气候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图4"/>
          <p:cNvPicPr/>
          <p:nvPr/>
        </p:nvPicPr>
        <p:blipFill>
          <a:blip r:embed="rId1"/>
          <a:stretch/>
        </p:blipFill>
        <p:spPr>
          <a:xfrm>
            <a:off x="4788000" y="333360"/>
            <a:ext cx="3879720" cy="436572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324000" y="242100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隶书"/>
                <a:ea typeface="隶书"/>
              </a:rPr>
              <a:t>热带季风气候：以曼谷为例，曼谷</a:t>
            </a:r>
            <a:r>
              <a:rPr b="1" lang="en-US" sz="2800" spc="-1" strike="noStrike">
                <a:solidFill>
                  <a:srgbClr val="330066"/>
                </a:solidFill>
                <a:latin typeface="隶书"/>
                <a:ea typeface="隶书"/>
              </a:rPr>
              <a:t>5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隶书"/>
              </a:rPr>
              <a:t>—</a:t>
            </a:r>
            <a:r>
              <a:rPr b="1" lang="en-US" sz="2800" spc="-1" strike="noStrike">
                <a:solidFill>
                  <a:srgbClr val="33006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330066"/>
                </a:solidFill>
                <a:latin typeface="隶书"/>
                <a:ea typeface="隶书"/>
              </a:rPr>
              <a:t>月月降水量在</a:t>
            </a:r>
            <a:r>
              <a:rPr b="1" lang="en-US" sz="2800" spc="-1" strike="noStrike">
                <a:solidFill>
                  <a:srgbClr val="330066"/>
                </a:solidFill>
                <a:latin typeface="隶书"/>
                <a:ea typeface="隶书"/>
              </a:rPr>
              <a:t>150mm</a:t>
            </a:r>
            <a:r>
              <a:rPr b="1" lang="zh-CN" sz="2800" spc="-1" strike="noStrike">
                <a:solidFill>
                  <a:srgbClr val="330066"/>
                </a:solidFill>
                <a:latin typeface="隶书"/>
                <a:ea typeface="隶书"/>
              </a:rPr>
              <a:t>以上，而</a:t>
            </a:r>
            <a:r>
              <a:rPr b="1" lang="en-US" sz="2800" spc="-1" strike="noStrike">
                <a:solidFill>
                  <a:srgbClr val="330066"/>
                </a:solidFill>
                <a:latin typeface="隶书"/>
                <a:ea typeface="隶书"/>
              </a:rPr>
              <a:t>11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隶书"/>
              </a:rPr>
              <a:t>—</a:t>
            </a:r>
            <a:r>
              <a:rPr b="1" lang="en-US" sz="2800" spc="-1" strike="noStrike">
                <a:solidFill>
                  <a:srgbClr val="33006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330066"/>
                </a:solidFill>
                <a:latin typeface="隶书"/>
                <a:ea typeface="隶书"/>
              </a:rPr>
              <a:t>月则在</a:t>
            </a:r>
            <a:r>
              <a:rPr b="1" lang="en-US" sz="2800" spc="-1" strike="noStrike">
                <a:solidFill>
                  <a:srgbClr val="330066"/>
                </a:solidFill>
                <a:latin typeface="隶书"/>
                <a:ea typeface="隶书"/>
              </a:rPr>
              <a:t>100mm</a:t>
            </a:r>
            <a:r>
              <a:rPr b="1" lang="zh-CN" sz="2800" spc="-1" strike="noStrike">
                <a:solidFill>
                  <a:srgbClr val="330066"/>
                </a:solidFill>
                <a:latin typeface="隶书"/>
                <a:ea typeface="隶书"/>
              </a:rPr>
              <a:t>以下，分雨季和旱季，月平均气温</a:t>
            </a:r>
            <a:r>
              <a:rPr b="1" lang="en-US" sz="2800" spc="-1" strike="noStrike">
                <a:solidFill>
                  <a:srgbClr val="330066"/>
                </a:solidFill>
                <a:latin typeface="隶书"/>
                <a:ea typeface="隶书"/>
              </a:rPr>
              <a:t>25</a:t>
            </a:r>
            <a:r>
              <a:rPr b="1" lang="zh-CN" sz="2800" spc="-1" strike="noStrike">
                <a:solidFill>
                  <a:srgbClr val="330066"/>
                </a:solidFill>
                <a:latin typeface="隶书"/>
                <a:ea typeface="隶书"/>
              </a:rPr>
              <a:t>摄氏度左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539640" y="4653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早晨</a:t>
            </a:r>
            <a:r>
              <a:rPr b="1" lang="en-US" sz="30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点太阳升起，水汽蒸发，逐渐成云，云越积越多，至下午</a:t>
            </a:r>
            <a:r>
              <a:rPr b="1" lang="en-US" sz="3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1" lang="en-US" sz="30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点开始下雨，傍晚雨过天晴，晚上</a:t>
            </a:r>
            <a:r>
              <a:rPr b="1" lang="en-US" sz="30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3000" spc="-1" strike="noStrike">
                <a:solidFill>
                  <a:srgbClr val="0000ff"/>
                </a:solidFill>
                <a:latin typeface="隶书"/>
                <a:ea typeface="隶书"/>
              </a:rPr>
              <a:t>点太阳落山。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35287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4"/>
          <p:cNvSpPr/>
          <p:nvPr/>
        </p:nvSpPr>
        <p:spPr>
          <a:xfrm>
            <a:off x="611280" y="260280"/>
            <a:ext cx="567828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热带雨林气候区一天中的天气示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ws082415"/>
          <p:cNvPicPr/>
          <p:nvPr/>
        </p:nvPicPr>
        <p:blipFill>
          <a:blip r:embed="rId1"/>
          <a:stretch/>
        </p:blipFill>
        <p:spPr>
          <a:xfrm>
            <a:off x="0" y="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菲律宾迷人的岛屿"/>
          <p:cNvPicPr/>
          <p:nvPr/>
        </p:nvPicPr>
        <p:blipFill>
          <a:blip r:embed="rId2"/>
          <a:stretch/>
        </p:blipFill>
        <p:spPr>
          <a:xfrm>
            <a:off x="0" y="3284640"/>
            <a:ext cx="4608360" cy="3600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pic_newzea4"/>
          <p:cNvPicPr/>
          <p:nvPr/>
        </p:nvPicPr>
        <p:blipFill>
          <a:blip r:embed="rId3"/>
          <a:stretch/>
        </p:blipFill>
        <p:spPr>
          <a:xfrm>
            <a:off x="4500720" y="0"/>
            <a:ext cx="4679640" cy="328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Img222456680"/>
          <p:cNvPicPr/>
          <p:nvPr/>
        </p:nvPicPr>
        <p:blipFill>
          <a:blip r:embed="rId4"/>
          <a:stretch/>
        </p:blipFill>
        <p:spPr>
          <a:xfrm>
            <a:off x="4500720" y="3284640"/>
            <a:ext cx="4679640" cy="3573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2124000" y="342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东南亚风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643280" y="3573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火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04"/>
          <p:cNvPicPr/>
          <p:nvPr/>
        </p:nvPicPr>
        <p:blipFill>
          <a:blip r:embed="rId1"/>
          <a:stretch/>
        </p:blipFill>
        <p:spPr>
          <a:xfrm>
            <a:off x="324000" y="3213000"/>
            <a:ext cx="4105080" cy="3036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7"/>
          <p:cNvPicPr/>
          <p:nvPr/>
        </p:nvPicPr>
        <p:blipFill>
          <a:blip r:embed="rId2"/>
          <a:stretch/>
        </p:blipFill>
        <p:spPr>
          <a:xfrm>
            <a:off x="4356000" y="3645000"/>
            <a:ext cx="4572000" cy="3041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05"/>
          <p:cNvPicPr/>
          <p:nvPr/>
        </p:nvPicPr>
        <p:blipFill>
          <a:blip r:embed="rId3"/>
          <a:stretch/>
        </p:blipFill>
        <p:spPr>
          <a:xfrm>
            <a:off x="5580000" y="115920"/>
            <a:ext cx="3564000" cy="35290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"/>
          <p:cNvSpPr/>
          <p:nvPr/>
        </p:nvSpPr>
        <p:spPr>
          <a:xfrm>
            <a:off x="395280" y="18900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活动：</a:t>
            </a:r>
            <a:r>
              <a:rPr b="0" lang="zh-CN" sz="3200" spc="-1" strike="noStrike">
                <a:solidFill>
                  <a:srgbClr val="330066"/>
                </a:solidFill>
                <a:latin typeface="Arial"/>
              </a:rPr>
              <a:t>探讨日常消费行为与东南亚热带雨林的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1763640" y="1484280"/>
            <a:ext cx="360036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生产方便面与保护红猩猩的环境之间有何矛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250920" y="1268280"/>
            <a:ext cx="1439640" cy="936720"/>
          </a:xfrm>
          <a:prstGeom prst="cloudCallout">
            <a:avLst>
              <a:gd name="adj1" fmla="val 58708"/>
              <a:gd name="adj2" fmla="val 93050"/>
            </a:avLst>
          </a:prstGeom>
          <a:solidFill>
            <a:srgbClr val="fff869"/>
          </a:solidFill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2349000"/>
            <a:ext cx="7318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Arial"/>
                <a:ea typeface="隶书"/>
              </a:rPr>
              <a:t>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Arial"/>
                <a:ea typeface="隶书"/>
              </a:rPr>
              <a:t>南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Arial"/>
                <a:ea typeface="隶书"/>
              </a:rPr>
              <a:t>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Arial"/>
                <a:ea typeface="隶书"/>
              </a:rPr>
              <a:t>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1116000" y="19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Arial"/>
                <a:ea typeface="宋体"/>
              </a:rPr>
              <a:t>十字路口的位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3826440" y="19162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范围：包括中南半岛和马来群岛两大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3957480" y="249228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位置：地 处亚洲与大洋洲、太平洋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印度洋之间的“十字路口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277280" y="44370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Arial"/>
                <a:ea typeface="宋体"/>
              </a:rPr>
              <a:t>热带气候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Arial"/>
                <a:ea typeface="宋体"/>
              </a:rPr>
              <a:t>农业生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5073120" y="36450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泰国、越南、缅甸是世界重要的稻米出口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3593880" y="40766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泰国是世界最大的橡胶生产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3848040" y="450864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菲律宾是世界最大的蕉麻生产国和椰子出口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3662280" y="50133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印度尼西亚是世界最大地椰子生产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3615480" y="5445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马来西亚是世界最大的榨油生产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0"/>
          <p:cNvSpPr/>
          <p:nvPr/>
        </p:nvSpPr>
        <p:spPr>
          <a:xfrm>
            <a:off x="755640" y="2349360"/>
            <a:ext cx="287280" cy="244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1"/>
          <p:cNvSpPr/>
          <p:nvPr/>
        </p:nvSpPr>
        <p:spPr>
          <a:xfrm>
            <a:off x="2700360" y="198900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2"/>
          <p:cNvSpPr/>
          <p:nvPr/>
        </p:nvSpPr>
        <p:spPr>
          <a:xfrm>
            <a:off x="2340000" y="3789360"/>
            <a:ext cx="576360" cy="1944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26"/>
          <p:cNvSpPr/>
          <p:nvPr/>
        </p:nvSpPr>
        <p:spPr>
          <a:xfrm>
            <a:off x="3335400" y="189000"/>
            <a:ext cx="2952720" cy="718920"/>
          </a:xfrm>
          <a:prstGeom prst="flowChartAlternateProcess">
            <a:avLst/>
          </a:prstGeom>
          <a:solidFill>
            <a:srgbClr val="89fc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7"/>
          <p:cNvSpPr/>
          <p:nvPr/>
        </p:nvSpPr>
        <p:spPr>
          <a:xfrm>
            <a:off x="3479760" y="84240"/>
            <a:ext cx="317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8"/>
          <p:cNvSpPr/>
          <p:nvPr/>
        </p:nvSpPr>
        <p:spPr>
          <a:xfrm rot="18339600">
            <a:off x="2654280" y="226800"/>
            <a:ext cx="1149480" cy="501480"/>
          </a:xfrm>
          <a:custGeom>
            <a:avLst/>
            <a:gdLst>
              <a:gd name="textAreaLeft" fmla="*/ 287280 w 1149480"/>
              <a:gd name="textAreaRight" fmla="*/ 862200 w 1149480"/>
              <a:gd name="textAreaTop" fmla="*/ 125280 h 501480"/>
              <a:gd name="textAreaBottom" fmla="*/ 4867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89fcff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395280" y="1206360"/>
            <a:ext cx="856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．东南亚各国家中与我国陆地接壤的有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越南、老挝、柬埔寨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缅甸、老挝、越南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泰国、文莱、马来西亚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印尼、越南、新加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．东南亚惟一的内陆国是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柬埔寨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越南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缅甸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老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．世界上最大的群岛国家是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菲律宾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日本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马来西亚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印度尼西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．中南半岛的地形特点是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A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山河相间，纵列分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B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以高原为主，平原分布在四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以平原为主的地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D.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以山地为主的地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250920" y="189000"/>
            <a:ext cx="3046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0066"/>
                </a:solidFill>
                <a:latin typeface="Arial"/>
                <a:ea typeface="隶书"/>
              </a:rPr>
              <a:t>巩固训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179280" y="765000"/>
            <a:ext cx="86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．有关东南亚地理位置的描述正确的是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五海三洲之地      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十字路口的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连接东西方的铁路枢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位于印度洋和大西洋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．东南亚包括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中南半岛和菲律宾群岛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马来群岛和菲律宾群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中南半岛和马来群岛的太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马来群岛和马来半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东南亚居民主要的粮食是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稻米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小麦 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椰枣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玉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73C3-19AF-4382-854E-AFE2B0C944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0" y="105264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．东南亚重要的稻米出口国是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缅甸、马来西亚、菲律宾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印尼、马来西亚、文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泰国、马来西亚、菲律宾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泰国、越南、缅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世界最大的天然橡胶生产国是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缅甸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印度尼西亚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泰国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菲律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0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东南亚享誉世界的农产品是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水稻、茶叶、蚕丝 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小麦、棉花、黄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水稻、天然橡胶、油棕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小麦、棉花、椰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海啸"/>
          <p:cNvPicPr/>
          <p:nvPr/>
        </p:nvPicPr>
        <p:blipFill>
          <a:blip r:embed="rId1"/>
          <a:stretch/>
        </p:blipFill>
        <p:spPr>
          <a:xfrm>
            <a:off x="-106200" y="-63360"/>
            <a:ext cx="9215280" cy="694836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3"/>
          <p:cNvGrpSpPr/>
          <p:nvPr/>
        </p:nvGrpSpPr>
        <p:grpSpPr>
          <a:xfrm>
            <a:off x="-69840" y="-71280"/>
            <a:ext cx="9249840" cy="6955920"/>
            <a:chOff x="-69840" y="-71280"/>
            <a:chExt cx="9249840" cy="6955920"/>
          </a:xfrm>
        </p:grpSpPr>
        <p:pic>
          <p:nvPicPr>
            <p:cNvPr id="214" name="Picture 4" descr="海啸9"/>
            <p:cNvPicPr/>
            <p:nvPr/>
          </p:nvPicPr>
          <p:blipFill>
            <a:blip r:embed="rId2"/>
            <a:stretch/>
          </p:blipFill>
          <p:spPr>
            <a:xfrm>
              <a:off x="-69840" y="-71280"/>
              <a:ext cx="2807640" cy="42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5" descr="印度妇女痛哭在海啸中失踪的孩子"/>
            <p:cNvPicPr/>
            <p:nvPr/>
          </p:nvPicPr>
          <p:blipFill>
            <a:blip r:embed="rId3"/>
            <a:stretch/>
          </p:blipFill>
          <p:spPr>
            <a:xfrm>
              <a:off x="6418440" y="2989800"/>
              <a:ext cx="2761560" cy="389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6" descr="海啸4"/>
            <p:cNvPicPr/>
            <p:nvPr/>
          </p:nvPicPr>
          <p:blipFill>
            <a:blip r:embed="rId4"/>
            <a:stretch/>
          </p:blipFill>
          <p:spPr>
            <a:xfrm>
              <a:off x="3126600" y="1872720"/>
              <a:ext cx="2885400" cy="428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Rectangle 7"/>
          <p:cNvSpPr/>
          <p:nvPr/>
        </p:nvSpPr>
        <p:spPr>
          <a:xfrm>
            <a:off x="4251240" y="6278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海啸无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市民和外国游客一起点亮蜡烛"/>
          <p:cNvPicPr/>
          <p:nvPr/>
        </p:nvPicPr>
        <p:blipFill>
          <a:blip r:embed="rId1"/>
          <a:stretch/>
        </p:blipFill>
        <p:spPr>
          <a:xfrm>
            <a:off x="3492360" y="3573360"/>
            <a:ext cx="5616720" cy="3313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图文-体育总局向东南亚灾区捐款跨栏王奉献的爱心"/>
          <p:cNvPicPr/>
          <p:nvPr/>
        </p:nvPicPr>
        <p:blipFill>
          <a:blip r:embed="rId2"/>
          <a:stretch/>
        </p:blipFill>
        <p:spPr>
          <a:xfrm>
            <a:off x="250920" y="1989000"/>
            <a:ext cx="3268440" cy="489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为海啸遇难者举行的纪念仪式上点亮蜡烛"/>
          <p:cNvPicPr/>
          <p:nvPr/>
        </p:nvPicPr>
        <p:blipFill>
          <a:blip r:embed="rId3"/>
          <a:stretch/>
        </p:blipFill>
        <p:spPr>
          <a:xfrm>
            <a:off x="6443640" y="115920"/>
            <a:ext cx="2631960" cy="3457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24000" y="3715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魏碑简体"/>
              </a:rPr>
              <a:t>海啸无情人有情，全世界的爱心汇聚这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20051822103279"/>
          <p:cNvPicPr/>
          <p:nvPr/>
        </p:nvPicPr>
        <p:blipFill>
          <a:blip r:embed="rId1"/>
          <a:stretch/>
        </p:blipFill>
        <p:spPr>
          <a:xfrm>
            <a:off x="3348000" y="404640"/>
            <a:ext cx="5558040" cy="57610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179280" y="115920"/>
            <a:ext cx="33130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ff0066"/>
                </a:solidFill>
                <a:latin typeface="隶书"/>
                <a:ea typeface="隶书"/>
              </a:rPr>
              <a:t>2005</a:t>
            </a: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年</a:t>
            </a:r>
            <a:r>
              <a:rPr b="0" lang="en-US" sz="28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月</a:t>
            </a:r>
            <a:r>
              <a:rPr b="0" lang="en-US" sz="2800" spc="-1" strike="noStrike">
                <a:solidFill>
                  <a:srgbClr val="ff0066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日，海啸遇难者总人数逼近</a:t>
            </a:r>
            <a:r>
              <a:rPr b="0" lang="en-US" sz="2800" spc="-1" strike="noStrike">
                <a:solidFill>
                  <a:srgbClr val="ff0066"/>
                </a:solidFill>
                <a:latin typeface="隶书"/>
                <a:ea typeface="隶书"/>
              </a:rPr>
              <a:t>30</a:t>
            </a: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万，受灾情况最严重的是</a:t>
            </a:r>
            <a:r>
              <a:rPr b="0" lang="zh-CN" sz="2800" spc="-1" strike="noStrike">
                <a:solidFill>
                  <a:srgbClr val="3b3bff"/>
                </a:solidFill>
                <a:latin typeface="隶书"/>
                <a:ea typeface="隶书"/>
              </a:rPr>
              <a:t>东南亚</a:t>
            </a: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地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我们该如何描述这一地区的位置和范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自然环境具有哪些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为什么火山地震频繁，海啸肆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人们该如何趋利避害，与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“</a:t>
            </a: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水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”“</a:t>
            </a: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火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”</a:t>
            </a:r>
            <a:r>
              <a:rPr b="0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相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547640" y="189000"/>
            <a:ext cx="61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一、十字路口的位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0480" y="1052640"/>
            <a:ext cx="9083520" cy="5100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7"/>
          <p:cNvPicPr/>
          <p:nvPr/>
        </p:nvPicPr>
        <p:blipFill>
          <a:blip r:embed="rId1"/>
          <a:stretch/>
        </p:blipFill>
        <p:spPr>
          <a:xfrm>
            <a:off x="395280" y="620640"/>
            <a:ext cx="8321760" cy="5235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68360" y="18900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魏碑简体"/>
              </a:rPr>
              <a:t>东南亚在世界中的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95280" y="566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3bff"/>
                </a:solidFill>
                <a:latin typeface="Arial"/>
                <a:ea typeface="隶书"/>
              </a:rPr>
              <a:t>东南亚位于亚欧大陆东南部，太平洋西岸，印度洋东北岸，与大洋洲隔海相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611280" y="260280"/>
            <a:ext cx="36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3bff"/>
                </a:solidFill>
                <a:latin typeface="Arial"/>
                <a:ea typeface="方正魏碑简体"/>
              </a:rPr>
              <a:t>东南亚的经纬度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东南亚地形图2"/>
          <p:cNvPicPr/>
          <p:nvPr/>
        </p:nvPicPr>
        <p:blipFill>
          <a:blip r:embed="rId1"/>
          <a:stretch/>
        </p:blipFill>
        <p:spPr>
          <a:xfrm>
            <a:off x="1116000" y="907920"/>
            <a:ext cx="7056360" cy="50421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1476360" y="6093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3bff"/>
                </a:solidFill>
                <a:latin typeface="隶书"/>
                <a:ea typeface="隶书"/>
              </a:rPr>
              <a:t>纬度位置大约在</a:t>
            </a:r>
            <a:r>
              <a:rPr b="1" lang="en-US" sz="2800" spc="-1" strike="noStrike">
                <a:solidFill>
                  <a:srgbClr val="3b3bff"/>
                </a:solidFill>
                <a:latin typeface="隶书"/>
                <a:ea typeface="隶书"/>
              </a:rPr>
              <a:t>10</a:t>
            </a:r>
            <a:r>
              <a:rPr b="1" lang="en-US" sz="2800" spc="-1" strike="noStrike">
                <a:solidFill>
                  <a:srgbClr val="3b3bff"/>
                </a:solidFill>
                <a:latin typeface="Arial"/>
                <a:ea typeface="隶书"/>
              </a:rPr>
              <a:t>º</a:t>
            </a:r>
            <a:r>
              <a:rPr b="1" lang="en-US" sz="2800" spc="-1" strike="noStrike">
                <a:solidFill>
                  <a:srgbClr val="3b3bff"/>
                </a:solidFill>
                <a:latin typeface="隶书"/>
                <a:ea typeface="隶书"/>
              </a:rPr>
              <a:t>S</a:t>
            </a:r>
            <a:r>
              <a:rPr b="1" lang="en-US" sz="2800" spc="-1" strike="noStrike">
                <a:solidFill>
                  <a:srgbClr val="3b3bff"/>
                </a:solidFill>
                <a:latin typeface="Arial"/>
                <a:ea typeface="隶书"/>
              </a:rPr>
              <a:t>—</a:t>
            </a:r>
            <a:r>
              <a:rPr b="1" lang="en-US" sz="2800" spc="-1" strike="noStrike">
                <a:solidFill>
                  <a:srgbClr val="3b3bff"/>
                </a:solidFill>
                <a:latin typeface="隶书"/>
                <a:ea typeface="隶书"/>
              </a:rPr>
              <a:t>25</a:t>
            </a:r>
            <a:r>
              <a:rPr b="1" lang="en-US" sz="2800" spc="-1" strike="noStrike">
                <a:solidFill>
                  <a:srgbClr val="3b3bff"/>
                </a:solidFill>
                <a:latin typeface="Arial"/>
                <a:ea typeface="隶书"/>
              </a:rPr>
              <a:t>º</a:t>
            </a:r>
            <a:r>
              <a:rPr b="1" lang="en-US" sz="2800" spc="-1" strike="noStrike">
                <a:solidFill>
                  <a:srgbClr val="3b3bff"/>
                </a:solidFill>
                <a:latin typeface="隶书"/>
                <a:ea typeface="隶书"/>
              </a:rPr>
              <a:t>N</a:t>
            </a:r>
            <a:r>
              <a:rPr b="1" lang="zh-CN" sz="2800" spc="-1" strike="noStrike">
                <a:solidFill>
                  <a:srgbClr val="3b3bff"/>
                </a:solidFill>
                <a:latin typeface="隶书"/>
                <a:ea typeface="隶书"/>
              </a:rPr>
              <a:t>之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4:59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06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