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32.wmf" ContentType="image/x-wmf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5.wmf" ContentType="image/x-wmf"/>
  <Override PartName="/ppt/media/image15.jpeg" ContentType="image/jpeg"/>
  <Override PartName="/ppt/media/image23.jpeg" ContentType="image/jpeg"/>
  <Override PartName="/ppt/media/image26.png" ContentType="image/png"/>
  <Override PartName="/ppt/media/image30.png" ContentType="image/png"/>
  <Override PartName="/ppt/media/image10.jpeg" ContentType="image/jpeg"/>
  <Override PartName="/ppt/media/image31.wmf" ContentType="image/x-wmf"/>
  <Override PartName="/ppt/media/image43.gif" ContentType="image/gif"/>
  <Override PartName="/ppt/media/image36.png" ContentType="image/png"/>
  <Override PartName="/ppt/media/image34.wmf" ContentType="image/x-wmf"/>
  <Override PartName="/ppt/media/image35.png" ContentType="image/png"/>
  <Override PartName="/ppt/media/image28.jpeg" ContentType="image/jpeg"/>
  <Override PartName="/ppt/media/image41.png" ContentType="image/png"/>
  <Override PartName="/ppt/media/image39.png" ContentType="image/png"/>
  <Override PartName="/ppt/media/image42.wmf" ContentType="image/x-wmf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coin.wav" ContentType="audio/x-wav"/>
  <Override PartName="/ppt/media/image9.jpeg" ContentType="image/jpeg"/>
  <Override PartName="/ppt/media/image44.gif" ContentType="image/gif"/>
  <Override PartName="/ppt/media/image37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38.wmf" ContentType="image/x-wmf"/>
  <Override PartName="/ppt/media/image40.png" ContentType="image/png"/>
  <Override PartName="/ppt/media/image4.jpeg" ContentType="image/jpeg"/>
  <Override PartName="/ppt/media/image25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EC1-0AC0-499F-AB5A-481F6521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529-B797-4689-9EBC-F351D830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17E-9453-431B-B271-1AEF00EF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484-4F95-4BB2-8A65-A33EEAFC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318D-1C7C-4410-BF3E-D59563BE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616D-43AE-4DBF-A8E9-7B3B899A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4CD8-1594-437A-B915-4FE89AF0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F574-00F1-4F5C-ABD2-85DB8A0B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B801-2B28-4DE6-92DB-D41ACC6F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4790-988F-4186-8BC2-45BE5CBD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8C5D-3994-47FB-9D02-9ECDB8B5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B19-AC98-4435-934A-318C315A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77CC-D5F8-4EF1-AF1C-0BACD816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7B58-4B9C-4F76-970F-B31FB7B2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C7D8-172F-4815-913D-792E20BC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C6BB-4325-425F-A7EE-936E2384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BA8F-93C9-4501-97A1-DF182765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5445-DDD7-461D-9942-DC2D86B7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2EE3E-2752-4610-A020-0117942A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F4142-E3C9-4067-8BF7-5D5784EF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7F9E-6EB5-400C-8C84-ECA751B2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AECD-94B6-4FAE-8D26-E911C882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423-4167-4D2F-BC9B-3562C3E9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6E20-1D0E-4678-915C-5D2FFAA3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ECEC-C2EA-4461-B5A5-55B61711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B4DE-B7C6-492D-81BB-4644A513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0E24-2C3A-4D56-9E63-0056E6A2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0F40B-A7CA-4F11-A349-EEFA0D73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9F35-8A38-4CE6-A870-65F352C4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F55A6-86A6-4F5C-A845-5D07E97C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B4045-F583-433E-B87A-123D8093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3E12-2043-4D4E-A17A-2B60F2A8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4D792-3C44-4741-B512-9ECE485F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C55-CACA-4AAA-9B1D-D884B0F7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05B7-D48F-447C-91BD-71CE7060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2A62C-7614-4A3B-9A7E-3B9377FC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ACD6-F137-469A-A284-E9257D75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6320-893E-4DDB-A27D-2D9B9C10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A4807-A628-4597-BF91-E536B26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685E1-C7CA-4FDD-AF44-74DEE101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45B9-187E-44B8-8835-232E9ECE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B683-AEE9-44A5-B7BE-93BE034C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27DE-4DA3-4076-BAED-E3D8B6D4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E14D-8373-4BF1-B565-2E06AB9B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167-2320-4CBB-978B-FB4C661F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39107-A604-4F89-9AC3-DC306AA9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6E588-F300-49AF-B01C-C8710E96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1979F-98C8-41B0-AFFE-FC17C2B1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CC99D-8083-460E-AA0D-4CB3EBF5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C421F-6A86-4C85-A1C9-8C04F456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3D36B-460E-4B0B-A3A2-845D7C3B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DCCD7-C01C-403B-A761-62560204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08AC-C103-4017-A346-AA278A62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78DE8-ACB2-4CF5-8FC1-B7A62F8E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BD489-E702-4FEF-8D87-A2C0D5B8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9DF-804C-4366-9C1E-4C340912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0E0E1-87B9-4873-B2B8-23C238F0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E7A-0D91-4455-9AEC-35F5A1B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6B9-D46A-4472-968A-4E3E2BDB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70C-6670-4266-A4E9-EBEA7300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BEB1-352E-4893-9873-C7F2D8D44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7988-08B6-4C16-A3E1-7BE94B06A42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A90E-6A54-4D1C-B1B6-A7131833274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F8F3-315A-4AD8-A588-942FD2B37F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C5C6-CF5B-4D08-AE3A-D5AEB8CBB1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&#21021;&#20013;&#29289;&#29702;-&#21387;&#24378;-&#25176;&#37324;&#25286;&#21033;&#23454;&#39564;.avi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1587600" y="1371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大气压强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219320" y="13716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大气能产生如此大的压强，而生活在大气中的人却没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143000" y="3429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因为人内部也有气压，内外气压平衡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6"/>
          <p:cNvSpPr/>
          <p:nvPr/>
        </p:nvSpPr>
        <p:spPr>
          <a:xfrm>
            <a:off x="533520" y="533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大气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609480" y="12952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定义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空气的内部向各个方向的压强叫   大气压强，简称大气压或气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1627920" y="269892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感受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0" y="1349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点击查看下一张图片"/>
          <p:cNvPicPr/>
          <p:nvPr/>
        </p:nvPicPr>
        <p:blipFill>
          <a:blip r:embed="rId1"/>
          <a:stretch/>
        </p:blipFill>
        <p:spPr>
          <a:xfrm>
            <a:off x="1752480" y="884160"/>
            <a:ext cx="5715000" cy="4556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228600" y="3808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瓶口吞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219320" y="533412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此实验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3276720" y="6019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大气压强的存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当棉花燃烧一段时间后，可使瓶内的空气减小，气压降低，作用在鸡蛋外面的大气压强就会把鸡蛋压进瓶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5"/>
          <p:cNvPicPr/>
          <p:nvPr/>
        </p:nvPicPr>
        <p:blipFill>
          <a:blip r:embed="rId1"/>
          <a:stretch/>
        </p:blipFill>
        <p:spPr>
          <a:xfrm>
            <a:off x="684360" y="4610160"/>
            <a:ext cx="985680" cy="1698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6"/>
          <p:cNvPicPr/>
          <p:nvPr/>
        </p:nvPicPr>
        <p:blipFill>
          <a:blip r:embed="rId2"/>
          <a:stretch/>
        </p:blipFill>
        <p:spPr>
          <a:xfrm>
            <a:off x="2411280" y="4629240"/>
            <a:ext cx="986040" cy="1670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3"/>
          <p:cNvPicPr/>
          <p:nvPr/>
        </p:nvPicPr>
        <p:blipFill>
          <a:blip r:embed="rId3"/>
          <a:stretch/>
        </p:blipFill>
        <p:spPr>
          <a:xfrm>
            <a:off x="3946680" y="4221000"/>
            <a:ext cx="985680" cy="199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4"/>
          <p:cNvPicPr/>
          <p:nvPr/>
        </p:nvPicPr>
        <p:blipFill>
          <a:blip r:embed="rId4"/>
          <a:stretch/>
        </p:blipFill>
        <p:spPr>
          <a:xfrm>
            <a:off x="5372280" y="4508640"/>
            <a:ext cx="1000080" cy="1725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2"/>
          <p:cNvSpPr/>
          <p:nvPr/>
        </p:nvSpPr>
        <p:spPr>
          <a:xfrm>
            <a:off x="1522440" y="685800"/>
            <a:ext cx="31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受示例一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瓶吞鸡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1"/>
          <p:cNvPicPr/>
          <p:nvPr/>
        </p:nvPicPr>
        <p:blipFill>
          <a:blip r:embed="rId1"/>
          <a:stretch/>
        </p:blipFill>
        <p:spPr>
          <a:xfrm>
            <a:off x="826920" y="4508640"/>
            <a:ext cx="1049400" cy="1709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7"/>
          <p:cNvPicPr/>
          <p:nvPr/>
        </p:nvPicPr>
        <p:blipFill>
          <a:blip r:embed="rId2"/>
          <a:stretch/>
        </p:blipFill>
        <p:spPr>
          <a:xfrm>
            <a:off x="2771640" y="4149720"/>
            <a:ext cx="938520" cy="2052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8"/>
          <p:cNvPicPr/>
          <p:nvPr/>
        </p:nvPicPr>
        <p:blipFill>
          <a:blip r:embed="rId3"/>
          <a:stretch/>
        </p:blipFill>
        <p:spPr>
          <a:xfrm>
            <a:off x="4705200" y="4437000"/>
            <a:ext cx="1019160" cy="1708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"/>
          <p:cNvPicPr/>
          <p:nvPr/>
        </p:nvPicPr>
        <p:blipFill>
          <a:blip r:embed="rId4"/>
          <a:stretch/>
        </p:blipFill>
        <p:spPr>
          <a:xfrm>
            <a:off x="6588000" y="4292640"/>
            <a:ext cx="1133640" cy="1925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9"/>
          <p:cNvSpPr/>
          <p:nvPr/>
        </p:nvSpPr>
        <p:spPr>
          <a:xfrm>
            <a:off x="838080" y="4572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受示例二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压瘪的易拉罐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0" y="1886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点击查看下一张图片"/>
          <p:cNvPicPr/>
          <p:nvPr/>
        </p:nvPicPr>
        <p:blipFill>
          <a:blip r:embed="rId1"/>
          <a:stretch/>
        </p:blipFill>
        <p:spPr>
          <a:xfrm>
            <a:off x="1066680" y="1447920"/>
            <a:ext cx="6561360" cy="39081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8"/>
          <p:cNvSpPr/>
          <p:nvPr/>
        </p:nvSpPr>
        <p:spPr>
          <a:xfrm>
            <a:off x="1143000" y="1447920"/>
            <a:ext cx="2438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219320" y="6094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感受示例三：覆杯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image003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1219320" y="3428640"/>
            <a:ext cx="380880" cy="1219320"/>
            <a:chOff x="1219320" y="3428640"/>
            <a:chExt cx="380880" cy="1219320"/>
          </a:xfrm>
        </p:grpSpPr>
        <p:sp>
          <p:nvSpPr>
            <p:cNvPr id="263" name="Line 5"/>
            <p:cNvSpPr/>
            <p:nvPr/>
          </p:nvSpPr>
          <p:spPr>
            <a:xfrm flipV="1">
              <a:off x="1219320" y="3428640"/>
              <a:ext cx="380880" cy="12193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 rot="10800000">
              <a:off x="1219320" y="3428640"/>
              <a:ext cx="3808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572000" y="2971800"/>
            <a:ext cx="457200" cy="1295280"/>
            <a:chOff x="4572000" y="2971800"/>
            <a:chExt cx="457200" cy="1295280"/>
          </a:xfrm>
        </p:grpSpPr>
        <p:sp>
          <p:nvSpPr>
            <p:cNvPr id="266" name="Line 6"/>
            <p:cNvSpPr/>
            <p:nvPr/>
          </p:nvSpPr>
          <p:spPr>
            <a:xfrm flipH="1" flipV="1">
              <a:off x="4572000" y="2971800"/>
              <a:ext cx="457200" cy="1295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 rot="10800000">
              <a:off x="4572000" y="2971800"/>
              <a:ext cx="4572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943600" y="3048120"/>
            <a:ext cx="380880" cy="1218960"/>
            <a:chOff x="5943600" y="3048120"/>
            <a:chExt cx="380880" cy="1218960"/>
          </a:xfrm>
        </p:grpSpPr>
        <p:sp>
          <p:nvSpPr>
            <p:cNvPr id="269" name="Line 7"/>
            <p:cNvSpPr/>
            <p:nvPr/>
          </p:nvSpPr>
          <p:spPr>
            <a:xfrm flipH="1" flipV="1">
              <a:off x="5943600" y="3048120"/>
              <a:ext cx="380880" cy="12189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 rot="10800000">
              <a:off x="5943600" y="3048120"/>
              <a:ext cx="38088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8"/>
          <p:cNvSpPr/>
          <p:nvPr/>
        </p:nvSpPr>
        <p:spPr>
          <a:xfrm>
            <a:off x="762120" y="4724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大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762120" y="685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覆杯实验的解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457200" y="54864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覆杯实验让我们了解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609480" y="62784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毫无疑问   大气压强的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191120" y="441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大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791320" y="441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大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2004101414291528566"/>
          <p:cNvPicPr/>
          <p:nvPr/>
        </p:nvPicPr>
        <p:blipFill>
          <a:blip r:embed="rId1"/>
          <a:stretch/>
        </p:blipFill>
        <p:spPr>
          <a:xfrm>
            <a:off x="3292560" y="1268280"/>
            <a:ext cx="2558880" cy="4465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2751120" cy="441972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1752120" y="3048120"/>
            <a:ext cx="685800" cy="457200"/>
            <a:chOff x="1752120" y="3048120"/>
            <a:chExt cx="685800" cy="457200"/>
          </a:xfrm>
        </p:grpSpPr>
        <p:sp>
          <p:nvSpPr>
            <p:cNvPr id="280" name="Line 9"/>
            <p:cNvSpPr/>
            <p:nvPr/>
          </p:nvSpPr>
          <p:spPr>
            <a:xfrm flipH="1" flipV="1">
              <a:off x="1752120" y="30481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10800000">
              <a:off x="1752120" y="304812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10"/>
          <p:cNvSpPr/>
          <p:nvPr/>
        </p:nvSpPr>
        <p:spPr>
          <a:xfrm>
            <a:off x="2438280" y="3657600"/>
            <a:ext cx="60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注射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962160" y="4114440"/>
            <a:ext cx="609840" cy="1219320"/>
            <a:chOff x="3962160" y="4114440"/>
            <a:chExt cx="609840" cy="1219320"/>
          </a:xfrm>
        </p:grpSpPr>
        <p:sp>
          <p:nvSpPr>
            <p:cNvPr id="284" name="Line 12"/>
            <p:cNvSpPr/>
            <p:nvPr/>
          </p:nvSpPr>
          <p:spPr>
            <a:xfrm flipV="1">
              <a:off x="3962520" y="411444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3962160" y="4114440"/>
              <a:ext cx="6094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13"/>
          <p:cNvSpPr/>
          <p:nvPr/>
        </p:nvSpPr>
        <p:spPr>
          <a:xfrm>
            <a:off x="3276720" y="5410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大小试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181480" y="1219320"/>
            <a:ext cx="609840" cy="1066680"/>
            <a:chOff x="5181480" y="1219320"/>
            <a:chExt cx="609840" cy="1066680"/>
          </a:xfrm>
        </p:grpSpPr>
        <p:sp>
          <p:nvSpPr>
            <p:cNvPr id="288" name="Line 14"/>
            <p:cNvSpPr/>
            <p:nvPr/>
          </p:nvSpPr>
          <p:spPr>
            <a:xfrm flipH="1">
              <a:off x="5181480" y="1219320"/>
              <a:ext cx="60984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5181480" y="1219320"/>
              <a:ext cx="60984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5"/>
          <p:cNvSpPr/>
          <p:nvPr/>
        </p:nvSpPr>
        <p:spPr>
          <a:xfrm>
            <a:off x="5638680" y="533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20060828210157155"/>
          <p:cNvPicPr/>
          <p:nvPr/>
        </p:nvPicPr>
        <p:blipFill>
          <a:blip r:embed="rId1"/>
          <a:stretch/>
        </p:blipFill>
        <p:spPr>
          <a:xfrm>
            <a:off x="2604960" y="990720"/>
            <a:ext cx="4730760" cy="58672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457200" y="380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瓶中的水会怎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596880" y="479520"/>
            <a:ext cx="53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大气压的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2" descr="fig6-20.gif"/>
          <p:cNvPicPr/>
          <p:nvPr/>
        </p:nvPicPr>
        <p:blipFill>
          <a:blip r:embed="rId1"/>
          <a:stretch/>
        </p:blipFill>
        <p:spPr>
          <a:xfrm>
            <a:off x="428760" y="1571760"/>
            <a:ext cx="2919240" cy="19461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"/>
          <p:cNvSpPr/>
          <p:nvPr/>
        </p:nvSpPr>
        <p:spPr>
          <a:xfrm>
            <a:off x="3548160" y="1560600"/>
            <a:ext cx="5429160" cy="60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覆杯实验中，如果能找到大气压能托起水柱的最大高度，则水柱产生的压强等于大气压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下箭头 4"/>
          <p:cNvSpPr/>
          <p:nvPr/>
        </p:nvSpPr>
        <p:spPr>
          <a:xfrm>
            <a:off x="5435640" y="3284640"/>
            <a:ext cx="865080" cy="358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4949640" y="3645000"/>
            <a:ext cx="2314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柱太高，用水银代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下箭头 6"/>
          <p:cNvSpPr/>
          <p:nvPr/>
        </p:nvSpPr>
        <p:spPr>
          <a:xfrm>
            <a:off x="5435640" y="4292640"/>
            <a:ext cx="93672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bacc6"/>
          </a:solidFill>
          <a:ln w="25560">
            <a:solidFill>
              <a:srgbClr val="357d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8"/>
          <p:cNvSpPr/>
          <p:nvPr/>
        </p:nvSpPr>
        <p:spPr>
          <a:xfrm>
            <a:off x="3220920" y="5145120"/>
            <a:ext cx="5773680" cy="10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最早测定大气压的是意大利科学家托里拆利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托里拆利实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http://www.mypupil.org/uploadfile/2009/1202/20091202103632392.jpg"/>
          <p:cNvPicPr/>
          <p:nvPr/>
        </p:nvPicPr>
        <p:blipFill>
          <a:blip r:embed="rId2"/>
          <a:stretch/>
        </p:blipFill>
        <p:spPr>
          <a:xfrm>
            <a:off x="755640" y="3716280"/>
            <a:ext cx="2068560" cy="285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09480" y="1600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液体可以流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3657600" y="175248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105520" y="137160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液体内部向各个方向都有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09480" y="41911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气体也可以流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3962520" y="43434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56386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托里拆利实验3"/>
          <p:cNvPicPr/>
          <p:nvPr/>
        </p:nvPicPr>
        <p:blipFill>
          <a:blip r:embed="rId1"/>
          <a:stretch/>
        </p:blipFill>
        <p:spPr>
          <a:xfrm>
            <a:off x="1763640" y="2057400"/>
            <a:ext cx="5832720" cy="3770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7"/>
          <p:cNvSpPr/>
          <p:nvPr/>
        </p:nvSpPr>
        <p:spPr>
          <a:xfrm>
            <a:off x="1600200" y="1073160"/>
            <a:ext cx="4192560" cy="64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2"/>
              </a:rPr>
              <a:t>托里拆利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24000" y="2286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托里拆利实验中当玻璃管中的水银柱高度降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60m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上方有空气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0" y="1143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管内水银柱产生的压强等于大气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2971800" y="1752480"/>
            <a:ext cx="584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玻璃管内水银面上方是真空，而管外水银面受到大气压强，正是大气压强支持着管内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760mm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高的水银柱，也就是大气压强跟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760mm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高水银柱产生的压强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3419640" y="414972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时大气压强是多少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3348000" y="4773600"/>
            <a:ext cx="5651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P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=</a:t>
            </a:r>
            <a:r>
              <a:rPr b="1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i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g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3.6×10 </a:t>
            </a:r>
            <a:r>
              <a:rPr b="1" lang="en-US" sz="2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kg/m</a:t>
            </a:r>
            <a:r>
              <a:rPr b="1" lang="en-US" sz="2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 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1" lang="en-US" sz="2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N/kg×0.76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.01 × 10 </a:t>
            </a:r>
            <a:r>
              <a:rPr b="1" lang="en-US" sz="2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5 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1"/>
          <p:cNvGrpSpPr/>
          <p:nvPr/>
        </p:nvGrpSpPr>
        <p:grpSpPr>
          <a:xfrm>
            <a:off x="179280" y="1628640"/>
            <a:ext cx="1455840" cy="4873320"/>
            <a:chOff x="179280" y="1628640"/>
            <a:chExt cx="1455840" cy="4873320"/>
          </a:xfrm>
        </p:grpSpPr>
        <p:grpSp>
          <p:nvGrpSpPr>
            <p:cNvPr id="313" name="Group 12"/>
            <p:cNvGrpSpPr/>
            <p:nvPr/>
          </p:nvGrpSpPr>
          <p:grpSpPr>
            <a:xfrm>
              <a:off x="179280" y="1628640"/>
              <a:ext cx="1455840" cy="4873320"/>
              <a:chOff x="179280" y="1628640"/>
              <a:chExt cx="1455840" cy="4873320"/>
            </a:xfrm>
          </p:grpSpPr>
          <p:sp>
            <p:nvSpPr>
              <p:cNvPr id="314" name="AutoShape 13"/>
              <p:cNvSpPr/>
              <p:nvPr/>
            </p:nvSpPr>
            <p:spPr>
              <a:xfrm>
                <a:off x="179280" y="5995800"/>
                <a:ext cx="1455840" cy="506160"/>
              </a:xfrm>
              <a:prstGeom prst="can">
                <a:avLst>
                  <a:gd name="adj" fmla="val 38393"/>
                </a:avLst>
              </a:prstGeom>
              <a:gradFill rotWithShape="0">
                <a:gsLst>
                  <a:gs pos="0">
                    <a:srgbClr val="7da7d1"/>
                  </a:gs>
                  <a:gs pos="50000">
                    <a:srgbClr val="99ccff"/>
                  </a:gs>
                  <a:gs pos="100000">
                    <a:srgbClr val="7da7d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14"/>
              <p:cNvSpPr/>
              <p:nvPr/>
            </p:nvSpPr>
            <p:spPr>
              <a:xfrm>
                <a:off x="723600" y="6234480"/>
                <a:ext cx="385200" cy="189720"/>
              </a:xfrm>
              <a:prstGeom prst="parallelogram">
                <a:avLst>
                  <a:gd name="adj" fmla="val 50759"/>
                </a:avLst>
              </a:prstGeom>
              <a:solidFill>
                <a:srgbClr val="66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15"/>
              <p:cNvSpPr/>
              <p:nvPr/>
            </p:nvSpPr>
            <p:spPr>
              <a:xfrm>
                <a:off x="179280" y="5742720"/>
                <a:ext cx="1455840" cy="75924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16"/>
              <p:cNvSpPr/>
              <p:nvPr/>
            </p:nvSpPr>
            <p:spPr>
              <a:xfrm flipV="1">
                <a:off x="846360" y="1628640"/>
                <a:ext cx="126720" cy="4683600"/>
              </a:xfrm>
              <a:prstGeom prst="can">
                <a:avLst>
                  <a:gd name="adj" fmla="val 1324"/>
                </a:avLst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utoShape 17"/>
              <p:cNvSpPr/>
              <p:nvPr/>
            </p:nvSpPr>
            <p:spPr>
              <a:xfrm flipV="1">
                <a:off x="179280" y="5742000"/>
                <a:ext cx="1455840" cy="189720"/>
              </a:xfrm>
              <a:custGeom>
                <a:avLst/>
                <a:gdLst/>
                <a:ahLst/>
                <a:rect l="l" t="t" r="r" b="b"/>
                <a:pathLst>
                  <a:path w="21601" h="21546">
                    <a:moveTo>
                      <a:pt x="9724" y="21546"/>
                    </a:moveTo>
                    <a:cubicBezTo>
                      <a:pt x="4203" y="20993"/>
                      <a:pt x="0" y="16348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348"/>
                      <a:pt x="17396" y="20993"/>
                      <a:pt x="11875" y="21546"/>
                    </a:cubicBezTo>
                    <a:cubicBezTo>
                      <a:pt x="17396" y="20993"/>
                      <a:pt x="21600" y="1634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6348"/>
                      <a:pt x="4203" y="20993"/>
                      <a:pt x="9724" y="21546"/>
                    </a:cubicBezTo>
                    <a:close/>
                  </a:path>
                </a:pathLst>
              </a:cu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8"/>
              <p:cNvSpPr/>
              <p:nvPr/>
            </p:nvSpPr>
            <p:spPr>
              <a:xfrm>
                <a:off x="846360" y="6098760"/>
                <a:ext cx="126720" cy="245160"/>
              </a:xfrm>
              <a:custGeom>
                <a:avLst/>
                <a:gdLst/>
                <a:ahLst/>
                <a:rect l="l" t="t" r="r" b="b"/>
                <a:pathLst>
                  <a:path w="96" h="186">
                    <a:moveTo>
                      <a:pt x="0" y="177"/>
                    </a:moveTo>
                    <a:lnTo>
                      <a:pt x="0" y="0"/>
                    </a:lnTo>
                    <a:lnTo>
                      <a:pt x="9" y="5"/>
                    </a:lnTo>
                    <a:cubicBezTo>
                      <a:pt x="17" y="7"/>
                      <a:pt x="35" y="14"/>
                      <a:pt x="48" y="14"/>
                    </a:cubicBezTo>
                    <a:cubicBezTo>
                      <a:pt x="61" y="14"/>
                      <a:pt x="80" y="7"/>
                      <a:pt x="88" y="5"/>
                    </a:cubicBezTo>
                    <a:lnTo>
                      <a:pt x="96" y="0"/>
                    </a:lnTo>
                    <a:lnTo>
                      <a:pt x="96" y="174"/>
                    </a:lnTo>
                    <a:lnTo>
                      <a:pt x="90" y="180"/>
                    </a:lnTo>
                    <a:cubicBezTo>
                      <a:pt x="83" y="182"/>
                      <a:pt x="65" y="186"/>
                      <a:pt x="52" y="186"/>
                    </a:cubicBezTo>
                    <a:cubicBezTo>
                      <a:pt x="39" y="186"/>
                      <a:pt x="19" y="184"/>
                      <a:pt x="10" y="182"/>
                    </a:cubicBezTo>
                    <a:lnTo>
                      <a:pt x="0" y="1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876"/>
                  </a:gs>
                  <a:gs pos="50000">
                    <a:srgbClr val="0099cc"/>
                  </a:gs>
                  <a:gs pos="100000">
                    <a:srgbClr val="005876"/>
                  </a:gs>
                </a:gsLst>
                <a:lin ang="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19"/>
              <p:cNvSpPr/>
              <p:nvPr/>
            </p:nvSpPr>
            <p:spPr>
              <a:xfrm flipV="1">
                <a:off x="179280" y="5995080"/>
                <a:ext cx="1455840" cy="189720"/>
              </a:xfrm>
              <a:custGeom>
                <a:avLst/>
                <a:gdLst/>
                <a:ahLst/>
                <a:rect l="l" t="t" r="r" b="b"/>
                <a:pathLst>
                  <a:path w="21601" h="21546">
                    <a:moveTo>
                      <a:pt x="9724" y="21546"/>
                    </a:moveTo>
                    <a:cubicBezTo>
                      <a:pt x="4203" y="20993"/>
                      <a:pt x="0" y="16348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348"/>
                      <a:pt x="17396" y="20993"/>
                      <a:pt x="11875" y="21546"/>
                    </a:cubicBezTo>
                    <a:cubicBezTo>
                      <a:pt x="17396" y="20993"/>
                      <a:pt x="21600" y="1634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6348"/>
                      <a:pt x="4203" y="20993"/>
                      <a:pt x="9724" y="21546"/>
                    </a:cubicBezTo>
                    <a:close/>
                  </a:path>
                </a:pathLst>
              </a:cu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Rectangle 20"/>
            <p:cNvSpPr/>
            <p:nvPr/>
          </p:nvSpPr>
          <p:spPr>
            <a:xfrm>
              <a:off x="1017360" y="501156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1"/>
          <p:cNvGrpSpPr/>
          <p:nvPr/>
        </p:nvGrpSpPr>
        <p:grpSpPr>
          <a:xfrm>
            <a:off x="1692360" y="1700280"/>
            <a:ext cx="1630440" cy="4824000"/>
            <a:chOff x="1692360" y="1700280"/>
            <a:chExt cx="1630440" cy="4824000"/>
          </a:xfrm>
        </p:grpSpPr>
        <p:sp>
          <p:nvSpPr>
            <p:cNvPr id="323" name="Rectangle 22"/>
            <p:cNvSpPr/>
            <p:nvPr/>
          </p:nvSpPr>
          <p:spPr>
            <a:xfrm>
              <a:off x="3138840" y="506412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23"/>
            <p:cNvGrpSpPr/>
            <p:nvPr/>
          </p:nvGrpSpPr>
          <p:grpSpPr>
            <a:xfrm>
              <a:off x="1722600" y="1700280"/>
              <a:ext cx="1455840" cy="4824000"/>
              <a:chOff x="1722600" y="1700280"/>
              <a:chExt cx="1455840" cy="4824000"/>
            </a:xfrm>
          </p:grpSpPr>
          <p:grpSp>
            <p:nvGrpSpPr>
              <p:cNvPr id="325" name="Group 24"/>
              <p:cNvGrpSpPr/>
              <p:nvPr/>
            </p:nvGrpSpPr>
            <p:grpSpPr>
              <a:xfrm>
                <a:off x="1722600" y="5773680"/>
                <a:ext cx="1455840" cy="750600"/>
                <a:chOff x="1722600" y="5773680"/>
                <a:chExt cx="1455840" cy="750600"/>
              </a:xfrm>
            </p:grpSpPr>
            <p:sp>
              <p:nvSpPr>
                <p:cNvPr id="326" name="AutoShape 25"/>
                <p:cNvSpPr/>
                <p:nvPr/>
              </p:nvSpPr>
              <p:spPr>
                <a:xfrm>
                  <a:off x="1722600" y="6023520"/>
                  <a:ext cx="1455840" cy="500400"/>
                </a:xfrm>
                <a:prstGeom prst="can">
                  <a:avLst>
                    <a:gd name="adj" fmla="val 38393"/>
                  </a:avLst>
                </a:prstGeom>
                <a:gradFill rotWithShape="0">
                  <a:gsLst>
                    <a:gs pos="0">
                      <a:srgbClr val="7da7d1"/>
                    </a:gs>
                    <a:gs pos="50000">
                      <a:srgbClr val="99ccff"/>
                    </a:gs>
                    <a:gs pos="100000">
                      <a:srgbClr val="7da7d1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AutoShape 26"/>
                <p:cNvSpPr/>
                <p:nvPr/>
              </p:nvSpPr>
              <p:spPr>
                <a:xfrm flipV="1">
                  <a:off x="1722600" y="6022800"/>
                  <a:ext cx="1455840" cy="188280"/>
                </a:xfrm>
                <a:custGeom>
                  <a:avLst/>
                  <a:gdLst/>
                  <a:ahLst/>
                  <a:rect l="l" t="t" r="r" b="b"/>
                  <a:pathLst>
                    <a:path w="21601" h="21546">
                      <a:moveTo>
                        <a:pt x="9724" y="21546"/>
                      </a:moveTo>
                      <a:cubicBezTo>
                        <a:pt x="4203" y="20993"/>
                        <a:pt x="0" y="16348"/>
                        <a:pt x="0" y="10800"/>
                      </a:cubicBez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6348"/>
                        <a:pt x="17396" y="20993"/>
                        <a:pt x="11875" y="21546"/>
                      </a:cubicBezTo>
                      <a:cubicBezTo>
                        <a:pt x="17396" y="20993"/>
                        <a:pt x="21600" y="16348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6348"/>
                        <a:pt x="4203" y="20993"/>
                        <a:pt x="9724" y="21546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AutoShape 27"/>
                <p:cNvSpPr/>
                <p:nvPr/>
              </p:nvSpPr>
              <p:spPr>
                <a:xfrm>
                  <a:off x="1722600" y="5773680"/>
                  <a:ext cx="1455840" cy="750600"/>
                </a:xfrm>
                <a:prstGeom prst="can">
                  <a:avLst>
                    <a:gd name="adj" fmla="val 25000"/>
                  </a:avLst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Group 28"/>
              <p:cNvGrpSpPr/>
              <p:nvPr/>
            </p:nvGrpSpPr>
            <p:grpSpPr>
              <a:xfrm>
                <a:off x="2370240" y="1700280"/>
                <a:ext cx="146160" cy="4732560"/>
                <a:chOff x="2370240" y="1700280"/>
                <a:chExt cx="146160" cy="4732560"/>
              </a:xfrm>
            </p:grpSpPr>
            <p:grpSp>
              <p:nvGrpSpPr>
                <p:cNvPr id="330" name="Group 29"/>
                <p:cNvGrpSpPr/>
                <p:nvPr/>
              </p:nvGrpSpPr>
              <p:grpSpPr>
                <a:xfrm>
                  <a:off x="2370240" y="1700280"/>
                  <a:ext cx="142920" cy="4632480"/>
                  <a:chOff x="2370240" y="1700280"/>
                  <a:chExt cx="142920" cy="4632480"/>
                </a:xfrm>
              </p:grpSpPr>
              <p:sp>
                <p:nvSpPr>
                  <p:cNvPr id="331" name="AutoShape 30"/>
                  <p:cNvSpPr/>
                  <p:nvPr/>
                </p:nvSpPr>
                <p:spPr>
                  <a:xfrm flipV="1">
                    <a:off x="2386440" y="1700280"/>
                    <a:ext cx="126720" cy="4632480"/>
                  </a:xfrm>
                  <a:prstGeom prst="can">
                    <a:avLst>
                      <a:gd name="adj" fmla="val 1324"/>
                    </a:avLst>
                  </a:prstGeom>
                  <a:gradFill rotWithShape="0">
                    <a:gsLst>
                      <a:gs pos="0">
                        <a:srgbClr val="475e76"/>
                      </a:gs>
                      <a:gs pos="50000">
                        <a:srgbClr val="99ccff"/>
                      </a:gs>
                      <a:gs pos="100000">
                        <a:srgbClr val="475e76"/>
                      </a:gs>
                    </a:gsLst>
                    <a:lin ang="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Rectangle 31"/>
                  <p:cNvSpPr/>
                  <p:nvPr/>
                </p:nvSpPr>
                <p:spPr>
                  <a:xfrm>
                    <a:off x="2370240" y="1700280"/>
                    <a:ext cx="71640" cy="1067760"/>
                  </a:xfrm>
                  <a:prstGeom prst="rect">
                    <a:avLst/>
                  </a:prstGeom>
                  <a:solidFill>
                    <a:srgbClr val="b1f0fd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Rectangle 32"/>
                  <p:cNvSpPr/>
                  <p:nvPr/>
                </p:nvSpPr>
                <p:spPr>
                  <a:xfrm>
                    <a:off x="2441880" y="1700280"/>
                    <a:ext cx="71280" cy="1067760"/>
                  </a:xfrm>
                  <a:prstGeom prst="rect">
                    <a:avLst/>
                  </a:prstGeom>
                  <a:solidFill>
                    <a:srgbClr val="b1f0fd">
                      <a:alpha val="6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33"/>
                <p:cNvSpPr/>
                <p:nvPr/>
              </p:nvSpPr>
              <p:spPr>
                <a:xfrm>
                  <a:off x="2389320" y="6191280"/>
                  <a:ext cx="127080" cy="241560"/>
                </a:xfrm>
                <a:custGeom>
                  <a:avLst/>
                  <a:gdLst/>
                  <a:ahLst/>
                  <a:rect l="l" t="t" r="r" b="b"/>
                  <a:pathLst>
                    <a:path w="96" h="186">
                      <a:moveTo>
                        <a:pt x="0" y="177"/>
                      </a:moveTo>
                      <a:lnTo>
                        <a:pt x="0" y="0"/>
                      </a:lnTo>
                      <a:lnTo>
                        <a:pt x="9" y="5"/>
                      </a:lnTo>
                      <a:cubicBezTo>
                        <a:pt x="17" y="7"/>
                        <a:pt x="35" y="14"/>
                        <a:pt x="48" y="14"/>
                      </a:cubicBezTo>
                      <a:cubicBezTo>
                        <a:pt x="61" y="14"/>
                        <a:pt x="80" y="7"/>
                        <a:pt x="88" y="5"/>
                      </a:cubicBezTo>
                      <a:lnTo>
                        <a:pt x="96" y="0"/>
                      </a:lnTo>
                      <a:lnTo>
                        <a:pt x="96" y="174"/>
                      </a:lnTo>
                      <a:lnTo>
                        <a:pt x="90" y="180"/>
                      </a:lnTo>
                      <a:cubicBezTo>
                        <a:pt x="83" y="182"/>
                        <a:pt x="65" y="186"/>
                        <a:pt x="52" y="186"/>
                      </a:cubicBezTo>
                      <a:cubicBezTo>
                        <a:pt x="39" y="186"/>
                        <a:pt x="19" y="184"/>
                        <a:pt x="10" y="182"/>
                      </a:cubicBezTo>
                      <a:lnTo>
                        <a:pt x="0" y="1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876"/>
                    </a:gs>
                    <a:gs pos="50000">
                      <a:srgbClr val="0099cc"/>
                    </a:gs>
                    <a:gs pos="100000">
                      <a:srgbClr val="005876"/>
                    </a:gs>
                  </a:gsLst>
                  <a:lin ang="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35" name="Picture 34" descr=""/>
            <p:cNvPicPr/>
            <p:nvPr/>
          </p:nvPicPr>
          <p:blipFill>
            <a:blip r:embed="rId1"/>
            <a:stretch/>
          </p:blipFill>
          <p:spPr>
            <a:xfrm>
              <a:off x="1692360" y="5761440"/>
              <a:ext cx="1511280" cy="20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Rectangle 35"/>
          <p:cNvSpPr/>
          <p:nvPr/>
        </p:nvSpPr>
        <p:spPr>
          <a:xfrm>
            <a:off x="0" y="112536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管内水银柱产生的压强等于大气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6"/>
          <p:cNvSpPr/>
          <p:nvPr/>
        </p:nvSpPr>
        <p:spPr>
          <a:xfrm>
            <a:off x="2971800" y="1735200"/>
            <a:ext cx="584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玻璃管内水银面上方是真空，而管外水银面受到大气压强，正是大气压强支持着管内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760mm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高的水银柱，也就是大气压强跟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760mm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高水银柱产生的压强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7"/>
          <p:cNvSpPr/>
          <p:nvPr/>
        </p:nvSpPr>
        <p:spPr>
          <a:xfrm>
            <a:off x="3419640" y="41324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时大气压强是多少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8"/>
          <p:cNvSpPr/>
          <p:nvPr/>
        </p:nvSpPr>
        <p:spPr>
          <a:xfrm>
            <a:off x="3348000" y="4756320"/>
            <a:ext cx="5651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P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=</a:t>
            </a:r>
            <a:r>
              <a:rPr b="1" i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1" i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g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=13.6×10 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kg/m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 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×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N/kg×0.76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=1.01 × 10 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5 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9"/>
          <p:cNvGrpSpPr/>
          <p:nvPr/>
        </p:nvGrpSpPr>
        <p:grpSpPr>
          <a:xfrm>
            <a:off x="179280" y="1611360"/>
            <a:ext cx="1455840" cy="4873320"/>
            <a:chOff x="179280" y="1611360"/>
            <a:chExt cx="1455840" cy="4873320"/>
          </a:xfrm>
        </p:grpSpPr>
        <p:grpSp>
          <p:nvGrpSpPr>
            <p:cNvPr id="341" name="Group 40"/>
            <p:cNvGrpSpPr/>
            <p:nvPr/>
          </p:nvGrpSpPr>
          <p:grpSpPr>
            <a:xfrm>
              <a:off x="179280" y="1611360"/>
              <a:ext cx="1455840" cy="4873320"/>
              <a:chOff x="179280" y="1611360"/>
              <a:chExt cx="1455840" cy="4873320"/>
            </a:xfrm>
          </p:grpSpPr>
          <p:sp>
            <p:nvSpPr>
              <p:cNvPr id="342" name="AutoShape 41"/>
              <p:cNvSpPr/>
              <p:nvPr/>
            </p:nvSpPr>
            <p:spPr>
              <a:xfrm>
                <a:off x="179280" y="5978520"/>
                <a:ext cx="1455840" cy="506160"/>
              </a:xfrm>
              <a:prstGeom prst="can">
                <a:avLst>
                  <a:gd name="adj" fmla="val 38393"/>
                </a:avLst>
              </a:prstGeom>
              <a:gradFill rotWithShape="0">
                <a:gsLst>
                  <a:gs pos="0">
                    <a:srgbClr val="7da7d1"/>
                  </a:gs>
                  <a:gs pos="50000">
                    <a:srgbClr val="99ccff"/>
                  </a:gs>
                  <a:gs pos="100000">
                    <a:srgbClr val="7da7d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42"/>
              <p:cNvSpPr/>
              <p:nvPr/>
            </p:nvSpPr>
            <p:spPr>
              <a:xfrm>
                <a:off x="723600" y="6217200"/>
                <a:ext cx="385200" cy="189720"/>
              </a:xfrm>
              <a:prstGeom prst="parallelogram">
                <a:avLst>
                  <a:gd name="adj" fmla="val 50759"/>
                </a:avLst>
              </a:prstGeom>
              <a:solidFill>
                <a:srgbClr val="66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43"/>
              <p:cNvSpPr/>
              <p:nvPr/>
            </p:nvSpPr>
            <p:spPr>
              <a:xfrm>
                <a:off x="179280" y="5725440"/>
                <a:ext cx="1455840" cy="75924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4"/>
              <p:cNvSpPr/>
              <p:nvPr/>
            </p:nvSpPr>
            <p:spPr>
              <a:xfrm flipV="1">
                <a:off x="846360" y="1611360"/>
                <a:ext cx="126720" cy="4683600"/>
              </a:xfrm>
              <a:prstGeom prst="can">
                <a:avLst>
                  <a:gd name="adj" fmla="val 1324"/>
                </a:avLst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5"/>
              <p:cNvSpPr/>
              <p:nvPr/>
            </p:nvSpPr>
            <p:spPr>
              <a:xfrm flipV="1">
                <a:off x="179280" y="5724720"/>
                <a:ext cx="1455840" cy="189720"/>
              </a:xfrm>
              <a:custGeom>
                <a:avLst/>
                <a:gdLst/>
                <a:ahLst/>
                <a:rect l="l" t="t" r="r" b="b"/>
                <a:pathLst>
                  <a:path w="21601" h="21546">
                    <a:moveTo>
                      <a:pt x="9724" y="21546"/>
                    </a:moveTo>
                    <a:cubicBezTo>
                      <a:pt x="4203" y="20993"/>
                      <a:pt x="0" y="16348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348"/>
                      <a:pt x="17396" y="20993"/>
                      <a:pt x="11875" y="21546"/>
                    </a:cubicBezTo>
                    <a:cubicBezTo>
                      <a:pt x="17396" y="20993"/>
                      <a:pt x="21600" y="1634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6348"/>
                      <a:pt x="4203" y="20993"/>
                      <a:pt x="9724" y="21546"/>
                    </a:cubicBezTo>
                    <a:close/>
                  </a:path>
                </a:pathLst>
              </a:cu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6"/>
              <p:cNvSpPr/>
              <p:nvPr/>
            </p:nvSpPr>
            <p:spPr>
              <a:xfrm>
                <a:off x="846360" y="6081480"/>
                <a:ext cx="126720" cy="245160"/>
              </a:xfrm>
              <a:custGeom>
                <a:avLst/>
                <a:gdLst/>
                <a:ahLst/>
                <a:rect l="l" t="t" r="r" b="b"/>
                <a:pathLst>
                  <a:path w="96" h="186">
                    <a:moveTo>
                      <a:pt x="0" y="177"/>
                    </a:moveTo>
                    <a:lnTo>
                      <a:pt x="0" y="0"/>
                    </a:lnTo>
                    <a:lnTo>
                      <a:pt x="9" y="5"/>
                    </a:lnTo>
                    <a:cubicBezTo>
                      <a:pt x="17" y="7"/>
                      <a:pt x="35" y="14"/>
                      <a:pt x="48" y="14"/>
                    </a:cubicBezTo>
                    <a:cubicBezTo>
                      <a:pt x="61" y="14"/>
                      <a:pt x="80" y="7"/>
                      <a:pt x="88" y="5"/>
                    </a:cubicBezTo>
                    <a:lnTo>
                      <a:pt x="96" y="0"/>
                    </a:lnTo>
                    <a:lnTo>
                      <a:pt x="96" y="174"/>
                    </a:lnTo>
                    <a:lnTo>
                      <a:pt x="90" y="180"/>
                    </a:lnTo>
                    <a:cubicBezTo>
                      <a:pt x="83" y="182"/>
                      <a:pt x="65" y="186"/>
                      <a:pt x="52" y="186"/>
                    </a:cubicBezTo>
                    <a:cubicBezTo>
                      <a:pt x="39" y="186"/>
                      <a:pt x="19" y="184"/>
                      <a:pt x="10" y="182"/>
                    </a:cubicBezTo>
                    <a:lnTo>
                      <a:pt x="0" y="1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876"/>
                  </a:gs>
                  <a:gs pos="50000">
                    <a:srgbClr val="0099cc"/>
                  </a:gs>
                  <a:gs pos="100000">
                    <a:srgbClr val="005876"/>
                  </a:gs>
                </a:gsLst>
                <a:lin ang="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47"/>
              <p:cNvSpPr/>
              <p:nvPr/>
            </p:nvSpPr>
            <p:spPr>
              <a:xfrm flipV="1">
                <a:off x="179280" y="5977800"/>
                <a:ext cx="1455840" cy="189720"/>
              </a:xfrm>
              <a:custGeom>
                <a:avLst/>
                <a:gdLst/>
                <a:ahLst/>
                <a:rect l="l" t="t" r="r" b="b"/>
                <a:pathLst>
                  <a:path w="21601" h="21546">
                    <a:moveTo>
                      <a:pt x="9724" y="21546"/>
                    </a:moveTo>
                    <a:cubicBezTo>
                      <a:pt x="4203" y="20993"/>
                      <a:pt x="0" y="16348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348"/>
                      <a:pt x="17396" y="20993"/>
                      <a:pt x="11875" y="21546"/>
                    </a:cubicBezTo>
                    <a:cubicBezTo>
                      <a:pt x="17396" y="20993"/>
                      <a:pt x="21600" y="1634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6348"/>
                      <a:pt x="4203" y="20993"/>
                      <a:pt x="9724" y="21546"/>
                    </a:cubicBezTo>
                    <a:close/>
                  </a:path>
                </a:pathLst>
              </a:cu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Rectangle 48"/>
            <p:cNvSpPr/>
            <p:nvPr/>
          </p:nvSpPr>
          <p:spPr>
            <a:xfrm>
              <a:off x="1017360" y="499428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49"/>
          <p:cNvGrpSpPr/>
          <p:nvPr/>
        </p:nvGrpSpPr>
        <p:grpSpPr>
          <a:xfrm>
            <a:off x="1692360" y="1682640"/>
            <a:ext cx="1630440" cy="4824000"/>
            <a:chOff x="1692360" y="1682640"/>
            <a:chExt cx="1630440" cy="4824000"/>
          </a:xfrm>
        </p:grpSpPr>
        <p:sp>
          <p:nvSpPr>
            <p:cNvPr id="351" name="Rectangle 50"/>
            <p:cNvSpPr/>
            <p:nvPr/>
          </p:nvSpPr>
          <p:spPr>
            <a:xfrm>
              <a:off x="3138840" y="504648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51"/>
            <p:cNvGrpSpPr/>
            <p:nvPr/>
          </p:nvGrpSpPr>
          <p:grpSpPr>
            <a:xfrm>
              <a:off x="1722600" y="1682640"/>
              <a:ext cx="1455840" cy="4824000"/>
              <a:chOff x="1722600" y="1682640"/>
              <a:chExt cx="1455840" cy="4824000"/>
            </a:xfrm>
          </p:grpSpPr>
          <p:grpSp>
            <p:nvGrpSpPr>
              <p:cNvPr id="353" name="Group 52"/>
              <p:cNvGrpSpPr/>
              <p:nvPr/>
            </p:nvGrpSpPr>
            <p:grpSpPr>
              <a:xfrm>
                <a:off x="1722600" y="5756040"/>
                <a:ext cx="1455840" cy="750600"/>
                <a:chOff x="1722600" y="5756040"/>
                <a:chExt cx="1455840" cy="750600"/>
              </a:xfrm>
            </p:grpSpPr>
            <p:sp>
              <p:nvSpPr>
                <p:cNvPr id="354" name="AutoShape 53"/>
                <p:cNvSpPr/>
                <p:nvPr/>
              </p:nvSpPr>
              <p:spPr>
                <a:xfrm>
                  <a:off x="1722600" y="6005880"/>
                  <a:ext cx="1455840" cy="500400"/>
                </a:xfrm>
                <a:prstGeom prst="can">
                  <a:avLst>
                    <a:gd name="adj" fmla="val 38393"/>
                  </a:avLst>
                </a:prstGeom>
                <a:gradFill rotWithShape="0">
                  <a:gsLst>
                    <a:gs pos="0">
                      <a:srgbClr val="7da7d1"/>
                    </a:gs>
                    <a:gs pos="50000">
                      <a:srgbClr val="99ccff"/>
                    </a:gs>
                    <a:gs pos="100000">
                      <a:srgbClr val="7da7d1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AutoShape 54"/>
                <p:cNvSpPr/>
                <p:nvPr/>
              </p:nvSpPr>
              <p:spPr>
                <a:xfrm flipV="1">
                  <a:off x="1722600" y="6005160"/>
                  <a:ext cx="1455840" cy="188280"/>
                </a:xfrm>
                <a:custGeom>
                  <a:avLst/>
                  <a:gdLst/>
                  <a:ahLst/>
                  <a:rect l="l" t="t" r="r" b="b"/>
                  <a:pathLst>
                    <a:path w="21601" h="21546">
                      <a:moveTo>
                        <a:pt x="9724" y="21546"/>
                      </a:moveTo>
                      <a:cubicBezTo>
                        <a:pt x="4203" y="20993"/>
                        <a:pt x="0" y="16348"/>
                        <a:pt x="0" y="10800"/>
                      </a:cubicBez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6348"/>
                        <a:pt x="17396" y="20993"/>
                        <a:pt x="11875" y="21546"/>
                      </a:cubicBezTo>
                      <a:cubicBezTo>
                        <a:pt x="17396" y="20993"/>
                        <a:pt x="21600" y="16348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6348"/>
                        <a:pt x="4203" y="20993"/>
                        <a:pt x="9724" y="21546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AutoShape 55"/>
                <p:cNvSpPr/>
                <p:nvPr/>
              </p:nvSpPr>
              <p:spPr>
                <a:xfrm>
                  <a:off x="1722600" y="5756040"/>
                  <a:ext cx="1455840" cy="750600"/>
                </a:xfrm>
                <a:prstGeom prst="can">
                  <a:avLst>
                    <a:gd name="adj" fmla="val 25000"/>
                  </a:avLst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Group 56"/>
              <p:cNvGrpSpPr/>
              <p:nvPr/>
            </p:nvGrpSpPr>
            <p:grpSpPr>
              <a:xfrm>
                <a:off x="2370240" y="1682640"/>
                <a:ext cx="146160" cy="4732560"/>
                <a:chOff x="2370240" y="1682640"/>
                <a:chExt cx="146160" cy="4732560"/>
              </a:xfrm>
            </p:grpSpPr>
            <p:grpSp>
              <p:nvGrpSpPr>
                <p:cNvPr id="358" name="Group 57"/>
                <p:cNvGrpSpPr/>
                <p:nvPr/>
              </p:nvGrpSpPr>
              <p:grpSpPr>
                <a:xfrm>
                  <a:off x="2370240" y="1682640"/>
                  <a:ext cx="142920" cy="4632480"/>
                  <a:chOff x="2370240" y="1682640"/>
                  <a:chExt cx="142920" cy="4632480"/>
                </a:xfrm>
              </p:grpSpPr>
              <p:sp>
                <p:nvSpPr>
                  <p:cNvPr id="359" name="AutoShape 58"/>
                  <p:cNvSpPr/>
                  <p:nvPr/>
                </p:nvSpPr>
                <p:spPr>
                  <a:xfrm flipV="1">
                    <a:off x="2386440" y="1682640"/>
                    <a:ext cx="126720" cy="4632480"/>
                  </a:xfrm>
                  <a:prstGeom prst="can">
                    <a:avLst>
                      <a:gd name="adj" fmla="val 1324"/>
                    </a:avLst>
                  </a:prstGeom>
                  <a:gradFill rotWithShape="0">
                    <a:gsLst>
                      <a:gs pos="0">
                        <a:srgbClr val="475e76"/>
                      </a:gs>
                      <a:gs pos="50000">
                        <a:srgbClr val="99ccff"/>
                      </a:gs>
                      <a:gs pos="100000">
                        <a:srgbClr val="475e76"/>
                      </a:gs>
                    </a:gsLst>
                    <a:lin ang="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Rectangle 59"/>
                  <p:cNvSpPr/>
                  <p:nvPr/>
                </p:nvSpPr>
                <p:spPr>
                  <a:xfrm>
                    <a:off x="2370240" y="1682640"/>
                    <a:ext cx="71640" cy="1067760"/>
                  </a:xfrm>
                  <a:prstGeom prst="rect">
                    <a:avLst/>
                  </a:prstGeom>
                  <a:solidFill>
                    <a:srgbClr val="b1f0fd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Rectangle 60"/>
                  <p:cNvSpPr/>
                  <p:nvPr/>
                </p:nvSpPr>
                <p:spPr>
                  <a:xfrm>
                    <a:off x="2441880" y="1682640"/>
                    <a:ext cx="71280" cy="1067760"/>
                  </a:xfrm>
                  <a:prstGeom prst="rect">
                    <a:avLst/>
                  </a:prstGeom>
                  <a:solidFill>
                    <a:srgbClr val="b1f0fd">
                      <a:alpha val="6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Freeform 61"/>
                <p:cNvSpPr/>
                <p:nvPr/>
              </p:nvSpPr>
              <p:spPr>
                <a:xfrm>
                  <a:off x="2389320" y="6173640"/>
                  <a:ext cx="127080" cy="241560"/>
                </a:xfrm>
                <a:custGeom>
                  <a:avLst/>
                  <a:gdLst/>
                  <a:ahLst/>
                  <a:rect l="l" t="t" r="r" b="b"/>
                  <a:pathLst>
                    <a:path w="96" h="186">
                      <a:moveTo>
                        <a:pt x="0" y="177"/>
                      </a:moveTo>
                      <a:lnTo>
                        <a:pt x="0" y="0"/>
                      </a:lnTo>
                      <a:lnTo>
                        <a:pt x="9" y="5"/>
                      </a:lnTo>
                      <a:cubicBezTo>
                        <a:pt x="17" y="7"/>
                        <a:pt x="35" y="14"/>
                        <a:pt x="48" y="14"/>
                      </a:cubicBezTo>
                      <a:cubicBezTo>
                        <a:pt x="61" y="14"/>
                        <a:pt x="80" y="7"/>
                        <a:pt x="88" y="5"/>
                      </a:cubicBezTo>
                      <a:lnTo>
                        <a:pt x="96" y="0"/>
                      </a:lnTo>
                      <a:lnTo>
                        <a:pt x="96" y="174"/>
                      </a:lnTo>
                      <a:lnTo>
                        <a:pt x="90" y="180"/>
                      </a:lnTo>
                      <a:cubicBezTo>
                        <a:pt x="83" y="182"/>
                        <a:pt x="65" y="186"/>
                        <a:pt x="52" y="186"/>
                      </a:cubicBezTo>
                      <a:cubicBezTo>
                        <a:pt x="39" y="186"/>
                        <a:pt x="19" y="184"/>
                        <a:pt x="10" y="182"/>
                      </a:cubicBezTo>
                      <a:lnTo>
                        <a:pt x="0" y="1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876"/>
                    </a:gs>
                    <a:gs pos="50000">
                      <a:srgbClr val="0099cc"/>
                    </a:gs>
                    <a:gs pos="100000">
                      <a:srgbClr val="005876"/>
                    </a:gs>
                  </a:gsLst>
                  <a:lin ang="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63" name="Picture 62" descr=""/>
            <p:cNvPicPr/>
            <p:nvPr/>
          </p:nvPicPr>
          <p:blipFill>
            <a:blip r:embed="rId2"/>
            <a:stretch/>
          </p:blipFill>
          <p:spPr>
            <a:xfrm>
              <a:off x="1692360" y="5743800"/>
              <a:ext cx="1511280" cy="20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75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75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6781680" y="1371600"/>
            <a:ext cx="360" cy="4191120"/>
            <a:chOff x="6781680" y="1371600"/>
            <a:chExt cx="360" cy="4191120"/>
          </a:xfrm>
        </p:grpSpPr>
        <p:sp>
          <p:nvSpPr>
            <p:cNvPr id="365" name="Line 4"/>
            <p:cNvSpPr/>
            <p:nvPr/>
          </p:nvSpPr>
          <p:spPr>
            <a:xfrm>
              <a:off x="6781680" y="1371600"/>
              <a:ext cx="0" cy="41911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781680" y="1371600"/>
              <a:ext cx="36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68" name="Line 11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71" name="Line 12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74" name="Line 13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77" name="Line 14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80" name="Line 15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83" name="Line 16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86" name="Line 17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389" name="Line 18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392" name="Line 19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395" name="Line 20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398" name="Line 21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401" name="Line 22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404" name="Line 23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407" name="Line 24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777000" y="1317600"/>
            <a:ext cx="360" cy="4114800"/>
            <a:chOff x="6777000" y="1317600"/>
            <a:chExt cx="360" cy="4114800"/>
          </a:xfrm>
        </p:grpSpPr>
        <p:sp>
          <p:nvSpPr>
            <p:cNvPr id="410" name="Line 25"/>
            <p:cNvSpPr/>
            <p:nvPr/>
          </p:nvSpPr>
          <p:spPr>
            <a:xfrm>
              <a:off x="6777000" y="131760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777000" y="131760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753240" y="1344600"/>
            <a:ext cx="360" cy="4114800"/>
            <a:chOff x="6753240" y="1344600"/>
            <a:chExt cx="360" cy="4114800"/>
          </a:xfrm>
        </p:grpSpPr>
        <p:sp>
          <p:nvSpPr>
            <p:cNvPr id="413" name="Line 26"/>
            <p:cNvSpPr/>
            <p:nvPr/>
          </p:nvSpPr>
          <p:spPr>
            <a:xfrm>
              <a:off x="6753240" y="134460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753240" y="134460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778800" y="1309680"/>
            <a:ext cx="360" cy="4114800"/>
            <a:chOff x="6778800" y="1309680"/>
            <a:chExt cx="360" cy="4114800"/>
          </a:xfrm>
        </p:grpSpPr>
        <p:sp>
          <p:nvSpPr>
            <p:cNvPr id="416" name="Line 27"/>
            <p:cNvSpPr/>
            <p:nvPr/>
          </p:nvSpPr>
          <p:spPr>
            <a:xfrm>
              <a:off x="6778800" y="130968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6778800" y="130968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773760" y="1336680"/>
            <a:ext cx="360" cy="4114800"/>
            <a:chOff x="6773760" y="1336680"/>
            <a:chExt cx="360" cy="4114800"/>
          </a:xfrm>
        </p:grpSpPr>
        <p:sp>
          <p:nvSpPr>
            <p:cNvPr id="419" name="Line 28"/>
            <p:cNvSpPr/>
            <p:nvPr/>
          </p:nvSpPr>
          <p:spPr>
            <a:xfrm>
              <a:off x="6773760" y="133668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6773760" y="133668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777000" y="1335240"/>
            <a:ext cx="360" cy="4114800"/>
            <a:chOff x="6777000" y="1335240"/>
            <a:chExt cx="360" cy="4114800"/>
          </a:xfrm>
        </p:grpSpPr>
        <p:sp>
          <p:nvSpPr>
            <p:cNvPr id="422" name="Line 29"/>
            <p:cNvSpPr/>
            <p:nvPr/>
          </p:nvSpPr>
          <p:spPr>
            <a:xfrm>
              <a:off x="6777000" y="133524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777000" y="133524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772320" y="1351080"/>
            <a:ext cx="360" cy="4114800"/>
            <a:chOff x="6772320" y="1351080"/>
            <a:chExt cx="360" cy="4114800"/>
          </a:xfrm>
        </p:grpSpPr>
        <p:sp>
          <p:nvSpPr>
            <p:cNvPr id="425" name="Line 30"/>
            <p:cNvSpPr/>
            <p:nvPr/>
          </p:nvSpPr>
          <p:spPr>
            <a:xfrm>
              <a:off x="6772320" y="135108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6772320" y="135108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780240" y="1353960"/>
            <a:ext cx="360" cy="4114800"/>
            <a:chOff x="6780240" y="1353960"/>
            <a:chExt cx="360" cy="4114800"/>
          </a:xfrm>
        </p:grpSpPr>
        <p:sp>
          <p:nvSpPr>
            <p:cNvPr id="428" name="Line 31"/>
            <p:cNvSpPr/>
            <p:nvPr/>
          </p:nvSpPr>
          <p:spPr>
            <a:xfrm>
              <a:off x="6780240" y="135396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6780240" y="135396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767640" y="1336680"/>
            <a:ext cx="360" cy="4114800"/>
            <a:chOff x="6767640" y="1336680"/>
            <a:chExt cx="360" cy="4114800"/>
          </a:xfrm>
        </p:grpSpPr>
        <p:sp>
          <p:nvSpPr>
            <p:cNvPr id="431" name="Line 32"/>
            <p:cNvSpPr/>
            <p:nvPr/>
          </p:nvSpPr>
          <p:spPr>
            <a:xfrm>
              <a:off x="6767640" y="133668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6767640" y="133668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800760" y="1371600"/>
            <a:ext cx="360" cy="4191120"/>
            <a:chOff x="6800760" y="1371600"/>
            <a:chExt cx="360" cy="4191120"/>
          </a:xfrm>
        </p:grpSpPr>
        <p:sp>
          <p:nvSpPr>
            <p:cNvPr id="434" name="Line 33"/>
            <p:cNvSpPr/>
            <p:nvPr/>
          </p:nvSpPr>
          <p:spPr>
            <a:xfrm>
              <a:off x="6800760" y="1371600"/>
              <a:ext cx="0" cy="41911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800760" y="1371600"/>
              <a:ext cx="36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783480" y="1355760"/>
            <a:ext cx="360" cy="4114800"/>
            <a:chOff x="6783480" y="1355760"/>
            <a:chExt cx="360" cy="4114800"/>
          </a:xfrm>
        </p:grpSpPr>
        <p:sp>
          <p:nvSpPr>
            <p:cNvPr id="437" name="Line 34"/>
            <p:cNvSpPr/>
            <p:nvPr/>
          </p:nvSpPr>
          <p:spPr>
            <a:xfrm>
              <a:off x="6783480" y="135576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783480" y="135576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5"/>
          <p:cNvGrpSpPr/>
          <p:nvPr/>
        </p:nvGrpSpPr>
        <p:grpSpPr>
          <a:xfrm>
            <a:off x="6095880" y="225360"/>
            <a:ext cx="2895480" cy="6438960"/>
            <a:chOff x="6095880" y="225360"/>
            <a:chExt cx="2895480" cy="6438960"/>
          </a:xfrm>
        </p:grpSpPr>
        <p:grpSp>
          <p:nvGrpSpPr>
            <p:cNvPr id="440" name="Group 36"/>
            <p:cNvGrpSpPr/>
            <p:nvPr/>
          </p:nvGrpSpPr>
          <p:grpSpPr>
            <a:xfrm>
              <a:off x="6095880" y="225360"/>
              <a:ext cx="2895480" cy="6438960"/>
              <a:chOff x="6095880" y="225360"/>
              <a:chExt cx="2895480" cy="643896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6476400" y="5140440"/>
                <a:ext cx="360" cy="380880"/>
                <a:chOff x="6476400" y="5140440"/>
                <a:chExt cx="360" cy="380880"/>
              </a:xfrm>
            </p:grpSpPr>
            <p:sp>
              <p:nvSpPr>
                <p:cNvPr id="442" name="Line 37"/>
                <p:cNvSpPr/>
                <p:nvPr/>
              </p:nvSpPr>
              <p:spPr>
                <a:xfrm flipV="1">
                  <a:off x="6476760" y="51404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 txBox="1"/>
                <p:nvPr/>
              </p:nvSpPr>
              <p:spPr>
                <a:xfrm rot="10800000">
                  <a:off x="6476400" y="51404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8991000" y="5064120"/>
                <a:ext cx="360" cy="380880"/>
                <a:chOff x="8991000" y="5064120"/>
                <a:chExt cx="360" cy="380880"/>
              </a:xfrm>
            </p:grpSpPr>
            <p:sp>
              <p:nvSpPr>
                <p:cNvPr id="445" name="Line 38"/>
                <p:cNvSpPr/>
                <p:nvPr/>
              </p:nvSpPr>
              <p:spPr>
                <a:xfrm flipV="1">
                  <a:off x="8991360" y="50641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 txBox="1"/>
                <p:nvPr/>
              </p:nvSpPr>
              <p:spPr>
                <a:xfrm rot="10800000">
                  <a:off x="8991000" y="50641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7391160" y="4835520"/>
                <a:ext cx="360" cy="685800"/>
                <a:chOff x="7391160" y="4835520"/>
                <a:chExt cx="360" cy="685800"/>
              </a:xfrm>
            </p:grpSpPr>
            <p:sp>
              <p:nvSpPr>
                <p:cNvPr id="448" name="Line 39"/>
                <p:cNvSpPr/>
                <p:nvPr/>
              </p:nvSpPr>
              <p:spPr>
                <a:xfrm>
                  <a:off x="7391160" y="48355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 txBox="1"/>
                <p:nvPr/>
              </p:nvSpPr>
              <p:spPr>
                <a:xfrm>
                  <a:off x="7391160" y="483552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8381880" y="4835520"/>
                <a:ext cx="360" cy="685800"/>
                <a:chOff x="8381880" y="4835520"/>
                <a:chExt cx="360" cy="685800"/>
              </a:xfrm>
            </p:grpSpPr>
            <p:sp>
              <p:nvSpPr>
                <p:cNvPr id="451" name="Line 40"/>
                <p:cNvSpPr/>
                <p:nvPr/>
              </p:nvSpPr>
              <p:spPr>
                <a:xfrm>
                  <a:off x="8381880" y="48355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 txBox="1"/>
                <p:nvPr/>
              </p:nvSpPr>
              <p:spPr>
                <a:xfrm>
                  <a:off x="8381880" y="483552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41"/>
              <p:cNvGrpSpPr/>
              <p:nvPr/>
            </p:nvGrpSpPr>
            <p:grpSpPr>
              <a:xfrm>
                <a:off x="6095880" y="225360"/>
                <a:ext cx="2895480" cy="6438960"/>
                <a:chOff x="6095880" y="225360"/>
                <a:chExt cx="2895480" cy="6438960"/>
              </a:xfrm>
            </p:grpSpPr>
            <p:sp>
              <p:nvSpPr>
                <p:cNvPr id="454" name="Rectangle 42"/>
                <p:cNvSpPr/>
                <p:nvPr/>
              </p:nvSpPr>
              <p:spPr>
                <a:xfrm>
                  <a:off x="6476760" y="5521320"/>
                  <a:ext cx="2514600" cy="114300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5" name="Group 43"/>
                <p:cNvGrpSpPr/>
                <p:nvPr/>
              </p:nvGrpSpPr>
              <p:grpSpPr>
                <a:xfrm>
                  <a:off x="6095880" y="225360"/>
                  <a:ext cx="2530440" cy="5905440"/>
                  <a:chOff x="6095880" y="225360"/>
                  <a:chExt cx="2530440" cy="5905440"/>
                </a:xfrm>
              </p:grpSpPr>
              <p:sp>
                <p:nvSpPr>
                  <p:cNvPr id="456" name="Rectangle 44"/>
                  <p:cNvSpPr/>
                  <p:nvPr/>
                </p:nvSpPr>
                <p:spPr>
                  <a:xfrm>
                    <a:off x="7696080" y="1330200"/>
                    <a:ext cx="152280" cy="480060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Rectangle 45"/>
                  <p:cNvSpPr/>
                  <p:nvPr/>
                </p:nvSpPr>
                <p:spPr>
                  <a:xfrm>
                    <a:off x="7696080" y="339840"/>
                    <a:ext cx="152280" cy="990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6324480" y="1330200"/>
                    <a:ext cx="1447920" cy="360"/>
                    <a:chOff x="6324480" y="1330200"/>
                    <a:chExt cx="1447920" cy="360"/>
                  </a:xfrm>
                </p:grpSpPr>
                <p:sp>
                  <p:nvSpPr>
                    <p:cNvPr id="459" name="Line 46"/>
                    <p:cNvSpPr/>
                    <p:nvPr/>
                  </p:nvSpPr>
                  <p:spPr>
                    <a:xfrm>
                      <a:off x="6324480" y="1330200"/>
                      <a:ext cx="1447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 txBox="1"/>
                    <p:nvPr/>
                  </p:nvSpPr>
                  <p:spPr>
                    <a:xfrm>
                      <a:off x="6324480" y="1330200"/>
                      <a:ext cx="1447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6781680" y="1330200"/>
                    <a:ext cx="360" cy="4191120"/>
                    <a:chOff x="6781680" y="1330200"/>
                    <a:chExt cx="360" cy="4191120"/>
                  </a:xfrm>
                </p:grpSpPr>
                <p:sp>
                  <p:nvSpPr>
                    <p:cNvPr id="462" name="Line 47"/>
                    <p:cNvSpPr/>
                    <p:nvPr/>
                  </p:nvSpPr>
                  <p:spPr>
                    <a:xfrm>
                      <a:off x="6781680" y="1330200"/>
                      <a:ext cx="0" cy="419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 txBox="1"/>
                    <p:nvPr/>
                  </p:nvSpPr>
                  <p:spPr>
                    <a:xfrm>
                      <a:off x="6781680" y="1330200"/>
                      <a:ext cx="360" cy="419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4" name="AutoShape 48"/>
                  <p:cNvSpPr/>
                  <p:nvPr/>
                </p:nvSpPr>
                <p:spPr>
                  <a:xfrm rot="16326000">
                    <a:off x="7695720" y="227880"/>
                    <a:ext cx="152280" cy="152280"/>
                  </a:xfrm>
                  <a:prstGeom prst="flowChartDelay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Text Box 49"/>
                  <p:cNvSpPr/>
                  <p:nvPr/>
                </p:nvSpPr>
                <p:spPr>
                  <a:xfrm>
                    <a:off x="6095880" y="2625840"/>
                    <a:ext cx="1523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60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毫米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Text Box 50"/>
                  <p:cNvSpPr/>
                  <p:nvPr/>
                </p:nvSpPr>
                <p:spPr>
                  <a:xfrm>
                    <a:off x="7089480" y="3768840"/>
                    <a:ext cx="546120" cy="13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大气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Text Box 51"/>
                  <p:cNvSpPr/>
                  <p:nvPr/>
                </p:nvSpPr>
                <p:spPr>
                  <a:xfrm>
                    <a:off x="8080200" y="3768840"/>
                    <a:ext cx="546120" cy="13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大气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7086240" y="720360"/>
                    <a:ext cx="685800" cy="304920"/>
                    <a:chOff x="7086240" y="720360"/>
                    <a:chExt cx="685800" cy="304920"/>
                  </a:xfrm>
                </p:grpSpPr>
                <p:sp>
                  <p:nvSpPr>
                    <p:cNvPr id="469" name="Line 52"/>
                    <p:cNvSpPr/>
                    <p:nvPr/>
                  </p:nvSpPr>
                  <p:spPr>
                    <a:xfrm flipH="1" flipV="1">
                      <a:off x="7086240" y="720360"/>
                      <a:ext cx="68580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 txBox="1"/>
                    <p:nvPr/>
                  </p:nvSpPr>
                  <p:spPr>
                    <a:xfrm rot="10800000">
                      <a:off x="7086240" y="720360"/>
                      <a:ext cx="68580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1" name="Text Box 53"/>
                  <p:cNvSpPr/>
                  <p:nvPr/>
                </p:nvSpPr>
                <p:spPr>
                  <a:xfrm>
                    <a:off x="6324480" y="415800"/>
                    <a:ext cx="990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真 空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2" name="Group 54"/>
            <p:cNvGrpSpPr/>
            <p:nvPr/>
          </p:nvGrpSpPr>
          <p:grpSpPr>
            <a:xfrm>
              <a:off x="7083360" y="5497560"/>
              <a:ext cx="1295280" cy="536040"/>
              <a:chOff x="7083360" y="5497560"/>
              <a:chExt cx="1295280" cy="536040"/>
            </a:xfrm>
          </p:grpSpPr>
          <p:sp>
            <p:nvSpPr>
              <p:cNvPr id="473" name="Oval 55"/>
              <p:cNvSpPr/>
              <p:nvPr/>
            </p:nvSpPr>
            <p:spPr>
              <a:xfrm flipV="1">
                <a:off x="7769160" y="549756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56"/>
              <p:cNvSpPr/>
              <p:nvPr/>
            </p:nvSpPr>
            <p:spPr>
              <a:xfrm>
                <a:off x="7845480" y="557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  <a:ea typeface="汉鼎简魏碑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 flipV="1">
                <a:off x="7159680" y="549756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58"/>
              <p:cNvSpPr/>
              <p:nvPr/>
            </p:nvSpPr>
            <p:spPr>
              <a:xfrm>
                <a:off x="7083360" y="5573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  <a:ea typeface="汉鼎简魏碑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38"/>
          <p:cNvSpPr/>
          <p:nvPr/>
        </p:nvSpPr>
        <p:spPr>
          <a:xfrm>
            <a:off x="595440" y="2627280"/>
            <a:ext cx="565128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P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=</a:t>
            </a:r>
            <a:r>
              <a:rPr b="1" i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1" i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g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=13.6×10 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kg/m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 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×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N/kg×0.76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=1.01 × 10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5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3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evt="end">
                                        <p:tn val="268"/>
                                      </p:cond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3"/>
                                      </p:cond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evt="end">
                                        <p:tn val="283"/>
                                      </p:cond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evt="end">
                                        <p:tn val="293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8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3"/>
                                      </p:cond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3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evt="end">
                                        <p:tn val="318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3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evt="end">
                                        <p:tn val="328"/>
                                      </p:cond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8"/>
                                      </p:cond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00"/>
                            </p:stCondLst>
                            <p:childTnLst>
                              <p:par>
                                <p:cTn id="3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evt="end">
                                        <p:tn val="348"/>
                                      </p:cond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500"/>
                            </p:stCondLst>
                            <p:childTnLst>
                              <p:par>
                                <p:cTn id="3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evt="end">
                                        <p:tn val="353"/>
                                      </p:cond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evt="end">
                                        <p:tn val="358"/>
                                      </p:cond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evt="end">
                                        <p:tn val="363"/>
                                      </p:cond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evt="end">
                                        <p:tn val="373"/>
                                      </p:cond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8"/>
                                      </p:cond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75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663480" y="1773360"/>
            <a:ext cx="192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管倾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响结果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3324960" y="4917960"/>
            <a:ext cx="4579920" cy="4579920"/>
            <a:chOff x="3324960" y="4917960"/>
            <a:chExt cx="4579920" cy="4579920"/>
          </a:xfrm>
        </p:grpSpPr>
        <p:grpSp>
          <p:nvGrpSpPr>
            <p:cNvPr id="480" name=""/>
            <p:cNvGrpSpPr/>
            <p:nvPr/>
          </p:nvGrpSpPr>
          <p:grpSpPr>
            <a:xfrm>
              <a:off x="4465800" y="5373720"/>
              <a:ext cx="360" cy="1153440"/>
              <a:chOff x="4465800" y="5373720"/>
              <a:chExt cx="360" cy="1153440"/>
            </a:xfrm>
          </p:grpSpPr>
          <p:sp>
            <p:nvSpPr>
              <p:cNvPr id="481" name="Line 6"/>
              <p:cNvSpPr/>
              <p:nvPr/>
            </p:nvSpPr>
            <p:spPr>
              <a:xfrm>
                <a:off x="4465800" y="537372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 txBox="1"/>
              <p:nvPr/>
            </p:nvSpPr>
            <p:spPr>
              <a:xfrm>
                <a:off x="4465800" y="5373720"/>
                <a:ext cx="36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626160" y="5373720"/>
              <a:ext cx="71640" cy="1153440"/>
              <a:chOff x="6626160" y="5373720"/>
              <a:chExt cx="71640" cy="1153440"/>
            </a:xfrm>
          </p:grpSpPr>
          <p:sp>
            <p:nvSpPr>
              <p:cNvPr id="484" name="Line 7"/>
              <p:cNvSpPr/>
              <p:nvPr/>
            </p:nvSpPr>
            <p:spPr>
              <a:xfrm>
                <a:off x="6626160" y="5373720"/>
                <a:ext cx="7164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6626160" y="5373720"/>
                <a:ext cx="7164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465800" y="6527160"/>
              <a:ext cx="2232000" cy="360"/>
              <a:chOff x="4465800" y="6527160"/>
              <a:chExt cx="2232000" cy="360"/>
            </a:xfrm>
          </p:grpSpPr>
          <p:sp>
            <p:nvSpPr>
              <p:cNvPr id="487" name="Line 8"/>
              <p:cNvSpPr/>
              <p:nvPr/>
            </p:nvSpPr>
            <p:spPr>
              <a:xfrm>
                <a:off x="4465800" y="652716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4465800" y="652716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PubChord"/>
            <p:cNvSpPr/>
            <p:nvPr/>
          </p:nvSpPr>
          <p:spPr>
            <a:xfrm rot="7972800">
              <a:off x="3993480" y="5588280"/>
              <a:ext cx="3242880" cy="3238560"/>
            </a:xfrm>
            <a:custGeom>
              <a:avLst/>
              <a:gdLst/>
              <a:ahLst/>
              <a:rect l="l" t="t" r="r" b="b"/>
              <a:pathLst>
                <a:path w="10413" h="21593">
                  <a:moveTo>
                    <a:pt x="2" y="11025"/>
                  </a:moveTo>
                  <a:cubicBezTo>
                    <a:pt x="122" y="16751"/>
                    <a:pt x="4690" y="21388"/>
                    <a:pt x="10413" y="21593"/>
                  </a:cubicBezTo>
                  <a:lnTo>
                    <a:pt x="2" y="1102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0"/>
            <p:cNvSpPr/>
            <p:nvPr/>
          </p:nvSpPr>
          <p:spPr>
            <a:xfrm>
              <a:off x="4537080" y="6023160"/>
              <a:ext cx="2089080" cy="432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1"/>
          <p:cNvGrpSpPr/>
          <p:nvPr/>
        </p:nvGrpSpPr>
        <p:grpSpPr>
          <a:xfrm>
            <a:off x="5834160" y="2220120"/>
            <a:ext cx="1580040" cy="3789000"/>
            <a:chOff x="5834160" y="2220120"/>
            <a:chExt cx="1580040" cy="3789000"/>
          </a:xfrm>
        </p:grpSpPr>
        <p:grpSp>
          <p:nvGrpSpPr>
            <p:cNvPr id="492" name=""/>
            <p:cNvGrpSpPr/>
            <p:nvPr/>
          </p:nvGrpSpPr>
          <p:grpSpPr>
            <a:xfrm>
              <a:off x="5834160" y="2313360"/>
              <a:ext cx="1344600" cy="3620520"/>
              <a:chOff x="5834160" y="2313360"/>
              <a:chExt cx="1344600" cy="3620520"/>
            </a:xfrm>
          </p:grpSpPr>
          <p:sp>
            <p:nvSpPr>
              <p:cNvPr id="493" name="Line 12"/>
              <p:cNvSpPr/>
              <p:nvPr/>
            </p:nvSpPr>
            <p:spPr>
              <a:xfrm flipH="1">
                <a:off x="5834160" y="2313360"/>
                <a:ext cx="1344240" cy="36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 txBox="1"/>
              <p:nvPr/>
            </p:nvSpPr>
            <p:spPr>
              <a:xfrm rot="1222200">
                <a:off x="6506280" y="2192400"/>
                <a:ext cx="360" cy="386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036480" y="2388600"/>
              <a:ext cx="1344600" cy="3620520"/>
              <a:chOff x="6036480" y="2388600"/>
              <a:chExt cx="1344600" cy="3620520"/>
            </a:xfrm>
          </p:grpSpPr>
          <p:sp>
            <p:nvSpPr>
              <p:cNvPr id="496" name="Line 13"/>
              <p:cNvSpPr/>
              <p:nvPr/>
            </p:nvSpPr>
            <p:spPr>
              <a:xfrm flipH="1">
                <a:off x="6036480" y="2388600"/>
                <a:ext cx="1344240" cy="36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 txBox="1"/>
              <p:nvPr/>
            </p:nvSpPr>
            <p:spPr>
              <a:xfrm rot="1222200">
                <a:off x="6708600" y="2267640"/>
                <a:ext cx="360" cy="386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Oval 14"/>
            <p:cNvSpPr/>
            <p:nvPr/>
          </p:nvSpPr>
          <p:spPr>
            <a:xfrm flipV="1" rot="1222200">
              <a:off x="7188840" y="2253960"/>
              <a:ext cx="2145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7380360" y="2997360"/>
            <a:ext cx="503280" cy="360"/>
            <a:chOff x="7380360" y="2997360"/>
            <a:chExt cx="503280" cy="360"/>
          </a:xfrm>
        </p:grpSpPr>
        <p:sp>
          <p:nvSpPr>
            <p:cNvPr id="500" name="Line 15"/>
            <p:cNvSpPr/>
            <p:nvPr/>
          </p:nvSpPr>
          <p:spPr>
            <a:xfrm>
              <a:off x="7380360" y="299736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7380360" y="29973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796000" y="5589720"/>
            <a:ext cx="2089080" cy="360"/>
            <a:chOff x="5796000" y="5589720"/>
            <a:chExt cx="2089080" cy="360"/>
          </a:xfrm>
        </p:grpSpPr>
        <p:sp>
          <p:nvSpPr>
            <p:cNvPr id="503" name="Line 16"/>
            <p:cNvSpPr/>
            <p:nvPr/>
          </p:nvSpPr>
          <p:spPr>
            <a:xfrm>
              <a:off x="5796000" y="5589720"/>
              <a:ext cx="20890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5796000" y="5589720"/>
              <a:ext cx="20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667640" y="2997360"/>
            <a:ext cx="360" cy="2592360"/>
            <a:chOff x="7667640" y="2997360"/>
            <a:chExt cx="360" cy="2592360"/>
          </a:xfrm>
        </p:grpSpPr>
        <p:sp>
          <p:nvSpPr>
            <p:cNvPr id="506" name="Line 17"/>
            <p:cNvSpPr/>
            <p:nvPr/>
          </p:nvSpPr>
          <p:spPr>
            <a:xfrm>
              <a:off x="7667640" y="299736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7667640" y="299736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18"/>
          <p:cNvSpPr/>
          <p:nvPr/>
        </p:nvSpPr>
        <p:spPr>
          <a:xfrm>
            <a:off x="7791840" y="309096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9"/>
          <p:cNvGrpSpPr/>
          <p:nvPr/>
        </p:nvGrpSpPr>
        <p:grpSpPr>
          <a:xfrm>
            <a:off x="5076720" y="2058840"/>
            <a:ext cx="216360" cy="3961800"/>
            <a:chOff x="5076720" y="2058840"/>
            <a:chExt cx="216360" cy="3961800"/>
          </a:xfrm>
        </p:grpSpPr>
        <p:grpSp>
          <p:nvGrpSpPr>
            <p:cNvPr id="510" name=""/>
            <p:cNvGrpSpPr/>
            <p:nvPr/>
          </p:nvGrpSpPr>
          <p:grpSpPr>
            <a:xfrm>
              <a:off x="5076720" y="2158560"/>
              <a:ext cx="360" cy="3862080"/>
              <a:chOff x="5076720" y="2158560"/>
              <a:chExt cx="360" cy="3862080"/>
            </a:xfrm>
          </p:grpSpPr>
          <p:sp>
            <p:nvSpPr>
              <p:cNvPr id="511" name="Line 20"/>
              <p:cNvSpPr/>
              <p:nvPr/>
            </p:nvSpPr>
            <p:spPr>
              <a:xfrm>
                <a:off x="5076720" y="215856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5076720" y="215856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5292720" y="2158560"/>
              <a:ext cx="360" cy="3862080"/>
              <a:chOff x="5292720" y="2158560"/>
              <a:chExt cx="360" cy="3862080"/>
            </a:xfrm>
          </p:grpSpPr>
          <p:sp>
            <p:nvSpPr>
              <p:cNvPr id="514" name="Line 21"/>
              <p:cNvSpPr/>
              <p:nvPr/>
            </p:nvSpPr>
            <p:spPr>
              <a:xfrm>
                <a:off x="5292720" y="215856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5292720" y="215856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Oval 22"/>
            <p:cNvSpPr/>
            <p:nvPr/>
          </p:nvSpPr>
          <p:spPr>
            <a:xfrm flipV="1">
              <a:off x="5076720" y="2058840"/>
              <a:ext cx="2145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5076720" y="2995560"/>
            <a:ext cx="216000" cy="360"/>
            <a:chOff x="5076720" y="2995560"/>
            <a:chExt cx="216000" cy="360"/>
          </a:xfrm>
        </p:grpSpPr>
        <p:sp>
          <p:nvSpPr>
            <p:cNvPr id="518" name="Line 23"/>
            <p:cNvSpPr/>
            <p:nvPr/>
          </p:nvSpPr>
          <p:spPr>
            <a:xfrm>
              <a:off x="5076720" y="29955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5076720" y="29955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076720" y="3211560"/>
            <a:ext cx="216000" cy="360"/>
            <a:chOff x="5076720" y="3211560"/>
            <a:chExt cx="216000" cy="360"/>
          </a:xfrm>
        </p:grpSpPr>
        <p:sp>
          <p:nvSpPr>
            <p:cNvPr id="521" name="Line 24"/>
            <p:cNvSpPr/>
            <p:nvPr/>
          </p:nvSpPr>
          <p:spPr>
            <a:xfrm>
              <a:off x="5076720" y="32115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5076720" y="32115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076720" y="3429000"/>
            <a:ext cx="216000" cy="360"/>
            <a:chOff x="5076720" y="3429000"/>
            <a:chExt cx="216000" cy="360"/>
          </a:xfrm>
        </p:grpSpPr>
        <p:sp>
          <p:nvSpPr>
            <p:cNvPr id="524" name="Line 25"/>
            <p:cNvSpPr/>
            <p:nvPr/>
          </p:nvSpPr>
          <p:spPr>
            <a:xfrm>
              <a:off x="5076720" y="3429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5076720" y="3429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076720" y="3645000"/>
            <a:ext cx="216000" cy="360"/>
            <a:chOff x="5076720" y="3645000"/>
            <a:chExt cx="216000" cy="360"/>
          </a:xfrm>
        </p:grpSpPr>
        <p:sp>
          <p:nvSpPr>
            <p:cNvPr id="527" name="Line 26"/>
            <p:cNvSpPr/>
            <p:nvPr/>
          </p:nvSpPr>
          <p:spPr>
            <a:xfrm>
              <a:off x="5076720" y="3645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5076720" y="3645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076720" y="3860640"/>
            <a:ext cx="216000" cy="360"/>
            <a:chOff x="5076720" y="3860640"/>
            <a:chExt cx="216000" cy="360"/>
          </a:xfrm>
        </p:grpSpPr>
        <p:sp>
          <p:nvSpPr>
            <p:cNvPr id="530" name="Line 27"/>
            <p:cNvSpPr/>
            <p:nvPr/>
          </p:nvSpPr>
          <p:spPr>
            <a:xfrm>
              <a:off x="5076720" y="38606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5076720" y="38606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076720" y="4148280"/>
            <a:ext cx="216000" cy="360"/>
            <a:chOff x="5076720" y="4148280"/>
            <a:chExt cx="216000" cy="360"/>
          </a:xfrm>
        </p:grpSpPr>
        <p:sp>
          <p:nvSpPr>
            <p:cNvPr id="533" name="Line 28"/>
            <p:cNvSpPr/>
            <p:nvPr/>
          </p:nvSpPr>
          <p:spPr>
            <a:xfrm>
              <a:off x="5076720" y="41482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5076720" y="4148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076720" y="4437000"/>
            <a:ext cx="216000" cy="360"/>
            <a:chOff x="5076720" y="4437000"/>
            <a:chExt cx="216000" cy="360"/>
          </a:xfrm>
        </p:grpSpPr>
        <p:sp>
          <p:nvSpPr>
            <p:cNvPr id="536" name="Line 29"/>
            <p:cNvSpPr/>
            <p:nvPr/>
          </p:nvSpPr>
          <p:spPr>
            <a:xfrm>
              <a:off x="5076720" y="4437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5076720" y="4437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076720" y="4724280"/>
            <a:ext cx="216000" cy="360"/>
            <a:chOff x="5076720" y="4724280"/>
            <a:chExt cx="216000" cy="360"/>
          </a:xfrm>
        </p:grpSpPr>
        <p:sp>
          <p:nvSpPr>
            <p:cNvPr id="539" name="Line 30"/>
            <p:cNvSpPr/>
            <p:nvPr/>
          </p:nvSpPr>
          <p:spPr>
            <a:xfrm>
              <a:off x="5076720" y="47242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5076720" y="4724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076720" y="5013360"/>
            <a:ext cx="216000" cy="360"/>
            <a:chOff x="5076720" y="5013360"/>
            <a:chExt cx="216000" cy="360"/>
          </a:xfrm>
        </p:grpSpPr>
        <p:sp>
          <p:nvSpPr>
            <p:cNvPr id="542" name="Line 31"/>
            <p:cNvSpPr/>
            <p:nvPr/>
          </p:nvSpPr>
          <p:spPr>
            <a:xfrm>
              <a:off x="5076720" y="50133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5076720" y="50133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076720" y="5300640"/>
            <a:ext cx="216000" cy="360"/>
            <a:chOff x="5076720" y="5300640"/>
            <a:chExt cx="216000" cy="360"/>
          </a:xfrm>
        </p:grpSpPr>
        <p:sp>
          <p:nvSpPr>
            <p:cNvPr id="545" name="Line 32"/>
            <p:cNvSpPr/>
            <p:nvPr/>
          </p:nvSpPr>
          <p:spPr>
            <a:xfrm>
              <a:off x="5076720" y="53006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5076720" y="53006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076720" y="5587920"/>
            <a:ext cx="216000" cy="360"/>
            <a:chOff x="5076720" y="5587920"/>
            <a:chExt cx="216000" cy="360"/>
          </a:xfrm>
        </p:grpSpPr>
        <p:sp>
          <p:nvSpPr>
            <p:cNvPr id="548" name="Line 33"/>
            <p:cNvSpPr/>
            <p:nvPr/>
          </p:nvSpPr>
          <p:spPr>
            <a:xfrm>
              <a:off x="5076720" y="55879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5076720" y="55879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076720" y="5803920"/>
            <a:ext cx="216000" cy="360"/>
            <a:chOff x="5076720" y="5803920"/>
            <a:chExt cx="216000" cy="360"/>
          </a:xfrm>
        </p:grpSpPr>
        <p:sp>
          <p:nvSpPr>
            <p:cNvPr id="551" name="Line 34"/>
            <p:cNvSpPr/>
            <p:nvPr/>
          </p:nvSpPr>
          <p:spPr>
            <a:xfrm>
              <a:off x="5076720" y="58039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5076720" y="58039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572000" y="2995560"/>
            <a:ext cx="503280" cy="360"/>
            <a:chOff x="4572000" y="2995560"/>
            <a:chExt cx="503280" cy="360"/>
          </a:xfrm>
        </p:grpSpPr>
        <p:sp>
          <p:nvSpPr>
            <p:cNvPr id="554" name="Line 35"/>
            <p:cNvSpPr/>
            <p:nvPr/>
          </p:nvSpPr>
          <p:spPr>
            <a:xfrm>
              <a:off x="4572000" y="299556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4572000" y="29955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572000" y="5587920"/>
            <a:ext cx="1008000" cy="1800"/>
            <a:chOff x="4572000" y="5587920"/>
            <a:chExt cx="1008000" cy="1800"/>
          </a:xfrm>
        </p:grpSpPr>
        <p:sp>
          <p:nvSpPr>
            <p:cNvPr id="557" name="Line 36"/>
            <p:cNvSpPr/>
            <p:nvPr/>
          </p:nvSpPr>
          <p:spPr>
            <a:xfrm>
              <a:off x="4572000" y="5587920"/>
              <a:ext cx="1008000" cy="18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4572000" y="5587920"/>
              <a:ext cx="100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859280" y="2995560"/>
            <a:ext cx="360" cy="2592360"/>
            <a:chOff x="4859280" y="2995560"/>
            <a:chExt cx="360" cy="2592360"/>
          </a:xfrm>
        </p:grpSpPr>
        <p:sp>
          <p:nvSpPr>
            <p:cNvPr id="560" name="Line 37"/>
            <p:cNvSpPr/>
            <p:nvPr/>
          </p:nvSpPr>
          <p:spPr>
            <a:xfrm>
              <a:off x="4859280" y="299556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4859280" y="299556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38"/>
          <p:cNvSpPr/>
          <p:nvPr/>
        </p:nvSpPr>
        <p:spPr>
          <a:xfrm>
            <a:off x="3316680" y="380988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48360" y="2997360"/>
            <a:ext cx="216000" cy="360"/>
            <a:chOff x="6948360" y="2997360"/>
            <a:chExt cx="216000" cy="360"/>
          </a:xfrm>
        </p:grpSpPr>
        <p:sp>
          <p:nvSpPr>
            <p:cNvPr id="564" name="Line 39"/>
            <p:cNvSpPr/>
            <p:nvPr/>
          </p:nvSpPr>
          <p:spPr>
            <a:xfrm>
              <a:off x="6948360" y="29973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6948360" y="29973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877080" y="3213000"/>
            <a:ext cx="216000" cy="360"/>
            <a:chOff x="6877080" y="3213000"/>
            <a:chExt cx="216000" cy="360"/>
          </a:xfrm>
        </p:grpSpPr>
        <p:sp>
          <p:nvSpPr>
            <p:cNvPr id="567" name="Line 40"/>
            <p:cNvSpPr/>
            <p:nvPr/>
          </p:nvSpPr>
          <p:spPr>
            <a:xfrm>
              <a:off x="6877080" y="3213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877080" y="3213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804000" y="3429000"/>
            <a:ext cx="216000" cy="360"/>
            <a:chOff x="6804000" y="3429000"/>
            <a:chExt cx="216000" cy="360"/>
          </a:xfrm>
        </p:grpSpPr>
        <p:sp>
          <p:nvSpPr>
            <p:cNvPr id="570" name="Line 41"/>
            <p:cNvSpPr/>
            <p:nvPr/>
          </p:nvSpPr>
          <p:spPr>
            <a:xfrm>
              <a:off x="6804000" y="3429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6804000" y="3429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661080" y="3646440"/>
            <a:ext cx="216000" cy="360"/>
            <a:chOff x="6661080" y="3646440"/>
            <a:chExt cx="216000" cy="360"/>
          </a:xfrm>
        </p:grpSpPr>
        <p:sp>
          <p:nvSpPr>
            <p:cNvPr id="573" name="Line 42"/>
            <p:cNvSpPr/>
            <p:nvPr/>
          </p:nvSpPr>
          <p:spPr>
            <a:xfrm>
              <a:off x="6661080" y="36464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6661080" y="36464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588000" y="3862440"/>
            <a:ext cx="216000" cy="360"/>
            <a:chOff x="6588000" y="3862440"/>
            <a:chExt cx="216000" cy="360"/>
          </a:xfrm>
        </p:grpSpPr>
        <p:sp>
          <p:nvSpPr>
            <p:cNvPr id="576" name="Line 43"/>
            <p:cNvSpPr/>
            <p:nvPr/>
          </p:nvSpPr>
          <p:spPr>
            <a:xfrm>
              <a:off x="6588000" y="38624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 txBox="1"/>
            <p:nvPr/>
          </p:nvSpPr>
          <p:spPr>
            <a:xfrm>
              <a:off x="6588000" y="38624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516720" y="4149720"/>
            <a:ext cx="216000" cy="360"/>
            <a:chOff x="6516720" y="4149720"/>
            <a:chExt cx="216000" cy="360"/>
          </a:xfrm>
        </p:grpSpPr>
        <p:sp>
          <p:nvSpPr>
            <p:cNvPr id="579" name="Line 44"/>
            <p:cNvSpPr/>
            <p:nvPr/>
          </p:nvSpPr>
          <p:spPr>
            <a:xfrm>
              <a:off x="6516720" y="41497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6516720" y="41497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372360" y="4438800"/>
            <a:ext cx="215640" cy="360"/>
            <a:chOff x="6372360" y="4438800"/>
            <a:chExt cx="215640" cy="360"/>
          </a:xfrm>
        </p:grpSpPr>
        <p:sp>
          <p:nvSpPr>
            <p:cNvPr id="582" name="Line 45"/>
            <p:cNvSpPr/>
            <p:nvPr/>
          </p:nvSpPr>
          <p:spPr>
            <a:xfrm>
              <a:off x="6372360" y="4438800"/>
              <a:ext cx="21564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>
              <a:off x="6372360" y="4438800"/>
              <a:ext cx="21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300720" y="4726080"/>
            <a:ext cx="216000" cy="360"/>
            <a:chOff x="6300720" y="4726080"/>
            <a:chExt cx="216000" cy="360"/>
          </a:xfrm>
        </p:grpSpPr>
        <p:sp>
          <p:nvSpPr>
            <p:cNvPr id="585" name="Line 46"/>
            <p:cNvSpPr/>
            <p:nvPr/>
          </p:nvSpPr>
          <p:spPr>
            <a:xfrm>
              <a:off x="6300720" y="47260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6300720" y="47260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227640" y="5014800"/>
            <a:ext cx="216000" cy="360"/>
            <a:chOff x="6227640" y="5014800"/>
            <a:chExt cx="216000" cy="360"/>
          </a:xfrm>
        </p:grpSpPr>
        <p:sp>
          <p:nvSpPr>
            <p:cNvPr id="588" name="Line 47"/>
            <p:cNvSpPr/>
            <p:nvPr/>
          </p:nvSpPr>
          <p:spPr>
            <a:xfrm>
              <a:off x="6227640" y="50148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6227640" y="50148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084720" y="5302080"/>
            <a:ext cx="216000" cy="360"/>
            <a:chOff x="6084720" y="5302080"/>
            <a:chExt cx="216000" cy="360"/>
          </a:xfrm>
        </p:grpSpPr>
        <p:sp>
          <p:nvSpPr>
            <p:cNvPr id="591" name="Line 48"/>
            <p:cNvSpPr/>
            <p:nvPr/>
          </p:nvSpPr>
          <p:spPr>
            <a:xfrm>
              <a:off x="6084720" y="53020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6084720" y="53020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5940360" y="5589720"/>
            <a:ext cx="216000" cy="360"/>
            <a:chOff x="5940360" y="5589720"/>
            <a:chExt cx="216000" cy="360"/>
          </a:xfrm>
        </p:grpSpPr>
        <p:sp>
          <p:nvSpPr>
            <p:cNvPr id="594" name="Line 49"/>
            <p:cNvSpPr/>
            <p:nvPr/>
          </p:nvSpPr>
          <p:spPr>
            <a:xfrm>
              <a:off x="5940360" y="55897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5940360" y="55897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940360" y="5805360"/>
            <a:ext cx="216000" cy="360"/>
            <a:chOff x="5940360" y="5805360"/>
            <a:chExt cx="216000" cy="360"/>
          </a:xfrm>
        </p:grpSpPr>
        <p:sp>
          <p:nvSpPr>
            <p:cNvPr id="597" name="Line 50"/>
            <p:cNvSpPr/>
            <p:nvPr/>
          </p:nvSpPr>
          <p:spPr>
            <a:xfrm>
              <a:off x="5940360" y="58053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5940360" y="58053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 Box 51"/>
          <p:cNvSpPr/>
          <p:nvPr/>
        </p:nvSpPr>
        <p:spPr>
          <a:xfrm>
            <a:off x="914400" y="45673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银柱长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怎么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4"/>
          <p:cNvSpPr/>
          <p:nvPr/>
        </p:nvSpPr>
        <p:spPr>
          <a:xfrm>
            <a:off x="2641680" y="582480"/>
            <a:ext cx="34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用粗一些或细一些的玻璃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影响结果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5"/>
          <p:cNvGrpSpPr/>
          <p:nvPr/>
        </p:nvGrpSpPr>
        <p:grpSpPr>
          <a:xfrm>
            <a:off x="516600" y="4701960"/>
            <a:ext cx="4579920" cy="4579920"/>
            <a:chOff x="516600" y="4701960"/>
            <a:chExt cx="4579920" cy="4579920"/>
          </a:xfrm>
        </p:grpSpPr>
        <p:grpSp>
          <p:nvGrpSpPr>
            <p:cNvPr id="602" name=""/>
            <p:cNvGrpSpPr/>
            <p:nvPr/>
          </p:nvGrpSpPr>
          <p:grpSpPr>
            <a:xfrm>
              <a:off x="1657440" y="5157720"/>
              <a:ext cx="360" cy="1153440"/>
              <a:chOff x="1657440" y="5157720"/>
              <a:chExt cx="360" cy="1153440"/>
            </a:xfrm>
          </p:grpSpPr>
          <p:sp>
            <p:nvSpPr>
              <p:cNvPr id="603" name="Line 6"/>
              <p:cNvSpPr/>
              <p:nvPr/>
            </p:nvSpPr>
            <p:spPr>
              <a:xfrm>
                <a:off x="1657440" y="515772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>
                <a:off x="1657440" y="5157720"/>
                <a:ext cx="36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3817800" y="5157720"/>
              <a:ext cx="71640" cy="1153440"/>
              <a:chOff x="3817800" y="5157720"/>
              <a:chExt cx="71640" cy="1153440"/>
            </a:xfrm>
          </p:grpSpPr>
          <p:sp>
            <p:nvSpPr>
              <p:cNvPr id="606" name="Line 7"/>
              <p:cNvSpPr/>
              <p:nvPr/>
            </p:nvSpPr>
            <p:spPr>
              <a:xfrm>
                <a:off x="3817800" y="5157720"/>
                <a:ext cx="7164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>
                <a:off x="3817800" y="5157720"/>
                <a:ext cx="7164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657440" y="6311160"/>
              <a:ext cx="2232000" cy="360"/>
              <a:chOff x="1657440" y="6311160"/>
              <a:chExt cx="2232000" cy="360"/>
            </a:xfrm>
          </p:grpSpPr>
          <p:sp>
            <p:nvSpPr>
              <p:cNvPr id="609" name="Line 8"/>
              <p:cNvSpPr/>
              <p:nvPr/>
            </p:nvSpPr>
            <p:spPr>
              <a:xfrm>
                <a:off x="1657440" y="631116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>
                <a:off x="1657440" y="631116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PubChord"/>
            <p:cNvSpPr/>
            <p:nvPr/>
          </p:nvSpPr>
          <p:spPr>
            <a:xfrm rot="7972800">
              <a:off x="1185120" y="5372280"/>
              <a:ext cx="3242880" cy="3238560"/>
            </a:xfrm>
            <a:custGeom>
              <a:avLst/>
              <a:gdLst/>
              <a:ahLst/>
              <a:rect l="l" t="t" r="r" b="b"/>
              <a:pathLst>
                <a:path w="10413" h="21593">
                  <a:moveTo>
                    <a:pt x="2" y="11025"/>
                  </a:moveTo>
                  <a:cubicBezTo>
                    <a:pt x="122" y="16751"/>
                    <a:pt x="4690" y="21388"/>
                    <a:pt x="10413" y="21593"/>
                  </a:cubicBezTo>
                  <a:lnTo>
                    <a:pt x="2" y="1102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1728720" y="5807160"/>
              <a:ext cx="2089080" cy="432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1"/>
          <p:cNvGrpSpPr/>
          <p:nvPr/>
        </p:nvGrpSpPr>
        <p:grpSpPr>
          <a:xfrm>
            <a:off x="2050920" y="1844640"/>
            <a:ext cx="539280" cy="3961440"/>
            <a:chOff x="2050920" y="1844640"/>
            <a:chExt cx="539280" cy="3961440"/>
          </a:xfrm>
        </p:grpSpPr>
        <p:grpSp>
          <p:nvGrpSpPr>
            <p:cNvPr id="614" name="Group 12"/>
            <p:cNvGrpSpPr/>
            <p:nvPr/>
          </p:nvGrpSpPr>
          <p:grpSpPr>
            <a:xfrm>
              <a:off x="2050920" y="1844640"/>
              <a:ext cx="539280" cy="3961440"/>
              <a:chOff x="2050920" y="1844640"/>
              <a:chExt cx="539280" cy="396144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050920" y="1944360"/>
                <a:ext cx="360" cy="3861720"/>
                <a:chOff x="2050920" y="1944360"/>
                <a:chExt cx="360" cy="3861720"/>
              </a:xfrm>
            </p:grpSpPr>
            <p:sp>
              <p:nvSpPr>
                <p:cNvPr id="616" name="Line 13"/>
                <p:cNvSpPr/>
                <p:nvPr/>
              </p:nvSpPr>
              <p:spPr>
                <a:xfrm>
                  <a:off x="2050920" y="194436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 txBox="1"/>
                <p:nvPr/>
              </p:nvSpPr>
              <p:spPr>
                <a:xfrm>
                  <a:off x="2050920" y="194436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589840" y="1944360"/>
                <a:ext cx="360" cy="3861720"/>
                <a:chOff x="2589840" y="1944360"/>
                <a:chExt cx="360" cy="3861720"/>
              </a:xfrm>
            </p:grpSpPr>
            <p:sp>
              <p:nvSpPr>
                <p:cNvPr id="619" name="Line 14"/>
                <p:cNvSpPr/>
                <p:nvPr/>
              </p:nvSpPr>
              <p:spPr>
                <a:xfrm>
                  <a:off x="2589840" y="194436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 txBox="1"/>
                <p:nvPr/>
              </p:nvSpPr>
              <p:spPr>
                <a:xfrm>
                  <a:off x="2589840" y="194436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Oval 15"/>
              <p:cNvSpPr/>
              <p:nvPr/>
            </p:nvSpPr>
            <p:spPr>
              <a:xfrm flipV="1">
                <a:off x="2050920" y="1844640"/>
                <a:ext cx="53532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050920" y="2781360"/>
              <a:ext cx="539280" cy="360"/>
              <a:chOff x="2050920" y="2781360"/>
              <a:chExt cx="539280" cy="360"/>
            </a:xfrm>
          </p:grpSpPr>
          <p:sp>
            <p:nvSpPr>
              <p:cNvPr id="623" name="Line 16"/>
              <p:cNvSpPr/>
              <p:nvPr/>
            </p:nvSpPr>
            <p:spPr>
              <a:xfrm>
                <a:off x="2050920" y="278136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2050920" y="278136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2050920" y="2997000"/>
              <a:ext cx="539280" cy="360"/>
              <a:chOff x="2050920" y="2997000"/>
              <a:chExt cx="539280" cy="360"/>
            </a:xfrm>
          </p:grpSpPr>
          <p:sp>
            <p:nvSpPr>
              <p:cNvPr id="626" name="Line 17"/>
              <p:cNvSpPr/>
              <p:nvPr/>
            </p:nvSpPr>
            <p:spPr>
              <a:xfrm>
                <a:off x="2050920" y="299700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2050920" y="299700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050920" y="3214440"/>
              <a:ext cx="539280" cy="360"/>
              <a:chOff x="2050920" y="3214440"/>
              <a:chExt cx="539280" cy="360"/>
            </a:xfrm>
          </p:grpSpPr>
          <p:sp>
            <p:nvSpPr>
              <p:cNvPr id="629" name="Line 18"/>
              <p:cNvSpPr/>
              <p:nvPr/>
            </p:nvSpPr>
            <p:spPr>
              <a:xfrm>
                <a:off x="2050920" y="321444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2050920" y="321444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050920" y="3430440"/>
              <a:ext cx="539280" cy="360"/>
              <a:chOff x="2050920" y="3430440"/>
              <a:chExt cx="539280" cy="360"/>
            </a:xfrm>
          </p:grpSpPr>
          <p:sp>
            <p:nvSpPr>
              <p:cNvPr id="632" name="Line 19"/>
              <p:cNvSpPr/>
              <p:nvPr/>
            </p:nvSpPr>
            <p:spPr>
              <a:xfrm>
                <a:off x="2050920" y="343044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2050920" y="343044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050920" y="3646440"/>
              <a:ext cx="539280" cy="360"/>
              <a:chOff x="2050920" y="3646440"/>
              <a:chExt cx="539280" cy="360"/>
            </a:xfrm>
          </p:grpSpPr>
          <p:sp>
            <p:nvSpPr>
              <p:cNvPr id="635" name="Line 20"/>
              <p:cNvSpPr/>
              <p:nvPr/>
            </p:nvSpPr>
            <p:spPr>
              <a:xfrm>
                <a:off x="2050920" y="364644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2050920" y="364644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050920" y="3933720"/>
              <a:ext cx="539280" cy="360"/>
              <a:chOff x="2050920" y="3933720"/>
              <a:chExt cx="539280" cy="360"/>
            </a:xfrm>
          </p:grpSpPr>
          <p:sp>
            <p:nvSpPr>
              <p:cNvPr id="638" name="Line 21"/>
              <p:cNvSpPr/>
              <p:nvPr/>
            </p:nvSpPr>
            <p:spPr>
              <a:xfrm>
                <a:off x="2050920" y="393372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>
                <a:off x="2050920" y="393372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050920" y="4222800"/>
              <a:ext cx="539280" cy="360"/>
              <a:chOff x="2050920" y="4222800"/>
              <a:chExt cx="539280" cy="360"/>
            </a:xfrm>
          </p:grpSpPr>
          <p:sp>
            <p:nvSpPr>
              <p:cNvPr id="641" name="Line 22"/>
              <p:cNvSpPr/>
              <p:nvPr/>
            </p:nvSpPr>
            <p:spPr>
              <a:xfrm>
                <a:off x="2050920" y="422280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2050920" y="422280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050920" y="4510080"/>
              <a:ext cx="539280" cy="360"/>
              <a:chOff x="2050920" y="4510080"/>
              <a:chExt cx="539280" cy="360"/>
            </a:xfrm>
          </p:grpSpPr>
          <p:sp>
            <p:nvSpPr>
              <p:cNvPr id="644" name="Line 23"/>
              <p:cNvSpPr/>
              <p:nvPr/>
            </p:nvSpPr>
            <p:spPr>
              <a:xfrm>
                <a:off x="2050920" y="451008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2050920" y="451008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50920" y="4798800"/>
              <a:ext cx="539280" cy="360"/>
              <a:chOff x="2050920" y="4798800"/>
              <a:chExt cx="539280" cy="360"/>
            </a:xfrm>
          </p:grpSpPr>
          <p:sp>
            <p:nvSpPr>
              <p:cNvPr id="647" name="Line 24"/>
              <p:cNvSpPr/>
              <p:nvPr/>
            </p:nvSpPr>
            <p:spPr>
              <a:xfrm>
                <a:off x="2050920" y="479880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2050920" y="479880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050920" y="5086080"/>
              <a:ext cx="539280" cy="360"/>
              <a:chOff x="2050920" y="5086080"/>
              <a:chExt cx="539280" cy="360"/>
            </a:xfrm>
          </p:grpSpPr>
          <p:sp>
            <p:nvSpPr>
              <p:cNvPr id="650" name="Line 25"/>
              <p:cNvSpPr/>
              <p:nvPr/>
            </p:nvSpPr>
            <p:spPr>
              <a:xfrm>
                <a:off x="2050920" y="508608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2050920" y="508608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2050920" y="5373720"/>
              <a:ext cx="539280" cy="360"/>
              <a:chOff x="2050920" y="5373720"/>
              <a:chExt cx="539280" cy="360"/>
            </a:xfrm>
          </p:grpSpPr>
          <p:sp>
            <p:nvSpPr>
              <p:cNvPr id="653" name="Line 26"/>
              <p:cNvSpPr/>
              <p:nvPr/>
            </p:nvSpPr>
            <p:spPr>
              <a:xfrm>
                <a:off x="2050920" y="537372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2050920" y="537372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2050920" y="5589360"/>
              <a:ext cx="539280" cy="360"/>
              <a:chOff x="2050920" y="5589360"/>
              <a:chExt cx="539280" cy="360"/>
            </a:xfrm>
          </p:grpSpPr>
          <p:sp>
            <p:nvSpPr>
              <p:cNvPr id="656" name="Line 27"/>
              <p:cNvSpPr/>
              <p:nvPr/>
            </p:nvSpPr>
            <p:spPr>
              <a:xfrm>
                <a:off x="2050920" y="558936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2050920" y="558936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2590920" y="2781360"/>
            <a:ext cx="503280" cy="360"/>
            <a:chOff x="2590920" y="2781360"/>
            <a:chExt cx="503280" cy="360"/>
          </a:xfrm>
        </p:grpSpPr>
        <p:sp>
          <p:nvSpPr>
            <p:cNvPr id="659" name="Line 28"/>
            <p:cNvSpPr/>
            <p:nvPr/>
          </p:nvSpPr>
          <p:spPr>
            <a:xfrm>
              <a:off x="2590920" y="278136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>
              <a:off x="2590920" y="27813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2590920" y="5373720"/>
            <a:ext cx="503280" cy="360"/>
            <a:chOff x="2590920" y="5373720"/>
            <a:chExt cx="503280" cy="360"/>
          </a:xfrm>
        </p:grpSpPr>
        <p:sp>
          <p:nvSpPr>
            <p:cNvPr id="662" name="Line 29"/>
            <p:cNvSpPr/>
            <p:nvPr/>
          </p:nvSpPr>
          <p:spPr>
            <a:xfrm>
              <a:off x="2590920" y="5373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 txBox="1"/>
            <p:nvPr/>
          </p:nvSpPr>
          <p:spPr>
            <a:xfrm>
              <a:off x="2590920" y="537372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878200" y="2781360"/>
            <a:ext cx="360" cy="2592360"/>
            <a:chOff x="2878200" y="2781360"/>
            <a:chExt cx="360" cy="2592360"/>
          </a:xfrm>
        </p:grpSpPr>
        <p:sp>
          <p:nvSpPr>
            <p:cNvPr id="665" name="Line 30"/>
            <p:cNvSpPr/>
            <p:nvPr/>
          </p:nvSpPr>
          <p:spPr>
            <a:xfrm>
              <a:off x="2878200" y="278136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2878200" y="278136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Text Box 31"/>
          <p:cNvSpPr/>
          <p:nvPr/>
        </p:nvSpPr>
        <p:spPr>
          <a:xfrm>
            <a:off x="3002040" y="366696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32"/>
          <p:cNvGrpSpPr/>
          <p:nvPr/>
        </p:nvGrpSpPr>
        <p:grpSpPr>
          <a:xfrm>
            <a:off x="4477680" y="4773600"/>
            <a:ext cx="4579920" cy="4579920"/>
            <a:chOff x="4477680" y="4773600"/>
            <a:chExt cx="4579920" cy="4579920"/>
          </a:xfrm>
        </p:grpSpPr>
        <p:grpSp>
          <p:nvGrpSpPr>
            <p:cNvPr id="669" name=""/>
            <p:cNvGrpSpPr/>
            <p:nvPr/>
          </p:nvGrpSpPr>
          <p:grpSpPr>
            <a:xfrm>
              <a:off x="5618520" y="5229360"/>
              <a:ext cx="360" cy="1153440"/>
              <a:chOff x="5618520" y="5229360"/>
              <a:chExt cx="360" cy="1153440"/>
            </a:xfrm>
          </p:grpSpPr>
          <p:sp>
            <p:nvSpPr>
              <p:cNvPr id="670" name="Line 33"/>
              <p:cNvSpPr/>
              <p:nvPr/>
            </p:nvSpPr>
            <p:spPr>
              <a:xfrm>
                <a:off x="5618520" y="522936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5618520" y="5229360"/>
                <a:ext cx="36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778880" y="5229360"/>
              <a:ext cx="71640" cy="1153440"/>
              <a:chOff x="7778880" y="5229360"/>
              <a:chExt cx="71640" cy="1153440"/>
            </a:xfrm>
          </p:grpSpPr>
          <p:sp>
            <p:nvSpPr>
              <p:cNvPr id="673" name="Line 34"/>
              <p:cNvSpPr/>
              <p:nvPr/>
            </p:nvSpPr>
            <p:spPr>
              <a:xfrm>
                <a:off x="7778880" y="5229360"/>
                <a:ext cx="7164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7778880" y="5229360"/>
                <a:ext cx="7164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618520" y="6382800"/>
              <a:ext cx="2232000" cy="360"/>
              <a:chOff x="5618520" y="6382800"/>
              <a:chExt cx="2232000" cy="360"/>
            </a:xfrm>
          </p:grpSpPr>
          <p:sp>
            <p:nvSpPr>
              <p:cNvPr id="676" name="Line 35"/>
              <p:cNvSpPr/>
              <p:nvPr/>
            </p:nvSpPr>
            <p:spPr>
              <a:xfrm>
                <a:off x="5618520" y="638280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 txBox="1"/>
              <p:nvPr/>
            </p:nvSpPr>
            <p:spPr>
              <a:xfrm>
                <a:off x="5618520" y="638280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PubChord"/>
            <p:cNvSpPr/>
            <p:nvPr/>
          </p:nvSpPr>
          <p:spPr>
            <a:xfrm rot="7972800">
              <a:off x="5146200" y="5443920"/>
              <a:ext cx="3242880" cy="3238560"/>
            </a:xfrm>
            <a:custGeom>
              <a:avLst/>
              <a:gdLst/>
              <a:ahLst/>
              <a:rect l="l" t="t" r="r" b="b"/>
              <a:pathLst>
                <a:path w="10413" h="21593">
                  <a:moveTo>
                    <a:pt x="2" y="11025"/>
                  </a:moveTo>
                  <a:cubicBezTo>
                    <a:pt x="122" y="16751"/>
                    <a:pt x="4690" y="21388"/>
                    <a:pt x="10413" y="21593"/>
                  </a:cubicBezTo>
                  <a:lnTo>
                    <a:pt x="2" y="1102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37"/>
            <p:cNvSpPr/>
            <p:nvPr/>
          </p:nvSpPr>
          <p:spPr>
            <a:xfrm>
              <a:off x="5689800" y="5878800"/>
              <a:ext cx="2089080" cy="432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8"/>
          <p:cNvGrpSpPr/>
          <p:nvPr/>
        </p:nvGrpSpPr>
        <p:grpSpPr>
          <a:xfrm>
            <a:off x="6443640" y="1916280"/>
            <a:ext cx="108360" cy="3961440"/>
            <a:chOff x="6443640" y="1916280"/>
            <a:chExt cx="108360" cy="3961440"/>
          </a:xfrm>
        </p:grpSpPr>
        <p:grpSp>
          <p:nvGrpSpPr>
            <p:cNvPr id="681" name="Group 39"/>
            <p:cNvGrpSpPr/>
            <p:nvPr/>
          </p:nvGrpSpPr>
          <p:grpSpPr>
            <a:xfrm>
              <a:off x="6443640" y="1916280"/>
              <a:ext cx="108360" cy="3961440"/>
              <a:chOff x="6443640" y="1916280"/>
              <a:chExt cx="108360" cy="39614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6443640" y="2016000"/>
                <a:ext cx="360" cy="3861720"/>
                <a:chOff x="6443640" y="2016000"/>
                <a:chExt cx="360" cy="3861720"/>
              </a:xfrm>
            </p:grpSpPr>
            <p:sp>
              <p:nvSpPr>
                <p:cNvPr id="683" name="Line 40"/>
                <p:cNvSpPr/>
                <p:nvPr/>
              </p:nvSpPr>
              <p:spPr>
                <a:xfrm>
                  <a:off x="6443640" y="201600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 txBox="1"/>
                <p:nvPr/>
              </p:nvSpPr>
              <p:spPr>
                <a:xfrm>
                  <a:off x="6443640" y="201600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6551640" y="2016000"/>
                <a:ext cx="360" cy="3861720"/>
                <a:chOff x="6551640" y="2016000"/>
                <a:chExt cx="360" cy="3861720"/>
              </a:xfrm>
            </p:grpSpPr>
            <p:sp>
              <p:nvSpPr>
                <p:cNvPr id="686" name="Line 41"/>
                <p:cNvSpPr/>
                <p:nvPr/>
              </p:nvSpPr>
              <p:spPr>
                <a:xfrm>
                  <a:off x="6551640" y="201600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 txBox="1"/>
                <p:nvPr/>
              </p:nvSpPr>
              <p:spPr>
                <a:xfrm>
                  <a:off x="6551640" y="201600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Oval 42"/>
              <p:cNvSpPr/>
              <p:nvPr/>
            </p:nvSpPr>
            <p:spPr>
              <a:xfrm flipV="1">
                <a:off x="6443640" y="1916280"/>
                <a:ext cx="10728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6443640" y="2853000"/>
              <a:ext cx="108000" cy="360"/>
              <a:chOff x="6443640" y="2853000"/>
              <a:chExt cx="108000" cy="360"/>
            </a:xfrm>
          </p:grpSpPr>
          <p:sp>
            <p:nvSpPr>
              <p:cNvPr id="690" name="Line 43"/>
              <p:cNvSpPr/>
              <p:nvPr/>
            </p:nvSpPr>
            <p:spPr>
              <a:xfrm>
                <a:off x="6443640" y="285300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 txBox="1"/>
              <p:nvPr/>
            </p:nvSpPr>
            <p:spPr>
              <a:xfrm>
                <a:off x="6443640" y="285300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443640" y="3068640"/>
              <a:ext cx="108000" cy="360"/>
              <a:chOff x="6443640" y="3068640"/>
              <a:chExt cx="108000" cy="360"/>
            </a:xfrm>
          </p:grpSpPr>
          <p:sp>
            <p:nvSpPr>
              <p:cNvPr id="693" name="Line 44"/>
              <p:cNvSpPr/>
              <p:nvPr/>
            </p:nvSpPr>
            <p:spPr>
              <a:xfrm>
                <a:off x="6443640" y="306864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 txBox="1"/>
              <p:nvPr/>
            </p:nvSpPr>
            <p:spPr>
              <a:xfrm>
                <a:off x="6443640" y="306864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443640" y="3286080"/>
              <a:ext cx="108000" cy="360"/>
              <a:chOff x="6443640" y="3286080"/>
              <a:chExt cx="108000" cy="360"/>
            </a:xfrm>
          </p:grpSpPr>
          <p:sp>
            <p:nvSpPr>
              <p:cNvPr id="696" name="Line 45"/>
              <p:cNvSpPr/>
              <p:nvPr/>
            </p:nvSpPr>
            <p:spPr>
              <a:xfrm>
                <a:off x="6443640" y="328608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 txBox="1"/>
              <p:nvPr/>
            </p:nvSpPr>
            <p:spPr>
              <a:xfrm>
                <a:off x="6443640" y="328608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6443640" y="3502080"/>
              <a:ext cx="108000" cy="360"/>
              <a:chOff x="6443640" y="3502080"/>
              <a:chExt cx="108000" cy="360"/>
            </a:xfrm>
          </p:grpSpPr>
          <p:sp>
            <p:nvSpPr>
              <p:cNvPr id="699" name="Line 46"/>
              <p:cNvSpPr/>
              <p:nvPr/>
            </p:nvSpPr>
            <p:spPr>
              <a:xfrm>
                <a:off x="6443640" y="350208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 txBox="1"/>
              <p:nvPr/>
            </p:nvSpPr>
            <p:spPr>
              <a:xfrm>
                <a:off x="6443640" y="350208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6443640" y="3718080"/>
              <a:ext cx="108000" cy="360"/>
              <a:chOff x="6443640" y="3718080"/>
              <a:chExt cx="108000" cy="360"/>
            </a:xfrm>
          </p:grpSpPr>
          <p:sp>
            <p:nvSpPr>
              <p:cNvPr id="702" name="Line 47"/>
              <p:cNvSpPr/>
              <p:nvPr/>
            </p:nvSpPr>
            <p:spPr>
              <a:xfrm>
                <a:off x="6443640" y="371808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 txBox="1"/>
              <p:nvPr/>
            </p:nvSpPr>
            <p:spPr>
              <a:xfrm>
                <a:off x="6443640" y="371808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443640" y="4005360"/>
              <a:ext cx="108000" cy="360"/>
              <a:chOff x="6443640" y="4005360"/>
              <a:chExt cx="108000" cy="360"/>
            </a:xfrm>
          </p:grpSpPr>
          <p:sp>
            <p:nvSpPr>
              <p:cNvPr id="705" name="Line 48"/>
              <p:cNvSpPr/>
              <p:nvPr/>
            </p:nvSpPr>
            <p:spPr>
              <a:xfrm>
                <a:off x="6443640" y="400536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 txBox="1"/>
              <p:nvPr/>
            </p:nvSpPr>
            <p:spPr>
              <a:xfrm>
                <a:off x="6443640" y="400536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443640" y="4294440"/>
              <a:ext cx="108000" cy="360"/>
              <a:chOff x="6443640" y="4294440"/>
              <a:chExt cx="108000" cy="360"/>
            </a:xfrm>
          </p:grpSpPr>
          <p:sp>
            <p:nvSpPr>
              <p:cNvPr id="708" name="Line 49"/>
              <p:cNvSpPr/>
              <p:nvPr/>
            </p:nvSpPr>
            <p:spPr>
              <a:xfrm>
                <a:off x="6443640" y="429444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 txBox="1"/>
              <p:nvPr/>
            </p:nvSpPr>
            <p:spPr>
              <a:xfrm>
                <a:off x="6443640" y="429444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6443640" y="4581720"/>
              <a:ext cx="108000" cy="360"/>
              <a:chOff x="6443640" y="4581720"/>
              <a:chExt cx="108000" cy="360"/>
            </a:xfrm>
          </p:grpSpPr>
          <p:sp>
            <p:nvSpPr>
              <p:cNvPr id="711" name="Line 50"/>
              <p:cNvSpPr/>
              <p:nvPr/>
            </p:nvSpPr>
            <p:spPr>
              <a:xfrm>
                <a:off x="6443640" y="458172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6443640" y="458172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6443640" y="4870440"/>
              <a:ext cx="108000" cy="360"/>
              <a:chOff x="6443640" y="4870440"/>
              <a:chExt cx="108000" cy="360"/>
            </a:xfrm>
          </p:grpSpPr>
          <p:sp>
            <p:nvSpPr>
              <p:cNvPr id="714" name="Line 51"/>
              <p:cNvSpPr/>
              <p:nvPr/>
            </p:nvSpPr>
            <p:spPr>
              <a:xfrm>
                <a:off x="6443640" y="487044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 txBox="1"/>
              <p:nvPr/>
            </p:nvSpPr>
            <p:spPr>
              <a:xfrm>
                <a:off x="6443640" y="487044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6443640" y="5157720"/>
              <a:ext cx="108000" cy="360"/>
              <a:chOff x="6443640" y="5157720"/>
              <a:chExt cx="108000" cy="360"/>
            </a:xfrm>
          </p:grpSpPr>
          <p:sp>
            <p:nvSpPr>
              <p:cNvPr id="717" name="Line 52"/>
              <p:cNvSpPr/>
              <p:nvPr/>
            </p:nvSpPr>
            <p:spPr>
              <a:xfrm>
                <a:off x="6443640" y="515772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 txBox="1"/>
              <p:nvPr/>
            </p:nvSpPr>
            <p:spPr>
              <a:xfrm>
                <a:off x="6443640" y="515772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443640" y="5445360"/>
              <a:ext cx="108000" cy="360"/>
              <a:chOff x="6443640" y="5445360"/>
              <a:chExt cx="108000" cy="360"/>
            </a:xfrm>
          </p:grpSpPr>
          <p:sp>
            <p:nvSpPr>
              <p:cNvPr id="720" name="Line 53"/>
              <p:cNvSpPr/>
              <p:nvPr/>
            </p:nvSpPr>
            <p:spPr>
              <a:xfrm>
                <a:off x="6443640" y="544536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 txBox="1"/>
              <p:nvPr/>
            </p:nvSpPr>
            <p:spPr>
              <a:xfrm>
                <a:off x="6443640" y="544536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443640" y="5661000"/>
              <a:ext cx="108000" cy="360"/>
              <a:chOff x="6443640" y="5661000"/>
              <a:chExt cx="108000" cy="360"/>
            </a:xfrm>
          </p:grpSpPr>
          <p:sp>
            <p:nvSpPr>
              <p:cNvPr id="723" name="Line 54"/>
              <p:cNvSpPr/>
              <p:nvPr/>
            </p:nvSpPr>
            <p:spPr>
              <a:xfrm>
                <a:off x="6443640" y="566100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 txBox="1"/>
              <p:nvPr/>
            </p:nvSpPr>
            <p:spPr>
              <a:xfrm>
                <a:off x="6443640" y="566100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6551640" y="2852640"/>
            <a:ext cx="503280" cy="360"/>
            <a:chOff x="6551640" y="2852640"/>
            <a:chExt cx="503280" cy="360"/>
          </a:xfrm>
        </p:grpSpPr>
        <p:sp>
          <p:nvSpPr>
            <p:cNvPr id="726" name="Line 55"/>
            <p:cNvSpPr/>
            <p:nvPr/>
          </p:nvSpPr>
          <p:spPr>
            <a:xfrm>
              <a:off x="6551640" y="285264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6551640" y="285264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551640" y="5445000"/>
            <a:ext cx="503280" cy="360"/>
            <a:chOff x="6551640" y="5445000"/>
            <a:chExt cx="503280" cy="360"/>
          </a:xfrm>
        </p:grpSpPr>
        <p:sp>
          <p:nvSpPr>
            <p:cNvPr id="729" name="Line 56"/>
            <p:cNvSpPr/>
            <p:nvPr/>
          </p:nvSpPr>
          <p:spPr>
            <a:xfrm>
              <a:off x="6551640" y="544500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6551640" y="544500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6838920" y="2852640"/>
            <a:ext cx="360" cy="2592360"/>
            <a:chOff x="6838920" y="2852640"/>
            <a:chExt cx="360" cy="2592360"/>
          </a:xfrm>
        </p:grpSpPr>
        <p:sp>
          <p:nvSpPr>
            <p:cNvPr id="732" name="Line 57"/>
            <p:cNvSpPr/>
            <p:nvPr/>
          </p:nvSpPr>
          <p:spPr>
            <a:xfrm>
              <a:off x="6838920" y="285264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6838920" y="285264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Text Box 58"/>
          <p:cNvSpPr/>
          <p:nvPr/>
        </p:nvSpPr>
        <p:spPr>
          <a:xfrm>
            <a:off x="6963120" y="373860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4"/>
          <p:cNvSpPr/>
          <p:nvPr/>
        </p:nvSpPr>
        <p:spPr>
          <a:xfrm>
            <a:off x="2895840" y="476280"/>
            <a:ext cx="26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漏进去一些空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果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5"/>
          <p:cNvGrpSpPr/>
          <p:nvPr/>
        </p:nvGrpSpPr>
        <p:grpSpPr>
          <a:xfrm>
            <a:off x="231120" y="4846320"/>
            <a:ext cx="4579920" cy="4579920"/>
            <a:chOff x="231120" y="4846320"/>
            <a:chExt cx="4579920" cy="4579920"/>
          </a:xfrm>
        </p:grpSpPr>
        <p:grpSp>
          <p:nvGrpSpPr>
            <p:cNvPr id="737" name=""/>
            <p:cNvGrpSpPr/>
            <p:nvPr/>
          </p:nvGrpSpPr>
          <p:grpSpPr>
            <a:xfrm>
              <a:off x="1371960" y="5302080"/>
              <a:ext cx="360" cy="1153440"/>
              <a:chOff x="1371960" y="5302080"/>
              <a:chExt cx="360" cy="1153440"/>
            </a:xfrm>
          </p:grpSpPr>
          <p:sp>
            <p:nvSpPr>
              <p:cNvPr id="738" name="Line 6"/>
              <p:cNvSpPr/>
              <p:nvPr/>
            </p:nvSpPr>
            <p:spPr>
              <a:xfrm>
                <a:off x="1371960" y="530208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 txBox="1"/>
              <p:nvPr/>
            </p:nvSpPr>
            <p:spPr>
              <a:xfrm>
                <a:off x="1371960" y="5302080"/>
                <a:ext cx="36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532320" y="5302080"/>
              <a:ext cx="71640" cy="1153440"/>
              <a:chOff x="3532320" y="5302080"/>
              <a:chExt cx="71640" cy="1153440"/>
            </a:xfrm>
          </p:grpSpPr>
          <p:sp>
            <p:nvSpPr>
              <p:cNvPr id="741" name="Line 7"/>
              <p:cNvSpPr/>
              <p:nvPr/>
            </p:nvSpPr>
            <p:spPr>
              <a:xfrm>
                <a:off x="3532320" y="5302080"/>
                <a:ext cx="7164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 txBox="1"/>
              <p:nvPr/>
            </p:nvSpPr>
            <p:spPr>
              <a:xfrm>
                <a:off x="3532320" y="5302080"/>
                <a:ext cx="7164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1371960" y="6455520"/>
              <a:ext cx="2232000" cy="360"/>
              <a:chOff x="1371960" y="6455520"/>
              <a:chExt cx="2232000" cy="360"/>
            </a:xfrm>
          </p:grpSpPr>
          <p:sp>
            <p:nvSpPr>
              <p:cNvPr id="744" name="Line 8"/>
              <p:cNvSpPr/>
              <p:nvPr/>
            </p:nvSpPr>
            <p:spPr>
              <a:xfrm>
                <a:off x="1371960" y="645552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 txBox="1"/>
              <p:nvPr/>
            </p:nvSpPr>
            <p:spPr>
              <a:xfrm>
                <a:off x="1371960" y="645552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PubChord"/>
            <p:cNvSpPr/>
            <p:nvPr/>
          </p:nvSpPr>
          <p:spPr>
            <a:xfrm rot="7972800">
              <a:off x="899640" y="5516640"/>
              <a:ext cx="3242880" cy="3238560"/>
            </a:xfrm>
            <a:custGeom>
              <a:avLst/>
              <a:gdLst/>
              <a:ahLst/>
              <a:rect l="l" t="t" r="r" b="b"/>
              <a:pathLst>
                <a:path w="10413" h="21593">
                  <a:moveTo>
                    <a:pt x="2" y="11025"/>
                  </a:moveTo>
                  <a:cubicBezTo>
                    <a:pt x="122" y="16751"/>
                    <a:pt x="4690" y="21388"/>
                    <a:pt x="10413" y="21593"/>
                  </a:cubicBezTo>
                  <a:lnTo>
                    <a:pt x="2" y="1102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0"/>
            <p:cNvSpPr/>
            <p:nvPr/>
          </p:nvSpPr>
          <p:spPr>
            <a:xfrm>
              <a:off x="1443240" y="5951520"/>
              <a:ext cx="2089080" cy="432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11"/>
          <p:cNvGrpSpPr/>
          <p:nvPr/>
        </p:nvGrpSpPr>
        <p:grpSpPr>
          <a:xfrm>
            <a:off x="2089080" y="1989000"/>
            <a:ext cx="216360" cy="3961800"/>
            <a:chOff x="2089080" y="1989000"/>
            <a:chExt cx="216360" cy="3961800"/>
          </a:xfrm>
        </p:grpSpPr>
        <p:grpSp>
          <p:nvGrpSpPr>
            <p:cNvPr id="749" name=""/>
            <p:cNvGrpSpPr/>
            <p:nvPr/>
          </p:nvGrpSpPr>
          <p:grpSpPr>
            <a:xfrm>
              <a:off x="2089080" y="2088720"/>
              <a:ext cx="360" cy="3862080"/>
              <a:chOff x="2089080" y="2088720"/>
              <a:chExt cx="360" cy="3862080"/>
            </a:xfrm>
          </p:grpSpPr>
          <p:sp>
            <p:nvSpPr>
              <p:cNvPr id="750" name="Line 12"/>
              <p:cNvSpPr/>
              <p:nvPr/>
            </p:nvSpPr>
            <p:spPr>
              <a:xfrm>
                <a:off x="2089080" y="208872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2089080" y="208872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2305080" y="2088720"/>
              <a:ext cx="360" cy="3862080"/>
              <a:chOff x="2305080" y="2088720"/>
              <a:chExt cx="360" cy="3862080"/>
            </a:xfrm>
          </p:grpSpPr>
          <p:sp>
            <p:nvSpPr>
              <p:cNvPr id="753" name="Line 13"/>
              <p:cNvSpPr/>
              <p:nvPr/>
            </p:nvSpPr>
            <p:spPr>
              <a:xfrm>
                <a:off x="2305080" y="208872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 txBox="1"/>
              <p:nvPr/>
            </p:nvSpPr>
            <p:spPr>
              <a:xfrm>
                <a:off x="2305080" y="208872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Oval 14"/>
            <p:cNvSpPr/>
            <p:nvPr/>
          </p:nvSpPr>
          <p:spPr>
            <a:xfrm flipV="1">
              <a:off x="2089080" y="1989000"/>
              <a:ext cx="2145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089080" y="2925720"/>
            <a:ext cx="216000" cy="360"/>
            <a:chOff x="2089080" y="2925720"/>
            <a:chExt cx="216000" cy="360"/>
          </a:xfrm>
        </p:grpSpPr>
        <p:sp>
          <p:nvSpPr>
            <p:cNvPr id="757" name="Line 15"/>
            <p:cNvSpPr/>
            <p:nvPr/>
          </p:nvSpPr>
          <p:spPr>
            <a:xfrm>
              <a:off x="2089080" y="29257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2089080" y="29257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089080" y="3141720"/>
            <a:ext cx="216000" cy="360"/>
            <a:chOff x="2089080" y="3141720"/>
            <a:chExt cx="216000" cy="360"/>
          </a:xfrm>
        </p:grpSpPr>
        <p:sp>
          <p:nvSpPr>
            <p:cNvPr id="760" name="Line 16"/>
            <p:cNvSpPr/>
            <p:nvPr/>
          </p:nvSpPr>
          <p:spPr>
            <a:xfrm>
              <a:off x="2089080" y="31417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2089080" y="31417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089080" y="3359160"/>
            <a:ext cx="216000" cy="360"/>
            <a:chOff x="2089080" y="3359160"/>
            <a:chExt cx="216000" cy="360"/>
          </a:xfrm>
        </p:grpSpPr>
        <p:sp>
          <p:nvSpPr>
            <p:cNvPr id="763" name="Line 17"/>
            <p:cNvSpPr/>
            <p:nvPr/>
          </p:nvSpPr>
          <p:spPr>
            <a:xfrm>
              <a:off x="2089080" y="33591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2089080" y="33591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089080" y="3575160"/>
            <a:ext cx="216000" cy="360"/>
            <a:chOff x="2089080" y="3575160"/>
            <a:chExt cx="216000" cy="360"/>
          </a:xfrm>
        </p:grpSpPr>
        <p:sp>
          <p:nvSpPr>
            <p:cNvPr id="766" name="Line 18"/>
            <p:cNvSpPr/>
            <p:nvPr/>
          </p:nvSpPr>
          <p:spPr>
            <a:xfrm>
              <a:off x="2089080" y="35751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2089080" y="35751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089080" y="3790800"/>
            <a:ext cx="216000" cy="360"/>
            <a:chOff x="2089080" y="3790800"/>
            <a:chExt cx="216000" cy="360"/>
          </a:xfrm>
        </p:grpSpPr>
        <p:sp>
          <p:nvSpPr>
            <p:cNvPr id="769" name="Line 19"/>
            <p:cNvSpPr/>
            <p:nvPr/>
          </p:nvSpPr>
          <p:spPr>
            <a:xfrm>
              <a:off x="2089080" y="37908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2089080" y="37908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089080" y="4078440"/>
            <a:ext cx="216000" cy="360"/>
            <a:chOff x="2089080" y="4078440"/>
            <a:chExt cx="216000" cy="360"/>
          </a:xfrm>
        </p:grpSpPr>
        <p:sp>
          <p:nvSpPr>
            <p:cNvPr id="772" name="Line 20"/>
            <p:cNvSpPr/>
            <p:nvPr/>
          </p:nvSpPr>
          <p:spPr>
            <a:xfrm>
              <a:off x="2089080" y="40784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2089080" y="40784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089080" y="4367160"/>
            <a:ext cx="216000" cy="360"/>
            <a:chOff x="2089080" y="4367160"/>
            <a:chExt cx="216000" cy="360"/>
          </a:xfrm>
        </p:grpSpPr>
        <p:sp>
          <p:nvSpPr>
            <p:cNvPr id="775" name="Line 21"/>
            <p:cNvSpPr/>
            <p:nvPr/>
          </p:nvSpPr>
          <p:spPr>
            <a:xfrm>
              <a:off x="2089080" y="43671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2089080" y="43671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089080" y="4654440"/>
            <a:ext cx="216000" cy="360"/>
            <a:chOff x="2089080" y="4654440"/>
            <a:chExt cx="216000" cy="360"/>
          </a:xfrm>
        </p:grpSpPr>
        <p:sp>
          <p:nvSpPr>
            <p:cNvPr id="778" name="Line 22"/>
            <p:cNvSpPr/>
            <p:nvPr/>
          </p:nvSpPr>
          <p:spPr>
            <a:xfrm>
              <a:off x="2089080" y="46544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2089080" y="46544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2089080" y="4943520"/>
            <a:ext cx="216000" cy="360"/>
            <a:chOff x="2089080" y="4943520"/>
            <a:chExt cx="216000" cy="360"/>
          </a:xfrm>
        </p:grpSpPr>
        <p:sp>
          <p:nvSpPr>
            <p:cNvPr id="781" name="Line 23"/>
            <p:cNvSpPr/>
            <p:nvPr/>
          </p:nvSpPr>
          <p:spPr>
            <a:xfrm>
              <a:off x="2089080" y="49435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2089080" y="49435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089080" y="5230800"/>
            <a:ext cx="216000" cy="360"/>
            <a:chOff x="2089080" y="5230800"/>
            <a:chExt cx="216000" cy="360"/>
          </a:xfrm>
        </p:grpSpPr>
        <p:sp>
          <p:nvSpPr>
            <p:cNvPr id="784" name="Line 24"/>
            <p:cNvSpPr/>
            <p:nvPr/>
          </p:nvSpPr>
          <p:spPr>
            <a:xfrm>
              <a:off x="2089080" y="52308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2089080" y="52308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089080" y="5518080"/>
            <a:ext cx="216000" cy="360"/>
            <a:chOff x="2089080" y="5518080"/>
            <a:chExt cx="216000" cy="360"/>
          </a:xfrm>
        </p:grpSpPr>
        <p:sp>
          <p:nvSpPr>
            <p:cNvPr id="787" name="Line 25"/>
            <p:cNvSpPr/>
            <p:nvPr/>
          </p:nvSpPr>
          <p:spPr>
            <a:xfrm>
              <a:off x="2089080" y="55180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2089080" y="55180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2089080" y="5734080"/>
            <a:ext cx="216000" cy="360"/>
            <a:chOff x="2089080" y="5734080"/>
            <a:chExt cx="216000" cy="360"/>
          </a:xfrm>
        </p:grpSpPr>
        <p:sp>
          <p:nvSpPr>
            <p:cNvPr id="790" name="Line 26"/>
            <p:cNvSpPr/>
            <p:nvPr/>
          </p:nvSpPr>
          <p:spPr>
            <a:xfrm>
              <a:off x="2089080" y="57340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>
              <a:off x="2089080" y="57340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305080" y="2925720"/>
            <a:ext cx="503280" cy="360"/>
            <a:chOff x="2305080" y="2925720"/>
            <a:chExt cx="503280" cy="360"/>
          </a:xfrm>
        </p:grpSpPr>
        <p:sp>
          <p:nvSpPr>
            <p:cNvPr id="793" name="Line 27"/>
            <p:cNvSpPr/>
            <p:nvPr/>
          </p:nvSpPr>
          <p:spPr>
            <a:xfrm>
              <a:off x="2305080" y="292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2305080" y="292572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305080" y="5518080"/>
            <a:ext cx="503280" cy="360"/>
            <a:chOff x="2305080" y="5518080"/>
            <a:chExt cx="503280" cy="360"/>
          </a:xfrm>
        </p:grpSpPr>
        <p:sp>
          <p:nvSpPr>
            <p:cNvPr id="796" name="Line 28"/>
            <p:cNvSpPr/>
            <p:nvPr/>
          </p:nvSpPr>
          <p:spPr>
            <a:xfrm>
              <a:off x="2305080" y="551808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2305080" y="551808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92360" y="2925720"/>
            <a:ext cx="360" cy="2592360"/>
            <a:chOff x="2592360" y="2925720"/>
            <a:chExt cx="360" cy="2592360"/>
          </a:xfrm>
        </p:grpSpPr>
        <p:sp>
          <p:nvSpPr>
            <p:cNvPr id="799" name="Line 29"/>
            <p:cNvSpPr/>
            <p:nvPr/>
          </p:nvSpPr>
          <p:spPr>
            <a:xfrm>
              <a:off x="2592360" y="292572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2592360" y="292572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 Box 30"/>
          <p:cNvSpPr/>
          <p:nvPr/>
        </p:nvSpPr>
        <p:spPr>
          <a:xfrm>
            <a:off x="2716560" y="381168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700360" y="3357720"/>
            <a:ext cx="1871640" cy="360"/>
            <a:chOff x="2700360" y="3357720"/>
            <a:chExt cx="1871640" cy="360"/>
          </a:xfrm>
        </p:grpSpPr>
        <p:sp>
          <p:nvSpPr>
            <p:cNvPr id="803" name="Line 31"/>
            <p:cNvSpPr/>
            <p:nvPr/>
          </p:nvSpPr>
          <p:spPr>
            <a:xfrm>
              <a:off x="2700360" y="3357720"/>
              <a:ext cx="18716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 txBox="1"/>
            <p:nvPr/>
          </p:nvSpPr>
          <p:spPr>
            <a:xfrm>
              <a:off x="2700360" y="335772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2843280" y="5516640"/>
            <a:ext cx="1873080" cy="360"/>
            <a:chOff x="2843280" y="5516640"/>
            <a:chExt cx="1873080" cy="360"/>
          </a:xfrm>
        </p:grpSpPr>
        <p:sp>
          <p:nvSpPr>
            <p:cNvPr id="806" name="Line 32"/>
            <p:cNvSpPr/>
            <p:nvPr/>
          </p:nvSpPr>
          <p:spPr>
            <a:xfrm>
              <a:off x="2843280" y="5516640"/>
              <a:ext cx="18730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 txBox="1"/>
            <p:nvPr/>
          </p:nvSpPr>
          <p:spPr>
            <a:xfrm>
              <a:off x="2843280" y="5516640"/>
              <a:ext cx="18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984120" y="3357720"/>
            <a:ext cx="11520" cy="2158920"/>
            <a:chOff x="3984120" y="3357720"/>
            <a:chExt cx="11520" cy="2158920"/>
          </a:xfrm>
        </p:grpSpPr>
        <p:sp>
          <p:nvSpPr>
            <p:cNvPr id="809" name="Line 33"/>
            <p:cNvSpPr/>
            <p:nvPr/>
          </p:nvSpPr>
          <p:spPr>
            <a:xfrm flipH="1">
              <a:off x="3984120" y="3357720"/>
              <a:ext cx="11160" cy="21589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 txBox="1"/>
            <p:nvPr/>
          </p:nvSpPr>
          <p:spPr>
            <a:xfrm>
              <a:off x="3984480" y="3357720"/>
              <a:ext cx="11160" cy="21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Text Box 34"/>
          <p:cNvSpPr/>
          <p:nvPr/>
        </p:nvSpPr>
        <p:spPr>
          <a:xfrm>
            <a:off x="4467600" y="380988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4"/>
          <p:cNvSpPr/>
          <p:nvPr/>
        </p:nvSpPr>
        <p:spPr>
          <a:xfrm>
            <a:off x="2009880" y="549360"/>
            <a:ext cx="554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外界大气压强变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银柱的高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否变化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837000" y="1989000"/>
            <a:ext cx="164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槽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加水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银柱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度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否变化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6"/>
          <p:cNvGrpSpPr/>
          <p:nvPr/>
        </p:nvGrpSpPr>
        <p:grpSpPr>
          <a:xfrm>
            <a:off x="1597680" y="4773600"/>
            <a:ext cx="4579920" cy="4579920"/>
            <a:chOff x="1597680" y="4773600"/>
            <a:chExt cx="4579920" cy="4579920"/>
          </a:xfrm>
        </p:grpSpPr>
        <p:grpSp>
          <p:nvGrpSpPr>
            <p:cNvPr id="815" name=""/>
            <p:cNvGrpSpPr/>
            <p:nvPr/>
          </p:nvGrpSpPr>
          <p:grpSpPr>
            <a:xfrm>
              <a:off x="2738520" y="5229360"/>
              <a:ext cx="360" cy="1153440"/>
              <a:chOff x="2738520" y="5229360"/>
              <a:chExt cx="360" cy="1153440"/>
            </a:xfrm>
          </p:grpSpPr>
          <p:sp>
            <p:nvSpPr>
              <p:cNvPr id="816" name="Line 7"/>
              <p:cNvSpPr/>
              <p:nvPr/>
            </p:nvSpPr>
            <p:spPr>
              <a:xfrm>
                <a:off x="2738520" y="522936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 txBox="1"/>
              <p:nvPr/>
            </p:nvSpPr>
            <p:spPr>
              <a:xfrm>
                <a:off x="2738520" y="5229360"/>
                <a:ext cx="36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4898880" y="5229360"/>
              <a:ext cx="71640" cy="1153440"/>
              <a:chOff x="4898880" y="5229360"/>
              <a:chExt cx="71640" cy="1153440"/>
            </a:xfrm>
          </p:grpSpPr>
          <p:sp>
            <p:nvSpPr>
              <p:cNvPr id="819" name="Line 8"/>
              <p:cNvSpPr/>
              <p:nvPr/>
            </p:nvSpPr>
            <p:spPr>
              <a:xfrm>
                <a:off x="4898880" y="5229360"/>
                <a:ext cx="7164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 txBox="1"/>
              <p:nvPr/>
            </p:nvSpPr>
            <p:spPr>
              <a:xfrm>
                <a:off x="4898880" y="5229360"/>
                <a:ext cx="7164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2738520" y="6382800"/>
              <a:ext cx="2232000" cy="360"/>
              <a:chOff x="2738520" y="6382800"/>
              <a:chExt cx="2232000" cy="360"/>
            </a:xfrm>
          </p:grpSpPr>
          <p:sp>
            <p:nvSpPr>
              <p:cNvPr id="822" name="Line 9"/>
              <p:cNvSpPr/>
              <p:nvPr/>
            </p:nvSpPr>
            <p:spPr>
              <a:xfrm>
                <a:off x="2738520" y="638280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 txBox="1"/>
              <p:nvPr/>
            </p:nvSpPr>
            <p:spPr>
              <a:xfrm>
                <a:off x="2738520" y="638280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PubChord"/>
            <p:cNvSpPr/>
            <p:nvPr/>
          </p:nvSpPr>
          <p:spPr>
            <a:xfrm rot="7972800">
              <a:off x="2266200" y="5443920"/>
              <a:ext cx="3242880" cy="3238560"/>
            </a:xfrm>
            <a:custGeom>
              <a:avLst/>
              <a:gdLst/>
              <a:ahLst/>
              <a:rect l="l" t="t" r="r" b="b"/>
              <a:pathLst>
                <a:path w="10413" h="21593">
                  <a:moveTo>
                    <a:pt x="2" y="11025"/>
                  </a:moveTo>
                  <a:cubicBezTo>
                    <a:pt x="122" y="16751"/>
                    <a:pt x="4690" y="21388"/>
                    <a:pt x="10413" y="21593"/>
                  </a:cubicBezTo>
                  <a:lnTo>
                    <a:pt x="2" y="1102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"/>
            <p:cNvSpPr/>
            <p:nvPr/>
          </p:nvSpPr>
          <p:spPr>
            <a:xfrm>
              <a:off x="2809800" y="5878800"/>
              <a:ext cx="2089080" cy="432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12"/>
          <p:cNvGrpSpPr/>
          <p:nvPr/>
        </p:nvGrpSpPr>
        <p:grpSpPr>
          <a:xfrm>
            <a:off x="3456000" y="1916280"/>
            <a:ext cx="216000" cy="3961440"/>
            <a:chOff x="3456000" y="1916280"/>
            <a:chExt cx="216000" cy="3961440"/>
          </a:xfrm>
        </p:grpSpPr>
        <p:grpSp>
          <p:nvGrpSpPr>
            <p:cNvPr id="827" name="Group 13"/>
            <p:cNvGrpSpPr/>
            <p:nvPr/>
          </p:nvGrpSpPr>
          <p:grpSpPr>
            <a:xfrm>
              <a:off x="3456000" y="1916280"/>
              <a:ext cx="216000" cy="3961440"/>
              <a:chOff x="3456000" y="1916280"/>
              <a:chExt cx="216000" cy="3961440"/>
            </a:xfrm>
          </p:grpSpPr>
          <p:grpSp>
            <p:nvGrpSpPr>
              <p:cNvPr id="828" name=""/>
              <p:cNvGrpSpPr/>
              <p:nvPr/>
            </p:nvGrpSpPr>
            <p:grpSpPr>
              <a:xfrm>
                <a:off x="3456000" y="2016000"/>
                <a:ext cx="360" cy="3861720"/>
                <a:chOff x="3456000" y="2016000"/>
                <a:chExt cx="360" cy="3861720"/>
              </a:xfrm>
            </p:grpSpPr>
            <p:sp>
              <p:nvSpPr>
                <p:cNvPr id="829" name="Line 14"/>
                <p:cNvSpPr/>
                <p:nvPr/>
              </p:nvSpPr>
              <p:spPr>
                <a:xfrm>
                  <a:off x="3456000" y="201600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 txBox="1"/>
                <p:nvPr/>
              </p:nvSpPr>
              <p:spPr>
                <a:xfrm>
                  <a:off x="3456000" y="201600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3671640" y="2016000"/>
                <a:ext cx="360" cy="3861720"/>
                <a:chOff x="3671640" y="2016000"/>
                <a:chExt cx="360" cy="3861720"/>
              </a:xfrm>
            </p:grpSpPr>
            <p:sp>
              <p:nvSpPr>
                <p:cNvPr id="832" name="Line 15"/>
                <p:cNvSpPr/>
                <p:nvPr/>
              </p:nvSpPr>
              <p:spPr>
                <a:xfrm>
                  <a:off x="3671640" y="201600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 txBox="1"/>
                <p:nvPr/>
              </p:nvSpPr>
              <p:spPr>
                <a:xfrm>
                  <a:off x="3671640" y="201600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Oval 16"/>
              <p:cNvSpPr/>
              <p:nvPr/>
            </p:nvSpPr>
            <p:spPr>
              <a:xfrm flipV="1">
                <a:off x="3456000" y="1916280"/>
                <a:ext cx="21420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3456000" y="2853000"/>
              <a:ext cx="215640" cy="360"/>
              <a:chOff x="3456000" y="2853000"/>
              <a:chExt cx="215640" cy="360"/>
            </a:xfrm>
          </p:grpSpPr>
          <p:sp>
            <p:nvSpPr>
              <p:cNvPr id="836" name="Line 17"/>
              <p:cNvSpPr/>
              <p:nvPr/>
            </p:nvSpPr>
            <p:spPr>
              <a:xfrm>
                <a:off x="3456000" y="285300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3456000" y="285300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3456000" y="3068640"/>
              <a:ext cx="215640" cy="360"/>
              <a:chOff x="3456000" y="3068640"/>
              <a:chExt cx="215640" cy="360"/>
            </a:xfrm>
          </p:grpSpPr>
          <p:sp>
            <p:nvSpPr>
              <p:cNvPr id="839" name="Line 18"/>
              <p:cNvSpPr/>
              <p:nvPr/>
            </p:nvSpPr>
            <p:spPr>
              <a:xfrm>
                <a:off x="3456000" y="306864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3456000" y="306864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3456000" y="3286080"/>
              <a:ext cx="215640" cy="360"/>
              <a:chOff x="3456000" y="3286080"/>
              <a:chExt cx="215640" cy="360"/>
            </a:xfrm>
          </p:grpSpPr>
          <p:sp>
            <p:nvSpPr>
              <p:cNvPr id="842" name="Line 19"/>
              <p:cNvSpPr/>
              <p:nvPr/>
            </p:nvSpPr>
            <p:spPr>
              <a:xfrm>
                <a:off x="3456000" y="32860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3456000" y="328608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3456000" y="3502080"/>
              <a:ext cx="215640" cy="360"/>
              <a:chOff x="3456000" y="3502080"/>
              <a:chExt cx="215640" cy="360"/>
            </a:xfrm>
          </p:grpSpPr>
          <p:sp>
            <p:nvSpPr>
              <p:cNvPr id="845" name="Line 20"/>
              <p:cNvSpPr/>
              <p:nvPr/>
            </p:nvSpPr>
            <p:spPr>
              <a:xfrm>
                <a:off x="3456000" y="35020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 txBox="1"/>
              <p:nvPr/>
            </p:nvSpPr>
            <p:spPr>
              <a:xfrm>
                <a:off x="3456000" y="350208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3456000" y="3718080"/>
              <a:ext cx="215640" cy="360"/>
              <a:chOff x="3456000" y="3718080"/>
              <a:chExt cx="215640" cy="360"/>
            </a:xfrm>
          </p:grpSpPr>
          <p:sp>
            <p:nvSpPr>
              <p:cNvPr id="848" name="Line 21"/>
              <p:cNvSpPr/>
              <p:nvPr/>
            </p:nvSpPr>
            <p:spPr>
              <a:xfrm>
                <a:off x="3456000" y="37180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3456000" y="371808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3456000" y="4005360"/>
              <a:ext cx="215640" cy="360"/>
              <a:chOff x="3456000" y="4005360"/>
              <a:chExt cx="215640" cy="360"/>
            </a:xfrm>
          </p:grpSpPr>
          <p:sp>
            <p:nvSpPr>
              <p:cNvPr id="851" name="Line 22"/>
              <p:cNvSpPr/>
              <p:nvPr/>
            </p:nvSpPr>
            <p:spPr>
              <a:xfrm>
                <a:off x="3456000" y="400536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 txBox="1"/>
              <p:nvPr/>
            </p:nvSpPr>
            <p:spPr>
              <a:xfrm>
                <a:off x="3456000" y="400536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3456000" y="4294440"/>
              <a:ext cx="215640" cy="360"/>
              <a:chOff x="3456000" y="4294440"/>
              <a:chExt cx="215640" cy="360"/>
            </a:xfrm>
          </p:grpSpPr>
          <p:sp>
            <p:nvSpPr>
              <p:cNvPr id="854" name="Line 23"/>
              <p:cNvSpPr/>
              <p:nvPr/>
            </p:nvSpPr>
            <p:spPr>
              <a:xfrm>
                <a:off x="3456000" y="429444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3456000" y="429444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3456000" y="4581720"/>
              <a:ext cx="215640" cy="360"/>
              <a:chOff x="3456000" y="4581720"/>
              <a:chExt cx="215640" cy="360"/>
            </a:xfrm>
          </p:grpSpPr>
          <p:sp>
            <p:nvSpPr>
              <p:cNvPr id="857" name="Line 24"/>
              <p:cNvSpPr/>
              <p:nvPr/>
            </p:nvSpPr>
            <p:spPr>
              <a:xfrm>
                <a:off x="3456000" y="458172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 txBox="1"/>
              <p:nvPr/>
            </p:nvSpPr>
            <p:spPr>
              <a:xfrm>
                <a:off x="3456000" y="458172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3456000" y="4870440"/>
              <a:ext cx="215640" cy="360"/>
              <a:chOff x="3456000" y="4870440"/>
              <a:chExt cx="215640" cy="360"/>
            </a:xfrm>
          </p:grpSpPr>
          <p:sp>
            <p:nvSpPr>
              <p:cNvPr id="860" name="Line 25"/>
              <p:cNvSpPr/>
              <p:nvPr/>
            </p:nvSpPr>
            <p:spPr>
              <a:xfrm>
                <a:off x="3456000" y="487044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 txBox="1"/>
              <p:nvPr/>
            </p:nvSpPr>
            <p:spPr>
              <a:xfrm>
                <a:off x="3456000" y="487044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3456000" y="5157720"/>
              <a:ext cx="215640" cy="360"/>
              <a:chOff x="3456000" y="5157720"/>
              <a:chExt cx="215640" cy="360"/>
            </a:xfrm>
          </p:grpSpPr>
          <p:sp>
            <p:nvSpPr>
              <p:cNvPr id="863" name="Line 26"/>
              <p:cNvSpPr/>
              <p:nvPr/>
            </p:nvSpPr>
            <p:spPr>
              <a:xfrm>
                <a:off x="3456000" y="515772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 txBox="1"/>
              <p:nvPr/>
            </p:nvSpPr>
            <p:spPr>
              <a:xfrm>
                <a:off x="3456000" y="515772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3456000" y="5445360"/>
              <a:ext cx="215640" cy="360"/>
              <a:chOff x="3456000" y="5445360"/>
              <a:chExt cx="215640" cy="360"/>
            </a:xfrm>
          </p:grpSpPr>
          <p:sp>
            <p:nvSpPr>
              <p:cNvPr id="866" name="Line 27"/>
              <p:cNvSpPr/>
              <p:nvPr/>
            </p:nvSpPr>
            <p:spPr>
              <a:xfrm>
                <a:off x="3456000" y="544536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 txBox="1"/>
              <p:nvPr/>
            </p:nvSpPr>
            <p:spPr>
              <a:xfrm>
                <a:off x="3456000" y="544536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456000" y="5661000"/>
              <a:ext cx="215640" cy="360"/>
              <a:chOff x="3456000" y="5661000"/>
              <a:chExt cx="215640" cy="360"/>
            </a:xfrm>
          </p:grpSpPr>
          <p:sp>
            <p:nvSpPr>
              <p:cNvPr id="869" name="Line 28"/>
              <p:cNvSpPr/>
              <p:nvPr/>
            </p:nvSpPr>
            <p:spPr>
              <a:xfrm>
                <a:off x="3456000" y="566100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 txBox="1"/>
              <p:nvPr/>
            </p:nvSpPr>
            <p:spPr>
              <a:xfrm>
                <a:off x="3456000" y="566100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3672000" y="2852640"/>
            <a:ext cx="503280" cy="360"/>
            <a:chOff x="3672000" y="2852640"/>
            <a:chExt cx="503280" cy="360"/>
          </a:xfrm>
        </p:grpSpPr>
        <p:sp>
          <p:nvSpPr>
            <p:cNvPr id="872" name="Line 29"/>
            <p:cNvSpPr/>
            <p:nvPr/>
          </p:nvSpPr>
          <p:spPr>
            <a:xfrm>
              <a:off x="3672000" y="285264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3672000" y="285264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3672000" y="5445000"/>
            <a:ext cx="503280" cy="360"/>
            <a:chOff x="3672000" y="5445000"/>
            <a:chExt cx="503280" cy="360"/>
          </a:xfrm>
        </p:grpSpPr>
        <p:sp>
          <p:nvSpPr>
            <p:cNvPr id="875" name="Line 30"/>
            <p:cNvSpPr/>
            <p:nvPr/>
          </p:nvSpPr>
          <p:spPr>
            <a:xfrm>
              <a:off x="3672000" y="544500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672000" y="544500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959280" y="2852640"/>
            <a:ext cx="360" cy="2592360"/>
            <a:chOff x="3959280" y="2852640"/>
            <a:chExt cx="360" cy="2592360"/>
          </a:xfrm>
        </p:grpSpPr>
        <p:sp>
          <p:nvSpPr>
            <p:cNvPr id="878" name="Line 31"/>
            <p:cNvSpPr/>
            <p:nvPr/>
          </p:nvSpPr>
          <p:spPr>
            <a:xfrm>
              <a:off x="3959280" y="285264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 txBox="1"/>
            <p:nvPr/>
          </p:nvSpPr>
          <p:spPr>
            <a:xfrm>
              <a:off x="3959280" y="285264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Text Box 32"/>
          <p:cNvSpPr/>
          <p:nvPr/>
        </p:nvSpPr>
        <p:spPr>
          <a:xfrm>
            <a:off x="4067280" y="373860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5510160" y="5229360"/>
            <a:ext cx="360" cy="1152360"/>
            <a:chOff x="5510160" y="5229360"/>
            <a:chExt cx="360" cy="1152360"/>
          </a:xfrm>
        </p:grpSpPr>
        <p:sp>
          <p:nvSpPr>
            <p:cNvPr id="882" name="Line 33"/>
            <p:cNvSpPr/>
            <p:nvPr/>
          </p:nvSpPr>
          <p:spPr>
            <a:xfrm>
              <a:off x="5510160" y="522936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 txBox="1"/>
            <p:nvPr/>
          </p:nvSpPr>
          <p:spPr>
            <a:xfrm>
              <a:off x="5510160" y="5229360"/>
              <a:ext cx="36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7670880" y="5229360"/>
            <a:ext cx="71280" cy="1152360"/>
            <a:chOff x="7670880" y="5229360"/>
            <a:chExt cx="71280" cy="1152360"/>
          </a:xfrm>
        </p:grpSpPr>
        <p:sp>
          <p:nvSpPr>
            <p:cNvPr id="885" name="Line 34"/>
            <p:cNvSpPr/>
            <p:nvPr/>
          </p:nvSpPr>
          <p:spPr>
            <a:xfrm>
              <a:off x="7670880" y="5229360"/>
              <a:ext cx="71280" cy="115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 txBox="1"/>
            <p:nvPr/>
          </p:nvSpPr>
          <p:spPr>
            <a:xfrm>
              <a:off x="7670880" y="5229360"/>
              <a:ext cx="7128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5510160" y="6381720"/>
            <a:ext cx="2232000" cy="360"/>
            <a:chOff x="5510160" y="6381720"/>
            <a:chExt cx="2232000" cy="360"/>
          </a:xfrm>
        </p:grpSpPr>
        <p:sp>
          <p:nvSpPr>
            <p:cNvPr id="888" name="Line 35"/>
            <p:cNvSpPr/>
            <p:nvPr/>
          </p:nvSpPr>
          <p:spPr>
            <a:xfrm>
              <a:off x="5510160" y="6381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 txBox="1"/>
            <p:nvPr/>
          </p:nvSpPr>
          <p:spPr>
            <a:xfrm>
              <a:off x="5510160" y="638172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PubChord"/>
          <p:cNvSpPr/>
          <p:nvPr/>
        </p:nvSpPr>
        <p:spPr>
          <a:xfrm rot="7972800">
            <a:off x="5001120" y="5012280"/>
            <a:ext cx="3240360" cy="3238560"/>
          </a:xfrm>
          <a:custGeom>
            <a:avLst/>
            <a:gdLst/>
            <a:ahLst/>
            <a:rect l="l" t="t" r="r" b="b"/>
            <a:pathLst>
              <a:path w="10413" h="21593">
                <a:moveTo>
                  <a:pt x="2" y="11025"/>
                </a:moveTo>
                <a:cubicBezTo>
                  <a:pt x="122" y="16751"/>
                  <a:pt x="4690" y="21388"/>
                  <a:pt x="10413" y="21593"/>
                </a:cubicBezTo>
                <a:lnTo>
                  <a:pt x="2" y="1102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5541840" y="5446800"/>
            <a:ext cx="208944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6446880" y="2421000"/>
            <a:ext cx="503280" cy="360"/>
            <a:chOff x="6446880" y="2421000"/>
            <a:chExt cx="503280" cy="360"/>
          </a:xfrm>
        </p:grpSpPr>
        <p:sp>
          <p:nvSpPr>
            <p:cNvPr id="893" name="Line 38"/>
            <p:cNvSpPr/>
            <p:nvPr/>
          </p:nvSpPr>
          <p:spPr>
            <a:xfrm>
              <a:off x="6446880" y="242100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6446880" y="242100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446880" y="5013360"/>
            <a:ext cx="503280" cy="360"/>
            <a:chOff x="6446880" y="5013360"/>
            <a:chExt cx="503280" cy="360"/>
          </a:xfrm>
        </p:grpSpPr>
        <p:sp>
          <p:nvSpPr>
            <p:cNvPr id="896" name="Line 39"/>
            <p:cNvSpPr/>
            <p:nvPr/>
          </p:nvSpPr>
          <p:spPr>
            <a:xfrm>
              <a:off x="6446880" y="501336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446880" y="50133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6734160" y="2421000"/>
            <a:ext cx="360" cy="2592360"/>
            <a:chOff x="6734160" y="2421000"/>
            <a:chExt cx="360" cy="2592360"/>
          </a:xfrm>
        </p:grpSpPr>
        <p:sp>
          <p:nvSpPr>
            <p:cNvPr id="899" name="Line 40"/>
            <p:cNvSpPr/>
            <p:nvPr/>
          </p:nvSpPr>
          <p:spPr>
            <a:xfrm>
              <a:off x="6734160" y="242100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734160" y="242100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Text Box 41"/>
          <p:cNvSpPr/>
          <p:nvPr/>
        </p:nvSpPr>
        <p:spPr>
          <a:xfrm>
            <a:off x="7020000" y="364500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42"/>
          <p:cNvSpPr/>
          <p:nvPr/>
        </p:nvSpPr>
        <p:spPr>
          <a:xfrm>
            <a:off x="5580000" y="5877000"/>
            <a:ext cx="208908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43"/>
          <p:cNvGrpSpPr/>
          <p:nvPr/>
        </p:nvGrpSpPr>
        <p:grpSpPr>
          <a:xfrm>
            <a:off x="6230880" y="1914480"/>
            <a:ext cx="216360" cy="3961800"/>
            <a:chOff x="6230880" y="1914480"/>
            <a:chExt cx="216360" cy="3961800"/>
          </a:xfrm>
        </p:grpSpPr>
        <p:grpSp>
          <p:nvGrpSpPr>
            <p:cNvPr id="904" name=""/>
            <p:cNvGrpSpPr/>
            <p:nvPr/>
          </p:nvGrpSpPr>
          <p:grpSpPr>
            <a:xfrm>
              <a:off x="6230880" y="2014200"/>
              <a:ext cx="360" cy="3862080"/>
              <a:chOff x="6230880" y="2014200"/>
              <a:chExt cx="360" cy="3862080"/>
            </a:xfrm>
          </p:grpSpPr>
          <p:sp>
            <p:nvSpPr>
              <p:cNvPr id="905" name="Line 44"/>
              <p:cNvSpPr/>
              <p:nvPr/>
            </p:nvSpPr>
            <p:spPr>
              <a:xfrm>
                <a:off x="6230880" y="201420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 txBox="1"/>
              <p:nvPr/>
            </p:nvSpPr>
            <p:spPr>
              <a:xfrm>
                <a:off x="6230880" y="201420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446880" y="2014200"/>
              <a:ext cx="360" cy="3862080"/>
              <a:chOff x="6446880" y="2014200"/>
              <a:chExt cx="360" cy="3862080"/>
            </a:xfrm>
          </p:grpSpPr>
          <p:sp>
            <p:nvSpPr>
              <p:cNvPr id="908" name="Line 45"/>
              <p:cNvSpPr/>
              <p:nvPr/>
            </p:nvSpPr>
            <p:spPr>
              <a:xfrm>
                <a:off x="6446880" y="201420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 txBox="1"/>
              <p:nvPr/>
            </p:nvSpPr>
            <p:spPr>
              <a:xfrm>
                <a:off x="6446880" y="201420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Oval 46"/>
            <p:cNvSpPr/>
            <p:nvPr/>
          </p:nvSpPr>
          <p:spPr>
            <a:xfrm flipV="1">
              <a:off x="6230880" y="1914480"/>
              <a:ext cx="2145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230880" y="2851200"/>
            <a:ext cx="212760" cy="1440"/>
            <a:chOff x="6230880" y="2851200"/>
            <a:chExt cx="212760" cy="1440"/>
          </a:xfrm>
        </p:grpSpPr>
        <p:sp>
          <p:nvSpPr>
            <p:cNvPr id="912" name="Line 47"/>
            <p:cNvSpPr/>
            <p:nvPr/>
          </p:nvSpPr>
          <p:spPr>
            <a:xfrm>
              <a:off x="6230880" y="2851200"/>
              <a:ext cx="212760" cy="144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6230880" y="2851200"/>
              <a:ext cx="212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230880" y="3067200"/>
            <a:ext cx="216000" cy="360"/>
            <a:chOff x="6230880" y="3067200"/>
            <a:chExt cx="216000" cy="360"/>
          </a:xfrm>
        </p:grpSpPr>
        <p:sp>
          <p:nvSpPr>
            <p:cNvPr id="915" name="Line 48"/>
            <p:cNvSpPr/>
            <p:nvPr/>
          </p:nvSpPr>
          <p:spPr>
            <a:xfrm>
              <a:off x="6230880" y="30672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>
              <a:off x="6230880" y="30672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6230880" y="3284640"/>
            <a:ext cx="216000" cy="360"/>
            <a:chOff x="6230880" y="3284640"/>
            <a:chExt cx="216000" cy="360"/>
          </a:xfrm>
        </p:grpSpPr>
        <p:sp>
          <p:nvSpPr>
            <p:cNvPr id="918" name="Line 49"/>
            <p:cNvSpPr/>
            <p:nvPr/>
          </p:nvSpPr>
          <p:spPr>
            <a:xfrm>
              <a:off x="6230880" y="32846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6230880" y="32846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230880" y="3500280"/>
            <a:ext cx="216000" cy="360"/>
            <a:chOff x="6230880" y="3500280"/>
            <a:chExt cx="216000" cy="360"/>
          </a:xfrm>
        </p:grpSpPr>
        <p:sp>
          <p:nvSpPr>
            <p:cNvPr id="921" name="Line 50"/>
            <p:cNvSpPr/>
            <p:nvPr/>
          </p:nvSpPr>
          <p:spPr>
            <a:xfrm>
              <a:off x="6230880" y="35002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6230880" y="3500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230880" y="3716280"/>
            <a:ext cx="216000" cy="360"/>
            <a:chOff x="6230880" y="3716280"/>
            <a:chExt cx="216000" cy="360"/>
          </a:xfrm>
        </p:grpSpPr>
        <p:sp>
          <p:nvSpPr>
            <p:cNvPr id="924" name="Line 51"/>
            <p:cNvSpPr/>
            <p:nvPr/>
          </p:nvSpPr>
          <p:spPr>
            <a:xfrm>
              <a:off x="6230880" y="37162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 txBox="1"/>
            <p:nvPr/>
          </p:nvSpPr>
          <p:spPr>
            <a:xfrm>
              <a:off x="6230880" y="3716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6230880" y="4003560"/>
            <a:ext cx="216000" cy="360"/>
            <a:chOff x="6230880" y="4003560"/>
            <a:chExt cx="216000" cy="360"/>
          </a:xfrm>
        </p:grpSpPr>
        <p:sp>
          <p:nvSpPr>
            <p:cNvPr id="927" name="Line 52"/>
            <p:cNvSpPr/>
            <p:nvPr/>
          </p:nvSpPr>
          <p:spPr>
            <a:xfrm>
              <a:off x="6230880" y="40035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 txBox="1"/>
            <p:nvPr/>
          </p:nvSpPr>
          <p:spPr>
            <a:xfrm>
              <a:off x="6230880" y="40035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6230880" y="4292640"/>
            <a:ext cx="216000" cy="360"/>
            <a:chOff x="6230880" y="4292640"/>
            <a:chExt cx="216000" cy="360"/>
          </a:xfrm>
        </p:grpSpPr>
        <p:sp>
          <p:nvSpPr>
            <p:cNvPr id="930" name="Line 53"/>
            <p:cNvSpPr/>
            <p:nvPr/>
          </p:nvSpPr>
          <p:spPr>
            <a:xfrm>
              <a:off x="6230880" y="42926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>
              <a:off x="6230880" y="42926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230880" y="4579920"/>
            <a:ext cx="216000" cy="360"/>
            <a:chOff x="6230880" y="4579920"/>
            <a:chExt cx="216000" cy="360"/>
          </a:xfrm>
        </p:grpSpPr>
        <p:sp>
          <p:nvSpPr>
            <p:cNvPr id="933" name="Line 54"/>
            <p:cNvSpPr/>
            <p:nvPr/>
          </p:nvSpPr>
          <p:spPr>
            <a:xfrm>
              <a:off x="6230880" y="45799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>
              <a:off x="6230880" y="45799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6230880" y="4869000"/>
            <a:ext cx="216000" cy="360"/>
            <a:chOff x="6230880" y="4869000"/>
            <a:chExt cx="216000" cy="360"/>
          </a:xfrm>
        </p:grpSpPr>
        <p:sp>
          <p:nvSpPr>
            <p:cNvPr id="936" name="Line 55"/>
            <p:cNvSpPr/>
            <p:nvPr/>
          </p:nvSpPr>
          <p:spPr>
            <a:xfrm>
              <a:off x="6230880" y="4869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6230880" y="4869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6230880" y="5156280"/>
            <a:ext cx="216000" cy="360"/>
            <a:chOff x="6230880" y="5156280"/>
            <a:chExt cx="216000" cy="360"/>
          </a:xfrm>
        </p:grpSpPr>
        <p:sp>
          <p:nvSpPr>
            <p:cNvPr id="939" name="Line 56"/>
            <p:cNvSpPr/>
            <p:nvPr/>
          </p:nvSpPr>
          <p:spPr>
            <a:xfrm>
              <a:off x="6230880" y="51562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>
              <a:off x="6230880" y="5156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6230880" y="5443560"/>
            <a:ext cx="216000" cy="360"/>
            <a:chOff x="6230880" y="5443560"/>
            <a:chExt cx="216000" cy="360"/>
          </a:xfrm>
        </p:grpSpPr>
        <p:sp>
          <p:nvSpPr>
            <p:cNvPr id="942" name="Line 57"/>
            <p:cNvSpPr/>
            <p:nvPr/>
          </p:nvSpPr>
          <p:spPr>
            <a:xfrm>
              <a:off x="6230880" y="54435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 txBox="1"/>
            <p:nvPr/>
          </p:nvSpPr>
          <p:spPr>
            <a:xfrm>
              <a:off x="6230880" y="54435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6230880" y="5659560"/>
            <a:ext cx="216000" cy="360"/>
            <a:chOff x="6230880" y="5659560"/>
            <a:chExt cx="216000" cy="360"/>
          </a:xfrm>
        </p:grpSpPr>
        <p:sp>
          <p:nvSpPr>
            <p:cNvPr id="945" name="Line 58"/>
            <p:cNvSpPr/>
            <p:nvPr/>
          </p:nvSpPr>
          <p:spPr>
            <a:xfrm>
              <a:off x="6230880" y="56595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6230880" y="56595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227640" y="2421000"/>
            <a:ext cx="212760" cy="1440"/>
            <a:chOff x="6227640" y="2421000"/>
            <a:chExt cx="212760" cy="1440"/>
          </a:xfrm>
        </p:grpSpPr>
        <p:sp>
          <p:nvSpPr>
            <p:cNvPr id="948" name="Line 59"/>
            <p:cNvSpPr/>
            <p:nvPr/>
          </p:nvSpPr>
          <p:spPr>
            <a:xfrm>
              <a:off x="6227640" y="2421000"/>
              <a:ext cx="212760" cy="144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 txBox="1"/>
            <p:nvPr/>
          </p:nvSpPr>
          <p:spPr>
            <a:xfrm>
              <a:off x="6227640" y="2421000"/>
              <a:ext cx="212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6227640" y="2637000"/>
            <a:ext cx="212760" cy="1440"/>
            <a:chOff x="6227640" y="2637000"/>
            <a:chExt cx="212760" cy="1440"/>
          </a:xfrm>
        </p:grpSpPr>
        <p:sp>
          <p:nvSpPr>
            <p:cNvPr id="951" name="Line 60"/>
            <p:cNvSpPr/>
            <p:nvPr/>
          </p:nvSpPr>
          <p:spPr>
            <a:xfrm>
              <a:off x="6227640" y="2637000"/>
              <a:ext cx="212760" cy="144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 txBox="1"/>
            <p:nvPr/>
          </p:nvSpPr>
          <p:spPr>
            <a:xfrm>
              <a:off x="6227640" y="2637000"/>
              <a:ext cx="212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 Box 61"/>
          <p:cNvSpPr/>
          <p:nvPr/>
        </p:nvSpPr>
        <p:spPr>
          <a:xfrm>
            <a:off x="4714560" y="1049400"/>
            <a:ext cx="288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大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=P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水银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=</a:t>
            </a:r>
            <a:r>
              <a:rPr b="1" lang="el-GR" sz="3200" spc="-1" strike="noStrike">
                <a:solidFill>
                  <a:srgbClr val="0000ff"/>
                </a:solidFill>
                <a:latin typeface="黑体"/>
                <a:ea typeface="黑体"/>
              </a:rPr>
              <a:t>ρ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9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4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5"/>
          <p:cNvSpPr/>
          <p:nvPr/>
        </p:nvSpPr>
        <p:spPr>
          <a:xfrm>
            <a:off x="685800" y="434880"/>
            <a:ext cx="8317080" cy="642600"/>
          </a:xfrm>
          <a:prstGeom prst="rect">
            <a:avLst/>
          </a:prstGeom>
          <a:solidFill>
            <a:srgbClr val="ffffff">
              <a:alpha val="23000"/>
            </a:srgbClr>
          </a:solidFill>
          <a:ln w="19080">
            <a:solidFill>
              <a:srgbClr val="a7a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托里拆利实验是最早测出大气压值的实验，这个实验测得水银柱的高度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60m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我们把这个大小的大气压叫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标准大气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6"/>
          <p:cNvSpPr/>
          <p:nvPr/>
        </p:nvSpPr>
        <p:spPr>
          <a:xfrm>
            <a:off x="152280" y="2362320"/>
            <a:ext cx="9906120" cy="190476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标准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大气压强等于管内水银柱产生的压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即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p = 760mm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高水银柱产生的压强＝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.01×10</a:t>
            </a:r>
            <a:r>
              <a:rPr b="1" lang="en-US" sz="2800" spc="-1" strike="noStrike" baseline="30000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 atm = 760 mmHg =  1.01×10</a:t>
            </a:r>
            <a:r>
              <a:rPr b="1" lang="en-US" sz="2800" spc="-1" strike="noStrike" baseline="30000">
                <a:solidFill>
                  <a:srgbClr val="3333ff"/>
                </a:solidFill>
                <a:latin typeface="黑体"/>
                <a:ea typeface="黑体"/>
              </a:rPr>
              <a:t>5  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7"/>
          <p:cNvSpPr/>
          <p:nvPr/>
        </p:nvSpPr>
        <p:spPr>
          <a:xfrm>
            <a:off x="0" y="5084640"/>
            <a:ext cx="9144000" cy="58140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粗略计算可取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en-US" sz="32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8" descr="2004101414291522091"/>
          <p:cNvPicPr/>
          <p:nvPr/>
        </p:nvPicPr>
        <p:blipFill>
          <a:blip r:embed="rId1"/>
          <a:stretch/>
        </p:blipFill>
        <p:spPr>
          <a:xfrm>
            <a:off x="6392880" y="459252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1"/>
          <p:cNvSpPr/>
          <p:nvPr/>
        </p:nvSpPr>
        <p:spPr>
          <a:xfrm>
            <a:off x="1569240" y="1071720"/>
            <a:ext cx="368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气压计：测定大气压的仪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"/>
          <p:cNvSpPr/>
          <p:nvPr/>
        </p:nvSpPr>
        <p:spPr>
          <a:xfrm>
            <a:off x="2977200" y="160776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水银气压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6" descr="http://www.huilange.com/kejian/UploadSoftPic/200706/%BD%F0%CA%F4%BA%D0%C6%F8%D1%B9%BC%C6_%B3%F5%B6%FE%CE%EF%C0%ED%D1%DD%CA%BE%BF%CE%BC%FE_%BF%EC%D5%D5_0.jpg"/>
          <p:cNvPicPr/>
          <p:nvPr/>
        </p:nvPicPr>
        <p:blipFill>
          <a:blip r:embed="rId1"/>
          <a:stretch/>
        </p:blipFill>
        <p:spPr>
          <a:xfrm>
            <a:off x="4356000" y="1844640"/>
            <a:ext cx="3357720" cy="2571840"/>
          </a:xfrm>
          <a:prstGeom prst="rect">
            <a:avLst/>
          </a:prstGeom>
          <a:ln w="0">
            <a:noFill/>
          </a:ln>
        </p:spPr>
      </p:pic>
      <p:sp>
        <p:nvSpPr>
          <p:cNvPr id="962" name="TextBox 7"/>
          <p:cNvSpPr/>
          <p:nvPr/>
        </p:nvSpPr>
        <p:spPr>
          <a:xfrm>
            <a:off x="4427640" y="4797360"/>
            <a:ext cx="35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金属盒气压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又称无液气压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9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1208160" cy="4464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5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982080" cy="73152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6" descr=""/>
          <p:cNvPicPr/>
          <p:nvPr/>
        </p:nvPicPr>
        <p:blipFill>
          <a:blip r:embed="rId2"/>
          <a:stretch/>
        </p:blipFill>
        <p:spPr>
          <a:xfrm>
            <a:off x="4437000" y="3967200"/>
            <a:ext cx="1706760" cy="18716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7" descr=""/>
          <p:cNvPicPr/>
          <p:nvPr/>
        </p:nvPicPr>
        <p:blipFill>
          <a:blip r:embed="rId3"/>
          <a:stretch/>
        </p:blipFill>
        <p:spPr>
          <a:xfrm>
            <a:off x="6996240" y="1189080"/>
            <a:ext cx="28159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3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914400"/>
            <a:ext cx="4191120" cy="5181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4572000" y="914400"/>
            <a:ext cx="457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球周围被厚厚的空气包围着，厚度有几千千米，包围地球的空气层又叫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大气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我们就生活在大气海洋的底层。气体也像液体一样具有流动性，同时也受到重力的作用。那么大气是否也像液体那样在它的内部存在压强呢？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11"/>
          <p:cNvGrpSpPr/>
          <p:nvPr/>
        </p:nvGrpSpPr>
        <p:grpSpPr>
          <a:xfrm>
            <a:off x="6948360" y="1125360"/>
            <a:ext cx="1871640" cy="3694320"/>
            <a:chOff x="6948360" y="1125360"/>
            <a:chExt cx="1871640" cy="3694320"/>
          </a:xfrm>
        </p:grpSpPr>
        <p:pic>
          <p:nvPicPr>
            <p:cNvPr id="969" name="Picture 6" descr="W020070308523264785177"/>
            <p:cNvPicPr/>
            <p:nvPr/>
          </p:nvPicPr>
          <p:blipFill>
            <a:blip r:embed="rId1"/>
            <a:stretch/>
          </p:blipFill>
          <p:spPr>
            <a:xfrm>
              <a:off x="6948360" y="1125360"/>
              <a:ext cx="1871640" cy="32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 Box 8"/>
            <p:cNvSpPr/>
            <p:nvPr/>
          </p:nvSpPr>
          <p:spPr>
            <a:xfrm>
              <a:off x="7258680" y="4359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自制气压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Text Box 4"/>
          <p:cNvSpPr/>
          <p:nvPr/>
        </p:nvSpPr>
        <p:spPr>
          <a:xfrm>
            <a:off x="285840" y="100188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大气压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7"/>
          <p:cNvSpPr/>
          <p:nvPr/>
        </p:nvSpPr>
        <p:spPr>
          <a:xfrm>
            <a:off x="539640" y="2178000"/>
            <a:ext cx="5643720" cy="60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拿着自制气压计从楼下到楼上，观察玻璃管内水柱高度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9"/>
          <p:cNvSpPr/>
          <p:nvPr/>
        </p:nvSpPr>
        <p:spPr>
          <a:xfrm>
            <a:off x="250920" y="4790520"/>
            <a:ext cx="9001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大气压随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高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增加而减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大气压变化的规律：在海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 000 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内，每上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 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大气压大约降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 P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10"/>
          <p:cNvSpPr/>
          <p:nvPr/>
        </p:nvSpPr>
        <p:spPr>
          <a:xfrm>
            <a:off x="152280" y="1905120"/>
            <a:ext cx="91440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天气晴朗气压高  阴雨天气气压低，夏天气压低，冬天气压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2"/>
          <p:cNvSpPr/>
          <p:nvPr/>
        </p:nvSpPr>
        <p:spPr>
          <a:xfrm>
            <a:off x="1600200" y="5105520"/>
            <a:ext cx="640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4"/>
          <p:cNvSpPr/>
          <p:nvPr/>
        </p:nvSpPr>
        <p:spPr>
          <a:xfrm>
            <a:off x="838080" y="37339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冬天干燥寒冷，空气密度大于夏天，水汽的含量小于夏天，从而使氧浓度高于夏天。因此冬季气压高于夏季；晴天空气中水汽含量远小于阴天，相对氧浓度高，因此气压高于阴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Object 4" descr=""/>
          <p:cNvPicPr/>
          <p:nvPr/>
        </p:nvPicPr>
        <p:blipFill>
          <a:blip r:embed="rId1"/>
          <a:stretch/>
        </p:blipFill>
        <p:spPr>
          <a:xfrm>
            <a:off x="468360" y="1905120"/>
            <a:ext cx="2209680" cy="42606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5" descr="2004101414291518841"/>
          <p:cNvPicPr/>
          <p:nvPr/>
        </p:nvPicPr>
        <p:blipFill>
          <a:blip r:embed="rId2"/>
          <a:stretch/>
        </p:blipFill>
        <p:spPr>
          <a:xfrm>
            <a:off x="2843280" y="1828800"/>
            <a:ext cx="5905440" cy="4419720"/>
          </a:xfrm>
          <a:prstGeom prst="rect">
            <a:avLst/>
          </a:prstGeom>
          <a:ln w="0">
            <a:noFill/>
          </a:ln>
        </p:spPr>
      </p:pic>
      <p:sp>
        <p:nvSpPr>
          <p:cNvPr id="982" name="Text Box 6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-1752480" y="2728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大气压强的应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Box 1"/>
          <p:cNvSpPr/>
          <p:nvPr/>
        </p:nvSpPr>
        <p:spPr>
          <a:xfrm>
            <a:off x="1600200" y="2590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活塞式抽水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4"/>
          <p:cNvGrpSpPr/>
          <p:nvPr/>
        </p:nvGrpSpPr>
        <p:grpSpPr>
          <a:xfrm>
            <a:off x="673200" y="1989000"/>
            <a:ext cx="2674800" cy="4248000"/>
            <a:chOff x="673200" y="1989000"/>
            <a:chExt cx="2674800" cy="4248000"/>
          </a:xfrm>
        </p:grpSpPr>
        <p:pic>
          <p:nvPicPr>
            <p:cNvPr id="987" name="Picture 5" descr="2004101414291529371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2378160" cy="424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8" name="Group 8"/>
            <p:cNvGrpSpPr/>
            <p:nvPr/>
          </p:nvGrpSpPr>
          <p:grpSpPr>
            <a:xfrm>
              <a:off x="673200" y="2761920"/>
              <a:ext cx="2674800" cy="2523600"/>
              <a:chOff x="673200" y="2761920"/>
              <a:chExt cx="2674800" cy="2523600"/>
            </a:xfrm>
          </p:grpSpPr>
          <p:sp>
            <p:nvSpPr>
              <p:cNvPr id="989" name="Rectangle 9"/>
              <p:cNvSpPr/>
              <p:nvPr/>
            </p:nvSpPr>
            <p:spPr>
              <a:xfrm>
                <a:off x="2411280" y="2761920"/>
                <a:ext cx="8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ff"/>
                    </a:solidFill>
                    <a:latin typeface="Arial"/>
                  </a:rPr>
                  <a:t>缸筒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Rectangle 10"/>
              <p:cNvSpPr/>
              <p:nvPr/>
            </p:nvSpPr>
            <p:spPr>
              <a:xfrm>
                <a:off x="2340000" y="329472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ff"/>
                    </a:solidFill>
                    <a:latin typeface="Arial"/>
                  </a:rPr>
                  <a:t>活塞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Rectangle 11"/>
              <p:cNvSpPr/>
              <p:nvPr/>
            </p:nvSpPr>
            <p:spPr>
              <a:xfrm>
                <a:off x="673200" y="4917240"/>
                <a:ext cx="1019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ff"/>
                    </a:solidFill>
                    <a:latin typeface="Arial"/>
                  </a:rPr>
                  <a:t>大气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Rectangle 12"/>
              <p:cNvSpPr/>
              <p:nvPr/>
            </p:nvSpPr>
            <p:spPr>
              <a:xfrm>
                <a:off x="2112840" y="4917240"/>
                <a:ext cx="116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ff"/>
                    </a:solidFill>
                    <a:latin typeface="Arial"/>
                  </a:rPr>
                  <a:t>大气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3" name="Group 13"/>
          <p:cNvGrpSpPr/>
          <p:nvPr/>
        </p:nvGrpSpPr>
        <p:grpSpPr>
          <a:xfrm>
            <a:off x="3352680" y="1989000"/>
            <a:ext cx="2916000" cy="4182840"/>
            <a:chOff x="3352680" y="1989000"/>
            <a:chExt cx="2916000" cy="4182840"/>
          </a:xfrm>
        </p:grpSpPr>
        <p:pic>
          <p:nvPicPr>
            <p:cNvPr id="994" name="Picture 14" descr="2004101414291526622"/>
            <p:cNvPicPr/>
            <p:nvPr/>
          </p:nvPicPr>
          <p:blipFill>
            <a:blip r:embed="rId2"/>
            <a:stretch/>
          </p:blipFill>
          <p:spPr>
            <a:xfrm>
              <a:off x="3408120" y="1989000"/>
              <a:ext cx="2850840" cy="41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Rectangle 15"/>
            <p:cNvSpPr/>
            <p:nvPr/>
          </p:nvSpPr>
          <p:spPr>
            <a:xfrm>
              <a:off x="3352680" y="493956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16"/>
            <p:cNvSpPr/>
            <p:nvPr/>
          </p:nvSpPr>
          <p:spPr>
            <a:xfrm>
              <a:off x="5153400" y="4939560"/>
              <a:ext cx="111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17"/>
          <p:cNvGrpSpPr/>
          <p:nvPr/>
        </p:nvGrpSpPr>
        <p:grpSpPr>
          <a:xfrm>
            <a:off x="6477120" y="2057400"/>
            <a:ext cx="2666520" cy="4114440"/>
            <a:chOff x="6477120" y="2057400"/>
            <a:chExt cx="2666520" cy="4114440"/>
          </a:xfrm>
        </p:grpSpPr>
        <p:pic>
          <p:nvPicPr>
            <p:cNvPr id="998" name="Picture 18" descr="2004101414291529169"/>
            <p:cNvPicPr/>
            <p:nvPr/>
          </p:nvPicPr>
          <p:blipFill>
            <a:blip r:embed="rId3"/>
            <a:stretch/>
          </p:blipFill>
          <p:spPr>
            <a:xfrm>
              <a:off x="6477120" y="2057400"/>
              <a:ext cx="266652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Rectangle 19"/>
            <p:cNvSpPr/>
            <p:nvPr/>
          </p:nvSpPr>
          <p:spPr>
            <a:xfrm>
              <a:off x="6542640" y="4952880"/>
              <a:ext cx="99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20"/>
            <p:cNvSpPr/>
            <p:nvPr/>
          </p:nvSpPr>
          <p:spPr>
            <a:xfrm>
              <a:off x="8072640" y="4952880"/>
              <a:ext cx="107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Group 21"/>
          <p:cNvGrpSpPr/>
          <p:nvPr/>
        </p:nvGrpSpPr>
        <p:grpSpPr>
          <a:xfrm>
            <a:off x="0" y="1989000"/>
            <a:ext cx="3165480" cy="4248000"/>
            <a:chOff x="0" y="1989000"/>
            <a:chExt cx="3165480" cy="4248000"/>
          </a:xfrm>
        </p:grpSpPr>
        <p:pic>
          <p:nvPicPr>
            <p:cNvPr id="1002" name="Picture 22" descr="2004101414291529371"/>
            <p:cNvPicPr/>
            <p:nvPr/>
          </p:nvPicPr>
          <p:blipFill>
            <a:blip r:embed="rId4"/>
            <a:stretch/>
          </p:blipFill>
          <p:spPr>
            <a:xfrm>
              <a:off x="573120" y="1989000"/>
              <a:ext cx="2378160" cy="424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Group 23"/>
            <p:cNvGrpSpPr/>
            <p:nvPr/>
          </p:nvGrpSpPr>
          <p:grpSpPr>
            <a:xfrm>
              <a:off x="0" y="2577600"/>
              <a:ext cx="3165480" cy="2707200"/>
              <a:chOff x="0" y="2577600"/>
              <a:chExt cx="3165480" cy="2707200"/>
            </a:xfrm>
          </p:grpSpPr>
          <p:sp>
            <p:nvSpPr>
              <p:cNvPr id="1004" name="Rectangle 24"/>
              <p:cNvSpPr/>
              <p:nvPr/>
            </p:nvSpPr>
            <p:spPr>
              <a:xfrm>
                <a:off x="0" y="2577600"/>
                <a:ext cx="14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ff"/>
                    </a:solidFill>
                    <a:latin typeface="Arial"/>
                  </a:rPr>
                  <a:t>出水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5" name="Group 25"/>
              <p:cNvGrpSpPr/>
              <p:nvPr/>
            </p:nvGrpSpPr>
            <p:grpSpPr>
              <a:xfrm>
                <a:off x="490680" y="2761560"/>
                <a:ext cx="2674800" cy="2523240"/>
                <a:chOff x="490680" y="2761560"/>
                <a:chExt cx="2674800" cy="2523240"/>
              </a:xfrm>
            </p:grpSpPr>
            <p:sp>
              <p:nvSpPr>
                <p:cNvPr id="1006" name="Rectangle 26"/>
                <p:cNvSpPr/>
                <p:nvPr/>
              </p:nvSpPr>
              <p:spPr>
                <a:xfrm>
                  <a:off x="2228760" y="2761560"/>
                  <a:ext cx="865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66ff"/>
                      </a:solidFill>
                      <a:latin typeface="Arial"/>
                    </a:rPr>
                    <a:t>缸筒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Rectangle 27"/>
                <p:cNvSpPr/>
                <p:nvPr/>
              </p:nvSpPr>
              <p:spPr>
                <a:xfrm>
                  <a:off x="2157480" y="3294000"/>
                  <a:ext cx="1008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66ff"/>
                      </a:solidFill>
                      <a:latin typeface="Arial"/>
                    </a:rPr>
                    <a:t>活塞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Rectangle 28"/>
                <p:cNvSpPr/>
                <p:nvPr/>
              </p:nvSpPr>
              <p:spPr>
                <a:xfrm>
                  <a:off x="490680" y="4916520"/>
                  <a:ext cx="1019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66ff"/>
                      </a:solidFill>
                      <a:latin typeface="Arial"/>
                    </a:rPr>
                    <a:t>大气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Rectangle 29"/>
                <p:cNvSpPr/>
                <p:nvPr/>
              </p:nvSpPr>
              <p:spPr>
                <a:xfrm>
                  <a:off x="1930320" y="4916520"/>
                  <a:ext cx="116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66ff"/>
                      </a:solidFill>
                      <a:latin typeface="Arial"/>
                    </a:rPr>
                    <a:t>大气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0" name="Group 30"/>
          <p:cNvGrpSpPr/>
          <p:nvPr/>
        </p:nvGrpSpPr>
        <p:grpSpPr>
          <a:xfrm>
            <a:off x="3170160" y="1989000"/>
            <a:ext cx="2916000" cy="4182840"/>
            <a:chOff x="3170160" y="1989000"/>
            <a:chExt cx="2916000" cy="4182840"/>
          </a:xfrm>
        </p:grpSpPr>
        <p:pic>
          <p:nvPicPr>
            <p:cNvPr id="1011" name="Picture 31" descr="2004101414291526622"/>
            <p:cNvPicPr/>
            <p:nvPr/>
          </p:nvPicPr>
          <p:blipFill>
            <a:blip r:embed="rId5"/>
            <a:stretch/>
          </p:blipFill>
          <p:spPr>
            <a:xfrm>
              <a:off x="3225600" y="1989000"/>
              <a:ext cx="2850840" cy="41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Rectangle 32"/>
            <p:cNvSpPr/>
            <p:nvPr/>
          </p:nvSpPr>
          <p:spPr>
            <a:xfrm>
              <a:off x="3170160" y="493956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33"/>
            <p:cNvSpPr/>
            <p:nvPr/>
          </p:nvSpPr>
          <p:spPr>
            <a:xfrm>
              <a:off x="4970880" y="4939560"/>
              <a:ext cx="111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4"/>
          <p:cNvSpPr/>
          <p:nvPr/>
        </p:nvSpPr>
        <p:spPr>
          <a:xfrm>
            <a:off x="1828800" y="609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想一想 在生活中用到大气压的知识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"/>
          <p:cNvSpPr/>
          <p:nvPr/>
        </p:nvSpPr>
        <p:spPr>
          <a:xfrm>
            <a:off x="914400" y="236232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抽水机   钢笔吸水  空气挂衣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用吸管吸饮料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8"/>
          <p:cNvSpPr/>
          <p:nvPr/>
        </p:nvSpPr>
        <p:spPr>
          <a:xfrm>
            <a:off x="304920" y="38862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切抽吸液体的过程就是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气压强将液体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压”上来的过程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1066680" y="3031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4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科学家托里拆利提出大气会产生压强，并测定了大气压强的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20300000012901130778090185271"/>
          <p:cNvPicPr/>
          <p:nvPr/>
        </p:nvPicPr>
        <p:blipFill>
          <a:blip r:embed="rId1"/>
          <a:stretch/>
        </p:blipFill>
        <p:spPr>
          <a:xfrm>
            <a:off x="4800600" y="838080"/>
            <a:ext cx="3606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气体压强与体积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5"/>
          <p:cNvSpPr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在温度不变的条件下，一定质量的气体，体积减小它的压强就增大，体积增大它的压强就减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PV = 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4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5"/>
          <p:cNvSpPr/>
          <p:nvPr/>
        </p:nvSpPr>
        <p:spPr>
          <a:xfrm>
            <a:off x="3033720" y="380880"/>
            <a:ext cx="3581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黑体"/>
                <a:ea typeface="黑体"/>
              </a:rPr>
              <a:t>巩 固 练 习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测定大气压值的著名实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实验，大气压值约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7"/>
          <p:cNvSpPr/>
          <p:nvPr/>
        </p:nvSpPr>
        <p:spPr>
          <a:xfrm>
            <a:off x="6477120" y="1828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托里拆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8"/>
          <p:cNvSpPr/>
          <p:nvPr/>
        </p:nvSpPr>
        <p:spPr>
          <a:xfrm>
            <a:off x="4572000" y="2735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01×1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0" y="434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假如用水来做托里拆利实验，管内上方为真空，大气压可支持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高的水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0"/>
          <p:cNvSpPr/>
          <p:nvPr/>
        </p:nvSpPr>
        <p:spPr>
          <a:xfrm>
            <a:off x="5981760" y="483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8" dur="75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3" dur="75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4"/>
          <p:cNvSpPr/>
          <p:nvPr/>
        </p:nvSpPr>
        <p:spPr>
          <a:xfrm>
            <a:off x="685800" y="768240"/>
            <a:ext cx="777240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用自来水钢笔吸墨水时，只要把弹簧片按几下松开，墨水就吸到橡皮管里去了，这是因为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7"/>
          <p:cNvSpPr/>
          <p:nvPr/>
        </p:nvSpPr>
        <p:spPr>
          <a:xfrm>
            <a:off x="674640" y="3443400"/>
            <a:ext cx="38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橡皮管有吸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0"/>
          <p:cNvSpPr/>
          <p:nvPr/>
        </p:nvSpPr>
        <p:spPr>
          <a:xfrm>
            <a:off x="685800" y="434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气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3"/>
          <p:cNvSpPr/>
          <p:nvPr/>
        </p:nvSpPr>
        <p:spPr>
          <a:xfrm>
            <a:off x="4572000" y="34336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弹簧片有吸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6"/>
          <p:cNvSpPr/>
          <p:nvPr/>
        </p:nvSpPr>
        <p:spPr>
          <a:xfrm>
            <a:off x="4572000" y="42195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橡皮管里真空有吸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7"/>
          <p:cNvSpPr/>
          <p:nvPr/>
        </p:nvSpPr>
        <p:spPr>
          <a:xfrm>
            <a:off x="3581280" y="2400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609480" y="228600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大气压等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60mmH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的房间里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托里拆利实验时，结果管内水银柱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40mmHg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原因是   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管子内径太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管子上端有少量空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C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管子太长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管子倾斜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8"/>
          <p:cNvSpPr/>
          <p:nvPr/>
        </p:nvSpPr>
        <p:spPr>
          <a:xfrm>
            <a:off x="990720" y="3808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早测出大气压值的科学家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伽利略  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牛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C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托里拆利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奥托格里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9"/>
          <p:cNvSpPr/>
          <p:nvPr/>
        </p:nvSpPr>
        <p:spPr>
          <a:xfrm>
            <a:off x="6705720" y="457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1"/>
          <p:cNvSpPr/>
          <p:nvPr/>
        </p:nvSpPr>
        <p:spPr>
          <a:xfrm>
            <a:off x="557064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 Box 4"/>
          <p:cNvSpPr/>
          <p:nvPr/>
        </p:nvSpPr>
        <p:spPr>
          <a:xfrm>
            <a:off x="-7632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现象中，不能说明大气压存在的是 （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7"/>
          <p:cNvSpPr/>
          <p:nvPr/>
        </p:nvSpPr>
        <p:spPr>
          <a:xfrm>
            <a:off x="723960" y="32004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堵上茶壶盖上的小孔，壶里的水不容易倒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0"/>
          <p:cNvSpPr/>
          <p:nvPr/>
        </p:nvSpPr>
        <p:spPr>
          <a:xfrm>
            <a:off x="723960" y="3886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吸管可是把杯中的果汁吸到口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3"/>
          <p:cNvSpPr/>
          <p:nvPr/>
        </p:nvSpPr>
        <p:spPr>
          <a:xfrm>
            <a:off x="723960" y="52894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船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6"/>
          <p:cNvSpPr/>
          <p:nvPr/>
        </p:nvSpPr>
        <p:spPr>
          <a:xfrm>
            <a:off x="723960" y="4572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托里拆利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17"/>
          <p:cNvGrpSpPr/>
          <p:nvPr/>
        </p:nvGrpSpPr>
        <p:grpSpPr>
          <a:xfrm>
            <a:off x="7772400" y="6315120"/>
            <a:ext cx="1371600" cy="533520"/>
            <a:chOff x="7772400" y="6315120"/>
            <a:chExt cx="1371600" cy="533520"/>
          </a:xfrm>
        </p:grpSpPr>
        <p:pic>
          <p:nvPicPr>
            <p:cNvPr id="1043" name="Picture 18" descr="0067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458200" y="6315120"/>
              <a:ext cx="685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Picture 19" descr="0064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772400" y="6315120"/>
              <a:ext cx="7621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5" name="AutoShape 23"/>
          <p:cNvSpPr/>
          <p:nvPr/>
        </p:nvSpPr>
        <p:spPr>
          <a:xfrm>
            <a:off x="8077320" y="6324480"/>
            <a:ext cx="304560" cy="5335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819">
                <a:moveTo>
                  <a:pt x="0" y="0"/>
                </a:moveTo>
                <a:lnTo>
                  <a:pt x="21600" y="0"/>
                </a:lnTo>
                <a:lnTo>
                  <a:pt x="21600" y="37819"/>
                </a:lnTo>
                <a:lnTo>
                  <a:pt x="0" y="37819"/>
                </a:lnTo>
                <a:close/>
              </a:path>
              <a:path fill="lightenLess" w="21600" h="378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19">
                <a:moveTo>
                  <a:pt x="21600" y="0"/>
                </a:moveTo>
                <a:lnTo>
                  <a:pt x="21600" y="37819"/>
                </a:lnTo>
                <a:lnTo>
                  <a:pt x="20200" y="36419"/>
                </a:lnTo>
                <a:lnTo>
                  <a:pt x="20200" y="1400"/>
                </a:lnTo>
                <a:close/>
              </a:path>
              <a:path fill="darkenLess" w="21600" h="37819">
                <a:moveTo>
                  <a:pt x="21600" y="37819"/>
                </a:moveTo>
                <a:lnTo>
                  <a:pt x="0" y="37819"/>
                </a:lnTo>
                <a:lnTo>
                  <a:pt x="1400" y="36419"/>
                </a:lnTo>
                <a:lnTo>
                  <a:pt x="20200" y="36419"/>
                </a:lnTo>
                <a:close/>
              </a:path>
              <a:path fill="lighten" w="21600" h="37819">
                <a:moveTo>
                  <a:pt x="0" y="378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24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"/>
          <p:cNvSpPr/>
          <p:nvPr/>
        </p:nvSpPr>
        <p:spPr>
          <a:xfrm>
            <a:off x="527040" y="1604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00"/>
                            </p:stCondLst>
                            <p:childTnLst>
                              <p:par>
                                <p:cTn id="8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4"/>
          <p:cNvSpPr/>
          <p:nvPr/>
        </p:nvSpPr>
        <p:spPr>
          <a:xfrm>
            <a:off x="762120" y="762120"/>
            <a:ext cx="784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.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一鸡蛋放在广口瓶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刚好被卡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把浸过酒精的棉花点燃后放进广口瓶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把鸡蛋堵住瓶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会怎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2362320" y="4038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6"/>
          <p:cNvSpPr/>
          <p:nvPr/>
        </p:nvSpPr>
        <p:spPr>
          <a:xfrm>
            <a:off x="6553080" y="45259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汉鼎简魏碑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CYB1.MPG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restart="whenNotActive" nodeType="interactiveSeq" fill="hold">
                <p:stCondLst>
                  <p:cond evt="onClick">
                    <p:tgtEl>
                      <p:spTgt spid="1051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051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8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 Box 4"/>
          <p:cNvSpPr/>
          <p:nvPr/>
        </p:nvSpPr>
        <p:spPr>
          <a:xfrm>
            <a:off x="0" y="685800"/>
            <a:ext cx="883908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4e8"/>
                </a:solidFill>
                <a:latin typeface="汉鼎简魏碑"/>
                <a:ea typeface="汉鼎简魏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04e8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空气的内部向各个方向都有的压强叫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气压强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简称大气压</a:t>
            </a:r>
            <a:r>
              <a:rPr b="0" lang="zh-CN" sz="3200" spc="-1" strike="noStrike">
                <a:solidFill>
                  <a:srgbClr val="6004e8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9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一、 大气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1"/>
          <p:cNvSpPr/>
          <p:nvPr/>
        </p:nvSpPr>
        <p:spPr>
          <a:xfrm>
            <a:off x="826200" y="2743200"/>
            <a:ext cx="2724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 大气压的产生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2"/>
          <p:cNvSpPr/>
          <p:nvPr/>
        </p:nvSpPr>
        <p:spPr>
          <a:xfrm>
            <a:off x="0" y="3962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由于大气受到重力作用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同时又具有流动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3"/>
          <p:cNvSpPr/>
          <p:nvPr/>
        </p:nvSpPr>
        <p:spPr>
          <a:xfrm>
            <a:off x="0" y="4876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三 马德堡半球实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4"/>
          <p:cNvSpPr/>
          <p:nvPr/>
        </p:nvSpPr>
        <p:spPr>
          <a:xfrm>
            <a:off x="0" y="6019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证明了大气压的存在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同时说明大气压非常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EC80-197F-48A8-A87A-429BFC6A71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4"/>
          <p:cNvSpPr/>
          <p:nvPr/>
        </p:nvSpPr>
        <p:spPr>
          <a:xfrm>
            <a:off x="0" y="54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六、应用：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活塞式抽水机   离心式水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5"/>
          <p:cNvSpPr/>
          <p:nvPr/>
        </p:nvSpPr>
        <p:spPr>
          <a:xfrm>
            <a:off x="0" y="3124080"/>
            <a:ext cx="132811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大气压的变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气压随高度的增加而减小，随体积的减小而增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6"/>
          <p:cNvSpPr/>
          <p:nvPr/>
        </p:nvSpPr>
        <p:spPr>
          <a:xfrm>
            <a:off x="0" y="2438280"/>
            <a:ext cx="9144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P =  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760mmHg </a:t>
            </a:r>
            <a:r>
              <a:rPr b="1" i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1.01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汉鼎简魏碑"/>
                <a:ea typeface="汉鼎简魏碑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7"/>
          <p:cNvSpPr/>
          <p:nvPr/>
        </p:nvSpPr>
        <p:spPr>
          <a:xfrm>
            <a:off x="-533520" y="1600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4e8"/>
                </a:solidFill>
                <a:latin typeface="汉鼎简魏碑"/>
                <a:ea typeface="汉鼎简魏碑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首先测出了大气压的数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8"/>
          <p:cNvSpPr/>
          <p:nvPr/>
        </p:nvSpPr>
        <p:spPr>
          <a:xfrm>
            <a:off x="0" y="6094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四、托里拆利实验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685800" y="838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大气压强的存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62120" y="17524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第一个验证大气压强存在的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523880" y="2514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马德堡半球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85800" y="350532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马德堡半球实验说明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2361600" y="4294080"/>
            <a:ext cx="24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）大气压强的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828800" y="50292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）大气压强很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"/>
          <p:cNvSpPr/>
          <p:nvPr/>
        </p:nvSpPr>
        <p:spPr>
          <a:xfrm>
            <a:off x="7086600" y="65880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5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时，当时的马德堡市长奥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居里克于罗马帝国的雷根斯堡（今德国雷根斯堡）进行的一项科学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2005921539281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382428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5562360" y="1143000"/>
            <a:ext cx="1143360" cy="1219320"/>
            <a:chOff x="5562360" y="1143000"/>
            <a:chExt cx="1143360" cy="1219320"/>
          </a:xfrm>
        </p:grpSpPr>
        <p:sp>
          <p:nvSpPr>
            <p:cNvPr id="228" name="Line 6"/>
            <p:cNvSpPr/>
            <p:nvPr/>
          </p:nvSpPr>
          <p:spPr>
            <a:xfrm flipH="1">
              <a:off x="5562360" y="1143000"/>
              <a:ext cx="1143000" cy="12193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5562720" y="11430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7"/>
          <p:cNvSpPr/>
          <p:nvPr/>
        </p:nvSpPr>
        <p:spPr>
          <a:xfrm>
            <a:off x="6858000" y="68580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周围的大气对铁球表面产生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" y="5335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马德堡半球实验的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652729179788"/>
          <p:cNvPicPr/>
          <p:nvPr/>
        </p:nvPicPr>
        <p:blipFill>
          <a:blip r:embed="rId1"/>
          <a:stretch/>
        </p:blipFill>
        <p:spPr>
          <a:xfrm>
            <a:off x="2509920" y="703440"/>
            <a:ext cx="4125960" cy="54511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2590920" y="68580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838080" y="4572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模拟半球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2:02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51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