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16F-EC5B-44BB-9E33-16359836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D28-2890-4F4B-B42F-F6EEDAD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58B-EFFD-4D55-8287-E9722B5D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E72-97F5-4C87-834C-ECABA840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C13B-AF18-4AB9-8ED3-FDF4282F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8D19-6D65-4A29-8712-D7FB3C27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1E8C-C704-430C-8522-6C397F76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104C-07EA-44F1-8DE0-BD4A68FC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CF1D-7228-40A2-ACD4-39F7DA51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511C-786C-4964-B3D6-F9F753B1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BB64-C753-44B2-8776-CABB3715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49E-B2A0-4B21-A07D-C8F8AACF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8B7D-FCB1-4C9C-89E0-32F4F48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44B9-4A8B-47E7-B33D-DE6F853B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AC23-AD37-4C69-AAAD-D40C619B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6347-3C7B-46CD-AB4A-2CE68621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D342-3513-4734-9140-4CA79D33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D540-F8E1-41A8-92C7-F4C2FE91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EEA2-8BB1-4318-A507-D1BAF64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F16D9-DCE0-4DCA-87BB-67AB267E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89EA-C95F-4846-96D8-FCC7F3C1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4C9C-E7DA-46AD-9C1C-B867D881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214-0A8A-472F-B9BB-20CFEDD1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A467-C241-4888-9D28-F8EF1E6C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3E6A-5770-4D5B-8E1B-2DB35C2E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3039-397B-4327-A510-7721914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2DFC-90D2-44E9-9192-82758EB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FA39-8794-4DB6-826B-E524D2F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1E4C-208A-40A0-B7E1-D86DDA35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52C6-117D-489D-B900-365C9982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5A9-6C04-46C4-AA6C-91F615F7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631-4454-415E-A2B5-E5DBDA8E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086-55A1-40C8-8310-4EE157BC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039-0C4A-4C84-A7F9-B58F7E4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D1F-8E2F-48BB-9EF5-810F68C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3DD-609E-48C6-AD01-0BA239E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719-430C-4DE1-B385-F7658978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95F-2D12-4983-8CDE-CB924F9B0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E4AD-39B6-4C96-9A39-907D4779D2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334,15,&#24187;&#28783;&#29255; 15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900000" y="2295360"/>
            <a:ext cx="741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1f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地球在公转吗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98360" y="97956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学科学（科教版）五年级下册第四单元第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1357200" y="121428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1357200" y="121428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324000" y="765000"/>
            <a:ext cx="856908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温馨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公转到不同位置时，观察这颗星星，看它与其他星星的位置变化，并记录在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表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8200"/>
          <p:cNvSpPr/>
          <p:nvPr/>
        </p:nvSpPr>
        <p:spPr>
          <a:xfrm>
            <a:off x="814320" y="19461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1357200" y="121428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89160" y="691560"/>
            <a:ext cx="26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44444"/>
                </a:solidFill>
                <a:latin typeface="楷体_GB2312"/>
                <a:ea typeface="楷体_GB2312"/>
              </a:rPr>
              <a:t>我的观</a:t>
            </a:r>
            <a:r>
              <a:rPr b="1" lang="zh-CN" sz="4000" spc="-1" strike="noStrike">
                <a:solidFill>
                  <a:srgbClr val="444444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444444"/>
                </a:solidFill>
                <a:latin typeface="楷体_GB2312"/>
                <a:ea typeface="楷体_GB2312"/>
              </a:rPr>
              <a:t>星</a:t>
            </a:r>
            <a:r>
              <a:rPr b="1" lang="zh-CN" sz="4000" spc="-1" strike="noStrike">
                <a:solidFill>
                  <a:srgbClr val="444444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444444"/>
                </a:solidFill>
                <a:latin typeface="楷体_GB2312"/>
                <a:ea typeface="楷体_GB2312"/>
              </a:rPr>
              <a:t>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5280" y="1700280"/>
          <a:ext cx="8280360" cy="3338280"/>
        </p:xfrm>
        <a:graphic>
          <a:graphicData uri="http://schemas.openxmlformats.org/drawingml/2006/table">
            <a:tbl>
              <a:tblPr/>
              <a:tblGrid>
                <a:gridCol w="2759040"/>
                <a:gridCol w="2762280"/>
                <a:gridCol w="2759040"/>
              </a:tblGrid>
              <a:tr h="1371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公转到</a:t>
                      </a:r>
                      <a:r>
                        <a:rPr b="1" lang="en-US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点时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共转到</a:t>
                      </a:r>
                      <a:r>
                        <a:rPr b="1" lang="en-US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点时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在</a:t>
                      </a:r>
                      <a:r>
                        <a:rPr b="1" lang="en-US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两点的视觉差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橡皮泥小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在（）边第（）格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橡皮泥小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在（）边第（）格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宋体"/>
                        </a:rPr>
                        <a:t>一共有（）格</a:t>
                      </a:r>
                      <a:r>
                        <a:rPr b="1" lang="zh-CN" sz="2800" spc="-1" strike="noStrike">
                          <a:solidFill>
                            <a:srgbClr val="444444"/>
                          </a:solidFill>
                          <a:latin typeface="Lucida Sans Unicode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C:\Users\xyz\Documents\Tencent Files\120457239\Image\KQ}}Q5~_}6H6%X(CNSF9CGL.jpg"/>
          <p:cNvPicPr/>
          <p:nvPr/>
        </p:nvPicPr>
        <p:blipFill>
          <a:blip r:embed="rId1"/>
          <a:stretch/>
        </p:blipFill>
        <p:spPr>
          <a:xfrm>
            <a:off x="0" y="0"/>
            <a:ext cx="11248920" cy="75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B239-A8B8-4EAD-8776-651ECD7402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6094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2843280" y="404640"/>
            <a:ext cx="3166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巩固练习</a:t>
            </a:r>
            <a:endParaRPr b="1" lang="en-US" sz="1800" spc="1" strike="noStrike">
              <a:ln w="1260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9640" y="1413000"/>
            <a:ext cx="8209080" cy="3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自转的方向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自转的周期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昼夜更替的原因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公转的轨道形状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公转的方向是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公转的周期是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435640" y="1413000"/>
            <a:ext cx="23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自西向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037400" y="207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195640" y="278136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地球自转的方向和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940360" y="378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椭圆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708360" y="4437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自西向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835280" y="5084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1357200" y="121428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24000" y="821160"/>
            <a:ext cx="8424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前小游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闭上左眼，竖起食指，使其对准黑板上的竖线条。然后，睁开左眼，闭上右眼，观察手指的位置，你有什么发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一个简单的视差的演示parallax_intro.avi" descr=""/>
          <p:cNvPicPr/>
          <p:nvPr/>
        </p:nvPicPr>
        <p:blipFill>
          <a:blip r:embed="rId1"/>
          <a:stretch/>
        </p:blipFill>
        <p:spPr>
          <a:xfrm>
            <a:off x="4118040" y="3008160"/>
            <a:ext cx="464976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1357200" y="121428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68560" y="2419920"/>
            <a:ext cx="52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现象我们称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视觉误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539640" y="1916280"/>
            <a:ext cx="8143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转头部进行观察，感觉视差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1357200" y="121428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835280" y="2133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  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2894040" y="1989000"/>
            <a:ext cx="39844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相对运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举一些生活例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1357200" y="121428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2008022601233250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24000" y="5084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绕地轴自西向东自转，周期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ShockwaveFlash1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91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"/>
          <p:cNvSpPr/>
          <p:nvPr/>
        </p:nvSpPr>
        <p:spPr>
          <a:xfrm>
            <a:off x="971640" y="27082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地球在公转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35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22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