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7.jpeg" ContentType="image/jpeg"/>
  <Override PartName="/ppt/media/image1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DD7F-87C7-472C-A95F-D00ECD934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53E1-78D7-4B4D-87E3-8A8885DB9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E3F0-4F42-498F-BB9A-873CBC264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82C4-89E7-46C1-A2E8-D4555A475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60C78-35E5-47F8-97EB-277F75791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53D0F-4A93-4AE0-B42C-2E2D0513E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B22DA-2C03-4B26-AB08-72B37FE0A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CD837-23CD-452E-8D4C-BD877031E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778A5-79C3-496B-A043-647A66C75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268B0-B5D9-4E78-B096-5E790E290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0C2BA-EE9C-4340-8CBF-DC8720B23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ECC0-4263-4E2C-8D87-C64C01521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17160-3754-45E6-B0A5-0192AA1C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7DFD1-60A2-4673-AC30-AEFABD71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582ED-09AA-4F40-8DB4-DB0FFB272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E506A-4BEC-4A28-B51A-7BF393280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66C97-0F84-4E5D-B350-DD4C2F156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87B2E-6975-496B-BDED-6C76291C1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0A44F-02D7-4CB1-866B-3DDAE09B4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73C0E-C713-4CA3-9BF3-D811AA213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0DC8D-C0A8-47B6-9525-21EED24A2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2C81F-8105-4A77-AED3-409D323E6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EAF9-CDF1-453B-94A2-A8CD6CFEE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65849-1F07-44FC-BC92-BCAF688B6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70F67-8762-45AD-8B85-5F69EF0D0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47F71-5B07-4653-88DE-E831BAA42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FF852-64C6-4FC4-80F4-224CCC870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7925F-B00B-4766-A829-F1A01BC27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EC4FC-4157-4396-B4FE-147DD5DEA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64C71-B72D-4921-BE06-4F0B520E0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5A80-2A65-4FC2-BE7E-6C4DDF40A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925C-4117-4A5E-B3B8-BFFD7EBC7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C4FD-C5F6-47C7-9F75-BFEFBFF18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1036-D9CF-4994-92CA-22B64B04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CA46-8DBB-45A6-A960-B8885E5E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1506-3C65-4E4D-97FE-0A03EFF81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2504520" y="10800"/>
              <a:ext cx="1599840" cy="40384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3200" y="612792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1BBEA-9218-4174-B46C-5986614C2EB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9D630-AC3B-479E-9DC9-60D06BF1B69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2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111" name="Freeform 3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Freeform 4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Freeform 5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Freeform 6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Freeform 7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Freeform 8"/>
            <p:cNvSpPr/>
            <p:nvPr/>
          </p:nvSpPr>
          <p:spPr>
            <a:xfrm flipH="1" rot="2703000">
              <a:off x="2505240" y="-3240"/>
              <a:ext cx="1600200" cy="40388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Freeform 9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Freeform 10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Freeform 11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Freeform 12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Freeform 13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Rectangle 14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Freeform 15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Freeform 16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Freeform 17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Freeform 18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Rectangle 19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Freeform 20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Freeform 21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Freeform 22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Freeform 23"/>
            <p:cNvSpPr/>
            <p:nvPr/>
          </p:nvSpPr>
          <p:spPr>
            <a:xfrm flipH="1" rot="18897000">
              <a:off x="42840" y="378216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Freeform 24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Freeform 25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Freeform 26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Freeform 27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Freeform 28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Rectangle 29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Rectangle 30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Rectangle 31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40" name="Picture 32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7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9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FF709-393D-4524-A739-D8C49F68F60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hyperlink" Target="http://www.eeppt.com/moban/" TargetMode="Externa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6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9360" y="1196640"/>
            <a:ext cx="91440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对社会主义道路的探索</a:t>
            </a:r>
            <a:r>
              <a:rPr b="1" lang="en-US" sz="4000" spc="-1" strike="noStrike">
                <a:solidFill>
                  <a:srgbClr val="ffffff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课件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矩形 2"/>
          <p:cNvSpPr/>
          <p:nvPr/>
        </p:nvSpPr>
        <p:spPr>
          <a:xfrm>
            <a:off x="1521000" y="549360"/>
            <a:ext cx="61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第一单元 苏联社会主义道路的探索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图片 3" descr=""/>
          <p:cNvPicPr/>
          <p:nvPr/>
        </p:nvPicPr>
        <p:blipFill>
          <a:blip r:embed="rId1"/>
          <a:stretch/>
        </p:blipFill>
        <p:spPr>
          <a:xfrm>
            <a:off x="1619280" y="2552760"/>
            <a:ext cx="5769000" cy="3672000"/>
          </a:xfrm>
          <a:prstGeom prst="rect">
            <a:avLst/>
          </a:prstGeom>
          <a:ln w="0">
            <a:noFill/>
          </a:ln>
        </p:spPr>
      </p:pic>
      <p:sp>
        <p:nvSpPr>
          <p:cNvPr id="18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3" descr="斯大林3"/>
          <p:cNvPicPr/>
          <p:nvPr/>
        </p:nvPicPr>
        <p:blipFill>
          <a:blip r:embed="rId1"/>
          <a:stretch/>
        </p:blipFill>
        <p:spPr>
          <a:xfrm>
            <a:off x="7267680" y="0"/>
            <a:ext cx="1876320" cy="263700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1029"/>
          <p:cNvSpPr/>
          <p:nvPr/>
        </p:nvSpPr>
        <p:spPr>
          <a:xfrm>
            <a:off x="0" y="0"/>
            <a:ext cx="73087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  <a:ea typeface="黑体"/>
              </a:rPr>
              <a:t>三、苏联的社会主义建设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（斯大林时期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、社会主义工业化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①</a:t>
            </a:r>
            <a:r>
              <a:rPr b="1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特点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②</a:t>
            </a:r>
            <a:r>
              <a:rPr b="1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过程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③</a:t>
            </a:r>
            <a:r>
              <a:rPr b="1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成果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Text Box 1030"/>
          <p:cNvSpPr/>
          <p:nvPr/>
        </p:nvSpPr>
        <p:spPr>
          <a:xfrm>
            <a:off x="1403280" y="1268280"/>
            <a:ext cx="59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执行五年计划；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重点发展重工业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Text Box 1031"/>
          <p:cNvSpPr/>
          <p:nvPr/>
        </p:nvSpPr>
        <p:spPr>
          <a:xfrm>
            <a:off x="1403280" y="191628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1928-1937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完成两个五年计划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Text Box 1032"/>
          <p:cNvSpPr/>
          <p:nvPr/>
        </p:nvSpPr>
        <p:spPr>
          <a:xfrm>
            <a:off x="1403280" y="2637000"/>
            <a:ext cx="77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苏联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由传统的农业国变成强盛的工业国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，国防力量大为增强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2" name="Picture 1033" descr="苏联第一个五年计划的重点项目之一——第聂伯河上的大坝"/>
          <p:cNvPicPr/>
          <p:nvPr/>
        </p:nvPicPr>
        <p:blipFill>
          <a:blip r:embed="rId2"/>
          <a:stretch/>
        </p:blipFill>
        <p:spPr>
          <a:xfrm>
            <a:off x="0" y="3716280"/>
            <a:ext cx="5148360" cy="22338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034" descr="斯大林格勒拖拉机"/>
          <p:cNvPicPr/>
          <p:nvPr/>
        </p:nvPicPr>
        <p:blipFill>
          <a:blip r:embed="rId3"/>
          <a:stretch/>
        </p:blipFill>
        <p:spPr>
          <a:xfrm>
            <a:off x="5435640" y="3500280"/>
            <a:ext cx="3708360" cy="265932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1035"/>
          <p:cNvSpPr/>
          <p:nvPr/>
        </p:nvSpPr>
        <p:spPr>
          <a:xfrm>
            <a:off x="0" y="5853240"/>
            <a:ext cx="51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苏联第一个五年计划的重点项目一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第聂伯河上的大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Text Box 1036"/>
          <p:cNvSpPr/>
          <p:nvPr/>
        </p:nvSpPr>
        <p:spPr>
          <a:xfrm>
            <a:off x="5759280" y="623736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斯大林格勒拖拉机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文本框 8196"/>
          <p:cNvSpPr/>
          <p:nvPr/>
        </p:nvSpPr>
        <p:spPr>
          <a:xfrm>
            <a:off x="219240" y="165420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98d43"/>
                </a:solidFill>
                <a:uFillTx/>
                <a:latin typeface="Arial"/>
                <a:ea typeface="宋体"/>
                <a:hlinkClick r:id="rId4"/>
              </a:rPr>
              <a:t>ppt模板下载 免费完整版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2"/>
          <p:cNvSpPr/>
          <p:nvPr/>
        </p:nvSpPr>
        <p:spPr>
          <a:xfrm>
            <a:off x="3708360" y="476280"/>
            <a:ext cx="489600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两个五年计划完成之后，苏联由农业国变成工业国，形成了比较完备的工业体系。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940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年，工业总产值超过德、英、法，跃居</a:t>
            </a: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欧洲第一位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，世界第</a:t>
            </a: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二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位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但苏联的人均国民生产总值，仍落后于欧美主要资本主义国家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8" name="Picture 3" descr="苏联宣传画2"/>
          <p:cNvPicPr/>
          <p:nvPr/>
        </p:nvPicPr>
        <p:blipFill>
          <a:blip r:embed="rId1"/>
          <a:stretch/>
        </p:blipFill>
        <p:spPr>
          <a:xfrm>
            <a:off x="0" y="620640"/>
            <a:ext cx="34164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有关集体农庄的一组宣传画"/>
          <p:cNvPicPr/>
          <p:nvPr/>
        </p:nvPicPr>
        <p:blipFill>
          <a:blip r:embed="rId1"/>
          <a:stretch/>
        </p:blipFill>
        <p:spPr>
          <a:xfrm>
            <a:off x="250920" y="297000"/>
            <a:ext cx="8353440" cy="365256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2"/>
          <p:cNvSpPr/>
          <p:nvPr/>
        </p:nvSpPr>
        <p:spPr>
          <a:xfrm>
            <a:off x="0" y="4373280"/>
            <a:ext cx="88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如何使广大农民走共同富裕的道路，如何使农业适应国家工业化的发展，联共（布）确定了</a:t>
            </a: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农业集体化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的方针。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农民加入集体农庄"/>
          <p:cNvPicPr/>
          <p:nvPr/>
        </p:nvPicPr>
        <p:blipFill>
          <a:blip r:embed="rId1"/>
          <a:stretch/>
        </p:blipFill>
        <p:spPr>
          <a:xfrm>
            <a:off x="0" y="3716280"/>
            <a:ext cx="4734000" cy="266544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3"/>
          <p:cNvSpPr/>
          <p:nvPr/>
        </p:nvSpPr>
        <p:spPr>
          <a:xfrm>
            <a:off x="570600" y="63388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农民加入集体农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3" name="Picture 4" descr="集体农庄庄员在田间用餐"/>
          <p:cNvPicPr/>
          <p:nvPr/>
        </p:nvPicPr>
        <p:blipFill>
          <a:blip r:embed="rId2"/>
          <a:stretch/>
        </p:blipFill>
        <p:spPr>
          <a:xfrm>
            <a:off x="4778280" y="3789360"/>
            <a:ext cx="4365720" cy="258588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5"/>
          <p:cNvSpPr/>
          <p:nvPr/>
        </p:nvSpPr>
        <p:spPr>
          <a:xfrm>
            <a:off x="4967280" y="640080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集体农庄庄员在田间用餐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0" y="0"/>
            <a:ext cx="284328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、农业集体化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①</a:t>
            </a:r>
            <a:r>
              <a:rPr b="1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背景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②</a:t>
            </a:r>
            <a:r>
              <a:rPr b="1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目的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③</a:t>
            </a:r>
            <a:r>
              <a:rPr b="1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措施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④</a:t>
            </a:r>
            <a:r>
              <a:rPr b="1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完成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Text Box 7"/>
          <p:cNvSpPr/>
          <p:nvPr/>
        </p:nvSpPr>
        <p:spPr>
          <a:xfrm>
            <a:off x="1908000" y="620640"/>
            <a:ext cx="7056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工业化进展迅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为了适应工业化的需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放弃新经济政策，强迫农民加入集体农庄，打击富农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Text Box 8"/>
          <p:cNvSpPr/>
          <p:nvPr/>
        </p:nvSpPr>
        <p:spPr>
          <a:xfrm>
            <a:off x="1835280" y="3141720"/>
            <a:ext cx="64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黑体"/>
                <a:ea typeface="黑体"/>
              </a:rPr>
              <a:t>1937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年，完成农业集体化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8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4"/>
          <p:cNvSpPr/>
          <p:nvPr/>
        </p:nvSpPr>
        <p:spPr>
          <a:xfrm>
            <a:off x="468360" y="26010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     </a:t>
            </a:r>
            <a:r>
              <a:rPr b="0" lang="zh-CN" sz="36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毛泽东在</a:t>
            </a:r>
            <a:r>
              <a:rPr b="0" lang="en-US" sz="36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《</a:t>
            </a:r>
            <a:r>
              <a:rPr b="0" lang="zh-CN" sz="36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论十大关系</a:t>
            </a:r>
            <a:r>
              <a:rPr b="0" lang="en-US" sz="36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》</a:t>
            </a:r>
            <a:r>
              <a:rPr b="0" lang="zh-CN" sz="36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中说：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“</a:t>
            </a: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苏联的办法把农民挖得很苦。他们采取所谓义务交售制等项办法，把农民生产的东西拿走太多，给的代价又极低。他们这样来积累资金，使农民的生产积极性受到极大的损害。你要母鸡多生蛋，又不给它米吃，又要马儿跑得好，又要马儿不吃草。世界上哪有这样的道理。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”</a:t>
            </a: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900000" y="5788800"/>
            <a:ext cx="75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0" y="260280"/>
            <a:ext cx="78120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三、高度集中的经济政治体制（斯大林模式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、确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①</a:t>
            </a:r>
            <a:r>
              <a:rPr b="1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背景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②</a:t>
            </a:r>
            <a:r>
              <a:rPr b="1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确立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③</a:t>
            </a:r>
            <a:r>
              <a:rPr b="1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意义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1619280" y="1557360"/>
            <a:ext cx="75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在全国基本实现社会主义工业化和农业集体化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1547640" y="220500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66"/>
                </a:solidFill>
                <a:latin typeface="黑体"/>
                <a:ea typeface="黑体"/>
              </a:rPr>
              <a:t>1936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年苏联通过新宪法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1547640" y="2924280"/>
            <a:ext cx="75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标志着苏联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高度集中的政治经济体制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—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斯大林模式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的形成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Text Box 7"/>
          <p:cNvSpPr/>
          <p:nvPr/>
        </p:nvSpPr>
        <p:spPr>
          <a:xfrm>
            <a:off x="0" y="4365720"/>
            <a:ext cx="2340000" cy="22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①</a:t>
            </a:r>
            <a:r>
              <a:rPr b="1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积极意义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②</a:t>
            </a:r>
            <a:r>
              <a:rPr b="1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消极作用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Text Box 8"/>
          <p:cNvSpPr/>
          <p:nvPr/>
        </p:nvSpPr>
        <p:spPr>
          <a:xfrm>
            <a:off x="2411280" y="4076640"/>
            <a:ext cx="6732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①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适应了当时外有帝国主义包围，内部经济文化落后的国情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②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在国民经济恢复和工业化初期，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发挥了一定的积极作用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Text Box 9"/>
          <p:cNvSpPr/>
          <p:nvPr/>
        </p:nvSpPr>
        <p:spPr>
          <a:xfrm>
            <a:off x="0" y="3851280"/>
            <a:ext cx="16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、评价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Text Box 10"/>
          <p:cNvSpPr/>
          <p:nvPr/>
        </p:nvSpPr>
        <p:spPr>
          <a:xfrm>
            <a:off x="2268360" y="6165720"/>
            <a:ext cx="66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P1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：①、②、③、④、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⑤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（严重弊端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AutoShape 11"/>
          <p:cNvSpPr/>
          <p:nvPr/>
        </p:nvSpPr>
        <p:spPr>
          <a:xfrm>
            <a:off x="2124000" y="4292640"/>
            <a:ext cx="152640" cy="1368360"/>
          </a:xfrm>
          <a:custGeom>
            <a:avLst/>
            <a:gdLst>
              <a:gd name="textAreaLeft" fmla="*/ 97560 w 152640"/>
              <a:gd name="textAreaRight" fmla="*/ 153000 w 152640"/>
              <a:gd name="textAreaTop" fmla="*/ 35280 h 1368360"/>
              <a:gd name="textAreaBottom" fmla="*/ 133308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8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9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0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2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3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4"/>
          <p:cNvSpPr/>
          <p:nvPr/>
        </p:nvSpPr>
        <p:spPr>
          <a:xfrm>
            <a:off x="0" y="947160"/>
            <a:ext cx="914400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材料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“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社会主义究竟是个什么样子，苏联搞了很多年，也并没有完全搞清楚。可能列宁的思路比较好，搞了个新经济政策，但是后来苏联的模式僵化了。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邓小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怎样理解 </a:t>
            </a:r>
            <a:r>
              <a:rPr b="1" lang="zh-CN" sz="2800" spc="-1" strike="noStrike">
                <a:solidFill>
                  <a:srgbClr val="ffcc00"/>
                </a:solidFill>
                <a:latin typeface="Times New Roman"/>
                <a:ea typeface="黑体"/>
              </a:rPr>
              <a:t>“</a:t>
            </a:r>
            <a:r>
              <a:rPr b="1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列宁的思路</a:t>
            </a:r>
            <a:r>
              <a:rPr b="1" lang="zh-CN" sz="2800" spc="-1" strike="noStrike">
                <a:solidFill>
                  <a:srgbClr val="ffcc00"/>
                </a:solidFill>
                <a:latin typeface="Times New Roman"/>
                <a:ea typeface="黑体"/>
              </a:rPr>
              <a:t>”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和</a:t>
            </a:r>
            <a:r>
              <a:rPr b="1" lang="zh-CN" sz="2800" spc="-1" strike="noStrike">
                <a:solidFill>
                  <a:srgbClr val="ffcc00"/>
                </a:solidFill>
                <a:latin typeface="Times New Roman"/>
                <a:ea typeface="黑体"/>
              </a:rPr>
              <a:t>“</a:t>
            </a:r>
            <a:r>
              <a:rPr b="1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后来苏联的模式</a:t>
            </a:r>
            <a:r>
              <a:rPr b="1" lang="zh-CN" sz="2800" spc="-1" strike="noStrike">
                <a:solidFill>
                  <a:srgbClr val="ffcc00"/>
                </a:solidFill>
                <a:latin typeface="Times New Roman"/>
                <a:ea typeface="黑体"/>
              </a:rPr>
              <a:t>”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？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1" dur="8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2" dur="8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" dur="8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6" dur="8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7" dur="8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8" dur="8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1" dur="8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2" dur="8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" dur="8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8" dur="8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9" dur="8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0" dur="8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斯大林1"/>
          <p:cNvPicPr/>
          <p:nvPr/>
        </p:nvPicPr>
        <p:blipFill>
          <a:blip r:embed="rId1"/>
          <a:stretch/>
        </p:blipFill>
        <p:spPr>
          <a:xfrm>
            <a:off x="0" y="1752480"/>
            <a:ext cx="3532320" cy="510552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4"/>
          <p:cNvSpPr/>
          <p:nvPr/>
        </p:nvSpPr>
        <p:spPr>
          <a:xfrm>
            <a:off x="4211640" y="2975040"/>
            <a:ext cx="468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为什么会形成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黑体"/>
              </a:rPr>
              <a:t>斯大林模式</a:t>
            </a:r>
            <a:r>
              <a:rPr b="0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？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WordArt 5"/>
          <p:cNvSpPr txBox="1"/>
          <p:nvPr/>
        </p:nvSpPr>
        <p:spPr>
          <a:xfrm>
            <a:off x="5003640" y="404640"/>
            <a:ext cx="1752840" cy="135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90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思考</a:t>
            </a:r>
            <a:endParaRPr b="0" lang="en-US" sz="24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73" name="文本框 8196"/>
          <p:cNvSpPr/>
          <p:nvPr/>
        </p:nvSpPr>
        <p:spPr>
          <a:xfrm>
            <a:off x="546120" y="20808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98d43"/>
                </a:solidFill>
                <a:uFillTx/>
                <a:latin typeface="Arial"/>
                <a:ea typeface="宋体"/>
                <a:hlinkClick r:id="rId2"/>
              </a:rPr>
              <a:t>ppt模板下载 免费完整版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WordArt 4"/>
          <p:cNvSpPr txBox="1"/>
          <p:nvPr/>
        </p:nvSpPr>
        <p:spPr>
          <a:xfrm>
            <a:off x="0" y="260280"/>
            <a:ext cx="2971800" cy="75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b2b2b2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探究</a:t>
            </a:r>
            <a:endParaRPr b="0" lang="en-US" sz="2400" spc="1" strike="noStrike">
              <a:ln w="12600">
                <a:solidFill>
                  <a:srgbClr val="b2b2b2"/>
                </a:solidFill>
                <a:round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0" y="126828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i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在探索建设社会主义的过程中，中国应该从苏联</a:t>
            </a:r>
            <a:r>
              <a:rPr b="1" i="1" lang="zh-CN" sz="3200" spc="-1" strike="noStrike">
                <a:solidFill>
                  <a:srgbClr val="ffcc00"/>
                </a:solidFill>
                <a:latin typeface="Times New Roman"/>
                <a:ea typeface="黑体"/>
              </a:rPr>
              <a:t>“</a:t>
            </a:r>
            <a:r>
              <a:rPr b="1" i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斯大林模式</a:t>
            </a:r>
            <a:r>
              <a:rPr b="1" i="1" lang="zh-CN" sz="3200" spc="-1" strike="noStrike">
                <a:solidFill>
                  <a:srgbClr val="ffcc00"/>
                </a:solidFill>
                <a:latin typeface="Times New Roman"/>
                <a:ea typeface="黑体"/>
              </a:rPr>
              <a:t>”</a:t>
            </a:r>
            <a:r>
              <a:rPr b="1" i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的弊端中吸取怎样的教训（启示）呢？</a:t>
            </a: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Text Box 6"/>
          <p:cNvSpPr/>
          <p:nvPr/>
        </p:nvSpPr>
        <p:spPr>
          <a:xfrm>
            <a:off x="0" y="2852640"/>
            <a:ext cx="91440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①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一个国家要发展应以经济建设为中心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②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要遵守客观经济规律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③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从本国国情出发，制定政策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④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要重工业、轻工业和农业协调发展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⑤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要切实保护农民的利益，改革经济管理体制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⑥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提高经济效益，降低资源消耗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WordArt 4"/>
          <p:cNvSpPr txBox="1"/>
          <p:nvPr/>
        </p:nvSpPr>
        <p:spPr>
          <a:xfrm>
            <a:off x="468360" y="260280"/>
            <a:ext cx="19429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总结</a:t>
            </a:r>
            <a:endParaRPr b="0" lang="en-US" sz="2400" spc="-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0" y="1584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0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世纪二三十年代苏联社会主义建设具有怎样的特点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0" y="2565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二三十年代苏联社会主义建设总的特点是道路曲折。先后出现过两次重大转折。第一次发生在列宁时期，即由战时共产主义政策转为新经济政策；第二次发生在斯大林时期，即放弃新经济政策，实行工业化、农业集体化。两次转折的结果和影响是不同的。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6"/>
          <p:cNvSpPr/>
          <p:nvPr/>
        </p:nvSpPr>
        <p:spPr>
          <a:xfrm>
            <a:off x="250920" y="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00"/>
                </a:solidFill>
                <a:latin typeface="Times New Roman"/>
                <a:ea typeface="黑体"/>
              </a:rPr>
              <a:t>复习提问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179280" y="836640"/>
            <a:ext cx="896472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为了打击敌人，保卫革命的胜利果实，在党和列宁的领导下，苏维埃俄国在经济上采取了怎样的措施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实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战时共产主义政策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黑体"/>
                <a:ea typeface="黑体"/>
              </a:rPr>
              <a:t> ①</a:t>
            </a:r>
            <a:r>
              <a:rPr b="1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主要措施是实行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余粮收集制</a:t>
            </a:r>
            <a:r>
              <a:rPr b="1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，征集农民手中的粮食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其他农产品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 ②</a:t>
            </a:r>
            <a:r>
              <a:rPr b="1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对中小型企业实行国有化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 ③</a:t>
            </a:r>
            <a:r>
              <a:rPr b="1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取消自由贸易，由国家集中分配一切生活必须品和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品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468360" y="5229360"/>
            <a:ext cx="8496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苏俄面临的最紧迫的任务是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4859280" y="522936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cc3300"/>
                </a:solidFill>
                <a:latin typeface="Times New Roman"/>
                <a:ea typeface="黑体"/>
              </a:rPr>
              <a:t>恢复和发展国民经济。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A5251-7579-49DF-9A20-ED7C649D0AC5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4" name=""/>
          <p:cNvGraphicFramePr/>
          <p:nvPr/>
        </p:nvGraphicFramePr>
        <p:xfrm>
          <a:off x="684360" y="1054080"/>
          <a:ext cx="7772400" cy="5630760"/>
        </p:xfrm>
        <a:graphic>
          <a:graphicData uri="http://schemas.openxmlformats.org/drawingml/2006/table">
            <a:tbl>
              <a:tblPr/>
              <a:tblGrid>
                <a:gridCol w="2592360"/>
                <a:gridCol w="5180040"/>
              </a:tblGrid>
              <a:tr h="804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1917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年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3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月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3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1917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年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11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月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4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1918-1920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4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1921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4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1922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年底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3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1928-1937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4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1936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5" name="Text Box 62"/>
          <p:cNvSpPr/>
          <p:nvPr/>
        </p:nvSpPr>
        <p:spPr>
          <a:xfrm>
            <a:off x="3780000" y="116856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二月革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Text Box 63"/>
          <p:cNvSpPr/>
          <p:nvPr/>
        </p:nvSpPr>
        <p:spPr>
          <a:xfrm>
            <a:off x="3780000" y="203184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十月革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Text Box 64"/>
          <p:cNvSpPr/>
          <p:nvPr/>
        </p:nvSpPr>
        <p:spPr>
          <a:xfrm>
            <a:off x="3851280" y="282420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国内战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Text Box 65"/>
          <p:cNvSpPr/>
          <p:nvPr/>
        </p:nvSpPr>
        <p:spPr>
          <a:xfrm>
            <a:off x="3780000" y="361620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实施新经济政策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Text Box 66"/>
          <p:cNvSpPr/>
          <p:nvPr/>
        </p:nvSpPr>
        <p:spPr>
          <a:xfrm>
            <a:off x="3780000" y="440856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苏联成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Text Box 67"/>
          <p:cNvSpPr/>
          <p:nvPr/>
        </p:nvSpPr>
        <p:spPr>
          <a:xfrm>
            <a:off x="3780000" y="5272200"/>
            <a:ext cx="35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完成两个五年计划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Text Box 68"/>
          <p:cNvSpPr/>
          <p:nvPr/>
        </p:nvSpPr>
        <p:spPr>
          <a:xfrm>
            <a:off x="3780000" y="599292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通过新宪法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Text Box 69"/>
          <p:cNvSpPr/>
          <p:nvPr/>
        </p:nvSpPr>
        <p:spPr>
          <a:xfrm>
            <a:off x="611280" y="26028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列出</a:t>
            </a:r>
            <a:r>
              <a:rPr b="1" lang="en-US" sz="2800" spc="-1" strike="noStrike">
                <a:solidFill>
                  <a:srgbClr val="ffcc00"/>
                </a:solidFill>
                <a:latin typeface="黑体"/>
                <a:ea typeface="黑体"/>
              </a:rPr>
              <a:t>1917</a:t>
            </a:r>
            <a:r>
              <a:rPr b="1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ffcc00"/>
                </a:solidFill>
                <a:latin typeface="黑体"/>
                <a:ea typeface="黑体"/>
              </a:rPr>
              <a:t>1936</a:t>
            </a:r>
            <a:r>
              <a:rPr b="1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年苏俄</a:t>
            </a:r>
            <a:r>
              <a:rPr b="1" lang="en-US" sz="2800" spc="-1" strike="noStrike">
                <a:solidFill>
                  <a:srgbClr val="ffcc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苏联</a:t>
            </a:r>
            <a:r>
              <a:rPr b="1" lang="en-US" sz="2800" spc="-1" strike="noStrike">
                <a:solidFill>
                  <a:srgbClr val="ffcc00"/>
                </a:solidFill>
                <a:latin typeface="黑体"/>
                <a:ea typeface="黑体"/>
              </a:rPr>
              <a:t>)</a:t>
            </a:r>
            <a:r>
              <a:rPr b="1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历史大事年表？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000" y="5668560"/>
            <a:ext cx="8496360" cy="118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说明战时共产主义政策已经不适应和平时期，不能继续实行了。</a:t>
            </a:r>
            <a:r>
              <a:rPr b="0" lang="zh-CN" sz="4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395280" y="2926080"/>
            <a:ext cx="8424720" cy="143460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们计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用无产阶级国家直接下命令的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办法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一个小农国家里按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共产主义原则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来调整国家的产品生产和分配。现实生活说明我们错了。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        ──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列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179280" y="17784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  <a:ea typeface="黑体"/>
              </a:rPr>
              <a:t>一、列宁对社会主义建设道路的探索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0" y="836640"/>
            <a:ext cx="17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、背景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1547640" y="765000"/>
            <a:ext cx="7164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①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国内战争结束，进入和平时期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②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苏维埃政权的首要任务是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黑体"/>
              </a:rPr>
              <a:t>恢复经济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③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农民对“战时共产主义”政策强烈不满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7956720" y="3284640"/>
            <a:ext cx="718920" cy="360"/>
            <a:chOff x="7956720" y="3284640"/>
            <a:chExt cx="718920" cy="360"/>
          </a:xfrm>
        </p:grpSpPr>
        <p:sp>
          <p:nvSpPr>
            <p:cNvPr id="196" name="Line 8"/>
            <p:cNvSpPr/>
            <p:nvPr/>
          </p:nvSpPr>
          <p:spPr>
            <a:xfrm>
              <a:off x="7956720" y="3284640"/>
              <a:ext cx="718920" cy="0"/>
            </a:xfrm>
            <a:prstGeom prst="line">
              <a:avLst/>
            </a:prstGeom>
            <a:ln w="9360">
              <a:solidFill>
                <a:srgbClr val="00004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 txBox="1"/>
            <p:nvPr/>
          </p:nvSpPr>
          <p:spPr>
            <a:xfrm>
              <a:off x="7956720" y="3284640"/>
              <a:ext cx="718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8" name="Text Box 10"/>
          <p:cNvSpPr/>
          <p:nvPr/>
        </p:nvSpPr>
        <p:spPr>
          <a:xfrm>
            <a:off x="900000" y="4581360"/>
            <a:ext cx="70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共产主义＝ 苏维埃政权 ＋ 全国电气化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2411280" y="5157720"/>
            <a:ext cx="55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c00"/>
                </a:solidFill>
                <a:latin typeface="黑体"/>
                <a:ea typeface="黑体"/>
              </a:rPr>
              <a:t>先进的国家组织形式   发达的社会生产力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3780000" y="3716280"/>
            <a:ext cx="1368360" cy="360"/>
            <a:chOff x="3780000" y="3716280"/>
            <a:chExt cx="1368360" cy="360"/>
          </a:xfrm>
        </p:grpSpPr>
        <p:sp>
          <p:nvSpPr>
            <p:cNvPr id="201" name="Line 12"/>
            <p:cNvSpPr/>
            <p:nvPr/>
          </p:nvSpPr>
          <p:spPr>
            <a:xfrm>
              <a:off x="3780000" y="3716280"/>
              <a:ext cx="1368360" cy="0"/>
            </a:xfrm>
            <a:prstGeom prst="line">
              <a:avLst/>
            </a:prstGeom>
            <a:ln w="9360">
              <a:solidFill>
                <a:srgbClr val="00004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 txBox="1"/>
            <p:nvPr/>
          </p:nvSpPr>
          <p:spPr>
            <a:xfrm>
              <a:off x="3780000" y="3716280"/>
              <a:ext cx="1368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03" name="Picture 13" descr="列宁1"/>
          <p:cNvPicPr/>
          <p:nvPr/>
        </p:nvPicPr>
        <p:blipFill>
          <a:blip r:embed="rId1"/>
          <a:stretch/>
        </p:blipFill>
        <p:spPr>
          <a:xfrm>
            <a:off x="7562880" y="0"/>
            <a:ext cx="158112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20145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、措施：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1835280" y="189000"/>
            <a:ext cx="68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黑体"/>
                <a:ea typeface="黑体"/>
              </a:rPr>
              <a:t>1921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年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开始实施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新经济政策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0" y="765000"/>
            <a:ext cx="19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、内容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2124000" y="969840"/>
            <a:ext cx="70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1692360" y="836640"/>
            <a:ext cx="74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允许多种经济并存，大力发展商品经济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，促进国民经济的恢复和发展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"/>
          <p:cNvGraphicFramePr/>
          <p:nvPr/>
        </p:nvGraphicFramePr>
        <p:xfrm>
          <a:off x="0" y="44280"/>
          <a:ext cx="9144000" cy="2376360"/>
        </p:xfrm>
        <a:graphic>
          <a:graphicData uri="http://schemas.openxmlformats.org/drawingml/2006/table">
            <a:tbl>
              <a:tblPr/>
              <a:tblGrid>
                <a:gridCol w="1187280"/>
                <a:gridCol w="3168720"/>
                <a:gridCol w="4788000"/>
              </a:tblGrid>
              <a:tr h="792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cc00"/>
                          </a:solidFill>
                          <a:latin typeface="Arial"/>
                          <a:ea typeface="黑体"/>
                        </a:rPr>
                        <a:t>战时共产主义政策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cc00"/>
                          </a:solidFill>
                          <a:latin typeface="Arial"/>
                          <a:ea typeface="黑体"/>
                        </a:rPr>
                        <a:t>新经济政策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8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cc00"/>
                          </a:solidFill>
                          <a:latin typeface="Arial"/>
                          <a:ea typeface="黑体"/>
                        </a:rPr>
                        <a:t>农业方面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仿宋_GB2312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0" y="2492280"/>
          <a:ext cx="9144000" cy="2160720"/>
        </p:xfrm>
        <a:graphic>
          <a:graphicData uri="http://schemas.openxmlformats.org/drawingml/2006/table">
            <a:tbl>
              <a:tblPr/>
              <a:tblGrid>
                <a:gridCol w="1187280"/>
                <a:gridCol w="3168720"/>
                <a:gridCol w="4788000"/>
              </a:tblGrid>
              <a:tr h="21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cc00"/>
                          </a:solidFill>
                          <a:latin typeface="Arial"/>
                          <a:ea typeface="黑体"/>
                        </a:rPr>
                        <a:t>工业方面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仿宋_GB2312"/>
                        </a:rPr>
                        <a:t>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仿宋_GB2312"/>
                        </a:rPr>
                        <a:t>  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0" y="4724280"/>
          <a:ext cx="9144000" cy="2085840"/>
        </p:xfrm>
        <a:graphic>
          <a:graphicData uri="http://schemas.openxmlformats.org/drawingml/2006/table">
            <a:tbl>
              <a:tblPr/>
              <a:tblGrid>
                <a:gridCol w="1187280"/>
                <a:gridCol w="3168720"/>
                <a:gridCol w="4788000"/>
              </a:tblGrid>
              <a:tr h="2085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cc00"/>
                          </a:solidFill>
                          <a:latin typeface="Arial"/>
                          <a:ea typeface="黑体"/>
                        </a:rPr>
                        <a:t>商业方面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仿宋_GB2312"/>
                        </a:rPr>
                        <a:t>  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仿宋_GB2312"/>
                        </a:rPr>
                        <a:t>  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Text Box 102"/>
          <p:cNvSpPr/>
          <p:nvPr/>
        </p:nvSpPr>
        <p:spPr>
          <a:xfrm>
            <a:off x="1332000" y="126828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实行余粮收集制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Text Box 103"/>
          <p:cNvSpPr/>
          <p:nvPr/>
        </p:nvSpPr>
        <p:spPr>
          <a:xfrm>
            <a:off x="4643280" y="981000"/>
            <a:ext cx="450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用粮食税代替余粮收集制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，农民交粮食税后，余粮归自己支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104"/>
          <p:cNvSpPr/>
          <p:nvPr/>
        </p:nvSpPr>
        <p:spPr>
          <a:xfrm>
            <a:off x="1332000" y="314172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中小型企业国有化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Text Box 105"/>
          <p:cNvSpPr/>
          <p:nvPr/>
        </p:nvSpPr>
        <p:spPr>
          <a:xfrm>
            <a:off x="4500720" y="2637000"/>
            <a:ext cx="46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除大型企业仍为国家管理外，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一些中小企业，允许私人和外国资本家经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Text Box 106"/>
          <p:cNvSpPr/>
          <p:nvPr/>
        </p:nvSpPr>
        <p:spPr>
          <a:xfrm>
            <a:off x="1187280" y="4878360"/>
            <a:ext cx="302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取消自由贸易，由国家集中分配一切生活必须品和食品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Text Box 107"/>
          <p:cNvSpPr/>
          <p:nvPr/>
        </p:nvSpPr>
        <p:spPr>
          <a:xfrm>
            <a:off x="4427640" y="4869000"/>
            <a:ext cx="44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废除生活必需品的配给制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,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恢复自由贸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8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7"/>
          <p:cNvSpPr/>
          <p:nvPr/>
        </p:nvSpPr>
        <p:spPr>
          <a:xfrm>
            <a:off x="0" y="0"/>
            <a:ext cx="3132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、特点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、作用（意义）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 Box 8"/>
          <p:cNvSpPr/>
          <p:nvPr/>
        </p:nvSpPr>
        <p:spPr>
          <a:xfrm>
            <a:off x="250920" y="2637000"/>
            <a:ext cx="8893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①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促进了国民经济的恢复和发展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，为后来大规模的工业化建设奠定了物质基础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②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指明了建设社会主义的方向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1547640" y="0"/>
            <a:ext cx="75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在认识俄国国情的基础上，利用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市场和商品货币关系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来恢复和发展经济，改善和巩固工农联盟，由此逐步过渡到社会主义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苏联的各个加盟共和国"/>
          <p:cNvPicPr/>
          <p:nvPr/>
        </p:nvPicPr>
        <p:blipFill>
          <a:blip r:embed="rId1"/>
          <a:stretch/>
        </p:blipFill>
        <p:spPr>
          <a:xfrm>
            <a:off x="0" y="2924280"/>
            <a:ext cx="6300720" cy="393372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4"/>
          <p:cNvSpPr/>
          <p:nvPr/>
        </p:nvSpPr>
        <p:spPr>
          <a:xfrm>
            <a:off x="3276720" y="2129040"/>
            <a:ext cx="49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俄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罗斯联邦、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外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高加索联邦、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乌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克兰和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白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俄罗斯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0" y="0"/>
            <a:ext cx="40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  <a:ea typeface="黑体"/>
              </a:rPr>
              <a:t>二、苏联的成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0" y="620640"/>
            <a:ext cx="3708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、时间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、全称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ffcc00"/>
                </a:solidFill>
                <a:latin typeface="黑体"/>
                <a:ea typeface="黑体"/>
              </a:rPr>
              <a:t>、最初加入的国家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1908000" y="620640"/>
            <a:ext cx="460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黑体"/>
                <a:ea typeface="黑体"/>
              </a:rPr>
              <a:t>1922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年底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苏维埃社会主义共和国联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Text Box 8"/>
          <p:cNvSpPr/>
          <p:nvPr/>
        </p:nvSpPr>
        <p:spPr>
          <a:xfrm>
            <a:off x="6443640" y="2421000"/>
            <a:ext cx="27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后扩展到</a:t>
            </a: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15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个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7" name="Picture 9" descr="苏联国徽"/>
          <p:cNvPicPr/>
          <p:nvPr/>
        </p:nvPicPr>
        <p:blipFill>
          <a:blip r:embed="rId2"/>
          <a:stretch/>
        </p:blipFill>
        <p:spPr>
          <a:xfrm>
            <a:off x="6588000" y="3284640"/>
            <a:ext cx="2556000" cy="244944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10"/>
          <p:cNvSpPr/>
          <p:nvPr/>
        </p:nvSpPr>
        <p:spPr>
          <a:xfrm>
            <a:off x="6659640" y="5877000"/>
            <a:ext cx="24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  <a:ea typeface="黑体"/>
              </a:rPr>
              <a:t>苏联的标志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苏联的成立与发展"/>
          <p:cNvPicPr/>
          <p:nvPr/>
        </p:nvPicPr>
        <p:blipFill>
          <a:blip r:embed="rId1"/>
          <a:stretch/>
        </p:blipFill>
        <p:spPr>
          <a:xfrm>
            <a:off x="0" y="189000"/>
            <a:ext cx="7093080" cy="511164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4"/>
          <p:cNvSpPr/>
          <p:nvPr/>
        </p:nvSpPr>
        <p:spPr>
          <a:xfrm>
            <a:off x="611280" y="530064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苏联各加盟共和国示意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1" name="Picture 5" descr="苏联国旗"/>
          <p:cNvPicPr/>
          <p:nvPr/>
        </p:nvPicPr>
        <p:blipFill>
          <a:blip r:embed="rId2"/>
          <a:stretch/>
        </p:blipFill>
        <p:spPr>
          <a:xfrm>
            <a:off x="7236000" y="0"/>
            <a:ext cx="1908000" cy="13683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6" descr="苏联国徽"/>
          <p:cNvPicPr/>
          <p:nvPr/>
        </p:nvPicPr>
        <p:blipFill>
          <a:blip r:embed="rId3"/>
          <a:stretch/>
        </p:blipFill>
        <p:spPr>
          <a:xfrm>
            <a:off x="7027920" y="1484280"/>
            <a:ext cx="2116080" cy="22338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7" descr="苏联宣传画4"/>
          <p:cNvPicPr/>
          <p:nvPr/>
        </p:nvPicPr>
        <p:blipFill>
          <a:blip r:embed="rId4"/>
          <a:stretch/>
        </p:blipFill>
        <p:spPr>
          <a:xfrm>
            <a:off x="6781680" y="4005360"/>
            <a:ext cx="2362320" cy="234936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8"/>
          <p:cNvSpPr/>
          <p:nvPr/>
        </p:nvSpPr>
        <p:spPr>
          <a:xfrm>
            <a:off x="4606920" y="6461280"/>
            <a:ext cx="45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苏联国歌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黑体"/>
              </a:rPr>
              <a:t>——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 《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牢不可破的联盟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11280" y="-1800"/>
            <a:ext cx="7772400" cy="210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cc00"/>
                </a:solidFill>
                <a:latin typeface="Arial Black"/>
                <a:ea typeface="黑体"/>
              </a:rPr>
              <a:t>请注意区别：</a:t>
            </a:r>
            <a:br>
              <a:rPr sz="4400"/>
            </a:br>
            <a:br>
              <a:rPr sz="4400"/>
            </a:br>
            <a:r>
              <a:rPr b="1" i="1" lang="zh-CN" sz="4400" spc="-1" strike="noStrike">
                <a:solidFill>
                  <a:srgbClr val="ffcc00"/>
                </a:solidFill>
                <a:latin typeface="Arial Black"/>
                <a:ea typeface="黑体"/>
              </a:rPr>
              <a:t>三个不同时期的俄国名称</a:t>
            </a:r>
            <a:r>
              <a:rPr b="1" i="1" lang="en-US" sz="4400" spc="-1" strike="noStrike">
                <a:solidFill>
                  <a:srgbClr val="ffcc00"/>
                </a:solidFill>
                <a:latin typeface="Arial Black"/>
                <a:ea typeface="黑体"/>
              </a:rPr>
              <a:t>: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186920" y="2421000"/>
            <a:ext cx="720108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沙俄（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1547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年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—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1917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年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苏俄（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1917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年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—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1922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年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苏联（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1922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年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—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1991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年）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5T06:21:2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8:48Z</dcterms:modified>
  <cp:revision>13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