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1F7-3D80-4F6F-BDE6-80481E4A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976-6DE8-45AA-BE3F-6A1EA71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FCF-18E7-4379-BD89-EE074D71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453-83D2-4E77-9BF8-390DA23D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C0D-A9A7-496F-B4E8-2697E04F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2A76-055A-4771-994A-AEE0CC38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250-178E-4060-A568-8D1F414F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3F3A-7B12-47E7-A5FB-5FC60448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76C0-9BC3-4278-80E6-1570B365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4525-95E5-469F-AD1F-8AB5399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34A5-CBED-41EB-B593-9F0F159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9DC-60AC-45F2-AD2F-D9ED6DAE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87BF-2F5A-4F82-BB59-AEE8FA09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ADA5-7069-49DD-A5F8-4AFB1EF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EF8B-FD9F-43EC-8323-956D891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B63-1680-4E3C-856A-B18C16E0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1DD-C77C-4AE0-A2D5-E6E70B72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29D-F217-4957-8272-C924DA1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494-B044-451E-8147-CDA91F2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6E6-0E4B-4D26-BCDF-72A9C116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369-C15C-4A20-94F1-E85E8E26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996-56E2-4E29-A2B4-E098119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A21-1402-46E3-837C-12F8DA4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AC9-DBC3-461D-A6F0-A0EC5DC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C0F-3411-49D1-90CB-A3F5B9327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50C1-B468-498C-9197-B565964A9C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2011619171153774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1"/>
          <p:cNvSpPr/>
          <p:nvPr/>
        </p:nvSpPr>
        <p:spPr>
          <a:xfrm>
            <a:off x="1112760" y="620640"/>
            <a:ext cx="691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科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义务教育课程标准实验教科书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年级下册第一单元第五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81120" y="177336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导体与绝缘体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2023920" y="3141720"/>
            <a:ext cx="5113440" cy="27939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2" descr="20116191711537745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当心触电的标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当心触电"/>
          <p:cNvPicPr/>
          <p:nvPr/>
        </p:nvPicPr>
        <p:blipFill>
          <a:blip r:embed="rId2"/>
          <a:stretch/>
        </p:blipFill>
        <p:spPr>
          <a:xfrm>
            <a:off x="642960" y="1500120"/>
            <a:ext cx="2808360" cy="446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当心触电3"/>
          <p:cNvPicPr/>
          <p:nvPr/>
        </p:nvPicPr>
        <p:blipFill>
          <a:blip r:embed="rId3"/>
          <a:stretch/>
        </p:blipFill>
        <p:spPr>
          <a:xfrm>
            <a:off x="3357720" y="1571760"/>
            <a:ext cx="3024000" cy="4500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当心触电2"/>
          <p:cNvPicPr/>
          <p:nvPr/>
        </p:nvPicPr>
        <p:blipFill>
          <a:blip r:embed="rId4"/>
          <a:stretch/>
        </p:blipFill>
        <p:spPr>
          <a:xfrm>
            <a:off x="6072120" y="1571760"/>
            <a:ext cx="2603520" cy="44496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8199"/>
          <p:cNvSpPr/>
          <p:nvPr/>
        </p:nvSpPr>
        <p:spPr>
          <a:xfrm>
            <a:off x="2303640" y="4608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2" descr="20116191711537745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堂测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285840" y="100008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谁会判断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电路检测器检测橡皮是否导电时，要先把电路检测器的两个检测头接触一下，观察灯泡是否发光。（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塑料是导体。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利用绝缘体阻止电流到人们不需要的地方，因此我们要好好的保护这些绝缘体。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线外面用塑料包裹，是因为塑料是绝缘体。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要用湿布擦拭电器、插座和开关，也不能用湿手触摸它们。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20116191711537745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785880" y="3143160"/>
            <a:ext cx="8064360" cy="35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导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绝缘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绝缘体的作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导体的作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安全用电知识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3"/>
          <p:cNvSpPr txBox="1"/>
          <p:nvPr/>
        </p:nvSpPr>
        <p:spPr>
          <a:xfrm>
            <a:off x="755640" y="260280"/>
            <a:ext cx="792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今天大家有什么收获呢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2"/>
          <a:stretch/>
        </p:blipFill>
        <p:spPr>
          <a:xfrm>
            <a:off x="5097600" y="2278080"/>
            <a:ext cx="4046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3187-18B3-4FC5-AE34-231051DCE2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2" descr="20116191711537745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7093080" y="1197000"/>
            <a:ext cx="122400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1835280" y="1484280"/>
            <a:ext cx="532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20116191711537745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4"/>
          <p:cNvGrpSpPr/>
          <p:nvPr/>
        </p:nvGrpSpPr>
        <p:grpSpPr>
          <a:xfrm>
            <a:off x="0" y="260280"/>
            <a:ext cx="1908000" cy="1576440"/>
            <a:chOff x="0" y="260280"/>
            <a:chExt cx="1908000" cy="1576440"/>
          </a:xfrm>
        </p:grpSpPr>
        <p:pic>
          <p:nvPicPr>
            <p:cNvPr id="89" name="Picture 9" descr="90940"/>
            <p:cNvPicPr/>
            <p:nvPr/>
          </p:nvPicPr>
          <p:blipFill>
            <a:blip r:embed="rId2"/>
            <a:stretch/>
          </p:blipFill>
          <p:spPr>
            <a:xfrm>
              <a:off x="0" y="260280"/>
              <a:ext cx="19080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>
              <a:off x="324000" y="1413000"/>
              <a:ext cx="1028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橡皮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95"/>
          <p:cNvGrpSpPr/>
          <p:nvPr/>
        </p:nvGrpSpPr>
        <p:grpSpPr>
          <a:xfrm>
            <a:off x="1908000" y="0"/>
            <a:ext cx="2124360" cy="1935000"/>
            <a:chOff x="1908000" y="0"/>
            <a:chExt cx="2124360" cy="1935000"/>
          </a:xfrm>
        </p:grpSpPr>
        <p:pic>
          <p:nvPicPr>
            <p:cNvPr id="92" name="Picture 12" descr="IMG_0194"/>
            <p:cNvPicPr/>
            <p:nvPr/>
          </p:nvPicPr>
          <p:blipFill>
            <a:blip r:embed="rId3"/>
            <a:stretch/>
          </p:blipFill>
          <p:spPr>
            <a:xfrm>
              <a:off x="1908000" y="0"/>
              <a:ext cx="212436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3"/>
            <p:cNvSpPr/>
            <p:nvPr/>
          </p:nvSpPr>
          <p:spPr>
            <a:xfrm>
              <a:off x="2627280" y="1413000"/>
              <a:ext cx="8524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铁片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91"/>
          <p:cNvGrpSpPr/>
          <p:nvPr/>
        </p:nvGrpSpPr>
        <p:grpSpPr>
          <a:xfrm>
            <a:off x="3995640" y="0"/>
            <a:ext cx="1944720" cy="1916280"/>
            <a:chOff x="3995640" y="0"/>
            <a:chExt cx="1944720" cy="1916280"/>
          </a:xfrm>
        </p:grpSpPr>
        <p:pic>
          <p:nvPicPr>
            <p:cNvPr id="95" name="Picture 15" descr="IMG_0195"/>
            <p:cNvPicPr/>
            <p:nvPr/>
          </p:nvPicPr>
          <p:blipFill>
            <a:blip r:embed="rId4"/>
            <a:stretch/>
          </p:blipFill>
          <p:spPr>
            <a:xfrm>
              <a:off x="3995640" y="0"/>
              <a:ext cx="194472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6"/>
            <p:cNvSpPr/>
            <p:nvPr/>
          </p:nvSpPr>
          <p:spPr>
            <a:xfrm>
              <a:off x="4500720" y="1484280"/>
              <a:ext cx="728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塑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2"/>
          <p:cNvGrpSpPr/>
          <p:nvPr/>
        </p:nvGrpSpPr>
        <p:grpSpPr>
          <a:xfrm>
            <a:off x="5867280" y="0"/>
            <a:ext cx="1873440" cy="1916280"/>
            <a:chOff x="5867280" y="0"/>
            <a:chExt cx="1873440" cy="1916280"/>
          </a:xfrm>
        </p:grpSpPr>
        <p:pic>
          <p:nvPicPr>
            <p:cNvPr id="98" name="Picture 21" descr="IMG_0199"/>
            <p:cNvPicPr/>
            <p:nvPr/>
          </p:nvPicPr>
          <p:blipFill>
            <a:blip r:embed="rId5"/>
            <a:stretch/>
          </p:blipFill>
          <p:spPr>
            <a:xfrm>
              <a:off x="5867280" y="0"/>
              <a:ext cx="187344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2"/>
            <p:cNvSpPr/>
            <p:nvPr/>
          </p:nvSpPr>
          <p:spPr>
            <a:xfrm>
              <a:off x="6227640" y="1413000"/>
              <a:ext cx="936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陶瓷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3"/>
          <p:cNvGrpSpPr/>
          <p:nvPr/>
        </p:nvGrpSpPr>
        <p:grpSpPr>
          <a:xfrm>
            <a:off x="7740720" y="0"/>
            <a:ext cx="1800000" cy="1941480"/>
            <a:chOff x="7740720" y="0"/>
            <a:chExt cx="1800000" cy="1941480"/>
          </a:xfrm>
        </p:grpSpPr>
        <p:pic>
          <p:nvPicPr>
            <p:cNvPr id="101" name="Picture 24" descr="IMG_0200"/>
            <p:cNvPicPr/>
            <p:nvPr/>
          </p:nvPicPr>
          <p:blipFill>
            <a:blip r:embed="rId6"/>
            <a:stretch/>
          </p:blipFill>
          <p:spPr>
            <a:xfrm>
              <a:off x="7740720" y="0"/>
              <a:ext cx="180000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5"/>
            <p:cNvSpPr/>
            <p:nvPr/>
          </p:nvSpPr>
          <p:spPr>
            <a:xfrm>
              <a:off x="8317080" y="1317600"/>
              <a:ext cx="826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橡胶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9"/>
          <p:cNvGrpSpPr/>
          <p:nvPr/>
        </p:nvGrpSpPr>
        <p:grpSpPr>
          <a:xfrm>
            <a:off x="-36360" y="1944720"/>
            <a:ext cx="1979640" cy="1628640"/>
            <a:chOff x="-36360" y="1944720"/>
            <a:chExt cx="1979640" cy="1628640"/>
          </a:xfrm>
        </p:grpSpPr>
        <p:pic>
          <p:nvPicPr>
            <p:cNvPr id="104" name="Picture 27" descr="IMG_0193"/>
            <p:cNvPicPr/>
            <p:nvPr/>
          </p:nvPicPr>
          <p:blipFill>
            <a:blip r:embed="rId7"/>
            <a:stretch/>
          </p:blipFill>
          <p:spPr>
            <a:xfrm>
              <a:off x="-36360" y="1944720"/>
              <a:ext cx="197964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8"/>
            <p:cNvSpPr/>
            <p:nvPr/>
          </p:nvSpPr>
          <p:spPr>
            <a:xfrm>
              <a:off x="760320" y="3101760"/>
              <a:ext cx="689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粉笔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2"/>
          <p:cNvGrpSpPr/>
          <p:nvPr/>
        </p:nvGrpSpPr>
        <p:grpSpPr>
          <a:xfrm>
            <a:off x="1908000" y="1917720"/>
            <a:ext cx="2089440" cy="1655640"/>
            <a:chOff x="1908000" y="1917720"/>
            <a:chExt cx="2089440" cy="1655640"/>
          </a:xfrm>
        </p:grpSpPr>
        <p:pic>
          <p:nvPicPr>
            <p:cNvPr id="107" name="Picture 30" descr="IMG_0201"/>
            <p:cNvPicPr/>
            <p:nvPr/>
          </p:nvPicPr>
          <p:blipFill>
            <a:blip r:embed="rId8"/>
            <a:stretch/>
          </p:blipFill>
          <p:spPr>
            <a:xfrm>
              <a:off x="1908000" y="1917720"/>
              <a:ext cx="20894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31"/>
            <p:cNvSpPr/>
            <p:nvPr/>
          </p:nvSpPr>
          <p:spPr>
            <a:xfrm>
              <a:off x="2688840" y="3057480"/>
              <a:ext cx="824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木棒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5"/>
          <p:cNvGrpSpPr/>
          <p:nvPr/>
        </p:nvGrpSpPr>
        <p:grpSpPr>
          <a:xfrm>
            <a:off x="3995640" y="1916280"/>
            <a:ext cx="1873440" cy="1739880"/>
            <a:chOff x="3995640" y="1916280"/>
            <a:chExt cx="1873440" cy="1739880"/>
          </a:xfrm>
        </p:grpSpPr>
        <p:pic>
          <p:nvPicPr>
            <p:cNvPr id="110" name="Picture 33" descr="IMG_0207"/>
            <p:cNvPicPr/>
            <p:nvPr/>
          </p:nvPicPr>
          <p:blipFill>
            <a:blip r:embed="rId9"/>
            <a:stretch/>
          </p:blipFill>
          <p:spPr>
            <a:xfrm>
              <a:off x="3995640" y="1916280"/>
              <a:ext cx="187344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34"/>
            <p:cNvSpPr/>
            <p:nvPr/>
          </p:nvSpPr>
          <p:spPr>
            <a:xfrm>
              <a:off x="4749840" y="3287880"/>
              <a:ext cx="6634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硬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90"/>
          <p:cNvGrpSpPr/>
          <p:nvPr/>
        </p:nvGrpSpPr>
        <p:grpSpPr>
          <a:xfrm>
            <a:off x="5867280" y="1933560"/>
            <a:ext cx="1906560" cy="1647720"/>
            <a:chOff x="5867280" y="1933560"/>
            <a:chExt cx="1906560" cy="1647720"/>
          </a:xfrm>
        </p:grpSpPr>
        <p:pic>
          <p:nvPicPr>
            <p:cNvPr id="113" name="Picture 36" descr="IMG_0185"/>
            <p:cNvPicPr/>
            <p:nvPr/>
          </p:nvPicPr>
          <p:blipFill>
            <a:blip r:embed="rId10"/>
            <a:stretch/>
          </p:blipFill>
          <p:spPr>
            <a:xfrm>
              <a:off x="5867280" y="1933560"/>
              <a:ext cx="19065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37"/>
            <p:cNvSpPr/>
            <p:nvPr/>
          </p:nvSpPr>
          <p:spPr>
            <a:xfrm>
              <a:off x="6372360" y="3213000"/>
              <a:ext cx="64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铝片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1"/>
          <p:cNvGrpSpPr/>
          <p:nvPr/>
        </p:nvGrpSpPr>
        <p:grpSpPr>
          <a:xfrm>
            <a:off x="7740720" y="1954080"/>
            <a:ext cx="1800000" cy="1619280"/>
            <a:chOff x="7740720" y="1954080"/>
            <a:chExt cx="1800000" cy="1619280"/>
          </a:xfrm>
        </p:grpSpPr>
        <p:pic>
          <p:nvPicPr>
            <p:cNvPr id="116" name="Picture 40" descr="5210940_125441032813_2"/>
            <p:cNvPicPr/>
            <p:nvPr/>
          </p:nvPicPr>
          <p:blipFill>
            <a:blip r:embed="rId11"/>
            <a:stretch/>
          </p:blipFill>
          <p:spPr>
            <a:xfrm>
              <a:off x="7740720" y="1954080"/>
              <a:ext cx="180000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41"/>
            <p:cNvSpPr/>
            <p:nvPr/>
          </p:nvSpPr>
          <p:spPr>
            <a:xfrm>
              <a:off x="8155440" y="3033360"/>
              <a:ext cx="979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回形针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5"/>
          <p:cNvGrpSpPr/>
          <p:nvPr/>
        </p:nvGrpSpPr>
        <p:grpSpPr>
          <a:xfrm>
            <a:off x="0" y="3573360"/>
            <a:ext cx="1979640" cy="1871640"/>
            <a:chOff x="0" y="3573360"/>
            <a:chExt cx="1979640" cy="1871640"/>
          </a:xfrm>
        </p:grpSpPr>
        <p:pic>
          <p:nvPicPr>
            <p:cNvPr id="119" name="Picture 43" descr="IMG_0203"/>
            <p:cNvPicPr/>
            <p:nvPr/>
          </p:nvPicPr>
          <p:blipFill>
            <a:blip r:embed="rId12"/>
            <a:stretch/>
          </p:blipFill>
          <p:spPr>
            <a:xfrm>
              <a:off x="0" y="3573360"/>
              <a:ext cx="1979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4"/>
            <p:cNvSpPr/>
            <p:nvPr/>
          </p:nvSpPr>
          <p:spPr>
            <a:xfrm>
              <a:off x="757080" y="4889520"/>
              <a:ext cx="779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铜丝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2"/>
          <p:cNvGrpSpPr/>
          <p:nvPr/>
        </p:nvGrpSpPr>
        <p:grpSpPr>
          <a:xfrm>
            <a:off x="1979640" y="3573360"/>
            <a:ext cx="2087280" cy="1871280"/>
            <a:chOff x="1979640" y="3573360"/>
            <a:chExt cx="2087280" cy="1871280"/>
          </a:xfrm>
        </p:grpSpPr>
        <p:pic>
          <p:nvPicPr>
            <p:cNvPr id="122" name="Picture 46" descr="IMG_0202"/>
            <p:cNvPicPr/>
            <p:nvPr/>
          </p:nvPicPr>
          <p:blipFill>
            <a:blip r:embed="rId13"/>
            <a:stretch/>
          </p:blipFill>
          <p:spPr>
            <a:xfrm>
              <a:off x="1979640" y="3573360"/>
              <a:ext cx="208728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7"/>
            <p:cNvSpPr/>
            <p:nvPr/>
          </p:nvSpPr>
          <p:spPr>
            <a:xfrm>
              <a:off x="2553120" y="4795200"/>
              <a:ext cx="9111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铁钉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3"/>
          <p:cNvGrpSpPr/>
          <p:nvPr/>
        </p:nvGrpSpPr>
        <p:grpSpPr>
          <a:xfrm>
            <a:off x="4067280" y="3573360"/>
            <a:ext cx="1906560" cy="1871280"/>
            <a:chOff x="4067280" y="3573360"/>
            <a:chExt cx="1906560" cy="1871280"/>
          </a:xfrm>
        </p:grpSpPr>
        <p:pic>
          <p:nvPicPr>
            <p:cNvPr id="125" name="Picture 49" descr="IMG_0197"/>
            <p:cNvPicPr/>
            <p:nvPr/>
          </p:nvPicPr>
          <p:blipFill>
            <a:blip r:embed="rId14"/>
            <a:stretch/>
          </p:blipFill>
          <p:spPr>
            <a:xfrm>
              <a:off x="4067280" y="3573360"/>
              <a:ext cx="190656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50"/>
            <p:cNvSpPr/>
            <p:nvPr/>
          </p:nvSpPr>
          <p:spPr>
            <a:xfrm>
              <a:off x="4567320" y="4976280"/>
              <a:ext cx="684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泡沫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64"/>
          <p:cNvGrpSpPr/>
          <p:nvPr/>
        </p:nvGrpSpPr>
        <p:grpSpPr>
          <a:xfrm>
            <a:off x="5940360" y="3573360"/>
            <a:ext cx="1873440" cy="1871280"/>
            <a:chOff x="5940360" y="3573360"/>
            <a:chExt cx="1873440" cy="1871280"/>
          </a:xfrm>
        </p:grpSpPr>
        <p:pic>
          <p:nvPicPr>
            <p:cNvPr id="128" name="Picture 52" descr="IMG_0192"/>
            <p:cNvPicPr/>
            <p:nvPr/>
          </p:nvPicPr>
          <p:blipFill>
            <a:blip r:embed="rId15"/>
            <a:stretch/>
          </p:blipFill>
          <p:spPr>
            <a:xfrm>
              <a:off x="5940360" y="3573360"/>
              <a:ext cx="18734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3"/>
            <p:cNvSpPr/>
            <p:nvPr/>
          </p:nvSpPr>
          <p:spPr>
            <a:xfrm>
              <a:off x="6495480" y="4917960"/>
              <a:ext cx="8622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玻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5"/>
          <p:cNvGrpSpPr/>
          <p:nvPr/>
        </p:nvGrpSpPr>
        <p:grpSpPr>
          <a:xfrm>
            <a:off x="7812000" y="3573360"/>
            <a:ext cx="1765440" cy="1871280"/>
            <a:chOff x="7812000" y="3573360"/>
            <a:chExt cx="1765440" cy="1871280"/>
          </a:xfrm>
        </p:grpSpPr>
        <p:pic>
          <p:nvPicPr>
            <p:cNvPr id="131" name="Picture 55" descr="IMG_0196"/>
            <p:cNvPicPr/>
            <p:nvPr/>
          </p:nvPicPr>
          <p:blipFill>
            <a:blip r:embed="rId16"/>
            <a:stretch/>
          </p:blipFill>
          <p:spPr>
            <a:xfrm>
              <a:off x="7812000" y="3573360"/>
              <a:ext cx="17654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56"/>
            <p:cNvSpPr/>
            <p:nvPr/>
          </p:nvSpPr>
          <p:spPr>
            <a:xfrm>
              <a:off x="8411040" y="4854600"/>
              <a:ext cx="729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纸片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89"/>
          <p:cNvGrpSpPr/>
          <p:nvPr/>
        </p:nvGrpSpPr>
        <p:grpSpPr>
          <a:xfrm>
            <a:off x="0" y="5300640"/>
            <a:ext cx="1979640" cy="1657440"/>
            <a:chOff x="0" y="5300640"/>
            <a:chExt cx="1979640" cy="1657440"/>
          </a:xfrm>
        </p:grpSpPr>
        <p:pic>
          <p:nvPicPr>
            <p:cNvPr id="134" name="Picture 58" descr="IMG_0208"/>
            <p:cNvPicPr/>
            <p:nvPr/>
          </p:nvPicPr>
          <p:blipFill>
            <a:blip r:embed="rId17"/>
            <a:stretch/>
          </p:blipFill>
          <p:spPr>
            <a:xfrm>
              <a:off x="0" y="5300640"/>
              <a:ext cx="19796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59"/>
            <p:cNvSpPr/>
            <p:nvPr/>
          </p:nvSpPr>
          <p:spPr>
            <a:xfrm>
              <a:off x="0" y="6237360"/>
              <a:ext cx="4413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86"/>
          <p:cNvGrpSpPr/>
          <p:nvPr/>
        </p:nvGrpSpPr>
        <p:grpSpPr>
          <a:xfrm>
            <a:off x="1979640" y="5294160"/>
            <a:ext cx="2052720" cy="1663920"/>
            <a:chOff x="1979640" y="5294160"/>
            <a:chExt cx="2052720" cy="1663920"/>
          </a:xfrm>
        </p:grpSpPr>
        <p:pic>
          <p:nvPicPr>
            <p:cNvPr id="137" name="Picture 76" descr="201305021111"/>
            <p:cNvPicPr/>
            <p:nvPr/>
          </p:nvPicPr>
          <p:blipFill>
            <a:blip r:embed="rId18"/>
            <a:stretch/>
          </p:blipFill>
          <p:spPr>
            <a:xfrm>
              <a:off x="1979640" y="5294160"/>
              <a:ext cx="205272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72"/>
            <p:cNvSpPr/>
            <p:nvPr/>
          </p:nvSpPr>
          <p:spPr>
            <a:xfrm>
              <a:off x="2627280" y="6308640"/>
              <a:ext cx="7653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铅笔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4"/>
          <p:cNvGrpSpPr/>
          <p:nvPr/>
        </p:nvGrpSpPr>
        <p:grpSpPr>
          <a:xfrm>
            <a:off x="3995640" y="5316480"/>
            <a:ext cx="1871640" cy="1641600"/>
            <a:chOff x="3995640" y="5316480"/>
            <a:chExt cx="1871640" cy="1641600"/>
          </a:xfrm>
        </p:grpSpPr>
        <p:pic>
          <p:nvPicPr>
            <p:cNvPr id="140" name="Picture 73" descr="201305021110"/>
            <p:cNvPicPr/>
            <p:nvPr/>
          </p:nvPicPr>
          <p:blipFill>
            <a:blip r:embed="rId19"/>
            <a:stretch/>
          </p:blipFill>
          <p:spPr>
            <a:xfrm>
              <a:off x="3995640" y="5316480"/>
              <a:ext cx="187164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4"/>
            <p:cNvSpPr/>
            <p:nvPr/>
          </p:nvSpPr>
          <p:spPr>
            <a:xfrm>
              <a:off x="4468680" y="6475320"/>
              <a:ext cx="9648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石子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87"/>
          <p:cNvGrpSpPr/>
          <p:nvPr/>
        </p:nvGrpSpPr>
        <p:grpSpPr>
          <a:xfrm>
            <a:off x="5867280" y="5300640"/>
            <a:ext cx="1871640" cy="1690560"/>
            <a:chOff x="5867280" y="5300640"/>
            <a:chExt cx="1871640" cy="1690560"/>
          </a:xfrm>
        </p:grpSpPr>
        <p:pic>
          <p:nvPicPr>
            <p:cNvPr id="143" name="Picture 77" descr="201305021114"/>
            <p:cNvPicPr/>
            <p:nvPr/>
          </p:nvPicPr>
          <p:blipFill>
            <a:blip r:embed="rId20"/>
            <a:stretch/>
          </p:blipFill>
          <p:spPr>
            <a:xfrm>
              <a:off x="5867280" y="5300640"/>
              <a:ext cx="187164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80"/>
            <p:cNvSpPr/>
            <p:nvPr/>
          </p:nvSpPr>
          <p:spPr>
            <a:xfrm>
              <a:off x="6300720" y="6491160"/>
              <a:ext cx="1160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铅丝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8"/>
          <p:cNvGrpSpPr/>
          <p:nvPr/>
        </p:nvGrpSpPr>
        <p:grpSpPr>
          <a:xfrm>
            <a:off x="7740720" y="5300640"/>
            <a:ext cx="1800000" cy="1716120"/>
            <a:chOff x="7740720" y="5300640"/>
            <a:chExt cx="1800000" cy="1716120"/>
          </a:xfrm>
        </p:grpSpPr>
        <p:pic>
          <p:nvPicPr>
            <p:cNvPr id="146" name="Picture 78" descr="201305021115"/>
            <p:cNvPicPr/>
            <p:nvPr/>
          </p:nvPicPr>
          <p:blipFill>
            <a:blip r:embed="rId21"/>
            <a:stretch/>
          </p:blipFill>
          <p:spPr>
            <a:xfrm>
              <a:off x="7740720" y="5300640"/>
              <a:ext cx="1800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82"/>
            <p:cNvSpPr/>
            <p:nvPr/>
          </p:nvSpPr>
          <p:spPr>
            <a:xfrm>
              <a:off x="7812000" y="6440400"/>
              <a:ext cx="1067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"/>
                            </p:stCondLst>
                            <p:childTnLst>
                              <p:par>
                                <p:cTn id="9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"/>
                            </p:stCondLst>
                            <p:childTnLst>
                              <p:par>
                                <p:cTn id="39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"/>
                            </p:stCondLst>
                            <p:childTnLst>
                              <p:par>
                                <p:cTn id="58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"/>
                            </p:stCondLst>
                            <p:childTnLst>
                              <p:par>
                                <p:cTn id="75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"/>
                            </p:stCondLst>
                            <p:childTnLst>
                              <p:par>
                                <p:cTn id="93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"/>
                            </p:stCondLst>
                            <p:childTnLst>
                              <p:par>
                                <p:cTn id="104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"/>
                            </p:stCondLst>
                            <p:childTnLst>
                              <p:par>
                                <p:cTn id="117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"/>
                            </p:stCondLst>
                            <p:childTnLst>
                              <p:par>
                                <p:cTn id="136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"/>
                            </p:stCondLst>
                            <p:childTnLst>
                              <p:par>
                                <p:cTn id="155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"/>
                            </p:stCondLst>
                            <p:childTnLst>
                              <p:par>
                                <p:cTn id="164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"/>
                            </p:stCondLst>
                            <p:childTnLst>
                              <p:par>
                                <p:cTn id="174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"/>
                            </p:stCondLst>
                            <p:childTnLst>
                              <p:par>
                                <p:cTn id="182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"/>
                            </p:stCondLst>
                            <p:childTnLst>
                              <p:par>
                                <p:cTn id="193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20116191711537745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0" y="1357200"/>
          <a:ext cx="9109080" cy="5054760"/>
        </p:xfrm>
        <a:graphic>
          <a:graphicData uri="http://schemas.openxmlformats.org/drawingml/2006/table">
            <a:tbl>
              <a:tblPr/>
              <a:tblGrid>
                <a:gridCol w="1571760"/>
                <a:gridCol w="714240"/>
                <a:gridCol w="846000"/>
                <a:gridCol w="762120"/>
                <a:gridCol w="982800"/>
                <a:gridCol w="757080"/>
                <a:gridCol w="1098720"/>
                <a:gridCol w="939600"/>
                <a:gridCol w="1436760"/>
              </a:tblGrid>
              <a:tr h="7192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表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易导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容易导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√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√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陶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7"/>
          <p:cNvSpPr/>
          <p:nvPr/>
        </p:nvSpPr>
        <p:spPr>
          <a:xfrm>
            <a:off x="0" y="642960"/>
            <a:ext cx="928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们的检测记录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20116191711537745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温馨提示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981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个小组的同学要互相合作，完成实验记录，分析实验记录完成统计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盒子里逐一取出物品，检测完先放在桌子一端，最后由材料员统一整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定要注意做实验过程中的安全，注意铝片、玻璃别划伤了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做实验过程中要保持好声音，不要影响到其他组的实验，对表现好的小组，老师会给予奖励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20116191711537745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9"/>
          <p:cNvSpPr/>
          <p:nvPr/>
        </p:nvSpPr>
        <p:spPr>
          <a:xfrm>
            <a:off x="2714760" y="4287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组分工合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857160" y="1357200"/>
            <a:ext cx="7215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长：负责监督汇报工作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材料员：负责领取材料，整理材料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员：负责具体实验操作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录员：负责好数据的记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0Z1R%G@N~[IYKSR([8S8M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3071880" y="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实验报告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2~RS0I9PO61I9J[ESW]@$UQ"/>
          <p:cNvPicPr/>
          <p:nvPr/>
        </p:nvPicPr>
        <p:blipFill>
          <a:blip r:embed="rId2"/>
          <a:stretch/>
        </p:blipFill>
        <p:spPr>
          <a:xfrm rot="120000">
            <a:off x="-74520" y="280188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8199"/>
          <p:cNvSpPr/>
          <p:nvPr/>
        </p:nvSpPr>
        <p:spPr>
          <a:xfrm>
            <a:off x="1781280" y="3359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20116191711537745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250920" y="242100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教室里的设备哪些是绝缘体做的，哪些是导体做的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2" descr="20116191711537745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214200" y="3786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们利用导体把电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送到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们需要的地方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10717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们利用绝缘体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阻止电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到人们不需要的地方，因此我们要好好保护这些绝缘材料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20116191711537745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200731218565683006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Bss"/>
          <p:cNvPicPr/>
          <p:nvPr/>
        </p:nvPicPr>
        <p:blipFill>
          <a:blip r:embed="rId3"/>
          <a:stretch/>
        </p:blipFill>
        <p:spPr>
          <a:xfrm>
            <a:off x="0" y="-14940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0Z</dcterms:modified>
  <cp:revision>1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