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8D21-5A6F-4B66-986C-34BBC605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1D03-BC2A-43CD-BC7A-172F6033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639BC-4F2C-42AD-8279-619AACFD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9D2AC-F2E2-421E-ADE2-5984E9C8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8C6BD-BFCD-480F-8BDF-A55C2C48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D1C3D-E256-464A-B75F-5208E03D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6BB2D-1071-4F95-94B6-F2B2842E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7BD05-3EFE-4646-92C7-EFD0376F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401D1-8627-4FEB-9AE1-FE3E0A31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00B15-08CA-4F30-9728-F9DB48AE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DD40B-5148-44E1-A8DF-71DF7274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7AA09-4473-48A1-BC7F-CF88594F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E036-F8A9-4CE6-9341-A20BD668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2E56C-18F3-4166-96A4-9576A8BD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FF5E1-8512-473A-B115-85597BF9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8119F-03A4-46CE-B8C1-26EE08E6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DEF14-FB40-445A-B0EE-2BB291BD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C2CC4-A431-42BC-96D3-5ED99E76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6278F-890B-4847-A03C-523C840D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442EC-0442-4C46-BE82-81A912A2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0783F-1226-475E-AD88-F85EC7A4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9A8AC-6FE5-455B-B412-63406FEE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BE7D7-2CBC-41C7-A3F5-EB0BAC96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C1EE-75E3-43B1-B1E9-4F8A9B97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69FCF-9946-428F-A21C-0EDA4BC8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811FA-267C-422F-83B1-B44E2125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CE6BD-599E-492B-ACF6-4EB7F049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D492A-9776-4C36-9A7B-14E03D75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825A3-C8DE-4F26-96DD-6A82217A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46A53-1210-4099-AE41-0C7D015F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E6A3B-316C-44AB-B905-3733CFB6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EF2A8-7D0E-4C4F-9172-9207F615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A179D-2205-4192-A5A4-6550AC60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EEE5A-C7B2-47AB-B530-BE942F18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E788-965A-4F19-9691-ECB5D760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D15CA-8CC7-4E38-81A2-ADEC42C6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E1855-A8AA-4D31-AC8E-952221A2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A77EE-0D09-4F07-9FD0-2C248BB6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780CF-D38F-4740-A49C-68BD53B1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1C267-3968-400E-96AC-D07A86E0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167D2-EF9D-4693-8AA3-75CFA65C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588A6-4951-45F7-89FD-30A18936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6F6A0-13C0-4929-854E-324CE630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C767B-9707-4E93-8AF5-CCB201FD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09FE9-2731-4647-9E03-E57D8917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2A73-8754-46F9-B91E-A4006F41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4BE2E-303F-4287-9223-5B1EC357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00197-18BE-405B-A387-49E24EAD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E9369-9C70-4EDA-AF2A-C05C44A4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671A6-7CA1-4C0B-85D8-F609DF81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90877-FA6D-4F59-B430-9349F651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CC6CE6-7E30-4F2A-ACC4-36CDB50D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816831-0FE4-4EF1-AC73-1450FC43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AD3663-4237-4B28-9B33-8C049949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9D4F53-402D-4875-9C14-F357C0EB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2725ED-9D86-4F60-BB18-82ABE5F5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15E4-7C60-4662-B9EA-7E7052BC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9981C0-CFC3-442D-840D-8A9DAABF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A9CBF0-AA5C-4C08-B66A-FF68B2CD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2A549A-55B2-43A0-B72C-048B2AD1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2DB27C-52A7-4DE4-9127-5356015A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038E04-A08D-4CF1-9606-CD039262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F87775-E3BE-4158-A189-D1CE7A72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E2ABB7-D37E-49EE-86DB-CC34D4F2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9088-33BF-4CB3-BA2C-D61E9AA0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E71E-B073-4EE5-864F-7503F144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CB45-EFF1-4386-BBE0-B4EB6B2C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AE07-38CD-42EE-88FF-64AE1ED5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9DD2-C2F0-41F5-AC95-CE73A29A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35D1-C89A-46C8-8270-97C3DD10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56C0-C1BD-4472-BBA1-00F12AF4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7FD7-B628-464E-AF3B-7FFE5ABF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0501-84A1-4845-8D15-63774A9E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FA03-7F25-4CBB-9E30-0184A9F4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2D10F-3629-4D54-9F32-256A3F05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DF22B-5544-496D-8BF7-8EA1F661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447CE-E31D-45F8-B9D0-5DA6C78B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711E4-B82F-4DA6-B938-98B8FF3A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7F78E-3586-447D-B20B-47F22D01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7EB4-CE22-470C-9F4A-4C51FA0C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F27A6-780B-4760-822A-83874D1E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CFFBD-2B20-426E-AAA9-9E3F35F9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FE71B-3F71-4598-A2A5-AB10DDF0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E3818-6293-4C3C-8335-81431137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46F45-8CC5-4B16-BE05-EDCEF571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DD8EB-572C-4E78-A087-6993F819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3D3A7-B7F3-4307-BB00-CB844783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B7D8E-61E4-426D-935F-7E79B4BB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EFC25-BDA6-4A7C-ABAF-032AAFFF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5F336-99B0-4937-A053-E6B90B9E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35CD-B9EB-46A1-9A64-2349A35F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670AB-1221-41A7-8292-AA010E74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AE768-A1D4-4B8D-A104-A59E4BA6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1F29E-CAE1-4E5A-8F96-B4AA4945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D0F29-1B0B-4D22-B639-CDF857AB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D3D80-6ECD-4F7D-85C0-D65F5688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1EFA0-77CC-4946-9ECF-51B239EC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6B3E8-C485-4247-9D44-00022F3E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16F8F-ED4B-4931-90F3-F8C0E77D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1A657-4D1B-4914-A433-DAEDCA72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4714A-8FCC-47AB-A772-A027F8E0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6F30-54E4-481F-B6D7-724F8B39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57088-08A9-46FB-A6DB-EE110DD3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A87AE-1E94-4160-B050-F9E1CF52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3DD7B-087A-415C-9B20-B75878C2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64619-11A1-4800-AB5D-146EC463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99BB3-9CAC-4BDE-9CF6-7DB2A965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3BA54-1909-4141-BDAC-A933D215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25C36-F88D-481B-B95B-48304FED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BA52C-4586-49B4-9458-3768E676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B1E27-497D-46A6-BE64-8B64A3BA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324D3-DA53-4629-AAD4-B4CA52A4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A9A9-56A4-4A0B-8010-152C316D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6A637-6036-46CC-99E8-FBC97787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AAED4-C488-4C34-9008-52640713D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69799-C8B7-4C55-9E25-E1EBA941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C3FE8-F14F-40FC-AF83-084871CA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595F9-4D1F-4ADC-8483-2F1E4DEB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A88BA-97C3-412B-9153-AFB6C3EE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206E3-EAEA-4174-AF0A-ADD53435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9710E-EC16-470F-B8D8-B19EB5D0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D7308-06DB-4173-9423-6E673CF5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54016-9669-4664-A45F-5677AFC4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FF5D-7913-4372-B54E-19C00C77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B1741-38F2-495C-A23C-0DB77830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24C55-8334-4929-B936-D40192500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401C7-0A61-4428-A5D9-A473BC41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35B72-3393-44A3-9451-FBD216B9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11F5F-CD90-42AC-922A-07BB369A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10CDB-0722-41A5-8FD1-A4961055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FE953-BB22-4F62-9745-734BACB8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095F1-B50A-4AC9-BFA9-1A5EAFFB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66E2B-21AD-47FB-82AF-4E775ED0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1613A-C8AD-41A7-BEF6-3350D9F4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39A1-9FEC-4A70-8D64-CFCA52E4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766B1-29D7-43F2-85B6-3328FF8D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E9B99-9F73-41D0-856B-88F06BBE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101EF-9201-4C29-9491-F4CCFF39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977D4-6A16-41C5-8492-4642186A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66987-DDDC-4B9E-BF34-402A5C0B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E8DC3-7A9F-412E-8162-75810904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C8C56-22A8-48CB-B1C8-9D855C75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03889-B52D-4A24-B5CE-CEC00DFA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01064-C1E0-4D13-BD58-C5DC1DA7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247DA-2E06-486C-82B9-84F6B75F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9C31-8E7E-4BBC-9642-3477FF61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D6036-7A9A-4ACC-8764-CDA116FD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E8113-9BE3-4EAB-9218-ABD038FE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020EB-F5AA-4B1E-BAF1-DD25BF25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749A3-9ECF-4C28-A8FC-EA32374E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1A99D-4967-4845-94CF-8EAFA8FC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2CC9B-1A5B-4AEC-8D9E-F24DFC81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05BCF-A554-4CF6-9878-47BDD6CA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43684-F99B-4801-8539-61215E11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7F6DA-C6AB-40B5-809A-0D304999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BF46B-13DB-4948-8C7E-8173ABB1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CFE8-A119-4459-8CD7-46A2606B14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9906-878D-40B9-A6B1-C0E500DEA6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7886-F8B1-49F5-9F70-42596A9CB4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5D3E-A434-43B6-956E-28A2B80BBF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E600-2F9F-437F-BD86-92580DD631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2FEA-4EF3-4677-98A1-918649D41A3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975E-3BFA-40DE-91C3-68DABA3AAE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7393-E706-475C-B03F-F7C90A8D7A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AEA3-DFED-48BD-975E-5AA1E44694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F34A-C583-4B50-9388-E5A24133BE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F133-A296-4751-BFA7-35FC69F169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4110-EC2E-4341-AC58-1CCE518FB0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F4C0-DF79-4513-A60D-0C7CCB81CF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66,6,&#24187;&#28783;&#29255; 6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WordArt 4"/>
          <p:cNvSpPr txBox="1"/>
          <p:nvPr/>
        </p:nvSpPr>
        <p:spPr>
          <a:xfrm>
            <a:off x="915840" y="907920"/>
            <a:ext cx="4667400" cy="5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教科版三年级科学上册</a:t>
            </a:r>
            <a:endParaRPr b="1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34" name="WordArt 5"/>
          <p:cNvSpPr txBox="1"/>
          <p:nvPr/>
        </p:nvSpPr>
        <p:spPr>
          <a:xfrm>
            <a:off x="915840" y="2205000"/>
            <a:ext cx="74012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动物的共同特点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5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324000" y="40464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和植物都属于生物，它们和人类一样都是有生命的物体，动物、植物甚至人类有共同特点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826920" y="2276640"/>
            <a:ext cx="71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只要是生物，都生活在一定的环境中，和周围的生物非生物产生密切的联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都需要呼吸、进食、排泄，维持基本的生命需要；都经历生命的周期，经历成长、死亡；都需要繁殖以延续种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们已经对蜗牛、蚯蚓、蚂蚁、金鱼进行了观察和研究，让我们讨论整理一下我们的研究成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68000" y="2708280"/>
            <a:ext cx="80643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、这些动物分别怎样运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二、这些动物遇到危险分别有怎样     的反应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三、这些动物的食物有哪些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文本框 8199"/>
          <p:cNvSpPr/>
          <p:nvPr/>
        </p:nvSpPr>
        <p:spPr>
          <a:xfrm>
            <a:off x="1909800" y="431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矩形 12"/>
          <p:cNvSpPr/>
          <p:nvPr/>
        </p:nvSpPr>
        <p:spPr>
          <a:xfrm>
            <a:off x="2771640" y="25066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2"/>
          <p:cNvSpPr/>
          <p:nvPr/>
        </p:nvSpPr>
        <p:spPr>
          <a:xfrm>
            <a:off x="1342800" y="533520"/>
            <a:ext cx="2375280" cy="13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9933"/>
                </a:solidFill>
                <a:latin typeface="Times New Roman"/>
                <a:ea typeface="方正少儿简体"/>
              </a:rPr>
              <a:t>回忆</a:t>
            </a:r>
            <a:r>
              <a:rPr b="0" lang="en-US" sz="7200" spc="-1" strike="noStrike" u="sng">
                <a:solidFill>
                  <a:srgbClr val="ccccff"/>
                </a:solidFill>
                <a:uFillTx/>
                <a:latin typeface="Times New Roman"/>
                <a:ea typeface="方正少儿简体"/>
                <a:hlinkClick r:id="rId1"/>
              </a:rPr>
              <a:t>……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971640" y="234936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Times New Roman"/>
                <a:ea typeface="方正隶变简体"/>
              </a:rPr>
              <a:t>蜗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4932360" y="2276640"/>
            <a:ext cx="14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方正隶变简体"/>
              </a:rPr>
              <a:t>蚂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1176120" y="45813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cc00"/>
                </a:solidFill>
                <a:latin typeface="Times New Roman"/>
                <a:ea typeface="方正隶变简体"/>
              </a:rPr>
              <a:t>蚯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6"/>
          <p:cNvSpPr/>
          <p:nvPr/>
        </p:nvSpPr>
        <p:spPr>
          <a:xfrm>
            <a:off x="4643280" y="558972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方正隶变简体"/>
              </a:rPr>
              <a:t>金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7" descr=""/>
          <p:cNvPicPr/>
          <p:nvPr/>
        </p:nvPicPr>
        <p:blipFill>
          <a:blip r:embed="rId2"/>
          <a:stretch/>
        </p:blipFill>
        <p:spPr>
          <a:xfrm>
            <a:off x="2771640" y="1844640"/>
            <a:ext cx="1276560" cy="1743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"/>
          <p:cNvPicPr/>
          <p:nvPr/>
        </p:nvPicPr>
        <p:blipFill>
          <a:blip r:embed="rId3"/>
          <a:stretch/>
        </p:blipFill>
        <p:spPr>
          <a:xfrm>
            <a:off x="6516720" y="1916280"/>
            <a:ext cx="1685880" cy="11332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"/>
          <p:cNvPicPr/>
          <p:nvPr/>
        </p:nvPicPr>
        <p:blipFill>
          <a:blip r:embed="rId4"/>
          <a:stretch/>
        </p:blipFill>
        <p:spPr>
          <a:xfrm>
            <a:off x="2700360" y="4508640"/>
            <a:ext cx="1476360" cy="13237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0" descr=""/>
          <p:cNvPicPr/>
          <p:nvPr/>
        </p:nvPicPr>
        <p:blipFill>
          <a:blip r:embed="rId5"/>
          <a:stretch/>
        </p:blipFill>
        <p:spPr>
          <a:xfrm>
            <a:off x="5580000" y="3789360"/>
            <a:ext cx="1809720" cy="1781280"/>
          </a:xfrm>
          <a:prstGeom prst="rect">
            <a:avLst/>
          </a:prstGeom>
          <a:ln w="0">
            <a:noFill/>
          </a:ln>
        </p:spPr>
      </p:pic>
      <p:pic>
        <p:nvPicPr>
          <p:cNvPr id="549" name="贝多芬 - 贝多芬致爱丽丝钢琴曲.mp3" descr=""/>
          <p:cNvPicPr/>
          <p:nvPr/>
        </p:nvPicPr>
        <p:blipFill>
          <a:blip r:embed="rId6"/>
          <a:stretch/>
        </p:blipFill>
        <p:spPr>
          <a:xfrm>
            <a:off x="8172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92108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1671840" y="692280"/>
            <a:ext cx="2923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蜗牛代表软体动物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蚯蚓代表环节动物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蚂蚁代表昆虫动物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金鱼代表着鱼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1932840" y="3535200"/>
            <a:ext cx="4569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四种动物代表不同的种类，世界上大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有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50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万多种动物，不同环境下的动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体现着动物的多样性，让我们通过探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它们的共同特点，认识生命体的基本特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108520" y="90792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33cc"/>
                </a:solidFill>
                <a:latin typeface="Times New Roman"/>
                <a:ea typeface="方正少儿简体"/>
              </a:rPr>
              <a:t>你喜欢动物吗？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900000" y="2708280"/>
            <a:ext cx="708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说说你最感兴趣的动物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23"/>
          <p:cNvSpPr/>
          <p:nvPr/>
        </p:nvSpPr>
        <p:spPr>
          <a:xfrm>
            <a:off x="1143000" y="5791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1035000" y="3333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细黑"/>
                <a:ea typeface="华文细黑"/>
              </a:rPr>
              <a:t>它的身体分为哪几部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1181160" y="9097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细黑"/>
                <a:ea typeface="华文细黑"/>
              </a:rPr>
              <a:t>各个部分是什么样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755640" y="14130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细黑"/>
                <a:ea typeface="华文细黑"/>
              </a:rPr>
              <a:t>它生活在什么样的环境里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1042920" y="19540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细黑"/>
                <a:ea typeface="华文细黑"/>
              </a:rPr>
              <a:t>它有哪些基本的生活需要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7"/>
          <p:cNvSpPr/>
          <p:nvPr/>
        </p:nvSpPr>
        <p:spPr>
          <a:xfrm>
            <a:off x="1619280" y="2492280"/>
            <a:ext cx="590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细黑"/>
                <a:ea typeface="华文细黑"/>
              </a:rPr>
              <a:t>这种动物的食物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8"/>
          <p:cNvSpPr/>
          <p:nvPr/>
        </p:nvSpPr>
        <p:spPr>
          <a:xfrm>
            <a:off x="1181880" y="3141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细黑"/>
                <a:ea typeface="华文细黑"/>
              </a:rPr>
              <a:t>从哪里获得食物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9"/>
          <p:cNvSpPr/>
          <p:nvPr/>
        </p:nvSpPr>
        <p:spPr>
          <a:xfrm>
            <a:off x="4929120" y="3141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细黑"/>
                <a:ea typeface="华文细黑"/>
              </a:rPr>
              <a:t>怎样吃食物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0"/>
          <p:cNvSpPr/>
          <p:nvPr/>
        </p:nvSpPr>
        <p:spPr>
          <a:xfrm>
            <a:off x="1181880" y="37908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细黑"/>
                <a:ea typeface="华文细黑"/>
              </a:rPr>
              <a:t>它也排泄废物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1"/>
          <p:cNvSpPr/>
          <p:nvPr/>
        </p:nvSpPr>
        <p:spPr>
          <a:xfrm>
            <a:off x="539640" y="429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细黑"/>
                <a:ea typeface="华文细黑"/>
              </a:rPr>
              <a:t>这种动物的生长发育经历了哪些过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2"/>
          <p:cNvSpPr/>
          <p:nvPr/>
        </p:nvSpPr>
        <p:spPr>
          <a:xfrm>
            <a:off x="1323720" y="4892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细黑"/>
                <a:ea typeface="华文细黑"/>
              </a:rPr>
              <a:t>这种动物怎样繁殖后代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3"/>
          <p:cNvSpPr/>
          <p:nvPr/>
        </p:nvSpPr>
        <p:spPr>
          <a:xfrm>
            <a:off x="1154880" y="5438880"/>
            <a:ext cx="464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细黑"/>
                <a:ea typeface="华文细黑"/>
              </a:rPr>
              <a:t>这种动物会对外界刺激做出反应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4"/>
          <p:cNvSpPr/>
          <p:nvPr/>
        </p:nvSpPr>
        <p:spPr>
          <a:xfrm>
            <a:off x="6621480" y="54687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华文细黑"/>
                <a:ea typeface="华文细黑"/>
              </a:rPr>
              <a:t>怎样反应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动物的共同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都生活在一定的环境里，都有一定的生活需要，有一定的身体结构，都需要呼吸、进食、排泄，都能活动，对外界刺激作出反应，都经历幼体、成体、死亡的生命过程，并能繁殖后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文本框 8199"/>
          <p:cNvSpPr/>
          <p:nvPr/>
        </p:nvSpPr>
        <p:spPr>
          <a:xfrm>
            <a:off x="1187280" y="15638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1547280" y="10526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这些同学描述得怎么样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826920" y="242100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如果再让你去观察这些动物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        </a:t>
            </a:r>
            <a:r>
              <a:rPr b="0" lang="zh-CN" sz="4000" spc="-1" strike="noStrike">
                <a:solidFill>
                  <a:srgbClr val="0033cc"/>
                </a:solidFill>
                <a:latin typeface="华文新魏"/>
                <a:ea typeface="华文新魏"/>
              </a:rPr>
              <a:t>你认为你的观察方法需要改进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2075760" y="491796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你觉得大家在别人发言时认真倾听了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2C9F-61D5-4292-8778-638D18AB361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07:08:3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36Z</dcterms:modified>
  <cp:revision>3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