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6BD-4A2C-48B2-BAB1-475FE68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53B-4EAE-4416-BA8F-10367D61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CCC-FD9A-4D6D-A1FD-B99583CE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ECD-6D04-4693-9A0D-629C54CD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E8A-5A2D-4655-9E17-AD1ABEA8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DC9-667E-4430-B3E2-F3C725B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8C3F-62C9-4D39-9316-7D0D433E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57E-5B00-4AA5-A77E-38C3AC05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6982-34DF-4F47-8E37-6FD2CDBD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110D-A396-46A4-BF7B-AEEFC085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E9F6-CE57-4E65-A7F9-38F70B4E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BE8-C7B1-4FE4-B5FD-4452E08F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1D19-AD7D-47F9-90D1-44FB99B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58E-AA19-4D3E-B383-0797CBA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031F-55A5-4F56-8BD3-625DC06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16C9-3BAB-44F2-8CDA-46D28AEB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9C0-20FE-41B8-8A01-E78698B3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D579-E782-453F-808B-D2A7A83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A4F0-E975-43E3-9D22-A1136998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8548-ED63-4A5E-9C1A-5068FA01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0B96-2FDF-4164-9075-90741C73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5A56-B7B2-4C8F-9F91-46C88E0C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350-C96D-4710-B09E-4C3F07E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0C6B-CADF-48D6-9CBE-D3AC0BA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08CE-D21E-4017-84EF-DEC304C5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DBFC-E2E1-4000-AC30-1116B38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DEA9-C5C2-4B2C-9121-D007E5C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12C0-F37E-4D2C-BC23-96ACEED8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9B77-DD56-437B-84E7-DFF7C278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EACD-2A80-4F53-96C7-2D9B9AFE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10C-8A4A-48FF-878C-787B5116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861-CEF7-48EB-A645-2DC03F35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6DE-CCA3-4121-8176-7CBAD39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E2E-6124-47C0-BA8A-4E5A7BA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118-5850-42E9-AC69-EEA8543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677-D8D3-4BFB-9CDB-5DB67BD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08EE-F6CF-4147-BD53-F2C58D69350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12C-9E91-44BE-9BB6-7F3293BA05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5075-9E0B-45F6-AC64-23D19E4414D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.tw/imgres?imgurl=sh.sina.com.cn/eat/20030512/1_18-90-1529-459_2003051211323.jpg&amp;imgrefurl=http://sh.sina.com.cn/eat/20030512/113210822.shtml&amp;h=286&amp;w=400&amp;sz=20&amp;tbnid=X0i8MsoS44AJ:&amp;tbnh=85&amp;tbnw=118&amp;start=7&amp;prev=/images%3F%20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050" descr="C:\Documents and Settings\123\My Documents\My Pictures\dwtitle.jpg"/>
          <p:cNvPicPr/>
          <p:nvPr/>
        </p:nvPicPr>
        <p:blipFill>
          <a:blip r:embed="rId1"/>
          <a:stretch/>
        </p:blipFill>
        <p:spPr>
          <a:xfrm>
            <a:off x="2133720" y="1143000"/>
            <a:ext cx="3886200" cy="288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51" descr="http://images.google.com.tw/images?q=tbn:X0i8MsoS44AJ:sh.sina.com.cn/eat/20030512/1_18-90-1529-459_200305121132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4116240"/>
            <a:ext cx="2819520" cy="20304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2052"/>
          <p:cNvSpPr txBox="1"/>
          <p:nvPr/>
        </p:nvSpPr>
        <p:spPr>
          <a:xfrm>
            <a:off x="1233360" y="4597560"/>
            <a:ext cx="4857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00000"/>
                </a:solidFill>
                <a:latin typeface="宋体"/>
              </a:rPr>
              <a:t>端午的鸡蛋语文</a:t>
            </a:r>
            <a:r>
              <a:rPr b="1" lang="en-US" sz="2400" spc="-1" strike="noStrike">
                <a:ln w="0">
                  <a:noFill/>
                </a:ln>
                <a:solidFill>
                  <a:srgbClr val="c00000"/>
                </a:solidFill>
                <a:latin typeface="宋体"/>
              </a:rPr>
              <a:t>PPT</a:t>
            </a:r>
            <a:r>
              <a:rPr b="1" lang="zh-CN" sz="2400" spc="-1" strike="noStrike">
                <a:ln w="0">
                  <a:noFill/>
                </a:ln>
                <a:solidFill>
                  <a:srgbClr val="c00000"/>
                </a:solidFill>
                <a:latin typeface="宋体"/>
              </a:rPr>
              <a:t>课件打包下载</a:t>
            </a:r>
            <a:endParaRPr b="1" lang="en-US" sz="2400" spc="-1" strike="noStrike">
              <a:ln w="0">
                <a:noFill/>
              </a:ln>
              <a:solidFill>
                <a:srgbClr val="c00000"/>
              </a:solidFill>
              <a:latin typeface="宋体"/>
              <a:ea typeface="宋体"/>
            </a:endParaRPr>
          </a:p>
        </p:txBody>
      </p:sp>
      <p:sp>
        <p:nvSpPr>
          <p:cNvPr id="1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6766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1" name="Picture 3" descr="http://www.loweb.com/mingrl/wzq/wzq_images/pic3.JPG"/>
          <p:cNvPicPr/>
          <p:nvPr/>
        </p:nvPicPr>
        <p:blipFill>
          <a:blip r:embed="rId1"/>
          <a:stretch/>
        </p:blipFill>
        <p:spPr>
          <a:xfrm>
            <a:off x="6934320" y="4572000"/>
            <a:ext cx="1790640" cy="1809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37148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371600" y="1600200"/>
            <a:ext cx="5181480" cy="398052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离思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（唐）元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2432a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c2432a"/>
                </a:solidFill>
                <a:latin typeface="Times New Roman"/>
                <a:ea typeface="华文行楷"/>
              </a:rPr>
              <a:t>曾经沧海难为水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除却巫山不是云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取次花丛懒回顾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半缘修道半缘君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410080" y="685800"/>
            <a:ext cx="3200400" cy="1676520"/>
          </a:xfrm>
          <a:prstGeom prst="cloudCallout">
            <a:avLst>
              <a:gd name="adj1" fmla="val -49402"/>
              <a:gd name="adj2" fmla="val 6950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沧海无比深广，因而让的水相形见绌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39052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Picture 4"/>
          <p:cNvSpPr/>
          <p:nvPr/>
        </p:nvSpPr>
        <p:spPr>
          <a:xfrm>
            <a:off x="6095880" y="3809880"/>
            <a:ext cx="2800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295280" y="2133720"/>
            <a:ext cx="4724640" cy="642600"/>
          </a:xfrm>
          <a:prstGeom prst="rect">
            <a:avLst/>
          </a:prstGeom>
          <a:gradFill rotWithShape="0">
            <a:gsLst>
              <a:gs pos="0">
                <a:srgbClr val="f1e3c9"/>
              </a:gs>
              <a:gs pos="100000">
                <a:srgbClr val="7069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dc48ae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dc48ae"/>
                </a:solidFill>
                <a:latin typeface="Times New Roman"/>
                <a:ea typeface="楷体_GB2312"/>
              </a:rPr>
              <a:t>我走的地方不少，所食鸭蛋多矣，但和我家乡的完全不能比！曾经沧海难为水，他乡的鸭蛋，我实在瞧不上。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324480" y="762120"/>
            <a:ext cx="2286000" cy="2209680"/>
          </a:xfrm>
          <a:prstGeom prst="wedgeRoundRectCallout">
            <a:avLst>
              <a:gd name="adj1" fmla="val -47291"/>
              <a:gd name="adj2" fmla="val 74638"/>
              <a:gd name="adj3" fmla="val 16667"/>
            </a:avLst>
          </a:prstGeom>
          <a:solidFill>
            <a:srgbClr val="f1e3c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文白夹杂，让人忍俊不禁，幽默有趣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219320" y="59436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90720" y="762120"/>
            <a:ext cx="640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28800" y="167652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09680" y="2286000"/>
            <a:ext cx="1981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486400" y="3200400"/>
            <a:ext cx="733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371600" y="1600200"/>
            <a:ext cx="6477120" cy="3146040"/>
          </a:xfrm>
          <a:prstGeom prst="rect">
            <a:avLst/>
          </a:prstGeom>
          <a:solidFill>
            <a:srgbClr val="ddb56d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汪曾祺散文</a:t>
            </a:r>
            <a:r>
              <a:rPr b="1" i="1" lang="zh-CN" sz="3600" spc="-1" strike="noStrike" u="sng">
                <a:solidFill>
                  <a:srgbClr val="c2432a"/>
                </a:solidFill>
                <a:uFillTx/>
                <a:latin typeface="Times New Roman"/>
              </a:rPr>
              <a:t>语言上的追求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平淡而有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用适当的方言表现作品的  地方特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有淡淡的幽默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8" descr="C:\Program Files\Common Files\Microsoft Shared\Clipart\cagcat50\PE01682_.wmf"/>
          <p:cNvPicPr/>
          <p:nvPr/>
        </p:nvPicPr>
        <p:blipFill>
          <a:blip r:embed="rId1"/>
          <a:stretch/>
        </p:blipFill>
        <p:spPr>
          <a:xfrm>
            <a:off x="7391520" y="5410080"/>
            <a:ext cx="10666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90720" y="1371600"/>
            <a:ext cx="6705360" cy="3293640"/>
          </a:xfrm>
          <a:prstGeom prst="rect">
            <a:avLst/>
          </a:prstGeom>
          <a:solidFill>
            <a:srgbClr val="b0ae6a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汪曾祺的语言艺术是如何体现的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口语色彩浓厚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二、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古汉语的点缀更使文章多了书　　卷气，增添了淡雅之美。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善于运用语言</a:t>
            </a:r>
            <a:r>
              <a:rPr b="1" lang="zh-CN" sz="3200" spc="-1" strike="noStrike">
                <a:solidFill>
                  <a:srgbClr val="000003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造型</a:t>
            </a:r>
            <a:r>
              <a:rPr b="1" lang="zh-CN" sz="3200" spc="-1" strike="noStrike">
                <a:solidFill>
                  <a:srgbClr val="000003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Picture 3" descr="http://www.loweb.com/mingrl/wzq/wzq_images/pic2.JPG"/>
          <p:cNvPicPr/>
          <p:nvPr/>
        </p:nvPicPr>
        <p:blipFill>
          <a:blip r:embed="rId1"/>
          <a:stretch/>
        </p:blipFill>
        <p:spPr>
          <a:xfrm>
            <a:off x="6324480" y="4724280"/>
            <a:ext cx="2362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371600" y="1600200"/>
            <a:ext cx="6324480" cy="316692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　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　　文章如此津津乐道谈论“咸鸭蛋”有意义吗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9" name="Picture 4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1143000" y="121932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123\My Documents\My Pictures\pic1.jpg"/>
          <p:cNvPicPr/>
          <p:nvPr/>
        </p:nvPicPr>
        <p:blipFill>
          <a:blip r:embed="rId1"/>
          <a:stretch/>
        </p:blipFill>
        <p:spPr>
          <a:xfrm>
            <a:off x="762120" y="1447920"/>
            <a:ext cx="3233520" cy="2479680"/>
          </a:xfrm>
          <a:prstGeom prst="rect">
            <a:avLst/>
          </a:prstGeom>
          <a:ln w="9360">
            <a:solidFill>
              <a:srgbClr val="996600"/>
            </a:solidFill>
            <a:miter/>
          </a:ln>
          <a:effectLst>
            <a:outerShdw dist="137587" dir="19578596" blurRad="0" rotWithShape="0">
              <a:srgbClr val="996600">
                <a:alpha val="50000"/>
              </a:srgbClr>
            </a:outerShdw>
          </a:effectLst>
        </p:spPr>
      </p:pic>
      <p:sp>
        <p:nvSpPr>
          <p:cNvPr id="201" name="Text Box 3"/>
          <p:cNvSpPr/>
          <p:nvPr/>
        </p:nvSpPr>
        <p:spPr>
          <a:xfrm>
            <a:off x="4572000" y="13716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高邮人，著名的</a:t>
            </a:r>
            <a:r>
              <a:rPr b="1" i="1" lang="zh-CN" sz="3200" spc="-1" strike="noStrike">
                <a:solidFill>
                  <a:srgbClr val="cc9900"/>
                </a:solidFill>
                <a:latin typeface="Times New Roman"/>
              </a:rPr>
              <a:t>小说家、散文家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，资深的文化界名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代表作主要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落魄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职业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受戒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大淖记事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447920" y="4876920"/>
            <a:ext cx="2286000" cy="703440"/>
          </a:xfrm>
          <a:prstGeom prst="rect">
            <a:avLst/>
          </a:prstGeom>
          <a:solidFill>
            <a:srgbClr val="e1e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汪  曾  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47920" y="5562720"/>
            <a:ext cx="2286000" cy="581400"/>
          </a:xfrm>
          <a:prstGeom prst="rect">
            <a:avLst/>
          </a:prstGeom>
          <a:solidFill>
            <a:srgbClr val="e1e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1921-1997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文本框 8197"/>
          <p:cNvSpPr/>
          <p:nvPr/>
        </p:nvSpPr>
        <p:spPr>
          <a:xfrm>
            <a:off x="1044720" y="981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6766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7148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7" name="Picture 12" descr="C:\Program Files\Common Files\Microsoft Shared\Clipart\cagcat50\PE03738_.wmf"/>
          <p:cNvPicPr/>
          <p:nvPr/>
        </p:nvPicPr>
        <p:blipFill>
          <a:blip r:embed="rId1"/>
          <a:stretch/>
        </p:blipFill>
        <p:spPr>
          <a:xfrm>
            <a:off x="914400" y="1066680"/>
            <a:ext cx="1355760" cy="1428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2286000" y="1828800"/>
            <a:ext cx="5562720" cy="20646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大展身手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写作练习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、调动自己的经验积累，介　绍印象最深的童年时代　　的物件或经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、介绍南京的特色食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E360-7961-4484-B3FC-F76ADB0B2271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1676520" y="2057400"/>
            <a:ext cx="5715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25a3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谢谢！再见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d25a3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4468680" y="3421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1026" descr="customb"/>
          <p:cNvPicPr/>
          <p:nvPr/>
        </p:nvPicPr>
        <p:blipFill>
          <a:blip r:embed="rId1"/>
          <a:stretch/>
        </p:blipFill>
        <p:spPr>
          <a:xfrm>
            <a:off x="3962520" y="260676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27" descr="dw3"/>
          <p:cNvPicPr/>
          <p:nvPr/>
        </p:nvPicPr>
        <p:blipFill>
          <a:blip r:embed="rId2"/>
          <a:stretch/>
        </p:blipFill>
        <p:spPr>
          <a:xfrm>
            <a:off x="762120" y="3962520"/>
            <a:ext cx="2743200" cy="178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8" descr="dw5"/>
          <p:cNvPicPr/>
          <p:nvPr/>
        </p:nvPicPr>
        <p:blipFill>
          <a:blip r:embed="rId3"/>
          <a:stretch/>
        </p:blipFill>
        <p:spPr>
          <a:xfrm>
            <a:off x="5867280" y="689040"/>
            <a:ext cx="23623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9" descr="dw6"/>
          <p:cNvPicPr/>
          <p:nvPr/>
        </p:nvPicPr>
        <p:blipFill>
          <a:blip r:embed="rId4"/>
          <a:stretch/>
        </p:blipFill>
        <p:spPr>
          <a:xfrm>
            <a:off x="5867280" y="3657600"/>
            <a:ext cx="2344680" cy="2425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31"/>
          <p:cNvSpPr/>
          <p:nvPr/>
        </p:nvSpPr>
        <p:spPr>
          <a:xfrm>
            <a:off x="60958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悬艾叶和菖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Text Box 1032"/>
          <p:cNvSpPr/>
          <p:nvPr/>
        </p:nvSpPr>
        <p:spPr>
          <a:xfrm>
            <a:off x="61722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写符念咒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1033"/>
          <p:cNvSpPr/>
          <p:nvPr/>
        </p:nvSpPr>
        <p:spPr>
          <a:xfrm>
            <a:off x="83808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挂荷包和拴五色丝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1034" descr="dw1"/>
          <p:cNvPicPr/>
          <p:nvPr/>
        </p:nvPicPr>
        <p:blipFill>
          <a:blip r:embed="rId5"/>
          <a:stretch/>
        </p:blipFill>
        <p:spPr>
          <a:xfrm>
            <a:off x="838080" y="933480"/>
            <a:ext cx="3200400" cy="2065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35"/>
          <p:cNvSpPr/>
          <p:nvPr/>
        </p:nvSpPr>
        <p:spPr>
          <a:xfrm>
            <a:off x="17524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赛龙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1036"/>
          <p:cNvSpPr/>
          <p:nvPr/>
        </p:nvSpPr>
        <p:spPr>
          <a:xfrm>
            <a:off x="4133160" y="4572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吃粽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" dur="indefinite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050" descr="C:\Documents and Settings\123\My Documents\My Pictures\z42.gif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051"/>
          <p:cNvSpPr/>
          <p:nvPr/>
        </p:nvSpPr>
        <p:spPr>
          <a:xfrm>
            <a:off x="1447920" y="1295280"/>
            <a:ext cx="6629400" cy="292824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zh-CN" sz="4000" spc="-1" strike="noStrike">
                <a:solidFill>
                  <a:srgbClr val="cd552f"/>
                </a:solidFill>
                <a:latin typeface="Times New Roman"/>
                <a:ea typeface="黑体"/>
              </a:rPr>
              <a:t>教学目标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一、从结构上、思想上整体把握文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二、培养关注日常生活细节的习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三、注意语言的积累，学习本文自然传    神的表现手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219320" y="1371600"/>
            <a:ext cx="6781680" cy="4875840"/>
          </a:xfrm>
          <a:prstGeom prst="rect">
            <a:avLst/>
          </a:prstGeom>
          <a:solidFill>
            <a:srgbClr val="b0a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d552f"/>
                </a:solidFill>
                <a:latin typeface="Times New Roman"/>
                <a:ea typeface="黑体"/>
              </a:rPr>
              <a:t>检查预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门楣             腌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苋菜             城隍庙　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车胤             囊萤映雪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籍贯             肃然起敬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6232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362320" y="3124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xi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4382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ì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146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í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419720" y="2209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867280" y="3048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hu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á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867280" y="3886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á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94360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028"/>
          <p:cNvSpPr/>
          <p:nvPr/>
        </p:nvSpPr>
        <p:spPr>
          <a:xfrm>
            <a:off x="1523880" y="34290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9" name="Picture 1029" descr="C:\Documents and Settings\123\My Documents\My Pictures\mallard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71600"/>
            <a:ext cx="8215560" cy="4495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30"/>
          <p:cNvSpPr/>
          <p:nvPr/>
        </p:nvSpPr>
        <p:spPr>
          <a:xfrm>
            <a:off x="1600200" y="2362320"/>
            <a:ext cx="6705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28b6"/>
                </a:solidFill>
                <a:latin typeface="Times New Roman"/>
                <a:ea typeface="华文彩云"/>
              </a:rPr>
              <a:t>作者</a:t>
            </a:r>
            <a:r>
              <a:rPr b="1" lang="zh-CN" sz="4000" spc="-1" strike="noStrike">
                <a:solidFill>
                  <a:srgbClr val="2828b6"/>
                </a:solidFill>
                <a:latin typeface="Times New Roman"/>
                <a:ea typeface="华文彩云"/>
              </a:rPr>
              <a:t>为什么对</a:t>
            </a:r>
            <a:r>
              <a:rPr b="1" lang="zh-CN" sz="4000" spc="-1" strike="noStrike">
                <a:solidFill>
                  <a:srgbClr val="cd552f"/>
                </a:solidFill>
                <a:latin typeface="Times New Roman"/>
                <a:ea typeface="华文彩云"/>
              </a:rPr>
              <a:t>家乡的鸭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28b6"/>
                </a:solidFill>
                <a:latin typeface="Times New Roman"/>
                <a:ea typeface="华文彩云"/>
              </a:rPr>
              <a:t>久久不能忘怀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AutoShape 1034"/>
          <p:cNvSpPr/>
          <p:nvPr/>
        </p:nvSpPr>
        <p:spPr>
          <a:xfrm>
            <a:off x="7772400" y="6095880"/>
            <a:ext cx="68580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00" y="0"/>
                </a:moveTo>
                <a:lnTo>
                  <a:pt x="15600" y="5310"/>
                </a:lnTo>
                <a:lnTo>
                  <a:pt x="3375" y="5310"/>
                </a:lnTo>
                <a:lnTo>
                  <a:pt x="3375" y="16290"/>
                </a:lnTo>
                <a:lnTo>
                  <a:pt x="15600" y="16290"/>
                </a:lnTo>
                <a:lnTo>
                  <a:pt x="15600" y="21600"/>
                </a:lnTo>
                <a:lnTo>
                  <a:pt x="21600" y="10800"/>
                </a:lnTo>
                <a:lnTo>
                  <a:pt x="15600" y="0"/>
                </a:lnTo>
                <a:close/>
              </a:path>
              <a:path w="21600" h="21600">
                <a:moveTo>
                  <a:pt x="1350" y="5310"/>
                </a:moveTo>
                <a:lnTo>
                  <a:pt x="1350" y="16290"/>
                </a:lnTo>
                <a:lnTo>
                  <a:pt x="2700" y="16290"/>
                </a:lnTo>
                <a:lnTo>
                  <a:pt x="2700" y="5310"/>
                </a:lnTo>
                <a:lnTo>
                  <a:pt x="1350" y="5310"/>
                </a:lnTo>
                <a:close/>
              </a:path>
              <a:path w="21600" h="21600">
                <a:moveTo>
                  <a:pt x="0" y="5310"/>
                </a:moveTo>
                <a:lnTo>
                  <a:pt x="0" y="16290"/>
                </a:lnTo>
                <a:lnTo>
                  <a:pt x="675" y="16290"/>
                </a:lnTo>
                <a:lnTo>
                  <a:pt x="675" y="5310"/>
                </a:lnTo>
                <a:lnTo>
                  <a:pt x="0" y="531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990720" y="31240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黑体"/>
              </a:rPr>
              <a:t>将本文分成几部分，怎样分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14400" y="1447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黑体"/>
              </a:rPr>
              <a:t>本文是什么文体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371600" y="2362320"/>
            <a:ext cx="1981080" cy="5814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民俗散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43000" y="3809880"/>
            <a:ext cx="65530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家乡端午的习俗（第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143000" y="4419720"/>
            <a:ext cx="56386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说鸭蛋，写家乡鸭蛋的名声、特色。（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-3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43000" y="5562720"/>
            <a:ext cx="647712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正式涉及正题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——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端午的鸭蛋”，着重写了“鸭蛋络子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295280" y="1295280"/>
            <a:ext cx="4953240" cy="6426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家乡的端午有哪些风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93840" y="253512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23880" y="1981080"/>
            <a:ext cx="1905120" cy="44128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系百索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做香角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贴五毒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贴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喝雄黄酒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放黄烟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吃“十二红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114800" y="2514600"/>
            <a:ext cx="396252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楷体_GB2312"/>
              </a:rPr>
              <a:t>重点写的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191120" y="4572000"/>
            <a:ext cx="31240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楷体_GB2312"/>
              </a:rPr>
              <a:t>为什么重点写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038480" y="3352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放黄烟子     吃“十二红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71600" y="1600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阅读</a:t>
            </a:r>
            <a:r>
              <a:rPr b="0" lang="en-US" sz="4000" spc="-1" strike="noStrike">
                <a:solidFill>
                  <a:srgbClr val="d25a30"/>
                </a:solidFill>
                <a:latin typeface="华文彩云"/>
                <a:ea typeface="华文彩云"/>
              </a:rPr>
              <a:t>2-3</a:t>
            </a:r>
            <a:r>
              <a:rPr b="0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部分，体会作品语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Picture 3" descr="C:\Documents and Settings\123\My Documents\My Pictures\鸭子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47920" y="2666880"/>
            <a:ext cx="5943600" cy="33703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8197"/>
          <p:cNvSpPr/>
          <p:nvPr/>
        </p:nvSpPr>
        <p:spPr>
          <a:xfrm>
            <a:off x="1403280" y="1197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676520" y="1447920"/>
            <a:ext cx="6095880" cy="348444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春风又</a:t>
            </a:r>
            <a:r>
              <a:rPr b="1" lang="zh-CN" sz="4000" spc="-1" strike="noStrike">
                <a:solidFill>
                  <a:srgbClr val="5dac50"/>
                </a:solidFill>
                <a:latin typeface="Times New Roman"/>
                <a:ea typeface="华文隶书"/>
              </a:rPr>
              <a:t>绿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江南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          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王安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红杏枝头春意</a:t>
            </a:r>
            <a:r>
              <a:rPr b="1" lang="zh-CN" sz="4000" spc="-1" strike="noStrike">
                <a:solidFill>
                  <a:srgbClr val="d25a30"/>
                </a:solidFill>
                <a:latin typeface="Times New Roman"/>
                <a:ea typeface="华文隶书"/>
              </a:rPr>
              <a:t>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          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宋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8" name="Picture 3" descr="C:\Documents and Settings\123\My Documents\My Pictures\吴冠中.jpg"/>
          <p:cNvPicPr/>
          <p:nvPr/>
        </p:nvPicPr>
        <p:blipFill>
          <a:blip r:embed="rId1"/>
          <a:stretch/>
        </p:blipFill>
        <p:spPr>
          <a:xfrm>
            <a:off x="5105520" y="5029200"/>
            <a:ext cx="373356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1447920" y="5410080"/>
            <a:ext cx="3200400" cy="581400"/>
          </a:xfrm>
          <a:prstGeom prst="rect">
            <a:avLst/>
          </a:prstGeom>
          <a:solidFill>
            <a:srgbClr val="b0a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db2ba0"/>
                </a:solidFill>
                <a:uFillTx/>
                <a:latin typeface="Times New Roman"/>
              </a:rPr>
              <a:t>（一字传神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15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