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1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BBE-73D7-4B56-A797-FF0D1218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3B1-5DCC-449E-A77F-557E202F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2F9-6250-46F4-BC9C-AAEC1099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16C-BB9A-4E9E-94DF-5EB8B6DC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A27F-3032-43D5-97C5-77010625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2BF2-34A2-4E24-B139-9ED71B56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02FB-6950-4C67-9B95-38BB48B7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375F-F686-4E30-B9BA-6F06DE0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F770-7A48-44C3-B122-981030DA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6311-EC0B-405F-A9A9-AC196530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2795-0EB6-4D53-AA8A-E7A150BB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2F2-1BAE-4A6B-A8E2-5E552653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8B83-4914-4C22-A458-7B914C5B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78AD-C416-4C15-A725-840671D6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9980-93D7-468C-9FCD-9F36D0E4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EB18-A8DF-4B89-9C6E-9AD5A3B9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C742-459B-4F5D-9564-73E33ECE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ED0-589C-447D-9CE3-603B98DB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869-976A-4663-8D30-44D0CDC8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0AE-C49E-4750-B83D-827CDA55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39E-86E6-4EEB-889E-E12DA7F8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F4D-CE04-4E19-8E4F-F3E85A6E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A5E-3686-4033-8C7E-DEE08A26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98C-8BDD-4D6B-AAE1-33101392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4DB9-C4CC-4C57-9AE9-2AE1A0D33D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E1C2-31B6-4DA3-B6F9-02D661A06F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news.shangdu.com/16/2002-11-03/20021103-69410-16.shtml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.baidu.com/i?ct=503316480&amp;z=0&amp;tn=baiduimagedetail&amp;word=KFC&amp;in=5840&amp;cl=2&amp;cm=1&amp;sc=0&amp;lm=-1&amp;pn=14&amp;rn=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2203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对外开放的基本国策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2728080" y="106668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中宋"/>
                <a:ea typeface="华文中宋"/>
              </a:rPr>
              <a:t>第四课　了解基本国策与发展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5041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-76320" y="5791320"/>
            <a:ext cx="92203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图为石广生签字后同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WTO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总干事穆尔举杯庆祝中国成为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WTO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大家庭中的一员：成为其第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4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个成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logo_en"/>
          <p:cNvPicPr/>
          <p:nvPr/>
        </p:nvPicPr>
        <p:blipFill>
          <a:blip r:embed="rId1"/>
          <a:stretch/>
        </p:blipFill>
        <p:spPr>
          <a:xfrm>
            <a:off x="4952880" y="5715000"/>
            <a:ext cx="4191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3"/>
          <p:cNvGrpSpPr/>
          <p:nvPr/>
        </p:nvGrpSpPr>
        <p:grpSpPr>
          <a:xfrm>
            <a:off x="457200" y="0"/>
            <a:ext cx="8077320" cy="4419720"/>
            <a:chOff x="457200" y="0"/>
            <a:chExt cx="8077320" cy="4419720"/>
          </a:xfrm>
        </p:grpSpPr>
        <p:sp>
          <p:nvSpPr>
            <p:cNvPr id="142" name="AutoShape 4"/>
            <p:cNvSpPr/>
            <p:nvPr/>
          </p:nvSpPr>
          <p:spPr>
            <a:xfrm>
              <a:off x="457200" y="152640"/>
              <a:ext cx="8077320" cy="42670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685800" y="838440"/>
              <a:ext cx="419112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  </a:t>
              </a:r>
              <a:r>
                <a:rPr b="1" lang="zh-CN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世界贸易组织的前身是关税与贸易总协定，</a:t>
              </a:r>
              <a:r>
                <a:rPr b="1" lang="en-US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948</a:t>
              </a:r>
              <a:r>
                <a:rPr b="1" lang="zh-CN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年</a:t>
              </a:r>
              <a:r>
                <a:rPr b="1" lang="en-US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</a:t>
              </a:r>
              <a:r>
                <a:rPr b="1" lang="zh-CN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月</a:t>
              </a:r>
              <a:r>
                <a:rPr b="1" lang="en-US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</a:t>
              </a:r>
              <a:r>
                <a:rPr b="1" lang="zh-CN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日起临时生效。到</a:t>
              </a:r>
              <a:r>
                <a:rPr b="1" lang="en-US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001</a:t>
              </a:r>
              <a:r>
                <a:rPr b="1" lang="zh-CN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年</a:t>
              </a:r>
              <a:r>
                <a:rPr b="1" lang="en-US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1</a:t>
              </a:r>
              <a:r>
                <a:rPr b="1" lang="zh-CN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月</a:t>
              </a:r>
              <a:r>
                <a:rPr b="1" lang="en-US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2</a:t>
              </a:r>
              <a:r>
                <a:rPr b="1" lang="zh-CN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日，该组织成员已达</a:t>
              </a:r>
              <a:r>
                <a:rPr b="1" lang="en-US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43</a:t>
              </a:r>
              <a:r>
                <a:rPr b="1" lang="zh-CN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个，其贸易额占世界贸易总额的</a:t>
              </a:r>
              <a:r>
                <a:rPr b="1" lang="en-US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90%</a:t>
              </a:r>
              <a:r>
                <a:rPr b="1" lang="zh-CN" sz="3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6" descr="1"/>
            <p:cNvPicPr/>
            <p:nvPr/>
          </p:nvPicPr>
          <p:blipFill>
            <a:blip r:embed="rId3"/>
            <a:stretch/>
          </p:blipFill>
          <p:spPr>
            <a:xfrm>
              <a:off x="4953240" y="1295640"/>
              <a:ext cx="34750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7"/>
            <p:cNvSpPr/>
            <p:nvPr/>
          </p:nvSpPr>
          <p:spPr>
            <a:xfrm>
              <a:off x="2824920" y="0"/>
              <a:ext cx="348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W T O </a:t>
              </a:r>
              <a:r>
                <a:rPr b="1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简 介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8"/>
          <p:cNvSpPr/>
          <p:nvPr/>
        </p:nvSpPr>
        <p:spPr>
          <a:xfrm>
            <a:off x="152280" y="43876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　　讨论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中国入世是利大于弊还是弊大于利，为什么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28600" y="1508040"/>
            <a:ext cx="83818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　　世界贸易组织要求权利与义务的平衡，在享受权利的同时也要履行义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　　在基本失去关税和进口数量限制的情况下，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中国企业与外国竞争</a:t>
            </a: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恐怕要付出很大的代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　　中国的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金融企业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在国外强手压境下，难以招架。我国的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农业生产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也可能受到很大的冲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485640" y="419040"/>
            <a:ext cx="53816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中国加入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WTO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的弊端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76120" y="1279440"/>
            <a:ext cx="863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、赢得更好的国际环境，可促进国民经济的增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3"/>
          <p:cNvSpPr txBox="1"/>
          <p:nvPr/>
        </p:nvSpPr>
        <p:spPr>
          <a:xfrm>
            <a:off x="485640" y="343080"/>
            <a:ext cx="53816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中国加入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WTO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的利益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76120" y="19051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、可借助世界贸易的争端解决机制解决中外贸易争端，有利于我国产品打入国际市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04920" y="297180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、入世可以改变我国产品在国际上受歧视的状况，享受最惠国待遇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（大幅度的削减关税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543120" y="4130640"/>
            <a:ext cx="7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D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、有利于我国企业结构调整并提高竞争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628720" y="4740120"/>
            <a:ext cx="66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E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、有利于中国引进外资和技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878560" y="5410080"/>
            <a:ext cx="31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F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、有利于消费者得到更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优质更廉价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的产品和劳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457200" y="220968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总之，中国入世的利大于弊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632240" y="5335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从中可以得出结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xinsrc_512120110142875827394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20050610074719354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304920" y="83808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黑体"/>
              </a:rPr>
              <a:t>　　总之，中国的发展离不开世界，实行对外开放，符合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当今时代特征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黑体"/>
              </a:rPr>
              <a:t>和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世界经济技术发展规律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黑体"/>
              </a:rPr>
              <a:t>，是加快我国现代化建设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必然选择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8600" y="228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目、坚持对外开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85800" y="2286000"/>
            <a:ext cx="7924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我国对外开放是对世界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所有国家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的开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政治、经济、文化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等各个方面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都要开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0" y="1143000"/>
            <a:ext cx="8763120" cy="761760"/>
            <a:chOff x="0" y="1143000"/>
            <a:chExt cx="8763120" cy="761760"/>
          </a:xfrm>
        </p:grpSpPr>
        <p:sp>
          <p:nvSpPr>
            <p:cNvPr id="164" name="Text Box 5"/>
            <p:cNvSpPr/>
            <p:nvPr/>
          </p:nvSpPr>
          <p:spPr>
            <a:xfrm>
              <a:off x="1905120" y="124920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什么是对外开放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flipH="1">
              <a:off x="0" y="1143000"/>
              <a:ext cx="1752480" cy="761760"/>
            </a:xfrm>
            <a:prstGeom prst="cloudCallout">
              <a:avLst>
                <a:gd name="adj1" fmla="val -47828"/>
                <a:gd name="adj2" fmla="val 71453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"/>
            <p:cNvSpPr/>
            <p:nvPr/>
          </p:nvSpPr>
          <p:spPr>
            <a:xfrm>
              <a:off x="751320" y="1218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说一说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123014"/>
          <p:cNvPicPr/>
          <p:nvPr/>
        </p:nvPicPr>
        <p:blipFill>
          <a:blip r:embed="rId1"/>
          <a:stretch/>
        </p:blipFill>
        <p:spPr>
          <a:xfrm>
            <a:off x="228600" y="33480"/>
            <a:ext cx="3429000" cy="2481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温总理出访 携手南亚对抗美国牵制 2 ::商都信息港::"/>
          <p:cNvPicPr/>
          <p:nvPr/>
        </p:nvPicPr>
        <p:blipFill>
          <a:blip r:embed="rId2"/>
          <a:stretch/>
        </p:blipFill>
        <p:spPr>
          <a:xfrm>
            <a:off x="5638680" y="0"/>
            <a:ext cx="3353040" cy="2541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Img210536273"/>
          <p:cNvPicPr/>
          <p:nvPr/>
        </p:nvPicPr>
        <p:blipFill>
          <a:blip r:embed="rId3"/>
          <a:stretch/>
        </p:blipFill>
        <p:spPr>
          <a:xfrm>
            <a:off x="2819520" y="2209680"/>
            <a:ext cx="3352680" cy="25480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6438960" y="2963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政治方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Img224786677"/>
          <p:cNvPicPr/>
          <p:nvPr/>
        </p:nvPicPr>
        <p:blipFill>
          <a:blip r:embed="rId4"/>
          <a:stretch/>
        </p:blipFill>
        <p:spPr>
          <a:xfrm>
            <a:off x="5791320" y="4172040"/>
            <a:ext cx="3352680" cy="2533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2004_10_9_8_52511"/>
          <p:cNvPicPr/>
          <p:nvPr/>
        </p:nvPicPr>
        <p:blipFill>
          <a:blip r:embed="rId5"/>
          <a:stretch/>
        </p:blipFill>
        <p:spPr>
          <a:xfrm>
            <a:off x="0" y="4203720"/>
            <a:ext cx="35812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3049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第四课 了解基本国策与发展战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2590920"/>
            <a:ext cx="7391520" cy="19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国策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初中阶段所要求掌握的国策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line07"/>
          <p:cNvPicPr/>
          <p:nvPr/>
        </p:nvPicPr>
        <p:blipFill>
          <a:blip r:embed="rId1"/>
          <a:stretch/>
        </p:blipFill>
        <p:spPr>
          <a:xfrm>
            <a:off x="685800" y="1066680"/>
            <a:ext cx="7467480" cy="228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2356560" y="4724280"/>
            <a:ext cx="3381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发展战略含义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是指一种科学构划的积极的向前的全局性的蓝图。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初中阶段所要求掌握的的战略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7985160" y="23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7238880" y="274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171600" y="2819520"/>
            <a:ext cx="457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国策是指国家执行较长时间，对国计民生有重大影响的基本政策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044080" y="4191120"/>
            <a:ext cx="50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对外开放、一国两制、改革开放、计划生育、节约资源、保护环境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5162040" y="6095880"/>
            <a:ext cx="5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可持续发展、科教兴国、人才强国、西部大开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7"/>
          <p:cNvSpPr txBox="1"/>
          <p:nvPr/>
        </p:nvSpPr>
        <p:spPr>
          <a:xfrm>
            <a:off x="228600" y="1371600"/>
            <a:ext cx="3200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解读国策与战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5-1"/>
          <p:cNvPicPr/>
          <p:nvPr/>
        </p:nvPicPr>
        <p:blipFill>
          <a:blip r:embed="rId1"/>
          <a:stretch/>
        </p:blipFill>
        <p:spPr>
          <a:xfrm>
            <a:off x="0" y="152280"/>
            <a:ext cx="4724280" cy="361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ft200505130124"/>
          <p:cNvPicPr/>
          <p:nvPr/>
        </p:nvPicPr>
        <p:blipFill>
          <a:blip r:embed="rId2"/>
          <a:stretch/>
        </p:blipFill>
        <p:spPr>
          <a:xfrm>
            <a:off x="3276720" y="426708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00002684"/>
          <p:cNvPicPr/>
          <p:nvPr/>
        </p:nvPicPr>
        <p:blipFill>
          <a:blip r:embed="rId3"/>
          <a:stretch/>
        </p:blipFill>
        <p:spPr>
          <a:xfrm>
            <a:off x="6210360" y="4267080"/>
            <a:ext cx="2857320" cy="2057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23"/>
          <p:cNvPicPr/>
          <p:nvPr/>
        </p:nvPicPr>
        <p:blipFill>
          <a:blip r:embed="rId4"/>
          <a:stretch/>
        </p:blipFill>
        <p:spPr>
          <a:xfrm>
            <a:off x="4724280" y="152280"/>
            <a:ext cx="441972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2514600" y="3657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经济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16_03_8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26708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alen11"/>
          <p:cNvPicPr/>
          <p:nvPr/>
        </p:nvPicPr>
        <p:blipFill>
          <a:blip r:embed="rId1"/>
          <a:stretch/>
        </p:blipFill>
        <p:spPr>
          <a:xfrm>
            <a:off x="2171880" y="228600"/>
            <a:ext cx="4000320" cy="2503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xinsrc_4120602100936963070612"/>
          <p:cNvPicPr/>
          <p:nvPr/>
        </p:nvPicPr>
        <p:blipFill>
          <a:blip r:embed="rId2"/>
          <a:stretch/>
        </p:blipFill>
        <p:spPr>
          <a:xfrm>
            <a:off x="4648320" y="3176640"/>
            <a:ext cx="4495680" cy="308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jiaoliu_5"/>
          <p:cNvPicPr/>
          <p:nvPr/>
        </p:nvPicPr>
        <p:blipFill>
          <a:blip r:embed="rId3"/>
          <a:stretch/>
        </p:blipFill>
        <p:spPr>
          <a:xfrm>
            <a:off x="6172200" y="15228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1118541349_qgaiTB"/>
          <p:cNvPicPr/>
          <p:nvPr/>
        </p:nvPicPr>
        <p:blipFill>
          <a:blip r:embed="rId4"/>
          <a:stretch/>
        </p:blipFill>
        <p:spPr>
          <a:xfrm>
            <a:off x="76320" y="2286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xin_2805023110280053214011"/>
          <p:cNvPicPr/>
          <p:nvPr/>
        </p:nvPicPr>
        <p:blipFill>
          <a:blip r:embed="rId5"/>
          <a:stretch/>
        </p:blipFill>
        <p:spPr>
          <a:xfrm>
            <a:off x="0" y="3200400"/>
            <a:ext cx="4572000" cy="3051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4572000" y="26668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文化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2005092255555"/>
          <p:cNvPicPr/>
          <p:nvPr/>
        </p:nvPicPr>
        <p:blipFill>
          <a:blip r:embed="rId1"/>
          <a:stretch/>
        </p:blipFill>
        <p:spPr>
          <a:xfrm>
            <a:off x="608040" y="3200400"/>
            <a:ext cx="2287440" cy="3429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200408280033_158924"/>
          <p:cNvPicPr/>
          <p:nvPr/>
        </p:nvPicPr>
        <p:blipFill>
          <a:blip r:embed="rId2"/>
          <a:stretch/>
        </p:blipFill>
        <p:spPr>
          <a:xfrm>
            <a:off x="304920" y="12528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1044227eef2"/>
          <p:cNvPicPr/>
          <p:nvPr/>
        </p:nvPicPr>
        <p:blipFill>
          <a:blip r:embed="rId3"/>
          <a:stretch/>
        </p:blipFill>
        <p:spPr>
          <a:xfrm>
            <a:off x="3200400" y="3200400"/>
            <a:ext cx="2435400" cy="3429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中国花式溜冰双人组申雪(左)及赵宏博"/>
          <p:cNvPicPr/>
          <p:nvPr/>
        </p:nvPicPr>
        <p:blipFill>
          <a:blip r:embed="rId4"/>
          <a:stretch/>
        </p:blipFill>
        <p:spPr>
          <a:xfrm>
            <a:off x="5951520" y="3200400"/>
            <a:ext cx="2583000" cy="3429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Img223683426"/>
          <p:cNvPicPr/>
          <p:nvPr/>
        </p:nvPicPr>
        <p:blipFill>
          <a:blip r:embed="rId5"/>
          <a:stretch/>
        </p:blipFill>
        <p:spPr>
          <a:xfrm>
            <a:off x="4876920" y="125280"/>
            <a:ext cx="3794040" cy="28465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-422280" y="3809880"/>
            <a:ext cx="1033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育方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083002"/>
          <p:cNvPicPr/>
          <p:nvPr/>
        </p:nvPicPr>
        <p:blipFill>
          <a:blip r:embed="rId1"/>
          <a:stretch/>
        </p:blipFill>
        <p:spPr>
          <a:xfrm>
            <a:off x="304920" y="1371600"/>
            <a:ext cx="3657600" cy="2217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jd01707"/>
          <p:cNvPicPr/>
          <p:nvPr/>
        </p:nvPicPr>
        <p:blipFill>
          <a:blip r:embed="rId3"/>
          <a:stretch/>
        </p:blipFill>
        <p:spPr>
          <a:xfrm>
            <a:off x="5562720" y="1198440"/>
            <a:ext cx="3276360" cy="2484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jd01708"/>
          <p:cNvPicPr/>
          <p:nvPr/>
        </p:nvPicPr>
        <p:blipFill>
          <a:blip r:embed="rId4"/>
          <a:stretch/>
        </p:blipFill>
        <p:spPr>
          <a:xfrm>
            <a:off x="4572000" y="3941640"/>
            <a:ext cx="3276720" cy="2484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jd01709"/>
          <p:cNvPicPr/>
          <p:nvPr/>
        </p:nvPicPr>
        <p:blipFill>
          <a:blip r:embed="rId5"/>
          <a:stretch/>
        </p:blipFill>
        <p:spPr>
          <a:xfrm>
            <a:off x="1143000" y="3809880"/>
            <a:ext cx="2514600" cy="27432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4114800" y="14479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育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我国坚持独立自主和平外交政策 国际地位显著提高(02年)"/>
          <p:cNvPicPr/>
          <p:nvPr/>
        </p:nvPicPr>
        <p:blipFill>
          <a:blip r:embed="rId1"/>
          <a:stretch/>
        </p:blipFill>
        <p:spPr>
          <a:xfrm>
            <a:off x="106668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7920720" y="504720"/>
            <a:ext cx="667800" cy="619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所以，对外开放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全方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开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8200"/>
          <p:cNvSpPr/>
          <p:nvPr/>
        </p:nvSpPr>
        <p:spPr>
          <a:xfrm>
            <a:off x="1560600" y="2249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0880" y="251460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　　在政治、经济、文化等方面开放，可以使中国</a:t>
            </a: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融入世界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，与世界各国相互</a:t>
            </a: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取长补短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，在</a:t>
            </a: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竞争与合作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加快自己的发展步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911600" y="5335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从中我们可以看出对外开放的影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609480" y="228600"/>
            <a:ext cx="8077320" cy="49528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66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066680" y="42670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你是如何看待上述观点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914400" y="457200"/>
            <a:ext cx="723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在国产汽车如何发展的问题上，一直有两种倾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未标题-1 拷贝"/>
          <p:cNvPicPr/>
          <p:nvPr/>
        </p:nvPicPr>
        <p:blipFill>
          <a:blip r:embed="rId2"/>
          <a:stretch/>
        </p:blipFill>
        <p:spPr>
          <a:xfrm>
            <a:off x="1066680" y="1031760"/>
            <a:ext cx="2971800" cy="217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未标题-1 拷贝"/>
          <p:cNvPicPr/>
          <p:nvPr/>
        </p:nvPicPr>
        <p:blipFill>
          <a:blip r:embed="rId3"/>
          <a:stretch/>
        </p:blipFill>
        <p:spPr>
          <a:xfrm>
            <a:off x="4343400" y="1298520"/>
            <a:ext cx="3962520" cy="1673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914400" y="3292560"/>
            <a:ext cx="32767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观点一：坚持独立自主、自创品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952880" y="3292560"/>
            <a:ext cx="32767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观点二：坚持对外开放、全面引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762120" y="53341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所以，既不能闭关自守，也不能照搬照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535640" y="59436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既要独立自主、自力更生，又要对外开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152280" y="144792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１、（　　　）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提供（　　　）动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２、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（　　　　）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黑体"/>
              </a:rPr>
              <a:t>是（　　）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根本基点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。。（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P49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第二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304920" y="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（如何）正确处理对外开放与独立自主的关系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107880" y="36576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３、两者相辅相成，相互促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val 6"/>
          <p:cNvSpPr/>
          <p:nvPr/>
        </p:nvSpPr>
        <p:spPr>
          <a:xfrm>
            <a:off x="6324480" y="4876920"/>
            <a:ext cx="182880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ject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791320" cy="5433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6801840" y="51055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笔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7"/>
          <p:cNvSpPr txBox="1"/>
          <p:nvPr/>
        </p:nvSpPr>
        <p:spPr>
          <a:xfrm>
            <a:off x="2133720" y="533520"/>
            <a:ext cx="6248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怎样坚持对外开放呢？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393640" y="2155680"/>
            <a:ext cx="497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２、既要积极敞开国门又要维护自身安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　既要借鉴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、吸收一切先进的东西又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抵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　一切腐朽的东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4699080" y="1630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、要坚定不移地坚持对外开放的基本国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2356920" y="4038480"/>
            <a:ext cx="377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３、坚持“引进来”与“走出去”相结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全面提高对外开放水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DB16-4978-4E1E-A06D-96F0052936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eijin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228600" y="1752480"/>
            <a:ext cx="7467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欣赏歌曲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&lt;&lt;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天的故事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line07"/>
          <p:cNvPicPr/>
          <p:nvPr/>
        </p:nvPicPr>
        <p:blipFill>
          <a:blip r:embed="rId2"/>
          <a:stretch/>
        </p:blipFill>
        <p:spPr>
          <a:xfrm>
            <a:off x="762120" y="457200"/>
            <a:ext cx="746748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0" y="297180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问：“一位老人”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他在南海边画圈是在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248520" y="3581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邓小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876920" y="5257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改革开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279440" y="101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982880" y="8557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标：对外开放的基本国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Object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362320" cy="5489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457200" y="228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有所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371600" y="1371600"/>
            <a:ext cx="21924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为什么要实行对外开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011600" y="2438280"/>
            <a:ext cx="17197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什么是对外开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631160" y="3276720"/>
            <a:ext cx="18266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确处理对外开放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独立自主、自力更生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96524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262520" y="4724280"/>
            <a:ext cx="16437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怎样坚持对外开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152280" y="1295280"/>
            <a:ext cx="304920" cy="4038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728680" y="304920"/>
            <a:ext cx="174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世界一天一天变得更加开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5182200" y="68580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闭关自守 只能导致落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4973040" y="1143000"/>
            <a:ext cx="303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中国的发展离不开世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是加快我国现代化建设的必然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4191120" y="5335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771080" y="3429000"/>
            <a:ext cx="17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49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二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3505320" y="20574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我国对外开放是对世界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所有国家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的开放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政治、经济、文化等各个方面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都要开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 flipV="1" rot="10776600">
            <a:off x="3729240" y="4720680"/>
            <a:ext cx="43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49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最后一段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坚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引进来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走出去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开放1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78876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特区夜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beijin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914400" y="-304920"/>
            <a:ext cx="739152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目“当今世界是开放的世界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line07"/>
          <p:cNvPicPr/>
          <p:nvPr/>
        </p:nvPicPr>
        <p:blipFill>
          <a:blip r:embed="rId2"/>
          <a:stretch/>
        </p:blipFill>
        <p:spPr>
          <a:xfrm>
            <a:off x="685800" y="1066680"/>
            <a:ext cx="7467480" cy="228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/>
          <p:cNvSpPr/>
          <p:nvPr/>
        </p:nvSpPr>
        <p:spPr>
          <a:xfrm>
            <a:off x="685800" y="2895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变化提问为（对外开放的必要性、重要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219320" y="44197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以小组为单位就这一问题展开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906560" y="53341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馨提示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从对外开放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作用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今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国际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形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角度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637000" y="1973160"/>
            <a:ext cx="2863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为什么要实行对外开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4114800"/>
            <a:ext cx="2133720" cy="2743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0" y="0"/>
            <a:ext cx="92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中国实行对外开放的基本国策的原因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868120" y="1447920"/>
            <a:ext cx="25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世界一天一天变得更加开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89480" y="2819520"/>
            <a:ext cx="457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闭关自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能导致落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867320" y="4191120"/>
            <a:ext cx="44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中国发展进步富强的要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706200" y="5334120"/>
            <a:ext cx="138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是时代和经济发展的必然选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u=3650691391,2805661850&amp;gp=-20[1]"/>
          <p:cNvPicPr/>
          <p:nvPr/>
        </p:nvPicPr>
        <p:blipFill>
          <a:blip r:embed="rId1"/>
          <a:stretch/>
        </p:blipFill>
        <p:spPr>
          <a:xfrm>
            <a:off x="304920" y="204840"/>
            <a:ext cx="5149800" cy="3890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u=1410008825,1493050856&amp;gp=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2438280"/>
            <a:ext cx="3348000" cy="4191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281960" y="4572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知道他们是什么时候入驻中国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349160" y="5497560"/>
            <a:ext cx="6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87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878080" y="2682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01"/>
          <p:cNvPicPr/>
          <p:nvPr/>
        </p:nvPicPr>
        <p:blipFill>
          <a:blip r:embed="rId1"/>
          <a:stretch/>
        </p:blipFill>
        <p:spPr>
          <a:xfrm>
            <a:off x="457200" y="76320"/>
            <a:ext cx="1855800" cy="23619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"/>
          <p:cNvGrpSpPr/>
          <p:nvPr/>
        </p:nvGrpSpPr>
        <p:grpSpPr>
          <a:xfrm>
            <a:off x="2514600" y="228600"/>
            <a:ext cx="6400800" cy="2057400"/>
            <a:chOff x="2514600" y="228600"/>
            <a:chExt cx="6400800" cy="2057400"/>
          </a:xfrm>
        </p:grpSpPr>
        <p:sp>
          <p:nvSpPr>
            <p:cNvPr id="126" name="AutoShape 4"/>
            <p:cNvSpPr/>
            <p:nvPr/>
          </p:nvSpPr>
          <p:spPr>
            <a:xfrm>
              <a:off x="2514600" y="228600"/>
              <a:ext cx="6400800" cy="2057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2743200" y="304560"/>
              <a:ext cx="609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如果从明朝中叶算起，到鸦片战争，有三百多年的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闭关自守</a:t>
              </a: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，如果从康熙算起，也有近两百年。长期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闭关自守</a:t>
              </a: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，把中国搞得贫穷落后，愚昧无知。</a:t>
              </a:r>
              <a:br>
                <a:rPr sz="2400"/>
              </a:br>
              <a:r>
                <a:rPr b="1" lang="zh-CN" sz="24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　　　　　　　　　　　　　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－－江泽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152280" y="2514600"/>
            <a:ext cx="8791560" cy="2514600"/>
            <a:chOff x="152280" y="2514600"/>
            <a:chExt cx="8791560" cy="2514600"/>
          </a:xfrm>
        </p:grpSpPr>
        <p:pic>
          <p:nvPicPr>
            <p:cNvPr id="129" name="Picture 7" descr="Img240102592"/>
            <p:cNvPicPr/>
            <p:nvPr/>
          </p:nvPicPr>
          <p:blipFill>
            <a:blip r:embed="rId3"/>
            <a:stretch/>
          </p:blipFill>
          <p:spPr>
            <a:xfrm>
              <a:off x="7086600" y="2514600"/>
              <a:ext cx="1857240" cy="246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Group 8"/>
            <p:cNvGrpSpPr/>
            <p:nvPr/>
          </p:nvGrpSpPr>
          <p:grpSpPr>
            <a:xfrm>
              <a:off x="152280" y="2514600"/>
              <a:ext cx="6858000" cy="2514600"/>
              <a:chOff x="152280" y="2514600"/>
              <a:chExt cx="6858000" cy="2514600"/>
            </a:xfrm>
          </p:grpSpPr>
          <p:sp>
            <p:nvSpPr>
              <p:cNvPr id="131" name="AutoShape 9"/>
              <p:cNvSpPr/>
              <p:nvPr/>
            </p:nvSpPr>
            <p:spPr>
              <a:xfrm>
                <a:off x="152280" y="2514600"/>
                <a:ext cx="6705720" cy="251460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"/>
              <p:cNvSpPr/>
              <p:nvPr/>
            </p:nvSpPr>
            <p:spPr>
              <a:xfrm>
                <a:off x="228600" y="2670120"/>
                <a:ext cx="6781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中国在西方国家产业革命以后变得落后了，一个重要原因就是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闭关自守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。建国以后，人家封锁我们，在某种程度上我们也还是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闭关自守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，这给我们带来一些困难。三十几年的经验教训告诉我们，关起门来搞建设是不行的，发展不起来的。 </a:t>
                </a:r>
                <a:br>
                  <a:rPr sz="2400"/>
                </a:br>
                <a:r>
                  <a:rPr b="1" lang="zh-CN" sz="24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　　　　　　　　　　　　　　－－邓小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Text Box 11"/>
          <p:cNvSpPr/>
          <p:nvPr/>
        </p:nvSpPr>
        <p:spPr>
          <a:xfrm>
            <a:off x="533520" y="53341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总结历史经验：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　　　闭关自守只能导致落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1955880"/>
            <a:ext cx="9144000" cy="4035600"/>
            <a:chOff x="0" y="1955880"/>
            <a:chExt cx="9144000" cy="4035600"/>
          </a:xfrm>
        </p:grpSpPr>
        <p:pic>
          <p:nvPicPr>
            <p:cNvPr id="135" name="Picture 3" descr="1"/>
            <p:cNvPicPr/>
            <p:nvPr/>
          </p:nvPicPr>
          <p:blipFill>
            <a:blip r:embed="rId1"/>
            <a:stretch/>
          </p:blipFill>
          <p:spPr>
            <a:xfrm>
              <a:off x="2133720" y="1955880"/>
              <a:ext cx="5333760" cy="33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4"/>
            <p:cNvSpPr/>
            <p:nvPr/>
          </p:nvSpPr>
          <p:spPr>
            <a:xfrm>
              <a:off x="0" y="5410080"/>
              <a:ext cx="91440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图为中国代表团团长石广生于</a:t>
              </a:r>
              <a:r>
                <a:rPr b="1" lang="en-US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001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年</a:t>
              </a:r>
              <a:r>
                <a:rPr b="1" lang="en-US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1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月</a:t>
              </a:r>
              <a:r>
                <a:rPr b="1" lang="en-US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2</a:t>
              </a:r>
              <a:r>
                <a:rPr b="1" lang="zh-CN" sz="32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日晚在多哈签署中国入世议定书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5"/>
          <p:cNvSpPr/>
          <p:nvPr/>
        </p:nvSpPr>
        <p:spPr>
          <a:xfrm>
            <a:off x="380880" y="152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日，对世界贸易组织来说是一个具有重要历史意义的日子。这一天，在卡塔尔首都多哈举行的世贸组织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次部长理事会批准中国加入世界贸易组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8:18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47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